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6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1"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36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4"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5"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461BA-1B27-41B2-8063-359155EB1704}"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685800" y="1143000"/>
            <a:ext cx="5486400" cy="3086280"/>
          </a:xfrm>
          <a:prstGeom prst="rect">
            <a:avLst/>
          </a:prstGeom>
          <a:ln w="0">
            <a:noFill/>
          </a:ln>
        </p:spPr>
      </p:sp>
      <p:sp>
        <p:nvSpPr>
          <p:cNvPr id="10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BB6DE-3538-45A3-BE86-33EB09875D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624BA-AD33-44B7-A310-DFC3EAB59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91551-4B1B-419A-AF50-9A461E041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FF9B6-9EAE-4E60-9CB5-A70BED18F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16E9B-1F9C-4B01-B815-B8B38C174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AB40F-0D51-4A72-854C-8B84452D5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621F0-35D6-4220-B789-3BD29423E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E8F7D-31FA-48BC-B010-61B4307DB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8C56E-E8AE-4814-9B85-37846135A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F4BB8-1D34-4F07-AE72-79E334E73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B7870-7E4F-41EF-9897-C535D406E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2D900-52BF-4B54-A0D1-3CEA01302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820E1-6135-4528-86A8-4C19B2226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B6E9-8746-423A-A5D7-F0B7FE6E6DF3}"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Group 6"/>
          <p:cNvGrpSpPr/>
          <p:nvPr/>
        </p:nvGrpSpPr>
        <p:grpSpPr>
          <a:xfrm>
            <a:off x="1179360" y="1415880"/>
            <a:ext cx="4783320" cy="3895920"/>
            <a:chOff x="1179360" y="1415880"/>
            <a:chExt cx="4783320" cy="3895920"/>
          </a:xfrm>
        </p:grpSpPr>
        <p:sp>
          <p:nvSpPr>
            <p:cNvPr id="270" name="Freeform 5"/>
            <p:cNvSpPr/>
            <p:nvPr/>
          </p:nvSpPr>
          <p:spPr>
            <a:xfrm>
              <a:off x="1179360" y="141588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1" name="Freeform 6"/>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2" name="Freeform 7"/>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3" name="Rectangle 8"/>
            <p:cNvSpPr/>
            <p:nvPr/>
          </p:nvSpPr>
          <p:spPr>
            <a:xfrm>
              <a:off x="1386360" y="163620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Freeform 9"/>
            <p:cNvSpPr/>
            <p:nvPr/>
          </p:nvSpPr>
          <p:spPr>
            <a:xfrm>
              <a:off x="2757600" y="524556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5" name="Freeform 10"/>
            <p:cNvSpPr/>
            <p:nvPr/>
          </p:nvSpPr>
          <p:spPr>
            <a:xfrm>
              <a:off x="2748960" y="473436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6" name="Oval 11"/>
            <p:cNvSpPr/>
            <p:nvPr/>
          </p:nvSpPr>
          <p:spPr>
            <a:xfrm>
              <a:off x="3538080" y="149688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Oval 12"/>
            <p:cNvSpPr/>
            <p:nvPr/>
          </p:nvSpPr>
          <p:spPr>
            <a:xfrm>
              <a:off x="3538080" y="149256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Oval 13"/>
            <p:cNvSpPr/>
            <p:nvPr/>
          </p:nvSpPr>
          <p:spPr>
            <a:xfrm>
              <a:off x="3548880" y="150336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Oval 14"/>
            <p:cNvSpPr/>
            <p:nvPr/>
          </p:nvSpPr>
          <p:spPr>
            <a:xfrm>
              <a:off x="3561480" y="151200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Oval 15"/>
            <p:cNvSpPr/>
            <p:nvPr/>
          </p:nvSpPr>
          <p:spPr>
            <a:xfrm>
              <a:off x="3567960" y="152280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Freeform 16"/>
            <p:cNvSpPr/>
            <p:nvPr/>
          </p:nvSpPr>
          <p:spPr>
            <a:xfrm>
              <a:off x="2748960" y="473436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82" name="Freeform 17"/>
            <p:cNvSpPr/>
            <p:nvPr/>
          </p:nvSpPr>
          <p:spPr>
            <a:xfrm>
              <a:off x="1179360" y="434052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tle 1"/>
          <p:cNvSpPr/>
          <p:nvPr/>
        </p:nvSpPr>
        <p:spPr>
          <a:xfrm>
            <a:off x="2725560" y="402120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0acf"/>
                </a:solidFill>
                <a:latin typeface="Montserrat Light"/>
                <a:ea typeface="Open Sans"/>
              </a:rPr>
              <a:t>Start up Company</a:t>
            </a:r>
            <a:endParaRPr b="0" lang="en-US" sz="1800" spc="-1" strike="noStrike">
              <a:solidFill>
                <a:srgbClr val="000000"/>
              </a:solidFill>
              <a:latin typeface="Calibri"/>
            </a:endParaRPr>
          </a:p>
        </p:txBody>
      </p:sp>
      <p:grpSp>
        <p:nvGrpSpPr>
          <p:cNvPr id="367" name="Oval 11"/>
          <p:cNvGrpSpPr/>
          <p:nvPr/>
        </p:nvGrpSpPr>
        <p:grpSpPr>
          <a:xfrm>
            <a:off x="506520" y="1390680"/>
            <a:ext cx="3943080" cy="3936960"/>
            <a:chOff x="506520" y="1390680"/>
            <a:chExt cx="3943080" cy="3936960"/>
          </a:xfrm>
        </p:grpSpPr>
        <p:pic>
          <p:nvPicPr>
            <p:cNvPr id="368" name="Oval 11" descr=""/>
            <p:cNvPicPr/>
            <p:nvPr/>
          </p:nvPicPr>
          <p:blipFill>
            <a:blip r:embed="rId1"/>
            <a:stretch/>
          </p:blipFill>
          <p:spPr>
            <a:xfrm>
              <a:off x="506520" y="1390680"/>
              <a:ext cx="3943080" cy="3936960"/>
            </a:xfrm>
            <a:prstGeom prst="rect">
              <a:avLst/>
            </a:prstGeom>
            <a:ln w="0">
              <a:noFill/>
            </a:ln>
          </p:spPr>
        </p:pic>
        <p:sp>
          <p:nvSpPr>
            <p:cNvPr id="369" name=""/>
            <p:cNvSpPr/>
            <p:nvPr/>
          </p:nvSpPr>
          <p:spPr>
            <a:xfrm>
              <a:off x="1085760" y="1967040"/>
              <a:ext cx="2786040" cy="278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0"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60acf"/>
                </a:solidFill>
                <a:latin typeface="Montserrat Medium"/>
                <a:ea typeface="Open Sans"/>
              </a:rPr>
              <a:t>CONVERSION</a:t>
            </a:r>
            <a:endParaRPr b="0" lang="en-US" sz="9600" spc="-1" strike="noStrike">
              <a:solidFill>
                <a:srgbClr val="000000"/>
              </a:solidFill>
              <a:latin typeface="Calibri"/>
            </a:endParaRPr>
          </a:p>
        </p:txBody>
      </p:sp>
      <p:sp>
        <p:nvSpPr>
          <p:cNvPr id="371" name="TextBox 14"/>
          <p:cNvSpPr/>
          <p:nvPr/>
        </p:nvSpPr>
        <p:spPr>
          <a:xfrm>
            <a:off x="1461960" y="55785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Preseted by:</a:t>
            </a:r>
            <a:endParaRPr b="0" lang="en-US" sz="1200" spc="-1" strike="noStrike">
              <a:solidFill>
                <a:srgbClr val="000000"/>
              </a:solidFill>
              <a:latin typeface="Calibri"/>
            </a:endParaRPr>
          </a:p>
        </p:txBody>
      </p:sp>
      <p:sp>
        <p:nvSpPr>
          <p:cNvPr id="372" name="TextBox 16"/>
          <p:cNvSpPr/>
          <p:nvPr/>
        </p:nvSpPr>
        <p:spPr>
          <a:xfrm>
            <a:off x="1461960" y="58770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0acf"/>
                </a:solidFill>
                <a:latin typeface="Montserrat Medium"/>
              </a:rPr>
              <a:t>Creavora</a:t>
            </a:r>
            <a:endParaRPr b="0" lang="en-US" sz="1200" spc="-1" strike="noStrike">
              <a:solidFill>
                <a:srgbClr val="000000"/>
              </a:solidFill>
              <a:latin typeface="Calibri"/>
            </a:endParaRPr>
          </a:p>
        </p:txBody>
      </p:sp>
      <p:grpSp>
        <p:nvGrpSpPr>
          <p:cNvPr id="373" name="Group 17"/>
          <p:cNvGrpSpPr/>
          <p:nvPr/>
        </p:nvGrpSpPr>
        <p:grpSpPr>
          <a:xfrm>
            <a:off x="5749920" y="4815000"/>
            <a:ext cx="692280" cy="691920"/>
            <a:chOff x="5749920" y="4815000"/>
            <a:chExt cx="692280" cy="691920"/>
          </a:xfrm>
        </p:grpSpPr>
        <p:sp>
          <p:nvSpPr>
            <p:cNvPr id="374" name="Oval 18"/>
            <p:cNvSpPr/>
            <p:nvPr/>
          </p:nvSpPr>
          <p:spPr>
            <a:xfrm>
              <a:off x="5749920" y="4815000"/>
              <a:ext cx="692280" cy="691920"/>
            </a:xfrm>
            <a:prstGeom prst="ellipse">
              <a:avLst/>
            </a:prstGeom>
            <a:solidFill>
              <a:srgbClr val="060a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Isosceles Triangle 19"/>
            <p:cNvSpPr/>
            <p:nvPr/>
          </p:nvSpPr>
          <p:spPr>
            <a:xfrm rot="5400000">
              <a:off x="6019200" y="5071680"/>
              <a:ext cx="206640" cy="178200"/>
            </a:xfrm>
            <a:prstGeom prst="triangle">
              <a:avLst>
                <a:gd name="adj" fmla="val 50000"/>
              </a:avLst>
            </a:prstGeom>
            <a:solidFill>
              <a:srgbClr val="e7e6e6"/>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76" name="" descr=""/>
          <p:cNvPicPr/>
          <p:nvPr/>
        </p:nvPicPr>
        <p:blipFill>
          <a:blip r:embed="rId2"/>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975"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9"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0"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1"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2"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3"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4"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5"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6"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7"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8"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9"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0"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1"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2"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3"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4"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5"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6"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7"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8"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9"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0"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1"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2"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3"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4"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5"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6"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7"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8"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9"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0"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1"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2"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3"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4"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5"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6"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7"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8"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9"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0"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1"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2"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3"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4"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5"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6"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7"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8"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9"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0"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1"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2"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3"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4"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5"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6"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7"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8"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9"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0"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1"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2"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3"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4"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5"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Oval 4"/>
          <p:cNvGrpSpPr/>
          <p:nvPr/>
        </p:nvGrpSpPr>
        <p:grpSpPr>
          <a:xfrm>
            <a:off x="-249120" y="158760"/>
            <a:ext cx="6534000" cy="6540480"/>
            <a:chOff x="-249120" y="158760"/>
            <a:chExt cx="6534000" cy="6540480"/>
          </a:xfrm>
        </p:grpSpPr>
        <p:pic>
          <p:nvPicPr>
            <p:cNvPr id="378" name="Oval 4" descr=""/>
            <p:cNvPicPr/>
            <p:nvPr/>
          </p:nvPicPr>
          <p:blipFill>
            <a:blip r:embed="rId1"/>
            <a:stretch/>
          </p:blipFill>
          <p:spPr>
            <a:xfrm>
              <a:off x="-249120" y="158760"/>
              <a:ext cx="6534000" cy="6540480"/>
            </a:xfrm>
            <a:prstGeom prst="rect">
              <a:avLst/>
            </a:prstGeom>
            <a:ln w="0">
              <a:noFill/>
            </a:ln>
          </p:spPr>
        </p:pic>
        <p:sp>
          <p:nvSpPr>
            <p:cNvPr id="379" name=""/>
            <p:cNvSpPr/>
            <p:nvPr/>
          </p:nvSpPr>
          <p:spPr>
            <a:xfrm>
              <a:off x="708120" y="1117440"/>
              <a:ext cx="4622760" cy="4623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0" name="TextBox 5"/>
          <p:cNvSpPr/>
          <p:nvPr/>
        </p:nvSpPr>
        <p:spPr>
          <a:xfrm>
            <a:off x="6095880" y="3279600"/>
            <a:ext cx="445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Medium"/>
              </a:rPr>
              <a:t>Bring new innovation and design</a:t>
            </a:r>
            <a:endParaRPr b="0" lang="en-US" sz="2400" spc="-1" strike="noStrike">
              <a:solidFill>
                <a:srgbClr val="000000"/>
              </a:solidFill>
              <a:latin typeface="Calibri"/>
            </a:endParaRPr>
          </a:p>
        </p:txBody>
      </p:sp>
      <p:sp>
        <p:nvSpPr>
          <p:cNvPr id="381" name="Text Box 7"/>
          <p:cNvSpPr/>
          <p:nvPr/>
        </p:nvSpPr>
        <p:spPr>
          <a:xfrm>
            <a:off x="6095880" y="1720800"/>
            <a:ext cx="590400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Welcome To</a:t>
            </a:r>
            <a:endParaRPr b="0" lang="en-US" sz="4800" spc="-1" strike="noStrike">
              <a:solidFill>
                <a:srgbClr val="000000"/>
              </a:solidFill>
              <a:latin typeface="Calibri"/>
            </a:endParaRPr>
          </a:p>
        </p:txBody>
      </p:sp>
      <p:sp>
        <p:nvSpPr>
          <p:cNvPr id="382" name="Text Box 7"/>
          <p:cNvSpPr/>
          <p:nvPr/>
        </p:nvSpPr>
        <p:spPr>
          <a:xfrm>
            <a:off x="6078600" y="2332080"/>
            <a:ext cx="573408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Conversion</a:t>
            </a:r>
            <a:endParaRPr b="0" lang="en-US" sz="4800" spc="-1" strike="noStrike">
              <a:solidFill>
                <a:srgbClr val="000000"/>
              </a:solidFill>
              <a:latin typeface="Calibri"/>
            </a:endParaRPr>
          </a:p>
        </p:txBody>
      </p:sp>
      <p:sp>
        <p:nvSpPr>
          <p:cNvPr id="383" name="TextBox 9"/>
          <p:cNvSpPr/>
          <p:nvPr/>
        </p:nvSpPr>
        <p:spPr>
          <a:xfrm>
            <a:off x="6078600" y="4259160"/>
            <a:ext cx="466560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384" name="Freeform: Shape 14"/>
          <p:cNvSpPr/>
          <p:nvPr/>
        </p:nvSpPr>
        <p:spPr>
          <a:xfrm rot="5400000">
            <a:off x="6869880" y="1016640"/>
            <a:ext cx="6299280" cy="426528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reeform: Shape 13"/>
          <p:cNvSpPr/>
          <p:nvPr/>
        </p:nvSpPr>
        <p:spPr>
          <a:xfrm rot="16200000">
            <a:off x="-1016640" y="1575360"/>
            <a:ext cx="6299280" cy="42656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86" name="Oval 14"/>
          <p:cNvGrpSpPr/>
          <p:nvPr/>
        </p:nvGrpSpPr>
        <p:grpSpPr>
          <a:xfrm>
            <a:off x="5546880" y="-1285920"/>
            <a:ext cx="3944880" cy="3936960"/>
            <a:chOff x="5546880" y="-1285920"/>
            <a:chExt cx="3944880" cy="3936960"/>
          </a:xfrm>
        </p:grpSpPr>
        <p:pic>
          <p:nvPicPr>
            <p:cNvPr id="387" name="Oval 14" descr=""/>
            <p:cNvPicPr/>
            <p:nvPr/>
          </p:nvPicPr>
          <p:blipFill>
            <a:blip r:embed="rId1"/>
            <a:stretch/>
          </p:blipFill>
          <p:spPr>
            <a:xfrm>
              <a:off x="5546880" y="-1285920"/>
              <a:ext cx="3944880" cy="3936960"/>
            </a:xfrm>
            <a:prstGeom prst="rect">
              <a:avLst/>
            </a:prstGeom>
            <a:ln w="0">
              <a:noFill/>
            </a:ln>
          </p:spPr>
        </p:pic>
        <p:sp>
          <p:nvSpPr>
            <p:cNvPr id="388" name=""/>
            <p:cNvSpPr/>
            <p:nvPr/>
          </p:nvSpPr>
          <p:spPr>
            <a:xfrm>
              <a:off x="6124680" y="-712800"/>
              <a:ext cx="2787480" cy="278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9" name="Text Box 7"/>
          <p:cNvSpPr/>
          <p:nvPr/>
        </p:nvSpPr>
        <p:spPr>
          <a:xfrm>
            <a:off x="906480" y="1419120"/>
            <a:ext cx="590400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More About</a:t>
            </a:r>
            <a:endParaRPr b="0" lang="en-US" sz="4800" spc="-1" strike="noStrike">
              <a:solidFill>
                <a:srgbClr val="000000"/>
              </a:solidFill>
              <a:latin typeface="Calibri"/>
            </a:endParaRPr>
          </a:p>
        </p:txBody>
      </p:sp>
      <p:sp>
        <p:nvSpPr>
          <p:cNvPr id="390" name="TextBox 5"/>
          <p:cNvSpPr/>
          <p:nvPr/>
        </p:nvSpPr>
        <p:spPr>
          <a:xfrm>
            <a:off x="906480" y="3092400"/>
            <a:ext cx="19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0acf"/>
                </a:solidFill>
                <a:latin typeface="Montserrat Medium"/>
              </a:rPr>
              <a:t>Description</a:t>
            </a:r>
            <a:endParaRPr b="0" lang="en-US" sz="2000" spc="-1" strike="noStrike">
              <a:solidFill>
                <a:srgbClr val="000000"/>
              </a:solidFill>
              <a:latin typeface="Calibri"/>
            </a:endParaRPr>
          </a:p>
        </p:txBody>
      </p:sp>
      <p:sp>
        <p:nvSpPr>
          <p:cNvPr id="391" name="TextBox 6"/>
          <p:cNvSpPr/>
          <p:nvPr/>
        </p:nvSpPr>
        <p:spPr>
          <a:xfrm>
            <a:off x="906480" y="3454560"/>
            <a:ext cx="44053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392" name="Text Box 7"/>
          <p:cNvSpPr/>
          <p:nvPr/>
        </p:nvSpPr>
        <p:spPr>
          <a:xfrm>
            <a:off x="906480" y="2036880"/>
            <a:ext cx="590400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Company</a:t>
            </a:r>
            <a:endParaRPr b="0" lang="en-US" sz="4800" spc="-1" strike="noStrike">
              <a:solidFill>
                <a:srgbClr val="000000"/>
              </a:solidFill>
              <a:latin typeface="Calibri"/>
            </a:endParaRPr>
          </a:p>
        </p:txBody>
      </p:sp>
      <p:sp>
        <p:nvSpPr>
          <p:cNvPr id="393" name="TextBox 12"/>
          <p:cNvSpPr/>
          <p:nvPr/>
        </p:nvSpPr>
        <p:spPr>
          <a:xfrm>
            <a:off x="906480" y="4830840"/>
            <a:ext cx="44053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pic>
        <p:nvPicPr>
          <p:cNvPr id="394" name="" descr=""/>
          <p:cNvPicPr/>
          <p:nvPr/>
        </p:nvPicPr>
        <p:blipFill>
          <a:blip r:embed="rId2"/>
          <a:stretch/>
        </p:blipFill>
        <p:spPr>
          <a:xfrm>
            <a:off x="7517880" y="0"/>
            <a:ext cx="46738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Freeform: Shape 18"/>
          <p:cNvSpPr/>
          <p:nvPr/>
        </p:nvSpPr>
        <p:spPr>
          <a:xfrm rot="5400000">
            <a:off x="6440040" y="1106280"/>
            <a:ext cx="6858000" cy="464508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6" name="Shape 667"/>
          <p:cNvSpPr/>
          <p:nvPr/>
        </p:nvSpPr>
        <p:spPr>
          <a:xfrm>
            <a:off x="6707160" y="4773600"/>
            <a:ext cx="669960" cy="669960"/>
          </a:xfrm>
          <a:prstGeom prst="roundRect">
            <a:avLst>
              <a:gd name="adj" fmla="val 16667"/>
            </a:avLst>
          </a:prstGeom>
          <a:gradFill rotWithShape="0">
            <a:gsLst>
              <a:gs pos="0">
                <a:srgbClr val="060acf"/>
              </a:gs>
              <a:gs pos="100000">
                <a:srgbClr val="1e74ed"/>
              </a:gs>
            </a:gsLst>
            <a:lin ang="5400000"/>
          </a:gra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TextBox 9"/>
          <p:cNvSpPr/>
          <p:nvPr/>
        </p:nvSpPr>
        <p:spPr>
          <a:xfrm>
            <a:off x="6649920" y="3316320"/>
            <a:ext cx="49514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a:t>
            </a:r>
            <a:endParaRPr b="0" lang="en-US" sz="1000" spc="-1" strike="noStrike">
              <a:solidFill>
                <a:srgbClr val="000000"/>
              </a:solidFill>
              <a:latin typeface="Calibri"/>
            </a:endParaRPr>
          </a:p>
        </p:txBody>
      </p:sp>
      <p:sp>
        <p:nvSpPr>
          <p:cNvPr id="398" name="Shape 5065"/>
          <p:cNvSpPr/>
          <p:nvPr/>
        </p:nvSpPr>
        <p:spPr>
          <a:xfrm>
            <a:off x="6927840" y="49928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9" name="Text Box 7"/>
          <p:cNvSpPr/>
          <p:nvPr/>
        </p:nvSpPr>
        <p:spPr>
          <a:xfrm>
            <a:off x="7673760" y="4803840"/>
            <a:ext cx="1788120" cy="244080"/>
          </a:xfrm>
          <a:prstGeom prst="rect">
            <a:avLst/>
          </a:prstGeom>
          <a:noFill/>
          <a:ln w="0">
            <a:noFill/>
          </a:ln>
        </p:spPr>
        <p:style>
          <a:lnRef idx="0"/>
          <a:fillRef idx="0"/>
          <a:effectRef idx="0"/>
          <a:fontRef idx="minor"/>
        </p:style>
        <p:txBody>
          <a:bodyPr wrap="none"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1" lang="id-ID" sz="1200" spc="-1" strike="noStrike">
                <a:solidFill>
                  <a:srgbClr val="262626"/>
                </a:solidFill>
                <a:latin typeface="Montserrat Medium"/>
                <a:ea typeface="Open Sans"/>
              </a:rPr>
              <a:t>Another Subtitle Here</a:t>
            </a:r>
            <a:endParaRPr b="0" lang="en-US" sz="1200" spc="-1" strike="noStrike">
              <a:solidFill>
                <a:srgbClr val="000000"/>
              </a:solidFill>
              <a:latin typeface="Calibri"/>
            </a:endParaRPr>
          </a:p>
        </p:txBody>
      </p:sp>
      <p:sp>
        <p:nvSpPr>
          <p:cNvPr id="400" name="Text Box 10"/>
          <p:cNvSpPr/>
          <p:nvPr/>
        </p:nvSpPr>
        <p:spPr>
          <a:xfrm>
            <a:off x="7612200" y="5056200"/>
            <a:ext cx="2487600" cy="473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US" sz="900" spc="-1" strike="noStrike">
                <a:solidFill>
                  <a:srgbClr val="262626"/>
                </a:solidFill>
                <a:latin typeface="Lato"/>
                <a:ea typeface="Lato"/>
              </a:rPr>
              <a:t>Mauris quam dolor, cursus at porta et, luctus eget purus. Nunc tempor luctus interdum</a:t>
            </a:r>
            <a:endParaRPr b="0" lang="en-US" sz="900" spc="-1" strike="noStrike">
              <a:solidFill>
                <a:srgbClr val="000000"/>
              </a:solidFill>
              <a:latin typeface="Calibri"/>
            </a:endParaRPr>
          </a:p>
        </p:txBody>
      </p:sp>
      <p:sp>
        <p:nvSpPr>
          <p:cNvPr id="401" name="Text Box 7"/>
          <p:cNvSpPr/>
          <p:nvPr/>
        </p:nvSpPr>
        <p:spPr>
          <a:xfrm>
            <a:off x="6705720" y="1397160"/>
            <a:ext cx="5040360" cy="1067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6600" spc="-1" strike="noStrike">
                <a:solidFill>
                  <a:srgbClr val="060acf"/>
                </a:solidFill>
                <a:latin typeface="Montserrat SemiBold"/>
                <a:ea typeface="Open Sans"/>
              </a:rPr>
              <a:t>Desktop</a:t>
            </a:r>
            <a:endParaRPr b="0" lang="en-US" sz="6600" spc="-1" strike="noStrike">
              <a:solidFill>
                <a:srgbClr val="000000"/>
              </a:solidFill>
              <a:latin typeface="Calibri"/>
            </a:endParaRPr>
          </a:p>
        </p:txBody>
      </p:sp>
      <p:sp>
        <p:nvSpPr>
          <p:cNvPr id="402" name="Text Box 7"/>
          <p:cNvSpPr/>
          <p:nvPr/>
        </p:nvSpPr>
        <p:spPr>
          <a:xfrm>
            <a:off x="6705720" y="2101680"/>
            <a:ext cx="5040360" cy="1067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6600" spc="-1" strike="noStrike">
                <a:solidFill>
                  <a:srgbClr val="060acf"/>
                </a:solidFill>
                <a:latin typeface="Montserrat SemiBold"/>
                <a:ea typeface="Open Sans"/>
              </a:rPr>
              <a:t>Mockup</a:t>
            </a:r>
            <a:endParaRPr b="0" lang="en-US" sz="6600" spc="-1" strike="noStrike">
              <a:solidFill>
                <a:srgbClr val="000000"/>
              </a:solidFill>
              <a:latin typeface="Calibri"/>
            </a:endParaRPr>
          </a:p>
        </p:txBody>
      </p:sp>
      <p:pic>
        <p:nvPicPr>
          <p:cNvPr id="403" name="" descr=""/>
          <p:cNvPicPr/>
          <p:nvPr/>
        </p:nvPicPr>
        <p:blipFill>
          <a:blip r:embed="rId1"/>
          <a:stretch/>
        </p:blipFill>
        <p:spPr>
          <a:xfrm>
            <a:off x="1396800" y="1580760"/>
            <a:ext cx="4375080" cy="2536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Oval 7"/>
          <p:cNvGrpSpPr/>
          <p:nvPr/>
        </p:nvGrpSpPr>
        <p:grpSpPr>
          <a:xfrm>
            <a:off x="9607680" y="-1652760"/>
            <a:ext cx="4510080" cy="4511880"/>
            <a:chOff x="9607680" y="-1652760"/>
            <a:chExt cx="4510080" cy="4511880"/>
          </a:xfrm>
        </p:grpSpPr>
        <p:pic>
          <p:nvPicPr>
            <p:cNvPr id="405" name="Oval 7" descr=""/>
            <p:cNvPicPr/>
            <p:nvPr/>
          </p:nvPicPr>
          <p:blipFill>
            <a:blip r:embed="rId1"/>
            <a:stretch/>
          </p:blipFill>
          <p:spPr>
            <a:xfrm>
              <a:off x="9607680" y="-1652760"/>
              <a:ext cx="4510080" cy="4511880"/>
            </a:xfrm>
            <a:prstGeom prst="rect">
              <a:avLst/>
            </a:prstGeom>
            <a:ln w="0">
              <a:noFill/>
            </a:ln>
          </p:spPr>
        </p:pic>
        <p:sp>
          <p:nvSpPr>
            <p:cNvPr id="406" name=""/>
            <p:cNvSpPr/>
            <p:nvPr/>
          </p:nvSpPr>
          <p:spPr>
            <a:xfrm>
              <a:off x="10264680" y="-992160"/>
              <a:ext cx="3191040" cy="319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7" name="Freeform: Shape 6"/>
          <p:cNvSpPr/>
          <p:nvPr/>
        </p:nvSpPr>
        <p:spPr>
          <a:xfrm rot="16200000">
            <a:off x="-1035360" y="1619640"/>
            <a:ext cx="6298920" cy="42656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08" name="Chart 1" descr=""/>
          <p:cNvPicPr/>
          <p:nvPr/>
        </p:nvPicPr>
        <p:blipFill>
          <a:blip r:embed="rId2"/>
          <a:stretch/>
        </p:blipFill>
        <p:spPr>
          <a:xfrm>
            <a:off x="765000" y="920880"/>
            <a:ext cx="4658040" cy="4949640"/>
          </a:xfrm>
          <a:prstGeom prst="rect">
            <a:avLst/>
          </a:prstGeom>
          <a:ln w="0">
            <a:noFill/>
          </a:ln>
        </p:spPr>
      </p:pic>
      <p:sp>
        <p:nvSpPr>
          <p:cNvPr id="409" name="Text Box 7"/>
          <p:cNvSpPr/>
          <p:nvPr/>
        </p:nvSpPr>
        <p:spPr>
          <a:xfrm>
            <a:off x="6095880" y="1430280"/>
            <a:ext cx="5040360" cy="1067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6600" spc="-1" strike="noStrike">
                <a:solidFill>
                  <a:srgbClr val="060acf"/>
                </a:solidFill>
                <a:latin typeface="Montserrat SemiBold"/>
                <a:ea typeface="Open Sans"/>
              </a:rPr>
              <a:t>Income</a:t>
            </a:r>
            <a:endParaRPr b="0" lang="en-US" sz="6600" spc="-1" strike="noStrike">
              <a:solidFill>
                <a:srgbClr val="000000"/>
              </a:solidFill>
              <a:latin typeface="Calibri"/>
            </a:endParaRPr>
          </a:p>
        </p:txBody>
      </p:sp>
      <p:sp>
        <p:nvSpPr>
          <p:cNvPr id="410" name="Text Box 7"/>
          <p:cNvSpPr/>
          <p:nvPr/>
        </p:nvSpPr>
        <p:spPr>
          <a:xfrm>
            <a:off x="6095880" y="2135160"/>
            <a:ext cx="5040360" cy="1067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6600" spc="-1" strike="noStrike">
                <a:solidFill>
                  <a:srgbClr val="060acf"/>
                </a:solidFill>
                <a:latin typeface="Montserrat SemiBold"/>
                <a:ea typeface="Open Sans"/>
              </a:rPr>
              <a:t>Company</a:t>
            </a:r>
            <a:endParaRPr b="0" lang="en-US" sz="6600" spc="-1" strike="noStrike">
              <a:solidFill>
                <a:srgbClr val="000000"/>
              </a:solidFill>
              <a:latin typeface="Calibri"/>
            </a:endParaRPr>
          </a:p>
        </p:txBody>
      </p:sp>
      <p:sp>
        <p:nvSpPr>
          <p:cNvPr id="411" name="TextBox 5"/>
          <p:cNvSpPr/>
          <p:nvPr/>
        </p:nvSpPr>
        <p:spPr>
          <a:xfrm>
            <a:off x="6095880" y="3859200"/>
            <a:ext cx="403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Chart 1" descr=""/>
          <p:cNvPicPr/>
          <p:nvPr/>
        </p:nvPicPr>
        <p:blipFill>
          <a:blip r:embed="rId1"/>
          <a:stretch/>
        </p:blipFill>
        <p:spPr>
          <a:xfrm>
            <a:off x="755640" y="1536840"/>
            <a:ext cx="10674360" cy="3784320"/>
          </a:xfrm>
          <a:prstGeom prst="rect">
            <a:avLst/>
          </a:prstGeom>
          <a:ln w="0">
            <a:noFill/>
          </a:ln>
        </p:spPr>
      </p:pic>
      <p:sp>
        <p:nvSpPr>
          <p:cNvPr id="413" name="Rectangle: Rounded Corners 2"/>
          <p:cNvSpPr/>
          <p:nvPr/>
        </p:nvSpPr>
        <p:spPr>
          <a:xfrm>
            <a:off x="912960" y="5465880"/>
            <a:ext cx="10366200" cy="609480"/>
          </a:xfrm>
          <a:prstGeom prst="roundRect">
            <a:avLst>
              <a:gd name="adj" fmla="val 16667"/>
            </a:avLst>
          </a:prstGeom>
          <a:solidFill>
            <a:srgbClr val="fffff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TextBox 3"/>
          <p:cNvSpPr/>
          <p:nvPr/>
        </p:nvSpPr>
        <p:spPr>
          <a:xfrm>
            <a:off x="1120680" y="56037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472c4"/>
                </a:solidFill>
                <a:latin typeface="Lato"/>
                <a:ea typeface="Lato"/>
              </a:rPr>
              <a:t>Detail information</a:t>
            </a:r>
            <a:endParaRPr b="0" lang="en-US" sz="1400" spc="-1" strike="noStrike">
              <a:solidFill>
                <a:srgbClr val="000000"/>
              </a:solidFill>
              <a:latin typeface="Calibri"/>
            </a:endParaRPr>
          </a:p>
        </p:txBody>
      </p:sp>
      <p:sp>
        <p:nvSpPr>
          <p:cNvPr id="415" name="TextBox 4"/>
          <p:cNvSpPr/>
          <p:nvPr/>
        </p:nvSpPr>
        <p:spPr>
          <a:xfrm>
            <a:off x="7777080" y="5603760"/>
            <a:ext cx="284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5c3c3"/>
                </a:solidFill>
                <a:latin typeface="Calibri"/>
              </a:rPr>
              <a:t>This information in year </a:t>
            </a:r>
            <a:r>
              <a:rPr b="0" lang="en-US" sz="1400" spc="-1" strike="noStrike">
                <a:solidFill>
                  <a:srgbClr val="4472c4"/>
                </a:solidFill>
                <a:latin typeface="Calibri"/>
              </a:rPr>
              <a:t>2021</a:t>
            </a:r>
            <a:endParaRPr b="0" lang="en-US" sz="1400" spc="-1" strike="noStrike">
              <a:solidFill>
                <a:srgbClr val="000000"/>
              </a:solidFill>
              <a:latin typeface="Calibri"/>
            </a:endParaRPr>
          </a:p>
        </p:txBody>
      </p:sp>
      <p:sp>
        <p:nvSpPr>
          <p:cNvPr id="416" name="Rectangle: Rounded Corners 5"/>
          <p:cNvSpPr/>
          <p:nvPr/>
        </p:nvSpPr>
        <p:spPr>
          <a:xfrm>
            <a:off x="3711600" y="1849320"/>
            <a:ext cx="2549520" cy="1260720"/>
          </a:xfrm>
          <a:prstGeom prst="roundRect">
            <a:avLst>
              <a:gd name="adj" fmla="val 4435"/>
            </a:avLst>
          </a:prstGeom>
          <a:gradFill rotWithShape="0">
            <a:gsLst>
              <a:gs pos="0">
                <a:srgbClr val="060acf"/>
              </a:gs>
              <a:gs pos="100000">
                <a:srgbClr val="1e74ed"/>
              </a:gs>
            </a:gsLst>
            <a:lin ang="30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Oval 6"/>
          <p:cNvSpPr/>
          <p:nvPr/>
        </p:nvSpPr>
        <p:spPr>
          <a:xfrm>
            <a:off x="3603600" y="3151080"/>
            <a:ext cx="108000" cy="108000"/>
          </a:xfrm>
          <a:prstGeom prst="ellipse">
            <a:avLst/>
          </a:prstGeom>
          <a:gradFill rotWithShape="0">
            <a:gsLst>
              <a:gs pos="0">
                <a:srgbClr val="4472c4"/>
              </a:gs>
              <a:gs pos="100000">
                <a:srgbClr val="c55a11"/>
              </a:gs>
            </a:gsLst>
            <a:lin ang="3000000"/>
          </a:gra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TextBox 7"/>
          <p:cNvSpPr/>
          <p:nvPr/>
        </p:nvSpPr>
        <p:spPr>
          <a:xfrm>
            <a:off x="4022640" y="2246400"/>
            <a:ext cx="203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e6e6"/>
                </a:solidFill>
                <a:latin typeface="Roboto"/>
              </a:rPr>
              <a:t>A wonderful serenity</a:t>
            </a:r>
            <a:endParaRPr b="0" lang="en-US" sz="1200" spc="-1" strike="noStrike">
              <a:solidFill>
                <a:srgbClr val="000000"/>
              </a:solidFill>
              <a:latin typeface="Calibri"/>
            </a:endParaRPr>
          </a:p>
        </p:txBody>
      </p:sp>
      <p:sp>
        <p:nvSpPr>
          <p:cNvPr id="419" name="TextBox 8"/>
          <p:cNvSpPr/>
          <p:nvPr/>
        </p:nvSpPr>
        <p:spPr>
          <a:xfrm>
            <a:off x="4022640" y="202392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e6e6"/>
                </a:solidFill>
                <a:latin typeface="Calibri Light"/>
              </a:rPr>
              <a:t>Detail information</a:t>
            </a:r>
            <a:endParaRPr b="0" lang="en-US" sz="1400" spc="-1" strike="noStrike">
              <a:solidFill>
                <a:srgbClr val="000000"/>
              </a:solidFill>
              <a:latin typeface="Calibri"/>
            </a:endParaRPr>
          </a:p>
        </p:txBody>
      </p:sp>
      <p:sp>
        <p:nvSpPr>
          <p:cNvPr id="420" name="TextBox 9"/>
          <p:cNvSpPr/>
          <p:nvPr/>
        </p:nvSpPr>
        <p:spPr>
          <a:xfrm>
            <a:off x="4344840" y="260208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e6e6"/>
                </a:solidFill>
                <a:latin typeface="Calibri Light"/>
              </a:rPr>
              <a:t>4% - 1.523.662</a:t>
            </a:r>
            <a:endParaRPr b="0" lang="en-US" sz="1400" spc="-1" strike="noStrike">
              <a:solidFill>
                <a:srgbClr val="000000"/>
              </a:solidFill>
              <a:latin typeface="Calibri"/>
            </a:endParaRPr>
          </a:p>
        </p:txBody>
      </p:sp>
      <p:grpSp>
        <p:nvGrpSpPr>
          <p:cNvPr id="421" name="Group 10"/>
          <p:cNvGrpSpPr/>
          <p:nvPr/>
        </p:nvGrpSpPr>
        <p:grpSpPr>
          <a:xfrm>
            <a:off x="4103640" y="2633760"/>
            <a:ext cx="184320" cy="246240"/>
            <a:chOff x="4103640" y="2633760"/>
            <a:chExt cx="184320" cy="246240"/>
          </a:xfrm>
        </p:grpSpPr>
        <p:sp>
          <p:nvSpPr>
            <p:cNvPr id="422" name="Oval 11"/>
            <p:cNvSpPr/>
            <p:nvPr/>
          </p:nvSpPr>
          <p:spPr>
            <a:xfrm>
              <a:off x="4113000" y="2663640"/>
              <a:ext cx="165240" cy="164160"/>
            </a:xfrm>
            <a:prstGeom prst="ellipse">
              <a:avLst/>
            </a:prstGeom>
            <a:solidFill>
              <a:srgbClr val="e7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TextBox 30"/>
            <p:cNvSpPr/>
            <p:nvPr/>
          </p:nvSpPr>
          <p:spPr>
            <a:xfrm>
              <a:off x="4103640" y="2633760"/>
              <a:ext cx="184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472c4"/>
                  </a:solidFill>
                  <a:latin typeface="Roboto"/>
                </a:rPr>
                <a:t>!</a:t>
              </a:r>
              <a:endParaRPr b="0" lang="en-US" sz="1000" spc="-1" strike="noStrike">
                <a:solidFill>
                  <a:srgbClr val="000000"/>
                </a:solidFill>
                <a:latin typeface="Calibri"/>
              </a:endParaRPr>
            </a:p>
          </p:txBody>
        </p:sp>
      </p:grpSp>
      <p:sp>
        <p:nvSpPr>
          <p:cNvPr id="424" name="Shape 768"/>
          <p:cNvSpPr/>
          <p:nvPr/>
        </p:nvSpPr>
        <p:spPr>
          <a:xfrm>
            <a:off x="4098960" y="521640"/>
            <a:ext cx="3994200" cy="83304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800" spc="-1" strike="noStrike">
                <a:solidFill>
                  <a:srgbClr val="060acf"/>
                </a:solidFill>
                <a:latin typeface="Montserrat SemiBold"/>
                <a:ea typeface="Open Sans Light"/>
              </a:rPr>
              <a:t>Bar Char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reeform: Shape 417"/>
          <p:cNvSpPr/>
          <p:nvPr/>
        </p:nvSpPr>
        <p:spPr>
          <a:xfrm rot="16200000">
            <a:off x="-1564920" y="1545840"/>
            <a:ext cx="6902280" cy="380988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6" name="Rectangle: Rounded Corners 414"/>
          <p:cNvSpPr/>
          <p:nvPr/>
        </p:nvSpPr>
        <p:spPr>
          <a:xfrm>
            <a:off x="1128600" y="4027320"/>
            <a:ext cx="2590920" cy="2198880"/>
          </a:xfrm>
          <a:prstGeom prst="roundRect">
            <a:avLst>
              <a:gd name="adj" fmla="val 3704"/>
            </a:avLst>
          </a:prstGeom>
          <a:solidFill>
            <a:srgbClr val="fffff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27" name="Group 1"/>
          <p:cNvGrpSpPr/>
          <p:nvPr/>
        </p:nvGrpSpPr>
        <p:grpSpPr>
          <a:xfrm>
            <a:off x="4954680" y="2038320"/>
            <a:ext cx="7037280" cy="3489480"/>
            <a:chOff x="4954680" y="2038320"/>
            <a:chExt cx="7037280" cy="3489480"/>
          </a:xfrm>
        </p:grpSpPr>
        <p:sp>
          <p:nvSpPr>
            <p:cNvPr id="428" name="Shape 1042"/>
            <p:cNvSpPr/>
            <p:nvPr/>
          </p:nvSpPr>
          <p:spPr>
            <a:xfrm>
              <a:off x="7469280" y="2054160"/>
              <a:ext cx="36360" cy="13680"/>
            </a:xfrm>
            <a:custGeom>
              <a:avLst/>
              <a:gdLst/>
              <a:ahLst/>
              <a:rect l="l" t="t" r="r" b="b"/>
              <a:pathLst>
                <a:path w="21600" h="18600">
                  <a:moveTo>
                    <a:pt x="9600" y="16200"/>
                  </a:moveTo>
                  <a:cubicBezTo>
                    <a:pt x="9600" y="16200"/>
                    <a:pt x="2400" y="10800"/>
                    <a:pt x="2400" y="10800"/>
                  </a:cubicBezTo>
                  <a:cubicBezTo>
                    <a:pt x="2400" y="10800"/>
                    <a:pt x="9600" y="10800"/>
                    <a:pt x="12000" y="10800"/>
                  </a:cubicBezTo>
                  <a:cubicBezTo>
                    <a:pt x="7200" y="5400"/>
                    <a:pt x="2400" y="10800"/>
                    <a:pt x="0" y="0"/>
                  </a:cubicBezTo>
                  <a:cubicBezTo>
                    <a:pt x="2400" y="5400"/>
                    <a:pt x="19200" y="0"/>
                    <a:pt x="21600" y="10800"/>
                  </a:cubicBezTo>
                  <a:cubicBezTo>
                    <a:pt x="21600" y="10800"/>
                    <a:pt x="14400" y="10800"/>
                    <a:pt x="12000" y="10800"/>
                  </a:cubicBezTo>
                  <a:cubicBezTo>
                    <a:pt x="12000" y="10800"/>
                    <a:pt x="16800" y="21600"/>
                    <a:pt x="9600" y="16200"/>
                  </a:cubicBezTo>
                  <a:cubicBezTo>
                    <a:pt x="7200" y="16200"/>
                    <a:pt x="14400" y="21600"/>
                    <a:pt x="9600" y="16200"/>
                  </a:cubicBezTo>
                  <a:close/>
                </a:path>
              </a:pathLst>
            </a:custGeom>
            <a:solidFill>
              <a:srgbClr val="bfbfb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429" name="Shape 1043"/>
            <p:cNvSpPr/>
            <p:nvPr/>
          </p:nvSpPr>
          <p:spPr>
            <a:xfrm>
              <a:off x="10450800" y="4509720"/>
              <a:ext cx="803880" cy="602640"/>
            </a:xfrm>
            <a:custGeom>
              <a:avLst/>
              <a:gdLst/>
              <a:ahLst/>
              <a:rect l="l" t="t" r="r" b="b"/>
              <a:pathLst>
                <a:path w="21538" h="21600">
                  <a:moveTo>
                    <a:pt x="10694" y="568"/>
                  </a:moveTo>
                  <a:cubicBezTo>
                    <a:pt x="10482" y="568"/>
                    <a:pt x="10376" y="284"/>
                    <a:pt x="10165" y="284"/>
                  </a:cubicBezTo>
                  <a:cubicBezTo>
                    <a:pt x="10059" y="142"/>
                    <a:pt x="10059" y="284"/>
                    <a:pt x="10165" y="426"/>
                  </a:cubicBezTo>
                  <a:cubicBezTo>
                    <a:pt x="10165" y="568"/>
                    <a:pt x="10376" y="426"/>
                    <a:pt x="10376" y="426"/>
                  </a:cubicBezTo>
                  <a:cubicBezTo>
                    <a:pt x="10482" y="568"/>
                    <a:pt x="10376" y="853"/>
                    <a:pt x="10482" y="853"/>
                  </a:cubicBezTo>
                  <a:cubicBezTo>
                    <a:pt x="10482" y="995"/>
                    <a:pt x="10376" y="995"/>
                    <a:pt x="10271" y="995"/>
                  </a:cubicBezTo>
                  <a:cubicBezTo>
                    <a:pt x="10165" y="1137"/>
                    <a:pt x="10059" y="1137"/>
                    <a:pt x="9953" y="1137"/>
                  </a:cubicBezTo>
                  <a:cubicBezTo>
                    <a:pt x="9741" y="995"/>
                    <a:pt x="9741" y="1137"/>
                    <a:pt x="9529" y="1137"/>
                  </a:cubicBezTo>
                  <a:cubicBezTo>
                    <a:pt x="9212" y="1279"/>
                    <a:pt x="9318" y="1705"/>
                    <a:pt x="9106" y="1847"/>
                  </a:cubicBezTo>
                  <a:cubicBezTo>
                    <a:pt x="8894" y="2132"/>
                    <a:pt x="8788" y="2558"/>
                    <a:pt x="8894" y="2842"/>
                  </a:cubicBezTo>
                  <a:cubicBezTo>
                    <a:pt x="9106" y="3268"/>
                    <a:pt x="8576" y="2984"/>
                    <a:pt x="8471" y="2984"/>
                  </a:cubicBezTo>
                  <a:cubicBezTo>
                    <a:pt x="8365" y="2984"/>
                    <a:pt x="8047" y="3411"/>
                    <a:pt x="8047" y="3411"/>
                  </a:cubicBezTo>
                  <a:cubicBezTo>
                    <a:pt x="8047" y="3411"/>
                    <a:pt x="7941" y="2700"/>
                    <a:pt x="7835" y="2558"/>
                  </a:cubicBezTo>
                  <a:cubicBezTo>
                    <a:pt x="7835" y="2416"/>
                    <a:pt x="7729" y="2416"/>
                    <a:pt x="7624" y="2416"/>
                  </a:cubicBezTo>
                  <a:cubicBezTo>
                    <a:pt x="7518" y="2274"/>
                    <a:pt x="7518" y="2274"/>
                    <a:pt x="7518" y="2132"/>
                  </a:cubicBezTo>
                  <a:cubicBezTo>
                    <a:pt x="7412" y="1989"/>
                    <a:pt x="7412" y="2274"/>
                    <a:pt x="7412" y="2416"/>
                  </a:cubicBezTo>
                  <a:cubicBezTo>
                    <a:pt x="7306" y="2416"/>
                    <a:pt x="7200" y="2416"/>
                    <a:pt x="7200" y="2274"/>
                  </a:cubicBezTo>
                  <a:cubicBezTo>
                    <a:pt x="6988" y="2274"/>
                    <a:pt x="7094" y="2842"/>
                    <a:pt x="6882" y="2700"/>
                  </a:cubicBezTo>
                  <a:cubicBezTo>
                    <a:pt x="6882" y="2700"/>
                    <a:pt x="6776" y="2558"/>
                    <a:pt x="6776" y="2558"/>
                  </a:cubicBezTo>
                  <a:cubicBezTo>
                    <a:pt x="6671" y="2700"/>
                    <a:pt x="6671" y="2700"/>
                    <a:pt x="6671" y="2700"/>
                  </a:cubicBezTo>
                  <a:cubicBezTo>
                    <a:pt x="6353" y="2558"/>
                    <a:pt x="6565" y="3126"/>
                    <a:pt x="6565" y="3126"/>
                  </a:cubicBezTo>
                  <a:cubicBezTo>
                    <a:pt x="6565" y="3126"/>
                    <a:pt x="6353" y="3126"/>
                    <a:pt x="6353" y="3126"/>
                  </a:cubicBezTo>
                  <a:cubicBezTo>
                    <a:pt x="6353" y="3268"/>
                    <a:pt x="6459" y="3268"/>
                    <a:pt x="6459" y="3268"/>
                  </a:cubicBezTo>
                  <a:cubicBezTo>
                    <a:pt x="6353" y="3553"/>
                    <a:pt x="6247" y="3268"/>
                    <a:pt x="6247" y="3695"/>
                  </a:cubicBezTo>
                  <a:cubicBezTo>
                    <a:pt x="6247" y="3837"/>
                    <a:pt x="6353" y="3837"/>
                    <a:pt x="6353" y="3979"/>
                  </a:cubicBezTo>
                  <a:cubicBezTo>
                    <a:pt x="6353" y="4263"/>
                    <a:pt x="5612" y="3695"/>
                    <a:pt x="5612" y="4121"/>
                  </a:cubicBezTo>
                  <a:cubicBezTo>
                    <a:pt x="5612" y="4263"/>
                    <a:pt x="6035" y="4547"/>
                    <a:pt x="5824" y="4689"/>
                  </a:cubicBezTo>
                  <a:cubicBezTo>
                    <a:pt x="5718" y="4689"/>
                    <a:pt x="5718" y="4547"/>
                    <a:pt x="5718" y="4689"/>
                  </a:cubicBezTo>
                  <a:cubicBezTo>
                    <a:pt x="5612" y="4832"/>
                    <a:pt x="5612" y="4832"/>
                    <a:pt x="5506" y="4689"/>
                  </a:cubicBezTo>
                  <a:cubicBezTo>
                    <a:pt x="5400" y="4689"/>
                    <a:pt x="5506" y="4405"/>
                    <a:pt x="5400" y="4263"/>
                  </a:cubicBezTo>
                  <a:cubicBezTo>
                    <a:pt x="5294" y="3979"/>
                    <a:pt x="5082" y="4547"/>
                    <a:pt x="4976" y="4689"/>
                  </a:cubicBezTo>
                  <a:cubicBezTo>
                    <a:pt x="4976" y="4832"/>
                    <a:pt x="4871" y="4974"/>
                    <a:pt x="4871" y="5116"/>
                  </a:cubicBezTo>
                  <a:cubicBezTo>
                    <a:pt x="4871" y="5116"/>
                    <a:pt x="4976" y="5258"/>
                    <a:pt x="4976" y="5400"/>
                  </a:cubicBezTo>
                  <a:cubicBezTo>
                    <a:pt x="4976" y="5400"/>
                    <a:pt x="4765" y="5684"/>
                    <a:pt x="4659" y="5826"/>
                  </a:cubicBezTo>
                  <a:cubicBezTo>
                    <a:pt x="4341" y="6253"/>
                    <a:pt x="4024" y="6537"/>
                    <a:pt x="3600" y="6679"/>
                  </a:cubicBezTo>
                  <a:cubicBezTo>
                    <a:pt x="3282" y="6679"/>
                    <a:pt x="2965" y="6963"/>
                    <a:pt x="2541" y="7105"/>
                  </a:cubicBezTo>
                  <a:cubicBezTo>
                    <a:pt x="2224" y="7247"/>
                    <a:pt x="1906" y="7247"/>
                    <a:pt x="1588" y="7532"/>
                  </a:cubicBezTo>
                  <a:cubicBezTo>
                    <a:pt x="1376" y="7816"/>
                    <a:pt x="1271" y="7816"/>
                    <a:pt x="1059" y="7958"/>
                  </a:cubicBezTo>
                  <a:cubicBezTo>
                    <a:pt x="953" y="8100"/>
                    <a:pt x="741" y="8526"/>
                    <a:pt x="741" y="8526"/>
                  </a:cubicBezTo>
                  <a:cubicBezTo>
                    <a:pt x="635" y="8526"/>
                    <a:pt x="741" y="8100"/>
                    <a:pt x="741" y="7958"/>
                  </a:cubicBezTo>
                  <a:cubicBezTo>
                    <a:pt x="529" y="7958"/>
                    <a:pt x="424" y="8668"/>
                    <a:pt x="424" y="8668"/>
                  </a:cubicBezTo>
                  <a:cubicBezTo>
                    <a:pt x="529" y="9095"/>
                    <a:pt x="318" y="9237"/>
                    <a:pt x="318" y="9663"/>
                  </a:cubicBezTo>
                  <a:cubicBezTo>
                    <a:pt x="318" y="9805"/>
                    <a:pt x="847" y="11368"/>
                    <a:pt x="635" y="11511"/>
                  </a:cubicBezTo>
                  <a:cubicBezTo>
                    <a:pt x="635" y="11511"/>
                    <a:pt x="318" y="10942"/>
                    <a:pt x="318" y="10942"/>
                  </a:cubicBezTo>
                  <a:cubicBezTo>
                    <a:pt x="318" y="11084"/>
                    <a:pt x="635" y="11511"/>
                    <a:pt x="424" y="11653"/>
                  </a:cubicBezTo>
                  <a:cubicBezTo>
                    <a:pt x="212" y="11653"/>
                    <a:pt x="212" y="10942"/>
                    <a:pt x="0" y="10942"/>
                  </a:cubicBezTo>
                  <a:cubicBezTo>
                    <a:pt x="0" y="10942"/>
                    <a:pt x="635" y="12079"/>
                    <a:pt x="635" y="12221"/>
                  </a:cubicBezTo>
                  <a:cubicBezTo>
                    <a:pt x="741" y="12363"/>
                    <a:pt x="635" y="12647"/>
                    <a:pt x="741" y="12932"/>
                  </a:cubicBezTo>
                  <a:cubicBezTo>
                    <a:pt x="847" y="13216"/>
                    <a:pt x="953" y="13358"/>
                    <a:pt x="1059" y="13642"/>
                  </a:cubicBezTo>
                  <a:cubicBezTo>
                    <a:pt x="1165" y="13784"/>
                    <a:pt x="1165" y="14211"/>
                    <a:pt x="1165" y="14353"/>
                  </a:cubicBezTo>
                  <a:cubicBezTo>
                    <a:pt x="1165" y="14637"/>
                    <a:pt x="1271" y="14921"/>
                    <a:pt x="1376" y="15063"/>
                  </a:cubicBezTo>
                  <a:cubicBezTo>
                    <a:pt x="1482" y="15489"/>
                    <a:pt x="1482" y="15632"/>
                    <a:pt x="1482" y="16058"/>
                  </a:cubicBezTo>
                  <a:cubicBezTo>
                    <a:pt x="1482" y="16200"/>
                    <a:pt x="1482" y="16911"/>
                    <a:pt x="1482" y="16911"/>
                  </a:cubicBezTo>
                  <a:cubicBezTo>
                    <a:pt x="1376" y="17053"/>
                    <a:pt x="1271" y="17053"/>
                    <a:pt x="1165" y="17195"/>
                  </a:cubicBezTo>
                  <a:cubicBezTo>
                    <a:pt x="1059" y="17621"/>
                    <a:pt x="1271" y="17621"/>
                    <a:pt x="1376" y="17763"/>
                  </a:cubicBezTo>
                  <a:cubicBezTo>
                    <a:pt x="1800" y="18047"/>
                    <a:pt x="2118" y="18332"/>
                    <a:pt x="2647" y="18189"/>
                  </a:cubicBezTo>
                  <a:cubicBezTo>
                    <a:pt x="2859" y="18047"/>
                    <a:pt x="3071" y="17905"/>
                    <a:pt x="3176" y="17763"/>
                  </a:cubicBezTo>
                  <a:cubicBezTo>
                    <a:pt x="3494" y="17621"/>
                    <a:pt x="3388" y="17763"/>
                    <a:pt x="3494" y="17479"/>
                  </a:cubicBezTo>
                  <a:cubicBezTo>
                    <a:pt x="3706" y="17195"/>
                    <a:pt x="4447" y="17195"/>
                    <a:pt x="4659" y="17337"/>
                  </a:cubicBezTo>
                  <a:cubicBezTo>
                    <a:pt x="4976" y="17337"/>
                    <a:pt x="5506" y="17621"/>
                    <a:pt x="5718" y="17195"/>
                  </a:cubicBezTo>
                  <a:cubicBezTo>
                    <a:pt x="5824" y="17053"/>
                    <a:pt x="5824" y="16768"/>
                    <a:pt x="6035" y="16626"/>
                  </a:cubicBezTo>
                  <a:cubicBezTo>
                    <a:pt x="6247" y="16484"/>
                    <a:pt x="6459" y="16342"/>
                    <a:pt x="6671" y="16200"/>
                  </a:cubicBezTo>
                  <a:cubicBezTo>
                    <a:pt x="6988" y="15916"/>
                    <a:pt x="7412" y="16200"/>
                    <a:pt x="7729" y="15916"/>
                  </a:cubicBezTo>
                  <a:cubicBezTo>
                    <a:pt x="8259" y="15632"/>
                    <a:pt x="8682" y="15632"/>
                    <a:pt x="9318" y="15489"/>
                  </a:cubicBezTo>
                  <a:cubicBezTo>
                    <a:pt x="9424" y="15489"/>
                    <a:pt x="9529" y="15347"/>
                    <a:pt x="9741" y="15347"/>
                  </a:cubicBezTo>
                  <a:cubicBezTo>
                    <a:pt x="9847" y="15489"/>
                    <a:pt x="10059" y="15632"/>
                    <a:pt x="10165" y="15774"/>
                  </a:cubicBezTo>
                  <a:cubicBezTo>
                    <a:pt x="10271" y="15774"/>
                    <a:pt x="11329" y="16058"/>
                    <a:pt x="11329" y="16200"/>
                  </a:cubicBezTo>
                  <a:cubicBezTo>
                    <a:pt x="11224" y="16342"/>
                    <a:pt x="11118" y="16768"/>
                    <a:pt x="11329" y="16626"/>
                  </a:cubicBezTo>
                  <a:cubicBezTo>
                    <a:pt x="11435" y="16626"/>
                    <a:pt x="11647" y="17053"/>
                    <a:pt x="11753" y="17195"/>
                  </a:cubicBezTo>
                  <a:cubicBezTo>
                    <a:pt x="11859" y="17337"/>
                    <a:pt x="11859" y="17479"/>
                    <a:pt x="11859" y="17763"/>
                  </a:cubicBezTo>
                  <a:cubicBezTo>
                    <a:pt x="11965" y="17905"/>
                    <a:pt x="12176" y="18189"/>
                    <a:pt x="12176" y="18189"/>
                  </a:cubicBezTo>
                  <a:cubicBezTo>
                    <a:pt x="12176" y="18047"/>
                    <a:pt x="12071" y="17905"/>
                    <a:pt x="12282" y="17763"/>
                  </a:cubicBezTo>
                  <a:cubicBezTo>
                    <a:pt x="12388" y="17621"/>
                    <a:pt x="12494" y="17479"/>
                    <a:pt x="12706" y="17337"/>
                  </a:cubicBezTo>
                  <a:cubicBezTo>
                    <a:pt x="12812" y="17195"/>
                    <a:pt x="13341" y="16484"/>
                    <a:pt x="13235" y="16342"/>
                  </a:cubicBezTo>
                  <a:cubicBezTo>
                    <a:pt x="13341" y="16626"/>
                    <a:pt x="13235" y="16768"/>
                    <a:pt x="13235" y="17053"/>
                  </a:cubicBezTo>
                  <a:cubicBezTo>
                    <a:pt x="13341" y="17195"/>
                    <a:pt x="13129" y="17337"/>
                    <a:pt x="13129" y="17337"/>
                  </a:cubicBezTo>
                  <a:cubicBezTo>
                    <a:pt x="13024" y="17621"/>
                    <a:pt x="13024" y="17763"/>
                    <a:pt x="13024" y="17905"/>
                  </a:cubicBezTo>
                  <a:cubicBezTo>
                    <a:pt x="13024" y="18189"/>
                    <a:pt x="12600" y="18332"/>
                    <a:pt x="12918" y="18332"/>
                  </a:cubicBezTo>
                  <a:cubicBezTo>
                    <a:pt x="13341" y="18332"/>
                    <a:pt x="13129" y="17763"/>
                    <a:pt x="13235" y="17479"/>
                  </a:cubicBezTo>
                  <a:cubicBezTo>
                    <a:pt x="13235" y="17479"/>
                    <a:pt x="13659" y="18047"/>
                    <a:pt x="13553" y="18332"/>
                  </a:cubicBezTo>
                  <a:cubicBezTo>
                    <a:pt x="13235" y="18900"/>
                    <a:pt x="13659" y="18474"/>
                    <a:pt x="13871" y="18758"/>
                  </a:cubicBezTo>
                  <a:cubicBezTo>
                    <a:pt x="14188" y="19184"/>
                    <a:pt x="14188" y="19326"/>
                    <a:pt x="14188" y="19753"/>
                  </a:cubicBezTo>
                  <a:cubicBezTo>
                    <a:pt x="14082" y="20179"/>
                    <a:pt x="14506" y="20605"/>
                    <a:pt x="14718" y="20605"/>
                  </a:cubicBezTo>
                  <a:cubicBezTo>
                    <a:pt x="14929" y="20747"/>
                    <a:pt x="15141" y="20889"/>
                    <a:pt x="15353" y="20889"/>
                  </a:cubicBezTo>
                  <a:cubicBezTo>
                    <a:pt x="15565" y="20889"/>
                    <a:pt x="15988" y="21600"/>
                    <a:pt x="16200" y="21458"/>
                  </a:cubicBezTo>
                  <a:cubicBezTo>
                    <a:pt x="16412" y="21316"/>
                    <a:pt x="16624" y="21174"/>
                    <a:pt x="16729" y="20889"/>
                  </a:cubicBezTo>
                  <a:cubicBezTo>
                    <a:pt x="16729" y="20889"/>
                    <a:pt x="16941" y="20463"/>
                    <a:pt x="17047" y="20605"/>
                  </a:cubicBezTo>
                  <a:cubicBezTo>
                    <a:pt x="17047" y="20747"/>
                    <a:pt x="16835" y="20889"/>
                    <a:pt x="16941" y="21032"/>
                  </a:cubicBezTo>
                  <a:cubicBezTo>
                    <a:pt x="17047" y="21174"/>
                    <a:pt x="17047" y="20747"/>
                    <a:pt x="17153" y="20747"/>
                  </a:cubicBezTo>
                  <a:cubicBezTo>
                    <a:pt x="17153" y="20747"/>
                    <a:pt x="17365" y="21174"/>
                    <a:pt x="17471" y="21174"/>
                  </a:cubicBezTo>
                  <a:cubicBezTo>
                    <a:pt x="17471" y="21316"/>
                    <a:pt x="17682" y="21600"/>
                    <a:pt x="17788" y="21600"/>
                  </a:cubicBezTo>
                  <a:cubicBezTo>
                    <a:pt x="17682" y="21600"/>
                    <a:pt x="18000" y="21174"/>
                    <a:pt x="18000" y="21174"/>
                  </a:cubicBezTo>
                  <a:cubicBezTo>
                    <a:pt x="18212" y="21032"/>
                    <a:pt x="18318" y="20747"/>
                    <a:pt x="18424" y="20605"/>
                  </a:cubicBezTo>
                  <a:cubicBezTo>
                    <a:pt x="18741" y="20463"/>
                    <a:pt x="19588" y="20747"/>
                    <a:pt x="19588" y="20179"/>
                  </a:cubicBezTo>
                  <a:cubicBezTo>
                    <a:pt x="19694" y="19468"/>
                    <a:pt x="19800" y="19042"/>
                    <a:pt x="19906" y="18474"/>
                  </a:cubicBezTo>
                  <a:cubicBezTo>
                    <a:pt x="20118" y="17905"/>
                    <a:pt x="20224" y="17337"/>
                    <a:pt x="20541" y="16768"/>
                  </a:cubicBezTo>
                  <a:cubicBezTo>
                    <a:pt x="20647" y="16626"/>
                    <a:pt x="20859" y="16484"/>
                    <a:pt x="20965" y="16200"/>
                  </a:cubicBezTo>
                  <a:cubicBezTo>
                    <a:pt x="20965" y="16058"/>
                    <a:pt x="20965" y="16058"/>
                    <a:pt x="20965" y="15916"/>
                  </a:cubicBezTo>
                  <a:cubicBezTo>
                    <a:pt x="21071" y="15774"/>
                    <a:pt x="21176" y="15632"/>
                    <a:pt x="21176" y="15347"/>
                  </a:cubicBezTo>
                  <a:cubicBezTo>
                    <a:pt x="21282" y="15063"/>
                    <a:pt x="21176" y="14779"/>
                    <a:pt x="21282" y="14495"/>
                  </a:cubicBezTo>
                  <a:cubicBezTo>
                    <a:pt x="21282" y="14353"/>
                    <a:pt x="21388" y="14211"/>
                    <a:pt x="21388" y="14068"/>
                  </a:cubicBezTo>
                  <a:cubicBezTo>
                    <a:pt x="21494" y="13926"/>
                    <a:pt x="21282" y="13784"/>
                    <a:pt x="21388" y="13642"/>
                  </a:cubicBezTo>
                  <a:cubicBezTo>
                    <a:pt x="21494" y="13500"/>
                    <a:pt x="21600" y="13074"/>
                    <a:pt x="21494" y="12932"/>
                  </a:cubicBezTo>
                  <a:cubicBezTo>
                    <a:pt x="21494" y="12647"/>
                    <a:pt x="21388" y="12505"/>
                    <a:pt x="21388" y="12363"/>
                  </a:cubicBezTo>
                  <a:cubicBezTo>
                    <a:pt x="21282" y="12221"/>
                    <a:pt x="21282" y="11937"/>
                    <a:pt x="21282" y="11795"/>
                  </a:cubicBezTo>
                  <a:cubicBezTo>
                    <a:pt x="21176" y="11226"/>
                    <a:pt x="21494" y="10942"/>
                    <a:pt x="21388" y="10374"/>
                  </a:cubicBezTo>
                  <a:cubicBezTo>
                    <a:pt x="21388" y="10516"/>
                    <a:pt x="21282" y="10800"/>
                    <a:pt x="21176" y="10800"/>
                  </a:cubicBezTo>
                  <a:cubicBezTo>
                    <a:pt x="20965" y="10800"/>
                    <a:pt x="20859" y="10232"/>
                    <a:pt x="20753" y="9947"/>
                  </a:cubicBezTo>
                  <a:cubicBezTo>
                    <a:pt x="20541" y="9521"/>
                    <a:pt x="20118" y="9521"/>
                    <a:pt x="20118" y="8811"/>
                  </a:cubicBezTo>
                  <a:cubicBezTo>
                    <a:pt x="20012" y="8526"/>
                    <a:pt x="19906" y="8526"/>
                    <a:pt x="19800" y="8384"/>
                  </a:cubicBezTo>
                  <a:cubicBezTo>
                    <a:pt x="19588" y="8242"/>
                    <a:pt x="19588" y="8668"/>
                    <a:pt x="19482" y="8384"/>
                  </a:cubicBezTo>
                  <a:cubicBezTo>
                    <a:pt x="19482" y="7958"/>
                    <a:pt x="19376" y="7816"/>
                    <a:pt x="19165" y="7532"/>
                  </a:cubicBezTo>
                  <a:cubicBezTo>
                    <a:pt x="19165" y="7532"/>
                    <a:pt x="19059" y="7389"/>
                    <a:pt x="19059" y="7247"/>
                  </a:cubicBezTo>
                  <a:cubicBezTo>
                    <a:pt x="18953" y="7247"/>
                    <a:pt x="19059" y="6963"/>
                    <a:pt x="19059" y="7105"/>
                  </a:cubicBezTo>
                  <a:cubicBezTo>
                    <a:pt x="18847" y="6821"/>
                    <a:pt x="18635" y="6679"/>
                    <a:pt x="18424" y="6537"/>
                  </a:cubicBezTo>
                  <a:cubicBezTo>
                    <a:pt x="18212" y="6253"/>
                    <a:pt x="17894" y="6395"/>
                    <a:pt x="17788" y="6111"/>
                  </a:cubicBezTo>
                  <a:cubicBezTo>
                    <a:pt x="17576" y="5826"/>
                    <a:pt x="17682" y="5258"/>
                    <a:pt x="17576" y="5116"/>
                  </a:cubicBezTo>
                  <a:cubicBezTo>
                    <a:pt x="17576" y="4832"/>
                    <a:pt x="17576" y="4547"/>
                    <a:pt x="17471" y="4405"/>
                  </a:cubicBezTo>
                  <a:cubicBezTo>
                    <a:pt x="17365" y="4263"/>
                    <a:pt x="17259" y="4263"/>
                    <a:pt x="17259" y="3979"/>
                  </a:cubicBezTo>
                  <a:cubicBezTo>
                    <a:pt x="17259" y="3695"/>
                    <a:pt x="17259" y="3268"/>
                    <a:pt x="17047" y="2842"/>
                  </a:cubicBezTo>
                  <a:cubicBezTo>
                    <a:pt x="16941" y="2842"/>
                    <a:pt x="16729" y="2416"/>
                    <a:pt x="16729" y="2558"/>
                  </a:cubicBezTo>
                  <a:cubicBezTo>
                    <a:pt x="16518" y="2558"/>
                    <a:pt x="16518" y="2700"/>
                    <a:pt x="16412" y="2416"/>
                  </a:cubicBezTo>
                  <a:cubicBezTo>
                    <a:pt x="16200" y="2132"/>
                    <a:pt x="16306" y="1563"/>
                    <a:pt x="16094" y="1137"/>
                  </a:cubicBezTo>
                  <a:cubicBezTo>
                    <a:pt x="16094" y="995"/>
                    <a:pt x="15671" y="0"/>
                    <a:pt x="15671" y="0"/>
                  </a:cubicBezTo>
                  <a:cubicBezTo>
                    <a:pt x="15565" y="0"/>
                    <a:pt x="15565" y="284"/>
                    <a:pt x="15565" y="426"/>
                  </a:cubicBezTo>
                  <a:cubicBezTo>
                    <a:pt x="15565" y="568"/>
                    <a:pt x="15459" y="711"/>
                    <a:pt x="15353" y="853"/>
                  </a:cubicBezTo>
                  <a:cubicBezTo>
                    <a:pt x="15353" y="853"/>
                    <a:pt x="15141" y="1137"/>
                    <a:pt x="15247" y="1279"/>
                  </a:cubicBezTo>
                  <a:cubicBezTo>
                    <a:pt x="15247" y="1279"/>
                    <a:pt x="15459" y="1279"/>
                    <a:pt x="15353" y="1421"/>
                  </a:cubicBezTo>
                  <a:cubicBezTo>
                    <a:pt x="15247" y="1421"/>
                    <a:pt x="15141" y="2132"/>
                    <a:pt x="15141" y="2274"/>
                  </a:cubicBezTo>
                  <a:cubicBezTo>
                    <a:pt x="15247" y="2558"/>
                    <a:pt x="15247" y="2842"/>
                    <a:pt x="15247" y="3126"/>
                  </a:cubicBezTo>
                  <a:cubicBezTo>
                    <a:pt x="15141" y="3695"/>
                    <a:pt x="15141" y="5116"/>
                    <a:pt x="14506" y="5116"/>
                  </a:cubicBezTo>
                  <a:cubicBezTo>
                    <a:pt x="14082" y="5116"/>
                    <a:pt x="14082" y="4547"/>
                    <a:pt x="13765" y="4405"/>
                  </a:cubicBezTo>
                  <a:cubicBezTo>
                    <a:pt x="13553" y="4263"/>
                    <a:pt x="13341" y="4263"/>
                    <a:pt x="13129" y="3979"/>
                  </a:cubicBezTo>
                  <a:cubicBezTo>
                    <a:pt x="13024" y="3837"/>
                    <a:pt x="11859" y="2984"/>
                    <a:pt x="11965" y="2842"/>
                  </a:cubicBezTo>
                  <a:cubicBezTo>
                    <a:pt x="11965" y="2700"/>
                    <a:pt x="12071" y="2558"/>
                    <a:pt x="12176" y="2416"/>
                  </a:cubicBezTo>
                  <a:cubicBezTo>
                    <a:pt x="12176" y="2274"/>
                    <a:pt x="12388" y="2274"/>
                    <a:pt x="12388" y="2132"/>
                  </a:cubicBezTo>
                  <a:cubicBezTo>
                    <a:pt x="12388" y="2132"/>
                    <a:pt x="12282" y="1989"/>
                    <a:pt x="12282" y="1847"/>
                  </a:cubicBezTo>
                  <a:cubicBezTo>
                    <a:pt x="12388" y="1705"/>
                    <a:pt x="12388" y="1705"/>
                    <a:pt x="12494" y="1563"/>
                  </a:cubicBezTo>
                  <a:cubicBezTo>
                    <a:pt x="12494" y="1421"/>
                    <a:pt x="12706" y="1279"/>
                    <a:pt x="12812" y="1137"/>
                  </a:cubicBezTo>
                  <a:cubicBezTo>
                    <a:pt x="12812" y="995"/>
                    <a:pt x="12600" y="711"/>
                    <a:pt x="12494" y="853"/>
                  </a:cubicBezTo>
                  <a:cubicBezTo>
                    <a:pt x="12494" y="853"/>
                    <a:pt x="12388" y="1137"/>
                    <a:pt x="12388" y="1137"/>
                  </a:cubicBezTo>
                  <a:cubicBezTo>
                    <a:pt x="12282" y="995"/>
                    <a:pt x="12282" y="995"/>
                    <a:pt x="12176" y="853"/>
                  </a:cubicBezTo>
                  <a:cubicBezTo>
                    <a:pt x="12176" y="711"/>
                    <a:pt x="11965" y="995"/>
                    <a:pt x="11859" y="995"/>
                  </a:cubicBezTo>
                  <a:cubicBezTo>
                    <a:pt x="11753" y="1137"/>
                    <a:pt x="11647" y="995"/>
                    <a:pt x="11541" y="995"/>
                  </a:cubicBezTo>
                  <a:cubicBezTo>
                    <a:pt x="11329" y="853"/>
                    <a:pt x="11012" y="711"/>
                    <a:pt x="10694" y="568"/>
                  </a:cubicBezTo>
                  <a:cubicBezTo>
                    <a:pt x="10482" y="568"/>
                    <a:pt x="10906" y="711"/>
                    <a:pt x="10694" y="56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30" name="Shape 1044"/>
            <p:cNvSpPr/>
            <p:nvPr/>
          </p:nvSpPr>
          <p:spPr>
            <a:xfrm>
              <a:off x="8146080" y="2972520"/>
              <a:ext cx="153360" cy="238320"/>
            </a:xfrm>
            <a:custGeom>
              <a:avLst/>
              <a:gdLst/>
              <a:ahLst/>
              <a:rect l="l" t="t" r="r" b="b"/>
              <a:pathLst>
                <a:path w="21003" h="21600">
                  <a:moveTo>
                    <a:pt x="8100" y="0"/>
                  </a:moveTo>
                  <a:cubicBezTo>
                    <a:pt x="6480" y="0"/>
                    <a:pt x="5400" y="360"/>
                    <a:pt x="3780" y="0"/>
                  </a:cubicBezTo>
                  <a:cubicBezTo>
                    <a:pt x="3240" y="0"/>
                    <a:pt x="2700" y="0"/>
                    <a:pt x="2700" y="360"/>
                  </a:cubicBezTo>
                  <a:cubicBezTo>
                    <a:pt x="3240" y="1080"/>
                    <a:pt x="2700" y="720"/>
                    <a:pt x="2160" y="1080"/>
                  </a:cubicBezTo>
                  <a:cubicBezTo>
                    <a:pt x="2700" y="720"/>
                    <a:pt x="2700" y="1440"/>
                    <a:pt x="2700" y="1440"/>
                  </a:cubicBezTo>
                  <a:cubicBezTo>
                    <a:pt x="2160" y="2160"/>
                    <a:pt x="540" y="1800"/>
                    <a:pt x="1080" y="2880"/>
                  </a:cubicBezTo>
                  <a:cubicBezTo>
                    <a:pt x="2160" y="3600"/>
                    <a:pt x="1620" y="3960"/>
                    <a:pt x="1080" y="4680"/>
                  </a:cubicBezTo>
                  <a:cubicBezTo>
                    <a:pt x="1080" y="5400"/>
                    <a:pt x="2160" y="5400"/>
                    <a:pt x="2700" y="5040"/>
                  </a:cubicBezTo>
                  <a:cubicBezTo>
                    <a:pt x="2160" y="5400"/>
                    <a:pt x="2700" y="5400"/>
                    <a:pt x="2700" y="5760"/>
                  </a:cubicBezTo>
                  <a:cubicBezTo>
                    <a:pt x="2700" y="5400"/>
                    <a:pt x="1620" y="6480"/>
                    <a:pt x="1620" y="6480"/>
                  </a:cubicBezTo>
                  <a:cubicBezTo>
                    <a:pt x="1080" y="6480"/>
                    <a:pt x="0" y="6480"/>
                    <a:pt x="0" y="7200"/>
                  </a:cubicBezTo>
                  <a:cubicBezTo>
                    <a:pt x="540" y="7200"/>
                    <a:pt x="1080" y="6480"/>
                    <a:pt x="1620" y="6840"/>
                  </a:cubicBezTo>
                  <a:cubicBezTo>
                    <a:pt x="1620" y="7200"/>
                    <a:pt x="1620" y="7560"/>
                    <a:pt x="1620" y="7560"/>
                  </a:cubicBezTo>
                  <a:cubicBezTo>
                    <a:pt x="1080" y="7920"/>
                    <a:pt x="1080" y="8280"/>
                    <a:pt x="1080" y="8280"/>
                  </a:cubicBezTo>
                  <a:cubicBezTo>
                    <a:pt x="1080" y="8640"/>
                    <a:pt x="1620" y="7920"/>
                    <a:pt x="2160" y="7920"/>
                  </a:cubicBezTo>
                  <a:cubicBezTo>
                    <a:pt x="2160" y="7560"/>
                    <a:pt x="2700" y="8280"/>
                    <a:pt x="2700" y="8280"/>
                  </a:cubicBezTo>
                  <a:cubicBezTo>
                    <a:pt x="3240" y="8280"/>
                    <a:pt x="2700" y="6840"/>
                    <a:pt x="2160" y="6840"/>
                  </a:cubicBezTo>
                  <a:cubicBezTo>
                    <a:pt x="2700" y="6840"/>
                    <a:pt x="3780" y="7200"/>
                    <a:pt x="3780" y="6840"/>
                  </a:cubicBezTo>
                  <a:cubicBezTo>
                    <a:pt x="3780" y="6840"/>
                    <a:pt x="3240" y="7200"/>
                    <a:pt x="3240" y="7200"/>
                  </a:cubicBezTo>
                  <a:cubicBezTo>
                    <a:pt x="3240" y="7560"/>
                    <a:pt x="3780" y="7920"/>
                    <a:pt x="3780" y="8280"/>
                  </a:cubicBezTo>
                  <a:cubicBezTo>
                    <a:pt x="3780" y="8640"/>
                    <a:pt x="2160" y="9720"/>
                    <a:pt x="3780" y="9720"/>
                  </a:cubicBezTo>
                  <a:cubicBezTo>
                    <a:pt x="3780" y="9720"/>
                    <a:pt x="5400" y="9720"/>
                    <a:pt x="5940" y="9720"/>
                  </a:cubicBezTo>
                  <a:cubicBezTo>
                    <a:pt x="6480" y="9360"/>
                    <a:pt x="8100" y="9360"/>
                    <a:pt x="8100" y="9360"/>
                  </a:cubicBezTo>
                  <a:cubicBezTo>
                    <a:pt x="7560" y="10080"/>
                    <a:pt x="7020" y="10080"/>
                    <a:pt x="7560" y="10800"/>
                  </a:cubicBezTo>
                  <a:cubicBezTo>
                    <a:pt x="8100" y="11880"/>
                    <a:pt x="8100" y="11160"/>
                    <a:pt x="8640" y="11520"/>
                  </a:cubicBezTo>
                  <a:cubicBezTo>
                    <a:pt x="8640" y="11880"/>
                    <a:pt x="8100" y="12600"/>
                    <a:pt x="8640" y="12960"/>
                  </a:cubicBezTo>
                  <a:cubicBezTo>
                    <a:pt x="9180" y="13680"/>
                    <a:pt x="7560" y="13680"/>
                    <a:pt x="7020" y="13680"/>
                  </a:cubicBezTo>
                  <a:cubicBezTo>
                    <a:pt x="5940" y="14040"/>
                    <a:pt x="5400" y="13320"/>
                    <a:pt x="4320" y="14040"/>
                  </a:cubicBezTo>
                  <a:cubicBezTo>
                    <a:pt x="3780" y="14760"/>
                    <a:pt x="6480" y="14400"/>
                    <a:pt x="5940" y="14760"/>
                  </a:cubicBezTo>
                  <a:cubicBezTo>
                    <a:pt x="5940" y="14760"/>
                    <a:pt x="4860" y="15120"/>
                    <a:pt x="4860" y="15120"/>
                  </a:cubicBezTo>
                  <a:cubicBezTo>
                    <a:pt x="4860" y="15480"/>
                    <a:pt x="5400" y="15480"/>
                    <a:pt x="4860" y="15840"/>
                  </a:cubicBezTo>
                  <a:cubicBezTo>
                    <a:pt x="4320" y="16200"/>
                    <a:pt x="3780" y="16560"/>
                    <a:pt x="2700" y="16920"/>
                  </a:cubicBezTo>
                  <a:cubicBezTo>
                    <a:pt x="2160" y="17280"/>
                    <a:pt x="3240" y="17640"/>
                    <a:pt x="3240" y="17640"/>
                  </a:cubicBezTo>
                  <a:cubicBezTo>
                    <a:pt x="3780" y="17640"/>
                    <a:pt x="4860" y="17280"/>
                    <a:pt x="4860" y="17280"/>
                  </a:cubicBezTo>
                  <a:cubicBezTo>
                    <a:pt x="4860" y="17640"/>
                    <a:pt x="6480" y="17640"/>
                    <a:pt x="7020" y="18000"/>
                  </a:cubicBezTo>
                  <a:cubicBezTo>
                    <a:pt x="8100" y="18000"/>
                    <a:pt x="9180" y="17280"/>
                    <a:pt x="9720" y="17280"/>
                  </a:cubicBezTo>
                  <a:cubicBezTo>
                    <a:pt x="9720" y="17280"/>
                    <a:pt x="8640" y="19080"/>
                    <a:pt x="7020" y="18720"/>
                  </a:cubicBezTo>
                  <a:cubicBezTo>
                    <a:pt x="6480" y="18360"/>
                    <a:pt x="5940" y="18720"/>
                    <a:pt x="5400" y="18720"/>
                  </a:cubicBezTo>
                  <a:cubicBezTo>
                    <a:pt x="4320" y="18720"/>
                    <a:pt x="4860" y="18360"/>
                    <a:pt x="4320" y="18360"/>
                  </a:cubicBezTo>
                  <a:cubicBezTo>
                    <a:pt x="4320" y="18360"/>
                    <a:pt x="4320" y="19440"/>
                    <a:pt x="3780" y="19800"/>
                  </a:cubicBezTo>
                  <a:cubicBezTo>
                    <a:pt x="3780" y="19800"/>
                    <a:pt x="3240" y="20160"/>
                    <a:pt x="2700" y="20520"/>
                  </a:cubicBezTo>
                  <a:cubicBezTo>
                    <a:pt x="2700" y="20520"/>
                    <a:pt x="1620" y="20880"/>
                    <a:pt x="1620" y="21240"/>
                  </a:cubicBezTo>
                  <a:cubicBezTo>
                    <a:pt x="1620" y="21240"/>
                    <a:pt x="2700" y="21240"/>
                    <a:pt x="2700" y="21240"/>
                  </a:cubicBezTo>
                  <a:cubicBezTo>
                    <a:pt x="2700" y="21240"/>
                    <a:pt x="2160" y="21240"/>
                    <a:pt x="2700" y="21600"/>
                  </a:cubicBezTo>
                  <a:cubicBezTo>
                    <a:pt x="2700" y="21600"/>
                    <a:pt x="3780" y="20520"/>
                    <a:pt x="4320" y="20520"/>
                  </a:cubicBezTo>
                  <a:cubicBezTo>
                    <a:pt x="4860" y="20520"/>
                    <a:pt x="5940" y="20880"/>
                    <a:pt x="6480" y="20520"/>
                  </a:cubicBezTo>
                  <a:cubicBezTo>
                    <a:pt x="7560" y="20520"/>
                    <a:pt x="7020" y="19800"/>
                    <a:pt x="8100" y="19800"/>
                  </a:cubicBezTo>
                  <a:cubicBezTo>
                    <a:pt x="8640" y="19440"/>
                    <a:pt x="9180" y="19800"/>
                    <a:pt x="10260" y="19800"/>
                  </a:cubicBezTo>
                  <a:cubicBezTo>
                    <a:pt x="10800" y="20160"/>
                    <a:pt x="11340" y="19440"/>
                    <a:pt x="12420" y="19800"/>
                  </a:cubicBezTo>
                  <a:cubicBezTo>
                    <a:pt x="12960" y="20160"/>
                    <a:pt x="14040" y="19800"/>
                    <a:pt x="14580" y="19440"/>
                  </a:cubicBezTo>
                  <a:cubicBezTo>
                    <a:pt x="15660" y="19440"/>
                    <a:pt x="17280" y="19440"/>
                    <a:pt x="18360" y="19440"/>
                  </a:cubicBezTo>
                  <a:cubicBezTo>
                    <a:pt x="18360" y="19440"/>
                    <a:pt x="20520" y="18360"/>
                    <a:pt x="20520" y="18360"/>
                  </a:cubicBezTo>
                  <a:cubicBezTo>
                    <a:pt x="19980" y="18000"/>
                    <a:pt x="17820" y="18360"/>
                    <a:pt x="17820" y="18000"/>
                  </a:cubicBezTo>
                  <a:cubicBezTo>
                    <a:pt x="17820" y="17640"/>
                    <a:pt x="19980" y="16560"/>
                    <a:pt x="20520" y="16560"/>
                  </a:cubicBezTo>
                  <a:cubicBezTo>
                    <a:pt x="21060" y="15840"/>
                    <a:pt x="21600" y="14400"/>
                    <a:pt x="19440" y="14400"/>
                  </a:cubicBezTo>
                  <a:cubicBezTo>
                    <a:pt x="18900" y="14400"/>
                    <a:pt x="17820" y="14760"/>
                    <a:pt x="17280" y="14760"/>
                  </a:cubicBezTo>
                  <a:cubicBezTo>
                    <a:pt x="16200" y="14400"/>
                    <a:pt x="17280" y="14400"/>
                    <a:pt x="17280" y="14040"/>
                  </a:cubicBezTo>
                  <a:cubicBezTo>
                    <a:pt x="17280" y="13680"/>
                    <a:pt x="17280" y="13320"/>
                    <a:pt x="16740" y="12960"/>
                  </a:cubicBezTo>
                  <a:cubicBezTo>
                    <a:pt x="16740" y="12960"/>
                    <a:pt x="14580" y="12600"/>
                    <a:pt x="15120" y="12240"/>
                  </a:cubicBezTo>
                  <a:cubicBezTo>
                    <a:pt x="15120" y="12240"/>
                    <a:pt x="16200" y="12600"/>
                    <a:pt x="16200" y="12240"/>
                  </a:cubicBezTo>
                  <a:cubicBezTo>
                    <a:pt x="16740" y="11880"/>
                    <a:pt x="16200" y="11520"/>
                    <a:pt x="15660" y="11160"/>
                  </a:cubicBezTo>
                  <a:cubicBezTo>
                    <a:pt x="14040" y="10440"/>
                    <a:pt x="13500" y="10440"/>
                    <a:pt x="12420" y="9000"/>
                  </a:cubicBezTo>
                  <a:cubicBezTo>
                    <a:pt x="11880" y="8280"/>
                    <a:pt x="11340" y="7560"/>
                    <a:pt x="9720" y="6840"/>
                  </a:cubicBezTo>
                  <a:cubicBezTo>
                    <a:pt x="9180" y="6480"/>
                    <a:pt x="7020" y="7200"/>
                    <a:pt x="6480" y="6480"/>
                  </a:cubicBezTo>
                  <a:cubicBezTo>
                    <a:pt x="6480" y="6480"/>
                    <a:pt x="9720" y="6120"/>
                    <a:pt x="9180" y="5760"/>
                  </a:cubicBezTo>
                  <a:cubicBezTo>
                    <a:pt x="9180" y="5760"/>
                    <a:pt x="8100" y="6120"/>
                    <a:pt x="7560" y="5760"/>
                  </a:cubicBezTo>
                  <a:cubicBezTo>
                    <a:pt x="7560" y="5760"/>
                    <a:pt x="9720" y="5400"/>
                    <a:pt x="9720" y="5400"/>
                  </a:cubicBezTo>
                  <a:cubicBezTo>
                    <a:pt x="10260" y="5040"/>
                    <a:pt x="11880" y="3240"/>
                    <a:pt x="11340" y="2880"/>
                  </a:cubicBezTo>
                  <a:cubicBezTo>
                    <a:pt x="10800" y="2160"/>
                    <a:pt x="9180" y="2160"/>
                    <a:pt x="8100" y="2160"/>
                  </a:cubicBezTo>
                  <a:cubicBezTo>
                    <a:pt x="7560" y="2520"/>
                    <a:pt x="4860" y="2520"/>
                    <a:pt x="4860" y="2520"/>
                  </a:cubicBezTo>
                  <a:cubicBezTo>
                    <a:pt x="4860" y="2520"/>
                    <a:pt x="5940" y="2160"/>
                    <a:pt x="5940" y="2160"/>
                  </a:cubicBezTo>
                  <a:cubicBezTo>
                    <a:pt x="5940" y="2160"/>
                    <a:pt x="4860" y="1800"/>
                    <a:pt x="4860" y="2160"/>
                  </a:cubicBezTo>
                  <a:cubicBezTo>
                    <a:pt x="4860" y="1800"/>
                    <a:pt x="9720" y="360"/>
                    <a:pt x="8100" y="0"/>
                  </a:cubicBezTo>
                  <a:cubicBezTo>
                    <a:pt x="7560" y="0"/>
                    <a:pt x="9180" y="360"/>
                    <a:pt x="8100"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31" name="Shape 1045"/>
            <p:cNvSpPr/>
            <p:nvPr/>
          </p:nvSpPr>
          <p:spPr>
            <a:xfrm>
              <a:off x="7789320" y="2727000"/>
              <a:ext cx="209880" cy="99720"/>
            </a:xfrm>
            <a:custGeom>
              <a:avLst/>
              <a:gdLst/>
              <a:ahLst/>
              <a:rect l="l" t="t" r="r" b="b"/>
              <a:pathLst>
                <a:path w="21283" h="20769">
                  <a:moveTo>
                    <a:pt x="20883" y="7477"/>
                  </a:moveTo>
                  <a:cubicBezTo>
                    <a:pt x="20883" y="7477"/>
                    <a:pt x="19283" y="6646"/>
                    <a:pt x="19283" y="6646"/>
                  </a:cubicBezTo>
                  <a:cubicBezTo>
                    <a:pt x="19283" y="6646"/>
                    <a:pt x="19683" y="5815"/>
                    <a:pt x="19683" y="5815"/>
                  </a:cubicBezTo>
                  <a:cubicBezTo>
                    <a:pt x="19283" y="5815"/>
                    <a:pt x="18483" y="5815"/>
                    <a:pt x="18883" y="4984"/>
                  </a:cubicBezTo>
                  <a:cubicBezTo>
                    <a:pt x="18883" y="4984"/>
                    <a:pt x="19283" y="4154"/>
                    <a:pt x="19283" y="4154"/>
                  </a:cubicBezTo>
                  <a:cubicBezTo>
                    <a:pt x="18883" y="3323"/>
                    <a:pt x="18083" y="3323"/>
                    <a:pt x="18083" y="3323"/>
                  </a:cubicBezTo>
                  <a:cubicBezTo>
                    <a:pt x="18083" y="2492"/>
                    <a:pt x="18883" y="1661"/>
                    <a:pt x="18883" y="1661"/>
                  </a:cubicBezTo>
                  <a:cubicBezTo>
                    <a:pt x="18883" y="1661"/>
                    <a:pt x="17283" y="2492"/>
                    <a:pt x="16883" y="1661"/>
                  </a:cubicBezTo>
                  <a:cubicBezTo>
                    <a:pt x="16483" y="831"/>
                    <a:pt x="16083" y="0"/>
                    <a:pt x="15283" y="0"/>
                  </a:cubicBezTo>
                  <a:cubicBezTo>
                    <a:pt x="14883" y="0"/>
                    <a:pt x="15683" y="1661"/>
                    <a:pt x="15283" y="2492"/>
                  </a:cubicBezTo>
                  <a:cubicBezTo>
                    <a:pt x="14883" y="3323"/>
                    <a:pt x="14483" y="2492"/>
                    <a:pt x="14083" y="3323"/>
                  </a:cubicBezTo>
                  <a:cubicBezTo>
                    <a:pt x="13683" y="4154"/>
                    <a:pt x="13283" y="3323"/>
                    <a:pt x="12483" y="3323"/>
                  </a:cubicBezTo>
                  <a:cubicBezTo>
                    <a:pt x="11683" y="2492"/>
                    <a:pt x="12883" y="5815"/>
                    <a:pt x="12483" y="6646"/>
                  </a:cubicBezTo>
                  <a:cubicBezTo>
                    <a:pt x="12483" y="6646"/>
                    <a:pt x="10883" y="831"/>
                    <a:pt x="10083" y="3323"/>
                  </a:cubicBezTo>
                  <a:cubicBezTo>
                    <a:pt x="9683" y="3323"/>
                    <a:pt x="10083" y="4984"/>
                    <a:pt x="9683" y="5815"/>
                  </a:cubicBezTo>
                  <a:cubicBezTo>
                    <a:pt x="9683" y="6646"/>
                    <a:pt x="8483" y="3323"/>
                    <a:pt x="8083" y="3323"/>
                  </a:cubicBezTo>
                  <a:cubicBezTo>
                    <a:pt x="7683" y="3323"/>
                    <a:pt x="8883" y="6646"/>
                    <a:pt x="8083" y="6646"/>
                  </a:cubicBezTo>
                  <a:cubicBezTo>
                    <a:pt x="7683" y="6646"/>
                    <a:pt x="7683" y="6646"/>
                    <a:pt x="7283" y="6646"/>
                  </a:cubicBezTo>
                  <a:cubicBezTo>
                    <a:pt x="6883" y="6646"/>
                    <a:pt x="6483" y="8307"/>
                    <a:pt x="6483" y="9138"/>
                  </a:cubicBezTo>
                  <a:cubicBezTo>
                    <a:pt x="6483" y="8307"/>
                    <a:pt x="5283" y="6646"/>
                    <a:pt x="5283" y="5815"/>
                  </a:cubicBezTo>
                  <a:cubicBezTo>
                    <a:pt x="5283" y="5815"/>
                    <a:pt x="6083" y="5815"/>
                    <a:pt x="6083" y="5815"/>
                  </a:cubicBezTo>
                  <a:cubicBezTo>
                    <a:pt x="6083" y="4984"/>
                    <a:pt x="5283" y="3323"/>
                    <a:pt x="5283" y="3323"/>
                  </a:cubicBezTo>
                  <a:cubicBezTo>
                    <a:pt x="4883" y="3323"/>
                    <a:pt x="2883" y="-831"/>
                    <a:pt x="2483" y="831"/>
                  </a:cubicBezTo>
                  <a:cubicBezTo>
                    <a:pt x="2483" y="1661"/>
                    <a:pt x="3683" y="1661"/>
                    <a:pt x="3283" y="2492"/>
                  </a:cubicBezTo>
                  <a:cubicBezTo>
                    <a:pt x="3283" y="2492"/>
                    <a:pt x="3283" y="2492"/>
                    <a:pt x="2883" y="2492"/>
                  </a:cubicBezTo>
                  <a:cubicBezTo>
                    <a:pt x="3683" y="1661"/>
                    <a:pt x="4083" y="4984"/>
                    <a:pt x="3683" y="5815"/>
                  </a:cubicBezTo>
                  <a:cubicBezTo>
                    <a:pt x="3683" y="5815"/>
                    <a:pt x="483" y="0"/>
                    <a:pt x="1683" y="4154"/>
                  </a:cubicBezTo>
                  <a:cubicBezTo>
                    <a:pt x="1683" y="4154"/>
                    <a:pt x="883" y="4154"/>
                    <a:pt x="883" y="4154"/>
                  </a:cubicBezTo>
                  <a:cubicBezTo>
                    <a:pt x="883" y="4984"/>
                    <a:pt x="1683" y="4984"/>
                    <a:pt x="1683" y="4984"/>
                  </a:cubicBezTo>
                  <a:cubicBezTo>
                    <a:pt x="1683" y="4154"/>
                    <a:pt x="1683" y="5815"/>
                    <a:pt x="1683" y="5815"/>
                  </a:cubicBezTo>
                  <a:cubicBezTo>
                    <a:pt x="1683" y="5815"/>
                    <a:pt x="883" y="4984"/>
                    <a:pt x="483" y="4984"/>
                  </a:cubicBezTo>
                  <a:cubicBezTo>
                    <a:pt x="883" y="4984"/>
                    <a:pt x="-317" y="7477"/>
                    <a:pt x="83" y="6646"/>
                  </a:cubicBezTo>
                  <a:cubicBezTo>
                    <a:pt x="-317" y="8307"/>
                    <a:pt x="2883" y="7477"/>
                    <a:pt x="2883" y="7477"/>
                  </a:cubicBezTo>
                  <a:cubicBezTo>
                    <a:pt x="3283" y="7477"/>
                    <a:pt x="4883" y="8307"/>
                    <a:pt x="4883" y="8307"/>
                  </a:cubicBezTo>
                  <a:cubicBezTo>
                    <a:pt x="4483" y="8307"/>
                    <a:pt x="4083" y="8307"/>
                    <a:pt x="4083" y="9138"/>
                  </a:cubicBezTo>
                  <a:cubicBezTo>
                    <a:pt x="4083" y="9138"/>
                    <a:pt x="4483" y="9969"/>
                    <a:pt x="4483" y="9969"/>
                  </a:cubicBezTo>
                  <a:cubicBezTo>
                    <a:pt x="4083" y="10800"/>
                    <a:pt x="3283" y="10800"/>
                    <a:pt x="2883" y="10800"/>
                  </a:cubicBezTo>
                  <a:cubicBezTo>
                    <a:pt x="2883" y="10800"/>
                    <a:pt x="483" y="11631"/>
                    <a:pt x="883" y="11631"/>
                  </a:cubicBezTo>
                  <a:cubicBezTo>
                    <a:pt x="1683" y="12461"/>
                    <a:pt x="2883" y="11631"/>
                    <a:pt x="3683" y="12461"/>
                  </a:cubicBezTo>
                  <a:cubicBezTo>
                    <a:pt x="4083" y="13292"/>
                    <a:pt x="4083" y="14123"/>
                    <a:pt x="4483" y="14123"/>
                  </a:cubicBezTo>
                  <a:cubicBezTo>
                    <a:pt x="4483" y="14123"/>
                    <a:pt x="5283" y="13292"/>
                    <a:pt x="5683" y="13292"/>
                  </a:cubicBezTo>
                  <a:cubicBezTo>
                    <a:pt x="5283" y="13292"/>
                    <a:pt x="4883" y="14123"/>
                    <a:pt x="4883" y="14123"/>
                  </a:cubicBezTo>
                  <a:cubicBezTo>
                    <a:pt x="4883" y="14954"/>
                    <a:pt x="5683" y="14123"/>
                    <a:pt x="5683" y="14123"/>
                  </a:cubicBezTo>
                  <a:cubicBezTo>
                    <a:pt x="6083" y="14954"/>
                    <a:pt x="2883" y="18277"/>
                    <a:pt x="3683" y="18277"/>
                  </a:cubicBezTo>
                  <a:cubicBezTo>
                    <a:pt x="4483" y="19107"/>
                    <a:pt x="5283" y="18277"/>
                    <a:pt x="5683" y="18277"/>
                  </a:cubicBezTo>
                  <a:cubicBezTo>
                    <a:pt x="6483" y="18277"/>
                    <a:pt x="7283" y="18277"/>
                    <a:pt x="8083" y="19107"/>
                  </a:cubicBezTo>
                  <a:cubicBezTo>
                    <a:pt x="7683" y="18277"/>
                    <a:pt x="7683" y="19107"/>
                    <a:pt x="7683" y="19107"/>
                  </a:cubicBezTo>
                  <a:cubicBezTo>
                    <a:pt x="8083" y="19938"/>
                    <a:pt x="8483" y="19938"/>
                    <a:pt x="8483" y="19938"/>
                  </a:cubicBezTo>
                  <a:cubicBezTo>
                    <a:pt x="9283" y="20769"/>
                    <a:pt x="10483" y="20769"/>
                    <a:pt x="11283" y="20769"/>
                  </a:cubicBezTo>
                  <a:cubicBezTo>
                    <a:pt x="12083" y="20769"/>
                    <a:pt x="12083" y="19938"/>
                    <a:pt x="12883" y="19938"/>
                  </a:cubicBezTo>
                  <a:cubicBezTo>
                    <a:pt x="13683" y="19107"/>
                    <a:pt x="14483" y="19107"/>
                    <a:pt x="15283" y="18277"/>
                  </a:cubicBezTo>
                  <a:cubicBezTo>
                    <a:pt x="16483" y="16615"/>
                    <a:pt x="16883" y="15784"/>
                    <a:pt x="18083" y="14954"/>
                  </a:cubicBezTo>
                  <a:cubicBezTo>
                    <a:pt x="18883" y="14954"/>
                    <a:pt x="19283" y="12461"/>
                    <a:pt x="20483" y="12461"/>
                  </a:cubicBezTo>
                  <a:cubicBezTo>
                    <a:pt x="20483" y="11631"/>
                    <a:pt x="20883" y="11631"/>
                    <a:pt x="20483" y="10800"/>
                  </a:cubicBezTo>
                  <a:cubicBezTo>
                    <a:pt x="20083" y="9969"/>
                    <a:pt x="20883" y="9969"/>
                    <a:pt x="21283" y="9969"/>
                  </a:cubicBezTo>
                  <a:cubicBezTo>
                    <a:pt x="21283" y="9969"/>
                    <a:pt x="20483" y="9138"/>
                    <a:pt x="20483" y="9138"/>
                  </a:cubicBezTo>
                  <a:cubicBezTo>
                    <a:pt x="20483" y="8307"/>
                    <a:pt x="21283" y="7477"/>
                    <a:pt x="20883" y="7477"/>
                  </a:cubicBezTo>
                  <a:cubicBezTo>
                    <a:pt x="20083" y="6646"/>
                    <a:pt x="21283" y="7477"/>
                    <a:pt x="20883" y="747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32" name="Shape 1046"/>
            <p:cNvSpPr/>
            <p:nvPr/>
          </p:nvSpPr>
          <p:spPr>
            <a:xfrm>
              <a:off x="9276120" y="2345760"/>
              <a:ext cx="349920" cy="242280"/>
            </a:xfrm>
            <a:custGeom>
              <a:avLst/>
              <a:gdLst/>
              <a:ahLst/>
              <a:rect l="l" t="t" r="r" b="b"/>
              <a:pathLst>
                <a:path w="21251" h="21339">
                  <a:moveTo>
                    <a:pt x="20160" y="87"/>
                  </a:moveTo>
                  <a:cubicBezTo>
                    <a:pt x="19440" y="87"/>
                    <a:pt x="19200" y="-261"/>
                    <a:pt x="18480" y="436"/>
                  </a:cubicBezTo>
                  <a:cubicBezTo>
                    <a:pt x="18240" y="436"/>
                    <a:pt x="17280" y="784"/>
                    <a:pt x="17520" y="1133"/>
                  </a:cubicBezTo>
                  <a:cubicBezTo>
                    <a:pt x="17280" y="1133"/>
                    <a:pt x="16320" y="1829"/>
                    <a:pt x="15840" y="1829"/>
                  </a:cubicBezTo>
                  <a:cubicBezTo>
                    <a:pt x="15360" y="1829"/>
                    <a:pt x="14640" y="2178"/>
                    <a:pt x="14160" y="2526"/>
                  </a:cubicBezTo>
                  <a:cubicBezTo>
                    <a:pt x="13440" y="2526"/>
                    <a:pt x="12960" y="2526"/>
                    <a:pt x="12240" y="2526"/>
                  </a:cubicBezTo>
                  <a:cubicBezTo>
                    <a:pt x="12240" y="2526"/>
                    <a:pt x="10800" y="2526"/>
                    <a:pt x="11040" y="2874"/>
                  </a:cubicBezTo>
                  <a:cubicBezTo>
                    <a:pt x="11040" y="2874"/>
                    <a:pt x="11520" y="2874"/>
                    <a:pt x="11520" y="2874"/>
                  </a:cubicBezTo>
                  <a:cubicBezTo>
                    <a:pt x="11280" y="3223"/>
                    <a:pt x="10800" y="3223"/>
                    <a:pt x="10560" y="3571"/>
                  </a:cubicBezTo>
                  <a:cubicBezTo>
                    <a:pt x="10320" y="3571"/>
                    <a:pt x="9840" y="3571"/>
                    <a:pt x="9360" y="3571"/>
                  </a:cubicBezTo>
                  <a:cubicBezTo>
                    <a:pt x="9120" y="3571"/>
                    <a:pt x="9120" y="3571"/>
                    <a:pt x="8640" y="3920"/>
                  </a:cubicBezTo>
                  <a:cubicBezTo>
                    <a:pt x="8400" y="4965"/>
                    <a:pt x="8160" y="4616"/>
                    <a:pt x="7680" y="4616"/>
                  </a:cubicBezTo>
                  <a:cubicBezTo>
                    <a:pt x="7200" y="4965"/>
                    <a:pt x="7440" y="5662"/>
                    <a:pt x="6720" y="5662"/>
                  </a:cubicBezTo>
                  <a:cubicBezTo>
                    <a:pt x="6240" y="5662"/>
                    <a:pt x="6480" y="6358"/>
                    <a:pt x="6240" y="6358"/>
                  </a:cubicBezTo>
                  <a:cubicBezTo>
                    <a:pt x="6000" y="6707"/>
                    <a:pt x="5280" y="6010"/>
                    <a:pt x="5520" y="6358"/>
                  </a:cubicBezTo>
                  <a:cubicBezTo>
                    <a:pt x="5520" y="6707"/>
                    <a:pt x="6240" y="7055"/>
                    <a:pt x="6240" y="7055"/>
                  </a:cubicBezTo>
                  <a:cubicBezTo>
                    <a:pt x="6240" y="7055"/>
                    <a:pt x="5280" y="7404"/>
                    <a:pt x="5280" y="7404"/>
                  </a:cubicBezTo>
                  <a:cubicBezTo>
                    <a:pt x="5280" y="7752"/>
                    <a:pt x="6480" y="7752"/>
                    <a:pt x="6480" y="7752"/>
                  </a:cubicBezTo>
                  <a:cubicBezTo>
                    <a:pt x="6480" y="8100"/>
                    <a:pt x="4800" y="8100"/>
                    <a:pt x="5040" y="8449"/>
                  </a:cubicBezTo>
                  <a:cubicBezTo>
                    <a:pt x="5040" y="8100"/>
                    <a:pt x="5520" y="8449"/>
                    <a:pt x="5520" y="8449"/>
                  </a:cubicBezTo>
                  <a:cubicBezTo>
                    <a:pt x="5040" y="8797"/>
                    <a:pt x="4800" y="8449"/>
                    <a:pt x="4800" y="8797"/>
                  </a:cubicBezTo>
                  <a:cubicBezTo>
                    <a:pt x="4560" y="9145"/>
                    <a:pt x="5040" y="9494"/>
                    <a:pt x="5040" y="9494"/>
                  </a:cubicBezTo>
                  <a:cubicBezTo>
                    <a:pt x="4800" y="9494"/>
                    <a:pt x="4560" y="9494"/>
                    <a:pt x="4320" y="9494"/>
                  </a:cubicBezTo>
                  <a:cubicBezTo>
                    <a:pt x="4320" y="9494"/>
                    <a:pt x="4800" y="9842"/>
                    <a:pt x="5040" y="9842"/>
                  </a:cubicBezTo>
                  <a:cubicBezTo>
                    <a:pt x="4560" y="9842"/>
                    <a:pt x="4320" y="9842"/>
                    <a:pt x="4080" y="10191"/>
                  </a:cubicBezTo>
                  <a:cubicBezTo>
                    <a:pt x="3840" y="10539"/>
                    <a:pt x="3600" y="10539"/>
                    <a:pt x="3360" y="10539"/>
                  </a:cubicBezTo>
                  <a:cubicBezTo>
                    <a:pt x="2880" y="10887"/>
                    <a:pt x="2880" y="11236"/>
                    <a:pt x="3360" y="11236"/>
                  </a:cubicBezTo>
                  <a:cubicBezTo>
                    <a:pt x="3600" y="11236"/>
                    <a:pt x="4320" y="11584"/>
                    <a:pt x="4560" y="11584"/>
                  </a:cubicBezTo>
                  <a:cubicBezTo>
                    <a:pt x="4080" y="11933"/>
                    <a:pt x="3600" y="11236"/>
                    <a:pt x="3600" y="12281"/>
                  </a:cubicBezTo>
                  <a:cubicBezTo>
                    <a:pt x="3600" y="12629"/>
                    <a:pt x="2400" y="12629"/>
                    <a:pt x="2160" y="12978"/>
                  </a:cubicBezTo>
                  <a:cubicBezTo>
                    <a:pt x="1920" y="13326"/>
                    <a:pt x="2160" y="13326"/>
                    <a:pt x="2160" y="13674"/>
                  </a:cubicBezTo>
                  <a:cubicBezTo>
                    <a:pt x="2160" y="13674"/>
                    <a:pt x="1440" y="14023"/>
                    <a:pt x="1440" y="14023"/>
                  </a:cubicBezTo>
                  <a:cubicBezTo>
                    <a:pt x="480" y="14371"/>
                    <a:pt x="1680" y="14371"/>
                    <a:pt x="1680" y="14720"/>
                  </a:cubicBezTo>
                  <a:cubicBezTo>
                    <a:pt x="1920" y="15068"/>
                    <a:pt x="1200" y="16113"/>
                    <a:pt x="1200" y="16113"/>
                  </a:cubicBezTo>
                  <a:cubicBezTo>
                    <a:pt x="720" y="16810"/>
                    <a:pt x="0" y="16113"/>
                    <a:pt x="0" y="17507"/>
                  </a:cubicBezTo>
                  <a:cubicBezTo>
                    <a:pt x="0" y="18900"/>
                    <a:pt x="480" y="18204"/>
                    <a:pt x="960" y="18204"/>
                  </a:cubicBezTo>
                  <a:cubicBezTo>
                    <a:pt x="1440" y="18552"/>
                    <a:pt x="1680" y="18900"/>
                    <a:pt x="2160" y="18552"/>
                  </a:cubicBezTo>
                  <a:cubicBezTo>
                    <a:pt x="2160" y="18552"/>
                    <a:pt x="2640" y="19249"/>
                    <a:pt x="2880" y="18900"/>
                  </a:cubicBezTo>
                  <a:cubicBezTo>
                    <a:pt x="2880" y="18900"/>
                    <a:pt x="2400" y="18900"/>
                    <a:pt x="2400" y="19249"/>
                  </a:cubicBezTo>
                  <a:cubicBezTo>
                    <a:pt x="2640" y="19249"/>
                    <a:pt x="2880" y="19249"/>
                    <a:pt x="2880" y="19249"/>
                  </a:cubicBezTo>
                  <a:cubicBezTo>
                    <a:pt x="2880" y="19249"/>
                    <a:pt x="2400" y="20642"/>
                    <a:pt x="2400" y="20642"/>
                  </a:cubicBezTo>
                  <a:cubicBezTo>
                    <a:pt x="2880" y="20991"/>
                    <a:pt x="3360" y="20991"/>
                    <a:pt x="3840" y="21339"/>
                  </a:cubicBezTo>
                  <a:cubicBezTo>
                    <a:pt x="4560" y="21339"/>
                    <a:pt x="4800" y="21339"/>
                    <a:pt x="5520" y="21339"/>
                  </a:cubicBezTo>
                  <a:cubicBezTo>
                    <a:pt x="5760" y="20991"/>
                    <a:pt x="6000" y="20991"/>
                    <a:pt x="6240" y="20991"/>
                  </a:cubicBezTo>
                  <a:cubicBezTo>
                    <a:pt x="6480" y="21339"/>
                    <a:pt x="6720" y="21339"/>
                    <a:pt x="7200" y="21339"/>
                  </a:cubicBezTo>
                  <a:cubicBezTo>
                    <a:pt x="7440" y="21339"/>
                    <a:pt x="6480" y="20294"/>
                    <a:pt x="6240" y="20294"/>
                  </a:cubicBezTo>
                  <a:cubicBezTo>
                    <a:pt x="5760" y="19597"/>
                    <a:pt x="5520" y="18900"/>
                    <a:pt x="5280" y="18204"/>
                  </a:cubicBezTo>
                  <a:cubicBezTo>
                    <a:pt x="4800" y="17507"/>
                    <a:pt x="5040" y="17158"/>
                    <a:pt x="4800" y="16462"/>
                  </a:cubicBezTo>
                  <a:cubicBezTo>
                    <a:pt x="4560" y="15416"/>
                    <a:pt x="4320" y="15416"/>
                    <a:pt x="4800" y="14720"/>
                  </a:cubicBezTo>
                  <a:cubicBezTo>
                    <a:pt x="5040" y="14720"/>
                    <a:pt x="4800" y="14720"/>
                    <a:pt x="4800" y="14371"/>
                  </a:cubicBezTo>
                  <a:cubicBezTo>
                    <a:pt x="5040" y="14023"/>
                    <a:pt x="5760" y="14371"/>
                    <a:pt x="5760" y="14023"/>
                  </a:cubicBezTo>
                  <a:cubicBezTo>
                    <a:pt x="5760" y="14023"/>
                    <a:pt x="5280" y="13674"/>
                    <a:pt x="5280" y="13674"/>
                  </a:cubicBezTo>
                  <a:cubicBezTo>
                    <a:pt x="5520" y="13326"/>
                    <a:pt x="6240" y="13674"/>
                    <a:pt x="6240" y="13326"/>
                  </a:cubicBezTo>
                  <a:cubicBezTo>
                    <a:pt x="6240" y="12978"/>
                    <a:pt x="5040" y="12629"/>
                    <a:pt x="5040" y="12281"/>
                  </a:cubicBezTo>
                  <a:cubicBezTo>
                    <a:pt x="5040" y="12281"/>
                    <a:pt x="6960" y="12629"/>
                    <a:pt x="6960" y="12629"/>
                  </a:cubicBezTo>
                  <a:cubicBezTo>
                    <a:pt x="6960" y="12281"/>
                    <a:pt x="6480" y="11933"/>
                    <a:pt x="6480" y="11584"/>
                  </a:cubicBezTo>
                  <a:cubicBezTo>
                    <a:pt x="6480" y="11236"/>
                    <a:pt x="7200" y="11933"/>
                    <a:pt x="7440" y="11584"/>
                  </a:cubicBezTo>
                  <a:cubicBezTo>
                    <a:pt x="7440" y="11236"/>
                    <a:pt x="6480" y="10539"/>
                    <a:pt x="6480" y="10887"/>
                  </a:cubicBezTo>
                  <a:cubicBezTo>
                    <a:pt x="6480" y="10539"/>
                    <a:pt x="7440" y="11236"/>
                    <a:pt x="7680" y="10887"/>
                  </a:cubicBezTo>
                  <a:cubicBezTo>
                    <a:pt x="7680" y="10887"/>
                    <a:pt x="7920" y="10539"/>
                    <a:pt x="7680" y="10539"/>
                  </a:cubicBezTo>
                  <a:cubicBezTo>
                    <a:pt x="7680" y="10539"/>
                    <a:pt x="7200" y="9842"/>
                    <a:pt x="7200" y="9842"/>
                  </a:cubicBezTo>
                  <a:cubicBezTo>
                    <a:pt x="7680" y="9842"/>
                    <a:pt x="7920" y="10191"/>
                    <a:pt x="8400" y="9842"/>
                  </a:cubicBezTo>
                  <a:cubicBezTo>
                    <a:pt x="8400" y="9494"/>
                    <a:pt x="8880" y="9145"/>
                    <a:pt x="8880" y="9145"/>
                  </a:cubicBezTo>
                  <a:cubicBezTo>
                    <a:pt x="8880" y="8797"/>
                    <a:pt x="8400" y="8797"/>
                    <a:pt x="8400" y="8797"/>
                  </a:cubicBezTo>
                  <a:cubicBezTo>
                    <a:pt x="8640" y="8797"/>
                    <a:pt x="9360" y="8797"/>
                    <a:pt x="9360" y="8100"/>
                  </a:cubicBezTo>
                  <a:cubicBezTo>
                    <a:pt x="9360" y="7404"/>
                    <a:pt x="9840" y="8449"/>
                    <a:pt x="10080" y="8100"/>
                  </a:cubicBezTo>
                  <a:cubicBezTo>
                    <a:pt x="10080" y="8100"/>
                    <a:pt x="9840" y="7752"/>
                    <a:pt x="9840" y="7752"/>
                  </a:cubicBezTo>
                  <a:cubicBezTo>
                    <a:pt x="10080" y="7404"/>
                    <a:pt x="10800" y="7752"/>
                    <a:pt x="10800" y="7404"/>
                  </a:cubicBezTo>
                  <a:cubicBezTo>
                    <a:pt x="11040" y="7055"/>
                    <a:pt x="10800" y="6707"/>
                    <a:pt x="10560" y="6707"/>
                  </a:cubicBezTo>
                  <a:cubicBezTo>
                    <a:pt x="11760" y="6010"/>
                    <a:pt x="12720" y="5313"/>
                    <a:pt x="13920" y="4965"/>
                  </a:cubicBezTo>
                  <a:cubicBezTo>
                    <a:pt x="14640" y="4616"/>
                    <a:pt x="15600" y="4268"/>
                    <a:pt x="16320" y="3920"/>
                  </a:cubicBezTo>
                  <a:cubicBezTo>
                    <a:pt x="17520" y="3571"/>
                    <a:pt x="18480" y="3223"/>
                    <a:pt x="19440" y="2526"/>
                  </a:cubicBezTo>
                  <a:cubicBezTo>
                    <a:pt x="19920" y="2526"/>
                    <a:pt x="20640" y="1829"/>
                    <a:pt x="21120" y="1133"/>
                  </a:cubicBezTo>
                  <a:cubicBezTo>
                    <a:pt x="21600" y="436"/>
                    <a:pt x="20640" y="87"/>
                    <a:pt x="20160" y="87"/>
                  </a:cubicBezTo>
                  <a:cubicBezTo>
                    <a:pt x="19680" y="87"/>
                    <a:pt x="20640" y="87"/>
                    <a:pt x="20160" y="8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33" name="Shape 1047"/>
            <p:cNvSpPr/>
            <p:nvPr/>
          </p:nvSpPr>
          <p:spPr>
            <a:xfrm>
              <a:off x="10192320" y="2240280"/>
              <a:ext cx="117360" cy="62280"/>
            </a:xfrm>
            <a:custGeom>
              <a:avLst/>
              <a:gdLst/>
              <a:ahLst/>
              <a:rect l="l" t="t" r="r" b="b"/>
              <a:pathLst>
                <a:path w="20040" h="21262">
                  <a:moveTo>
                    <a:pt x="10232" y="8100"/>
                  </a:moveTo>
                  <a:cubicBezTo>
                    <a:pt x="10232" y="8100"/>
                    <a:pt x="12257" y="2700"/>
                    <a:pt x="12257" y="1350"/>
                  </a:cubicBezTo>
                  <a:cubicBezTo>
                    <a:pt x="11582" y="0"/>
                    <a:pt x="10907" y="0"/>
                    <a:pt x="10232" y="0"/>
                  </a:cubicBezTo>
                  <a:cubicBezTo>
                    <a:pt x="9557" y="0"/>
                    <a:pt x="9557" y="2700"/>
                    <a:pt x="9557" y="2700"/>
                  </a:cubicBezTo>
                  <a:cubicBezTo>
                    <a:pt x="8207" y="2700"/>
                    <a:pt x="7532" y="0"/>
                    <a:pt x="6182" y="2700"/>
                  </a:cubicBezTo>
                  <a:cubicBezTo>
                    <a:pt x="6182" y="2700"/>
                    <a:pt x="4832" y="4050"/>
                    <a:pt x="5507" y="5400"/>
                  </a:cubicBezTo>
                  <a:cubicBezTo>
                    <a:pt x="6182" y="5400"/>
                    <a:pt x="6857" y="6750"/>
                    <a:pt x="7532" y="5400"/>
                  </a:cubicBezTo>
                  <a:cubicBezTo>
                    <a:pt x="6182" y="6750"/>
                    <a:pt x="2807" y="8100"/>
                    <a:pt x="6182" y="10800"/>
                  </a:cubicBezTo>
                  <a:cubicBezTo>
                    <a:pt x="4157" y="9450"/>
                    <a:pt x="3482" y="10800"/>
                    <a:pt x="2807" y="13500"/>
                  </a:cubicBezTo>
                  <a:cubicBezTo>
                    <a:pt x="2132" y="14850"/>
                    <a:pt x="-568" y="20250"/>
                    <a:pt x="107" y="20250"/>
                  </a:cubicBezTo>
                  <a:cubicBezTo>
                    <a:pt x="1457" y="21600"/>
                    <a:pt x="3482" y="21600"/>
                    <a:pt x="4832" y="20250"/>
                  </a:cubicBezTo>
                  <a:cubicBezTo>
                    <a:pt x="6857" y="17550"/>
                    <a:pt x="8882" y="17550"/>
                    <a:pt x="10907" y="18900"/>
                  </a:cubicBezTo>
                  <a:cubicBezTo>
                    <a:pt x="13607" y="18900"/>
                    <a:pt x="15632" y="17550"/>
                    <a:pt x="18332" y="16200"/>
                  </a:cubicBezTo>
                  <a:cubicBezTo>
                    <a:pt x="19682" y="14850"/>
                    <a:pt x="21032" y="10800"/>
                    <a:pt x="19007" y="9450"/>
                  </a:cubicBezTo>
                  <a:cubicBezTo>
                    <a:pt x="17657" y="8100"/>
                    <a:pt x="15632" y="2700"/>
                    <a:pt x="14282" y="4050"/>
                  </a:cubicBezTo>
                  <a:cubicBezTo>
                    <a:pt x="12932" y="4050"/>
                    <a:pt x="11582" y="8100"/>
                    <a:pt x="10232" y="8100"/>
                  </a:cubicBezTo>
                  <a:cubicBezTo>
                    <a:pt x="9557" y="8100"/>
                    <a:pt x="10907" y="8100"/>
                    <a:pt x="10232" y="8100"/>
                  </a:cubicBezTo>
                  <a:close/>
                </a:path>
              </a:pathLst>
            </a:custGeom>
            <a:solidFill>
              <a:srgbClr val="dadbdf"/>
            </a:solidFill>
            <a:ln w="4680">
              <a:solidFill>
                <a:srgbClr val="ffffff"/>
              </a:solidFill>
              <a:round/>
            </a:ln>
          </p:spPr>
          <p:style>
            <a:lnRef idx="0"/>
            <a:fillRef idx="0"/>
            <a:effectRef idx="0"/>
            <a:fontRef idx="minor"/>
          </p:style>
          <p:txBody>
            <a:bodyPr lIns="45360" rIns="45360" tIns="15480" bIns="15480" anchor="t">
              <a:noAutofit/>
            </a:bodyPr>
            <a:p>
              <a:endParaRPr b="0" lang="en-US" sz="1800" spc="-1" strike="noStrike">
                <a:solidFill>
                  <a:srgbClr val="000000"/>
                </a:solidFill>
                <a:latin typeface="Calibri"/>
              </a:endParaRPr>
            </a:p>
          </p:txBody>
        </p:sp>
        <p:sp>
          <p:nvSpPr>
            <p:cNvPr id="434" name="Shape 1048"/>
            <p:cNvSpPr/>
            <p:nvPr/>
          </p:nvSpPr>
          <p:spPr>
            <a:xfrm>
              <a:off x="10086480" y="2206080"/>
              <a:ext cx="114480" cy="60840"/>
            </a:xfrm>
            <a:custGeom>
              <a:avLst/>
              <a:gdLst/>
              <a:ahLst/>
              <a:rect l="l" t="t" r="r" b="b"/>
              <a:pathLst>
                <a:path w="20880" h="20850">
                  <a:moveTo>
                    <a:pt x="18720" y="12750"/>
                  </a:moveTo>
                  <a:cubicBezTo>
                    <a:pt x="20880" y="14100"/>
                    <a:pt x="19440" y="11400"/>
                    <a:pt x="20160" y="8700"/>
                  </a:cubicBezTo>
                  <a:cubicBezTo>
                    <a:pt x="20160" y="7350"/>
                    <a:pt x="20880" y="7350"/>
                    <a:pt x="20880" y="6000"/>
                  </a:cubicBezTo>
                  <a:cubicBezTo>
                    <a:pt x="20880" y="4650"/>
                    <a:pt x="19440" y="3300"/>
                    <a:pt x="18720" y="3300"/>
                  </a:cubicBezTo>
                  <a:cubicBezTo>
                    <a:pt x="18000" y="1950"/>
                    <a:pt x="16560" y="1950"/>
                    <a:pt x="15840" y="3300"/>
                  </a:cubicBezTo>
                  <a:cubicBezTo>
                    <a:pt x="15840" y="3300"/>
                    <a:pt x="12240" y="4650"/>
                    <a:pt x="12240" y="4650"/>
                  </a:cubicBezTo>
                  <a:cubicBezTo>
                    <a:pt x="12240" y="4650"/>
                    <a:pt x="15120" y="1950"/>
                    <a:pt x="12960" y="600"/>
                  </a:cubicBezTo>
                  <a:cubicBezTo>
                    <a:pt x="11520" y="-750"/>
                    <a:pt x="10080" y="600"/>
                    <a:pt x="8640" y="600"/>
                  </a:cubicBezTo>
                  <a:cubicBezTo>
                    <a:pt x="7920" y="600"/>
                    <a:pt x="4320" y="1950"/>
                    <a:pt x="3600" y="4650"/>
                  </a:cubicBezTo>
                  <a:cubicBezTo>
                    <a:pt x="3600" y="4650"/>
                    <a:pt x="5040" y="4650"/>
                    <a:pt x="5040" y="4650"/>
                  </a:cubicBezTo>
                  <a:cubicBezTo>
                    <a:pt x="5040" y="4650"/>
                    <a:pt x="0" y="8700"/>
                    <a:pt x="0" y="10050"/>
                  </a:cubicBezTo>
                  <a:cubicBezTo>
                    <a:pt x="0" y="10050"/>
                    <a:pt x="2880" y="11400"/>
                    <a:pt x="2880" y="11400"/>
                  </a:cubicBezTo>
                  <a:cubicBezTo>
                    <a:pt x="3600" y="11400"/>
                    <a:pt x="4320" y="14100"/>
                    <a:pt x="5040" y="15450"/>
                  </a:cubicBezTo>
                  <a:cubicBezTo>
                    <a:pt x="6480" y="16800"/>
                    <a:pt x="7200" y="16800"/>
                    <a:pt x="8640" y="16800"/>
                  </a:cubicBezTo>
                  <a:cubicBezTo>
                    <a:pt x="10080" y="18150"/>
                    <a:pt x="12240" y="20850"/>
                    <a:pt x="13680" y="20850"/>
                  </a:cubicBezTo>
                  <a:cubicBezTo>
                    <a:pt x="15840" y="20850"/>
                    <a:pt x="18000" y="20850"/>
                    <a:pt x="20160" y="19500"/>
                  </a:cubicBezTo>
                  <a:cubicBezTo>
                    <a:pt x="21600" y="19500"/>
                    <a:pt x="18720" y="12750"/>
                    <a:pt x="18720" y="12750"/>
                  </a:cubicBezTo>
                  <a:cubicBezTo>
                    <a:pt x="19440" y="12750"/>
                    <a:pt x="18000" y="12750"/>
                    <a:pt x="18720" y="1275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435" name="Shape 1049"/>
            <p:cNvSpPr/>
            <p:nvPr/>
          </p:nvSpPr>
          <p:spPr>
            <a:xfrm>
              <a:off x="10051560" y="2210400"/>
              <a:ext cx="45000" cy="17640"/>
            </a:xfrm>
            <a:custGeom>
              <a:avLst/>
              <a:gdLst/>
              <a:ahLst/>
              <a:rect l="l" t="t" r="r" b="b"/>
              <a:pathLst>
                <a:path w="16386" h="19200">
                  <a:moveTo>
                    <a:pt x="12960" y="1920"/>
                  </a:moveTo>
                  <a:cubicBezTo>
                    <a:pt x="11520" y="1920"/>
                    <a:pt x="8640" y="1920"/>
                    <a:pt x="5760" y="1920"/>
                  </a:cubicBezTo>
                  <a:cubicBezTo>
                    <a:pt x="4320" y="1920"/>
                    <a:pt x="1440" y="-2400"/>
                    <a:pt x="0" y="1920"/>
                  </a:cubicBezTo>
                  <a:cubicBezTo>
                    <a:pt x="0" y="1920"/>
                    <a:pt x="0" y="10560"/>
                    <a:pt x="1440" y="10560"/>
                  </a:cubicBezTo>
                  <a:cubicBezTo>
                    <a:pt x="4320" y="14880"/>
                    <a:pt x="5760" y="19200"/>
                    <a:pt x="8640" y="19200"/>
                  </a:cubicBezTo>
                  <a:cubicBezTo>
                    <a:pt x="11520" y="19200"/>
                    <a:pt x="21600" y="6240"/>
                    <a:pt x="12960" y="1920"/>
                  </a:cubicBezTo>
                  <a:cubicBezTo>
                    <a:pt x="11520" y="1920"/>
                    <a:pt x="14400" y="6240"/>
                    <a:pt x="12960" y="192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436" name="Shape 1050"/>
            <p:cNvSpPr/>
            <p:nvPr/>
          </p:nvSpPr>
          <p:spPr>
            <a:xfrm>
              <a:off x="10062360" y="2152800"/>
              <a:ext cx="99720" cy="60480"/>
            </a:xfrm>
            <a:custGeom>
              <a:avLst/>
              <a:gdLst/>
              <a:ahLst/>
              <a:rect l="l" t="t" r="r" b="b"/>
              <a:pathLst>
                <a:path w="21600" h="20640">
                  <a:moveTo>
                    <a:pt x="6048" y="20250"/>
                  </a:moveTo>
                  <a:cubicBezTo>
                    <a:pt x="5184" y="18900"/>
                    <a:pt x="3456" y="18900"/>
                    <a:pt x="2592" y="17550"/>
                  </a:cubicBezTo>
                  <a:cubicBezTo>
                    <a:pt x="1728" y="16200"/>
                    <a:pt x="3456" y="16200"/>
                    <a:pt x="3456" y="16200"/>
                  </a:cubicBezTo>
                  <a:cubicBezTo>
                    <a:pt x="3456" y="16200"/>
                    <a:pt x="0" y="17550"/>
                    <a:pt x="0" y="16200"/>
                  </a:cubicBezTo>
                  <a:cubicBezTo>
                    <a:pt x="0" y="13500"/>
                    <a:pt x="2592" y="14850"/>
                    <a:pt x="2592" y="14850"/>
                  </a:cubicBezTo>
                  <a:cubicBezTo>
                    <a:pt x="2592" y="13500"/>
                    <a:pt x="1728" y="13500"/>
                    <a:pt x="1728" y="13500"/>
                  </a:cubicBezTo>
                  <a:cubicBezTo>
                    <a:pt x="1728" y="13500"/>
                    <a:pt x="6048" y="9450"/>
                    <a:pt x="5184" y="8100"/>
                  </a:cubicBezTo>
                  <a:cubicBezTo>
                    <a:pt x="5184" y="8100"/>
                    <a:pt x="4320" y="8100"/>
                    <a:pt x="4320" y="8100"/>
                  </a:cubicBezTo>
                  <a:cubicBezTo>
                    <a:pt x="5184" y="5400"/>
                    <a:pt x="7776" y="5400"/>
                    <a:pt x="9504" y="4050"/>
                  </a:cubicBezTo>
                  <a:cubicBezTo>
                    <a:pt x="11232" y="2700"/>
                    <a:pt x="13824" y="1350"/>
                    <a:pt x="15552" y="0"/>
                  </a:cubicBezTo>
                  <a:cubicBezTo>
                    <a:pt x="15552" y="0"/>
                    <a:pt x="16416" y="4050"/>
                    <a:pt x="17280" y="5400"/>
                  </a:cubicBezTo>
                  <a:cubicBezTo>
                    <a:pt x="17280" y="5400"/>
                    <a:pt x="21600" y="8100"/>
                    <a:pt x="21600" y="9450"/>
                  </a:cubicBezTo>
                  <a:cubicBezTo>
                    <a:pt x="21600" y="10800"/>
                    <a:pt x="17280" y="9450"/>
                    <a:pt x="18144" y="12150"/>
                  </a:cubicBezTo>
                  <a:cubicBezTo>
                    <a:pt x="18144" y="12150"/>
                    <a:pt x="19872" y="13500"/>
                    <a:pt x="19872" y="16200"/>
                  </a:cubicBezTo>
                  <a:cubicBezTo>
                    <a:pt x="19008" y="16200"/>
                    <a:pt x="17280" y="16200"/>
                    <a:pt x="16416" y="17550"/>
                  </a:cubicBezTo>
                  <a:cubicBezTo>
                    <a:pt x="13824" y="18900"/>
                    <a:pt x="8640" y="21600"/>
                    <a:pt x="6048" y="20250"/>
                  </a:cubicBezTo>
                  <a:cubicBezTo>
                    <a:pt x="5184" y="18900"/>
                    <a:pt x="7776" y="21600"/>
                    <a:pt x="6048" y="20250"/>
                  </a:cubicBezTo>
                  <a:close/>
                </a:path>
              </a:pathLst>
            </a:custGeom>
            <a:solidFill>
              <a:srgbClr val="bfbfbf"/>
            </a:solidFill>
            <a:ln w="4680">
              <a:solidFill>
                <a:srgbClr val="ffffff"/>
              </a:solidFill>
              <a:round/>
            </a:ln>
          </p:spPr>
          <p:style>
            <a:lnRef idx="0"/>
            <a:fillRef idx="0"/>
            <a:effectRef idx="0"/>
            <a:fontRef idx="minor"/>
          </p:style>
          <p:txBody>
            <a:bodyPr lIns="45360" rIns="45360" tIns="13680" bIns="13680" anchor="t">
              <a:noAutofit/>
            </a:bodyPr>
            <a:p>
              <a:endParaRPr b="0" lang="en-US" sz="1800" spc="-1" strike="noStrike">
                <a:solidFill>
                  <a:srgbClr val="000000"/>
                </a:solidFill>
                <a:latin typeface="Calibri"/>
              </a:endParaRPr>
            </a:p>
          </p:txBody>
        </p:sp>
        <p:sp>
          <p:nvSpPr>
            <p:cNvPr id="437" name="Shape 1051"/>
            <p:cNvSpPr/>
            <p:nvPr/>
          </p:nvSpPr>
          <p:spPr>
            <a:xfrm>
              <a:off x="11116440" y="2405160"/>
              <a:ext cx="93600" cy="29160"/>
            </a:xfrm>
            <a:custGeom>
              <a:avLst/>
              <a:gdLst/>
              <a:ahLst/>
              <a:rect l="l" t="t" r="r" b="b"/>
              <a:pathLst>
                <a:path w="20304" h="19656">
                  <a:moveTo>
                    <a:pt x="3814" y="6156"/>
                  </a:moveTo>
                  <a:cubicBezTo>
                    <a:pt x="2950" y="6156"/>
                    <a:pt x="2950" y="756"/>
                    <a:pt x="2086" y="756"/>
                  </a:cubicBezTo>
                  <a:cubicBezTo>
                    <a:pt x="2086" y="-1944"/>
                    <a:pt x="358" y="3456"/>
                    <a:pt x="358" y="3456"/>
                  </a:cubicBezTo>
                  <a:cubicBezTo>
                    <a:pt x="-506" y="8856"/>
                    <a:pt x="358" y="8856"/>
                    <a:pt x="1222" y="8856"/>
                  </a:cubicBezTo>
                  <a:cubicBezTo>
                    <a:pt x="2086" y="8856"/>
                    <a:pt x="2950" y="14256"/>
                    <a:pt x="3814" y="14256"/>
                  </a:cubicBezTo>
                  <a:cubicBezTo>
                    <a:pt x="7270" y="16956"/>
                    <a:pt x="9862" y="19656"/>
                    <a:pt x="13318" y="19656"/>
                  </a:cubicBezTo>
                  <a:cubicBezTo>
                    <a:pt x="14182" y="19656"/>
                    <a:pt x="21094" y="16956"/>
                    <a:pt x="20230" y="11556"/>
                  </a:cubicBezTo>
                  <a:cubicBezTo>
                    <a:pt x="19366" y="11556"/>
                    <a:pt x="19366" y="14256"/>
                    <a:pt x="19366" y="14256"/>
                  </a:cubicBezTo>
                  <a:cubicBezTo>
                    <a:pt x="18502" y="14256"/>
                    <a:pt x="17638" y="11556"/>
                    <a:pt x="16774" y="8856"/>
                  </a:cubicBezTo>
                  <a:cubicBezTo>
                    <a:pt x="15910" y="8856"/>
                    <a:pt x="14182" y="6156"/>
                    <a:pt x="12454" y="8856"/>
                  </a:cubicBezTo>
                  <a:cubicBezTo>
                    <a:pt x="11590" y="8856"/>
                    <a:pt x="9862" y="3456"/>
                    <a:pt x="8134" y="3456"/>
                  </a:cubicBezTo>
                  <a:cubicBezTo>
                    <a:pt x="6406" y="3456"/>
                    <a:pt x="5542" y="6156"/>
                    <a:pt x="3814" y="6156"/>
                  </a:cubicBezTo>
                  <a:close/>
                </a:path>
              </a:pathLst>
            </a:custGeom>
            <a:solidFill>
              <a:srgbClr val="dadbdf"/>
            </a:solidFill>
            <a:ln w="4680">
              <a:solidFill>
                <a:srgbClr val="ffffff"/>
              </a:solidFill>
              <a:round/>
            </a:ln>
          </p:spPr>
          <p:style>
            <a:lnRef idx="0"/>
            <a:fillRef idx="0"/>
            <a:effectRef idx="0"/>
            <a:fontRef idx="minor"/>
          </p:style>
          <p:txBody>
            <a:bodyPr lIns="45360" rIns="45360" tIns="-17640" bIns="-17640" anchor="t">
              <a:noAutofit/>
            </a:bodyPr>
            <a:p>
              <a:endParaRPr b="0" lang="en-US" sz="1800" spc="-1" strike="noStrike">
                <a:solidFill>
                  <a:srgbClr val="000000"/>
                </a:solidFill>
                <a:latin typeface="Calibri"/>
              </a:endParaRPr>
            </a:p>
          </p:txBody>
        </p:sp>
        <p:sp>
          <p:nvSpPr>
            <p:cNvPr id="438" name="Shape 1052"/>
            <p:cNvSpPr/>
            <p:nvPr/>
          </p:nvSpPr>
          <p:spPr>
            <a:xfrm>
              <a:off x="10992600" y="2470320"/>
              <a:ext cx="72720" cy="27360"/>
            </a:xfrm>
            <a:custGeom>
              <a:avLst/>
              <a:gdLst/>
              <a:ahLst/>
              <a:rect l="l" t="t" r="r" b="b"/>
              <a:pathLst>
                <a:path w="18870" h="18437">
                  <a:moveTo>
                    <a:pt x="692" y="13037"/>
                  </a:moveTo>
                  <a:cubicBezTo>
                    <a:pt x="3778" y="13037"/>
                    <a:pt x="4806" y="13037"/>
                    <a:pt x="6864" y="13037"/>
                  </a:cubicBezTo>
                  <a:cubicBezTo>
                    <a:pt x="8921" y="15737"/>
                    <a:pt x="10978" y="15737"/>
                    <a:pt x="13035" y="18437"/>
                  </a:cubicBezTo>
                  <a:cubicBezTo>
                    <a:pt x="15092" y="18437"/>
                    <a:pt x="17149" y="18437"/>
                    <a:pt x="18178" y="15737"/>
                  </a:cubicBezTo>
                  <a:cubicBezTo>
                    <a:pt x="20235" y="13037"/>
                    <a:pt x="17149" y="10337"/>
                    <a:pt x="16121" y="7637"/>
                  </a:cubicBezTo>
                  <a:cubicBezTo>
                    <a:pt x="13035" y="2237"/>
                    <a:pt x="9949" y="-3163"/>
                    <a:pt x="5835" y="2237"/>
                  </a:cubicBezTo>
                  <a:cubicBezTo>
                    <a:pt x="3778" y="4937"/>
                    <a:pt x="3778" y="7637"/>
                    <a:pt x="2749" y="10337"/>
                  </a:cubicBezTo>
                  <a:cubicBezTo>
                    <a:pt x="1721" y="10337"/>
                    <a:pt x="-1365" y="13037"/>
                    <a:pt x="692" y="13037"/>
                  </a:cubicBezTo>
                  <a:close/>
                </a:path>
              </a:pathLst>
            </a:custGeom>
            <a:solidFill>
              <a:srgbClr val="dadbdf"/>
            </a:solidFill>
            <a:ln w="4680">
              <a:solidFill>
                <a:srgbClr val="ffffff"/>
              </a:solidFill>
              <a:round/>
            </a:ln>
          </p:spPr>
          <p:style>
            <a:lnRef idx="0"/>
            <a:fillRef idx="0"/>
            <a:effectRef idx="0"/>
            <a:fontRef idx="minor"/>
          </p:style>
          <p:txBody>
            <a:bodyPr lIns="45360" rIns="45360" tIns="-19440" bIns="-19440" anchor="t">
              <a:noAutofit/>
            </a:bodyPr>
            <a:p>
              <a:endParaRPr b="0" lang="en-US" sz="1800" spc="-1" strike="noStrike">
                <a:solidFill>
                  <a:srgbClr val="000000"/>
                </a:solidFill>
                <a:latin typeface="Calibri"/>
              </a:endParaRPr>
            </a:p>
          </p:txBody>
        </p:sp>
        <p:sp>
          <p:nvSpPr>
            <p:cNvPr id="439" name="Shape 1053"/>
            <p:cNvSpPr/>
            <p:nvPr/>
          </p:nvSpPr>
          <p:spPr>
            <a:xfrm>
              <a:off x="10996200" y="2454120"/>
              <a:ext cx="20160" cy="15480"/>
            </a:xfrm>
            <a:custGeom>
              <a:avLst/>
              <a:gdLst/>
              <a:ahLst/>
              <a:rect l="l" t="t" r="r" b="b"/>
              <a:pathLst>
                <a:path w="13639" h="17851">
                  <a:moveTo>
                    <a:pt x="4891" y="17851"/>
                  </a:moveTo>
                  <a:cubicBezTo>
                    <a:pt x="-3209" y="17851"/>
                    <a:pt x="-509" y="-3749"/>
                    <a:pt x="7591" y="571"/>
                  </a:cubicBezTo>
                  <a:cubicBezTo>
                    <a:pt x="18391" y="4891"/>
                    <a:pt x="12991" y="13531"/>
                    <a:pt x="4891" y="17851"/>
                  </a:cubicBezTo>
                  <a:cubicBezTo>
                    <a:pt x="-509" y="17851"/>
                    <a:pt x="10291" y="17851"/>
                    <a:pt x="4891" y="17851"/>
                  </a:cubicBezTo>
                  <a:close/>
                </a:path>
              </a:pathLst>
            </a:custGeom>
            <a:solidFill>
              <a:srgbClr val="dadbdf"/>
            </a:solidFill>
            <a:ln w="4680">
              <a:solidFill>
                <a:srgbClr val="ffffff"/>
              </a:solidFill>
              <a:round/>
            </a:ln>
          </p:spPr>
          <p:style>
            <a:lnRef idx="0"/>
            <a:fillRef idx="0"/>
            <a:effectRef idx="0"/>
            <a:fontRef idx="minor"/>
          </p:style>
          <p:txBody>
            <a:bodyPr lIns="45360" rIns="45360" tIns="-31320" bIns="-31320" anchor="t">
              <a:noAutofit/>
            </a:bodyPr>
            <a:p>
              <a:endParaRPr b="0" lang="en-US" sz="1800" spc="-1" strike="noStrike">
                <a:solidFill>
                  <a:srgbClr val="000000"/>
                </a:solidFill>
                <a:latin typeface="Calibri"/>
              </a:endParaRPr>
            </a:p>
          </p:txBody>
        </p:sp>
        <p:sp>
          <p:nvSpPr>
            <p:cNvPr id="440" name="Shape 1054"/>
            <p:cNvSpPr/>
            <p:nvPr/>
          </p:nvSpPr>
          <p:spPr>
            <a:xfrm>
              <a:off x="10907280" y="2397240"/>
              <a:ext cx="9720" cy="17280"/>
            </a:xfrm>
            <a:custGeom>
              <a:avLst/>
              <a:gdLst/>
              <a:ahLst/>
              <a:rect l="l" t="t" r="r" b="b"/>
              <a:pathLst>
                <a:path w="17600" h="18457">
                  <a:moveTo>
                    <a:pt x="3200" y="9817"/>
                  </a:moveTo>
                  <a:cubicBezTo>
                    <a:pt x="-4000" y="5497"/>
                    <a:pt x="10400" y="-3143"/>
                    <a:pt x="17600" y="1177"/>
                  </a:cubicBezTo>
                  <a:cubicBezTo>
                    <a:pt x="17600" y="5497"/>
                    <a:pt x="10400" y="18457"/>
                    <a:pt x="3200" y="18457"/>
                  </a:cubicBezTo>
                  <a:cubicBezTo>
                    <a:pt x="3200" y="18457"/>
                    <a:pt x="3200" y="9817"/>
                    <a:pt x="3200" y="9817"/>
                  </a:cubicBezTo>
                  <a:cubicBezTo>
                    <a:pt x="-4000" y="5497"/>
                    <a:pt x="3200" y="9817"/>
                    <a:pt x="3200" y="9817"/>
                  </a:cubicBezTo>
                  <a:close/>
                </a:path>
              </a:pathLst>
            </a:custGeom>
            <a:solidFill>
              <a:srgbClr val="dadbdf"/>
            </a:solidFill>
            <a:ln w="4680">
              <a:solidFill>
                <a:srgbClr val="ffffff"/>
              </a:solidFill>
              <a:round/>
            </a:ln>
          </p:spPr>
          <p:style>
            <a:lnRef idx="0"/>
            <a:fillRef idx="0"/>
            <a:effectRef idx="0"/>
            <a:fontRef idx="minor"/>
          </p:style>
          <p:txBody>
            <a:bodyPr lIns="45360" rIns="45360" tIns="-29520" bIns="-29520" anchor="t">
              <a:noAutofit/>
            </a:bodyPr>
            <a:p>
              <a:endParaRPr b="0" lang="en-US" sz="1800" spc="-1" strike="noStrike">
                <a:solidFill>
                  <a:srgbClr val="000000"/>
                </a:solidFill>
                <a:latin typeface="Calibri"/>
              </a:endParaRPr>
            </a:p>
          </p:txBody>
        </p:sp>
        <p:sp>
          <p:nvSpPr>
            <p:cNvPr id="441" name="Shape 1055"/>
            <p:cNvSpPr/>
            <p:nvPr/>
          </p:nvSpPr>
          <p:spPr>
            <a:xfrm>
              <a:off x="10905120" y="2456640"/>
              <a:ext cx="15840" cy="13320"/>
            </a:xfrm>
            <a:custGeom>
              <a:avLst/>
              <a:gdLst/>
              <a:ahLst/>
              <a:rect l="l" t="t" r="r" b="b"/>
              <a:pathLst>
                <a:path w="21600" h="14523">
                  <a:moveTo>
                    <a:pt x="21600" y="13829"/>
                  </a:moveTo>
                  <a:cubicBezTo>
                    <a:pt x="21600" y="9509"/>
                    <a:pt x="5400" y="-3451"/>
                    <a:pt x="0" y="869"/>
                  </a:cubicBezTo>
                  <a:cubicBezTo>
                    <a:pt x="0" y="869"/>
                    <a:pt x="16200" y="18149"/>
                    <a:pt x="21600" y="13829"/>
                  </a:cubicBezTo>
                  <a:close/>
                </a:path>
              </a:pathLst>
            </a:custGeom>
            <a:solidFill>
              <a:srgbClr val="dadbdf"/>
            </a:solidFill>
            <a:ln w="4680">
              <a:solidFill>
                <a:srgbClr val="ffffff"/>
              </a:solidFill>
              <a:round/>
            </a:ln>
          </p:spPr>
          <p:style>
            <a:lnRef idx="0"/>
            <a:fillRef idx="0"/>
            <a:effectRef idx="0"/>
            <a:fontRef idx="minor"/>
          </p:style>
          <p:txBody>
            <a:bodyPr lIns="45360" rIns="45360" tIns="-33480" bIns="-33480" anchor="t">
              <a:noAutofit/>
            </a:bodyPr>
            <a:p>
              <a:endParaRPr b="0" lang="en-US" sz="1800" spc="-1" strike="noStrike">
                <a:solidFill>
                  <a:srgbClr val="000000"/>
                </a:solidFill>
                <a:latin typeface="Calibri"/>
              </a:endParaRPr>
            </a:p>
          </p:txBody>
        </p:sp>
        <p:sp>
          <p:nvSpPr>
            <p:cNvPr id="442" name="Shape 1056"/>
            <p:cNvSpPr/>
            <p:nvPr/>
          </p:nvSpPr>
          <p:spPr>
            <a:xfrm>
              <a:off x="10935360" y="2379240"/>
              <a:ext cx="163800" cy="60840"/>
            </a:xfrm>
            <a:custGeom>
              <a:avLst/>
              <a:gdLst/>
              <a:ahLst/>
              <a:rect l="l" t="t" r="r" b="b"/>
              <a:pathLst>
                <a:path w="21192" h="20809">
                  <a:moveTo>
                    <a:pt x="17078" y="5400"/>
                  </a:moveTo>
                  <a:cubicBezTo>
                    <a:pt x="16049" y="4050"/>
                    <a:pt x="15535" y="5400"/>
                    <a:pt x="14506" y="4050"/>
                  </a:cubicBezTo>
                  <a:cubicBezTo>
                    <a:pt x="14506" y="4050"/>
                    <a:pt x="11935" y="0"/>
                    <a:pt x="11421" y="0"/>
                  </a:cubicBezTo>
                  <a:cubicBezTo>
                    <a:pt x="11421" y="0"/>
                    <a:pt x="11935" y="1350"/>
                    <a:pt x="10906" y="2700"/>
                  </a:cubicBezTo>
                  <a:cubicBezTo>
                    <a:pt x="9878" y="2700"/>
                    <a:pt x="10906" y="6750"/>
                    <a:pt x="9878" y="8100"/>
                  </a:cubicBezTo>
                  <a:cubicBezTo>
                    <a:pt x="9363" y="8100"/>
                    <a:pt x="5763" y="1350"/>
                    <a:pt x="5249" y="1350"/>
                  </a:cubicBezTo>
                  <a:cubicBezTo>
                    <a:pt x="4221" y="0"/>
                    <a:pt x="1649" y="1350"/>
                    <a:pt x="1649" y="4050"/>
                  </a:cubicBezTo>
                  <a:cubicBezTo>
                    <a:pt x="1649" y="6750"/>
                    <a:pt x="-408" y="5400"/>
                    <a:pt x="621" y="8100"/>
                  </a:cubicBezTo>
                  <a:cubicBezTo>
                    <a:pt x="1135" y="9450"/>
                    <a:pt x="-408" y="12150"/>
                    <a:pt x="106" y="13500"/>
                  </a:cubicBezTo>
                  <a:cubicBezTo>
                    <a:pt x="1135" y="16200"/>
                    <a:pt x="2678" y="17550"/>
                    <a:pt x="4221" y="18900"/>
                  </a:cubicBezTo>
                  <a:cubicBezTo>
                    <a:pt x="4735" y="20250"/>
                    <a:pt x="5763" y="21600"/>
                    <a:pt x="6278" y="20250"/>
                  </a:cubicBezTo>
                  <a:cubicBezTo>
                    <a:pt x="6792" y="20250"/>
                    <a:pt x="6792" y="16200"/>
                    <a:pt x="7306" y="17550"/>
                  </a:cubicBezTo>
                  <a:cubicBezTo>
                    <a:pt x="7306" y="17550"/>
                    <a:pt x="7306" y="18900"/>
                    <a:pt x="7821" y="18900"/>
                  </a:cubicBezTo>
                  <a:cubicBezTo>
                    <a:pt x="8335" y="18900"/>
                    <a:pt x="8849" y="18900"/>
                    <a:pt x="8849" y="18900"/>
                  </a:cubicBezTo>
                  <a:cubicBezTo>
                    <a:pt x="9878" y="17550"/>
                    <a:pt x="10906" y="17550"/>
                    <a:pt x="12449" y="16200"/>
                  </a:cubicBezTo>
                  <a:cubicBezTo>
                    <a:pt x="13478" y="16200"/>
                    <a:pt x="13478" y="18900"/>
                    <a:pt x="13992" y="18900"/>
                  </a:cubicBezTo>
                  <a:cubicBezTo>
                    <a:pt x="14506" y="18900"/>
                    <a:pt x="17078" y="17550"/>
                    <a:pt x="17078" y="17550"/>
                  </a:cubicBezTo>
                  <a:cubicBezTo>
                    <a:pt x="17078" y="17550"/>
                    <a:pt x="16563" y="16200"/>
                    <a:pt x="16563" y="16200"/>
                  </a:cubicBezTo>
                  <a:cubicBezTo>
                    <a:pt x="16563" y="14850"/>
                    <a:pt x="18106" y="16200"/>
                    <a:pt x="18621" y="16200"/>
                  </a:cubicBezTo>
                  <a:cubicBezTo>
                    <a:pt x="18621" y="16200"/>
                    <a:pt x="19649" y="16200"/>
                    <a:pt x="19649" y="14850"/>
                  </a:cubicBezTo>
                  <a:cubicBezTo>
                    <a:pt x="19649" y="13500"/>
                    <a:pt x="20163" y="12150"/>
                    <a:pt x="20163" y="12150"/>
                  </a:cubicBezTo>
                  <a:cubicBezTo>
                    <a:pt x="20163" y="12150"/>
                    <a:pt x="20163" y="12150"/>
                    <a:pt x="19649" y="12150"/>
                  </a:cubicBezTo>
                  <a:cubicBezTo>
                    <a:pt x="19649" y="10800"/>
                    <a:pt x="21192" y="9450"/>
                    <a:pt x="21192" y="8100"/>
                  </a:cubicBezTo>
                  <a:cubicBezTo>
                    <a:pt x="20678" y="6750"/>
                    <a:pt x="18106" y="5400"/>
                    <a:pt x="17078" y="5400"/>
                  </a:cubicBezTo>
                  <a:cubicBezTo>
                    <a:pt x="16049" y="4050"/>
                    <a:pt x="18106" y="5400"/>
                    <a:pt x="17078" y="54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443" name="Shape 1057"/>
            <p:cNvSpPr/>
            <p:nvPr/>
          </p:nvSpPr>
          <p:spPr>
            <a:xfrm>
              <a:off x="11037960" y="2398320"/>
              <a:ext cx="16560" cy="27000"/>
            </a:xfrm>
            <a:custGeom>
              <a:avLst/>
              <a:gdLst/>
              <a:ahLst/>
              <a:rect l="l" t="t" r="r" b="b"/>
              <a:pathLst>
                <a:path w="11772" h="18101">
                  <a:moveTo>
                    <a:pt x="11772" y="16200"/>
                  </a:moveTo>
                  <a:cubicBezTo>
                    <a:pt x="9072" y="18900"/>
                    <a:pt x="-7128" y="2700"/>
                    <a:pt x="3672" y="0"/>
                  </a:cubicBezTo>
                  <a:cubicBezTo>
                    <a:pt x="6372" y="0"/>
                    <a:pt x="14472" y="0"/>
                    <a:pt x="9072" y="5400"/>
                  </a:cubicBezTo>
                  <a:cubicBezTo>
                    <a:pt x="972" y="10800"/>
                    <a:pt x="11772" y="10800"/>
                    <a:pt x="11772" y="16200"/>
                  </a:cubicBezTo>
                  <a:cubicBezTo>
                    <a:pt x="9072" y="21600"/>
                    <a:pt x="11772" y="13500"/>
                    <a:pt x="11772" y="16200"/>
                  </a:cubicBezTo>
                  <a:close/>
                </a:path>
              </a:pathLst>
            </a:custGeom>
            <a:solidFill>
              <a:srgbClr val="dadbdf"/>
            </a:solidFill>
            <a:ln w="4680">
              <a:solidFill>
                <a:srgbClr val="ffffff"/>
              </a:solidFill>
              <a:round/>
            </a:ln>
          </p:spPr>
          <p:style>
            <a:lnRef idx="0"/>
            <a:fillRef idx="0"/>
            <a:effectRef idx="0"/>
            <a:fontRef idx="minor"/>
          </p:style>
          <p:txBody>
            <a:bodyPr lIns="45360" rIns="45360" tIns="-19800" bIns="-19800" anchor="t">
              <a:noAutofit/>
            </a:bodyPr>
            <a:p>
              <a:endParaRPr b="0" lang="en-US" sz="1800" spc="-1" strike="noStrike">
                <a:solidFill>
                  <a:srgbClr val="000000"/>
                </a:solidFill>
                <a:latin typeface="Calibri"/>
              </a:endParaRPr>
            </a:p>
          </p:txBody>
        </p:sp>
        <p:sp>
          <p:nvSpPr>
            <p:cNvPr id="444" name="Shape 1058"/>
            <p:cNvSpPr/>
            <p:nvPr/>
          </p:nvSpPr>
          <p:spPr>
            <a:xfrm>
              <a:off x="11548080" y="2614680"/>
              <a:ext cx="29160" cy="15840"/>
            </a:xfrm>
            <a:custGeom>
              <a:avLst/>
              <a:gdLst/>
              <a:ahLst/>
              <a:rect l="l" t="t" r="r" b="b"/>
              <a:pathLst>
                <a:path w="14761" h="14388">
                  <a:moveTo>
                    <a:pt x="4698" y="12400"/>
                  </a:moveTo>
                  <a:cubicBezTo>
                    <a:pt x="771" y="8800"/>
                    <a:pt x="-1193" y="8800"/>
                    <a:pt x="771" y="1600"/>
                  </a:cubicBezTo>
                  <a:cubicBezTo>
                    <a:pt x="2734" y="-2000"/>
                    <a:pt x="6662" y="1600"/>
                    <a:pt x="10589" y="1600"/>
                  </a:cubicBezTo>
                  <a:cubicBezTo>
                    <a:pt x="20407" y="5200"/>
                    <a:pt x="10589" y="19600"/>
                    <a:pt x="4698" y="12400"/>
                  </a:cubicBezTo>
                  <a:cubicBezTo>
                    <a:pt x="2734" y="8800"/>
                    <a:pt x="6662" y="16000"/>
                    <a:pt x="4698" y="1240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445" name="Shape 1059"/>
            <p:cNvSpPr/>
            <p:nvPr/>
          </p:nvSpPr>
          <p:spPr>
            <a:xfrm>
              <a:off x="11462040" y="2962800"/>
              <a:ext cx="21960" cy="14760"/>
            </a:xfrm>
            <a:custGeom>
              <a:avLst/>
              <a:gdLst/>
              <a:ahLst/>
              <a:rect l="l" t="t" r="r" b="b"/>
              <a:pathLst>
                <a:path w="19600" h="16090">
                  <a:moveTo>
                    <a:pt x="18000" y="6240"/>
                  </a:moveTo>
                  <a:cubicBezTo>
                    <a:pt x="21600" y="6240"/>
                    <a:pt x="18000" y="1920"/>
                    <a:pt x="18000" y="1920"/>
                  </a:cubicBezTo>
                  <a:cubicBezTo>
                    <a:pt x="14400" y="-2400"/>
                    <a:pt x="10800" y="1920"/>
                    <a:pt x="7200" y="1920"/>
                  </a:cubicBezTo>
                  <a:cubicBezTo>
                    <a:pt x="3600" y="1920"/>
                    <a:pt x="0" y="6240"/>
                    <a:pt x="3600" y="10560"/>
                  </a:cubicBezTo>
                  <a:cubicBezTo>
                    <a:pt x="3600" y="10560"/>
                    <a:pt x="0" y="19200"/>
                    <a:pt x="0" y="14880"/>
                  </a:cubicBezTo>
                  <a:cubicBezTo>
                    <a:pt x="0" y="14880"/>
                    <a:pt x="18000" y="6240"/>
                    <a:pt x="18000" y="6240"/>
                  </a:cubicBezTo>
                  <a:cubicBezTo>
                    <a:pt x="21600" y="6240"/>
                    <a:pt x="10800" y="10560"/>
                    <a:pt x="18000" y="624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446" name="Shape 1060"/>
            <p:cNvSpPr/>
            <p:nvPr/>
          </p:nvSpPr>
          <p:spPr>
            <a:xfrm>
              <a:off x="10940760" y="3076560"/>
              <a:ext cx="12240" cy="10440"/>
            </a:xfrm>
            <a:custGeom>
              <a:avLst/>
              <a:gdLst/>
              <a:ahLst/>
              <a:rect l="l" t="t" r="r" b="b"/>
              <a:pathLst>
                <a:path w="13168" h="21600">
                  <a:moveTo>
                    <a:pt x="8179" y="21600"/>
                  </a:moveTo>
                  <a:cubicBezTo>
                    <a:pt x="-461" y="21600"/>
                    <a:pt x="-4781" y="7200"/>
                    <a:pt x="8179" y="0"/>
                  </a:cubicBezTo>
                  <a:cubicBezTo>
                    <a:pt x="16819" y="0"/>
                    <a:pt x="12499" y="21600"/>
                    <a:pt x="8179" y="21600"/>
                  </a:cubicBezTo>
                  <a:close/>
                </a:path>
              </a:pathLst>
            </a:custGeom>
            <a:solidFill>
              <a:srgbClr val="dadbdf"/>
            </a:solidFill>
            <a:ln w="4680">
              <a:solidFill>
                <a:srgbClr val="ffffff"/>
              </a:solidFill>
              <a:round/>
            </a:ln>
          </p:spPr>
          <p:style>
            <a:lnRef idx="0"/>
            <a:fillRef idx="0"/>
            <a:effectRef idx="0"/>
            <a:fontRef idx="minor"/>
          </p:style>
          <p:txBody>
            <a:bodyPr lIns="45360" rIns="45360" tIns="-36360" bIns="-36360" anchor="t">
              <a:noAutofit/>
            </a:bodyPr>
            <a:p>
              <a:endParaRPr b="0" lang="en-US" sz="1800" spc="-1" strike="noStrike">
                <a:solidFill>
                  <a:srgbClr val="000000"/>
                </a:solidFill>
                <a:latin typeface="Calibri"/>
              </a:endParaRPr>
            </a:p>
          </p:txBody>
        </p:sp>
        <p:sp>
          <p:nvSpPr>
            <p:cNvPr id="447" name="Shape 1061"/>
            <p:cNvSpPr/>
            <p:nvPr/>
          </p:nvSpPr>
          <p:spPr>
            <a:xfrm>
              <a:off x="11295720" y="3197880"/>
              <a:ext cx="16560" cy="15840"/>
            </a:xfrm>
            <a:custGeom>
              <a:avLst/>
              <a:gdLst/>
              <a:ahLst/>
              <a:rect l="l" t="t" r="r" b="b"/>
              <a:pathLst>
                <a:path w="17851" h="18457">
                  <a:moveTo>
                    <a:pt x="17851" y="1177"/>
                  </a:moveTo>
                  <a:cubicBezTo>
                    <a:pt x="17851" y="1177"/>
                    <a:pt x="-3749" y="18457"/>
                    <a:pt x="571" y="18457"/>
                  </a:cubicBezTo>
                  <a:cubicBezTo>
                    <a:pt x="4891" y="18457"/>
                    <a:pt x="13531" y="9817"/>
                    <a:pt x="13531" y="9817"/>
                  </a:cubicBezTo>
                  <a:cubicBezTo>
                    <a:pt x="17851" y="5497"/>
                    <a:pt x="17851" y="-3143"/>
                    <a:pt x="17851" y="1177"/>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448" name="Shape 1062"/>
            <p:cNvSpPr/>
            <p:nvPr/>
          </p:nvSpPr>
          <p:spPr>
            <a:xfrm>
              <a:off x="11282400" y="3226320"/>
              <a:ext cx="3240" cy="3960"/>
            </a:xfrm>
            <a:custGeom>
              <a:avLst/>
              <a:gdLst/>
              <a:ahLst/>
              <a:rect l="l" t="t" r="r" b="b"/>
              <a:pathLst>
                <a:path w="9600" h="21600">
                  <a:moveTo>
                    <a:pt x="4800" y="0"/>
                  </a:moveTo>
                  <a:cubicBezTo>
                    <a:pt x="4800" y="0"/>
                    <a:pt x="-6000" y="21600"/>
                    <a:pt x="4800" y="21600"/>
                  </a:cubicBezTo>
                  <a:cubicBezTo>
                    <a:pt x="4800" y="21600"/>
                    <a:pt x="15600" y="0"/>
                    <a:pt x="4800"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49" name="Shape 1063"/>
            <p:cNvSpPr/>
            <p:nvPr/>
          </p:nvSpPr>
          <p:spPr>
            <a:xfrm>
              <a:off x="11227680" y="3289680"/>
              <a:ext cx="6120" cy="3960"/>
            </a:xfrm>
            <a:custGeom>
              <a:avLst/>
              <a:gdLst/>
              <a:ahLst/>
              <a:rect l="l" t="t" r="r" b="b"/>
              <a:pathLst>
                <a:path w="11232" h="21600">
                  <a:moveTo>
                    <a:pt x="9216" y="0"/>
                  </a:moveTo>
                  <a:cubicBezTo>
                    <a:pt x="9216" y="0"/>
                    <a:pt x="-5184" y="21600"/>
                    <a:pt x="2016" y="21600"/>
                  </a:cubicBezTo>
                  <a:cubicBezTo>
                    <a:pt x="2016" y="21600"/>
                    <a:pt x="16416" y="0"/>
                    <a:pt x="9216"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50" name="Shape 1064"/>
            <p:cNvSpPr/>
            <p:nvPr/>
          </p:nvSpPr>
          <p:spPr>
            <a:xfrm>
              <a:off x="11181240" y="3309840"/>
              <a:ext cx="21240" cy="12600"/>
            </a:xfrm>
            <a:custGeom>
              <a:avLst/>
              <a:gdLst/>
              <a:ahLst/>
              <a:rect l="l" t="t" r="r" b="b"/>
              <a:pathLst>
                <a:path w="16240" h="17067">
                  <a:moveTo>
                    <a:pt x="15834" y="0"/>
                  </a:moveTo>
                  <a:cubicBezTo>
                    <a:pt x="12749" y="0"/>
                    <a:pt x="-2680" y="10800"/>
                    <a:pt x="406" y="16200"/>
                  </a:cubicBezTo>
                  <a:cubicBezTo>
                    <a:pt x="3491" y="21600"/>
                    <a:pt x="18920" y="0"/>
                    <a:pt x="15834" y="0"/>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451" name="Shape 1065"/>
            <p:cNvSpPr/>
            <p:nvPr/>
          </p:nvSpPr>
          <p:spPr>
            <a:xfrm>
              <a:off x="11149920" y="3326040"/>
              <a:ext cx="17280" cy="11520"/>
            </a:xfrm>
            <a:custGeom>
              <a:avLst/>
              <a:gdLst/>
              <a:ahLst/>
              <a:rect l="l" t="t" r="r" b="b"/>
              <a:pathLst>
                <a:path w="16476" h="17067">
                  <a:moveTo>
                    <a:pt x="14876" y="0"/>
                  </a:moveTo>
                  <a:cubicBezTo>
                    <a:pt x="14876" y="0"/>
                    <a:pt x="-3124" y="10800"/>
                    <a:pt x="476" y="16200"/>
                  </a:cubicBezTo>
                  <a:cubicBezTo>
                    <a:pt x="4076" y="21600"/>
                    <a:pt x="14876" y="0"/>
                    <a:pt x="14876" y="0"/>
                  </a:cubicBezTo>
                  <a:cubicBezTo>
                    <a:pt x="14876" y="0"/>
                    <a:pt x="18476" y="0"/>
                    <a:pt x="14876" y="0"/>
                  </a:cubicBezTo>
                  <a:close/>
                </a:path>
              </a:pathLst>
            </a:custGeom>
            <a:solidFill>
              <a:srgbClr val="dadbdf"/>
            </a:solidFill>
            <a:ln w="4680">
              <a:solidFill>
                <a:srgbClr val="ffffff"/>
              </a:solidFill>
              <a:round/>
            </a:ln>
          </p:spPr>
          <p:style>
            <a:lnRef idx="0"/>
            <a:fillRef idx="0"/>
            <a:effectRef idx="0"/>
            <a:fontRef idx="minor"/>
          </p:style>
          <p:txBody>
            <a:bodyPr lIns="45360" rIns="45360" tIns="-35280" bIns="-35280" anchor="t">
              <a:noAutofit/>
            </a:bodyPr>
            <a:p>
              <a:endParaRPr b="0" lang="en-US" sz="1800" spc="-1" strike="noStrike">
                <a:solidFill>
                  <a:srgbClr val="000000"/>
                </a:solidFill>
                <a:latin typeface="Calibri"/>
              </a:endParaRPr>
            </a:p>
          </p:txBody>
        </p:sp>
        <p:sp>
          <p:nvSpPr>
            <p:cNvPr id="452" name="Shape 1066"/>
            <p:cNvSpPr/>
            <p:nvPr/>
          </p:nvSpPr>
          <p:spPr>
            <a:xfrm>
              <a:off x="11126160" y="3337920"/>
              <a:ext cx="17640" cy="15480"/>
            </a:xfrm>
            <a:custGeom>
              <a:avLst/>
              <a:gdLst/>
              <a:ahLst/>
              <a:rect l="l" t="t" r="r" b="b"/>
              <a:pathLst>
                <a:path w="19200" h="17851">
                  <a:moveTo>
                    <a:pt x="17280" y="0"/>
                  </a:moveTo>
                  <a:cubicBezTo>
                    <a:pt x="17280" y="0"/>
                    <a:pt x="0" y="17280"/>
                    <a:pt x="0" y="17280"/>
                  </a:cubicBezTo>
                  <a:cubicBezTo>
                    <a:pt x="8640" y="21600"/>
                    <a:pt x="17280" y="0"/>
                    <a:pt x="17280" y="0"/>
                  </a:cubicBezTo>
                  <a:cubicBezTo>
                    <a:pt x="17280" y="0"/>
                    <a:pt x="21600" y="0"/>
                    <a:pt x="17280" y="0"/>
                  </a:cubicBezTo>
                  <a:close/>
                </a:path>
              </a:pathLst>
            </a:custGeom>
            <a:solidFill>
              <a:srgbClr val="dadbdf"/>
            </a:solidFill>
            <a:ln w="4680">
              <a:solidFill>
                <a:srgbClr val="ffffff"/>
              </a:solidFill>
              <a:round/>
            </a:ln>
          </p:spPr>
          <p:style>
            <a:lnRef idx="0"/>
            <a:fillRef idx="0"/>
            <a:effectRef idx="0"/>
            <a:fontRef idx="minor"/>
          </p:style>
          <p:txBody>
            <a:bodyPr lIns="45360" rIns="45360" tIns="-31320" bIns="-31320" anchor="t">
              <a:noAutofit/>
            </a:bodyPr>
            <a:p>
              <a:endParaRPr b="0" lang="en-US" sz="1800" spc="-1" strike="noStrike">
                <a:solidFill>
                  <a:srgbClr val="000000"/>
                </a:solidFill>
                <a:latin typeface="Calibri"/>
              </a:endParaRPr>
            </a:p>
          </p:txBody>
        </p:sp>
        <p:sp>
          <p:nvSpPr>
            <p:cNvPr id="453" name="Shape 1067"/>
            <p:cNvSpPr/>
            <p:nvPr/>
          </p:nvSpPr>
          <p:spPr>
            <a:xfrm>
              <a:off x="11123280" y="3364920"/>
              <a:ext cx="2880" cy="3960"/>
            </a:xfrm>
            <a:custGeom>
              <a:avLst/>
              <a:gdLst/>
              <a:ahLst/>
              <a:rect l="l" t="t" r="r" b="b"/>
              <a:pathLst>
                <a:path w="16200" h="21600">
                  <a:moveTo>
                    <a:pt x="16200" y="0"/>
                  </a:moveTo>
                  <a:cubicBezTo>
                    <a:pt x="-5400" y="0"/>
                    <a:pt x="-5400" y="21600"/>
                    <a:pt x="16200" y="21600"/>
                  </a:cubicBezTo>
                  <a:cubicBezTo>
                    <a:pt x="16200" y="21600"/>
                    <a:pt x="16200" y="0"/>
                    <a:pt x="16200"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54" name="Shape 1068"/>
            <p:cNvSpPr/>
            <p:nvPr/>
          </p:nvSpPr>
          <p:spPr>
            <a:xfrm>
              <a:off x="11102040" y="3351240"/>
              <a:ext cx="17280" cy="13680"/>
            </a:xfrm>
            <a:custGeom>
              <a:avLst/>
              <a:gdLst/>
              <a:ahLst/>
              <a:rect l="l" t="t" r="r" b="b"/>
              <a:pathLst>
                <a:path w="18527" h="18600">
                  <a:moveTo>
                    <a:pt x="17280" y="2400"/>
                  </a:moveTo>
                  <a:cubicBezTo>
                    <a:pt x="8640" y="7800"/>
                    <a:pt x="0" y="13200"/>
                    <a:pt x="0" y="18600"/>
                  </a:cubicBezTo>
                  <a:cubicBezTo>
                    <a:pt x="0" y="18600"/>
                    <a:pt x="17280" y="2400"/>
                    <a:pt x="17280" y="2400"/>
                  </a:cubicBezTo>
                  <a:cubicBezTo>
                    <a:pt x="12960" y="2400"/>
                    <a:pt x="21600" y="-3000"/>
                    <a:pt x="17280" y="2400"/>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455" name="Shape 1069"/>
            <p:cNvSpPr/>
            <p:nvPr/>
          </p:nvSpPr>
          <p:spPr>
            <a:xfrm>
              <a:off x="10958760" y="3495960"/>
              <a:ext cx="4680" cy="11880"/>
            </a:xfrm>
            <a:custGeom>
              <a:avLst/>
              <a:gdLst/>
              <a:ahLst/>
              <a:rect l="l" t="t" r="r" b="b"/>
              <a:pathLst>
                <a:path w="12900" h="21600">
                  <a:moveTo>
                    <a:pt x="4800" y="0"/>
                  </a:moveTo>
                  <a:cubicBezTo>
                    <a:pt x="4800" y="0"/>
                    <a:pt x="-6000" y="21600"/>
                    <a:pt x="4800" y="21600"/>
                  </a:cubicBezTo>
                  <a:cubicBezTo>
                    <a:pt x="15600" y="21600"/>
                    <a:pt x="15600" y="0"/>
                    <a:pt x="4800" y="0"/>
                  </a:cubicBezTo>
                  <a:close/>
                </a:path>
              </a:pathLst>
            </a:custGeom>
            <a:solidFill>
              <a:srgbClr val="dadbd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456" name="Shape 1070"/>
            <p:cNvSpPr/>
            <p:nvPr/>
          </p:nvSpPr>
          <p:spPr>
            <a:xfrm>
              <a:off x="10987920" y="3329280"/>
              <a:ext cx="118080" cy="96120"/>
            </a:xfrm>
            <a:custGeom>
              <a:avLst/>
              <a:gdLst/>
              <a:ahLst/>
              <a:rect l="l" t="t" r="r" b="b"/>
              <a:pathLst>
                <a:path w="21048" h="20297">
                  <a:moveTo>
                    <a:pt x="18958" y="7609"/>
                  </a:moveTo>
                  <a:cubicBezTo>
                    <a:pt x="18958" y="7609"/>
                    <a:pt x="19654" y="5947"/>
                    <a:pt x="19654" y="5116"/>
                  </a:cubicBezTo>
                  <a:cubicBezTo>
                    <a:pt x="19654" y="5947"/>
                    <a:pt x="18261" y="7609"/>
                    <a:pt x="18261" y="7609"/>
                  </a:cubicBezTo>
                  <a:cubicBezTo>
                    <a:pt x="16867" y="7609"/>
                    <a:pt x="14080" y="6778"/>
                    <a:pt x="13383" y="5947"/>
                  </a:cubicBezTo>
                  <a:cubicBezTo>
                    <a:pt x="11293" y="5116"/>
                    <a:pt x="9900" y="963"/>
                    <a:pt x="7113" y="132"/>
                  </a:cubicBezTo>
                  <a:cubicBezTo>
                    <a:pt x="5719" y="-699"/>
                    <a:pt x="6416" y="2624"/>
                    <a:pt x="7113" y="3455"/>
                  </a:cubicBezTo>
                  <a:cubicBezTo>
                    <a:pt x="7113" y="5116"/>
                    <a:pt x="6416" y="6778"/>
                    <a:pt x="5719" y="8439"/>
                  </a:cubicBezTo>
                  <a:cubicBezTo>
                    <a:pt x="5022" y="9270"/>
                    <a:pt x="6416" y="11763"/>
                    <a:pt x="4325" y="10932"/>
                  </a:cubicBezTo>
                  <a:cubicBezTo>
                    <a:pt x="4325" y="10932"/>
                    <a:pt x="2932" y="10101"/>
                    <a:pt x="2235" y="10932"/>
                  </a:cubicBezTo>
                  <a:cubicBezTo>
                    <a:pt x="2235" y="11763"/>
                    <a:pt x="2932" y="12593"/>
                    <a:pt x="2932" y="12593"/>
                  </a:cubicBezTo>
                  <a:cubicBezTo>
                    <a:pt x="2932" y="12593"/>
                    <a:pt x="842" y="14255"/>
                    <a:pt x="145" y="14255"/>
                  </a:cubicBezTo>
                  <a:cubicBezTo>
                    <a:pt x="-552" y="15916"/>
                    <a:pt x="1538" y="16747"/>
                    <a:pt x="842" y="18409"/>
                  </a:cubicBezTo>
                  <a:cubicBezTo>
                    <a:pt x="145" y="19239"/>
                    <a:pt x="1538" y="20901"/>
                    <a:pt x="2235" y="20070"/>
                  </a:cubicBezTo>
                  <a:cubicBezTo>
                    <a:pt x="2932" y="19239"/>
                    <a:pt x="2932" y="18409"/>
                    <a:pt x="3629" y="18409"/>
                  </a:cubicBezTo>
                  <a:cubicBezTo>
                    <a:pt x="3629" y="18409"/>
                    <a:pt x="4325" y="19239"/>
                    <a:pt x="4325" y="18409"/>
                  </a:cubicBezTo>
                  <a:cubicBezTo>
                    <a:pt x="4325" y="17578"/>
                    <a:pt x="2932" y="16747"/>
                    <a:pt x="2235" y="15916"/>
                  </a:cubicBezTo>
                  <a:cubicBezTo>
                    <a:pt x="1538" y="14255"/>
                    <a:pt x="4325" y="15086"/>
                    <a:pt x="4325" y="15086"/>
                  </a:cubicBezTo>
                  <a:cubicBezTo>
                    <a:pt x="5719" y="15086"/>
                    <a:pt x="6416" y="13424"/>
                    <a:pt x="7809" y="14255"/>
                  </a:cubicBezTo>
                  <a:cubicBezTo>
                    <a:pt x="9203" y="15086"/>
                    <a:pt x="9900" y="15916"/>
                    <a:pt x="11293" y="16747"/>
                  </a:cubicBezTo>
                  <a:cubicBezTo>
                    <a:pt x="13383" y="18409"/>
                    <a:pt x="12687" y="13424"/>
                    <a:pt x="14080" y="12593"/>
                  </a:cubicBezTo>
                  <a:cubicBezTo>
                    <a:pt x="14080" y="12593"/>
                    <a:pt x="21048" y="12593"/>
                    <a:pt x="21048" y="10932"/>
                  </a:cubicBezTo>
                  <a:cubicBezTo>
                    <a:pt x="20351" y="10101"/>
                    <a:pt x="18261" y="11763"/>
                    <a:pt x="19654" y="9270"/>
                  </a:cubicBezTo>
                  <a:cubicBezTo>
                    <a:pt x="20351" y="8439"/>
                    <a:pt x="18261" y="9270"/>
                    <a:pt x="18958" y="7609"/>
                  </a:cubicBezTo>
                  <a:cubicBezTo>
                    <a:pt x="19654" y="5116"/>
                    <a:pt x="18958" y="8439"/>
                    <a:pt x="18958" y="760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57" name="Shape 1071"/>
            <p:cNvSpPr/>
            <p:nvPr/>
          </p:nvSpPr>
          <p:spPr>
            <a:xfrm>
              <a:off x="10812240" y="3422520"/>
              <a:ext cx="218520" cy="183600"/>
            </a:xfrm>
            <a:custGeom>
              <a:avLst/>
              <a:gdLst/>
              <a:ahLst/>
              <a:rect l="l" t="t" r="r" b="b"/>
              <a:pathLst>
                <a:path w="21371" h="21345">
                  <a:moveTo>
                    <a:pt x="19925" y="205"/>
                  </a:moveTo>
                  <a:cubicBezTo>
                    <a:pt x="19539" y="205"/>
                    <a:pt x="19539" y="-255"/>
                    <a:pt x="19539" y="205"/>
                  </a:cubicBezTo>
                  <a:cubicBezTo>
                    <a:pt x="18768" y="664"/>
                    <a:pt x="19539" y="664"/>
                    <a:pt x="19925" y="1124"/>
                  </a:cubicBezTo>
                  <a:cubicBezTo>
                    <a:pt x="20311" y="1583"/>
                    <a:pt x="19154" y="2043"/>
                    <a:pt x="18768" y="1124"/>
                  </a:cubicBezTo>
                  <a:cubicBezTo>
                    <a:pt x="18382" y="205"/>
                    <a:pt x="17997" y="1583"/>
                    <a:pt x="17997" y="2043"/>
                  </a:cubicBezTo>
                  <a:cubicBezTo>
                    <a:pt x="17611" y="2043"/>
                    <a:pt x="17225" y="2502"/>
                    <a:pt x="17225" y="2502"/>
                  </a:cubicBezTo>
                  <a:cubicBezTo>
                    <a:pt x="17225" y="3422"/>
                    <a:pt x="17611" y="2962"/>
                    <a:pt x="17611" y="2962"/>
                  </a:cubicBezTo>
                  <a:cubicBezTo>
                    <a:pt x="17611" y="3422"/>
                    <a:pt x="17611" y="3881"/>
                    <a:pt x="17611" y="4341"/>
                  </a:cubicBezTo>
                  <a:cubicBezTo>
                    <a:pt x="17611" y="4800"/>
                    <a:pt x="17997" y="4800"/>
                    <a:pt x="17611" y="5719"/>
                  </a:cubicBezTo>
                  <a:cubicBezTo>
                    <a:pt x="16839" y="7098"/>
                    <a:pt x="16454" y="8477"/>
                    <a:pt x="15682" y="9856"/>
                  </a:cubicBezTo>
                  <a:cubicBezTo>
                    <a:pt x="15297" y="10315"/>
                    <a:pt x="14139" y="12154"/>
                    <a:pt x="13754" y="12154"/>
                  </a:cubicBezTo>
                  <a:cubicBezTo>
                    <a:pt x="12982" y="12154"/>
                    <a:pt x="12211" y="12613"/>
                    <a:pt x="11825" y="12154"/>
                  </a:cubicBezTo>
                  <a:cubicBezTo>
                    <a:pt x="11439" y="11694"/>
                    <a:pt x="12211" y="11234"/>
                    <a:pt x="12211" y="10775"/>
                  </a:cubicBezTo>
                  <a:cubicBezTo>
                    <a:pt x="12597" y="10315"/>
                    <a:pt x="11439" y="11234"/>
                    <a:pt x="11439" y="11234"/>
                  </a:cubicBezTo>
                  <a:cubicBezTo>
                    <a:pt x="11054" y="11694"/>
                    <a:pt x="11054" y="11694"/>
                    <a:pt x="11054" y="12154"/>
                  </a:cubicBezTo>
                  <a:cubicBezTo>
                    <a:pt x="11054" y="13532"/>
                    <a:pt x="9897" y="13992"/>
                    <a:pt x="9511" y="14911"/>
                  </a:cubicBezTo>
                  <a:cubicBezTo>
                    <a:pt x="9511" y="14911"/>
                    <a:pt x="9511" y="15371"/>
                    <a:pt x="9511" y="15371"/>
                  </a:cubicBezTo>
                  <a:cubicBezTo>
                    <a:pt x="9511" y="15830"/>
                    <a:pt x="8739" y="16290"/>
                    <a:pt x="8739" y="16290"/>
                  </a:cubicBezTo>
                  <a:cubicBezTo>
                    <a:pt x="8354" y="16290"/>
                    <a:pt x="8739" y="15830"/>
                    <a:pt x="7968" y="15830"/>
                  </a:cubicBezTo>
                  <a:cubicBezTo>
                    <a:pt x="7582" y="15830"/>
                    <a:pt x="7197" y="15830"/>
                    <a:pt x="6425" y="15830"/>
                  </a:cubicBezTo>
                  <a:cubicBezTo>
                    <a:pt x="5268" y="16290"/>
                    <a:pt x="4497" y="15830"/>
                    <a:pt x="3339" y="16290"/>
                  </a:cubicBezTo>
                  <a:cubicBezTo>
                    <a:pt x="2568" y="17209"/>
                    <a:pt x="1411" y="18128"/>
                    <a:pt x="639" y="19047"/>
                  </a:cubicBezTo>
                  <a:cubicBezTo>
                    <a:pt x="-132" y="19047"/>
                    <a:pt x="-132" y="20426"/>
                    <a:pt x="254" y="19966"/>
                  </a:cubicBezTo>
                  <a:cubicBezTo>
                    <a:pt x="639" y="19966"/>
                    <a:pt x="639" y="19507"/>
                    <a:pt x="1025" y="19507"/>
                  </a:cubicBezTo>
                  <a:cubicBezTo>
                    <a:pt x="1411" y="19966"/>
                    <a:pt x="1797" y="20426"/>
                    <a:pt x="1797" y="19966"/>
                  </a:cubicBezTo>
                  <a:cubicBezTo>
                    <a:pt x="3725" y="19507"/>
                    <a:pt x="6425" y="17668"/>
                    <a:pt x="8354" y="18128"/>
                  </a:cubicBezTo>
                  <a:cubicBezTo>
                    <a:pt x="8739" y="18588"/>
                    <a:pt x="7968" y="19507"/>
                    <a:pt x="7968" y="19507"/>
                  </a:cubicBezTo>
                  <a:cubicBezTo>
                    <a:pt x="8354" y="19966"/>
                    <a:pt x="8739" y="21345"/>
                    <a:pt x="9125" y="21345"/>
                  </a:cubicBezTo>
                  <a:cubicBezTo>
                    <a:pt x="9511" y="20885"/>
                    <a:pt x="9897" y="20426"/>
                    <a:pt x="10282" y="19966"/>
                  </a:cubicBezTo>
                  <a:cubicBezTo>
                    <a:pt x="10668" y="19047"/>
                    <a:pt x="10668" y="19507"/>
                    <a:pt x="11439" y="19507"/>
                  </a:cubicBezTo>
                  <a:cubicBezTo>
                    <a:pt x="11054" y="19507"/>
                    <a:pt x="10668" y="15830"/>
                    <a:pt x="11825" y="18128"/>
                  </a:cubicBezTo>
                  <a:cubicBezTo>
                    <a:pt x="12211" y="19047"/>
                    <a:pt x="14139" y="18128"/>
                    <a:pt x="14525" y="17668"/>
                  </a:cubicBezTo>
                  <a:cubicBezTo>
                    <a:pt x="15297" y="16290"/>
                    <a:pt x="15297" y="19047"/>
                    <a:pt x="15682" y="18128"/>
                  </a:cubicBezTo>
                  <a:cubicBezTo>
                    <a:pt x="15682" y="17668"/>
                    <a:pt x="16068" y="16749"/>
                    <a:pt x="16454" y="16749"/>
                  </a:cubicBezTo>
                  <a:cubicBezTo>
                    <a:pt x="16839" y="16290"/>
                    <a:pt x="16839" y="16749"/>
                    <a:pt x="17225" y="15830"/>
                  </a:cubicBezTo>
                  <a:cubicBezTo>
                    <a:pt x="17225" y="15830"/>
                    <a:pt x="17225" y="17668"/>
                    <a:pt x="17611" y="17209"/>
                  </a:cubicBezTo>
                  <a:cubicBezTo>
                    <a:pt x="17611" y="17209"/>
                    <a:pt x="17997" y="17209"/>
                    <a:pt x="18382" y="16749"/>
                  </a:cubicBezTo>
                  <a:cubicBezTo>
                    <a:pt x="18768" y="16749"/>
                    <a:pt x="18382" y="16290"/>
                    <a:pt x="18768" y="15830"/>
                  </a:cubicBezTo>
                  <a:cubicBezTo>
                    <a:pt x="19539" y="15371"/>
                    <a:pt x="19539" y="15371"/>
                    <a:pt x="18768" y="14451"/>
                  </a:cubicBezTo>
                  <a:cubicBezTo>
                    <a:pt x="18382" y="13992"/>
                    <a:pt x="19539" y="12613"/>
                    <a:pt x="19539" y="11694"/>
                  </a:cubicBezTo>
                  <a:cubicBezTo>
                    <a:pt x="19925" y="10775"/>
                    <a:pt x="19154" y="9396"/>
                    <a:pt x="19539" y="8477"/>
                  </a:cubicBezTo>
                  <a:cubicBezTo>
                    <a:pt x="19925" y="8017"/>
                    <a:pt x="19925" y="8477"/>
                    <a:pt x="20311" y="8477"/>
                  </a:cubicBezTo>
                  <a:cubicBezTo>
                    <a:pt x="20697" y="8477"/>
                    <a:pt x="21082" y="7558"/>
                    <a:pt x="21082" y="7558"/>
                  </a:cubicBezTo>
                  <a:cubicBezTo>
                    <a:pt x="21468" y="6179"/>
                    <a:pt x="21468" y="4800"/>
                    <a:pt x="21082" y="3881"/>
                  </a:cubicBezTo>
                  <a:cubicBezTo>
                    <a:pt x="21082" y="3422"/>
                    <a:pt x="19925" y="205"/>
                    <a:pt x="19925" y="205"/>
                  </a:cubicBezTo>
                  <a:cubicBezTo>
                    <a:pt x="19925" y="205"/>
                    <a:pt x="19925" y="205"/>
                    <a:pt x="19925" y="20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58" name="Shape 1072"/>
            <p:cNvSpPr/>
            <p:nvPr/>
          </p:nvSpPr>
          <p:spPr>
            <a:xfrm>
              <a:off x="10884960" y="3583440"/>
              <a:ext cx="7920" cy="6480"/>
            </a:xfrm>
            <a:custGeom>
              <a:avLst/>
              <a:gdLst/>
              <a:ahLst/>
              <a:rect l="l" t="t" r="r" b="b"/>
              <a:pathLst>
                <a:path w="21600" h="13361">
                  <a:moveTo>
                    <a:pt x="21600" y="0"/>
                  </a:moveTo>
                  <a:cubicBezTo>
                    <a:pt x="21600" y="0"/>
                    <a:pt x="0" y="7200"/>
                    <a:pt x="0" y="7200"/>
                  </a:cubicBezTo>
                  <a:cubicBezTo>
                    <a:pt x="10800" y="21600"/>
                    <a:pt x="21600" y="720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40320" bIns="-40320" anchor="t">
              <a:noAutofit/>
            </a:bodyPr>
            <a:p>
              <a:endParaRPr b="0" lang="en-US" sz="1800" spc="-1" strike="noStrike">
                <a:solidFill>
                  <a:srgbClr val="000000"/>
                </a:solidFill>
                <a:latin typeface="Calibri"/>
              </a:endParaRPr>
            </a:p>
          </p:txBody>
        </p:sp>
        <p:sp>
          <p:nvSpPr>
            <p:cNvPr id="459" name="Shape 1073"/>
            <p:cNvSpPr/>
            <p:nvPr/>
          </p:nvSpPr>
          <p:spPr>
            <a:xfrm>
              <a:off x="10837800" y="3587760"/>
              <a:ext cx="46440" cy="31320"/>
            </a:xfrm>
            <a:custGeom>
              <a:avLst/>
              <a:gdLst/>
              <a:ahLst/>
              <a:rect l="l" t="t" r="r" b="b"/>
              <a:pathLst>
                <a:path w="19699" h="17387">
                  <a:moveTo>
                    <a:pt x="18277" y="1920"/>
                  </a:moveTo>
                  <a:cubicBezTo>
                    <a:pt x="14954" y="1920"/>
                    <a:pt x="14954" y="-2400"/>
                    <a:pt x="11631" y="1920"/>
                  </a:cubicBezTo>
                  <a:cubicBezTo>
                    <a:pt x="9969" y="1920"/>
                    <a:pt x="8308" y="6240"/>
                    <a:pt x="8308" y="4080"/>
                  </a:cubicBezTo>
                  <a:cubicBezTo>
                    <a:pt x="6646" y="1920"/>
                    <a:pt x="4985" y="6240"/>
                    <a:pt x="4985" y="6240"/>
                  </a:cubicBezTo>
                  <a:cubicBezTo>
                    <a:pt x="3323" y="10560"/>
                    <a:pt x="1662" y="8400"/>
                    <a:pt x="0" y="10560"/>
                  </a:cubicBezTo>
                  <a:cubicBezTo>
                    <a:pt x="0" y="8400"/>
                    <a:pt x="3323" y="17040"/>
                    <a:pt x="4985" y="17040"/>
                  </a:cubicBezTo>
                  <a:cubicBezTo>
                    <a:pt x="4985" y="19200"/>
                    <a:pt x="8308" y="10560"/>
                    <a:pt x="9969" y="10560"/>
                  </a:cubicBezTo>
                  <a:cubicBezTo>
                    <a:pt x="11631" y="10560"/>
                    <a:pt x="14954" y="12720"/>
                    <a:pt x="16615" y="10560"/>
                  </a:cubicBezTo>
                  <a:cubicBezTo>
                    <a:pt x="18277" y="10560"/>
                    <a:pt x="21600" y="4080"/>
                    <a:pt x="18277" y="1920"/>
                  </a:cubicBezTo>
                  <a:cubicBezTo>
                    <a:pt x="16615" y="1920"/>
                    <a:pt x="18277" y="1920"/>
                    <a:pt x="18277" y="1920"/>
                  </a:cubicBezTo>
                  <a:close/>
                </a:path>
              </a:pathLst>
            </a:custGeom>
            <a:solidFill>
              <a:srgbClr val="dadbdf"/>
            </a:solidFill>
            <a:ln w="4680">
              <a:solidFill>
                <a:srgbClr val="ffffff"/>
              </a:solidFill>
              <a:round/>
            </a:ln>
          </p:spPr>
          <p:style>
            <a:lnRef idx="0"/>
            <a:fillRef idx="0"/>
            <a:effectRef idx="0"/>
            <a:fontRef idx="minor"/>
          </p:style>
          <p:txBody>
            <a:bodyPr lIns="45360" rIns="45360" tIns="-15480" bIns="-15480" anchor="t">
              <a:noAutofit/>
            </a:bodyPr>
            <a:p>
              <a:endParaRPr b="0" lang="en-US" sz="1800" spc="-1" strike="noStrike">
                <a:solidFill>
                  <a:srgbClr val="000000"/>
                </a:solidFill>
                <a:latin typeface="Calibri"/>
              </a:endParaRPr>
            </a:p>
          </p:txBody>
        </p:sp>
        <p:sp>
          <p:nvSpPr>
            <p:cNvPr id="460" name="Shape 1074"/>
            <p:cNvSpPr/>
            <p:nvPr/>
          </p:nvSpPr>
          <p:spPr>
            <a:xfrm>
              <a:off x="10786680" y="3598200"/>
              <a:ext cx="42840" cy="60120"/>
            </a:xfrm>
            <a:custGeom>
              <a:avLst/>
              <a:gdLst/>
              <a:ahLst/>
              <a:rect l="l" t="t" r="r" b="b"/>
              <a:pathLst>
                <a:path w="21600" h="20522">
                  <a:moveTo>
                    <a:pt x="13745" y="0"/>
                  </a:moveTo>
                  <a:cubicBezTo>
                    <a:pt x="9818" y="0"/>
                    <a:pt x="5891" y="1350"/>
                    <a:pt x="3927" y="2700"/>
                  </a:cubicBezTo>
                  <a:cubicBezTo>
                    <a:pt x="0" y="4050"/>
                    <a:pt x="0" y="5400"/>
                    <a:pt x="0" y="8100"/>
                  </a:cubicBezTo>
                  <a:cubicBezTo>
                    <a:pt x="0" y="6750"/>
                    <a:pt x="5891" y="6750"/>
                    <a:pt x="3927" y="8100"/>
                  </a:cubicBezTo>
                  <a:cubicBezTo>
                    <a:pt x="5891" y="6750"/>
                    <a:pt x="3927" y="5400"/>
                    <a:pt x="5891" y="5400"/>
                  </a:cubicBezTo>
                  <a:cubicBezTo>
                    <a:pt x="5891" y="5400"/>
                    <a:pt x="7855" y="5400"/>
                    <a:pt x="7855" y="6750"/>
                  </a:cubicBezTo>
                  <a:cubicBezTo>
                    <a:pt x="7855" y="9450"/>
                    <a:pt x="7855" y="10800"/>
                    <a:pt x="5891" y="13500"/>
                  </a:cubicBezTo>
                  <a:cubicBezTo>
                    <a:pt x="3927" y="14850"/>
                    <a:pt x="5891" y="14850"/>
                    <a:pt x="5891" y="14850"/>
                  </a:cubicBezTo>
                  <a:cubicBezTo>
                    <a:pt x="5891" y="16200"/>
                    <a:pt x="5891" y="17550"/>
                    <a:pt x="5891" y="17550"/>
                  </a:cubicBezTo>
                  <a:cubicBezTo>
                    <a:pt x="5891" y="21600"/>
                    <a:pt x="9818" y="16200"/>
                    <a:pt x="9818" y="16200"/>
                  </a:cubicBezTo>
                  <a:cubicBezTo>
                    <a:pt x="9818" y="16200"/>
                    <a:pt x="9818" y="20250"/>
                    <a:pt x="11782" y="20250"/>
                  </a:cubicBezTo>
                  <a:cubicBezTo>
                    <a:pt x="11782" y="21600"/>
                    <a:pt x="15709" y="17550"/>
                    <a:pt x="15709" y="16200"/>
                  </a:cubicBezTo>
                  <a:cubicBezTo>
                    <a:pt x="19636" y="13500"/>
                    <a:pt x="19636" y="10800"/>
                    <a:pt x="21600" y="9450"/>
                  </a:cubicBezTo>
                  <a:cubicBezTo>
                    <a:pt x="21600" y="6750"/>
                    <a:pt x="19636" y="5400"/>
                    <a:pt x="19636" y="2700"/>
                  </a:cubicBezTo>
                  <a:cubicBezTo>
                    <a:pt x="19636" y="0"/>
                    <a:pt x="13745" y="2700"/>
                    <a:pt x="13745" y="0"/>
                  </a:cubicBezTo>
                  <a:close/>
                </a:path>
              </a:pathLst>
            </a:custGeom>
            <a:solidFill>
              <a:srgbClr val="dadbdf"/>
            </a:solidFill>
            <a:ln w="4680">
              <a:solidFill>
                <a:srgbClr val="ffffff"/>
              </a:solidFill>
              <a:round/>
            </a:ln>
          </p:spPr>
          <p:style>
            <a:lnRef idx="0"/>
            <a:fillRef idx="0"/>
            <a:effectRef idx="0"/>
            <a:fontRef idx="minor"/>
          </p:style>
          <p:txBody>
            <a:bodyPr lIns="45360" rIns="45360" tIns="13320" bIns="13320" anchor="t">
              <a:noAutofit/>
            </a:bodyPr>
            <a:p>
              <a:endParaRPr b="0" lang="en-US" sz="1800" spc="-1" strike="noStrike">
                <a:solidFill>
                  <a:srgbClr val="000000"/>
                </a:solidFill>
                <a:latin typeface="Calibri"/>
              </a:endParaRPr>
            </a:p>
          </p:txBody>
        </p:sp>
        <p:sp>
          <p:nvSpPr>
            <p:cNvPr id="461" name="Shape 1075"/>
            <p:cNvSpPr/>
            <p:nvPr/>
          </p:nvSpPr>
          <p:spPr>
            <a:xfrm>
              <a:off x="10746360" y="3753360"/>
              <a:ext cx="11520" cy="11880"/>
            </a:xfrm>
            <a:custGeom>
              <a:avLst/>
              <a:gdLst/>
              <a:ahLst/>
              <a:rect l="l" t="t" r="r" b="b"/>
              <a:pathLst>
                <a:path w="17287" h="21600">
                  <a:moveTo>
                    <a:pt x="17287" y="0"/>
                  </a:moveTo>
                  <a:cubicBezTo>
                    <a:pt x="11887" y="0"/>
                    <a:pt x="-4313" y="7200"/>
                    <a:pt x="1087" y="21600"/>
                  </a:cubicBezTo>
                  <a:cubicBezTo>
                    <a:pt x="1087" y="21600"/>
                    <a:pt x="17287" y="0"/>
                    <a:pt x="17287" y="0"/>
                  </a:cubicBezTo>
                  <a:close/>
                </a:path>
              </a:pathLst>
            </a:custGeom>
            <a:solidFill>
              <a:srgbClr val="dadbd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462" name="Shape 1076"/>
            <p:cNvSpPr/>
            <p:nvPr/>
          </p:nvSpPr>
          <p:spPr>
            <a:xfrm>
              <a:off x="10778400" y="3714120"/>
              <a:ext cx="7920" cy="3960"/>
            </a:xfrm>
            <a:custGeom>
              <a:avLst/>
              <a:gdLst/>
              <a:ahLst/>
              <a:rect l="l" t="t" r="r" b="b"/>
              <a:pathLst>
                <a:path w="21600" h="13824">
                  <a:moveTo>
                    <a:pt x="21600" y="0"/>
                  </a:moveTo>
                  <a:cubicBezTo>
                    <a:pt x="10800" y="0"/>
                    <a:pt x="0" y="10800"/>
                    <a:pt x="0" y="10800"/>
                  </a:cubicBezTo>
                  <a:cubicBezTo>
                    <a:pt x="0" y="21600"/>
                    <a:pt x="21600" y="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63" name="Shape 1077"/>
            <p:cNvSpPr/>
            <p:nvPr/>
          </p:nvSpPr>
          <p:spPr>
            <a:xfrm>
              <a:off x="10674360" y="3796560"/>
              <a:ext cx="5400" cy="3960"/>
            </a:xfrm>
            <a:custGeom>
              <a:avLst/>
              <a:gdLst/>
              <a:ahLst/>
              <a:rect l="l" t="t" r="r" b="b"/>
              <a:pathLst>
                <a:path w="15274" h="21600">
                  <a:moveTo>
                    <a:pt x="15274" y="0"/>
                  </a:moveTo>
                  <a:cubicBezTo>
                    <a:pt x="4474" y="0"/>
                    <a:pt x="-6326" y="21600"/>
                    <a:pt x="4474" y="21600"/>
                  </a:cubicBezTo>
                  <a:cubicBezTo>
                    <a:pt x="15274" y="21600"/>
                    <a:pt x="15274" y="0"/>
                    <a:pt x="15274"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64" name="Shape 1078"/>
            <p:cNvSpPr/>
            <p:nvPr/>
          </p:nvSpPr>
          <p:spPr>
            <a:xfrm>
              <a:off x="10596240" y="3785040"/>
              <a:ext cx="35640" cy="62280"/>
            </a:xfrm>
            <a:custGeom>
              <a:avLst/>
              <a:gdLst/>
              <a:ahLst/>
              <a:rect l="l" t="t" r="r" b="b"/>
              <a:pathLst>
                <a:path w="16402" h="20471">
                  <a:moveTo>
                    <a:pt x="14400" y="142"/>
                  </a:moveTo>
                  <a:cubicBezTo>
                    <a:pt x="9000" y="-1129"/>
                    <a:pt x="1800" y="6495"/>
                    <a:pt x="0" y="9036"/>
                  </a:cubicBezTo>
                  <a:cubicBezTo>
                    <a:pt x="0" y="11577"/>
                    <a:pt x="0" y="14118"/>
                    <a:pt x="1800" y="16659"/>
                  </a:cubicBezTo>
                  <a:cubicBezTo>
                    <a:pt x="1800" y="16659"/>
                    <a:pt x="5400" y="20471"/>
                    <a:pt x="5400" y="20471"/>
                  </a:cubicBezTo>
                  <a:cubicBezTo>
                    <a:pt x="7200" y="17930"/>
                    <a:pt x="21600" y="1412"/>
                    <a:pt x="14400" y="142"/>
                  </a:cubicBezTo>
                  <a:cubicBezTo>
                    <a:pt x="12600" y="142"/>
                    <a:pt x="16200" y="142"/>
                    <a:pt x="14400" y="142"/>
                  </a:cubicBezTo>
                  <a:close/>
                </a:path>
              </a:pathLst>
            </a:custGeom>
            <a:solidFill>
              <a:srgbClr val="dadbdf"/>
            </a:solidFill>
            <a:ln w="4680">
              <a:solidFill>
                <a:srgbClr val="ffffff"/>
              </a:solidFill>
              <a:round/>
            </a:ln>
          </p:spPr>
          <p:style>
            <a:lnRef idx="0"/>
            <a:fillRef idx="0"/>
            <a:effectRef idx="0"/>
            <a:fontRef idx="minor"/>
          </p:style>
          <p:txBody>
            <a:bodyPr lIns="45360" rIns="45360" tIns="15480" bIns="15480" anchor="t">
              <a:noAutofit/>
            </a:bodyPr>
            <a:p>
              <a:endParaRPr b="0" lang="en-US" sz="1800" spc="-1" strike="noStrike">
                <a:solidFill>
                  <a:srgbClr val="000000"/>
                </a:solidFill>
                <a:latin typeface="Calibri"/>
              </a:endParaRPr>
            </a:p>
          </p:txBody>
        </p:sp>
        <p:sp>
          <p:nvSpPr>
            <p:cNvPr id="465" name="Shape 1079"/>
            <p:cNvSpPr/>
            <p:nvPr/>
          </p:nvSpPr>
          <p:spPr>
            <a:xfrm>
              <a:off x="10369800" y="3892320"/>
              <a:ext cx="45360" cy="36000"/>
            </a:xfrm>
            <a:custGeom>
              <a:avLst/>
              <a:gdLst/>
              <a:ahLst/>
              <a:rect l="l" t="t" r="r" b="b"/>
              <a:pathLst>
                <a:path w="17764" h="20015">
                  <a:moveTo>
                    <a:pt x="17449" y="2160"/>
                  </a:moveTo>
                  <a:cubicBezTo>
                    <a:pt x="15906" y="2160"/>
                    <a:pt x="14363" y="0"/>
                    <a:pt x="11278" y="0"/>
                  </a:cubicBezTo>
                  <a:cubicBezTo>
                    <a:pt x="8192" y="0"/>
                    <a:pt x="6649" y="2160"/>
                    <a:pt x="3563" y="4320"/>
                  </a:cubicBezTo>
                  <a:cubicBezTo>
                    <a:pt x="478" y="8640"/>
                    <a:pt x="-2608" y="15120"/>
                    <a:pt x="3563" y="19440"/>
                  </a:cubicBezTo>
                  <a:cubicBezTo>
                    <a:pt x="6649" y="21600"/>
                    <a:pt x="12821" y="17280"/>
                    <a:pt x="14363" y="12960"/>
                  </a:cubicBezTo>
                  <a:cubicBezTo>
                    <a:pt x="14363" y="10800"/>
                    <a:pt x="18992" y="2160"/>
                    <a:pt x="17449" y="2160"/>
                  </a:cubicBezTo>
                  <a:close/>
                </a:path>
              </a:pathLst>
            </a:custGeom>
            <a:solidFill>
              <a:srgbClr val="dadbdf"/>
            </a:solidFill>
            <a:ln w="4680">
              <a:solidFill>
                <a:srgbClr val="ffffff"/>
              </a:solidFill>
              <a:round/>
            </a:ln>
          </p:spPr>
          <p:style>
            <a:lnRef idx="0"/>
            <a:fillRef idx="0"/>
            <a:effectRef idx="0"/>
            <a:fontRef idx="minor"/>
          </p:style>
          <p:txBody>
            <a:bodyPr lIns="45360" rIns="45360" tIns="-10800" bIns="-10800" anchor="t">
              <a:noAutofit/>
            </a:bodyPr>
            <a:p>
              <a:endParaRPr b="0" lang="en-US" sz="1800" spc="-1" strike="noStrike">
                <a:solidFill>
                  <a:srgbClr val="000000"/>
                </a:solidFill>
                <a:latin typeface="Calibri"/>
              </a:endParaRPr>
            </a:p>
          </p:txBody>
        </p:sp>
        <p:sp>
          <p:nvSpPr>
            <p:cNvPr id="466" name="Shape 1080"/>
            <p:cNvSpPr/>
            <p:nvPr/>
          </p:nvSpPr>
          <p:spPr>
            <a:xfrm>
              <a:off x="10588320" y="3922920"/>
              <a:ext cx="70560" cy="108000"/>
            </a:xfrm>
            <a:custGeom>
              <a:avLst/>
              <a:gdLst/>
              <a:ahLst/>
              <a:rect l="l" t="t" r="r" b="b"/>
              <a:pathLst>
                <a:path w="19173" h="20898">
                  <a:moveTo>
                    <a:pt x="12960" y="841"/>
                  </a:moveTo>
                  <a:cubicBezTo>
                    <a:pt x="10800" y="69"/>
                    <a:pt x="11880" y="3155"/>
                    <a:pt x="9720" y="841"/>
                  </a:cubicBezTo>
                  <a:cubicBezTo>
                    <a:pt x="8640" y="-702"/>
                    <a:pt x="4320" y="69"/>
                    <a:pt x="4320" y="1612"/>
                  </a:cubicBezTo>
                  <a:cubicBezTo>
                    <a:pt x="3240" y="3927"/>
                    <a:pt x="4320" y="5469"/>
                    <a:pt x="3240" y="7784"/>
                  </a:cubicBezTo>
                  <a:cubicBezTo>
                    <a:pt x="3240" y="8555"/>
                    <a:pt x="3240" y="9327"/>
                    <a:pt x="3240" y="9327"/>
                  </a:cubicBezTo>
                  <a:cubicBezTo>
                    <a:pt x="2160" y="10098"/>
                    <a:pt x="0" y="9327"/>
                    <a:pt x="0" y="9327"/>
                  </a:cubicBezTo>
                  <a:cubicBezTo>
                    <a:pt x="0" y="9327"/>
                    <a:pt x="2160" y="16269"/>
                    <a:pt x="3240" y="16269"/>
                  </a:cubicBezTo>
                  <a:cubicBezTo>
                    <a:pt x="3240" y="16269"/>
                    <a:pt x="4320" y="13955"/>
                    <a:pt x="5400" y="14727"/>
                  </a:cubicBezTo>
                  <a:cubicBezTo>
                    <a:pt x="5400" y="14727"/>
                    <a:pt x="7560" y="15498"/>
                    <a:pt x="7560" y="16269"/>
                  </a:cubicBezTo>
                  <a:cubicBezTo>
                    <a:pt x="7560" y="17041"/>
                    <a:pt x="4320" y="15498"/>
                    <a:pt x="4320" y="17041"/>
                  </a:cubicBezTo>
                  <a:cubicBezTo>
                    <a:pt x="4320" y="18584"/>
                    <a:pt x="6480" y="20127"/>
                    <a:pt x="8640" y="19355"/>
                  </a:cubicBezTo>
                  <a:cubicBezTo>
                    <a:pt x="9720" y="19355"/>
                    <a:pt x="10800" y="17812"/>
                    <a:pt x="11880" y="18584"/>
                  </a:cubicBezTo>
                  <a:cubicBezTo>
                    <a:pt x="11880" y="18584"/>
                    <a:pt x="16200" y="20898"/>
                    <a:pt x="16200" y="20898"/>
                  </a:cubicBezTo>
                  <a:cubicBezTo>
                    <a:pt x="17280" y="20127"/>
                    <a:pt x="14040" y="19355"/>
                    <a:pt x="15120" y="18584"/>
                  </a:cubicBezTo>
                  <a:cubicBezTo>
                    <a:pt x="14040" y="19355"/>
                    <a:pt x="21600" y="20898"/>
                    <a:pt x="18360" y="17812"/>
                  </a:cubicBezTo>
                  <a:cubicBezTo>
                    <a:pt x="16200" y="16269"/>
                    <a:pt x="11880" y="18584"/>
                    <a:pt x="10800" y="16269"/>
                  </a:cubicBezTo>
                  <a:cubicBezTo>
                    <a:pt x="9720" y="14727"/>
                    <a:pt x="9720" y="13955"/>
                    <a:pt x="9720" y="11641"/>
                  </a:cubicBezTo>
                  <a:cubicBezTo>
                    <a:pt x="9720" y="10098"/>
                    <a:pt x="11880" y="10098"/>
                    <a:pt x="12960" y="8555"/>
                  </a:cubicBezTo>
                  <a:cubicBezTo>
                    <a:pt x="15120" y="7012"/>
                    <a:pt x="15120" y="6241"/>
                    <a:pt x="14040" y="4698"/>
                  </a:cubicBezTo>
                  <a:cubicBezTo>
                    <a:pt x="14040" y="4698"/>
                    <a:pt x="14040" y="841"/>
                    <a:pt x="12960" y="841"/>
                  </a:cubicBezTo>
                  <a:cubicBezTo>
                    <a:pt x="11880" y="841"/>
                    <a:pt x="14040" y="841"/>
                    <a:pt x="12960" y="84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67" name="Shape 1081"/>
            <p:cNvSpPr/>
            <p:nvPr/>
          </p:nvSpPr>
          <p:spPr>
            <a:xfrm>
              <a:off x="10655640" y="4017240"/>
              <a:ext cx="20520" cy="25920"/>
            </a:xfrm>
            <a:custGeom>
              <a:avLst/>
              <a:gdLst/>
              <a:ahLst/>
              <a:rect l="l" t="t" r="r" b="b"/>
              <a:pathLst>
                <a:path w="18578" h="18156">
                  <a:moveTo>
                    <a:pt x="10800" y="1200"/>
                  </a:moveTo>
                  <a:cubicBezTo>
                    <a:pt x="10800" y="1200"/>
                    <a:pt x="7200" y="-1500"/>
                    <a:pt x="3600" y="1200"/>
                  </a:cubicBezTo>
                  <a:cubicBezTo>
                    <a:pt x="3600" y="3900"/>
                    <a:pt x="0" y="3900"/>
                    <a:pt x="0" y="6600"/>
                  </a:cubicBezTo>
                  <a:cubicBezTo>
                    <a:pt x="3600" y="9300"/>
                    <a:pt x="0" y="12000"/>
                    <a:pt x="7200" y="14700"/>
                  </a:cubicBezTo>
                  <a:cubicBezTo>
                    <a:pt x="7200" y="14700"/>
                    <a:pt x="21600" y="20100"/>
                    <a:pt x="18000" y="17400"/>
                  </a:cubicBezTo>
                  <a:cubicBezTo>
                    <a:pt x="18000" y="14700"/>
                    <a:pt x="18000" y="12000"/>
                    <a:pt x="14400" y="9300"/>
                  </a:cubicBezTo>
                  <a:cubicBezTo>
                    <a:pt x="7200" y="9300"/>
                    <a:pt x="7200" y="1200"/>
                    <a:pt x="10800" y="1200"/>
                  </a:cubicBezTo>
                  <a:cubicBezTo>
                    <a:pt x="7200" y="1200"/>
                    <a:pt x="14400" y="1200"/>
                    <a:pt x="10800" y="1200"/>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468" name="Shape 1082"/>
            <p:cNvSpPr/>
            <p:nvPr/>
          </p:nvSpPr>
          <p:spPr>
            <a:xfrm>
              <a:off x="10678680" y="4042080"/>
              <a:ext cx="29520" cy="52560"/>
            </a:xfrm>
            <a:custGeom>
              <a:avLst/>
              <a:gdLst/>
              <a:ahLst/>
              <a:rect l="l" t="t" r="r" b="b"/>
              <a:pathLst>
                <a:path w="16313" h="21600">
                  <a:moveTo>
                    <a:pt x="4909" y="0"/>
                  </a:moveTo>
                  <a:cubicBezTo>
                    <a:pt x="2749" y="0"/>
                    <a:pt x="4909" y="0"/>
                    <a:pt x="589" y="1662"/>
                  </a:cubicBezTo>
                  <a:cubicBezTo>
                    <a:pt x="-1571" y="3323"/>
                    <a:pt x="2749" y="4985"/>
                    <a:pt x="4909" y="6646"/>
                  </a:cubicBezTo>
                  <a:cubicBezTo>
                    <a:pt x="7069" y="9969"/>
                    <a:pt x="-3731" y="11631"/>
                    <a:pt x="4909" y="14954"/>
                  </a:cubicBezTo>
                  <a:cubicBezTo>
                    <a:pt x="7069" y="16615"/>
                    <a:pt x="2749" y="19938"/>
                    <a:pt x="7069" y="21600"/>
                  </a:cubicBezTo>
                  <a:cubicBezTo>
                    <a:pt x="9229" y="21600"/>
                    <a:pt x="9229" y="19938"/>
                    <a:pt x="7069" y="18277"/>
                  </a:cubicBezTo>
                  <a:cubicBezTo>
                    <a:pt x="2749" y="8308"/>
                    <a:pt x="15709" y="16615"/>
                    <a:pt x="15709" y="13292"/>
                  </a:cubicBezTo>
                  <a:cubicBezTo>
                    <a:pt x="15709" y="11631"/>
                    <a:pt x="11389" y="9969"/>
                    <a:pt x="13549" y="9969"/>
                  </a:cubicBezTo>
                  <a:cubicBezTo>
                    <a:pt x="13549" y="8308"/>
                    <a:pt x="17869" y="9969"/>
                    <a:pt x="15709" y="8308"/>
                  </a:cubicBezTo>
                  <a:cubicBezTo>
                    <a:pt x="13549" y="6646"/>
                    <a:pt x="9229" y="4985"/>
                    <a:pt x="11389" y="1662"/>
                  </a:cubicBezTo>
                  <a:cubicBezTo>
                    <a:pt x="11389" y="0"/>
                    <a:pt x="7069" y="0"/>
                    <a:pt x="4909" y="0"/>
                  </a:cubicBezTo>
                  <a:close/>
                </a:path>
              </a:pathLst>
            </a:custGeom>
            <a:solidFill>
              <a:srgbClr val="dadbdf"/>
            </a:solidFill>
            <a:ln w="4680">
              <a:solidFill>
                <a:srgbClr val="ffffff"/>
              </a:solidFill>
              <a:round/>
            </a:ln>
          </p:spPr>
          <p:style>
            <a:lnRef idx="0"/>
            <a:fillRef idx="0"/>
            <a:effectRef idx="0"/>
            <a:fontRef idx="minor"/>
          </p:style>
          <p:txBody>
            <a:bodyPr lIns="45360" rIns="45360" tIns="5760" bIns="5760" anchor="t">
              <a:noAutofit/>
            </a:bodyPr>
            <a:p>
              <a:endParaRPr b="0" lang="en-US" sz="1800" spc="-1" strike="noStrike">
                <a:solidFill>
                  <a:srgbClr val="000000"/>
                </a:solidFill>
                <a:latin typeface="Calibri"/>
              </a:endParaRPr>
            </a:p>
          </p:txBody>
        </p:sp>
        <p:sp>
          <p:nvSpPr>
            <p:cNvPr id="469" name="Shape 1083"/>
            <p:cNvSpPr/>
            <p:nvPr/>
          </p:nvSpPr>
          <p:spPr>
            <a:xfrm>
              <a:off x="10600560" y="4024800"/>
              <a:ext cx="24120" cy="23040"/>
            </a:xfrm>
            <a:custGeom>
              <a:avLst/>
              <a:gdLst/>
              <a:ahLst/>
              <a:rect l="l" t="t" r="r" b="b"/>
              <a:pathLst>
                <a:path w="21600" h="16055">
                  <a:moveTo>
                    <a:pt x="21600" y="9591"/>
                  </a:moveTo>
                  <a:cubicBezTo>
                    <a:pt x="18000" y="6891"/>
                    <a:pt x="10800" y="-3909"/>
                    <a:pt x="0" y="1491"/>
                  </a:cubicBezTo>
                  <a:cubicBezTo>
                    <a:pt x="0" y="1491"/>
                    <a:pt x="10800" y="9591"/>
                    <a:pt x="10800" y="12291"/>
                  </a:cubicBezTo>
                  <a:cubicBezTo>
                    <a:pt x="10800" y="17691"/>
                    <a:pt x="21600" y="17691"/>
                    <a:pt x="21600" y="9591"/>
                  </a:cubicBezTo>
                  <a:cubicBezTo>
                    <a:pt x="21600" y="9591"/>
                    <a:pt x="21600" y="12291"/>
                    <a:pt x="21600" y="9591"/>
                  </a:cubicBezTo>
                  <a:close/>
                </a:path>
              </a:pathLst>
            </a:custGeom>
            <a:solidFill>
              <a:srgbClr val="dadbdf"/>
            </a:solidFill>
            <a:ln w="4680">
              <a:solidFill>
                <a:srgbClr val="ffffff"/>
              </a:solidFill>
              <a:round/>
            </a:ln>
          </p:spPr>
          <p:style>
            <a:lnRef idx="0"/>
            <a:fillRef idx="0"/>
            <a:effectRef idx="0"/>
            <a:fontRef idx="minor"/>
          </p:style>
          <p:txBody>
            <a:bodyPr lIns="45360" rIns="45360" tIns="-23760" bIns="-23760" anchor="t">
              <a:noAutofit/>
            </a:bodyPr>
            <a:p>
              <a:endParaRPr b="0" lang="en-US" sz="1800" spc="-1" strike="noStrike">
                <a:solidFill>
                  <a:srgbClr val="000000"/>
                </a:solidFill>
                <a:latin typeface="Calibri"/>
              </a:endParaRPr>
            </a:p>
          </p:txBody>
        </p:sp>
        <p:sp>
          <p:nvSpPr>
            <p:cNvPr id="470" name="Shape 1084"/>
            <p:cNvSpPr/>
            <p:nvPr/>
          </p:nvSpPr>
          <p:spPr>
            <a:xfrm>
              <a:off x="10628640" y="4054680"/>
              <a:ext cx="26640" cy="32400"/>
            </a:xfrm>
            <a:custGeom>
              <a:avLst/>
              <a:gdLst/>
              <a:ahLst/>
              <a:rect l="l" t="t" r="r" b="b"/>
              <a:pathLst>
                <a:path w="16416" h="17387">
                  <a:moveTo>
                    <a:pt x="7200" y="1920"/>
                  </a:moveTo>
                  <a:cubicBezTo>
                    <a:pt x="4800" y="-240"/>
                    <a:pt x="2400" y="-240"/>
                    <a:pt x="0" y="1920"/>
                  </a:cubicBezTo>
                  <a:cubicBezTo>
                    <a:pt x="0" y="4080"/>
                    <a:pt x="4800" y="4080"/>
                    <a:pt x="4800" y="6240"/>
                  </a:cubicBezTo>
                  <a:cubicBezTo>
                    <a:pt x="7200" y="8400"/>
                    <a:pt x="0" y="14880"/>
                    <a:pt x="2400" y="17040"/>
                  </a:cubicBezTo>
                  <a:cubicBezTo>
                    <a:pt x="2400" y="19200"/>
                    <a:pt x="12000" y="10560"/>
                    <a:pt x="14400" y="10560"/>
                  </a:cubicBezTo>
                  <a:cubicBezTo>
                    <a:pt x="21600" y="10560"/>
                    <a:pt x="7200" y="1920"/>
                    <a:pt x="7200" y="1920"/>
                  </a:cubicBezTo>
                  <a:cubicBezTo>
                    <a:pt x="2400" y="-2400"/>
                    <a:pt x="7200" y="1920"/>
                    <a:pt x="7200" y="1920"/>
                  </a:cubicBezTo>
                  <a:close/>
                </a:path>
              </a:pathLst>
            </a:custGeom>
            <a:solidFill>
              <a:srgbClr val="dadbdf"/>
            </a:solidFill>
            <a:ln w="4680">
              <a:solidFill>
                <a:srgbClr val="ffffff"/>
              </a:solidFill>
              <a:round/>
            </a:ln>
          </p:spPr>
          <p:style>
            <a:lnRef idx="0"/>
            <a:fillRef idx="0"/>
            <a:effectRef idx="0"/>
            <a:fontRef idx="minor"/>
          </p:style>
          <p:txBody>
            <a:bodyPr lIns="45360" rIns="45360" tIns="-14400" bIns="-14400" anchor="t">
              <a:noAutofit/>
            </a:bodyPr>
            <a:p>
              <a:endParaRPr b="0" lang="en-US" sz="1800" spc="-1" strike="noStrike">
                <a:solidFill>
                  <a:srgbClr val="000000"/>
                </a:solidFill>
                <a:latin typeface="Calibri"/>
              </a:endParaRPr>
            </a:p>
          </p:txBody>
        </p:sp>
        <p:sp>
          <p:nvSpPr>
            <p:cNvPr id="471" name="Shape 1085"/>
            <p:cNvSpPr/>
            <p:nvPr/>
          </p:nvSpPr>
          <p:spPr>
            <a:xfrm>
              <a:off x="10641240" y="4076640"/>
              <a:ext cx="19800" cy="35640"/>
            </a:xfrm>
            <a:custGeom>
              <a:avLst/>
              <a:gdLst/>
              <a:ahLst/>
              <a:rect l="l" t="t" r="r" b="b"/>
              <a:pathLst>
                <a:path w="15964" h="17877">
                  <a:moveTo>
                    <a:pt x="15099" y="873"/>
                  </a:moveTo>
                  <a:cubicBezTo>
                    <a:pt x="5842" y="873"/>
                    <a:pt x="8928" y="6764"/>
                    <a:pt x="5842" y="8727"/>
                  </a:cubicBezTo>
                  <a:cubicBezTo>
                    <a:pt x="-3415" y="12654"/>
                    <a:pt x="-329" y="12654"/>
                    <a:pt x="5842" y="16582"/>
                  </a:cubicBezTo>
                  <a:cubicBezTo>
                    <a:pt x="15099" y="20509"/>
                    <a:pt x="8928" y="14618"/>
                    <a:pt x="12014" y="10691"/>
                  </a:cubicBezTo>
                  <a:cubicBezTo>
                    <a:pt x="12014" y="10691"/>
                    <a:pt x="18185" y="-1091"/>
                    <a:pt x="15099" y="873"/>
                  </a:cubicBezTo>
                  <a:cubicBezTo>
                    <a:pt x="12014" y="873"/>
                    <a:pt x="15099" y="-1091"/>
                    <a:pt x="15099" y="873"/>
                  </a:cubicBezTo>
                  <a:close/>
                </a:path>
              </a:pathLst>
            </a:custGeom>
            <a:solidFill>
              <a:srgbClr val="dadbdf"/>
            </a:solidFill>
            <a:ln w="4680">
              <a:solidFill>
                <a:srgbClr val="ffffff"/>
              </a:solidFill>
              <a:round/>
            </a:ln>
          </p:spPr>
          <p:style>
            <a:lnRef idx="0"/>
            <a:fillRef idx="0"/>
            <a:effectRef idx="0"/>
            <a:fontRef idx="minor"/>
          </p:style>
          <p:txBody>
            <a:bodyPr lIns="45360" rIns="45360" tIns="-11160" bIns="-11160" anchor="t">
              <a:noAutofit/>
            </a:bodyPr>
            <a:p>
              <a:endParaRPr b="0" lang="en-US" sz="1800" spc="-1" strike="noStrike">
                <a:solidFill>
                  <a:srgbClr val="000000"/>
                </a:solidFill>
                <a:latin typeface="Calibri"/>
              </a:endParaRPr>
            </a:p>
          </p:txBody>
        </p:sp>
        <p:sp>
          <p:nvSpPr>
            <p:cNvPr id="472" name="Shape 1086"/>
            <p:cNvSpPr/>
            <p:nvPr/>
          </p:nvSpPr>
          <p:spPr>
            <a:xfrm>
              <a:off x="10659600" y="4073760"/>
              <a:ext cx="13680" cy="27360"/>
            </a:xfrm>
            <a:custGeom>
              <a:avLst/>
              <a:gdLst/>
              <a:ahLst/>
              <a:rect l="l" t="t" r="r" b="b"/>
              <a:pathLst>
                <a:path w="18600" h="19257">
                  <a:moveTo>
                    <a:pt x="16200" y="357"/>
                  </a:moveTo>
                  <a:cubicBezTo>
                    <a:pt x="10800" y="357"/>
                    <a:pt x="0" y="16557"/>
                    <a:pt x="0" y="19257"/>
                  </a:cubicBezTo>
                  <a:cubicBezTo>
                    <a:pt x="0" y="19257"/>
                    <a:pt x="10800" y="13857"/>
                    <a:pt x="16200" y="11157"/>
                  </a:cubicBezTo>
                  <a:cubicBezTo>
                    <a:pt x="16200" y="11157"/>
                    <a:pt x="21600" y="-2343"/>
                    <a:pt x="16200" y="357"/>
                  </a:cubicBezTo>
                  <a:cubicBezTo>
                    <a:pt x="10800" y="357"/>
                    <a:pt x="16200" y="357"/>
                    <a:pt x="16200" y="357"/>
                  </a:cubicBezTo>
                  <a:close/>
                </a:path>
              </a:pathLst>
            </a:custGeom>
            <a:solidFill>
              <a:srgbClr val="dadbdf"/>
            </a:solidFill>
            <a:ln w="4680">
              <a:solidFill>
                <a:srgbClr val="ffffff"/>
              </a:solidFill>
              <a:round/>
            </a:ln>
          </p:spPr>
          <p:style>
            <a:lnRef idx="0"/>
            <a:fillRef idx="0"/>
            <a:effectRef idx="0"/>
            <a:fontRef idx="minor"/>
          </p:style>
          <p:txBody>
            <a:bodyPr lIns="45360" rIns="45360" tIns="-19440" bIns="-19440" anchor="t">
              <a:noAutofit/>
            </a:bodyPr>
            <a:p>
              <a:endParaRPr b="0" lang="en-US" sz="1800" spc="-1" strike="noStrike">
                <a:solidFill>
                  <a:srgbClr val="000000"/>
                </a:solidFill>
                <a:latin typeface="Calibri"/>
              </a:endParaRPr>
            </a:p>
          </p:txBody>
        </p:sp>
        <p:sp>
          <p:nvSpPr>
            <p:cNvPr id="473" name="Shape 1087"/>
            <p:cNvSpPr/>
            <p:nvPr/>
          </p:nvSpPr>
          <p:spPr>
            <a:xfrm>
              <a:off x="10670400" y="4093560"/>
              <a:ext cx="14040" cy="9360"/>
            </a:xfrm>
            <a:custGeom>
              <a:avLst/>
              <a:gdLst/>
              <a:ahLst/>
              <a:rect l="l" t="t" r="r" b="b"/>
              <a:pathLst>
                <a:path w="12559" h="14020">
                  <a:moveTo>
                    <a:pt x="1412" y="1102"/>
                  </a:moveTo>
                  <a:cubicBezTo>
                    <a:pt x="-2188" y="11902"/>
                    <a:pt x="1412" y="17302"/>
                    <a:pt x="8612" y="11902"/>
                  </a:cubicBezTo>
                  <a:cubicBezTo>
                    <a:pt x="19412" y="11902"/>
                    <a:pt x="5012" y="-4298"/>
                    <a:pt x="1412" y="1102"/>
                  </a:cubicBezTo>
                  <a:cubicBezTo>
                    <a:pt x="1412" y="6502"/>
                    <a:pt x="5012" y="1102"/>
                    <a:pt x="1412" y="1102"/>
                  </a:cubicBezTo>
                  <a:close/>
                </a:path>
              </a:pathLst>
            </a:custGeom>
            <a:solidFill>
              <a:srgbClr val="dadbdf"/>
            </a:solidFill>
            <a:ln w="4680">
              <a:solidFill>
                <a:srgbClr val="ffffff"/>
              </a:solidFill>
              <a:round/>
            </a:ln>
          </p:spPr>
          <p:style>
            <a:lnRef idx="0"/>
            <a:fillRef idx="0"/>
            <a:effectRef idx="0"/>
            <a:fontRef idx="minor"/>
          </p:style>
          <p:txBody>
            <a:bodyPr lIns="45360" rIns="45360" tIns="-37440" bIns="-37440" anchor="t">
              <a:noAutofit/>
            </a:bodyPr>
            <a:p>
              <a:endParaRPr b="0" lang="en-US" sz="1800" spc="-1" strike="noStrike">
                <a:solidFill>
                  <a:srgbClr val="000000"/>
                </a:solidFill>
                <a:latin typeface="Calibri"/>
              </a:endParaRPr>
            </a:p>
          </p:txBody>
        </p:sp>
        <p:sp>
          <p:nvSpPr>
            <p:cNvPr id="474" name="Shape 1088"/>
            <p:cNvSpPr/>
            <p:nvPr/>
          </p:nvSpPr>
          <p:spPr>
            <a:xfrm>
              <a:off x="10671480" y="4101120"/>
              <a:ext cx="50400" cy="78120"/>
            </a:xfrm>
            <a:custGeom>
              <a:avLst/>
              <a:gdLst/>
              <a:ahLst/>
              <a:rect l="l" t="t" r="r" b="b"/>
              <a:pathLst>
                <a:path w="19811" h="20221">
                  <a:moveTo>
                    <a:pt x="14025" y="0"/>
                  </a:moveTo>
                  <a:cubicBezTo>
                    <a:pt x="12482" y="0"/>
                    <a:pt x="12482" y="1029"/>
                    <a:pt x="12482" y="2057"/>
                  </a:cubicBezTo>
                  <a:cubicBezTo>
                    <a:pt x="12482" y="3086"/>
                    <a:pt x="12482" y="3086"/>
                    <a:pt x="9396" y="4114"/>
                  </a:cubicBezTo>
                  <a:cubicBezTo>
                    <a:pt x="7853" y="4114"/>
                    <a:pt x="4767" y="6171"/>
                    <a:pt x="3225" y="6171"/>
                  </a:cubicBezTo>
                  <a:cubicBezTo>
                    <a:pt x="139" y="9257"/>
                    <a:pt x="-1404" y="9257"/>
                    <a:pt x="1682" y="11314"/>
                  </a:cubicBezTo>
                  <a:cubicBezTo>
                    <a:pt x="3225" y="12343"/>
                    <a:pt x="1682" y="13371"/>
                    <a:pt x="1682" y="14400"/>
                  </a:cubicBezTo>
                  <a:cubicBezTo>
                    <a:pt x="139" y="16457"/>
                    <a:pt x="1682" y="17486"/>
                    <a:pt x="3225" y="18514"/>
                  </a:cubicBezTo>
                  <a:cubicBezTo>
                    <a:pt x="6310" y="19543"/>
                    <a:pt x="9396" y="19543"/>
                    <a:pt x="10939" y="19543"/>
                  </a:cubicBezTo>
                  <a:cubicBezTo>
                    <a:pt x="15567" y="21600"/>
                    <a:pt x="12482" y="18514"/>
                    <a:pt x="10939" y="16457"/>
                  </a:cubicBezTo>
                  <a:cubicBezTo>
                    <a:pt x="10939" y="16457"/>
                    <a:pt x="10939" y="12343"/>
                    <a:pt x="14025" y="12343"/>
                  </a:cubicBezTo>
                  <a:cubicBezTo>
                    <a:pt x="15567" y="12343"/>
                    <a:pt x="15567" y="17486"/>
                    <a:pt x="17110" y="17486"/>
                  </a:cubicBezTo>
                  <a:cubicBezTo>
                    <a:pt x="17110" y="17486"/>
                    <a:pt x="18653" y="14400"/>
                    <a:pt x="18653" y="14400"/>
                  </a:cubicBezTo>
                  <a:cubicBezTo>
                    <a:pt x="20196" y="12343"/>
                    <a:pt x="20196" y="11314"/>
                    <a:pt x="18653" y="10286"/>
                  </a:cubicBezTo>
                  <a:cubicBezTo>
                    <a:pt x="18653" y="7200"/>
                    <a:pt x="18653" y="1029"/>
                    <a:pt x="14025" y="0"/>
                  </a:cubicBezTo>
                  <a:cubicBezTo>
                    <a:pt x="12482" y="0"/>
                    <a:pt x="14025" y="1029"/>
                    <a:pt x="14025" y="0"/>
                  </a:cubicBezTo>
                  <a:close/>
                </a:path>
              </a:pathLst>
            </a:custGeom>
            <a:solidFill>
              <a:srgbClr val="dadbdf"/>
            </a:solidFill>
            <a:ln w="4680">
              <a:solidFill>
                <a:srgbClr val="ffffff"/>
              </a:solidFill>
              <a:round/>
            </a:ln>
          </p:spPr>
          <p:style>
            <a:lnRef idx="0"/>
            <a:fillRef idx="0"/>
            <a:effectRef idx="0"/>
            <a:fontRef idx="minor"/>
          </p:style>
          <p:txBody>
            <a:bodyPr lIns="45360" rIns="45360" tIns="31320" bIns="31320" anchor="t">
              <a:noAutofit/>
            </a:bodyPr>
            <a:p>
              <a:endParaRPr b="0" lang="en-US" sz="1800" spc="-1" strike="noStrike">
                <a:solidFill>
                  <a:srgbClr val="000000"/>
                </a:solidFill>
                <a:latin typeface="Calibri"/>
              </a:endParaRPr>
            </a:p>
          </p:txBody>
        </p:sp>
        <p:sp>
          <p:nvSpPr>
            <p:cNvPr id="475" name="Shape 1089"/>
            <p:cNvSpPr/>
            <p:nvPr/>
          </p:nvSpPr>
          <p:spPr>
            <a:xfrm>
              <a:off x="10632960" y="4120920"/>
              <a:ext cx="37440" cy="36720"/>
            </a:xfrm>
            <a:custGeom>
              <a:avLst/>
              <a:gdLst/>
              <a:ahLst/>
              <a:rect l="l" t="t" r="r" b="b"/>
              <a:pathLst>
                <a:path w="17252" h="19787">
                  <a:moveTo>
                    <a:pt x="14400" y="347"/>
                  </a:moveTo>
                  <a:cubicBezTo>
                    <a:pt x="10800" y="-1813"/>
                    <a:pt x="9000" y="6827"/>
                    <a:pt x="3600" y="6827"/>
                  </a:cubicBezTo>
                  <a:cubicBezTo>
                    <a:pt x="0" y="8987"/>
                    <a:pt x="0" y="17627"/>
                    <a:pt x="0" y="19787"/>
                  </a:cubicBezTo>
                  <a:cubicBezTo>
                    <a:pt x="1800" y="17627"/>
                    <a:pt x="1800" y="13307"/>
                    <a:pt x="3600" y="11147"/>
                  </a:cubicBezTo>
                  <a:cubicBezTo>
                    <a:pt x="3600" y="11147"/>
                    <a:pt x="7200" y="8987"/>
                    <a:pt x="7200" y="11147"/>
                  </a:cubicBezTo>
                  <a:cubicBezTo>
                    <a:pt x="7200" y="13307"/>
                    <a:pt x="10800" y="13307"/>
                    <a:pt x="10800" y="13307"/>
                  </a:cubicBezTo>
                  <a:cubicBezTo>
                    <a:pt x="12600" y="13307"/>
                    <a:pt x="12600" y="15467"/>
                    <a:pt x="14400" y="13307"/>
                  </a:cubicBezTo>
                  <a:cubicBezTo>
                    <a:pt x="14400" y="13307"/>
                    <a:pt x="14400" y="8987"/>
                    <a:pt x="14400" y="8987"/>
                  </a:cubicBezTo>
                  <a:cubicBezTo>
                    <a:pt x="16200" y="4667"/>
                    <a:pt x="19800" y="2507"/>
                    <a:pt x="14400" y="347"/>
                  </a:cubicBezTo>
                  <a:cubicBezTo>
                    <a:pt x="12600" y="347"/>
                    <a:pt x="21600" y="4667"/>
                    <a:pt x="14400" y="347"/>
                  </a:cubicBezTo>
                  <a:close/>
                </a:path>
              </a:pathLst>
            </a:custGeom>
            <a:solidFill>
              <a:srgbClr val="dadbdf"/>
            </a:solidFill>
            <a:ln w="4680">
              <a:solidFill>
                <a:srgbClr val="ffffff"/>
              </a:solidFill>
              <a:round/>
            </a:ln>
          </p:spPr>
          <p:style>
            <a:lnRef idx="0"/>
            <a:fillRef idx="0"/>
            <a:effectRef idx="0"/>
            <a:fontRef idx="minor"/>
          </p:style>
          <p:txBody>
            <a:bodyPr lIns="45360" rIns="45360" tIns="-10080" bIns="-10080" anchor="t">
              <a:noAutofit/>
            </a:bodyPr>
            <a:p>
              <a:endParaRPr b="0" lang="en-US" sz="1800" spc="-1" strike="noStrike">
                <a:solidFill>
                  <a:srgbClr val="000000"/>
                </a:solidFill>
                <a:latin typeface="Calibri"/>
              </a:endParaRPr>
            </a:p>
          </p:txBody>
        </p:sp>
        <p:sp>
          <p:nvSpPr>
            <p:cNvPr id="476" name="Shape 1090"/>
            <p:cNvSpPr/>
            <p:nvPr/>
          </p:nvSpPr>
          <p:spPr>
            <a:xfrm>
              <a:off x="10537200" y="4078440"/>
              <a:ext cx="44640" cy="47160"/>
            </a:xfrm>
            <a:custGeom>
              <a:avLst/>
              <a:gdLst/>
              <a:ahLst/>
              <a:rect l="l" t="t" r="r" b="b"/>
              <a:pathLst>
                <a:path w="20546" h="21600">
                  <a:moveTo>
                    <a:pt x="19800" y="0"/>
                  </a:moveTo>
                  <a:cubicBezTo>
                    <a:pt x="16200" y="1800"/>
                    <a:pt x="12600" y="7200"/>
                    <a:pt x="10800" y="10800"/>
                  </a:cubicBezTo>
                  <a:cubicBezTo>
                    <a:pt x="9000" y="12600"/>
                    <a:pt x="0" y="18000"/>
                    <a:pt x="0" y="21600"/>
                  </a:cubicBezTo>
                  <a:cubicBezTo>
                    <a:pt x="0" y="21600"/>
                    <a:pt x="5400" y="19800"/>
                    <a:pt x="7200" y="18000"/>
                  </a:cubicBezTo>
                  <a:cubicBezTo>
                    <a:pt x="9000" y="18000"/>
                    <a:pt x="12600" y="14400"/>
                    <a:pt x="14400" y="12600"/>
                  </a:cubicBezTo>
                  <a:cubicBezTo>
                    <a:pt x="14400" y="9000"/>
                    <a:pt x="16200" y="7200"/>
                    <a:pt x="18000" y="5400"/>
                  </a:cubicBezTo>
                  <a:cubicBezTo>
                    <a:pt x="19800" y="5400"/>
                    <a:pt x="21600" y="0"/>
                    <a:pt x="19800" y="0"/>
                  </a:cubicBezTo>
                  <a:close/>
                </a:path>
              </a:pathLst>
            </a:custGeom>
            <a:solidFill>
              <a:srgbClr val="dadbdf"/>
            </a:solidFill>
            <a:ln w="4680">
              <a:solidFill>
                <a:srgbClr val="ffffff"/>
              </a:solidFill>
              <a:round/>
            </a:ln>
          </p:spPr>
          <p:style>
            <a:lnRef idx="0"/>
            <a:fillRef idx="0"/>
            <a:effectRef idx="0"/>
            <a:fontRef idx="minor"/>
          </p:style>
          <p:txBody>
            <a:bodyPr lIns="45360" rIns="45360" tIns="360" bIns="360" anchor="t">
              <a:noAutofit/>
            </a:bodyPr>
            <a:p>
              <a:endParaRPr b="0" lang="en-US" sz="1800" spc="-1" strike="noStrike">
                <a:solidFill>
                  <a:srgbClr val="000000"/>
                </a:solidFill>
                <a:latin typeface="Calibri"/>
              </a:endParaRPr>
            </a:p>
          </p:txBody>
        </p:sp>
        <p:sp>
          <p:nvSpPr>
            <p:cNvPr id="477" name="Shape 1091"/>
            <p:cNvSpPr/>
            <p:nvPr/>
          </p:nvSpPr>
          <p:spPr>
            <a:xfrm>
              <a:off x="10675800" y="4019040"/>
              <a:ext cx="5400" cy="3960"/>
            </a:xfrm>
            <a:custGeom>
              <a:avLst/>
              <a:gdLst/>
              <a:ahLst/>
              <a:rect l="l" t="t" r="r" b="b"/>
              <a:pathLst>
                <a:path w="15274" h="21600">
                  <a:moveTo>
                    <a:pt x="0" y="21600"/>
                  </a:moveTo>
                  <a:cubicBezTo>
                    <a:pt x="10800" y="21600"/>
                    <a:pt x="21600" y="0"/>
                    <a:pt x="10800" y="0"/>
                  </a:cubicBezTo>
                  <a:cubicBezTo>
                    <a:pt x="0" y="0"/>
                    <a:pt x="0" y="21600"/>
                    <a:pt x="0" y="2160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78" name="Shape 1092"/>
            <p:cNvSpPr/>
            <p:nvPr/>
          </p:nvSpPr>
          <p:spPr>
            <a:xfrm>
              <a:off x="10107360" y="4185000"/>
              <a:ext cx="213480" cy="224280"/>
            </a:xfrm>
            <a:custGeom>
              <a:avLst/>
              <a:gdLst/>
              <a:ahLst/>
              <a:rect l="l" t="t" r="r" b="b"/>
              <a:pathLst>
                <a:path w="20870" h="21021">
                  <a:moveTo>
                    <a:pt x="4177" y="745"/>
                  </a:moveTo>
                  <a:cubicBezTo>
                    <a:pt x="3019" y="745"/>
                    <a:pt x="2248" y="745"/>
                    <a:pt x="1091" y="373"/>
                  </a:cubicBezTo>
                  <a:cubicBezTo>
                    <a:pt x="319" y="0"/>
                    <a:pt x="-452" y="-372"/>
                    <a:pt x="319" y="745"/>
                  </a:cubicBezTo>
                  <a:cubicBezTo>
                    <a:pt x="705" y="1490"/>
                    <a:pt x="1091" y="2607"/>
                    <a:pt x="1862" y="2980"/>
                  </a:cubicBezTo>
                  <a:cubicBezTo>
                    <a:pt x="2634" y="3352"/>
                    <a:pt x="3405" y="3725"/>
                    <a:pt x="3791" y="4469"/>
                  </a:cubicBezTo>
                  <a:cubicBezTo>
                    <a:pt x="4177" y="4842"/>
                    <a:pt x="4177" y="5587"/>
                    <a:pt x="4562" y="5959"/>
                  </a:cubicBezTo>
                  <a:cubicBezTo>
                    <a:pt x="5334" y="6331"/>
                    <a:pt x="5719" y="6331"/>
                    <a:pt x="6105" y="6704"/>
                  </a:cubicBezTo>
                  <a:cubicBezTo>
                    <a:pt x="6877" y="7449"/>
                    <a:pt x="6877" y="8566"/>
                    <a:pt x="7262" y="9311"/>
                  </a:cubicBezTo>
                  <a:cubicBezTo>
                    <a:pt x="7648" y="9683"/>
                    <a:pt x="8034" y="10056"/>
                    <a:pt x="8034" y="10056"/>
                  </a:cubicBezTo>
                  <a:cubicBezTo>
                    <a:pt x="8805" y="10800"/>
                    <a:pt x="9191" y="11173"/>
                    <a:pt x="9577" y="11918"/>
                  </a:cubicBezTo>
                  <a:cubicBezTo>
                    <a:pt x="10348" y="13035"/>
                    <a:pt x="10348" y="14152"/>
                    <a:pt x="11119" y="15269"/>
                  </a:cubicBezTo>
                  <a:cubicBezTo>
                    <a:pt x="12662" y="16387"/>
                    <a:pt x="13819" y="17876"/>
                    <a:pt x="15362" y="18994"/>
                  </a:cubicBezTo>
                  <a:cubicBezTo>
                    <a:pt x="16134" y="19738"/>
                    <a:pt x="16519" y="20111"/>
                    <a:pt x="17291" y="20856"/>
                  </a:cubicBezTo>
                  <a:cubicBezTo>
                    <a:pt x="17677" y="20856"/>
                    <a:pt x="19991" y="21228"/>
                    <a:pt x="20377" y="20856"/>
                  </a:cubicBezTo>
                  <a:cubicBezTo>
                    <a:pt x="20762" y="20483"/>
                    <a:pt x="19991" y="17504"/>
                    <a:pt x="20377" y="16759"/>
                  </a:cubicBezTo>
                  <a:cubicBezTo>
                    <a:pt x="20377" y="16387"/>
                    <a:pt x="21148" y="16387"/>
                    <a:pt x="20762" y="16014"/>
                  </a:cubicBezTo>
                  <a:cubicBezTo>
                    <a:pt x="20377" y="15642"/>
                    <a:pt x="19991" y="15269"/>
                    <a:pt x="19605" y="14897"/>
                  </a:cubicBezTo>
                  <a:cubicBezTo>
                    <a:pt x="19605" y="14897"/>
                    <a:pt x="19219" y="14525"/>
                    <a:pt x="18834" y="14525"/>
                  </a:cubicBezTo>
                  <a:cubicBezTo>
                    <a:pt x="18448" y="14525"/>
                    <a:pt x="18448" y="15269"/>
                    <a:pt x="18062" y="15269"/>
                  </a:cubicBezTo>
                  <a:cubicBezTo>
                    <a:pt x="18448" y="15269"/>
                    <a:pt x="18062" y="13780"/>
                    <a:pt x="18062" y="13780"/>
                  </a:cubicBezTo>
                  <a:cubicBezTo>
                    <a:pt x="17677" y="13407"/>
                    <a:pt x="17677" y="13407"/>
                    <a:pt x="17677" y="13035"/>
                  </a:cubicBezTo>
                  <a:cubicBezTo>
                    <a:pt x="17677" y="12662"/>
                    <a:pt x="16905" y="12290"/>
                    <a:pt x="16519" y="12290"/>
                  </a:cubicBezTo>
                  <a:cubicBezTo>
                    <a:pt x="16134" y="11918"/>
                    <a:pt x="15362" y="11545"/>
                    <a:pt x="15748" y="10800"/>
                  </a:cubicBezTo>
                  <a:cubicBezTo>
                    <a:pt x="15748" y="10800"/>
                    <a:pt x="15362" y="10428"/>
                    <a:pt x="15748" y="10428"/>
                  </a:cubicBezTo>
                  <a:cubicBezTo>
                    <a:pt x="15748" y="10056"/>
                    <a:pt x="16134" y="10428"/>
                    <a:pt x="16134" y="10056"/>
                  </a:cubicBezTo>
                  <a:cubicBezTo>
                    <a:pt x="16519" y="9311"/>
                    <a:pt x="14205" y="9311"/>
                    <a:pt x="14205" y="9683"/>
                  </a:cubicBezTo>
                  <a:cubicBezTo>
                    <a:pt x="14205" y="9311"/>
                    <a:pt x="15748" y="8938"/>
                    <a:pt x="14205" y="8938"/>
                  </a:cubicBezTo>
                  <a:cubicBezTo>
                    <a:pt x="13819" y="8938"/>
                    <a:pt x="13434" y="8566"/>
                    <a:pt x="13434" y="8566"/>
                  </a:cubicBezTo>
                  <a:cubicBezTo>
                    <a:pt x="13434" y="8194"/>
                    <a:pt x="13819" y="8194"/>
                    <a:pt x="13819" y="8194"/>
                  </a:cubicBezTo>
                  <a:cubicBezTo>
                    <a:pt x="13819" y="7821"/>
                    <a:pt x="13048" y="7821"/>
                    <a:pt x="13048" y="7821"/>
                  </a:cubicBezTo>
                  <a:cubicBezTo>
                    <a:pt x="13048" y="7821"/>
                    <a:pt x="13434" y="7449"/>
                    <a:pt x="12662" y="7449"/>
                  </a:cubicBezTo>
                  <a:cubicBezTo>
                    <a:pt x="12277" y="7076"/>
                    <a:pt x="11891" y="7076"/>
                    <a:pt x="11505" y="6704"/>
                  </a:cubicBezTo>
                  <a:cubicBezTo>
                    <a:pt x="10348" y="5214"/>
                    <a:pt x="11119" y="6704"/>
                    <a:pt x="11119" y="6704"/>
                  </a:cubicBezTo>
                  <a:cubicBezTo>
                    <a:pt x="10734" y="6704"/>
                    <a:pt x="9577" y="5587"/>
                    <a:pt x="9191" y="5587"/>
                  </a:cubicBezTo>
                  <a:cubicBezTo>
                    <a:pt x="8805" y="4842"/>
                    <a:pt x="8419" y="4097"/>
                    <a:pt x="7648" y="3725"/>
                  </a:cubicBezTo>
                  <a:cubicBezTo>
                    <a:pt x="6877" y="3352"/>
                    <a:pt x="6491" y="2980"/>
                    <a:pt x="5719" y="2235"/>
                  </a:cubicBezTo>
                  <a:cubicBezTo>
                    <a:pt x="5334" y="1862"/>
                    <a:pt x="4948" y="745"/>
                    <a:pt x="4177" y="74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79" name="Shape 1093"/>
            <p:cNvSpPr/>
            <p:nvPr/>
          </p:nvSpPr>
          <p:spPr>
            <a:xfrm>
              <a:off x="10145160" y="4264560"/>
              <a:ext cx="13680" cy="16560"/>
            </a:xfrm>
            <a:custGeom>
              <a:avLst/>
              <a:gdLst/>
              <a:ahLst/>
              <a:rect l="l" t="t" r="r" b="b"/>
              <a:pathLst>
                <a:path w="14699" h="17968">
                  <a:moveTo>
                    <a:pt x="13829" y="17280"/>
                  </a:moveTo>
                  <a:cubicBezTo>
                    <a:pt x="18149" y="12960"/>
                    <a:pt x="5189" y="0"/>
                    <a:pt x="869" y="0"/>
                  </a:cubicBezTo>
                  <a:cubicBezTo>
                    <a:pt x="-3451" y="4320"/>
                    <a:pt x="9509" y="21600"/>
                    <a:pt x="13829"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480" name="Shape 1094"/>
            <p:cNvSpPr/>
            <p:nvPr/>
          </p:nvSpPr>
          <p:spPr>
            <a:xfrm>
              <a:off x="10173240" y="4311720"/>
              <a:ext cx="12600" cy="16560"/>
            </a:xfrm>
            <a:custGeom>
              <a:avLst/>
              <a:gdLst/>
              <a:ahLst/>
              <a:rect l="l" t="t" r="r" b="b"/>
              <a:pathLst>
                <a:path w="14699" h="17968">
                  <a:moveTo>
                    <a:pt x="13829" y="17280"/>
                  </a:moveTo>
                  <a:cubicBezTo>
                    <a:pt x="18149" y="12960"/>
                    <a:pt x="5189" y="0"/>
                    <a:pt x="869" y="0"/>
                  </a:cubicBezTo>
                  <a:cubicBezTo>
                    <a:pt x="-3451" y="4320"/>
                    <a:pt x="9509" y="21600"/>
                    <a:pt x="13829"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481" name="Shape 1095"/>
            <p:cNvSpPr/>
            <p:nvPr/>
          </p:nvSpPr>
          <p:spPr>
            <a:xfrm>
              <a:off x="10303920" y="4326120"/>
              <a:ext cx="28080" cy="25560"/>
            </a:xfrm>
            <a:custGeom>
              <a:avLst/>
              <a:gdLst/>
              <a:ahLst/>
              <a:rect l="l" t="t" r="r" b="b"/>
              <a:pathLst>
                <a:path w="21600" h="19725">
                  <a:moveTo>
                    <a:pt x="21600" y="19725"/>
                  </a:moveTo>
                  <a:cubicBezTo>
                    <a:pt x="21600" y="13554"/>
                    <a:pt x="15429" y="13554"/>
                    <a:pt x="15429" y="7382"/>
                  </a:cubicBezTo>
                  <a:cubicBezTo>
                    <a:pt x="15429" y="1211"/>
                    <a:pt x="6171" y="-1875"/>
                    <a:pt x="0" y="1211"/>
                  </a:cubicBezTo>
                  <a:cubicBezTo>
                    <a:pt x="0" y="4296"/>
                    <a:pt x="0" y="7382"/>
                    <a:pt x="3086" y="7382"/>
                  </a:cubicBezTo>
                  <a:cubicBezTo>
                    <a:pt x="9257" y="7382"/>
                    <a:pt x="6171" y="10468"/>
                    <a:pt x="9257" y="13554"/>
                  </a:cubicBezTo>
                  <a:cubicBezTo>
                    <a:pt x="9257" y="16639"/>
                    <a:pt x="21600" y="19725"/>
                    <a:pt x="21600" y="19725"/>
                  </a:cubicBezTo>
                  <a:close/>
                </a:path>
              </a:pathLst>
            </a:custGeom>
            <a:solidFill>
              <a:srgbClr val="dadbdf"/>
            </a:solidFill>
            <a:ln w="4680">
              <a:solidFill>
                <a:srgbClr val="ffffff"/>
              </a:solidFill>
              <a:round/>
            </a:ln>
          </p:spPr>
          <p:style>
            <a:lnRef idx="0"/>
            <a:fillRef idx="0"/>
            <a:effectRef idx="0"/>
            <a:fontRef idx="minor"/>
          </p:style>
          <p:txBody>
            <a:bodyPr lIns="45360" rIns="45360" tIns="-21240" bIns="-21240" anchor="t">
              <a:noAutofit/>
            </a:bodyPr>
            <a:p>
              <a:endParaRPr b="0" lang="en-US" sz="1800" spc="-1" strike="noStrike">
                <a:solidFill>
                  <a:srgbClr val="000000"/>
                </a:solidFill>
                <a:latin typeface="Calibri"/>
              </a:endParaRPr>
            </a:p>
          </p:txBody>
        </p:sp>
        <p:sp>
          <p:nvSpPr>
            <p:cNvPr id="482" name="Shape 1096"/>
            <p:cNvSpPr/>
            <p:nvPr/>
          </p:nvSpPr>
          <p:spPr>
            <a:xfrm>
              <a:off x="10350000" y="4344120"/>
              <a:ext cx="10800" cy="12600"/>
            </a:xfrm>
            <a:custGeom>
              <a:avLst/>
              <a:gdLst/>
              <a:ahLst/>
              <a:rect l="l" t="t" r="r" b="b"/>
              <a:pathLst>
                <a:path w="16200" h="18600">
                  <a:moveTo>
                    <a:pt x="8100" y="16200"/>
                  </a:moveTo>
                  <a:cubicBezTo>
                    <a:pt x="-2700" y="21600"/>
                    <a:pt x="-2700" y="5400"/>
                    <a:pt x="8100" y="0"/>
                  </a:cubicBezTo>
                  <a:cubicBezTo>
                    <a:pt x="18900" y="0"/>
                    <a:pt x="18900" y="16200"/>
                    <a:pt x="8100" y="16200"/>
                  </a:cubicBezTo>
                  <a:cubicBezTo>
                    <a:pt x="2700" y="21600"/>
                    <a:pt x="13500" y="16200"/>
                    <a:pt x="8100" y="16200"/>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483" name="Shape 1097"/>
            <p:cNvSpPr/>
            <p:nvPr/>
          </p:nvSpPr>
          <p:spPr>
            <a:xfrm>
              <a:off x="10307880" y="4411440"/>
              <a:ext cx="178920" cy="54720"/>
            </a:xfrm>
            <a:custGeom>
              <a:avLst/>
              <a:gdLst/>
              <a:ahLst/>
              <a:rect l="l" t="t" r="r" b="b"/>
              <a:pathLst>
                <a:path w="21258" h="20000">
                  <a:moveTo>
                    <a:pt x="4226" y="0"/>
                  </a:moveTo>
                  <a:cubicBezTo>
                    <a:pt x="3287" y="1440"/>
                    <a:pt x="2817" y="0"/>
                    <a:pt x="1409" y="0"/>
                  </a:cubicBezTo>
                  <a:cubicBezTo>
                    <a:pt x="1409" y="0"/>
                    <a:pt x="0" y="4320"/>
                    <a:pt x="0" y="5760"/>
                  </a:cubicBezTo>
                  <a:cubicBezTo>
                    <a:pt x="0" y="7200"/>
                    <a:pt x="1878" y="5760"/>
                    <a:pt x="2348" y="8640"/>
                  </a:cubicBezTo>
                  <a:cubicBezTo>
                    <a:pt x="2817" y="11520"/>
                    <a:pt x="4226" y="11520"/>
                    <a:pt x="5165" y="12960"/>
                  </a:cubicBezTo>
                  <a:cubicBezTo>
                    <a:pt x="6104" y="12960"/>
                    <a:pt x="6574" y="12960"/>
                    <a:pt x="7043" y="12960"/>
                  </a:cubicBezTo>
                  <a:cubicBezTo>
                    <a:pt x="8452" y="12960"/>
                    <a:pt x="9861" y="14400"/>
                    <a:pt x="11270" y="15840"/>
                  </a:cubicBezTo>
                  <a:cubicBezTo>
                    <a:pt x="13617" y="17280"/>
                    <a:pt x="16435" y="15840"/>
                    <a:pt x="18783" y="18720"/>
                  </a:cubicBezTo>
                  <a:cubicBezTo>
                    <a:pt x="19252" y="18720"/>
                    <a:pt x="20661" y="21600"/>
                    <a:pt x="21130" y="18720"/>
                  </a:cubicBezTo>
                  <a:cubicBezTo>
                    <a:pt x="21600" y="18720"/>
                    <a:pt x="20661" y="12960"/>
                    <a:pt x="20191" y="12960"/>
                  </a:cubicBezTo>
                  <a:cubicBezTo>
                    <a:pt x="19722" y="11520"/>
                    <a:pt x="19722" y="12960"/>
                    <a:pt x="19252" y="12960"/>
                  </a:cubicBezTo>
                  <a:cubicBezTo>
                    <a:pt x="18313" y="14400"/>
                    <a:pt x="17843" y="12960"/>
                    <a:pt x="17374" y="12960"/>
                  </a:cubicBezTo>
                  <a:cubicBezTo>
                    <a:pt x="16904" y="11520"/>
                    <a:pt x="16904" y="10080"/>
                    <a:pt x="16435" y="8640"/>
                  </a:cubicBezTo>
                  <a:cubicBezTo>
                    <a:pt x="16435" y="7200"/>
                    <a:pt x="15496" y="7200"/>
                    <a:pt x="15026" y="5760"/>
                  </a:cubicBezTo>
                  <a:cubicBezTo>
                    <a:pt x="14557" y="5760"/>
                    <a:pt x="13148" y="4320"/>
                    <a:pt x="12678" y="4320"/>
                  </a:cubicBezTo>
                  <a:cubicBezTo>
                    <a:pt x="12209" y="4320"/>
                    <a:pt x="11739" y="5760"/>
                    <a:pt x="11739" y="5760"/>
                  </a:cubicBezTo>
                  <a:cubicBezTo>
                    <a:pt x="11270" y="7200"/>
                    <a:pt x="10800" y="7200"/>
                    <a:pt x="9861" y="7200"/>
                  </a:cubicBezTo>
                  <a:cubicBezTo>
                    <a:pt x="8922" y="7200"/>
                    <a:pt x="7983" y="5760"/>
                    <a:pt x="7043" y="4320"/>
                  </a:cubicBezTo>
                  <a:cubicBezTo>
                    <a:pt x="6574" y="2880"/>
                    <a:pt x="5635" y="2880"/>
                    <a:pt x="5165" y="2880"/>
                  </a:cubicBezTo>
                  <a:cubicBezTo>
                    <a:pt x="5165" y="2880"/>
                    <a:pt x="4696" y="0"/>
                    <a:pt x="4226" y="0"/>
                  </a:cubicBezTo>
                  <a:cubicBezTo>
                    <a:pt x="3757" y="1440"/>
                    <a:pt x="4696" y="0"/>
                    <a:pt x="4226" y="0"/>
                  </a:cubicBezTo>
                  <a:close/>
                </a:path>
              </a:pathLst>
            </a:custGeom>
            <a:solidFill>
              <a:srgbClr val="dadbdf"/>
            </a:solidFill>
            <a:ln w="4680">
              <a:solidFill>
                <a:srgbClr val="ffffff"/>
              </a:solidFill>
              <a:round/>
            </a:ln>
          </p:spPr>
          <p:style>
            <a:lnRef idx="0"/>
            <a:fillRef idx="0"/>
            <a:effectRef idx="0"/>
            <a:fontRef idx="minor"/>
          </p:style>
          <p:txBody>
            <a:bodyPr lIns="45360" rIns="45360" tIns="7920" bIns="7920" anchor="t">
              <a:noAutofit/>
            </a:bodyPr>
            <a:p>
              <a:endParaRPr b="0" lang="en-US" sz="1800" spc="-1" strike="noStrike">
                <a:solidFill>
                  <a:srgbClr val="000000"/>
                </a:solidFill>
                <a:latin typeface="Calibri"/>
              </a:endParaRPr>
            </a:p>
          </p:txBody>
        </p:sp>
        <p:sp>
          <p:nvSpPr>
            <p:cNvPr id="484" name="Shape 1098"/>
            <p:cNvSpPr/>
            <p:nvPr/>
          </p:nvSpPr>
          <p:spPr>
            <a:xfrm>
              <a:off x="10451520" y="4429080"/>
              <a:ext cx="21960" cy="9000"/>
            </a:xfrm>
            <a:custGeom>
              <a:avLst/>
              <a:gdLst/>
              <a:ahLst/>
              <a:rect l="l" t="t" r="r" b="b"/>
              <a:pathLst>
                <a:path w="15503" h="16362">
                  <a:moveTo>
                    <a:pt x="2003" y="16362"/>
                  </a:moveTo>
                  <a:cubicBezTo>
                    <a:pt x="-6097" y="9162"/>
                    <a:pt x="12803" y="-5238"/>
                    <a:pt x="15503" y="1962"/>
                  </a:cubicBezTo>
                  <a:cubicBezTo>
                    <a:pt x="15503" y="9162"/>
                    <a:pt x="4703" y="16362"/>
                    <a:pt x="2003" y="16362"/>
                  </a:cubicBezTo>
                  <a:cubicBezTo>
                    <a:pt x="-697" y="16362"/>
                    <a:pt x="4703" y="16362"/>
                    <a:pt x="2003" y="16362"/>
                  </a:cubicBezTo>
                  <a:close/>
                </a:path>
              </a:pathLst>
            </a:custGeom>
            <a:solidFill>
              <a:srgbClr val="dadbdf"/>
            </a:solidFill>
            <a:ln w="4680">
              <a:solidFill>
                <a:srgbClr val="ffffff"/>
              </a:solidFill>
              <a:round/>
            </a:ln>
          </p:spPr>
          <p:style>
            <a:lnRef idx="0"/>
            <a:fillRef idx="0"/>
            <a:effectRef idx="0"/>
            <a:fontRef idx="minor"/>
          </p:style>
          <p:txBody>
            <a:bodyPr lIns="45360" rIns="45360" tIns="-37800" bIns="-37800" anchor="t">
              <a:noAutofit/>
            </a:bodyPr>
            <a:p>
              <a:endParaRPr b="0" lang="en-US" sz="1800" spc="-1" strike="noStrike">
                <a:solidFill>
                  <a:srgbClr val="000000"/>
                </a:solidFill>
                <a:latin typeface="Calibri"/>
              </a:endParaRPr>
            </a:p>
          </p:txBody>
        </p:sp>
        <p:sp>
          <p:nvSpPr>
            <p:cNvPr id="485" name="Shape 1099"/>
            <p:cNvSpPr/>
            <p:nvPr/>
          </p:nvSpPr>
          <p:spPr>
            <a:xfrm>
              <a:off x="10488600" y="4454640"/>
              <a:ext cx="16560" cy="15840"/>
            </a:xfrm>
            <a:custGeom>
              <a:avLst/>
              <a:gdLst/>
              <a:ahLst/>
              <a:rect l="l" t="t" r="r" b="b"/>
              <a:pathLst>
                <a:path w="14997" h="21600">
                  <a:moveTo>
                    <a:pt x="8181" y="0"/>
                  </a:moveTo>
                  <a:cubicBezTo>
                    <a:pt x="4581" y="0"/>
                    <a:pt x="-2619" y="0"/>
                    <a:pt x="981" y="5400"/>
                  </a:cubicBezTo>
                  <a:cubicBezTo>
                    <a:pt x="981" y="5400"/>
                    <a:pt x="8181" y="21600"/>
                    <a:pt x="8181" y="21600"/>
                  </a:cubicBezTo>
                  <a:cubicBezTo>
                    <a:pt x="15381" y="21600"/>
                    <a:pt x="18981" y="0"/>
                    <a:pt x="8181" y="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486" name="Shape 1100"/>
            <p:cNvSpPr/>
            <p:nvPr/>
          </p:nvSpPr>
          <p:spPr>
            <a:xfrm>
              <a:off x="10512720" y="4458600"/>
              <a:ext cx="14040" cy="9720"/>
            </a:xfrm>
            <a:custGeom>
              <a:avLst/>
              <a:gdLst/>
              <a:ahLst/>
              <a:rect l="l" t="t" r="r" b="b"/>
              <a:pathLst>
                <a:path w="16090" h="17600">
                  <a:moveTo>
                    <a:pt x="14170" y="7200"/>
                  </a:moveTo>
                  <a:cubicBezTo>
                    <a:pt x="14170" y="7200"/>
                    <a:pt x="9850" y="0"/>
                    <a:pt x="5530" y="0"/>
                  </a:cubicBezTo>
                  <a:cubicBezTo>
                    <a:pt x="5530" y="7200"/>
                    <a:pt x="-3110" y="14400"/>
                    <a:pt x="1210" y="14400"/>
                  </a:cubicBezTo>
                  <a:cubicBezTo>
                    <a:pt x="1210" y="14400"/>
                    <a:pt x="5530" y="21600"/>
                    <a:pt x="5530" y="14400"/>
                  </a:cubicBezTo>
                  <a:cubicBezTo>
                    <a:pt x="9850" y="14400"/>
                    <a:pt x="18490" y="14400"/>
                    <a:pt x="14170" y="7200"/>
                  </a:cubicBezTo>
                  <a:cubicBezTo>
                    <a:pt x="14170" y="7200"/>
                    <a:pt x="18490" y="14400"/>
                    <a:pt x="14170" y="7200"/>
                  </a:cubicBezTo>
                  <a:close/>
                </a:path>
              </a:pathLst>
            </a:custGeom>
            <a:solidFill>
              <a:srgbClr val="dadbdf"/>
            </a:solidFill>
            <a:ln w="4680">
              <a:solidFill>
                <a:srgbClr val="ffffff"/>
              </a:solidFill>
              <a:round/>
            </a:ln>
          </p:spPr>
          <p:style>
            <a:lnRef idx="0"/>
            <a:fillRef idx="0"/>
            <a:effectRef idx="0"/>
            <a:fontRef idx="minor"/>
          </p:style>
          <p:txBody>
            <a:bodyPr lIns="45360" rIns="45360" tIns="-37080" bIns="-37080" anchor="t">
              <a:noAutofit/>
            </a:bodyPr>
            <a:p>
              <a:endParaRPr b="0" lang="en-US" sz="1800" spc="-1" strike="noStrike">
                <a:solidFill>
                  <a:srgbClr val="000000"/>
                </a:solidFill>
                <a:latin typeface="Calibri"/>
              </a:endParaRPr>
            </a:p>
          </p:txBody>
        </p:sp>
        <p:sp>
          <p:nvSpPr>
            <p:cNvPr id="487" name="Shape 1101"/>
            <p:cNvSpPr/>
            <p:nvPr/>
          </p:nvSpPr>
          <p:spPr>
            <a:xfrm>
              <a:off x="10528200" y="4459680"/>
              <a:ext cx="21960" cy="15120"/>
            </a:xfrm>
            <a:custGeom>
              <a:avLst/>
              <a:gdLst/>
              <a:ahLst/>
              <a:rect l="l" t="t" r="r" b="b"/>
              <a:pathLst>
                <a:path w="16770" h="20250">
                  <a:moveTo>
                    <a:pt x="3563" y="4050"/>
                  </a:moveTo>
                  <a:cubicBezTo>
                    <a:pt x="478" y="9450"/>
                    <a:pt x="-2608" y="20250"/>
                    <a:pt x="3563" y="20250"/>
                  </a:cubicBezTo>
                  <a:cubicBezTo>
                    <a:pt x="9735" y="20250"/>
                    <a:pt x="12821" y="20250"/>
                    <a:pt x="15906" y="14850"/>
                  </a:cubicBezTo>
                  <a:cubicBezTo>
                    <a:pt x="18992" y="14850"/>
                    <a:pt x="12821" y="9450"/>
                    <a:pt x="12821" y="4050"/>
                  </a:cubicBezTo>
                  <a:cubicBezTo>
                    <a:pt x="9735" y="-1350"/>
                    <a:pt x="6649" y="-1350"/>
                    <a:pt x="3563" y="4050"/>
                  </a:cubicBezTo>
                  <a:close/>
                </a:path>
              </a:pathLst>
            </a:custGeom>
            <a:solidFill>
              <a:srgbClr val="dadbdf"/>
            </a:solidFill>
            <a:ln w="4680">
              <a:solidFill>
                <a:srgbClr val="ffffff"/>
              </a:solidFill>
              <a:round/>
            </a:ln>
          </p:spPr>
          <p:style>
            <a:lnRef idx="0"/>
            <a:fillRef idx="0"/>
            <a:effectRef idx="0"/>
            <a:fontRef idx="minor"/>
          </p:style>
          <p:txBody>
            <a:bodyPr lIns="45360" rIns="45360" tIns="-31680" bIns="-31680" anchor="t">
              <a:noAutofit/>
            </a:bodyPr>
            <a:p>
              <a:endParaRPr b="0" lang="en-US" sz="1800" spc="-1" strike="noStrike">
                <a:solidFill>
                  <a:srgbClr val="000000"/>
                </a:solidFill>
                <a:latin typeface="Calibri"/>
              </a:endParaRPr>
            </a:p>
          </p:txBody>
        </p:sp>
        <p:sp>
          <p:nvSpPr>
            <p:cNvPr id="488" name="Shape 1102"/>
            <p:cNvSpPr/>
            <p:nvPr/>
          </p:nvSpPr>
          <p:spPr>
            <a:xfrm>
              <a:off x="10545120" y="4454640"/>
              <a:ext cx="31320" cy="17640"/>
            </a:xfrm>
            <a:custGeom>
              <a:avLst/>
              <a:gdLst/>
              <a:ahLst/>
              <a:rect l="l" t="t" r="r" b="b"/>
              <a:pathLst>
                <a:path w="20925" h="19069">
                  <a:moveTo>
                    <a:pt x="2700" y="0"/>
                  </a:moveTo>
                  <a:cubicBezTo>
                    <a:pt x="0" y="0"/>
                    <a:pt x="0" y="0"/>
                    <a:pt x="0" y="4320"/>
                  </a:cubicBezTo>
                  <a:cubicBezTo>
                    <a:pt x="0" y="4320"/>
                    <a:pt x="5400" y="4320"/>
                    <a:pt x="5400" y="8640"/>
                  </a:cubicBezTo>
                  <a:cubicBezTo>
                    <a:pt x="5400" y="8640"/>
                    <a:pt x="5400" y="12960"/>
                    <a:pt x="5400" y="12960"/>
                  </a:cubicBezTo>
                  <a:cubicBezTo>
                    <a:pt x="5400" y="17280"/>
                    <a:pt x="16200" y="21600"/>
                    <a:pt x="18900" y="17280"/>
                  </a:cubicBezTo>
                  <a:cubicBezTo>
                    <a:pt x="21600" y="12960"/>
                    <a:pt x="21600" y="8640"/>
                    <a:pt x="18900" y="4320"/>
                  </a:cubicBezTo>
                  <a:cubicBezTo>
                    <a:pt x="13500" y="4320"/>
                    <a:pt x="8100" y="4320"/>
                    <a:pt x="2700" y="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489" name="Shape 1103"/>
            <p:cNvSpPr/>
            <p:nvPr/>
          </p:nvSpPr>
          <p:spPr>
            <a:xfrm>
              <a:off x="10588320" y="4458600"/>
              <a:ext cx="48240" cy="11520"/>
            </a:xfrm>
            <a:custGeom>
              <a:avLst/>
              <a:gdLst/>
              <a:ahLst/>
              <a:rect l="l" t="t" r="r" b="b"/>
              <a:pathLst>
                <a:path w="21600" h="15600">
                  <a:moveTo>
                    <a:pt x="3600" y="0"/>
                  </a:moveTo>
                  <a:cubicBezTo>
                    <a:pt x="3600" y="0"/>
                    <a:pt x="0" y="5400"/>
                    <a:pt x="0" y="10800"/>
                  </a:cubicBezTo>
                  <a:cubicBezTo>
                    <a:pt x="0" y="10800"/>
                    <a:pt x="19800" y="21600"/>
                    <a:pt x="21600" y="10800"/>
                  </a:cubicBezTo>
                  <a:cubicBezTo>
                    <a:pt x="21600" y="5400"/>
                    <a:pt x="16200" y="10800"/>
                    <a:pt x="16200" y="10800"/>
                  </a:cubicBezTo>
                  <a:cubicBezTo>
                    <a:pt x="12600" y="10800"/>
                    <a:pt x="7200" y="5400"/>
                    <a:pt x="3600" y="0"/>
                  </a:cubicBezTo>
                  <a:cubicBezTo>
                    <a:pt x="3600" y="0"/>
                    <a:pt x="5400" y="0"/>
                    <a:pt x="3600" y="0"/>
                  </a:cubicBezTo>
                  <a:close/>
                </a:path>
              </a:pathLst>
            </a:custGeom>
            <a:solidFill>
              <a:srgbClr val="dadbdf"/>
            </a:solidFill>
            <a:ln w="4680">
              <a:solidFill>
                <a:srgbClr val="ffffff"/>
              </a:solidFill>
              <a:round/>
            </a:ln>
          </p:spPr>
          <p:style>
            <a:lnRef idx="0"/>
            <a:fillRef idx="0"/>
            <a:effectRef idx="0"/>
            <a:fontRef idx="minor"/>
          </p:style>
          <p:txBody>
            <a:bodyPr lIns="45360" rIns="45360" tIns="-35280" bIns="-35280" anchor="t">
              <a:noAutofit/>
            </a:bodyPr>
            <a:p>
              <a:endParaRPr b="0" lang="en-US" sz="1800" spc="-1" strike="noStrike">
                <a:solidFill>
                  <a:srgbClr val="000000"/>
                </a:solidFill>
                <a:latin typeface="Calibri"/>
              </a:endParaRPr>
            </a:p>
          </p:txBody>
        </p:sp>
        <p:sp>
          <p:nvSpPr>
            <p:cNvPr id="490" name="Shape 1104"/>
            <p:cNvSpPr/>
            <p:nvPr/>
          </p:nvSpPr>
          <p:spPr>
            <a:xfrm>
              <a:off x="10573560" y="4481640"/>
              <a:ext cx="33480" cy="17640"/>
            </a:xfrm>
            <a:custGeom>
              <a:avLst/>
              <a:gdLst/>
              <a:ahLst/>
              <a:rect l="l" t="t" r="r" b="b"/>
              <a:pathLst>
                <a:path w="16807" h="15869">
                  <a:moveTo>
                    <a:pt x="0" y="0"/>
                  </a:moveTo>
                  <a:cubicBezTo>
                    <a:pt x="1964" y="0"/>
                    <a:pt x="13745" y="21600"/>
                    <a:pt x="15709" y="14400"/>
                  </a:cubicBezTo>
                  <a:cubicBezTo>
                    <a:pt x="21600" y="3600"/>
                    <a:pt x="1964" y="0"/>
                    <a:pt x="0" y="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491" name="Shape 1105"/>
            <p:cNvSpPr/>
            <p:nvPr/>
          </p:nvSpPr>
          <p:spPr>
            <a:xfrm>
              <a:off x="10715760" y="4354920"/>
              <a:ext cx="15480" cy="13680"/>
            </a:xfrm>
            <a:custGeom>
              <a:avLst/>
              <a:gdLst/>
              <a:ahLst/>
              <a:rect l="l" t="t" r="r" b="b"/>
              <a:pathLst>
                <a:path w="14046" h="18600">
                  <a:moveTo>
                    <a:pt x="6521" y="16200"/>
                  </a:moveTo>
                  <a:cubicBezTo>
                    <a:pt x="-4279" y="21600"/>
                    <a:pt x="-679" y="0"/>
                    <a:pt x="10121" y="0"/>
                  </a:cubicBezTo>
                  <a:cubicBezTo>
                    <a:pt x="17321" y="0"/>
                    <a:pt x="13721" y="16200"/>
                    <a:pt x="6521" y="16200"/>
                  </a:cubicBezTo>
                  <a:cubicBezTo>
                    <a:pt x="2921" y="21600"/>
                    <a:pt x="13721" y="16200"/>
                    <a:pt x="6521" y="16200"/>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492" name="Shape 1106"/>
            <p:cNvSpPr/>
            <p:nvPr/>
          </p:nvSpPr>
          <p:spPr>
            <a:xfrm>
              <a:off x="10753920" y="4352040"/>
              <a:ext cx="56880" cy="18720"/>
            </a:xfrm>
            <a:custGeom>
              <a:avLst/>
              <a:gdLst/>
              <a:ahLst/>
              <a:rect l="l" t="t" r="r" b="b"/>
              <a:pathLst>
                <a:path w="20756" h="21600">
                  <a:moveTo>
                    <a:pt x="2036" y="12960"/>
                  </a:moveTo>
                  <a:cubicBezTo>
                    <a:pt x="596" y="12960"/>
                    <a:pt x="-844" y="8640"/>
                    <a:pt x="596" y="4320"/>
                  </a:cubicBezTo>
                  <a:cubicBezTo>
                    <a:pt x="2036" y="0"/>
                    <a:pt x="3476" y="0"/>
                    <a:pt x="6356" y="0"/>
                  </a:cubicBezTo>
                  <a:cubicBezTo>
                    <a:pt x="10676" y="0"/>
                    <a:pt x="13556" y="0"/>
                    <a:pt x="17876" y="8640"/>
                  </a:cubicBezTo>
                  <a:cubicBezTo>
                    <a:pt x="19316" y="12960"/>
                    <a:pt x="20756" y="17280"/>
                    <a:pt x="20756" y="21600"/>
                  </a:cubicBezTo>
                  <a:cubicBezTo>
                    <a:pt x="19316" y="21600"/>
                    <a:pt x="14996" y="12960"/>
                    <a:pt x="14996" y="12960"/>
                  </a:cubicBezTo>
                  <a:cubicBezTo>
                    <a:pt x="10676" y="8640"/>
                    <a:pt x="6356" y="12960"/>
                    <a:pt x="2036" y="12960"/>
                  </a:cubicBezTo>
                  <a:cubicBezTo>
                    <a:pt x="596" y="12960"/>
                    <a:pt x="3476" y="12960"/>
                    <a:pt x="2036" y="12960"/>
                  </a:cubicBezTo>
                  <a:close/>
                </a:path>
              </a:pathLst>
            </a:custGeom>
            <a:solidFill>
              <a:srgbClr val="dadbdf"/>
            </a:solidFill>
            <a:ln w="4680">
              <a:solidFill>
                <a:srgbClr val="ffffff"/>
              </a:solidFill>
              <a:round/>
            </a:ln>
          </p:spPr>
          <p:style>
            <a:lnRef idx="0"/>
            <a:fillRef idx="0"/>
            <a:effectRef idx="0"/>
            <a:fontRef idx="minor"/>
          </p:style>
          <p:txBody>
            <a:bodyPr lIns="45360" rIns="45360" tIns="-28080" bIns="-28080" anchor="t">
              <a:noAutofit/>
            </a:bodyPr>
            <a:p>
              <a:endParaRPr b="0" lang="en-US" sz="1800" spc="-1" strike="noStrike">
                <a:solidFill>
                  <a:srgbClr val="000000"/>
                </a:solidFill>
                <a:latin typeface="Calibri"/>
              </a:endParaRPr>
            </a:p>
          </p:txBody>
        </p:sp>
        <p:sp>
          <p:nvSpPr>
            <p:cNvPr id="493" name="Shape 1107"/>
            <p:cNvSpPr/>
            <p:nvPr/>
          </p:nvSpPr>
          <p:spPr>
            <a:xfrm>
              <a:off x="10570680" y="4263840"/>
              <a:ext cx="125280" cy="139320"/>
            </a:xfrm>
            <a:custGeom>
              <a:avLst/>
              <a:gdLst/>
              <a:ahLst/>
              <a:rect l="l" t="t" r="r" b="b"/>
              <a:pathLst>
                <a:path w="21368" h="21096">
                  <a:moveTo>
                    <a:pt x="8543" y="18696"/>
                  </a:moveTo>
                  <a:cubicBezTo>
                    <a:pt x="8543" y="18096"/>
                    <a:pt x="9218" y="18096"/>
                    <a:pt x="9218" y="17496"/>
                  </a:cubicBezTo>
                  <a:cubicBezTo>
                    <a:pt x="9218" y="16896"/>
                    <a:pt x="7868" y="16296"/>
                    <a:pt x="7193" y="16296"/>
                  </a:cubicBezTo>
                  <a:cubicBezTo>
                    <a:pt x="6518" y="15096"/>
                    <a:pt x="7868" y="14496"/>
                    <a:pt x="7868" y="13296"/>
                  </a:cubicBezTo>
                  <a:cubicBezTo>
                    <a:pt x="7868" y="12696"/>
                    <a:pt x="5168" y="12696"/>
                    <a:pt x="5168" y="13296"/>
                  </a:cubicBezTo>
                  <a:cubicBezTo>
                    <a:pt x="4493" y="14496"/>
                    <a:pt x="5168" y="15696"/>
                    <a:pt x="5168" y="16896"/>
                  </a:cubicBezTo>
                  <a:cubicBezTo>
                    <a:pt x="4493" y="16896"/>
                    <a:pt x="5168" y="17496"/>
                    <a:pt x="5168" y="17496"/>
                  </a:cubicBezTo>
                  <a:cubicBezTo>
                    <a:pt x="5168" y="18696"/>
                    <a:pt x="4493" y="19296"/>
                    <a:pt x="4493" y="19896"/>
                  </a:cubicBezTo>
                  <a:cubicBezTo>
                    <a:pt x="3818" y="21096"/>
                    <a:pt x="4493" y="21096"/>
                    <a:pt x="2468" y="21096"/>
                  </a:cubicBezTo>
                  <a:cubicBezTo>
                    <a:pt x="443" y="21096"/>
                    <a:pt x="2468" y="18696"/>
                    <a:pt x="2468" y="18096"/>
                  </a:cubicBezTo>
                  <a:cubicBezTo>
                    <a:pt x="3143" y="17496"/>
                    <a:pt x="2468" y="15696"/>
                    <a:pt x="1118" y="15096"/>
                  </a:cubicBezTo>
                  <a:cubicBezTo>
                    <a:pt x="-232" y="14496"/>
                    <a:pt x="-232" y="13296"/>
                    <a:pt x="443" y="12096"/>
                  </a:cubicBezTo>
                  <a:cubicBezTo>
                    <a:pt x="1118" y="10896"/>
                    <a:pt x="1118" y="9096"/>
                    <a:pt x="1793" y="7896"/>
                  </a:cubicBezTo>
                  <a:cubicBezTo>
                    <a:pt x="3143" y="6096"/>
                    <a:pt x="2468" y="2496"/>
                    <a:pt x="5843" y="2496"/>
                  </a:cubicBezTo>
                  <a:cubicBezTo>
                    <a:pt x="6518" y="2496"/>
                    <a:pt x="5843" y="696"/>
                    <a:pt x="7193" y="696"/>
                  </a:cubicBezTo>
                  <a:cubicBezTo>
                    <a:pt x="9218" y="1296"/>
                    <a:pt x="10568" y="1896"/>
                    <a:pt x="11918" y="1896"/>
                  </a:cubicBezTo>
                  <a:cubicBezTo>
                    <a:pt x="13268" y="1896"/>
                    <a:pt x="15293" y="2496"/>
                    <a:pt x="16643" y="1896"/>
                  </a:cubicBezTo>
                  <a:cubicBezTo>
                    <a:pt x="17318" y="1896"/>
                    <a:pt x="21368" y="-504"/>
                    <a:pt x="21368" y="96"/>
                  </a:cubicBezTo>
                  <a:cubicBezTo>
                    <a:pt x="21368" y="696"/>
                    <a:pt x="19343" y="2496"/>
                    <a:pt x="19343" y="3096"/>
                  </a:cubicBezTo>
                  <a:cubicBezTo>
                    <a:pt x="17993" y="3696"/>
                    <a:pt x="16643" y="3696"/>
                    <a:pt x="15293" y="3696"/>
                  </a:cubicBezTo>
                  <a:cubicBezTo>
                    <a:pt x="11918" y="3096"/>
                    <a:pt x="9218" y="3696"/>
                    <a:pt x="6518" y="3696"/>
                  </a:cubicBezTo>
                  <a:cubicBezTo>
                    <a:pt x="4493" y="3096"/>
                    <a:pt x="3818" y="3696"/>
                    <a:pt x="3818" y="5496"/>
                  </a:cubicBezTo>
                  <a:cubicBezTo>
                    <a:pt x="3818" y="7296"/>
                    <a:pt x="5843" y="7296"/>
                    <a:pt x="6518" y="8496"/>
                  </a:cubicBezTo>
                  <a:cubicBezTo>
                    <a:pt x="7193" y="9696"/>
                    <a:pt x="7868" y="8496"/>
                    <a:pt x="8543" y="7896"/>
                  </a:cubicBezTo>
                  <a:cubicBezTo>
                    <a:pt x="8543" y="7296"/>
                    <a:pt x="13268" y="6696"/>
                    <a:pt x="13268" y="7296"/>
                  </a:cubicBezTo>
                  <a:cubicBezTo>
                    <a:pt x="13943" y="7296"/>
                    <a:pt x="11918" y="9096"/>
                    <a:pt x="11243" y="9096"/>
                  </a:cubicBezTo>
                  <a:cubicBezTo>
                    <a:pt x="9893" y="10296"/>
                    <a:pt x="9893" y="10296"/>
                    <a:pt x="8543" y="9696"/>
                  </a:cubicBezTo>
                  <a:cubicBezTo>
                    <a:pt x="8543" y="9696"/>
                    <a:pt x="9218" y="11496"/>
                    <a:pt x="9218" y="11496"/>
                  </a:cubicBezTo>
                  <a:cubicBezTo>
                    <a:pt x="9893" y="12096"/>
                    <a:pt x="11918" y="13296"/>
                    <a:pt x="11918" y="14496"/>
                  </a:cubicBezTo>
                  <a:cubicBezTo>
                    <a:pt x="11918" y="15096"/>
                    <a:pt x="11918" y="15696"/>
                    <a:pt x="12593" y="16296"/>
                  </a:cubicBezTo>
                  <a:cubicBezTo>
                    <a:pt x="12593" y="16296"/>
                    <a:pt x="13943" y="17496"/>
                    <a:pt x="14618" y="17496"/>
                  </a:cubicBezTo>
                  <a:cubicBezTo>
                    <a:pt x="13268" y="18096"/>
                    <a:pt x="9893" y="19296"/>
                    <a:pt x="8543" y="18696"/>
                  </a:cubicBezTo>
                  <a:cubicBezTo>
                    <a:pt x="8543" y="18096"/>
                    <a:pt x="9218" y="19296"/>
                    <a:pt x="8543" y="1869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94" name="Shape 1108"/>
            <p:cNvSpPr/>
            <p:nvPr/>
          </p:nvSpPr>
          <p:spPr>
            <a:xfrm>
              <a:off x="10739160" y="4252320"/>
              <a:ext cx="28080" cy="59040"/>
            </a:xfrm>
            <a:custGeom>
              <a:avLst/>
              <a:gdLst/>
              <a:ahLst/>
              <a:rect l="l" t="t" r="r" b="b"/>
              <a:pathLst>
                <a:path w="19636" h="21600">
                  <a:moveTo>
                    <a:pt x="8100" y="2880"/>
                  </a:moveTo>
                  <a:cubicBezTo>
                    <a:pt x="8100" y="1440"/>
                    <a:pt x="8100" y="1440"/>
                    <a:pt x="8100" y="0"/>
                  </a:cubicBezTo>
                  <a:cubicBezTo>
                    <a:pt x="5400" y="0"/>
                    <a:pt x="0" y="4320"/>
                    <a:pt x="0" y="5760"/>
                  </a:cubicBezTo>
                  <a:cubicBezTo>
                    <a:pt x="0" y="7200"/>
                    <a:pt x="2700" y="8640"/>
                    <a:pt x="2700" y="11520"/>
                  </a:cubicBezTo>
                  <a:cubicBezTo>
                    <a:pt x="2700" y="12960"/>
                    <a:pt x="2700" y="15840"/>
                    <a:pt x="5400" y="17280"/>
                  </a:cubicBezTo>
                  <a:cubicBezTo>
                    <a:pt x="5400" y="17280"/>
                    <a:pt x="13500" y="21600"/>
                    <a:pt x="13500" y="21600"/>
                  </a:cubicBezTo>
                  <a:cubicBezTo>
                    <a:pt x="13500" y="21600"/>
                    <a:pt x="10800" y="18720"/>
                    <a:pt x="10800" y="18720"/>
                  </a:cubicBezTo>
                  <a:cubicBezTo>
                    <a:pt x="8100" y="17280"/>
                    <a:pt x="8100" y="14400"/>
                    <a:pt x="8100" y="12960"/>
                  </a:cubicBezTo>
                  <a:cubicBezTo>
                    <a:pt x="8100" y="11520"/>
                    <a:pt x="18900" y="12960"/>
                    <a:pt x="18900" y="12960"/>
                  </a:cubicBezTo>
                  <a:cubicBezTo>
                    <a:pt x="21600" y="12960"/>
                    <a:pt x="16200" y="11520"/>
                    <a:pt x="13500" y="10080"/>
                  </a:cubicBezTo>
                  <a:cubicBezTo>
                    <a:pt x="13500" y="10080"/>
                    <a:pt x="16200" y="8640"/>
                    <a:pt x="16200" y="7200"/>
                  </a:cubicBezTo>
                  <a:cubicBezTo>
                    <a:pt x="18900" y="1440"/>
                    <a:pt x="8100" y="8640"/>
                    <a:pt x="5400" y="8640"/>
                  </a:cubicBezTo>
                  <a:cubicBezTo>
                    <a:pt x="5400" y="8640"/>
                    <a:pt x="10800" y="4320"/>
                    <a:pt x="8100" y="2880"/>
                  </a:cubicBezTo>
                  <a:cubicBezTo>
                    <a:pt x="8100" y="1440"/>
                    <a:pt x="10800" y="4320"/>
                    <a:pt x="8100" y="2880"/>
                  </a:cubicBezTo>
                  <a:close/>
                </a:path>
              </a:pathLst>
            </a:custGeom>
            <a:solidFill>
              <a:srgbClr val="dadbdf"/>
            </a:solidFill>
            <a:ln w="4680">
              <a:solidFill>
                <a:srgbClr val="ffffff"/>
              </a:solidFill>
              <a:round/>
            </a:ln>
          </p:spPr>
          <p:style>
            <a:lnRef idx="0"/>
            <a:fillRef idx="0"/>
            <a:effectRef idx="0"/>
            <a:fontRef idx="minor"/>
          </p:style>
          <p:txBody>
            <a:bodyPr lIns="45360" rIns="45360" tIns="12240" bIns="12240" anchor="t">
              <a:noAutofit/>
            </a:bodyPr>
            <a:p>
              <a:endParaRPr b="0" lang="en-US" sz="1800" spc="-1" strike="noStrike">
                <a:solidFill>
                  <a:srgbClr val="000000"/>
                </a:solidFill>
                <a:latin typeface="Calibri"/>
              </a:endParaRPr>
            </a:p>
          </p:txBody>
        </p:sp>
        <p:sp>
          <p:nvSpPr>
            <p:cNvPr id="495" name="Shape 1109"/>
            <p:cNvSpPr/>
            <p:nvPr/>
          </p:nvSpPr>
          <p:spPr>
            <a:xfrm>
              <a:off x="10757520" y="4244400"/>
              <a:ext cx="6480" cy="7920"/>
            </a:xfrm>
            <a:custGeom>
              <a:avLst/>
              <a:gdLst/>
              <a:ahLst/>
              <a:rect l="l" t="t" r="r" b="b"/>
              <a:pathLst>
                <a:path w="13165" h="21600">
                  <a:moveTo>
                    <a:pt x="2982" y="21600"/>
                  </a:moveTo>
                  <a:cubicBezTo>
                    <a:pt x="-4218" y="21600"/>
                    <a:pt x="2982" y="0"/>
                    <a:pt x="10182" y="0"/>
                  </a:cubicBezTo>
                  <a:cubicBezTo>
                    <a:pt x="17382" y="0"/>
                    <a:pt x="10182" y="21600"/>
                    <a:pt x="2982"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496" name="Shape 1110"/>
            <p:cNvSpPr/>
            <p:nvPr/>
          </p:nvSpPr>
          <p:spPr>
            <a:xfrm>
              <a:off x="10798560" y="4296600"/>
              <a:ext cx="18720" cy="4680"/>
            </a:xfrm>
            <a:custGeom>
              <a:avLst/>
              <a:gdLst/>
              <a:ahLst/>
              <a:rect l="l" t="t" r="r" b="b"/>
              <a:pathLst>
                <a:path w="21600" h="12900">
                  <a:moveTo>
                    <a:pt x="21600" y="8100"/>
                  </a:moveTo>
                  <a:cubicBezTo>
                    <a:pt x="21600" y="-2700"/>
                    <a:pt x="0" y="-2700"/>
                    <a:pt x="0" y="8100"/>
                  </a:cubicBezTo>
                  <a:cubicBezTo>
                    <a:pt x="0" y="8100"/>
                    <a:pt x="21600" y="18900"/>
                    <a:pt x="21600" y="8100"/>
                  </a:cubicBezTo>
                  <a:close/>
                </a:path>
              </a:pathLst>
            </a:custGeom>
            <a:solidFill>
              <a:srgbClr val="dadbdf"/>
            </a:solidFill>
            <a:ln w="4680">
              <a:solidFill>
                <a:srgbClr val="ffffff"/>
              </a:solidFill>
              <a:round/>
            </a:ln>
          </p:spPr>
          <p:style>
            <a:lnRef idx="0"/>
            <a:fillRef idx="0"/>
            <a:effectRef idx="0"/>
            <a:fontRef idx="minor"/>
          </p:style>
          <p:txBody>
            <a:bodyPr lIns="45360" rIns="45360" tIns="-42120" bIns="-42120" anchor="t">
              <a:noAutofit/>
            </a:bodyPr>
            <a:p>
              <a:endParaRPr b="0" lang="en-US" sz="1800" spc="-1" strike="noStrike">
                <a:solidFill>
                  <a:srgbClr val="000000"/>
                </a:solidFill>
                <a:latin typeface="Calibri"/>
              </a:endParaRPr>
            </a:p>
          </p:txBody>
        </p:sp>
        <p:sp>
          <p:nvSpPr>
            <p:cNvPr id="497" name="Shape 1111"/>
            <p:cNvSpPr/>
            <p:nvPr/>
          </p:nvSpPr>
          <p:spPr>
            <a:xfrm>
              <a:off x="10805400" y="4302360"/>
              <a:ext cx="68760" cy="39240"/>
            </a:xfrm>
            <a:custGeom>
              <a:avLst/>
              <a:gdLst/>
              <a:ahLst/>
              <a:rect l="l" t="t" r="r" b="b"/>
              <a:pathLst>
                <a:path w="20046" h="19081">
                  <a:moveTo>
                    <a:pt x="10541" y="536"/>
                  </a:moveTo>
                  <a:cubicBezTo>
                    <a:pt x="9405" y="-1428"/>
                    <a:pt x="4857" y="2499"/>
                    <a:pt x="3720" y="4463"/>
                  </a:cubicBezTo>
                  <a:cubicBezTo>
                    <a:pt x="2584" y="4463"/>
                    <a:pt x="3720" y="4463"/>
                    <a:pt x="2584" y="6427"/>
                  </a:cubicBezTo>
                  <a:cubicBezTo>
                    <a:pt x="2584" y="8390"/>
                    <a:pt x="1447" y="4463"/>
                    <a:pt x="310" y="4463"/>
                  </a:cubicBezTo>
                  <a:cubicBezTo>
                    <a:pt x="-827" y="4463"/>
                    <a:pt x="1447" y="10354"/>
                    <a:pt x="2584" y="10354"/>
                  </a:cubicBezTo>
                  <a:cubicBezTo>
                    <a:pt x="2584" y="12317"/>
                    <a:pt x="4857" y="12317"/>
                    <a:pt x="5994" y="12317"/>
                  </a:cubicBezTo>
                  <a:cubicBezTo>
                    <a:pt x="8268" y="12317"/>
                    <a:pt x="8268" y="16245"/>
                    <a:pt x="9405" y="18208"/>
                  </a:cubicBezTo>
                  <a:cubicBezTo>
                    <a:pt x="10541" y="20172"/>
                    <a:pt x="13952" y="18208"/>
                    <a:pt x="15089" y="18208"/>
                  </a:cubicBezTo>
                  <a:cubicBezTo>
                    <a:pt x="19636" y="18208"/>
                    <a:pt x="20773" y="14281"/>
                    <a:pt x="19636" y="8390"/>
                  </a:cubicBezTo>
                  <a:cubicBezTo>
                    <a:pt x="19636" y="4463"/>
                    <a:pt x="18499" y="2499"/>
                    <a:pt x="16226" y="2499"/>
                  </a:cubicBezTo>
                  <a:cubicBezTo>
                    <a:pt x="15089" y="2499"/>
                    <a:pt x="12815" y="536"/>
                    <a:pt x="10541" y="536"/>
                  </a:cubicBezTo>
                  <a:cubicBezTo>
                    <a:pt x="10541" y="536"/>
                    <a:pt x="11678" y="536"/>
                    <a:pt x="10541" y="536"/>
                  </a:cubicBezTo>
                  <a:close/>
                </a:path>
              </a:pathLst>
            </a:custGeom>
            <a:solidFill>
              <a:srgbClr val="dadbdf"/>
            </a:solidFill>
            <a:ln w="4680">
              <a:solidFill>
                <a:srgbClr val="ffffff"/>
              </a:solidFill>
              <a:round/>
            </a:ln>
          </p:spPr>
          <p:style>
            <a:lnRef idx="0"/>
            <a:fillRef idx="0"/>
            <a:effectRef idx="0"/>
            <a:fontRef idx="minor"/>
          </p:style>
          <p:txBody>
            <a:bodyPr lIns="45360" rIns="45360" tIns="-7560" bIns="-7560" anchor="t">
              <a:noAutofit/>
            </a:bodyPr>
            <a:p>
              <a:endParaRPr b="0" lang="en-US" sz="1800" spc="-1" strike="noStrike">
                <a:solidFill>
                  <a:srgbClr val="000000"/>
                </a:solidFill>
                <a:latin typeface="Calibri"/>
              </a:endParaRPr>
            </a:p>
          </p:txBody>
        </p:sp>
        <p:sp>
          <p:nvSpPr>
            <p:cNvPr id="498" name="Shape 1112"/>
            <p:cNvSpPr/>
            <p:nvPr/>
          </p:nvSpPr>
          <p:spPr>
            <a:xfrm>
              <a:off x="11154600" y="4380840"/>
              <a:ext cx="78840" cy="38880"/>
            </a:xfrm>
            <a:custGeom>
              <a:avLst/>
              <a:gdLst/>
              <a:ahLst/>
              <a:rect l="l" t="t" r="r" b="b"/>
              <a:pathLst>
                <a:path w="20737" h="17829">
                  <a:moveTo>
                    <a:pt x="0" y="11754"/>
                  </a:moveTo>
                  <a:cubicBezTo>
                    <a:pt x="1029" y="9954"/>
                    <a:pt x="5143" y="11754"/>
                    <a:pt x="6171" y="11754"/>
                  </a:cubicBezTo>
                  <a:cubicBezTo>
                    <a:pt x="7200" y="11754"/>
                    <a:pt x="8229" y="8154"/>
                    <a:pt x="9257" y="9954"/>
                  </a:cubicBezTo>
                  <a:cubicBezTo>
                    <a:pt x="10286" y="11754"/>
                    <a:pt x="12343" y="11754"/>
                    <a:pt x="13371" y="9954"/>
                  </a:cubicBezTo>
                  <a:cubicBezTo>
                    <a:pt x="13371" y="8154"/>
                    <a:pt x="14400" y="6354"/>
                    <a:pt x="14400" y="6354"/>
                  </a:cubicBezTo>
                  <a:cubicBezTo>
                    <a:pt x="15429" y="6354"/>
                    <a:pt x="17486" y="6354"/>
                    <a:pt x="17486" y="2754"/>
                  </a:cubicBezTo>
                  <a:cubicBezTo>
                    <a:pt x="17486" y="-2646"/>
                    <a:pt x="21600" y="954"/>
                    <a:pt x="20571" y="4554"/>
                  </a:cubicBezTo>
                  <a:cubicBezTo>
                    <a:pt x="19543" y="6354"/>
                    <a:pt x="18514" y="9954"/>
                    <a:pt x="18514" y="9954"/>
                  </a:cubicBezTo>
                  <a:cubicBezTo>
                    <a:pt x="15429" y="11754"/>
                    <a:pt x="14400" y="15354"/>
                    <a:pt x="11314" y="17154"/>
                  </a:cubicBezTo>
                  <a:cubicBezTo>
                    <a:pt x="9257" y="18954"/>
                    <a:pt x="0" y="17154"/>
                    <a:pt x="0" y="11754"/>
                  </a:cubicBezTo>
                  <a:cubicBezTo>
                    <a:pt x="0" y="9954"/>
                    <a:pt x="0" y="15354"/>
                    <a:pt x="0" y="11754"/>
                  </a:cubicBezTo>
                  <a:close/>
                </a:path>
              </a:pathLst>
            </a:custGeom>
            <a:solidFill>
              <a:srgbClr val="dadbdf"/>
            </a:solidFill>
            <a:ln w="4680">
              <a:solidFill>
                <a:srgbClr val="ffffff"/>
              </a:solidFill>
              <a:round/>
            </a:ln>
          </p:spPr>
          <p:style>
            <a:lnRef idx="0"/>
            <a:fillRef idx="0"/>
            <a:effectRef idx="0"/>
            <a:fontRef idx="minor"/>
          </p:style>
          <p:txBody>
            <a:bodyPr lIns="45360" rIns="45360" tIns="-7920" bIns="-7920" anchor="t">
              <a:noAutofit/>
            </a:bodyPr>
            <a:p>
              <a:endParaRPr b="0" lang="en-US" sz="1800" spc="-1" strike="noStrike">
                <a:solidFill>
                  <a:srgbClr val="000000"/>
                </a:solidFill>
                <a:latin typeface="Calibri"/>
              </a:endParaRPr>
            </a:p>
          </p:txBody>
        </p:sp>
        <p:sp>
          <p:nvSpPr>
            <p:cNvPr id="499" name="Shape 1113"/>
            <p:cNvSpPr/>
            <p:nvPr/>
          </p:nvSpPr>
          <p:spPr>
            <a:xfrm>
              <a:off x="11275920" y="4399200"/>
              <a:ext cx="29160" cy="33480"/>
            </a:xfrm>
            <a:custGeom>
              <a:avLst/>
              <a:gdLst/>
              <a:ahLst/>
              <a:rect l="l" t="t" r="r" b="b"/>
              <a:pathLst>
                <a:path w="17976" h="16807">
                  <a:moveTo>
                    <a:pt x="693" y="0"/>
                  </a:moveTo>
                  <a:cubicBezTo>
                    <a:pt x="-1707" y="1964"/>
                    <a:pt x="10293" y="21600"/>
                    <a:pt x="17493" y="15709"/>
                  </a:cubicBezTo>
                  <a:cubicBezTo>
                    <a:pt x="19893" y="11782"/>
                    <a:pt x="12693" y="7855"/>
                    <a:pt x="10293" y="7855"/>
                  </a:cubicBezTo>
                  <a:cubicBezTo>
                    <a:pt x="7893" y="5891"/>
                    <a:pt x="693" y="0"/>
                    <a:pt x="693" y="0"/>
                  </a:cubicBezTo>
                  <a:cubicBezTo>
                    <a:pt x="-1707" y="1964"/>
                    <a:pt x="3093" y="0"/>
                    <a:pt x="693" y="0"/>
                  </a:cubicBezTo>
                  <a:close/>
                </a:path>
              </a:pathLst>
            </a:custGeom>
            <a:solidFill>
              <a:srgbClr val="dadbdf"/>
            </a:solidFill>
            <a:ln w="4680">
              <a:solidFill>
                <a:srgbClr val="ffffff"/>
              </a:solidFill>
              <a:round/>
            </a:ln>
          </p:spPr>
          <p:style>
            <a:lnRef idx="0"/>
            <a:fillRef idx="0"/>
            <a:effectRef idx="0"/>
            <a:fontRef idx="minor"/>
          </p:style>
          <p:txBody>
            <a:bodyPr lIns="45360" rIns="45360" tIns="-13320" bIns="-13320" anchor="t">
              <a:noAutofit/>
            </a:bodyPr>
            <a:p>
              <a:endParaRPr b="0" lang="en-US" sz="1800" spc="-1" strike="noStrike">
                <a:solidFill>
                  <a:srgbClr val="000000"/>
                </a:solidFill>
                <a:latin typeface="Calibri"/>
              </a:endParaRPr>
            </a:p>
          </p:txBody>
        </p:sp>
        <p:sp>
          <p:nvSpPr>
            <p:cNvPr id="500" name="Shape 1114"/>
            <p:cNvSpPr/>
            <p:nvPr/>
          </p:nvSpPr>
          <p:spPr>
            <a:xfrm>
              <a:off x="11379240" y="4483440"/>
              <a:ext cx="19440" cy="13320"/>
            </a:xfrm>
            <a:custGeom>
              <a:avLst/>
              <a:gdLst/>
              <a:ahLst/>
              <a:rect l="l" t="t" r="r" b="b"/>
              <a:pathLst>
                <a:path w="18405" h="12717">
                  <a:moveTo>
                    <a:pt x="18405" y="10182"/>
                  </a:moveTo>
                  <a:cubicBezTo>
                    <a:pt x="18405" y="2982"/>
                    <a:pt x="-3195" y="-4218"/>
                    <a:pt x="405" y="2982"/>
                  </a:cubicBezTo>
                  <a:cubicBezTo>
                    <a:pt x="405" y="6582"/>
                    <a:pt x="18405" y="13782"/>
                    <a:pt x="18405" y="10182"/>
                  </a:cubicBezTo>
                  <a:cubicBezTo>
                    <a:pt x="18405" y="6582"/>
                    <a:pt x="18405" y="17382"/>
                    <a:pt x="18405" y="10182"/>
                  </a:cubicBezTo>
                  <a:close/>
                </a:path>
              </a:pathLst>
            </a:custGeom>
            <a:solidFill>
              <a:srgbClr val="dadbdf"/>
            </a:solidFill>
            <a:ln w="4680">
              <a:solidFill>
                <a:srgbClr val="ffffff"/>
              </a:solidFill>
              <a:round/>
            </a:ln>
          </p:spPr>
          <p:style>
            <a:lnRef idx="0"/>
            <a:fillRef idx="0"/>
            <a:effectRef idx="0"/>
            <a:fontRef idx="minor"/>
          </p:style>
          <p:txBody>
            <a:bodyPr lIns="45360" rIns="45360" tIns="-33480" bIns="-33480" anchor="t">
              <a:noAutofit/>
            </a:bodyPr>
            <a:p>
              <a:endParaRPr b="0" lang="en-US" sz="1800" spc="-1" strike="noStrike">
                <a:solidFill>
                  <a:srgbClr val="000000"/>
                </a:solidFill>
                <a:latin typeface="Calibri"/>
              </a:endParaRPr>
            </a:p>
          </p:txBody>
        </p:sp>
        <p:sp>
          <p:nvSpPr>
            <p:cNvPr id="501" name="Shape 1115"/>
            <p:cNvSpPr/>
            <p:nvPr/>
          </p:nvSpPr>
          <p:spPr>
            <a:xfrm>
              <a:off x="11351520" y="4446000"/>
              <a:ext cx="33120" cy="20520"/>
            </a:xfrm>
            <a:custGeom>
              <a:avLst/>
              <a:gdLst/>
              <a:ahLst/>
              <a:rect l="l" t="t" r="r" b="b"/>
              <a:pathLst>
                <a:path w="19705" h="18473">
                  <a:moveTo>
                    <a:pt x="19200" y="18473"/>
                  </a:moveTo>
                  <a:cubicBezTo>
                    <a:pt x="14400" y="14873"/>
                    <a:pt x="7200" y="-3127"/>
                    <a:pt x="0" y="473"/>
                  </a:cubicBezTo>
                  <a:cubicBezTo>
                    <a:pt x="0" y="4073"/>
                    <a:pt x="7200" y="7673"/>
                    <a:pt x="7200" y="11273"/>
                  </a:cubicBezTo>
                  <a:cubicBezTo>
                    <a:pt x="12000" y="11273"/>
                    <a:pt x="14400" y="14873"/>
                    <a:pt x="19200" y="18473"/>
                  </a:cubicBezTo>
                  <a:cubicBezTo>
                    <a:pt x="21600" y="18473"/>
                    <a:pt x="14400" y="14873"/>
                    <a:pt x="19200" y="18473"/>
                  </a:cubicBezTo>
                  <a:close/>
                </a:path>
              </a:pathLst>
            </a:custGeom>
            <a:solidFill>
              <a:srgbClr val="dadbdf"/>
            </a:solidFill>
            <a:ln w="4680">
              <a:solidFill>
                <a:srgbClr val="ffffff"/>
              </a:solidFill>
              <a:round/>
            </a:ln>
          </p:spPr>
          <p:style>
            <a:lnRef idx="0"/>
            <a:fillRef idx="0"/>
            <a:effectRef idx="0"/>
            <a:fontRef idx="minor"/>
          </p:style>
          <p:txBody>
            <a:bodyPr lIns="45360" rIns="45360" tIns="-26280" bIns="-26280" anchor="t">
              <a:noAutofit/>
            </a:bodyPr>
            <a:p>
              <a:endParaRPr b="0" lang="en-US" sz="1800" spc="-1" strike="noStrike">
                <a:solidFill>
                  <a:srgbClr val="000000"/>
                </a:solidFill>
                <a:latin typeface="Calibri"/>
              </a:endParaRPr>
            </a:p>
          </p:txBody>
        </p:sp>
        <p:sp>
          <p:nvSpPr>
            <p:cNvPr id="502" name="Shape 1116"/>
            <p:cNvSpPr/>
            <p:nvPr/>
          </p:nvSpPr>
          <p:spPr>
            <a:xfrm>
              <a:off x="11316600" y="4426200"/>
              <a:ext cx="15840" cy="16560"/>
            </a:xfrm>
            <a:custGeom>
              <a:avLst/>
              <a:gdLst/>
              <a:ahLst/>
              <a:rect l="l" t="t" r="r" b="b"/>
              <a:pathLst>
                <a:path w="21600" h="17968">
                  <a:moveTo>
                    <a:pt x="21600" y="17280"/>
                  </a:moveTo>
                  <a:cubicBezTo>
                    <a:pt x="21600" y="8640"/>
                    <a:pt x="0" y="0"/>
                    <a:pt x="0" y="0"/>
                  </a:cubicBezTo>
                  <a:cubicBezTo>
                    <a:pt x="0" y="4320"/>
                    <a:pt x="21600" y="21600"/>
                    <a:pt x="21600"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503" name="Shape 1117"/>
            <p:cNvSpPr/>
            <p:nvPr/>
          </p:nvSpPr>
          <p:spPr>
            <a:xfrm>
              <a:off x="11468520" y="4704120"/>
              <a:ext cx="52920" cy="43200"/>
            </a:xfrm>
            <a:custGeom>
              <a:avLst/>
              <a:gdLst/>
              <a:ahLst/>
              <a:rect l="l" t="t" r="r" b="b"/>
              <a:pathLst>
                <a:path w="18090" h="19907">
                  <a:moveTo>
                    <a:pt x="18016" y="19800"/>
                  </a:moveTo>
                  <a:cubicBezTo>
                    <a:pt x="19366" y="21600"/>
                    <a:pt x="1816" y="0"/>
                    <a:pt x="466" y="0"/>
                  </a:cubicBezTo>
                  <a:cubicBezTo>
                    <a:pt x="-2234" y="0"/>
                    <a:pt x="7216" y="16200"/>
                    <a:pt x="18016" y="19800"/>
                  </a:cubicBezTo>
                  <a:close/>
                </a:path>
              </a:pathLst>
            </a:custGeom>
            <a:solidFill>
              <a:srgbClr val="dadbdf"/>
            </a:solidFill>
            <a:ln w="4680">
              <a:solidFill>
                <a:srgbClr val="ffffff"/>
              </a:solidFill>
              <a:round/>
            </a:ln>
          </p:spPr>
          <p:style>
            <a:lnRef idx="0"/>
            <a:fillRef idx="0"/>
            <a:effectRef idx="0"/>
            <a:fontRef idx="minor"/>
          </p:style>
          <p:txBody>
            <a:bodyPr lIns="45360" rIns="45360" tIns="-3600" bIns="-3600" anchor="t">
              <a:noAutofit/>
            </a:bodyPr>
            <a:p>
              <a:endParaRPr b="0" lang="en-US" sz="1800" spc="-1" strike="noStrike">
                <a:solidFill>
                  <a:srgbClr val="000000"/>
                </a:solidFill>
                <a:latin typeface="Calibri"/>
              </a:endParaRPr>
            </a:p>
          </p:txBody>
        </p:sp>
        <p:sp>
          <p:nvSpPr>
            <p:cNvPr id="504" name="Shape 1118"/>
            <p:cNvSpPr/>
            <p:nvPr/>
          </p:nvSpPr>
          <p:spPr>
            <a:xfrm>
              <a:off x="11631960" y="5004720"/>
              <a:ext cx="44280" cy="55080"/>
            </a:xfrm>
            <a:custGeom>
              <a:avLst/>
              <a:gdLst/>
              <a:ahLst/>
              <a:rect l="l" t="t" r="r" b="b"/>
              <a:pathLst>
                <a:path w="21600" h="21600">
                  <a:moveTo>
                    <a:pt x="21600" y="21600"/>
                  </a:moveTo>
                  <a:cubicBezTo>
                    <a:pt x="19636" y="18514"/>
                    <a:pt x="21600" y="16971"/>
                    <a:pt x="17673" y="15429"/>
                  </a:cubicBezTo>
                  <a:cubicBezTo>
                    <a:pt x="15709" y="12343"/>
                    <a:pt x="17673" y="12343"/>
                    <a:pt x="17673" y="10800"/>
                  </a:cubicBezTo>
                  <a:cubicBezTo>
                    <a:pt x="15709" y="7714"/>
                    <a:pt x="0" y="1543"/>
                    <a:pt x="0" y="0"/>
                  </a:cubicBezTo>
                  <a:cubicBezTo>
                    <a:pt x="0" y="1543"/>
                    <a:pt x="5891" y="4629"/>
                    <a:pt x="5891" y="6171"/>
                  </a:cubicBezTo>
                  <a:cubicBezTo>
                    <a:pt x="7855" y="9257"/>
                    <a:pt x="7855" y="10800"/>
                    <a:pt x="9818" y="12343"/>
                  </a:cubicBezTo>
                  <a:cubicBezTo>
                    <a:pt x="11782" y="13886"/>
                    <a:pt x="17673" y="15429"/>
                    <a:pt x="15709" y="16971"/>
                  </a:cubicBezTo>
                  <a:cubicBezTo>
                    <a:pt x="15709" y="20057"/>
                    <a:pt x="17673" y="20057"/>
                    <a:pt x="21600" y="21600"/>
                  </a:cubicBezTo>
                  <a:close/>
                </a:path>
              </a:pathLst>
            </a:custGeom>
            <a:solidFill>
              <a:srgbClr val="dadbdf"/>
            </a:solidFill>
            <a:ln w="4680">
              <a:solidFill>
                <a:srgbClr val="ffffff"/>
              </a:solidFill>
              <a:round/>
            </a:ln>
          </p:spPr>
          <p:style>
            <a:lnRef idx="0"/>
            <a:fillRef idx="0"/>
            <a:effectRef idx="0"/>
            <a:fontRef idx="minor"/>
          </p:style>
          <p:txBody>
            <a:bodyPr lIns="45360" rIns="45360" tIns="8280" bIns="8280" anchor="t">
              <a:noAutofit/>
            </a:bodyPr>
            <a:p>
              <a:endParaRPr b="0" lang="en-US" sz="1800" spc="-1" strike="noStrike">
                <a:solidFill>
                  <a:srgbClr val="000000"/>
                </a:solidFill>
                <a:latin typeface="Calibri"/>
              </a:endParaRPr>
            </a:p>
          </p:txBody>
        </p:sp>
        <p:sp>
          <p:nvSpPr>
            <p:cNvPr id="505" name="Shape 1119"/>
            <p:cNvSpPr/>
            <p:nvPr/>
          </p:nvSpPr>
          <p:spPr>
            <a:xfrm>
              <a:off x="11656080" y="5055840"/>
              <a:ext cx="90360" cy="113760"/>
            </a:xfrm>
            <a:custGeom>
              <a:avLst/>
              <a:gdLst/>
              <a:ahLst/>
              <a:rect l="l" t="t" r="r" b="b"/>
              <a:pathLst>
                <a:path w="19079" h="20520">
                  <a:moveTo>
                    <a:pt x="4125" y="1440"/>
                  </a:moveTo>
                  <a:cubicBezTo>
                    <a:pt x="3294" y="1440"/>
                    <a:pt x="3294" y="6480"/>
                    <a:pt x="3294" y="7920"/>
                  </a:cubicBezTo>
                  <a:cubicBezTo>
                    <a:pt x="2464" y="9360"/>
                    <a:pt x="-2521" y="11520"/>
                    <a:pt x="1633" y="12960"/>
                  </a:cubicBezTo>
                  <a:cubicBezTo>
                    <a:pt x="4125" y="13680"/>
                    <a:pt x="6617" y="15120"/>
                    <a:pt x="4956" y="18000"/>
                  </a:cubicBezTo>
                  <a:cubicBezTo>
                    <a:pt x="2464" y="21600"/>
                    <a:pt x="6617" y="20880"/>
                    <a:pt x="9110" y="18720"/>
                  </a:cubicBezTo>
                  <a:cubicBezTo>
                    <a:pt x="9941" y="18000"/>
                    <a:pt x="10771" y="16560"/>
                    <a:pt x="11602" y="15840"/>
                  </a:cubicBezTo>
                  <a:cubicBezTo>
                    <a:pt x="13264" y="13680"/>
                    <a:pt x="12433" y="13680"/>
                    <a:pt x="12433" y="11520"/>
                  </a:cubicBezTo>
                  <a:cubicBezTo>
                    <a:pt x="13264" y="10080"/>
                    <a:pt x="14925" y="10080"/>
                    <a:pt x="15756" y="10080"/>
                  </a:cubicBezTo>
                  <a:cubicBezTo>
                    <a:pt x="16587" y="10800"/>
                    <a:pt x="18248" y="7920"/>
                    <a:pt x="19079" y="7200"/>
                  </a:cubicBezTo>
                  <a:cubicBezTo>
                    <a:pt x="19079" y="6480"/>
                    <a:pt x="19079" y="4320"/>
                    <a:pt x="18248" y="4320"/>
                  </a:cubicBezTo>
                  <a:cubicBezTo>
                    <a:pt x="16587" y="4320"/>
                    <a:pt x="14925" y="5760"/>
                    <a:pt x="14094" y="5760"/>
                  </a:cubicBezTo>
                  <a:cubicBezTo>
                    <a:pt x="12433" y="5760"/>
                    <a:pt x="9941" y="5040"/>
                    <a:pt x="9110" y="3600"/>
                  </a:cubicBezTo>
                  <a:cubicBezTo>
                    <a:pt x="8279" y="2880"/>
                    <a:pt x="8279" y="0"/>
                    <a:pt x="6617" y="0"/>
                  </a:cubicBezTo>
                  <a:cubicBezTo>
                    <a:pt x="6617" y="0"/>
                    <a:pt x="6617" y="2160"/>
                    <a:pt x="6617" y="2160"/>
                  </a:cubicBezTo>
                  <a:cubicBezTo>
                    <a:pt x="5787" y="2160"/>
                    <a:pt x="4956" y="720"/>
                    <a:pt x="4125" y="1440"/>
                  </a:cubicBezTo>
                  <a:cubicBezTo>
                    <a:pt x="3294" y="1440"/>
                    <a:pt x="4956" y="720"/>
                    <a:pt x="4125" y="144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06" name="Shape 1120"/>
            <p:cNvSpPr/>
            <p:nvPr/>
          </p:nvSpPr>
          <p:spPr>
            <a:xfrm>
              <a:off x="11511720" y="5146920"/>
              <a:ext cx="149760" cy="144720"/>
            </a:xfrm>
            <a:custGeom>
              <a:avLst/>
              <a:gdLst/>
              <a:ahLst/>
              <a:rect l="l" t="t" r="r" b="b"/>
              <a:pathLst>
                <a:path w="20877" h="20706">
                  <a:moveTo>
                    <a:pt x="17953" y="1797"/>
                  </a:moveTo>
                  <a:cubicBezTo>
                    <a:pt x="17953" y="1797"/>
                    <a:pt x="17399" y="-477"/>
                    <a:pt x="16291" y="91"/>
                  </a:cubicBezTo>
                  <a:cubicBezTo>
                    <a:pt x="14630" y="1228"/>
                    <a:pt x="15184" y="2365"/>
                    <a:pt x="14076" y="4070"/>
                  </a:cubicBezTo>
                  <a:cubicBezTo>
                    <a:pt x="13522" y="4639"/>
                    <a:pt x="12968" y="6344"/>
                    <a:pt x="11861" y="6912"/>
                  </a:cubicBezTo>
                  <a:cubicBezTo>
                    <a:pt x="10753" y="8618"/>
                    <a:pt x="9645" y="9186"/>
                    <a:pt x="7984" y="9755"/>
                  </a:cubicBezTo>
                  <a:cubicBezTo>
                    <a:pt x="6876" y="10323"/>
                    <a:pt x="6322" y="11460"/>
                    <a:pt x="4661" y="12028"/>
                  </a:cubicBezTo>
                  <a:cubicBezTo>
                    <a:pt x="3553" y="12597"/>
                    <a:pt x="3553" y="14870"/>
                    <a:pt x="1891" y="14870"/>
                  </a:cubicBezTo>
                  <a:cubicBezTo>
                    <a:pt x="-324" y="15439"/>
                    <a:pt x="1891" y="17144"/>
                    <a:pt x="784" y="18281"/>
                  </a:cubicBezTo>
                  <a:cubicBezTo>
                    <a:pt x="230" y="18281"/>
                    <a:pt x="-324" y="18281"/>
                    <a:pt x="230" y="18849"/>
                  </a:cubicBezTo>
                  <a:cubicBezTo>
                    <a:pt x="230" y="19418"/>
                    <a:pt x="230" y="19418"/>
                    <a:pt x="1338" y="19418"/>
                  </a:cubicBezTo>
                  <a:cubicBezTo>
                    <a:pt x="2445" y="19418"/>
                    <a:pt x="4107" y="20555"/>
                    <a:pt x="5214" y="20555"/>
                  </a:cubicBezTo>
                  <a:cubicBezTo>
                    <a:pt x="7430" y="21123"/>
                    <a:pt x="8538" y="19986"/>
                    <a:pt x="10199" y="18849"/>
                  </a:cubicBezTo>
                  <a:cubicBezTo>
                    <a:pt x="11307" y="17712"/>
                    <a:pt x="11861" y="16576"/>
                    <a:pt x="11861" y="14870"/>
                  </a:cubicBezTo>
                  <a:cubicBezTo>
                    <a:pt x="12414" y="13165"/>
                    <a:pt x="12968" y="13165"/>
                    <a:pt x="14630" y="12028"/>
                  </a:cubicBezTo>
                  <a:cubicBezTo>
                    <a:pt x="15184" y="12028"/>
                    <a:pt x="15184" y="11460"/>
                    <a:pt x="15738" y="11460"/>
                  </a:cubicBezTo>
                  <a:cubicBezTo>
                    <a:pt x="16291" y="11460"/>
                    <a:pt x="16845" y="11460"/>
                    <a:pt x="17953" y="11460"/>
                  </a:cubicBezTo>
                  <a:cubicBezTo>
                    <a:pt x="18507" y="10891"/>
                    <a:pt x="17953" y="10323"/>
                    <a:pt x="17399" y="10323"/>
                  </a:cubicBezTo>
                  <a:cubicBezTo>
                    <a:pt x="16845" y="9755"/>
                    <a:pt x="16845" y="9755"/>
                    <a:pt x="17399" y="9186"/>
                  </a:cubicBezTo>
                  <a:cubicBezTo>
                    <a:pt x="18507" y="7481"/>
                    <a:pt x="19614" y="6344"/>
                    <a:pt x="20722" y="4639"/>
                  </a:cubicBezTo>
                  <a:cubicBezTo>
                    <a:pt x="20722" y="4070"/>
                    <a:pt x="20722" y="3502"/>
                    <a:pt x="20722" y="2934"/>
                  </a:cubicBezTo>
                  <a:cubicBezTo>
                    <a:pt x="20722" y="2365"/>
                    <a:pt x="20722" y="2365"/>
                    <a:pt x="20722" y="1797"/>
                  </a:cubicBezTo>
                  <a:cubicBezTo>
                    <a:pt x="21276" y="1228"/>
                    <a:pt x="20168" y="1797"/>
                    <a:pt x="20168" y="1797"/>
                  </a:cubicBezTo>
                  <a:cubicBezTo>
                    <a:pt x="20168" y="1228"/>
                    <a:pt x="20168" y="1228"/>
                    <a:pt x="20168" y="660"/>
                  </a:cubicBezTo>
                  <a:cubicBezTo>
                    <a:pt x="19614" y="1228"/>
                    <a:pt x="19061" y="2365"/>
                    <a:pt x="17953" y="179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07" name="Shape 1121"/>
            <p:cNvSpPr/>
            <p:nvPr/>
          </p:nvSpPr>
          <p:spPr>
            <a:xfrm>
              <a:off x="11533680" y="5294520"/>
              <a:ext cx="7920" cy="7920"/>
            </a:xfrm>
            <a:custGeom>
              <a:avLst/>
              <a:gdLst/>
              <a:ahLst/>
              <a:rect l="l" t="t" r="r" b="b"/>
              <a:pathLst>
                <a:path w="21600" h="21600">
                  <a:moveTo>
                    <a:pt x="21600" y="21600"/>
                  </a:moveTo>
                  <a:cubicBezTo>
                    <a:pt x="21600" y="10800"/>
                    <a:pt x="10800" y="10800"/>
                    <a:pt x="10800" y="0"/>
                  </a:cubicBezTo>
                  <a:cubicBezTo>
                    <a:pt x="0" y="10800"/>
                    <a:pt x="0" y="10800"/>
                    <a:pt x="0" y="21600"/>
                  </a:cubicBezTo>
                  <a:cubicBezTo>
                    <a:pt x="10800" y="21600"/>
                    <a:pt x="21600" y="21600"/>
                    <a:pt x="21600"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08" name="Shape 1122"/>
            <p:cNvSpPr/>
            <p:nvPr/>
          </p:nvSpPr>
          <p:spPr>
            <a:xfrm>
              <a:off x="11079000" y="5151240"/>
              <a:ext cx="72000" cy="67680"/>
            </a:xfrm>
            <a:custGeom>
              <a:avLst/>
              <a:gdLst/>
              <a:ahLst/>
              <a:rect l="l" t="t" r="r" b="b"/>
              <a:pathLst>
                <a:path w="20645" h="20534">
                  <a:moveTo>
                    <a:pt x="0" y="1334"/>
                  </a:moveTo>
                  <a:cubicBezTo>
                    <a:pt x="0" y="2534"/>
                    <a:pt x="2274" y="6134"/>
                    <a:pt x="2274" y="7334"/>
                  </a:cubicBezTo>
                  <a:cubicBezTo>
                    <a:pt x="3411" y="8534"/>
                    <a:pt x="4547" y="9734"/>
                    <a:pt x="4547" y="10934"/>
                  </a:cubicBezTo>
                  <a:cubicBezTo>
                    <a:pt x="4547" y="12134"/>
                    <a:pt x="3411" y="12134"/>
                    <a:pt x="3411" y="13334"/>
                  </a:cubicBezTo>
                  <a:cubicBezTo>
                    <a:pt x="4547" y="16934"/>
                    <a:pt x="7958" y="19334"/>
                    <a:pt x="10232" y="20534"/>
                  </a:cubicBezTo>
                  <a:cubicBezTo>
                    <a:pt x="12505" y="20534"/>
                    <a:pt x="12505" y="18134"/>
                    <a:pt x="13642" y="16934"/>
                  </a:cubicBezTo>
                  <a:cubicBezTo>
                    <a:pt x="13642" y="16934"/>
                    <a:pt x="14779" y="19334"/>
                    <a:pt x="14779" y="19334"/>
                  </a:cubicBezTo>
                  <a:cubicBezTo>
                    <a:pt x="14779" y="18134"/>
                    <a:pt x="14779" y="15734"/>
                    <a:pt x="15916" y="15734"/>
                  </a:cubicBezTo>
                  <a:cubicBezTo>
                    <a:pt x="17053" y="14534"/>
                    <a:pt x="17053" y="16934"/>
                    <a:pt x="18189" y="16934"/>
                  </a:cubicBezTo>
                  <a:cubicBezTo>
                    <a:pt x="17053" y="16934"/>
                    <a:pt x="20463" y="8534"/>
                    <a:pt x="20463" y="7334"/>
                  </a:cubicBezTo>
                  <a:cubicBezTo>
                    <a:pt x="20463" y="6134"/>
                    <a:pt x="21600" y="-1066"/>
                    <a:pt x="18189" y="134"/>
                  </a:cubicBezTo>
                  <a:cubicBezTo>
                    <a:pt x="14779" y="1334"/>
                    <a:pt x="11368" y="3734"/>
                    <a:pt x="7958" y="2534"/>
                  </a:cubicBezTo>
                  <a:cubicBezTo>
                    <a:pt x="6821" y="2534"/>
                    <a:pt x="1137" y="-1066"/>
                    <a:pt x="0" y="1334"/>
                  </a:cubicBezTo>
                  <a:cubicBezTo>
                    <a:pt x="0" y="2534"/>
                    <a:pt x="1137" y="-1066"/>
                    <a:pt x="0" y="1334"/>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509" name="Shape 1123"/>
            <p:cNvSpPr/>
            <p:nvPr/>
          </p:nvSpPr>
          <p:spPr>
            <a:xfrm>
              <a:off x="11141640" y="5127480"/>
              <a:ext cx="8640" cy="16560"/>
            </a:xfrm>
            <a:custGeom>
              <a:avLst/>
              <a:gdLst/>
              <a:ahLst/>
              <a:rect l="l" t="t" r="r" b="b"/>
              <a:pathLst>
                <a:path w="15869" h="17968">
                  <a:moveTo>
                    <a:pt x="15869" y="17280"/>
                  </a:moveTo>
                  <a:cubicBezTo>
                    <a:pt x="15869" y="21600"/>
                    <a:pt x="-5731" y="4320"/>
                    <a:pt x="1469" y="0"/>
                  </a:cubicBezTo>
                  <a:cubicBezTo>
                    <a:pt x="8669" y="0"/>
                    <a:pt x="15869" y="4320"/>
                    <a:pt x="15869"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510" name="Shape 1124"/>
            <p:cNvSpPr/>
            <p:nvPr/>
          </p:nvSpPr>
          <p:spPr>
            <a:xfrm>
              <a:off x="11059920" y="5127480"/>
              <a:ext cx="5760" cy="7920"/>
            </a:xfrm>
            <a:prstGeom prst="ellipse">
              <a:avLst/>
            </a:prstGeom>
            <a:solidFill>
              <a:srgbClr val="dadbdf"/>
            </a:solidFill>
            <a:ln w="4680">
              <a:solidFill>
                <a:srgbClr val="ffffff"/>
              </a:solidFill>
              <a:miter/>
            </a:ln>
          </p:spPr>
          <p:style>
            <a:lnRef idx="0"/>
            <a:fillRef idx="0"/>
            <a:effectRef idx="0"/>
            <a:fontRef idx="minor"/>
          </p:style>
          <p:txBody>
            <a:bodyPr lIns="45720" rIns="45720" tIns="-41040" bIns="-4104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511" name="Shape 1125"/>
            <p:cNvSpPr/>
            <p:nvPr/>
          </p:nvSpPr>
          <p:spPr>
            <a:xfrm>
              <a:off x="9826560" y="4101120"/>
              <a:ext cx="38520" cy="71280"/>
            </a:xfrm>
            <a:custGeom>
              <a:avLst/>
              <a:gdLst/>
              <a:ahLst/>
              <a:rect l="l" t="t" r="r" b="b"/>
              <a:pathLst>
                <a:path w="19418" h="21600">
                  <a:moveTo>
                    <a:pt x="3927" y="0"/>
                  </a:moveTo>
                  <a:cubicBezTo>
                    <a:pt x="3927" y="0"/>
                    <a:pt x="3927" y="0"/>
                    <a:pt x="1964" y="0"/>
                  </a:cubicBezTo>
                  <a:cubicBezTo>
                    <a:pt x="1964" y="0"/>
                    <a:pt x="1964" y="3600"/>
                    <a:pt x="1964" y="3600"/>
                  </a:cubicBezTo>
                  <a:cubicBezTo>
                    <a:pt x="1964" y="6000"/>
                    <a:pt x="0" y="7200"/>
                    <a:pt x="0" y="9600"/>
                  </a:cubicBezTo>
                  <a:cubicBezTo>
                    <a:pt x="0" y="13200"/>
                    <a:pt x="0" y="21600"/>
                    <a:pt x="7855" y="21600"/>
                  </a:cubicBezTo>
                  <a:cubicBezTo>
                    <a:pt x="11782" y="21600"/>
                    <a:pt x="17673" y="20400"/>
                    <a:pt x="17673" y="18000"/>
                  </a:cubicBezTo>
                  <a:cubicBezTo>
                    <a:pt x="21600" y="15600"/>
                    <a:pt x="17673" y="12000"/>
                    <a:pt x="17673" y="9600"/>
                  </a:cubicBezTo>
                  <a:cubicBezTo>
                    <a:pt x="13745" y="7200"/>
                    <a:pt x="9818" y="0"/>
                    <a:pt x="3927" y="0"/>
                  </a:cubicBezTo>
                  <a:cubicBezTo>
                    <a:pt x="1964" y="0"/>
                    <a:pt x="5891" y="0"/>
                    <a:pt x="3927" y="0"/>
                  </a:cubicBezTo>
                  <a:close/>
                </a:path>
              </a:pathLst>
            </a:custGeom>
            <a:solidFill>
              <a:srgbClr val="dadbdf"/>
            </a:solidFill>
            <a:ln w="4680">
              <a:solidFill>
                <a:srgbClr val="ffffff"/>
              </a:solidFill>
              <a:round/>
            </a:ln>
          </p:spPr>
          <p:style>
            <a:lnRef idx="0"/>
            <a:fillRef idx="0"/>
            <a:effectRef idx="0"/>
            <a:fontRef idx="minor"/>
          </p:style>
          <p:txBody>
            <a:bodyPr lIns="45360" rIns="45360" tIns="24480" bIns="24480" anchor="t">
              <a:noAutofit/>
            </a:bodyPr>
            <a:p>
              <a:endParaRPr b="0" lang="en-US" sz="1800" spc="-1" strike="noStrike">
                <a:solidFill>
                  <a:srgbClr val="000000"/>
                </a:solidFill>
                <a:latin typeface="Calibri"/>
              </a:endParaRPr>
            </a:p>
          </p:txBody>
        </p:sp>
        <p:sp>
          <p:nvSpPr>
            <p:cNvPr id="512" name="Shape 1126"/>
            <p:cNvSpPr/>
            <p:nvPr/>
          </p:nvSpPr>
          <p:spPr>
            <a:xfrm>
              <a:off x="9098280" y="4530240"/>
              <a:ext cx="142920" cy="274320"/>
            </a:xfrm>
            <a:custGeom>
              <a:avLst/>
              <a:gdLst/>
              <a:ahLst/>
              <a:rect l="l" t="t" r="r" b="b"/>
              <a:pathLst>
                <a:path w="21600" h="21446">
                  <a:moveTo>
                    <a:pt x="18600" y="617"/>
                  </a:moveTo>
                  <a:cubicBezTo>
                    <a:pt x="18600" y="617"/>
                    <a:pt x="18000" y="0"/>
                    <a:pt x="17400" y="0"/>
                  </a:cubicBezTo>
                  <a:cubicBezTo>
                    <a:pt x="17400" y="309"/>
                    <a:pt x="16800" y="617"/>
                    <a:pt x="16800" y="926"/>
                  </a:cubicBezTo>
                  <a:cubicBezTo>
                    <a:pt x="16200" y="1543"/>
                    <a:pt x="16200" y="1851"/>
                    <a:pt x="15600" y="2469"/>
                  </a:cubicBezTo>
                  <a:cubicBezTo>
                    <a:pt x="15000" y="2777"/>
                    <a:pt x="14400" y="2469"/>
                    <a:pt x="13800" y="2469"/>
                  </a:cubicBezTo>
                  <a:cubicBezTo>
                    <a:pt x="13800" y="2469"/>
                    <a:pt x="14400" y="2777"/>
                    <a:pt x="13800" y="3086"/>
                  </a:cubicBezTo>
                  <a:cubicBezTo>
                    <a:pt x="13800" y="3394"/>
                    <a:pt x="13200" y="3394"/>
                    <a:pt x="13200" y="3703"/>
                  </a:cubicBezTo>
                  <a:cubicBezTo>
                    <a:pt x="13200" y="3703"/>
                    <a:pt x="13800" y="4011"/>
                    <a:pt x="13800" y="4011"/>
                  </a:cubicBezTo>
                  <a:cubicBezTo>
                    <a:pt x="13800" y="4320"/>
                    <a:pt x="13200" y="4011"/>
                    <a:pt x="12600" y="4320"/>
                  </a:cubicBezTo>
                  <a:cubicBezTo>
                    <a:pt x="12000" y="4320"/>
                    <a:pt x="12000" y="4629"/>
                    <a:pt x="11400" y="4937"/>
                  </a:cubicBezTo>
                  <a:cubicBezTo>
                    <a:pt x="10800" y="5246"/>
                    <a:pt x="10200" y="5246"/>
                    <a:pt x="9000" y="5554"/>
                  </a:cubicBezTo>
                  <a:cubicBezTo>
                    <a:pt x="8400" y="5554"/>
                    <a:pt x="9600" y="5863"/>
                    <a:pt x="9000" y="5863"/>
                  </a:cubicBezTo>
                  <a:cubicBezTo>
                    <a:pt x="9000" y="6171"/>
                    <a:pt x="7800" y="5554"/>
                    <a:pt x="7800" y="5863"/>
                  </a:cubicBezTo>
                  <a:cubicBezTo>
                    <a:pt x="6600" y="6171"/>
                    <a:pt x="6000" y="6171"/>
                    <a:pt x="4800" y="6480"/>
                  </a:cubicBezTo>
                  <a:cubicBezTo>
                    <a:pt x="4200" y="6480"/>
                    <a:pt x="3600" y="6171"/>
                    <a:pt x="3600" y="6480"/>
                  </a:cubicBezTo>
                  <a:cubicBezTo>
                    <a:pt x="3000" y="7097"/>
                    <a:pt x="3000" y="7714"/>
                    <a:pt x="2400" y="8331"/>
                  </a:cubicBezTo>
                  <a:cubicBezTo>
                    <a:pt x="1800" y="9874"/>
                    <a:pt x="4800" y="12034"/>
                    <a:pt x="2400" y="13577"/>
                  </a:cubicBezTo>
                  <a:cubicBezTo>
                    <a:pt x="1800" y="14194"/>
                    <a:pt x="600" y="14811"/>
                    <a:pt x="0" y="15737"/>
                  </a:cubicBezTo>
                  <a:cubicBezTo>
                    <a:pt x="0" y="16046"/>
                    <a:pt x="0" y="16663"/>
                    <a:pt x="0" y="16971"/>
                  </a:cubicBezTo>
                  <a:cubicBezTo>
                    <a:pt x="600" y="17280"/>
                    <a:pt x="1800" y="17589"/>
                    <a:pt x="1200" y="18206"/>
                  </a:cubicBezTo>
                  <a:cubicBezTo>
                    <a:pt x="600" y="19131"/>
                    <a:pt x="1200" y="20366"/>
                    <a:pt x="3000" y="20983"/>
                  </a:cubicBezTo>
                  <a:cubicBezTo>
                    <a:pt x="4800" y="21600"/>
                    <a:pt x="6600" y="21600"/>
                    <a:pt x="9600" y="20983"/>
                  </a:cubicBezTo>
                  <a:cubicBezTo>
                    <a:pt x="12600" y="20366"/>
                    <a:pt x="13200" y="16971"/>
                    <a:pt x="14400" y="15429"/>
                  </a:cubicBezTo>
                  <a:cubicBezTo>
                    <a:pt x="15600" y="13269"/>
                    <a:pt x="17400" y="11417"/>
                    <a:pt x="18600" y="9257"/>
                  </a:cubicBezTo>
                  <a:cubicBezTo>
                    <a:pt x="18600" y="8640"/>
                    <a:pt x="18600" y="7714"/>
                    <a:pt x="19200" y="7097"/>
                  </a:cubicBezTo>
                  <a:cubicBezTo>
                    <a:pt x="19800" y="6789"/>
                    <a:pt x="18600" y="4320"/>
                    <a:pt x="20400" y="5863"/>
                  </a:cubicBezTo>
                  <a:cubicBezTo>
                    <a:pt x="21000" y="6171"/>
                    <a:pt x="21000" y="5554"/>
                    <a:pt x="21600" y="5246"/>
                  </a:cubicBezTo>
                  <a:cubicBezTo>
                    <a:pt x="21600" y="4629"/>
                    <a:pt x="21000" y="4011"/>
                    <a:pt x="21000" y="3394"/>
                  </a:cubicBezTo>
                  <a:cubicBezTo>
                    <a:pt x="20400" y="2777"/>
                    <a:pt x="19800" y="1234"/>
                    <a:pt x="18600" y="617"/>
                  </a:cubicBezTo>
                  <a:cubicBezTo>
                    <a:pt x="18000" y="309"/>
                    <a:pt x="19200" y="617"/>
                    <a:pt x="18600" y="61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13" name="Shape 1127"/>
            <p:cNvSpPr/>
            <p:nvPr/>
          </p:nvSpPr>
          <p:spPr>
            <a:xfrm>
              <a:off x="9417960" y="2592360"/>
              <a:ext cx="35640" cy="28800"/>
            </a:xfrm>
            <a:custGeom>
              <a:avLst/>
              <a:gdLst/>
              <a:ahLst/>
              <a:rect l="l" t="t" r="r" b="b"/>
              <a:pathLst>
                <a:path w="17925" h="19443">
                  <a:moveTo>
                    <a:pt x="16245" y="18900"/>
                  </a:moveTo>
                  <a:cubicBezTo>
                    <a:pt x="20172" y="21600"/>
                    <a:pt x="16245" y="13500"/>
                    <a:pt x="14281" y="10800"/>
                  </a:cubicBezTo>
                  <a:cubicBezTo>
                    <a:pt x="12317" y="8100"/>
                    <a:pt x="6427" y="2700"/>
                    <a:pt x="4463" y="0"/>
                  </a:cubicBezTo>
                  <a:cubicBezTo>
                    <a:pt x="2499" y="0"/>
                    <a:pt x="536" y="2700"/>
                    <a:pt x="536" y="5400"/>
                  </a:cubicBezTo>
                  <a:cubicBezTo>
                    <a:pt x="-1428" y="8100"/>
                    <a:pt x="2499" y="10800"/>
                    <a:pt x="4463" y="13500"/>
                  </a:cubicBezTo>
                  <a:cubicBezTo>
                    <a:pt x="8390" y="16200"/>
                    <a:pt x="12317" y="18900"/>
                    <a:pt x="16245" y="18900"/>
                  </a:cubicBezTo>
                  <a:cubicBezTo>
                    <a:pt x="18208" y="18900"/>
                    <a:pt x="12317" y="18900"/>
                    <a:pt x="16245" y="18900"/>
                  </a:cubicBezTo>
                  <a:close/>
                </a:path>
              </a:pathLst>
            </a:custGeom>
            <a:solidFill>
              <a:srgbClr val="dadbdf"/>
            </a:solidFill>
            <a:ln w="4680">
              <a:solidFill>
                <a:srgbClr val="ffffff"/>
              </a:solidFill>
              <a:round/>
            </a:ln>
          </p:spPr>
          <p:style>
            <a:lnRef idx="0"/>
            <a:fillRef idx="0"/>
            <a:effectRef idx="0"/>
            <a:fontRef idx="minor"/>
          </p:style>
          <p:txBody>
            <a:bodyPr lIns="45360" rIns="45360" tIns="-18000" bIns="-18000" anchor="t">
              <a:noAutofit/>
            </a:bodyPr>
            <a:p>
              <a:endParaRPr b="0" lang="en-US" sz="1800" spc="-1" strike="noStrike">
                <a:solidFill>
                  <a:srgbClr val="000000"/>
                </a:solidFill>
                <a:latin typeface="Calibri"/>
              </a:endParaRPr>
            </a:p>
          </p:txBody>
        </p:sp>
        <p:sp>
          <p:nvSpPr>
            <p:cNvPr id="514" name="Shape 1128"/>
            <p:cNvSpPr/>
            <p:nvPr/>
          </p:nvSpPr>
          <p:spPr>
            <a:xfrm>
              <a:off x="9208800" y="2629800"/>
              <a:ext cx="40680" cy="25920"/>
            </a:xfrm>
            <a:custGeom>
              <a:avLst/>
              <a:gdLst/>
              <a:ahLst/>
              <a:rect l="l" t="t" r="r" b="b"/>
              <a:pathLst>
                <a:path w="20509" h="14400">
                  <a:moveTo>
                    <a:pt x="19636" y="5760"/>
                  </a:moveTo>
                  <a:cubicBezTo>
                    <a:pt x="19636" y="10080"/>
                    <a:pt x="13745" y="12240"/>
                    <a:pt x="11782" y="14400"/>
                  </a:cubicBezTo>
                  <a:cubicBezTo>
                    <a:pt x="7855" y="14400"/>
                    <a:pt x="0" y="12240"/>
                    <a:pt x="0" y="5760"/>
                  </a:cubicBezTo>
                  <a:cubicBezTo>
                    <a:pt x="1964" y="-7200"/>
                    <a:pt x="21600" y="5760"/>
                    <a:pt x="19636" y="5760"/>
                  </a:cubicBezTo>
                  <a:cubicBezTo>
                    <a:pt x="19636" y="7920"/>
                    <a:pt x="21600" y="3600"/>
                    <a:pt x="19636" y="5760"/>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515" name="Shape 1129"/>
            <p:cNvSpPr/>
            <p:nvPr/>
          </p:nvSpPr>
          <p:spPr>
            <a:xfrm>
              <a:off x="9643320" y="2482920"/>
              <a:ext cx="32040" cy="19080"/>
            </a:xfrm>
            <a:custGeom>
              <a:avLst/>
              <a:gdLst/>
              <a:ahLst/>
              <a:rect l="l" t="t" r="r" b="b"/>
              <a:pathLst>
                <a:path w="19838" h="20520">
                  <a:moveTo>
                    <a:pt x="19838" y="11880"/>
                  </a:moveTo>
                  <a:cubicBezTo>
                    <a:pt x="15038" y="16200"/>
                    <a:pt x="12638" y="16200"/>
                    <a:pt x="7838" y="20520"/>
                  </a:cubicBezTo>
                  <a:cubicBezTo>
                    <a:pt x="3038" y="20520"/>
                    <a:pt x="-1762" y="11880"/>
                    <a:pt x="638" y="3240"/>
                  </a:cubicBezTo>
                  <a:cubicBezTo>
                    <a:pt x="638" y="-1080"/>
                    <a:pt x="10238" y="-1080"/>
                    <a:pt x="12638" y="3240"/>
                  </a:cubicBezTo>
                  <a:cubicBezTo>
                    <a:pt x="15038" y="3240"/>
                    <a:pt x="17438" y="11880"/>
                    <a:pt x="19838" y="11880"/>
                  </a:cubicBezTo>
                  <a:close/>
                </a:path>
              </a:pathLst>
            </a:custGeom>
            <a:solidFill>
              <a:srgbClr val="dadbdf"/>
            </a:solidFill>
            <a:ln w="4680">
              <a:solidFill>
                <a:srgbClr val="ffffff"/>
              </a:solidFill>
              <a:round/>
            </a:ln>
          </p:spPr>
          <p:style>
            <a:lnRef idx="0"/>
            <a:fillRef idx="0"/>
            <a:effectRef idx="0"/>
            <a:fontRef idx="minor"/>
          </p:style>
          <p:txBody>
            <a:bodyPr lIns="45360" rIns="45360" tIns="-27720" bIns="-27720" anchor="t">
              <a:noAutofit/>
            </a:bodyPr>
            <a:p>
              <a:endParaRPr b="0" lang="en-US" sz="1800" spc="-1" strike="noStrike">
                <a:solidFill>
                  <a:srgbClr val="000000"/>
                </a:solidFill>
                <a:latin typeface="Calibri"/>
              </a:endParaRPr>
            </a:p>
          </p:txBody>
        </p:sp>
        <p:sp>
          <p:nvSpPr>
            <p:cNvPr id="516" name="Shape 1130"/>
            <p:cNvSpPr/>
            <p:nvPr/>
          </p:nvSpPr>
          <p:spPr>
            <a:xfrm>
              <a:off x="10433520" y="2443680"/>
              <a:ext cx="32760" cy="17640"/>
            </a:xfrm>
            <a:custGeom>
              <a:avLst/>
              <a:gdLst/>
              <a:ahLst/>
              <a:rect l="l" t="t" r="r" b="b"/>
              <a:pathLst>
                <a:path w="18149" h="20520">
                  <a:moveTo>
                    <a:pt x="11235" y="20520"/>
                  </a:moveTo>
                  <a:cubicBezTo>
                    <a:pt x="6915" y="20520"/>
                    <a:pt x="2595" y="16200"/>
                    <a:pt x="435" y="16200"/>
                  </a:cubicBezTo>
                  <a:cubicBezTo>
                    <a:pt x="-1725" y="11880"/>
                    <a:pt x="4755" y="3240"/>
                    <a:pt x="6915" y="3240"/>
                  </a:cubicBezTo>
                  <a:cubicBezTo>
                    <a:pt x="9075" y="-1080"/>
                    <a:pt x="15555" y="-1080"/>
                    <a:pt x="17715" y="3240"/>
                  </a:cubicBezTo>
                  <a:cubicBezTo>
                    <a:pt x="19875" y="7560"/>
                    <a:pt x="13395" y="20520"/>
                    <a:pt x="11235" y="20520"/>
                  </a:cubicBezTo>
                  <a:cubicBezTo>
                    <a:pt x="6915" y="20520"/>
                    <a:pt x="11235" y="20520"/>
                    <a:pt x="11235" y="2052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517" name="Shape 1131"/>
            <p:cNvSpPr/>
            <p:nvPr/>
          </p:nvSpPr>
          <p:spPr>
            <a:xfrm>
              <a:off x="10031400" y="2157840"/>
              <a:ext cx="24120" cy="5760"/>
            </a:xfrm>
            <a:prstGeom prst="ellipse">
              <a:avLst/>
            </a:prstGeom>
            <a:solidFill>
              <a:srgbClr val="bfbfbf"/>
            </a:solidFill>
            <a:ln w="4680">
              <a:solidFill>
                <a:srgbClr val="ffffff"/>
              </a:solidFill>
              <a:miter/>
            </a:ln>
          </p:spPr>
          <p:style>
            <a:lnRef idx="0"/>
            <a:fillRef idx="0"/>
            <a:effectRef idx="0"/>
            <a:fontRef idx="minor"/>
          </p:style>
          <p:txBody>
            <a:bodyPr lIns="45720" rIns="45720" tIns="-42480" bIns="-4248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518" name="Shape 1132"/>
            <p:cNvSpPr/>
            <p:nvPr/>
          </p:nvSpPr>
          <p:spPr>
            <a:xfrm>
              <a:off x="9815760" y="2501280"/>
              <a:ext cx="14760" cy="12600"/>
            </a:xfrm>
            <a:custGeom>
              <a:avLst/>
              <a:gdLst/>
              <a:ahLst/>
              <a:rect l="l" t="t" r="r" b="b"/>
              <a:pathLst>
                <a:path w="14138" h="17067">
                  <a:moveTo>
                    <a:pt x="12788" y="17067"/>
                  </a:moveTo>
                  <a:cubicBezTo>
                    <a:pt x="9188" y="17067"/>
                    <a:pt x="-5212" y="11667"/>
                    <a:pt x="1988" y="867"/>
                  </a:cubicBezTo>
                  <a:cubicBezTo>
                    <a:pt x="12788" y="-4533"/>
                    <a:pt x="16388" y="17067"/>
                    <a:pt x="12788" y="17067"/>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519" name="Shape 1133"/>
            <p:cNvSpPr/>
            <p:nvPr/>
          </p:nvSpPr>
          <p:spPr>
            <a:xfrm>
              <a:off x="8436960" y="3384000"/>
              <a:ext cx="18360" cy="37080"/>
            </a:xfrm>
            <a:custGeom>
              <a:avLst/>
              <a:gdLst/>
              <a:ahLst/>
              <a:rect l="l" t="t" r="r" b="b"/>
              <a:pathLst>
                <a:path w="17412" h="18635">
                  <a:moveTo>
                    <a:pt x="15812" y="567"/>
                  </a:moveTo>
                  <a:cubicBezTo>
                    <a:pt x="15812" y="4494"/>
                    <a:pt x="19412" y="8421"/>
                    <a:pt x="15812" y="12348"/>
                  </a:cubicBezTo>
                  <a:cubicBezTo>
                    <a:pt x="12212" y="14312"/>
                    <a:pt x="15812" y="20203"/>
                    <a:pt x="8612" y="18239"/>
                  </a:cubicBezTo>
                  <a:cubicBezTo>
                    <a:pt x="1412" y="14312"/>
                    <a:pt x="-2188" y="10385"/>
                    <a:pt x="1412" y="6458"/>
                  </a:cubicBezTo>
                  <a:cubicBezTo>
                    <a:pt x="1412" y="4494"/>
                    <a:pt x="15812" y="-1397"/>
                    <a:pt x="15812" y="567"/>
                  </a:cubicBezTo>
                  <a:cubicBezTo>
                    <a:pt x="15812" y="2530"/>
                    <a:pt x="15812" y="-1397"/>
                    <a:pt x="15812" y="567"/>
                  </a:cubicBezTo>
                  <a:close/>
                </a:path>
              </a:pathLst>
            </a:custGeom>
            <a:solidFill>
              <a:srgbClr val="dadbdf"/>
            </a:solidFill>
            <a:ln w="4680">
              <a:solidFill>
                <a:srgbClr val="ffffff"/>
              </a:solidFill>
              <a:round/>
            </a:ln>
          </p:spPr>
          <p:style>
            <a:lnRef idx="0"/>
            <a:fillRef idx="0"/>
            <a:effectRef idx="0"/>
            <a:fontRef idx="minor"/>
          </p:style>
          <p:txBody>
            <a:bodyPr lIns="45360" rIns="45360" tIns="-9720" bIns="-9720" anchor="t">
              <a:noAutofit/>
            </a:bodyPr>
            <a:p>
              <a:endParaRPr b="0" lang="en-US" sz="1800" spc="-1" strike="noStrike">
                <a:solidFill>
                  <a:srgbClr val="000000"/>
                </a:solidFill>
                <a:latin typeface="Calibri"/>
              </a:endParaRPr>
            </a:p>
          </p:txBody>
        </p:sp>
        <p:sp>
          <p:nvSpPr>
            <p:cNvPr id="520" name="Shape 1134"/>
            <p:cNvSpPr/>
            <p:nvPr/>
          </p:nvSpPr>
          <p:spPr>
            <a:xfrm>
              <a:off x="8426520" y="3425400"/>
              <a:ext cx="32040" cy="51480"/>
            </a:xfrm>
            <a:custGeom>
              <a:avLst/>
              <a:gdLst/>
              <a:ahLst/>
              <a:rect l="l" t="t" r="r" b="b"/>
              <a:pathLst>
                <a:path w="19800" h="18866">
                  <a:moveTo>
                    <a:pt x="16800" y="2430"/>
                  </a:moveTo>
                  <a:cubicBezTo>
                    <a:pt x="14400" y="2430"/>
                    <a:pt x="16800" y="-1890"/>
                    <a:pt x="12000" y="990"/>
                  </a:cubicBezTo>
                  <a:cubicBezTo>
                    <a:pt x="4800" y="3870"/>
                    <a:pt x="7200" y="3870"/>
                    <a:pt x="0" y="990"/>
                  </a:cubicBezTo>
                  <a:cubicBezTo>
                    <a:pt x="0" y="990"/>
                    <a:pt x="2400" y="9630"/>
                    <a:pt x="2400" y="9630"/>
                  </a:cubicBezTo>
                  <a:cubicBezTo>
                    <a:pt x="4800" y="12510"/>
                    <a:pt x="4800" y="13950"/>
                    <a:pt x="4800" y="16830"/>
                  </a:cubicBezTo>
                  <a:cubicBezTo>
                    <a:pt x="4800" y="18270"/>
                    <a:pt x="4800" y="19710"/>
                    <a:pt x="9600" y="18270"/>
                  </a:cubicBezTo>
                  <a:cubicBezTo>
                    <a:pt x="14400" y="16830"/>
                    <a:pt x="19200" y="16830"/>
                    <a:pt x="19200" y="12510"/>
                  </a:cubicBezTo>
                  <a:cubicBezTo>
                    <a:pt x="19200" y="11070"/>
                    <a:pt x="21600" y="2430"/>
                    <a:pt x="16800" y="2430"/>
                  </a:cubicBezTo>
                  <a:close/>
                </a:path>
              </a:pathLst>
            </a:custGeom>
            <a:solidFill>
              <a:srgbClr val="dadbdf"/>
            </a:solidFill>
            <a:ln w="4680">
              <a:solidFill>
                <a:srgbClr val="ffffff"/>
              </a:solidFill>
              <a:round/>
            </a:ln>
          </p:spPr>
          <p:style>
            <a:lnRef idx="0"/>
            <a:fillRef idx="0"/>
            <a:effectRef idx="0"/>
            <a:fontRef idx="minor"/>
          </p:style>
          <p:txBody>
            <a:bodyPr lIns="45360" rIns="45360" tIns="4680" bIns="4680" anchor="t">
              <a:noAutofit/>
            </a:bodyPr>
            <a:p>
              <a:endParaRPr b="0" lang="en-US" sz="1800" spc="-1" strike="noStrike">
                <a:solidFill>
                  <a:srgbClr val="000000"/>
                </a:solidFill>
                <a:latin typeface="Calibri"/>
              </a:endParaRPr>
            </a:p>
          </p:txBody>
        </p:sp>
        <p:sp>
          <p:nvSpPr>
            <p:cNvPr id="521" name="Shape 1135"/>
            <p:cNvSpPr/>
            <p:nvPr/>
          </p:nvSpPr>
          <p:spPr>
            <a:xfrm>
              <a:off x="8508960" y="3493800"/>
              <a:ext cx="60120" cy="32400"/>
            </a:xfrm>
            <a:custGeom>
              <a:avLst/>
              <a:gdLst/>
              <a:ahLst/>
              <a:rect l="l" t="t" r="r" b="b"/>
              <a:pathLst>
                <a:path w="20526" h="17928">
                  <a:moveTo>
                    <a:pt x="6750" y="960"/>
                  </a:moveTo>
                  <a:cubicBezTo>
                    <a:pt x="5400" y="960"/>
                    <a:pt x="1350" y="960"/>
                    <a:pt x="0" y="3120"/>
                  </a:cubicBezTo>
                  <a:cubicBezTo>
                    <a:pt x="0" y="5280"/>
                    <a:pt x="2700" y="7440"/>
                    <a:pt x="4050" y="9600"/>
                  </a:cubicBezTo>
                  <a:cubicBezTo>
                    <a:pt x="6750" y="9600"/>
                    <a:pt x="9450" y="11760"/>
                    <a:pt x="10800" y="13920"/>
                  </a:cubicBezTo>
                  <a:cubicBezTo>
                    <a:pt x="13500" y="16080"/>
                    <a:pt x="16200" y="20400"/>
                    <a:pt x="18900" y="16080"/>
                  </a:cubicBezTo>
                  <a:cubicBezTo>
                    <a:pt x="21600" y="13920"/>
                    <a:pt x="16200" y="11760"/>
                    <a:pt x="17550" y="7440"/>
                  </a:cubicBezTo>
                  <a:cubicBezTo>
                    <a:pt x="17550" y="7440"/>
                    <a:pt x="21600" y="3120"/>
                    <a:pt x="20250" y="960"/>
                  </a:cubicBezTo>
                  <a:cubicBezTo>
                    <a:pt x="20250" y="-1200"/>
                    <a:pt x="14850" y="960"/>
                    <a:pt x="14850" y="960"/>
                  </a:cubicBezTo>
                  <a:cubicBezTo>
                    <a:pt x="12150" y="3120"/>
                    <a:pt x="9450" y="960"/>
                    <a:pt x="6750" y="960"/>
                  </a:cubicBezTo>
                  <a:close/>
                </a:path>
              </a:pathLst>
            </a:custGeom>
            <a:solidFill>
              <a:srgbClr val="dadbdf"/>
            </a:solidFill>
            <a:ln w="4680">
              <a:solidFill>
                <a:srgbClr val="ffffff"/>
              </a:solidFill>
              <a:round/>
            </a:ln>
          </p:spPr>
          <p:style>
            <a:lnRef idx="0"/>
            <a:fillRef idx="0"/>
            <a:effectRef idx="0"/>
            <a:fontRef idx="minor"/>
          </p:style>
          <p:txBody>
            <a:bodyPr lIns="45360" rIns="45360" tIns="-14400" bIns="-14400" anchor="t">
              <a:noAutofit/>
            </a:bodyPr>
            <a:p>
              <a:endParaRPr b="0" lang="en-US" sz="1800" spc="-1" strike="noStrike">
                <a:solidFill>
                  <a:srgbClr val="000000"/>
                </a:solidFill>
                <a:latin typeface="Calibri"/>
              </a:endParaRPr>
            </a:p>
          </p:txBody>
        </p:sp>
        <p:sp>
          <p:nvSpPr>
            <p:cNvPr id="522" name="Shape 1136"/>
            <p:cNvSpPr/>
            <p:nvPr/>
          </p:nvSpPr>
          <p:spPr>
            <a:xfrm>
              <a:off x="8890920" y="3549960"/>
              <a:ext cx="42480" cy="24120"/>
            </a:xfrm>
            <a:custGeom>
              <a:avLst/>
              <a:gdLst/>
              <a:ahLst/>
              <a:rect l="l" t="t" r="r" b="b"/>
              <a:pathLst>
                <a:path w="18013" h="18634">
                  <a:moveTo>
                    <a:pt x="17533" y="891"/>
                  </a:moveTo>
                  <a:cubicBezTo>
                    <a:pt x="17533" y="891"/>
                    <a:pt x="14210" y="3976"/>
                    <a:pt x="14210" y="3976"/>
                  </a:cubicBezTo>
                  <a:cubicBezTo>
                    <a:pt x="12549" y="7062"/>
                    <a:pt x="14210" y="13234"/>
                    <a:pt x="14210" y="13234"/>
                  </a:cubicBezTo>
                  <a:cubicBezTo>
                    <a:pt x="12549" y="13234"/>
                    <a:pt x="9226" y="13234"/>
                    <a:pt x="7564" y="16319"/>
                  </a:cubicBezTo>
                  <a:cubicBezTo>
                    <a:pt x="4241" y="19405"/>
                    <a:pt x="2580" y="19405"/>
                    <a:pt x="918" y="16319"/>
                  </a:cubicBezTo>
                  <a:cubicBezTo>
                    <a:pt x="-2405" y="10148"/>
                    <a:pt x="4241" y="7062"/>
                    <a:pt x="5903" y="7062"/>
                  </a:cubicBezTo>
                  <a:cubicBezTo>
                    <a:pt x="9226" y="7062"/>
                    <a:pt x="14210" y="3976"/>
                    <a:pt x="17533" y="891"/>
                  </a:cubicBezTo>
                  <a:cubicBezTo>
                    <a:pt x="19195" y="-2195"/>
                    <a:pt x="15872" y="3976"/>
                    <a:pt x="17533" y="891"/>
                  </a:cubicBezTo>
                  <a:close/>
                </a:path>
              </a:pathLst>
            </a:custGeom>
            <a:solidFill>
              <a:srgbClr val="dadbdf"/>
            </a:solidFill>
            <a:ln w="4680">
              <a:solidFill>
                <a:srgbClr val="ffffff"/>
              </a:solidFill>
              <a:round/>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23" name="Shape 1137"/>
            <p:cNvSpPr/>
            <p:nvPr/>
          </p:nvSpPr>
          <p:spPr>
            <a:xfrm>
              <a:off x="8718840" y="3553200"/>
              <a:ext cx="55440" cy="13680"/>
            </a:xfrm>
            <a:custGeom>
              <a:avLst/>
              <a:gdLst/>
              <a:ahLst/>
              <a:rect l="l" t="t" r="r" b="b"/>
              <a:pathLst>
                <a:path w="20300" h="18600">
                  <a:moveTo>
                    <a:pt x="10220" y="18600"/>
                  </a:moveTo>
                  <a:cubicBezTo>
                    <a:pt x="8780" y="18600"/>
                    <a:pt x="-1300" y="7800"/>
                    <a:pt x="140" y="2400"/>
                  </a:cubicBezTo>
                  <a:cubicBezTo>
                    <a:pt x="140" y="-3000"/>
                    <a:pt x="8780" y="2400"/>
                    <a:pt x="8780" y="2400"/>
                  </a:cubicBezTo>
                  <a:cubicBezTo>
                    <a:pt x="13100" y="7800"/>
                    <a:pt x="15980" y="7800"/>
                    <a:pt x="20300" y="7800"/>
                  </a:cubicBezTo>
                  <a:cubicBezTo>
                    <a:pt x="20300" y="7800"/>
                    <a:pt x="17420" y="13200"/>
                    <a:pt x="17420" y="13200"/>
                  </a:cubicBezTo>
                  <a:cubicBezTo>
                    <a:pt x="15980" y="18600"/>
                    <a:pt x="13100" y="18600"/>
                    <a:pt x="10220" y="18600"/>
                  </a:cubicBezTo>
                  <a:cubicBezTo>
                    <a:pt x="7340" y="18600"/>
                    <a:pt x="11660" y="18600"/>
                    <a:pt x="10220" y="18600"/>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524" name="Shape 1138"/>
            <p:cNvSpPr/>
            <p:nvPr/>
          </p:nvSpPr>
          <p:spPr>
            <a:xfrm>
              <a:off x="8689320" y="2970720"/>
              <a:ext cx="25920" cy="17280"/>
            </a:xfrm>
            <a:custGeom>
              <a:avLst/>
              <a:gdLst/>
              <a:ahLst/>
              <a:rect l="l" t="t" r="r" b="b"/>
              <a:pathLst>
                <a:path w="19886" h="13301">
                  <a:moveTo>
                    <a:pt x="1372" y="10629"/>
                  </a:moveTo>
                  <a:cubicBezTo>
                    <a:pt x="1372" y="7543"/>
                    <a:pt x="-1714" y="1372"/>
                    <a:pt x="1372" y="1372"/>
                  </a:cubicBezTo>
                  <a:cubicBezTo>
                    <a:pt x="4457" y="1372"/>
                    <a:pt x="19886" y="-1714"/>
                    <a:pt x="19886" y="1372"/>
                  </a:cubicBezTo>
                  <a:cubicBezTo>
                    <a:pt x="19886" y="4457"/>
                    <a:pt x="4457" y="16800"/>
                    <a:pt x="1372" y="10629"/>
                  </a:cubicBezTo>
                  <a:cubicBezTo>
                    <a:pt x="1372" y="1372"/>
                    <a:pt x="4457" y="19886"/>
                    <a:pt x="1372" y="10629"/>
                  </a:cubicBezTo>
                  <a:close/>
                </a:path>
              </a:pathLst>
            </a:custGeom>
            <a:solidFill>
              <a:srgbClr val="dadbdf"/>
            </a:solidFill>
            <a:ln w="4680">
              <a:solidFill>
                <a:srgbClr val="ffffff"/>
              </a:solidFill>
              <a:round/>
            </a:ln>
          </p:spPr>
          <p:style>
            <a:lnRef idx="0"/>
            <a:fillRef idx="0"/>
            <a:effectRef idx="0"/>
            <a:fontRef idx="minor"/>
          </p:style>
          <p:txBody>
            <a:bodyPr lIns="45360" rIns="45360" tIns="-29520" bIns="-29520" anchor="t">
              <a:noAutofit/>
            </a:bodyPr>
            <a:p>
              <a:endParaRPr b="0" lang="en-US" sz="1800" spc="-1" strike="noStrike">
                <a:solidFill>
                  <a:srgbClr val="000000"/>
                </a:solidFill>
                <a:latin typeface="Calibri"/>
              </a:endParaRPr>
            </a:p>
          </p:txBody>
        </p:sp>
        <p:sp>
          <p:nvSpPr>
            <p:cNvPr id="525" name="Shape 1139"/>
            <p:cNvSpPr/>
            <p:nvPr/>
          </p:nvSpPr>
          <p:spPr>
            <a:xfrm>
              <a:off x="8691120" y="2959920"/>
              <a:ext cx="17640" cy="6480"/>
            </a:xfrm>
            <a:custGeom>
              <a:avLst/>
              <a:gdLst/>
              <a:ahLst/>
              <a:rect l="l" t="t" r="r" b="b"/>
              <a:pathLst>
                <a:path w="19069" h="13600">
                  <a:moveTo>
                    <a:pt x="12960" y="10400"/>
                  </a:moveTo>
                  <a:cubicBezTo>
                    <a:pt x="8640" y="10400"/>
                    <a:pt x="0" y="3200"/>
                    <a:pt x="0" y="3200"/>
                  </a:cubicBezTo>
                  <a:cubicBezTo>
                    <a:pt x="0" y="3200"/>
                    <a:pt x="17280" y="-4000"/>
                    <a:pt x="17280" y="3200"/>
                  </a:cubicBezTo>
                  <a:cubicBezTo>
                    <a:pt x="21600" y="10400"/>
                    <a:pt x="17280" y="17600"/>
                    <a:pt x="12960" y="10400"/>
                  </a:cubicBezTo>
                  <a:cubicBezTo>
                    <a:pt x="4320" y="10400"/>
                    <a:pt x="21600" y="17600"/>
                    <a:pt x="12960" y="10400"/>
                  </a:cubicBezTo>
                  <a:close/>
                </a:path>
              </a:pathLst>
            </a:custGeom>
            <a:solidFill>
              <a:srgbClr val="dadbdf"/>
            </a:solidFill>
            <a:ln w="4680">
              <a:solidFill>
                <a:srgbClr val="ffffff"/>
              </a:solidFill>
              <a:round/>
            </a:ln>
          </p:spPr>
          <p:style>
            <a:lnRef idx="0"/>
            <a:fillRef idx="0"/>
            <a:effectRef idx="0"/>
            <a:fontRef idx="minor"/>
          </p:style>
          <p:txBody>
            <a:bodyPr lIns="45360" rIns="45360" tIns="-40320" bIns="-40320" anchor="t">
              <a:noAutofit/>
            </a:bodyPr>
            <a:p>
              <a:endParaRPr b="0" lang="en-US" sz="1800" spc="-1" strike="noStrike">
                <a:solidFill>
                  <a:srgbClr val="000000"/>
                </a:solidFill>
                <a:latin typeface="Calibri"/>
              </a:endParaRPr>
            </a:p>
          </p:txBody>
        </p:sp>
        <p:sp>
          <p:nvSpPr>
            <p:cNvPr id="526" name="Shape 1140"/>
            <p:cNvSpPr/>
            <p:nvPr/>
          </p:nvSpPr>
          <p:spPr>
            <a:xfrm>
              <a:off x="8616960" y="2991600"/>
              <a:ext cx="14400" cy="28440"/>
            </a:xfrm>
            <a:custGeom>
              <a:avLst/>
              <a:gdLst/>
              <a:ahLst/>
              <a:rect l="l" t="t" r="r" b="b"/>
              <a:pathLst>
                <a:path w="13824" h="15896">
                  <a:moveTo>
                    <a:pt x="13824" y="624"/>
                  </a:moveTo>
                  <a:cubicBezTo>
                    <a:pt x="13824" y="-3696"/>
                    <a:pt x="-7776" y="17904"/>
                    <a:pt x="3024" y="15744"/>
                  </a:cubicBezTo>
                  <a:cubicBezTo>
                    <a:pt x="6624" y="15744"/>
                    <a:pt x="13824" y="2784"/>
                    <a:pt x="13824" y="624"/>
                  </a:cubicBezTo>
                  <a:cubicBezTo>
                    <a:pt x="13824" y="-1536"/>
                    <a:pt x="13824" y="2784"/>
                    <a:pt x="13824" y="624"/>
                  </a:cubicBezTo>
                  <a:close/>
                </a:path>
              </a:pathLst>
            </a:custGeom>
            <a:solidFill>
              <a:srgbClr val="dadbdf"/>
            </a:solidFill>
            <a:ln w="4680">
              <a:solidFill>
                <a:srgbClr val="ffffff"/>
              </a:solidFill>
              <a:round/>
            </a:ln>
          </p:spPr>
          <p:style>
            <a:lnRef idx="0"/>
            <a:fillRef idx="0"/>
            <a:effectRef idx="0"/>
            <a:fontRef idx="minor"/>
          </p:style>
          <p:txBody>
            <a:bodyPr lIns="45360" rIns="45360" tIns="-18360" bIns="-18360" anchor="t">
              <a:noAutofit/>
            </a:bodyPr>
            <a:p>
              <a:endParaRPr b="0" lang="en-US" sz="1800" spc="-1" strike="noStrike">
                <a:solidFill>
                  <a:srgbClr val="000000"/>
                </a:solidFill>
                <a:latin typeface="Calibri"/>
              </a:endParaRPr>
            </a:p>
          </p:txBody>
        </p:sp>
        <p:sp>
          <p:nvSpPr>
            <p:cNvPr id="527" name="Shape 1141"/>
            <p:cNvSpPr/>
            <p:nvPr/>
          </p:nvSpPr>
          <p:spPr>
            <a:xfrm>
              <a:off x="8646840" y="2917440"/>
              <a:ext cx="11880" cy="12960"/>
            </a:xfrm>
            <a:custGeom>
              <a:avLst/>
              <a:gdLst/>
              <a:ahLst/>
              <a:rect l="l" t="t" r="r" b="b"/>
              <a:pathLst>
                <a:path w="16322" h="17759">
                  <a:moveTo>
                    <a:pt x="12272" y="16200"/>
                  </a:moveTo>
                  <a:cubicBezTo>
                    <a:pt x="6872" y="16200"/>
                    <a:pt x="-3928" y="10800"/>
                    <a:pt x="1472" y="5400"/>
                  </a:cubicBezTo>
                  <a:cubicBezTo>
                    <a:pt x="6872" y="5400"/>
                    <a:pt x="12272" y="0"/>
                    <a:pt x="12272" y="0"/>
                  </a:cubicBezTo>
                  <a:cubicBezTo>
                    <a:pt x="17672" y="0"/>
                    <a:pt x="17672" y="10800"/>
                    <a:pt x="12272" y="16200"/>
                  </a:cubicBezTo>
                  <a:cubicBezTo>
                    <a:pt x="6872" y="21600"/>
                    <a:pt x="17672" y="10800"/>
                    <a:pt x="12272" y="16200"/>
                  </a:cubicBezTo>
                  <a:close/>
                </a:path>
              </a:pathLst>
            </a:custGeom>
            <a:solidFill>
              <a:srgbClr val="dadbdf"/>
            </a:solidFill>
            <a:ln w="4680">
              <a:solidFill>
                <a:srgbClr val="ffffff"/>
              </a:solidFill>
              <a:round/>
            </a:ln>
          </p:spPr>
          <p:style>
            <a:lnRef idx="0"/>
            <a:fillRef idx="0"/>
            <a:effectRef idx="0"/>
            <a:fontRef idx="minor"/>
          </p:style>
          <p:txBody>
            <a:bodyPr lIns="45360" rIns="45360" tIns="-33840" bIns="-33840" anchor="t">
              <a:noAutofit/>
            </a:bodyPr>
            <a:p>
              <a:endParaRPr b="0" lang="en-US" sz="1800" spc="-1" strike="noStrike">
                <a:solidFill>
                  <a:srgbClr val="000000"/>
                </a:solidFill>
                <a:latin typeface="Calibri"/>
              </a:endParaRPr>
            </a:p>
          </p:txBody>
        </p:sp>
        <p:sp>
          <p:nvSpPr>
            <p:cNvPr id="528" name="Shape 1142"/>
            <p:cNvSpPr/>
            <p:nvPr/>
          </p:nvSpPr>
          <p:spPr>
            <a:xfrm>
              <a:off x="8485920" y="3045240"/>
              <a:ext cx="22680" cy="30960"/>
            </a:xfrm>
            <a:custGeom>
              <a:avLst/>
              <a:gdLst/>
              <a:ahLst/>
              <a:rect l="l" t="t" r="r" b="b"/>
              <a:pathLst>
                <a:path w="21600" h="18490">
                  <a:moveTo>
                    <a:pt x="21600" y="1690"/>
                  </a:moveTo>
                  <a:cubicBezTo>
                    <a:pt x="21600" y="-710"/>
                    <a:pt x="21600" y="6490"/>
                    <a:pt x="21600" y="6490"/>
                  </a:cubicBezTo>
                  <a:cubicBezTo>
                    <a:pt x="21600" y="11290"/>
                    <a:pt x="21600" y="16090"/>
                    <a:pt x="18000" y="18490"/>
                  </a:cubicBezTo>
                  <a:cubicBezTo>
                    <a:pt x="18000" y="18490"/>
                    <a:pt x="0" y="8890"/>
                    <a:pt x="0" y="4090"/>
                  </a:cubicBezTo>
                  <a:cubicBezTo>
                    <a:pt x="0" y="4090"/>
                    <a:pt x="7200" y="1690"/>
                    <a:pt x="10800" y="4090"/>
                  </a:cubicBezTo>
                  <a:cubicBezTo>
                    <a:pt x="14400" y="6490"/>
                    <a:pt x="18000" y="6490"/>
                    <a:pt x="21600" y="1690"/>
                  </a:cubicBezTo>
                  <a:cubicBezTo>
                    <a:pt x="21600" y="-3110"/>
                    <a:pt x="21600" y="4090"/>
                    <a:pt x="21600" y="1690"/>
                  </a:cubicBezTo>
                  <a:close/>
                </a:path>
              </a:pathLst>
            </a:custGeom>
            <a:solidFill>
              <a:srgbClr val="dadbdf"/>
            </a:solidFill>
            <a:ln w="4680">
              <a:solidFill>
                <a:srgbClr val="ffffff"/>
              </a:solidFill>
              <a:round/>
            </a:ln>
          </p:spPr>
          <p:style>
            <a:lnRef idx="0"/>
            <a:fillRef idx="0"/>
            <a:effectRef idx="0"/>
            <a:fontRef idx="minor"/>
          </p:style>
          <p:txBody>
            <a:bodyPr lIns="45360" rIns="45360" tIns="-15840" bIns="-15840" anchor="t">
              <a:noAutofit/>
            </a:bodyPr>
            <a:p>
              <a:endParaRPr b="0" lang="en-US" sz="1800" spc="-1" strike="noStrike">
                <a:solidFill>
                  <a:srgbClr val="000000"/>
                </a:solidFill>
                <a:latin typeface="Calibri"/>
              </a:endParaRPr>
            </a:p>
          </p:txBody>
        </p:sp>
        <p:sp>
          <p:nvSpPr>
            <p:cNvPr id="529" name="Shape 1143"/>
            <p:cNvSpPr/>
            <p:nvPr/>
          </p:nvSpPr>
          <p:spPr>
            <a:xfrm>
              <a:off x="8461080" y="3058200"/>
              <a:ext cx="22320" cy="19080"/>
            </a:xfrm>
            <a:custGeom>
              <a:avLst/>
              <a:gdLst/>
              <a:ahLst/>
              <a:rect l="l" t="t" r="r" b="b"/>
              <a:pathLst>
                <a:path w="15106" h="12951">
                  <a:moveTo>
                    <a:pt x="13855" y="12171"/>
                  </a:moveTo>
                  <a:cubicBezTo>
                    <a:pt x="11155" y="14871"/>
                    <a:pt x="-2345" y="6771"/>
                    <a:pt x="355" y="4071"/>
                  </a:cubicBezTo>
                  <a:cubicBezTo>
                    <a:pt x="5755" y="-6729"/>
                    <a:pt x="19255" y="6771"/>
                    <a:pt x="13855" y="12171"/>
                  </a:cubicBezTo>
                  <a:cubicBezTo>
                    <a:pt x="11155" y="14871"/>
                    <a:pt x="16555" y="9471"/>
                    <a:pt x="13855" y="12171"/>
                  </a:cubicBezTo>
                  <a:close/>
                </a:path>
              </a:pathLst>
            </a:custGeom>
            <a:solidFill>
              <a:srgbClr val="dadbdf"/>
            </a:solidFill>
            <a:ln w="4680">
              <a:solidFill>
                <a:srgbClr val="ffffff"/>
              </a:solidFill>
              <a:round/>
            </a:ln>
          </p:spPr>
          <p:style>
            <a:lnRef idx="0"/>
            <a:fillRef idx="0"/>
            <a:effectRef idx="0"/>
            <a:fontRef idx="minor"/>
          </p:style>
          <p:txBody>
            <a:bodyPr lIns="45360" rIns="45360" tIns="-27720" bIns="-27720" anchor="t">
              <a:noAutofit/>
            </a:bodyPr>
            <a:p>
              <a:endParaRPr b="0" lang="en-US" sz="1800" spc="-1" strike="noStrike">
                <a:solidFill>
                  <a:srgbClr val="000000"/>
                </a:solidFill>
                <a:latin typeface="Calibri"/>
              </a:endParaRPr>
            </a:p>
          </p:txBody>
        </p:sp>
        <p:sp>
          <p:nvSpPr>
            <p:cNvPr id="530" name="Shape 1144"/>
            <p:cNvSpPr/>
            <p:nvPr/>
          </p:nvSpPr>
          <p:spPr>
            <a:xfrm>
              <a:off x="8316000" y="3456720"/>
              <a:ext cx="16560" cy="11880"/>
            </a:xfrm>
            <a:custGeom>
              <a:avLst/>
              <a:gdLst/>
              <a:ahLst/>
              <a:rect l="l" t="t" r="r" b="b"/>
              <a:pathLst>
                <a:path w="19069" h="17318">
                  <a:moveTo>
                    <a:pt x="17280" y="10800"/>
                  </a:moveTo>
                  <a:cubicBezTo>
                    <a:pt x="21600" y="5400"/>
                    <a:pt x="17280" y="21600"/>
                    <a:pt x="12960" y="16200"/>
                  </a:cubicBezTo>
                  <a:cubicBezTo>
                    <a:pt x="12960" y="16200"/>
                    <a:pt x="0" y="10800"/>
                    <a:pt x="0" y="10800"/>
                  </a:cubicBezTo>
                  <a:cubicBezTo>
                    <a:pt x="0" y="10800"/>
                    <a:pt x="12960" y="0"/>
                    <a:pt x="17280" y="0"/>
                  </a:cubicBezTo>
                  <a:cubicBezTo>
                    <a:pt x="17280" y="0"/>
                    <a:pt x="12960" y="10800"/>
                    <a:pt x="17280" y="10800"/>
                  </a:cubicBezTo>
                  <a:cubicBezTo>
                    <a:pt x="21600" y="5400"/>
                    <a:pt x="12960" y="10800"/>
                    <a:pt x="17280" y="10800"/>
                  </a:cubicBezTo>
                  <a:close/>
                </a:path>
              </a:pathLst>
            </a:custGeom>
            <a:solidFill>
              <a:srgbClr val="dadbd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531" name="Shape 1145"/>
            <p:cNvSpPr/>
            <p:nvPr/>
          </p:nvSpPr>
          <p:spPr>
            <a:xfrm>
              <a:off x="8125560" y="2975400"/>
              <a:ext cx="18360" cy="20160"/>
            </a:xfrm>
            <a:custGeom>
              <a:avLst/>
              <a:gdLst/>
              <a:ahLst/>
              <a:rect l="l" t="t" r="r" b="b"/>
              <a:pathLst>
                <a:path w="16476" h="18139">
                  <a:moveTo>
                    <a:pt x="14876" y="1039"/>
                  </a:moveTo>
                  <a:cubicBezTo>
                    <a:pt x="18476" y="4639"/>
                    <a:pt x="11276" y="8239"/>
                    <a:pt x="11276" y="15439"/>
                  </a:cubicBezTo>
                  <a:cubicBezTo>
                    <a:pt x="7676" y="19039"/>
                    <a:pt x="4076" y="19039"/>
                    <a:pt x="476" y="15439"/>
                  </a:cubicBezTo>
                  <a:cubicBezTo>
                    <a:pt x="-3124" y="11839"/>
                    <a:pt x="14876" y="-2561"/>
                    <a:pt x="14876" y="1039"/>
                  </a:cubicBezTo>
                  <a:cubicBezTo>
                    <a:pt x="18476" y="4639"/>
                    <a:pt x="14876" y="-2561"/>
                    <a:pt x="14876" y="1039"/>
                  </a:cubicBezTo>
                  <a:close/>
                </a:path>
              </a:pathLst>
            </a:custGeom>
            <a:solidFill>
              <a:srgbClr val="dadbdf"/>
            </a:solidFill>
            <a:ln w="4680">
              <a:solidFill>
                <a:srgbClr val="ffffff"/>
              </a:solidFill>
              <a:round/>
            </a:ln>
          </p:spPr>
          <p:style>
            <a:lnRef idx="0"/>
            <a:fillRef idx="0"/>
            <a:effectRef idx="0"/>
            <a:fontRef idx="minor"/>
          </p:style>
          <p:txBody>
            <a:bodyPr lIns="45360" rIns="45360" tIns="-26640" bIns="-26640" anchor="t">
              <a:noAutofit/>
            </a:bodyPr>
            <a:p>
              <a:endParaRPr b="0" lang="en-US" sz="1800" spc="-1" strike="noStrike">
                <a:solidFill>
                  <a:srgbClr val="000000"/>
                </a:solidFill>
                <a:latin typeface="Calibri"/>
              </a:endParaRPr>
            </a:p>
          </p:txBody>
        </p:sp>
        <p:sp>
          <p:nvSpPr>
            <p:cNvPr id="532" name="Shape 1146"/>
            <p:cNvSpPr/>
            <p:nvPr/>
          </p:nvSpPr>
          <p:spPr>
            <a:xfrm>
              <a:off x="8134200" y="3004200"/>
              <a:ext cx="11880" cy="8640"/>
            </a:xfrm>
            <a:custGeom>
              <a:avLst/>
              <a:gdLst/>
              <a:ahLst/>
              <a:rect l="l" t="t" r="r" b="b"/>
              <a:pathLst>
                <a:path w="21600" h="15869">
                  <a:moveTo>
                    <a:pt x="21600" y="1469"/>
                  </a:moveTo>
                  <a:cubicBezTo>
                    <a:pt x="14400" y="1469"/>
                    <a:pt x="0" y="1469"/>
                    <a:pt x="0" y="8669"/>
                  </a:cubicBezTo>
                  <a:cubicBezTo>
                    <a:pt x="0" y="15869"/>
                    <a:pt x="14400" y="15869"/>
                    <a:pt x="14400" y="15869"/>
                  </a:cubicBezTo>
                  <a:cubicBezTo>
                    <a:pt x="21600" y="15869"/>
                    <a:pt x="21600" y="-5731"/>
                    <a:pt x="21600" y="1469"/>
                  </a:cubicBezTo>
                  <a:cubicBezTo>
                    <a:pt x="14400" y="1469"/>
                    <a:pt x="21600" y="1469"/>
                    <a:pt x="21600" y="1469"/>
                  </a:cubicBezTo>
                  <a:close/>
                </a:path>
              </a:pathLst>
            </a:custGeom>
            <a:solidFill>
              <a:srgbClr val="dadbdf"/>
            </a:solidFill>
            <a:ln w="4680">
              <a:solidFill>
                <a:srgbClr val="ffffff"/>
              </a:solidFill>
              <a:round/>
            </a:ln>
          </p:spPr>
          <p:style>
            <a:lnRef idx="0"/>
            <a:fillRef idx="0"/>
            <a:effectRef idx="0"/>
            <a:fontRef idx="minor"/>
          </p:style>
          <p:txBody>
            <a:bodyPr lIns="45360" rIns="45360" tIns="-38160" bIns="-38160" anchor="t">
              <a:noAutofit/>
            </a:bodyPr>
            <a:p>
              <a:endParaRPr b="0" lang="en-US" sz="1800" spc="-1" strike="noStrike">
                <a:solidFill>
                  <a:srgbClr val="000000"/>
                </a:solidFill>
                <a:latin typeface="Calibri"/>
              </a:endParaRPr>
            </a:p>
          </p:txBody>
        </p:sp>
        <p:sp>
          <p:nvSpPr>
            <p:cNvPr id="533" name="Shape 1147"/>
            <p:cNvSpPr/>
            <p:nvPr/>
          </p:nvSpPr>
          <p:spPr>
            <a:xfrm>
              <a:off x="8148240" y="3013200"/>
              <a:ext cx="4680" cy="3960"/>
            </a:xfrm>
            <a:custGeom>
              <a:avLst/>
              <a:gdLst/>
              <a:ahLst/>
              <a:rect l="l" t="t" r="r" b="b"/>
              <a:pathLst>
                <a:path w="15274" h="21600">
                  <a:moveTo>
                    <a:pt x="15274" y="0"/>
                  </a:moveTo>
                  <a:cubicBezTo>
                    <a:pt x="4474" y="0"/>
                    <a:pt x="-6326" y="21600"/>
                    <a:pt x="4474" y="21600"/>
                  </a:cubicBezTo>
                  <a:cubicBezTo>
                    <a:pt x="15274" y="21600"/>
                    <a:pt x="15274" y="0"/>
                    <a:pt x="15274"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534" name="Shape 1148"/>
            <p:cNvSpPr/>
            <p:nvPr/>
          </p:nvSpPr>
          <p:spPr>
            <a:xfrm>
              <a:off x="8146080" y="3024000"/>
              <a:ext cx="3960" cy="7920"/>
            </a:xfrm>
            <a:custGeom>
              <a:avLst/>
              <a:gdLst/>
              <a:ahLst/>
              <a:rect l="l" t="t" r="r" b="b"/>
              <a:pathLst>
                <a:path w="21600" h="21600">
                  <a:moveTo>
                    <a:pt x="21600" y="0"/>
                  </a:moveTo>
                  <a:cubicBezTo>
                    <a:pt x="21600" y="10800"/>
                    <a:pt x="0" y="21600"/>
                    <a:pt x="0" y="21600"/>
                  </a:cubicBezTo>
                  <a:cubicBezTo>
                    <a:pt x="21600" y="21600"/>
                    <a:pt x="21600" y="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35" name="Shape 1149"/>
            <p:cNvSpPr/>
            <p:nvPr/>
          </p:nvSpPr>
          <p:spPr>
            <a:xfrm>
              <a:off x="8148240" y="3031920"/>
              <a:ext cx="4680" cy="3960"/>
            </a:xfrm>
            <a:custGeom>
              <a:avLst/>
              <a:gdLst/>
              <a:ahLst/>
              <a:rect l="l" t="t" r="r" b="b"/>
              <a:pathLst>
                <a:path w="15274" h="21600">
                  <a:moveTo>
                    <a:pt x="15274" y="0"/>
                  </a:moveTo>
                  <a:cubicBezTo>
                    <a:pt x="4474" y="0"/>
                    <a:pt x="-6326" y="21600"/>
                    <a:pt x="4474" y="21600"/>
                  </a:cubicBezTo>
                  <a:cubicBezTo>
                    <a:pt x="15274" y="21600"/>
                    <a:pt x="15274" y="0"/>
                    <a:pt x="15274"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536" name="Shape 1150"/>
            <p:cNvSpPr/>
            <p:nvPr/>
          </p:nvSpPr>
          <p:spPr>
            <a:xfrm>
              <a:off x="8177400" y="3091320"/>
              <a:ext cx="1440" cy="7920"/>
            </a:xfrm>
            <a:custGeom>
              <a:avLst/>
              <a:gdLst/>
              <a:ahLst/>
              <a:rect l="l" t="t" r="r" b="b"/>
              <a:pathLst>
                <a:path w="9600" h="21600">
                  <a:moveTo>
                    <a:pt x="0" y="0"/>
                  </a:moveTo>
                  <a:cubicBezTo>
                    <a:pt x="0" y="10800"/>
                    <a:pt x="0" y="21600"/>
                    <a:pt x="0" y="21600"/>
                  </a:cubicBezTo>
                  <a:cubicBezTo>
                    <a:pt x="0" y="21600"/>
                    <a:pt x="21600" y="0"/>
                    <a:pt x="0" y="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37" name="Shape 1151"/>
            <p:cNvSpPr/>
            <p:nvPr/>
          </p:nvSpPr>
          <p:spPr>
            <a:xfrm>
              <a:off x="8237880" y="2916720"/>
              <a:ext cx="6480" cy="12600"/>
            </a:xfrm>
            <a:custGeom>
              <a:avLst/>
              <a:gdLst/>
              <a:ahLst/>
              <a:rect l="l" t="t" r="r" b="b"/>
              <a:pathLst>
                <a:path w="17894" h="17067">
                  <a:moveTo>
                    <a:pt x="7094" y="17067"/>
                  </a:moveTo>
                  <a:cubicBezTo>
                    <a:pt x="-3706" y="11667"/>
                    <a:pt x="-3706" y="867"/>
                    <a:pt x="17894" y="867"/>
                  </a:cubicBezTo>
                  <a:cubicBezTo>
                    <a:pt x="17894" y="-4533"/>
                    <a:pt x="17894" y="17067"/>
                    <a:pt x="7094" y="17067"/>
                  </a:cubicBezTo>
                  <a:cubicBezTo>
                    <a:pt x="-3706" y="11667"/>
                    <a:pt x="7094" y="17067"/>
                    <a:pt x="7094" y="17067"/>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538" name="Shape 1152"/>
            <p:cNvSpPr/>
            <p:nvPr/>
          </p:nvSpPr>
          <p:spPr>
            <a:xfrm>
              <a:off x="6809760" y="5439240"/>
              <a:ext cx="43200" cy="19080"/>
            </a:xfrm>
            <a:custGeom>
              <a:avLst/>
              <a:gdLst/>
              <a:ahLst/>
              <a:rect l="l" t="t" r="r" b="b"/>
              <a:pathLst>
                <a:path w="19800" h="17008">
                  <a:moveTo>
                    <a:pt x="18000" y="8208"/>
                  </a:moveTo>
                  <a:cubicBezTo>
                    <a:pt x="16200" y="8208"/>
                    <a:pt x="16200" y="4608"/>
                    <a:pt x="14400" y="4608"/>
                  </a:cubicBezTo>
                  <a:cubicBezTo>
                    <a:pt x="12600" y="4608"/>
                    <a:pt x="10800" y="4608"/>
                    <a:pt x="9000" y="4608"/>
                  </a:cubicBezTo>
                  <a:cubicBezTo>
                    <a:pt x="7200" y="4608"/>
                    <a:pt x="7200" y="-2592"/>
                    <a:pt x="5400" y="1008"/>
                  </a:cubicBezTo>
                  <a:cubicBezTo>
                    <a:pt x="5400" y="1008"/>
                    <a:pt x="0" y="8208"/>
                    <a:pt x="0" y="8208"/>
                  </a:cubicBezTo>
                  <a:cubicBezTo>
                    <a:pt x="0" y="8208"/>
                    <a:pt x="3600" y="15408"/>
                    <a:pt x="3600" y="15408"/>
                  </a:cubicBezTo>
                  <a:cubicBezTo>
                    <a:pt x="5400" y="19008"/>
                    <a:pt x="9000" y="15408"/>
                    <a:pt x="10800" y="15408"/>
                  </a:cubicBezTo>
                  <a:cubicBezTo>
                    <a:pt x="12600" y="15408"/>
                    <a:pt x="19800" y="11808"/>
                    <a:pt x="19800" y="8208"/>
                  </a:cubicBezTo>
                  <a:cubicBezTo>
                    <a:pt x="18000" y="8208"/>
                    <a:pt x="18000" y="8208"/>
                    <a:pt x="18000" y="8208"/>
                  </a:cubicBezTo>
                  <a:cubicBezTo>
                    <a:pt x="16200" y="8208"/>
                    <a:pt x="21600" y="4608"/>
                    <a:pt x="18000" y="8208"/>
                  </a:cubicBezTo>
                  <a:close/>
                </a:path>
              </a:pathLst>
            </a:custGeom>
            <a:solidFill>
              <a:srgbClr val="dadbdf"/>
            </a:solidFill>
            <a:ln w="4680">
              <a:solidFill>
                <a:srgbClr val="ffffff"/>
              </a:solidFill>
              <a:round/>
            </a:ln>
          </p:spPr>
          <p:style>
            <a:lnRef idx="0"/>
            <a:fillRef idx="0"/>
            <a:effectRef idx="0"/>
            <a:fontRef idx="minor"/>
          </p:style>
          <p:txBody>
            <a:bodyPr lIns="45360" rIns="45360" tIns="-27720" bIns="-27720" anchor="t">
              <a:noAutofit/>
            </a:bodyPr>
            <a:p>
              <a:endParaRPr b="0" lang="en-US" sz="1800" spc="-1" strike="noStrike">
                <a:solidFill>
                  <a:srgbClr val="000000"/>
                </a:solidFill>
                <a:latin typeface="Calibri"/>
              </a:endParaRPr>
            </a:p>
          </p:txBody>
        </p:sp>
        <p:sp>
          <p:nvSpPr>
            <p:cNvPr id="539" name="Shape 1153"/>
            <p:cNvSpPr/>
            <p:nvPr/>
          </p:nvSpPr>
          <p:spPr>
            <a:xfrm>
              <a:off x="6805800" y="5463360"/>
              <a:ext cx="29160" cy="19080"/>
            </a:xfrm>
            <a:custGeom>
              <a:avLst/>
              <a:gdLst/>
              <a:ahLst/>
              <a:rect l="l" t="t" r="r" b="b"/>
              <a:pathLst>
                <a:path w="18125" h="16981">
                  <a:moveTo>
                    <a:pt x="16800" y="8181"/>
                  </a:moveTo>
                  <a:cubicBezTo>
                    <a:pt x="16800" y="4581"/>
                    <a:pt x="0" y="-2619"/>
                    <a:pt x="0" y="981"/>
                  </a:cubicBezTo>
                  <a:cubicBezTo>
                    <a:pt x="0" y="981"/>
                    <a:pt x="4800" y="4581"/>
                    <a:pt x="4800" y="4581"/>
                  </a:cubicBezTo>
                  <a:cubicBezTo>
                    <a:pt x="7200" y="8181"/>
                    <a:pt x="2400" y="11781"/>
                    <a:pt x="2400" y="15381"/>
                  </a:cubicBezTo>
                  <a:cubicBezTo>
                    <a:pt x="2400" y="18981"/>
                    <a:pt x="7200" y="15381"/>
                    <a:pt x="7200" y="15381"/>
                  </a:cubicBezTo>
                  <a:cubicBezTo>
                    <a:pt x="9600" y="11781"/>
                    <a:pt x="7200" y="15381"/>
                    <a:pt x="9600" y="15381"/>
                  </a:cubicBezTo>
                  <a:cubicBezTo>
                    <a:pt x="12000" y="18981"/>
                    <a:pt x="21600" y="11781"/>
                    <a:pt x="16800" y="8181"/>
                  </a:cubicBezTo>
                  <a:cubicBezTo>
                    <a:pt x="14400" y="4581"/>
                    <a:pt x="19200" y="8181"/>
                    <a:pt x="16800" y="8181"/>
                  </a:cubicBezTo>
                  <a:close/>
                </a:path>
              </a:pathLst>
            </a:custGeom>
            <a:solidFill>
              <a:srgbClr val="dadbdf"/>
            </a:solidFill>
            <a:ln w="4680">
              <a:solidFill>
                <a:srgbClr val="ffffff"/>
              </a:solidFill>
              <a:round/>
            </a:ln>
          </p:spPr>
          <p:style>
            <a:lnRef idx="0"/>
            <a:fillRef idx="0"/>
            <a:effectRef idx="0"/>
            <a:fontRef idx="minor"/>
          </p:style>
          <p:txBody>
            <a:bodyPr lIns="45360" rIns="45360" tIns="-27720" bIns="-27720" anchor="t">
              <a:noAutofit/>
            </a:bodyPr>
            <a:p>
              <a:endParaRPr b="0" lang="en-US" sz="1800" spc="-1" strike="noStrike">
                <a:solidFill>
                  <a:srgbClr val="000000"/>
                </a:solidFill>
                <a:latin typeface="Calibri"/>
              </a:endParaRPr>
            </a:p>
          </p:txBody>
        </p:sp>
        <p:sp>
          <p:nvSpPr>
            <p:cNvPr id="540" name="Shape 1154"/>
            <p:cNvSpPr/>
            <p:nvPr/>
          </p:nvSpPr>
          <p:spPr>
            <a:xfrm>
              <a:off x="6801840" y="5429520"/>
              <a:ext cx="26280" cy="14400"/>
            </a:xfrm>
            <a:custGeom>
              <a:avLst/>
              <a:gdLst/>
              <a:ahLst/>
              <a:rect l="l" t="t" r="r" b="b"/>
              <a:pathLst>
                <a:path w="18511" h="16657">
                  <a:moveTo>
                    <a:pt x="16200" y="0"/>
                  </a:moveTo>
                  <a:cubicBezTo>
                    <a:pt x="13500" y="0"/>
                    <a:pt x="10800" y="4320"/>
                    <a:pt x="8100" y="4320"/>
                  </a:cubicBezTo>
                  <a:cubicBezTo>
                    <a:pt x="5400" y="0"/>
                    <a:pt x="0" y="4320"/>
                    <a:pt x="0" y="4320"/>
                  </a:cubicBezTo>
                  <a:cubicBezTo>
                    <a:pt x="2700" y="0"/>
                    <a:pt x="0" y="17280"/>
                    <a:pt x="0" y="12960"/>
                  </a:cubicBezTo>
                  <a:cubicBezTo>
                    <a:pt x="2700" y="21600"/>
                    <a:pt x="10800" y="12960"/>
                    <a:pt x="13500" y="8640"/>
                  </a:cubicBezTo>
                  <a:cubicBezTo>
                    <a:pt x="16200" y="8640"/>
                    <a:pt x="21600" y="0"/>
                    <a:pt x="16200" y="0"/>
                  </a:cubicBezTo>
                  <a:cubicBezTo>
                    <a:pt x="13500" y="0"/>
                    <a:pt x="21600" y="0"/>
                    <a:pt x="16200" y="0"/>
                  </a:cubicBezTo>
                  <a:close/>
                </a:path>
              </a:pathLst>
            </a:custGeom>
            <a:solidFill>
              <a:srgbClr val="dadbdf"/>
            </a:solidFill>
            <a:ln w="4680">
              <a:solidFill>
                <a:srgbClr val="ffffff"/>
              </a:solidFill>
              <a:round/>
            </a:ln>
          </p:spPr>
          <p:style>
            <a:lnRef idx="0"/>
            <a:fillRef idx="0"/>
            <a:effectRef idx="0"/>
            <a:fontRef idx="minor"/>
          </p:style>
          <p:txBody>
            <a:bodyPr lIns="45360" rIns="45360" tIns="-32400" bIns="-32400" anchor="t">
              <a:noAutofit/>
            </a:bodyPr>
            <a:p>
              <a:endParaRPr b="0" lang="en-US" sz="1800" spc="-1" strike="noStrike">
                <a:solidFill>
                  <a:srgbClr val="000000"/>
                </a:solidFill>
                <a:latin typeface="Calibri"/>
              </a:endParaRPr>
            </a:p>
          </p:txBody>
        </p:sp>
        <p:sp>
          <p:nvSpPr>
            <p:cNvPr id="541" name="Shape 1155"/>
            <p:cNvSpPr/>
            <p:nvPr/>
          </p:nvSpPr>
          <p:spPr>
            <a:xfrm>
              <a:off x="6789240" y="5447520"/>
              <a:ext cx="24840" cy="13680"/>
            </a:xfrm>
            <a:custGeom>
              <a:avLst/>
              <a:gdLst/>
              <a:ahLst/>
              <a:rect l="l" t="t" r="r" b="b"/>
              <a:pathLst>
                <a:path w="16805" h="14699">
                  <a:moveTo>
                    <a:pt x="16502" y="13829"/>
                  </a:moveTo>
                  <a:cubicBezTo>
                    <a:pt x="13802" y="9509"/>
                    <a:pt x="-2398" y="-3451"/>
                    <a:pt x="302" y="869"/>
                  </a:cubicBezTo>
                  <a:cubicBezTo>
                    <a:pt x="3002" y="5189"/>
                    <a:pt x="19202" y="18149"/>
                    <a:pt x="16502" y="13829"/>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542" name="Shape 1156"/>
            <p:cNvSpPr/>
            <p:nvPr/>
          </p:nvSpPr>
          <p:spPr>
            <a:xfrm>
              <a:off x="6777360" y="5418720"/>
              <a:ext cx="8640" cy="8280"/>
            </a:xfrm>
            <a:custGeom>
              <a:avLst/>
              <a:gdLst/>
              <a:ahLst/>
              <a:rect l="l" t="t" r="r" b="b"/>
              <a:pathLst>
                <a:path w="15869" h="14912">
                  <a:moveTo>
                    <a:pt x="14400" y="11929"/>
                  </a:moveTo>
                  <a:cubicBezTo>
                    <a:pt x="14400" y="19129"/>
                    <a:pt x="7200" y="11929"/>
                    <a:pt x="0" y="4729"/>
                  </a:cubicBezTo>
                  <a:cubicBezTo>
                    <a:pt x="0" y="-2471"/>
                    <a:pt x="21600" y="-2471"/>
                    <a:pt x="14400" y="11929"/>
                  </a:cubicBezTo>
                  <a:cubicBezTo>
                    <a:pt x="14400" y="19129"/>
                    <a:pt x="14400" y="4729"/>
                    <a:pt x="14400" y="11929"/>
                  </a:cubicBezTo>
                  <a:close/>
                </a:path>
              </a:pathLst>
            </a:custGeom>
            <a:solidFill>
              <a:srgbClr val="dadbdf"/>
            </a:solidFill>
            <a:ln w="4680">
              <a:solidFill>
                <a:srgbClr val="ffffff"/>
              </a:solidFill>
              <a:round/>
            </a:ln>
          </p:spPr>
          <p:style>
            <a:lnRef idx="0"/>
            <a:fillRef idx="0"/>
            <a:effectRef idx="0"/>
            <a:fontRef idx="minor"/>
          </p:style>
          <p:txBody>
            <a:bodyPr lIns="45360" rIns="45360" tIns="-38520" bIns="-38520" anchor="t">
              <a:noAutofit/>
            </a:bodyPr>
            <a:p>
              <a:endParaRPr b="0" lang="en-US" sz="1800" spc="-1" strike="noStrike">
                <a:solidFill>
                  <a:srgbClr val="000000"/>
                </a:solidFill>
                <a:latin typeface="Calibri"/>
              </a:endParaRPr>
            </a:p>
          </p:txBody>
        </p:sp>
        <p:sp>
          <p:nvSpPr>
            <p:cNvPr id="543" name="Shape 1157"/>
            <p:cNvSpPr/>
            <p:nvPr/>
          </p:nvSpPr>
          <p:spPr>
            <a:xfrm>
              <a:off x="6777360" y="5384880"/>
              <a:ext cx="24120" cy="25920"/>
            </a:xfrm>
            <a:custGeom>
              <a:avLst/>
              <a:gdLst/>
              <a:ahLst/>
              <a:rect l="l" t="t" r="r" b="b"/>
              <a:pathLst>
                <a:path w="18514" h="19792">
                  <a:moveTo>
                    <a:pt x="15429" y="6171"/>
                  </a:moveTo>
                  <a:cubicBezTo>
                    <a:pt x="15429" y="3086"/>
                    <a:pt x="12343" y="3086"/>
                    <a:pt x="12343" y="0"/>
                  </a:cubicBezTo>
                  <a:cubicBezTo>
                    <a:pt x="9257" y="0"/>
                    <a:pt x="3086" y="0"/>
                    <a:pt x="6171" y="3086"/>
                  </a:cubicBezTo>
                  <a:cubicBezTo>
                    <a:pt x="12343" y="9257"/>
                    <a:pt x="3086" y="6171"/>
                    <a:pt x="0" y="3086"/>
                  </a:cubicBezTo>
                  <a:cubicBezTo>
                    <a:pt x="3086" y="9257"/>
                    <a:pt x="6171" y="9257"/>
                    <a:pt x="6171" y="12343"/>
                  </a:cubicBezTo>
                  <a:cubicBezTo>
                    <a:pt x="9257" y="18514"/>
                    <a:pt x="3086" y="15429"/>
                    <a:pt x="0" y="18514"/>
                  </a:cubicBezTo>
                  <a:cubicBezTo>
                    <a:pt x="0" y="21600"/>
                    <a:pt x="12343" y="18514"/>
                    <a:pt x="9257" y="15429"/>
                  </a:cubicBezTo>
                  <a:cubicBezTo>
                    <a:pt x="9257" y="15429"/>
                    <a:pt x="12343" y="9257"/>
                    <a:pt x="12343" y="6171"/>
                  </a:cubicBezTo>
                  <a:cubicBezTo>
                    <a:pt x="12343" y="6171"/>
                    <a:pt x="12343" y="9257"/>
                    <a:pt x="12343" y="12343"/>
                  </a:cubicBezTo>
                  <a:cubicBezTo>
                    <a:pt x="12343" y="9257"/>
                    <a:pt x="18514" y="6171"/>
                    <a:pt x="18514" y="6171"/>
                  </a:cubicBezTo>
                  <a:cubicBezTo>
                    <a:pt x="18514" y="6171"/>
                    <a:pt x="18514" y="6171"/>
                    <a:pt x="15429" y="6171"/>
                  </a:cubicBezTo>
                  <a:cubicBezTo>
                    <a:pt x="15429" y="3086"/>
                    <a:pt x="21600" y="6171"/>
                    <a:pt x="15429" y="6171"/>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544" name="Shape 1158"/>
            <p:cNvSpPr/>
            <p:nvPr/>
          </p:nvSpPr>
          <p:spPr>
            <a:xfrm>
              <a:off x="6773400" y="5339880"/>
              <a:ext cx="20160" cy="28800"/>
            </a:xfrm>
            <a:custGeom>
              <a:avLst/>
              <a:gdLst/>
              <a:ahLst/>
              <a:rect l="l" t="t" r="r" b="b"/>
              <a:pathLst>
                <a:path w="21600" h="14541">
                  <a:moveTo>
                    <a:pt x="21600" y="10614"/>
                  </a:moveTo>
                  <a:cubicBezTo>
                    <a:pt x="21600" y="8651"/>
                    <a:pt x="17280" y="-3131"/>
                    <a:pt x="8640" y="796"/>
                  </a:cubicBezTo>
                  <a:cubicBezTo>
                    <a:pt x="8640" y="2760"/>
                    <a:pt x="12960" y="8651"/>
                    <a:pt x="4320" y="8651"/>
                  </a:cubicBezTo>
                  <a:cubicBezTo>
                    <a:pt x="0" y="8651"/>
                    <a:pt x="0" y="10614"/>
                    <a:pt x="0" y="14542"/>
                  </a:cubicBezTo>
                  <a:cubicBezTo>
                    <a:pt x="4320" y="14542"/>
                    <a:pt x="8640" y="10614"/>
                    <a:pt x="8640" y="10614"/>
                  </a:cubicBezTo>
                  <a:cubicBezTo>
                    <a:pt x="4320" y="10614"/>
                    <a:pt x="21600" y="18469"/>
                    <a:pt x="21600" y="10614"/>
                  </a:cubicBezTo>
                  <a:cubicBezTo>
                    <a:pt x="21600" y="8651"/>
                    <a:pt x="21600" y="12578"/>
                    <a:pt x="21600" y="10614"/>
                  </a:cubicBezTo>
                  <a:close/>
                </a:path>
              </a:pathLst>
            </a:custGeom>
            <a:solidFill>
              <a:srgbClr val="dadbdf"/>
            </a:solidFill>
            <a:ln w="4680">
              <a:solidFill>
                <a:srgbClr val="ffffff"/>
              </a:solidFill>
              <a:round/>
            </a:ln>
          </p:spPr>
          <p:style>
            <a:lnRef idx="0"/>
            <a:fillRef idx="0"/>
            <a:effectRef idx="0"/>
            <a:fontRef idx="minor"/>
          </p:style>
          <p:txBody>
            <a:bodyPr lIns="45360" rIns="45360" tIns="-18000" bIns="-18000" anchor="t">
              <a:noAutofit/>
            </a:bodyPr>
            <a:p>
              <a:endParaRPr b="0" lang="en-US" sz="1800" spc="-1" strike="noStrike">
                <a:solidFill>
                  <a:srgbClr val="000000"/>
                </a:solidFill>
                <a:latin typeface="Calibri"/>
              </a:endParaRPr>
            </a:p>
          </p:txBody>
        </p:sp>
        <p:sp>
          <p:nvSpPr>
            <p:cNvPr id="545" name="Shape 1159"/>
            <p:cNvSpPr/>
            <p:nvPr/>
          </p:nvSpPr>
          <p:spPr>
            <a:xfrm>
              <a:off x="6772320" y="5375160"/>
              <a:ext cx="9000" cy="18000"/>
            </a:xfrm>
            <a:custGeom>
              <a:avLst/>
              <a:gdLst/>
              <a:ahLst/>
              <a:rect l="l" t="t" r="r" b="b"/>
              <a:pathLst>
                <a:path w="16362" h="16084">
                  <a:moveTo>
                    <a:pt x="16362" y="1684"/>
                  </a:moveTo>
                  <a:cubicBezTo>
                    <a:pt x="9162" y="-5516"/>
                    <a:pt x="-5238" y="12484"/>
                    <a:pt x="1962" y="16084"/>
                  </a:cubicBezTo>
                  <a:cubicBezTo>
                    <a:pt x="-5238" y="12484"/>
                    <a:pt x="16362" y="5284"/>
                    <a:pt x="16362" y="1684"/>
                  </a:cubicBezTo>
                  <a:cubicBezTo>
                    <a:pt x="9162" y="-1916"/>
                    <a:pt x="16362" y="1684"/>
                    <a:pt x="16362" y="1684"/>
                  </a:cubicBezTo>
                  <a:close/>
                </a:path>
              </a:pathLst>
            </a:custGeom>
            <a:solidFill>
              <a:srgbClr val="dadbdf"/>
            </a:solidFill>
            <a:ln w="4680">
              <a:solidFill>
                <a:srgbClr val="ffffff"/>
              </a:solidFill>
              <a:round/>
            </a:ln>
          </p:spPr>
          <p:style>
            <a:lnRef idx="0"/>
            <a:fillRef idx="0"/>
            <a:effectRef idx="0"/>
            <a:fontRef idx="minor"/>
          </p:style>
          <p:txBody>
            <a:bodyPr lIns="45360" rIns="45360" tIns="-28800" bIns="-28800" anchor="t">
              <a:noAutofit/>
            </a:bodyPr>
            <a:p>
              <a:endParaRPr b="0" lang="en-US" sz="1800" spc="-1" strike="noStrike">
                <a:solidFill>
                  <a:srgbClr val="000000"/>
                </a:solidFill>
                <a:latin typeface="Calibri"/>
              </a:endParaRPr>
            </a:p>
          </p:txBody>
        </p:sp>
        <p:sp>
          <p:nvSpPr>
            <p:cNvPr id="546" name="Shape 1160"/>
            <p:cNvSpPr/>
            <p:nvPr/>
          </p:nvSpPr>
          <p:spPr>
            <a:xfrm>
              <a:off x="6769440" y="5317560"/>
              <a:ext cx="20160" cy="28080"/>
            </a:xfrm>
            <a:custGeom>
              <a:avLst/>
              <a:gdLst/>
              <a:ahLst/>
              <a:rect l="l" t="t" r="r" b="b"/>
              <a:pathLst>
                <a:path w="21600" h="21600">
                  <a:moveTo>
                    <a:pt x="17280" y="6171"/>
                  </a:moveTo>
                  <a:cubicBezTo>
                    <a:pt x="12960" y="9257"/>
                    <a:pt x="12960" y="0"/>
                    <a:pt x="12960" y="0"/>
                  </a:cubicBezTo>
                  <a:cubicBezTo>
                    <a:pt x="12960" y="0"/>
                    <a:pt x="12960" y="9257"/>
                    <a:pt x="8640" y="9257"/>
                  </a:cubicBezTo>
                  <a:cubicBezTo>
                    <a:pt x="8640" y="9257"/>
                    <a:pt x="8640" y="6171"/>
                    <a:pt x="4320" y="6171"/>
                  </a:cubicBezTo>
                  <a:cubicBezTo>
                    <a:pt x="8640" y="6171"/>
                    <a:pt x="0" y="15429"/>
                    <a:pt x="0" y="15429"/>
                  </a:cubicBezTo>
                  <a:cubicBezTo>
                    <a:pt x="0" y="12343"/>
                    <a:pt x="17280" y="15429"/>
                    <a:pt x="8640" y="21600"/>
                  </a:cubicBezTo>
                  <a:cubicBezTo>
                    <a:pt x="12960" y="18514"/>
                    <a:pt x="21600" y="18514"/>
                    <a:pt x="21600" y="15429"/>
                  </a:cubicBezTo>
                  <a:cubicBezTo>
                    <a:pt x="21600" y="12343"/>
                    <a:pt x="17280" y="3086"/>
                    <a:pt x="17280" y="6171"/>
                  </a:cubicBezTo>
                  <a:cubicBezTo>
                    <a:pt x="12960" y="9257"/>
                    <a:pt x="17280" y="3086"/>
                    <a:pt x="17280" y="6171"/>
                  </a:cubicBez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547" name="Shape 1161"/>
            <p:cNvSpPr/>
            <p:nvPr/>
          </p:nvSpPr>
          <p:spPr>
            <a:xfrm>
              <a:off x="6789600" y="5239440"/>
              <a:ext cx="14760" cy="15840"/>
            </a:xfrm>
            <a:custGeom>
              <a:avLst/>
              <a:gdLst/>
              <a:ahLst/>
              <a:rect l="l" t="t" r="r" b="b"/>
              <a:pathLst>
                <a:path w="16002" h="18527">
                  <a:moveTo>
                    <a:pt x="12960" y="17280"/>
                  </a:moveTo>
                  <a:cubicBezTo>
                    <a:pt x="21600" y="8640"/>
                    <a:pt x="8640" y="8640"/>
                    <a:pt x="12960" y="0"/>
                  </a:cubicBezTo>
                  <a:cubicBezTo>
                    <a:pt x="12960" y="0"/>
                    <a:pt x="4320" y="0"/>
                    <a:pt x="0" y="0"/>
                  </a:cubicBezTo>
                  <a:cubicBezTo>
                    <a:pt x="0" y="0"/>
                    <a:pt x="8640" y="4320"/>
                    <a:pt x="8640" y="4320"/>
                  </a:cubicBezTo>
                  <a:cubicBezTo>
                    <a:pt x="8640" y="8640"/>
                    <a:pt x="12960" y="17280"/>
                    <a:pt x="12960" y="17280"/>
                  </a:cubicBezTo>
                  <a:cubicBezTo>
                    <a:pt x="17280" y="12960"/>
                    <a:pt x="8640" y="21600"/>
                    <a:pt x="12960" y="1728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548" name="Shape 1162"/>
            <p:cNvSpPr/>
            <p:nvPr/>
          </p:nvSpPr>
          <p:spPr>
            <a:xfrm>
              <a:off x="6793560" y="5170320"/>
              <a:ext cx="18720" cy="39240"/>
            </a:xfrm>
            <a:custGeom>
              <a:avLst/>
              <a:gdLst/>
              <a:ahLst/>
              <a:rect l="l" t="t" r="r" b="b"/>
              <a:pathLst>
                <a:path w="16751" h="19736">
                  <a:moveTo>
                    <a:pt x="10800" y="18446"/>
                  </a:moveTo>
                  <a:cubicBezTo>
                    <a:pt x="3600" y="20410"/>
                    <a:pt x="0" y="20410"/>
                    <a:pt x="0" y="16483"/>
                  </a:cubicBezTo>
                  <a:cubicBezTo>
                    <a:pt x="3600" y="12555"/>
                    <a:pt x="3600" y="6665"/>
                    <a:pt x="3600" y="2737"/>
                  </a:cubicBezTo>
                  <a:cubicBezTo>
                    <a:pt x="3600" y="-1190"/>
                    <a:pt x="18000" y="-1190"/>
                    <a:pt x="14400" y="4701"/>
                  </a:cubicBezTo>
                  <a:cubicBezTo>
                    <a:pt x="14400" y="8628"/>
                    <a:pt x="21600" y="14519"/>
                    <a:pt x="10800" y="18446"/>
                  </a:cubicBezTo>
                  <a:cubicBezTo>
                    <a:pt x="7200" y="18446"/>
                    <a:pt x="14400" y="16483"/>
                    <a:pt x="10800" y="18446"/>
                  </a:cubicBezTo>
                  <a:close/>
                </a:path>
              </a:pathLst>
            </a:custGeom>
            <a:solidFill>
              <a:srgbClr val="dadbdf"/>
            </a:solidFill>
            <a:ln w="4680">
              <a:solidFill>
                <a:srgbClr val="ffffff"/>
              </a:solidFill>
              <a:round/>
            </a:ln>
          </p:spPr>
          <p:style>
            <a:lnRef idx="0"/>
            <a:fillRef idx="0"/>
            <a:effectRef idx="0"/>
            <a:fontRef idx="minor"/>
          </p:style>
          <p:txBody>
            <a:bodyPr lIns="45360" rIns="45360" tIns="-7560" bIns="-7560" anchor="t">
              <a:noAutofit/>
            </a:bodyPr>
            <a:p>
              <a:endParaRPr b="0" lang="en-US" sz="1800" spc="-1" strike="noStrike">
                <a:solidFill>
                  <a:srgbClr val="000000"/>
                </a:solidFill>
                <a:latin typeface="Calibri"/>
              </a:endParaRPr>
            </a:p>
          </p:txBody>
        </p:sp>
        <p:sp>
          <p:nvSpPr>
            <p:cNvPr id="549" name="Shape 1163"/>
            <p:cNvSpPr/>
            <p:nvPr/>
          </p:nvSpPr>
          <p:spPr>
            <a:xfrm>
              <a:off x="6876000" y="4048920"/>
              <a:ext cx="11160" cy="10440"/>
            </a:xfrm>
            <a:custGeom>
              <a:avLst/>
              <a:gdLst/>
              <a:ahLst/>
              <a:rect l="l" t="t" r="r" b="b"/>
              <a:pathLst>
                <a:path w="12860" h="14390">
                  <a:moveTo>
                    <a:pt x="9817" y="12272"/>
                  </a:moveTo>
                  <a:cubicBezTo>
                    <a:pt x="5497" y="17672"/>
                    <a:pt x="-3143" y="12272"/>
                    <a:pt x="1177" y="1472"/>
                  </a:cubicBezTo>
                  <a:cubicBezTo>
                    <a:pt x="1177" y="-3928"/>
                    <a:pt x="18457" y="6872"/>
                    <a:pt x="9817" y="12272"/>
                  </a:cubicBezTo>
                  <a:cubicBezTo>
                    <a:pt x="5497" y="17672"/>
                    <a:pt x="18457" y="6872"/>
                    <a:pt x="9817" y="12272"/>
                  </a:cubicBezTo>
                  <a:close/>
                </a:path>
              </a:pathLst>
            </a:custGeom>
            <a:solidFill>
              <a:srgbClr val="dadbdf"/>
            </a:solidFill>
            <a:ln w="4680">
              <a:solidFill>
                <a:srgbClr val="ffffff"/>
              </a:solidFill>
              <a:round/>
            </a:ln>
          </p:spPr>
          <p:style>
            <a:lnRef idx="0"/>
            <a:fillRef idx="0"/>
            <a:effectRef idx="0"/>
            <a:fontRef idx="minor"/>
          </p:style>
          <p:txBody>
            <a:bodyPr lIns="45360" rIns="45360" tIns="-36360" bIns="-36360" anchor="t">
              <a:noAutofit/>
            </a:bodyPr>
            <a:p>
              <a:endParaRPr b="0" lang="en-US" sz="1800" spc="-1" strike="noStrike">
                <a:solidFill>
                  <a:srgbClr val="000000"/>
                </a:solidFill>
                <a:latin typeface="Calibri"/>
              </a:endParaRPr>
            </a:p>
          </p:txBody>
        </p:sp>
        <p:sp>
          <p:nvSpPr>
            <p:cNvPr id="550" name="Shape 1164"/>
            <p:cNvSpPr/>
            <p:nvPr/>
          </p:nvSpPr>
          <p:spPr>
            <a:xfrm>
              <a:off x="7045200" y="4075920"/>
              <a:ext cx="15120" cy="17640"/>
            </a:xfrm>
            <a:custGeom>
              <a:avLst/>
              <a:gdLst/>
              <a:ahLst/>
              <a:rect l="l" t="t" r="r" b="b"/>
              <a:pathLst>
                <a:path w="14388" h="12525">
                  <a:moveTo>
                    <a:pt x="1600" y="9612"/>
                  </a:moveTo>
                  <a:cubicBezTo>
                    <a:pt x="-2000" y="6912"/>
                    <a:pt x="5200" y="6912"/>
                    <a:pt x="5200" y="6912"/>
                  </a:cubicBezTo>
                  <a:cubicBezTo>
                    <a:pt x="8800" y="6912"/>
                    <a:pt x="8800" y="-3888"/>
                    <a:pt x="12400" y="1512"/>
                  </a:cubicBezTo>
                  <a:cubicBezTo>
                    <a:pt x="19600" y="6912"/>
                    <a:pt x="5200" y="17712"/>
                    <a:pt x="1600" y="9612"/>
                  </a:cubicBezTo>
                  <a:cubicBezTo>
                    <a:pt x="-2000" y="6912"/>
                    <a:pt x="1600" y="12312"/>
                    <a:pt x="1600" y="9612"/>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551" name="Shape 1165"/>
            <p:cNvSpPr/>
            <p:nvPr/>
          </p:nvSpPr>
          <p:spPr>
            <a:xfrm>
              <a:off x="7262640" y="4285800"/>
              <a:ext cx="48240" cy="47160"/>
            </a:xfrm>
            <a:custGeom>
              <a:avLst/>
              <a:gdLst/>
              <a:ahLst/>
              <a:rect l="l" t="t" r="r" b="b"/>
              <a:pathLst>
                <a:path w="18982" h="19976">
                  <a:moveTo>
                    <a:pt x="17610" y="6231"/>
                  </a:moveTo>
                  <a:cubicBezTo>
                    <a:pt x="17610" y="4570"/>
                    <a:pt x="16067" y="4570"/>
                    <a:pt x="14525" y="4570"/>
                  </a:cubicBezTo>
                  <a:cubicBezTo>
                    <a:pt x="11439" y="2908"/>
                    <a:pt x="11439" y="1247"/>
                    <a:pt x="8353" y="1247"/>
                  </a:cubicBezTo>
                  <a:cubicBezTo>
                    <a:pt x="6810" y="-415"/>
                    <a:pt x="3725" y="-415"/>
                    <a:pt x="2182" y="1247"/>
                  </a:cubicBezTo>
                  <a:cubicBezTo>
                    <a:pt x="2182" y="1247"/>
                    <a:pt x="2182" y="2908"/>
                    <a:pt x="639" y="2908"/>
                  </a:cubicBezTo>
                  <a:cubicBezTo>
                    <a:pt x="-904" y="6231"/>
                    <a:pt x="639" y="4570"/>
                    <a:pt x="2182" y="6231"/>
                  </a:cubicBezTo>
                  <a:cubicBezTo>
                    <a:pt x="2182" y="6231"/>
                    <a:pt x="639" y="11216"/>
                    <a:pt x="639" y="11216"/>
                  </a:cubicBezTo>
                  <a:cubicBezTo>
                    <a:pt x="639" y="14539"/>
                    <a:pt x="639" y="14539"/>
                    <a:pt x="2182" y="16200"/>
                  </a:cubicBezTo>
                  <a:cubicBezTo>
                    <a:pt x="3725" y="17862"/>
                    <a:pt x="3725" y="16200"/>
                    <a:pt x="5267" y="16200"/>
                  </a:cubicBezTo>
                  <a:cubicBezTo>
                    <a:pt x="8353" y="16200"/>
                    <a:pt x="6810" y="19523"/>
                    <a:pt x="9896" y="19523"/>
                  </a:cubicBezTo>
                  <a:cubicBezTo>
                    <a:pt x="12982" y="21185"/>
                    <a:pt x="11439" y="17862"/>
                    <a:pt x="14525" y="16200"/>
                  </a:cubicBezTo>
                  <a:cubicBezTo>
                    <a:pt x="17610" y="12877"/>
                    <a:pt x="20696" y="11216"/>
                    <a:pt x="17610" y="6231"/>
                  </a:cubicBezTo>
                  <a:cubicBezTo>
                    <a:pt x="17610" y="2908"/>
                    <a:pt x="20696" y="12877"/>
                    <a:pt x="17610" y="6231"/>
                  </a:cubicBezTo>
                  <a:close/>
                </a:path>
              </a:pathLst>
            </a:custGeom>
            <a:solidFill>
              <a:srgbClr val="dadbdf"/>
            </a:solidFill>
            <a:ln w="4680">
              <a:solidFill>
                <a:srgbClr val="ffffff"/>
              </a:solidFill>
              <a:round/>
            </a:ln>
          </p:spPr>
          <p:style>
            <a:lnRef idx="0"/>
            <a:fillRef idx="0"/>
            <a:effectRef idx="0"/>
            <a:fontRef idx="minor"/>
          </p:style>
          <p:txBody>
            <a:bodyPr lIns="45360" rIns="45360" tIns="360" bIns="360" anchor="t">
              <a:noAutofit/>
            </a:bodyPr>
            <a:p>
              <a:endParaRPr b="0" lang="en-US" sz="1800" spc="-1" strike="noStrike">
                <a:solidFill>
                  <a:srgbClr val="000000"/>
                </a:solidFill>
                <a:latin typeface="Calibri"/>
              </a:endParaRPr>
            </a:p>
          </p:txBody>
        </p:sp>
        <p:sp>
          <p:nvSpPr>
            <p:cNvPr id="552" name="Shape 1166"/>
            <p:cNvSpPr/>
            <p:nvPr/>
          </p:nvSpPr>
          <p:spPr>
            <a:xfrm>
              <a:off x="6939720" y="3919320"/>
              <a:ext cx="32400" cy="12960"/>
            </a:xfrm>
            <a:custGeom>
              <a:avLst/>
              <a:gdLst/>
              <a:ahLst/>
              <a:rect l="l" t="t" r="r" b="b"/>
              <a:pathLst>
                <a:path w="18071" h="17712">
                  <a:moveTo>
                    <a:pt x="17715" y="10800"/>
                  </a:moveTo>
                  <a:cubicBezTo>
                    <a:pt x="13395" y="5400"/>
                    <a:pt x="11235" y="0"/>
                    <a:pt x="6915" y="0"/>
                  </a:cubicBezTo>
                  <a:cubicBezTo>
                    <a:pt x="4755" y="0"/>
                    <a:pt x="-1725" y="5400"/>
                    <a:pt x="435" y="16200"/>
                  </a:cubicBezTo>
                  <a:cubicBezTo>
                    <a:pt x="2595" y="21600"/>
                    <a:pt x="17715" y="10800"/>
                    <a:pt x="17715" y="10800"/>
                  </a:cubicBezTo>
                  <a:cubicBezTo>
                    <a:pt x="11235" y="5400"/>
                    <a:pt x="19875" y="16200"/>
                    <a:pt x="17715" y="10800"/>
                  </a:cubicBezTo>
                  <a:close/>
                </a:path>
              </a:pathLst>
            </a:custGeom>
            <a:solidFill>
              <a:srgbClr val="dadbdf"/>
            </a:solidFill>
            <a:ln w="4680">
              <a:solidFill>
                <a:srgbClr val="ffffff"/>
              </a:solidFill>
              <a:round/>
            </a:ln>
          </p:spPr>
          <p:style>
            <a:lnRef idx="0"/>
            <a:fillRef idx="0"/>
            <a:effectRef idx="0"/>
            <a:fontRef idx="minor"/>
          </p:style>
          <p:txBody>
            <a:bodyPr lIns="45360" rIns="45360" tIns="-33840" bIns="-33840" anchor="t">
              <a:noAutofit/>
            </a:bodyPr>
            <a:p>
              <a:endParaRPr b="0" lang="en-US" sz="1800" spc="-1" strike="noStrike">
                <a:solidFill>
                  <a:srgbClr val="000000"/>
                </a:solidFill>
                <a:latin typeface="Calibri"/>
              </a:endParaRPr>
            </a:p>
          </p:txBody>
        </p:sp>
        <p:sp>
          <p:nvSpPr>
            <p:cNvPr id="553" name="Shape 1167"/>
            <p:cNvSpPr/>
            <p:nvPr/>
          </p:nvSpPr>
          <p:spPr>
            <a:xfrm>
              <a:off x="6714000" y="3918960"/>
              <a:ext cx="42120" cy="16200"/>
            </a:xfrm>
            <a:custGeom>
              <a:avLst/>
              <a:gdLst/>
              <a:ahLst/>
              <a:rect l="l" t="t" r="r" b="b"/>
              <a:pathLst>
                <a:path w="20509" h="17455">
                  <a:moveTo>
                    <a:pt x="19636" y="13135"/>
                  </a:moveTo>
                  <a:cubicBezTo>
                    <a:pt x="19636" y="175"/>
                    <a:pt x="3927" y="-4145"/>
                    <a:pt x="0" y="4495"/>
                  </a:cubicBezTo>
                  <a:cubicBezTo>
                    <a:pt x="0" y="4495"/>
                    <a:pt x="7855" y="17455"/>
                    <a:pt x="9818" y="17455"/>
                  </a:cubicBezTo>
                  <a:cubicBezTo>
                    <a:pt x="11782" y="17455"/>
                    <a:pt x="21600" y="13135"/>
                    <a:pt x="19636" y="13135"/>
                  </a:cubicBezTo>
                  <a:cubicBezTo>
                    <a:pt x="19636" y="8815"/>
                    <a:pt x="21600" y="17455"/>
                    <a:pt x="19636" y="13135"/>
                  </a:cubicBezTo>
                  <a:close/>
                </a:path>
              </a:pathLst>
            </a:custGeom>
            <a:solidFill>
              <a:srgbClr val="dadbdf"/>
            </a:solidFill>
            <a:ln w="4680">
              <a:solidFill>
                <a:srgbClr val="ffffff"/>
              </a:solidFill>
              <a:round/>
            </a:ln>
          </p:spPr>
          <p:style>
            <a:lnRef idx="0"/>
            <a:fillRef idx="0"/>
            <a:effectRef idx="0"/>
            <a:fontRef idx="minor"/>
          </p:style>
          <p:txBody>
            <a:bodyPr lIns="45360" rIns="45360" tIns="-30600" bIns="-30600" anchor="t">
              <a:noAutofit/>
            </a:bodyPr>
            <a:p>
              <a:endParaRPr b="0" lang="en-US" sz="1800" spc="-1" strike="noStrike">
                <a:solidFill>
                  <a:srgbClr val="000000"/>
                </a:solidFill>
                <a:latin typeface="Calibri"/>
              </a:endParaRPr>
            </a:p>
          </p:txBody>
        </p:sp>
        <p:sp>
          <p:nvSpPr>
            <p:cNvPr id="554" name="Shape 1168"/>
            <p:cNvSpPr/>
            <p:nvPr/>
          </p:nvSpPr>
          <p:spPr>
            <a:xfrm>
              <a:off x="6592680" y="3825000"/>
              <a:ext cx="204840" cy="69120"/>
            </a:xfrm>
            <a:custGeom>
              <a:avLst/>
              <a:gdLst/>
              <a:ahLst/>
              <a:rect l="l" t="t" r="r" b="b"/>
              <a:pathLst>
                <a:path w="21600" h="20933">
                  <a:moveTo>
                    <a:pt x="21600" y="19200"/>
                  </a:moveTo>
                  <a:cubicBezTo>
                    <a:pt x="21600" y="20400"/>
                    <a:pt x="17446" y="20400"/>
                    <a:pt x="17031" y="20400"/>
                  </a:cubicBezTo>
                  <a:cubicBezTo>
                    <a:pt x="16200" y="20400"/>
                    <a:pt x="15369" y="21600"/>
                    <a:pt x="14538" y="20400"/>
                  </a:cubicBezTo>
                  <a:cubicBezTo>
                    <a:pt x="14123" y="19200"/>
                    <a:pt x="17031" y="18000"/>
                    <a:pt x="15369" y="16800"/>
                  </a:cubicBezTo>
                  <a:cubicBezTo>
                    <a:pt x="14538" y="15600"/>
                    <a:pt x="13708" y="15600"/>
                    <a:pt x="13292" y="13200"/>
                  </a:cubicBezTo>
                  <a:cubicBezTo>
                    <a:pt x="12462" y="10800"/>
                    <a:pt x="12877" y="9600"/>
                    <a:pt x="11631" y="9600"/>
                  </a:cubicBezTo>
                  <a:cubicBezTo>
                    <a:pt x="9969" y="10800"/>
                    <a:pt x="9554" y="7200"/>
                    <a:pt x="8308" y="6000"/>
                  </a:cubicBezTo>
                  <a:cubicBezTo>
                    <a:pt x="7892" y="6000"/>
                    <a:pt x="6231" y="7200"/>
                    <a:pt x="5815" y="6000"/>
                  </a:cubicBezTo>
                  <a:cubicBezTo>
                    <a:pt x="5815" y="4800"/>
                    <a:pt x="6646" y="4800"/>
                    <a:pt x="6646" y="3600"/>
                  </a:cubicBezTo>
                  <a:cubicBezTo>
                    <a:pt x="6646" y="2400"/>
                    <a:pt x="3738" y="3600"/>
                    <a:pt x="3323" y="3600"/>
                  </a:cubicBezTo>
                  <a:cubicBezTo>
                    <a:pt x="3323" y="4800"/>
                    <a:pt x="0" y="8400"/>
                    <a:pt x="0" y="7200"/>
                  </a:cubicBezTo>
                  <a:cubicBezTo>
                    <a:pt x="0" y="4800"/>
                    <a:pt x="1662" y="2400"/>
                    <a:pt x="2492" y="2400"/>
                  </a:cubicBezTo>
                  <a:cubicBezTo>
                    <a:pt x="3738" y="0"/>
                    <a:pt x="4985" y="0"/>
                    <a:pt x="6646" y="0"/>
                  </a:cubicBezTo>
                  <a:cubicBezTo>
                    <a:pt x="7477" y="0"/>
                    <a:pt x="9138" y="0"/>
                    <a:pt x="9969" y="1200"/>
                  </a:cubicBezTo>
                  <a:cubicBezTo>
                    <a:pt x="10800" y="2400"/>
                    <a:pt x="11631" y="4800"/>
                    <a:pt x="12877" y="4800"/>
                  </a:cubicBezTo>
                  <a:cubicBezTo>
                    <a:pt x="12877" y="4800"/>
                    <a:pt x="12877" y="3600"/>
                    <a:pt x="13292" y="4800"/>
                  </a:cubicBezTo>
                  <a:cubicBezTo>
                    <a:pt x="13708" y="6000"/>
                    <a:pt x="13708" y="6000"/>
                    <a:pt x="14123" y="6000"/>
                  </a:cubicBezTo>
                  <a:cubicBezTo>
                    <a:pt x="14538" y="7200"/>
                    <a:pt x="15369" y="8400"/>
                    <a:pt x="15785" y="9600"/>
                  </a:cubicBezTo>
                  <a:cubicBezTo>
                    <a:pt x="16615" y="10800"/>
                    <a:pt x="18277" y="10800"/>
                    <a:pt x="18692" y="13200"/>
                  </a:cubicBezTo>
                  <a:cubicBezTo>
                    <a:pt x="19523" y="15600"/>
                    <a:pt x="21600" y="15600"/>
                    <a:pt x="21600" y="19200"/>
                  </a:cubicBezTo>
                  <a:close/>
                </a:path>
              </a:pathLst>
            </a:custGeom>
            <a:solidFill>
              <a:srgbClr val="dadbdf"/>
            </a:solidFill>
            <a:ln w="4680">
              <a:solidFill>
                <a:srgbClr val="ffffff"/>
              </a:solidFill>
              <a:round/>
            </a:ln>
          </p:spPr>
          <p:style>
            <a:lnRef idx="0"/>
            <a:fillRef idx="0"/>
            <a:effectRef idx="0"/>
            <a:fontRef idx="minor"/>
          </p:style>
          <p:txBody>
            <a:bodyPr lIns="45360" rIns="45360" tIns="22320" bIns="22320" anchor="t">
              <a:noAutofit/>
            </a:bodyPr>
            <a:p>
              <a:endParaRPr b="0" lang="en-US" sz="1800" spc="-1" strike="noStrike">
                <a:solidFill>
                  <a:srgbClr val="000000"/>
                </a:solidFill>
                <a:latin typeface="Calibri"/>
              </a:endParaRPr>
            </a:p>
          </p:txBody>
        </p:sp>
        <p:sp>
          <p:nvSpPr>
            <p:cNvPr id="555" name="Shape 1169"/>
            <p:cNvSpPr/>
            <p:nvPr/>
          </p:nvSpPr>
          <p:spPr>
            <a:xfrm>
              <a:off x="6717240" y="3781800"/>
              <a:ext cx="8280" cy="14760"/>
            </a:xfrm>
            <a:custGeom>
              <a:avLst/>
              <a:gdLst/>
              <a:ahLst/>
              <a:rect l="l" t="t" r="r" b="b"/>
              <a:pathLst>
                <a:path w="11371" h="21600">
                  <a:moveTo>
                    <a:pt x="6750" y="21600"/>
                  </a:moveTo>
                  <a:cubicBezTo>
                    <a:pt x="-4050" y="21600"/>
                    <a:pt x="1350" y="5400"/>
                    <a:pt x="1350" y="0"/>
                  </a:cubicBezTo>
                  <a:cubicBezTo>
                    <a:pt x="6750" y="0"/>
                    <a:pt x="17550" y="21600"/>
                    <a:pt x="6750" y="21600"/>
                  </a:cubicBezTo>
                  <a:cubicBezTo>
                    <a:pt x="1350" y="21600"/>
                    <a:pt x="17550" y="21600"/>
                    <a:pt x="6750" y="2160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556" name="Shape 1170"/>
            <p:cNvSpPr/>
            <p:nvPr/>
          </p:nvSpPr>
          <p:spPr>
            <a:xfrm>
              <a:off x="6814080" y="3864960"/>
              <a:ext cx="7920" cy="4680"/>
            </a:xfrm>
            <a:custGeom>
              <a:avLst/>
              <a:gdLst/>
              <a:ahLst/>
              <a:rect l="l" t="t" r="r" b="b"/>
              <a:pathLst>
                <a:path w="21600" h="12900">
                  <a:moveTo>
                    <a:pt x="21600" y="8100"/>
                  </a:moveTo>
                  <a:cubicBezTo>
                    <a:pt x="21600" y="-2700"/>
                    <a:pt x="0" y="-2700"/>
                    <a:pt x="0" y="8100"/>
                  </a:cubicBezTo>
                  <a:cubicBezTo>
                    <a:pt x="0" y="8100"/>
                    <a:pt x="21600" y="18900"/>
                    <a:pt x="21600" y="8100"/>
                  </a:cubicBezTo>
                  <a:close/>
                </a:path>
              </a:pathLst>
            </a:custGeom>
            <a:solidFill>
              <a:srgbClr val="dadbdf"/>
            </a:solidFill>
            <a:ln w="4680">
              <a:solidFill>
                <a:srgbClr val="ffffff"/>
              </a:solidFill>
              <a:round/>
            </a:ln>
          </p:spPr>
          <p:style>
            <a:lnRef idx="0"/>
            <a:fillRef idx="0"/>
            <a:effectRef idx="0"/>
            <a:fontRef idx="minor"/>
          </p:style>
          <p:txBody>
            <a:bodyPr lIns="45360" rIns="45360" tIns="-42120" bIns="-42120" anchor="t">
              <a:noAutofit/>
            </a:bodyPr>
            <a:p>
              <a:endParaRPr b="0" lang="en-US" sz="1800" spc="-1" strike="noStrike">
                <a:solidFill>
                  <a:srgbClr val="000000"/>
                </a:solidFill>
                <a:latin typeface="Calibri"/>
              </a:endParaRPr>
            </a:p>
          </p:txBody>
        </p:sp>
        <p:sp>
          <p:nvSpPr>
            <p:cNvPr id="557" name="Shape 1171"/>
            <p:cNvSpPr/>
            <p:nvPr/>
          </p:nvSpPr>
          <p:spPr>
            <a:xfrm>
              <a:off x="7051320" y="3286800"/>
              <a:ext cx="22680" cy="31320"/>
            </a:xfrm>
            <a:custGeom>
              <a:avLst/>
              <a:gdLst/>
              <a:ahLst/>
              <a:rect l="l" t="t" r="r" b="b"/>
              <a:pathLst>
                <a:path w="21600" h="16768">
                  <a:moveTo>
                    <a:pt x="10800" y="14413"/>
                  </a:moveTo>
                  <a:cubicBezTo>
                    <a:pt x="7200" y="18733"/>
                    <a:pt x="0" y="16573"/>
                    <a:pt x="0" y="12253"/>
                  </a:cubicBezTo>
                  <a:cubicBezTo>
                    <a:pt x="3600" y="10093"/>
                    <a:pt x="10800" y="3613"/>
                    <a:pt x="14400" y="1453"/>
                  </a:cubicBezTo>
                  <a:cubicBezTo>
                    <a:pt x="21600" y="-2867"/>
                    <a:pt x="21600" y="3613"/>
                    <a:pt x="21600" y="5773"/>
                  </a:cubicBezTo>
                  <a:cubicBezTo>
                    <a:pt x="21600" y="10093"/>
                    <a:pt x="10800" y="10093"/>
                    <a:pt x="10800" y="14413"/>
                  </a:cubicBezTo>
                  <a:cubicBezTo>
                    <a:pt x="7200" y="18733"/>
                    <a:pt x="10800" y="14413"/>
                    <a:pt x="10800" y="14413"/>
                  </a:cubicBezTo>
                  <a:close/>
                </a:path>
              </a:pathLst>
            </a:custGeom>
            <a:solidFill>
              <a:srgbClr val="dadbdf"/>
            </a:solidFill>
            <a:ln w="4680">
              <a:solidFill>
                <a:srgbClr val="ffffff"/>
              </a:solidFill>
              <a:round/>
            </a:ln>
          </p:spPr>
          <p:style>
            <a:lnRef idx="0"/>
            <a:fillRef idx="0"/>
            <a:effectRef idx="0"/>
            <a:fontRef idx="minor"/>
          </p:style>
          <p:txBody>
            <a:bodyPr lIns="45360" rIns="45360" tIns="-15480" bIns="-15480" anchor="t">
              <a:noAutofit/>
            </a:bodyPr>
            <a:p>
              <a:endParaRPr b="0" lang="en-US" sz="1800" spc="-1" strike="noStrike">
                <a:solidFill>
                  <a:srgbClr val="000000"/>
                </a:solidFill>
                <a:latin typeface="Calibri"/>
              </a:endParaRPr>
            </a:p>
          </p:txBody>
        </p:sp>
        <p:sp>
          <p:nvSpPr>
            <p:cNvPr id="558" name="Shape 1172"/>
            <p:cNvSpPr/>
            <p:nvPr/>
          </p:nvSpPr>
          <p:spPr>
            <a:xfrm>
              <a:off x="7068960" y="3305160"/>
              <a:ext cx="15840" cy="12600"/>
            </a:xfrm>
            <a:custGeom>
              <a:avLst/>
              <a:gdLst/>
              <a:ahLst/>
              <a:rect l="l" t="t" r="r" b="b"/>
              <a:pathLst>
                <a:path w="12164" h="17067">
                  <a:moveTo>
                    <a:pt x="3916" y="17067"/>
                  </a:moveTo>
                  <a:cubicBezTo>
                    <a:pt x="-5341" y="17067"/>
                    <a:pt x="3916" y="-4533"/>
                    <a:pt x="10088" y="867"/>
                  </a:cubicBezTo>
                  <a:cubicBezTo>
                    <a:pt x="16259" y="867"/>
                    <a:pt x="7002" y="17067"/>
                    <a:pt x="3916" y="17067"/>
                  </a:cubicBezTo>
                  <a:cubicBezTo>
                    <a:pt x="830" y="17067"/>
                    <a:pt x="7002" y="17067"/>
                    <a:pt x="3916" y="17067"/>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559" name="Shape 1173"/>
            <p:cNvSpPr/>
            <p:nvPr/>
          </p:nvSpPr>
          <p:spPr>
            <a:xfrm>
              <a:off x="6992640" y="3285360"/>
              <a:ext cx="50400" cy="25920"/>
            </a:xfrm>
            <a:custGeom>
              <a:avLst/>
              <a:gdLst/>
              <a:ahLst/>
              <a:rect l="l" t="t" r="r" b="b"/>
              <a:pathLst>
                <a:path w="18356" h="19886">
                  <a:moveTo>
                    <a:pt x="12596" y="18514"/>
                  </a:moveTo>
                  <a:cubicBezTo>
                    <a:pt x="11156" y="18514"/>
                    <a:pt x="11156" y="18514"/>
                    <a:pt x="11156" y="15429"/>
                  </a:cubicBezTo>
                  <a:cubicBezTo>
                    <a:pt x="11156" y="15429"/>
                    <a:pt x="8276" y="18514"/>
                    <a:pt x="6836" y="15429"/>
                  </a:cubicBezTo>
                  <a:cubicBezTo>
                    <a:pt x="6836" y="12343"/>
                    <a:pt x="-3244" y="3086"/>
                    <a:pt x="1076" y="0"/>
                  </a:cubicBezTo>
                  <a:cubicBezTo>
                    <a:pt x="2516" y="0"/>
                    <a:pt x="3956" y="6171"/>
                    <a:pt x="5396" y="6171"/>
                  </a:cubicBezTo>
                  <a:cubicBezTo>
                    <a:pt x="6836" y="9257"/>
                    <a:pt x="6836" y="6171"/>
                    <a:pt x="8276" y="9257"/>
                  </a:cubicBezTo>
                  <a:cubicBezTo>
                    <a:pt x="9716" y="12343"/>
                    <a:pt x="15476" y="6171"/>
                    <a:pt x="18356" y="9257"/>
                  </a:cubicBezTo>
                  <a:cubicBezTo>
                    <a:pt x="16916" y="9257"/>
                    <a:pt x="14036" y="18514"/>
                    <a:pt x="12596" y="18514"/>
                  </a:cubicBezTo>
                  <a:cubicBezTo>
                    <a:pt x="9716" y="21600"/>
                    <a:pt x="14036" y="18514"/>
                    <a:pt x="12596" y="18514"/>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560" name="Shape 1174"/>
            <p:cNvSpPr/>
            <p:nvPr/>
          </p:nvSpPr>
          <p:spPr>
            <a:xfrm>
              <a:off x="6995880" y="3213000"/>
              <a:ext cx="51840" cy="19440"/>
            </a:xfrm>
            <a:custGeom>
              <a:avLst/>
              <a:gdLst/>
              <a:ahLst/>
              <a:rect l="l" t="t" r="r" b="b"/>
              <a:pathLst>
                <a:path w="18056" h="13743">
                  <a:moveTo>
                    <a:pt x="17550" y="12272"/>
                  </a:moveTo>
                  <a:cubicBezTo>
                    <a:pt x="14850" y="17672"/>
                    <a:pt x="1350" y="6872"/>
                    <a:pt x="0" y="1472"/>
                  </a:cubicBezTo>
                  <a:cubicBezTo>
                    <a:pt x="0" y="-3928"/>
                    <a:pt x="21600" y="6872"/>
                    <a:pt x="17550" y="12272"/>
                  </a:cubicBezTo>
                  <a:cubicBezTo>
                    <a:pt x="16200" y="14972"/>
                    <a:pt x="18900" y="9572"/>
                    <a:pt x="17550" y="12272"/>
                  </a:cubicBezTo>
                  <a:close/>
                </a:path>
              </a:pathLst>
            </a:custGeom>
            <a:solidFill>
              <a:srgbClr val="dadbdf"/>
            </a:solidFill>
            <a:ln w="4680">
              <a:solidFill>
                <a:srgbClr val="ffffff"/>
              </a:solidFill>
              <a:round/>
            </a:ln>
          </p:spPr>
          <p:style>
            <a:lnRef idx="0"/>
            <a:fillRef idx="0"/>
            <a:effectRef idx="0"/>
            <a:fontRef idx="minor"/>
          </p:style>
          <p:txBody>
            <a:bodyPr lIns="45360" rIns="45360" tIns="-27360" bIns="-27360" anchor="t">
              <a:noAutofit/>
            </a:bodyPr>
            <a:p>
              <a:endParaRPr b="0" lang="en-US" sz="1800" spc="-1" strike="noStrike">
                <a:solidFill>
                  <a:srgbClr val="000000"/>
                </a:solidFill>
                <a:latin typeface="Calibri"/>
              </a:endParaRPr>
            </a:p>
          </p:txBody>
        </p:sp>
        <p:sp>
          <p:nvSpPr>
            <p:cNvPr id="561" name="Shape 1175"/>
            <p:cNvSpPr/>
            <p:nvPr/>
          </p:nvSpPr>
          <p:spPr>
            <a:xfrm>
              <a:off x="7094520" y="3166920"/>
              <a:ext cx="126720" cy="119520"/>
            </a:xfrm>
            <a:custGeom>
              <a:avLst/>
              <a:gdLst/>
              <a:ahLst/>
              <a:rect l="l" t="t" r="r" b="b"/>
              <a:pathLst>
                <a:path w="21600" h="21045">
                  <a:moveTo>
                    <a:pt x="12825" y="697"/>
                  </a:moveTo>
                  <a:cubicBezTo>
                    <a:pt x="13500" y="0"/>
                    <a:pt x="11475" y="0"/>
                    <a:pt x="11475" y="0"/>
                  </a:cubicBezTo>
                  <a:cubicBezTo>
                    <a:pt x="10800" y="0"/>
                    <a:pt x="10125" y="697"/>
                    <a:pt x="9450" y="1394"/>
                  </a:cubicBezTo>
                  <a:cubicBezTo>
                    <a:pt x="8775" y="2090"/>
                    <a:pt x="8100" y="2787"/>
                    <a:pt x="7425" y="3484"/>
                  </a:cubicBezTo>
                  <a:cubicBezTo>
                    <a:pt x="7425" y="4181"/>
                    <a:pt x="6750" y="4877"/>
                    <a:pt x="6075" y="4877"/>
                  </a:cubicBezTo>
                  <a:cubicBezTo>
                    <a:pt x="6075" y="6271"/>
                    <a:pt x="5400" y="7665"/>
                    <a:pt x="4725" y="9058"/>
                  </a:cubicBezTo>
                  <a:cubicBezTo>
                    <a:pt x="4725" y="10452"/>
                    <a:pt x="4050" y="11148"/>
                    <a:pt x="3375" y="11845"/>
                  </a:cubicBezTo>
                  <a:cubicBezTo>
                    <a:pt x="2700" y="12542"/>
                    <a:pt x="1350" y="13239"/>
                    <a:pt x="1350" y="13239"/>
                  </a:cubicBezTo>
                  <a:cubicBezTo>
                    <a:pt x="1350" y="13935"/>
                    <a:pt x="2700" y="13935"/>
                    <a:pt x="2700" y="14632"/>
                  </a:cubicBezTo>
                  <a:cubicBezTo>
                    <a:pt x="2700" y="15329"/>
                    <a:pt x="0" y="16723"/>
                    <a:pt x="0" y="17419"/>
                  </a:cubicBezTo>
                  <a:cubicBezTo>
                    <a:pt x="0" y="18813"/>
                    <a:pt x="2025" y="18116"/>
                    <a:pt x="2700" y="17419"/>
                  </a:cubicBezTo>
                  <a:cubicBezTo>
                    <a:pt x="4050" y="17419"/>
                    <a:pt x="5400" y="18116"/>
                    <a:pt x="6750" y="18116"/>
                  </a:cubicBezTo>
                  <a:cubicBezTo>
                    <a:pt x="8775" y="18813"/>
                    <a:pt x="10800" y="18116"/>
                    <a:pt x="12825" y="18813"/>
                  </a:cubicBezTo>
                  <a:cubicBezTo>
                    <a:pt x="12825" y="18813"/>
                    <a:pt x="14850" y="17419"/>
                    <a:pt x="14850" y="18116"/>
                  </a:cubicBezTo>
                  <a:cubicBezTo>
                    <a:pt x="14850" y="18813"/>
                    <a:pt x="12825" y="20903"/>
                    <a:pt x="12825" y="20903"/>
                  </a:cubicBezTo>
                  <a:cubicBezTo>
                    <a:pt x="13500" y="21600"/>
                    <a:pt x="14850" y="19510"/>
                    <a:pt x="14850" y="19510"/>
                  </a:cubicBezTo>
                  <a:cubicBezTo>
                    <a:pt x="16200" y="18813"/>
                    <a:pt x="17550" y="18813"/>
                    <a:pt x="18225" y="18116"/>
                  </a:cubicBezTo>
                  <a:cubicBezTo>
                    <a:pt x="18225" y="17419"/>
                    <a:pt x="21600" y="13935"/>
                    <a:pt x="21600" y="13935"/>
                  </a:cubicBezTo>
                  <a:cubicBezTo>
                    <a:pt x="20925" y="13239"/>
                    <a:pt x="20250" y="13935"/>
                    <a:pt x="19575" y="13935"/>
                  </a:cubicBezTo>
                  <a:cubicBezTo>
                    <a:pt x="19575" y="13935"/>
                    <a:pt x="17550" y="12542"/>
                    <a:pt x="17550" y="12542"/>
                  </a:cubicBezTo>
                  <a:cubicBezTo>
                    <a:pt x="17550" y="11845"/>
                    <a:pt x="20250" y="11148"/>
                    <a:pt x="19575" y="10452"/>
                  </a:cubicBezTo>
                  <a:cubicBezTo>
                    <a:pt x="19575" y="9755"/>
                    <a:pt x="18225" y="10452"/>
                    <a:pt x="17550" y="10452"/>
                  </a:cubicBezTo>
                  <a:cubicBezTo>
                    <a:pt x="16875" y="10452"/>
                    <a:pt x="16875" y="9058"/>
                    <a:pt x="16200" y="9058"/>
                  </a:cubicBezTo>
                  <a:cubicBezTo>
                    <a:pt x="16200" y="9058"/>
                    <a:pt x="14175" y="11148"/>
                    <a:pt x="14175" y="11148"/>
                  </a:cubicBezTo>
                  <a:cubicBezTo>
                    <a:pt x="13500" y="9755"/>
                    <a:pt x="13500" y="9755"/>
                    <a:pt x="12150" y="9058"/>
                  </a:cubicBezTo>
                  <a:cubicBezTo>
                    <a:pt x="10800" y="8361"/>
                    <a:pt x="12825" y="8361"/>
                    <a:pt x="12825" y="7665"/>
                  </a:cubicBezTo>
                  <a:cubicBezTo>
                    <a:pt x="12825" y="7665"/>
                    <a:pt x="11475" y="6271"/>
                    <a:pt x="10800" y="6271"/>
                  </a:cubicBezTo>
                  <a:cubicBezTo>
                    <a:pt x="10800" y="6968"/>
                    <a:pt x="9450" y="9058"/>
                    <a:pt x="9450" y="8361"/>
                  </a:cubicBezTo>
                  <a:cubicBezTo>
                    <a:pt x="8100" y="7665"/>
                    <a:pt x="10125" y="4877"/>
                    <a:pt x="10800" y="4877"/>
                  </a:cubicBezTo>
                  <a:cubicBezTo>
                    <a:pt x="11475" y="4181"/>
                    <a:pt x="11475" y="3484"/>
                    <a:pt x="12150" y="2787"/>
                  </a:cubicBezTo>
                  <a:cubicBezTo>
                    <a:pt x="12150" y="2090"/>
                    <a:pt x="12150" y="1394"/>
                    <a:pt x="12150" y="1394"/>
                  </a:cubicBezTo>
                  <a:cubicBezTo>
                    <a:pt x="12150" y="1394"/>
                    <a:pt x="12825" y="697"/>
                    <a:pt x="12825" y="697"/>
                  </a:cubicBezTo>
                  <a:cubicBezTo>
                    <a:pt x="13500" y="0"/>
                    <a:pt x="12825" y="697"/>
                    <a:pt x="12825" y="69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62" name="Shape 1176"/>
            <p:cNvSpPr/>
            <p:nvPr/>
          </p:nvSpPr>
          <p:spPr>
            <a:xfrm>
              <a:off x="7200360" y="3256560"/>
              <a:ext cx="28800" cy="36720"/>
            </a:xfrm>
            <a:custGeom>
              <a:avLst/>
              <a:gdLst/>
              <a:ahLst/>
              <a:rect l="l" t="t" r="r" b="b"/>
              <a:pathLst>
                <a:path w="19255" h="20400">
                  <a:moveTo>
                    <a:pt x="13855" y="960"/>
                  </a:moveTo>
                  <a:cubicBezTo>
                    <a:pt x="11155" y="3120"/>
                    <a:pt x="-2345" y="11760"/>
                    <a:pt x="355" y="18240"/>
                  </a:cubicBezTo>
                  <a:cubicBezTo>
                    <a:pt x="355" y="18240"/>
                    <a:pt x="5755" y="11760"/>
                    <a:pt x="8455" y="13920"/>
                  </a:cubicBezTo>
                  <a:cubicBezTo>
                    <a:pt x="8455" y="13920"/>
                    <a:pt x="5755" y="20400"/>
                    <a:pt x="5755" y="20400"/>
                  </a:cubicBezTo>
                  <a:cubicBezTo>
                    <a:pt x="8455" y="20400"/>
                    <a:pt x="13855" y="18240"/>
                    <a:pt x="13855" y="16080"/>
                  </a:cubicBezTo>
                  <a:cubicBezTo>
                    <a:pt x="13855" y="13920"/>
                    <a:pt x="16555" y="11760"/>
                    <a:pt x="19255" y="7440"/>
                  </a:cubicBezTo>
                  <a:cubicBezTo>
                    <a:pt x="19255" y="3120"/>
                    <a:pt x="13855" y="7440"/>
                    <a:pt x="11155" y="7440"/>
                  </a:cubicBezTo>
                  <a:cubicBezTo>
                    <a:pt x="13855" y="7440"/>
                    <a:pt x="13855" y="-1200"/>
                    <a:pt x="13855" y="960"/>
                  </a:cubicBezTo>
                  <a:cubicBezTo>
                    <a:pt x="11155" y="960"/>
                    <a:pt x="16555" y="-1200"/>
                    <a:pt x="13855" y="960"/>
                  </a:cubicBezTo>
                  <a:close/>
                </a:path>
              </a:pathLst>
            </a:custGeom>
            <a:solidFill>
              <a:srgbClr val="dadbdf"/>
            </a:solidFill>
            <a:ln w="4680">
              <a:solidFill>
                <a:srgbClr val="ffffff"/>
              </a:solidFill>
              <a:round/>
            </a:ln>
          </p:spPr>
          <p:style>
            <a:lnRef idx="0"/>
            <a:fillRef idx="0"/>
            <a:effectRef idx="0"/>
            <a:fontRef idx="minor"/>
          </p:style>
          <p:txBody>
            <a:bodyPr lIns="45360" rIns="45360" tIns="-10080" bIns="-10080" anchor="t">
              <a:noAutofit/>
            </a:bodyPr>
            <a:p>
              <a:endParaRPr b="0" lang="en-US" sz="1800" spc="-1" strike="noStrike">
                <a:solidFill>
                  <a:srgbClr val="000000"/>
                </a:solidFill>
                <a:latin typeface="Calibri"/>
              </a:endParaRPr>
            </a:p>
          </p:txBody>
        </p:sp>
        <p:sp>
          <p:nvSpPr>
            <p:cNvPr id="563" name="Shape 1177"/>
            <p:cNvSpPr/>
            <p:nvPr/>
          </p:nvSpPr>
          <p:spPr>
            <a:xfrm>
              <a:off x="6975720" y="2877120"/>
              <a:ext cx="11880" cy="14760"/>
            </a:xfrm>
            <a:custGeom>
              <a:avLst/>
              <a:gdLst/>
              <a:ahLst/>
              <a:rect l="l" t="t" r="r" b="b"/>
              <a:pathLst>
                <a:path w="21600" h="14060">
                  <a:moveTo>
                    <a:pt x="21600" y="11525"/>
                  </a:moveTo>
                  <a:cubicBezTo>
                    <a:pt x="21600" y="7925"/>
                    <a:pt x="7200" y="-2875"/>
                    <a:pt x="7200" y="725"/>
                  </a:cubicBezTo>
                  <a:cubicBezTo>
                    <a:pt x="7200" y="725"/>
                    <a:pt x="7200" y="725"/>
                    <a:pt x="7200" y="4325"/>
                  </a:cubicBezTo>
                  <a:cubicBezTo>
                    <a:pt x="7200" y="4325"/>
                    <a:pt x="0" y="4325"/>
                    <a:pt x="0" y="4325"/>
                  </a:cubicBezTo>
                  <a:cubicBezTo>
                    <a:pt x="0" y="4325"/>
                    <a:pt x="21600" y="18725"/>
                    <a:pt x="21600" y="11525"/>
                  </a:cubicBezTo>
                  <a:cubicBezTo>
                    <a:pt x="21600" y="7925"/>
                    <a:pt x="21600" y="18725"/>
                    <a:pt x="21600" y="11525"/>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564" name="Shape 1178"/>
            <p:cNvSpPr/>
            <p:nvPr/>
          </p:nvSpPr>
          <p:spPr>
            <a:xfrm>
              <a:off x="6916320" y="2916360"/>
              <a:ext cx="9000" cy="6840"/>
            </a:xfrm>
            <a:custGeom>
              <a:avLst/>
              <a:gdLst/>
              <a:ahLst/>
              <a:rect l="l" t="t" r="r" b="b"/>
              <a:pathLst>
                <a:path w="16362" h="12198">
                  <a:moveTo>
                    <a:pt x="14400" y="2016"/>
                  </a:moveTo>
                  <a:cubicBezTo>
                    <a:pt x="14400" y="-5184"/>
                    <a:pt x="0" y="9216"/>
                    <a:pt x="0" y="9216"/>
                  </a:cubicBezTo>
                  <a:cubicBezTo>
                    <a:pt x="7200" y="16416"/>
                    <a:pt x="21600" y="9216"/>
                    <a:pt x="14400" y="2016"/>
                  </a:cubicBezTo>
                  <a:close/>
                </a:path>
              </a:pathLst>
            </a:custGeom>
            <a:solidFill>
              <a:srgbClr val="dadbdf"/>
            </a:solidFill>
            <a:ln w="4680">
              <a:solidFill>
                <a:srgbClr val="ffffff"/>
              </a:solidFill>
              <a:round/>
            </a:ln>
          </p:spPr>
          <p:style>
            <a:lnRef idx="0"/>
            <a:fillRef idx="0"/>
            <a:effectRef idx="0"/>
            <a:fontRef idx="minor"/>
          </p:style>
          <p:txBody>
            <a:bodyPr lIns="45360" rIns="45360" tIns="-39960" bIns="-39960" anchor="t">
              <a:noAutofit/>
            </a:bodyPr>
            <a:p>
              <a:endParaRPr b="0" lang="en-US" sz="1800" spc="-1" strike="noStrike">
                <a:solidFill>
                  <a:srgbClr val="000000"/>
                </a:solidFill>
                <a:latin typeface="Calibri"/>
              </a:endParaRPr>
            </a:p>
          </p:txBody>
        </p:sp>
        <p:sp>
          <p:nvSpPr>
            <p:cNvPr id="565" name="Shape 1179"/>
            <p:cNvSpPr/>
            <p:nvPr/>
          </p:nvSpPr>
          <p:spPr>
            <a:xfrm>
              <a:off x="6647400" y="3125160"/>
              <a:ext cx="23400" cy="11160"/>
            </a:xfrm>
            <a:custGeom>
              <a:avLst/>
              <a:gdLst/>
              <a:ahLst/>
              <a:rect l="l" t="t" r="r" b="b"/>
              <a:pathLst>
                <a:path w="18816" h="15132">
                  <a:moveTo>
                    <a:pt x="18816" y="14030"/>
                  </a:moveTo>
                  <a:cubicBezTo>
                    <a:pt x="18816" y="-2170"/>
                    <a:pt x="6473" y="-2170"/>
                    <a:pt x="302" y="3230"/>
                  </a:cubicBezTo>
                  <a:cubicBezTo>
                    <a:pt x="-2784" y="3230"/>
                    <a:pt x="18816" y="19430"/>
                    <a:pt x="18816" y="14030"/>
                  </a:cubicBezTo>
                  <a:cubicBezTo>
                    <a:pt x="18816" y="-2170"/>
                    <a:pt x="18816" y="19430"/>
                    <a:pt x="18816" y="14030"/>
                  </a:cubicBezTo>
                  <a:close/>
                </a:path>
              </a:pathLst>
            </a:custGeom>
            <a:solidFill>
              <a:srgbClr val="dadbdf"/>
            </a:solidFill>
            <a:ln w="4680">
              <a:solidFill>
                <a:srgbClr val="ffffff"/>
              </a:solidFill>
              <a:round/>
            </a:ln>
          </p:spPr>
          <p:style>
            <a:lnRef idx="0"/>
            <a:fillRef idx="0"/>
            <a:effectRef idx="0"/>
            <a:fontRef idx="minor"/>
          </p:style>
          <p:txBody>
            <a:bodyPr lIns="45360" rIns="45360" tIns="-35640" bIns="-35640" anchor="t">
              <a:noAutofit/>
            </a:bodyPr>
            <a:p>
              <a:endParaRPr b="0" lang="en-US" sz="1800" spc="-1" strike="noStrike">
                <a:solidFill>
                  <a:srgbClr val="000000"/>
                </a:solidFill>
                <a:latin typeface="Calibri"/>
              </a:endParaRPr>
            </a:p>
          </p:txBody>
        </p:sp>
        <p:sp>
          <p:nvSpPr>
            <p:cNvPr id="566" name="Shape 1180"/>
            <p:cNvSpPr/>
            <p:nvPr/>
          </p:nvSpPr>
          <p:spPr>
            <a:xfrm>
              <a:off x="6687000" y="3033360"/>
              <a:ext cx="20520" cy="15840"/>
            </a:xfrm>
            <a:custGeom>
              <a:avLst/>
              <a:gdLst/>
              <a:ahLst/>
              <a:rect l="l" t="t" r="r" b="b"/>
              <a:pathLst>
                <a:path w="18325" h="14314">
                  <a:moveTo>
                    <a:pt x="10800" y="13275"/>
                  </a:moveTo>
                  <a:cubicBezTo>
                    <a:pt x="7200" y="9675"/>
                    <a:pt x="3600" y="9675"/>
                    <a:pt x="0" y="6075"/>
                  </a:cubicBezTo>
                  <a:cubicBezTo>
                    <a:pt x="3600" y="6075"/>
                    <a:pt x="10800" y="-4725"/>
                    <a:pt x="14400" y="2475"/>
                  </a:cubicBezTo>
                  <a:cubicBezTo>
                    <a:pt x="21600" y="6075"/>
                    <a:pt x="18000" y="16875"/>
                    <a:pt x="10800" y="13275"/>
                  </a:cubicBezTo>
                  <a:cubicBezTo>
                    <a:pt x="7200" y="9675"/>
                    <a:pt x="14400" y="16875"/>
                    <a:pt x="10800" y="13275"/>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567" name="Shape 1181"/>
            <p:cNvSpPr/>
            <p:nvPr/>
          </p:nvSpPr>
          <p:spPr>
            <a:xfrm>
              <a:off x="6679800" y="2861640"/>
              <a:ext cx="15480" cy="20880"/>
            </a:xfrm>
            <a:custGeom>
              <a:avLst/>
              <a:gdLst/>
              <a:ahLst/>
              <a:rect l="l" t="t" r="r" b="b"/>
              <a:pathLst>
                <a:path w="14046" h="16034">
                  <a:moveTo>
                    <a:pt x="6521" y="15731"/>
                  </a:moveTo>
                  <a:cubicBezTo>
                    <a:pt x="-4279" y="18817"/>
                    <a:pt x="-679" y="-2783"/>
                    <a:pt x="10121" y="303"/>
                  </a:cubicBezTo>
                  <a:cubicBezTo>
                    <a:pt x="17321" y="303"/>
                    <a:pt x="13721" y="15731"/>
                    <a:pt x="6521" y="15731"/>
                  </a:cubicBezTo>
                  <a:cubicBezTo>
                    <a:pt x="2921" y="15731"/>
                    <a:pt x="17321" y="15731"/>
                    <a:pt x="6521" y="15731"/>
                  </a:cubicBezTo>
                  <a:close/>
                </a:path>
              </a:pathLst>
            </a:custGeom>
            <a:solidFill>
              <a:srgbClr val="dadbdf"/>
            </a:solidFill>
            <a:ln w="4680">
              <a:solidFill>
                <a:srgbClr val="ffffff"/>
              </a:solidFill>
              <a:round/>
            </a:ln>
          </p:spPr>
          <p:style>
            <a:lnRef idx="0"/>
            <a:fillRef idx="0"/>
            <a:effectRef idx="0"/>
            <a:fontRef idx="minor"/>
          </p:style>
          <p:txBody>
            <a:bodyPr lIns="45360" rIns="45360" tIns="-25920" bIns="-25920" anchor="t">
              <a:noAutofit/>
            </a:bodyPr>
            <a:p>
              <a:endParaRPr b="0" lang="en-US" sz="1800" spc="-1" strike="noStrike">
                <a:solidFill>
                  <a:srgbClr val="000000"/>
                </a:solidFill>
                <a:latin typeface="Calibri"/>
              </a:endParaRPr>
            </a:p>
          </p:txBody>
        </p:sp>
        <p:sp>
          <p:nvSpPr>
            <p:cNvPr id="568" name="Shape 1182"/>
            <p:cNvSpPr/>
            <p:nvPr/>
          </p:nvSpPr>
          <p:spPr>
            <a:xfrm>
              <a:off x="6610320" y="2841840"/>
              <a:ext cx="33840" cy="24120"/>
            </a:xfrm>
            <a:custGeom>
              <a:avLst/>
              <a:gdLst/>
              <a:ahLst/>
              <a:rect l="l" t="t" r="r" b="b"/>
              <a:pathLst>
                <a:path w="15501" h="21600">
                  <a:moveTo>
                    <a:pt x="5879" y="21600"/>
                  </a:moveTo>
                  <a:cubicBezTo>
                    <a:pt x="2279" y="21600"/>
                    <a:pt x="-1321" y="18000"/>
                    <a:pt x="479" y="10800"/>
                  </a:cubicBezTo>
                  <a:cubicBezTo>
                    <a:pt x="2279" y="3600"/>
                    <a:pt x="7679" y="3600"/>
                    <a:pt x="13079" y="0"/>
                  </a:cubicBezTo>
                  <a:cubicBezTo>
                    <a:pt x="20279" y="0"/>
                    <a:pt x="9479" y="21600"/>
                    <a:pt x="5879" y="21600"/>
                  </a:cubicBezTo>
                  <a:close/>
                </a:path>
              </a:pathLst>
            </a:custGeom>
            <a:solidFill>
              <a:srgbClr val="dadbdf"/>
            </a:solidFill>
            <a:ln w="4680">
              <a:solidFill>
                <a:srgbClr val="ffffff"/>
              </a:solidFill>
              <a:round/>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69" name="Shape 1183"/>
            <p:cNvSpPr/>
            <p:nvPr/>
          </p:nvSpPr>
          <p:spPr>
            <a:xfrm>
              <a:off x="6714720" y="2827080"/>
              <a:ext cx="19440" cy="10440"/>
            </a:xfrm>
            <a:custGeom>
              <a:avLst/>
              <a:gdLst/>
              <a:ahLst/>
              <a:rect l="l" t="t" r="r" b="b"/>
              <a:pathLst>
                <a:path w="15726" h="21600">
                  <a:moveTo>
                    <a:pt x="9555" y="21600"/>
                  </a:moveTo>
                  <a:cubicBezTo>
                    <a:pt x="6469" y="21600"/>
                    <a:pt x="-5874" y="0"/>
                    <a:pt x="3383" y="0"/>
                  </a:cubicBezTo>
                  <a:cubicBezTo>
                    <a:pt x="6469" y="0"/>
                    <a:pt x="12640" y="0"/>
                    <a:pt x="15726" y="7200"/>
                  </a:cubicBezTo>
                  <a:cubicBezTo>
                    <a:pt x="15726" y="7200"/>
                    <a:pt x="12640" y="21600"/>
                    <a:pt x="9555" y="21600"/>
                  </a:cubicBezTo>
                  <a:cubicBezTo>
                    <a:pt x="6469" y="21600"/>
                    <a:pt x="15726" y="21600"/>
                    <a:pt x="9555" y="21600"/>
                  </a:cubicBezTo>
                  <a:close/>
                </a:path>
              </a:pathLst>
            </a:custGeom>
            <a:solidFill>
              <a:srgbClr val="dadbdf"/>
            </a:solidFill>
            <a:ln w="4680">
              <a:solidFill>
                <a:srgbClr val="ffffff"/>
              </a:solidFill>
              <a:round/>
            </a:ln>
          </p:spPr>
          <p:style>
            <a:lnRef idx="0"/>
            <a:fillRef idx="0"/>
            <a:effectRef idx="0"/>
            <a:fontRef idx="minor"/>
          </p:style>
          <p:txBody>
            <a:bodyPr lIns="45360" rIns="45360" tIns="-36360" bIns="-36360" anchor="t">
              <a:noAutofit/>
            </a:bodyPr>
            <a:p>
              <a:endParaRPr b="0" lang="en-US" sz="1800" spc="-1" strike="noStrike">
                <a:solidFill>
                  <a:srgbClr val="000000"/>
                </a:solidFill>
                <a:latin typeface="Calibri"/>
              </a:endParaRPr>
            </a:p>
          </p:txBody>
        </p:sp>
        <p:sp>
          <p:nvSpPr>
            <p:cNvPr id="570" name="Shape 1184"/>
            <p:cNvSpPr/>
            <p:nvPr/>
          </p:nvSpPr>
          <p:spPr>
            <a:xfrm>
              <a:off x="6545880" y="2750400"/>
              <a:ext cx="128880" cy="87840"/>
            </a:xfrm>
            <a:custGeom>
              <a:avLst/>
              <a:gdLst/>
              <a:ahLst/>
              <a:rect l="l" t="t" r="r" b="b"/>
              <a:pathLst>
                <a:path w="20685" h="20168">
                  <a:moveTo>
                    <a:pt x="18779" y="18225"/>
                  </a:moveTo>
                  <a:cubicBezTo>
                    <a:pt x="18144" y="17325"/>
                    <a:pt x="16238" y="16425"/>
                    <a:pt x="14967" y="15525"/>
                  </a:cubicBezTo>
                  <a:cubicBezTo>
                    <a:pt x="14332" y="15525"/>
                    <a:pt x="14967" y="14625"/>
                    <a:pt x="14332" y="13725"/>
                  </a:cubicBezTo>
                  <a:cubicBezTo>
                    <a:pt x="14332" y="13725"/>
                    <a:pt x="13061" y="14625"/>
                    <a:pt x="13061" y="14625"/>
                  </a:cubicBezTo>
                  <a:cubicBezTo>
                    <a:pt x="11791" y="14625"/>
                    <a:pt x="11791" y="12825"/>
                    <a:pt x="10520" y="13725"/>
                  </a:cubicBezTo>
                  <a:cubicBezTo>
                    <a:pt x="10520" y="14625"/>
                    <a:pt x="9885" y="15525"/>
                    <a:pt x="9250" y="16425"/>
                  </a:cubicBezTo>
                  <a:cubicBezTo>
                    <a:pt x="7979" y="17325"/>
                    <a:pt x="7344" y="19125"/>
                    <a:pt x="6073" y="20025"/>
                  </a:cubicBezTo>
                  <a:cubicBezTo>
                    <a:pt x="4167" y="20925"/>
                    <a:pt x="5438" y="17325"/>
                    <a:pt x="4167" y="16425"/>
                  </a:cubicBezTo>
                  <a:cubicBezTo>
                    <a:pt x="4167" y="15525"/>
                    <a:pt x="991" y="16425"/>
                    <a:pt x="356" y="16425"/>
                  </a:cubicBezTo>
                  <a:cubicBezTo>
                    <a:pt x="-915" y="16425"/>
                    <a:pt x="1626" y="13725"/>
                    <a:pt x="1626" y="13725"/>
                  </a:cubicBezTo>
                  <a:cubicBezTo>
                    <a:pt x="2897" y="11925"/>
                    <a:pt x="2261" y="10125"/>
                    <a:pt x="2261" y="8325"/>
                  </a:cubicBezTo>
                  <a:cubicBezTo>
                    <a:pt x="2261" y="6525"/>
                    <a:pt x="2261" y="3825"/>
                    <a:pt x="2897" y="2025"/>
                  </a:cubicBezTo>
                  <a:cubicBezTo>
                    <a:pt x="3532" y="-675"/>
                    <a:pt x="5438" y="-675"/>
                    <a:pt x="6073" y="2025"/>
                  </a:cubicBezTo>
                  <a:cubicBezTo>
                    <a:pt x="6073" y="2925"/>
                    <a:pt x="6073" y="4725"/>
                    <a:pt x="6709" y="3825"/>
                  </a:cubicBezTo>
                  <a:cubicBezTo>
                    <a:pt x="7344" y="3825"/>
                    <a:pt x="7344" y="2925"/>
                    <a:pt x="7979" y="2925"/>
                  </a:cubicBezTo>
                  <a:cubicBezTo>
                    <a:pt x="8614" y="3825"/>
                    <a:pt x="9250" y="4725"/>
                    <a:pt x="9885" y="4725"/>
                  </a:cubicBezTo>
                  <a:cubicBezTo>
                    <a:pt x="10520" y="5625"/>
                    <a:pt x="11156" y="5625"/>
                    <a:pt x="11791" y="5625"/>
                  </a:cubicBezTo>
                  <a:cubicBezTo>
                    <a:pt x="12426" y="6525"/>
                    <a:pt x="13697" y="7425"/>
                    <a:pt x="14967" y="8325"/>
                  </a:cubicBezTo>
                  <a:cubicBezTo>
                    <a:pt x="16873" y="9225"/>
                    <a:pt x="16873" y="10125"/>
                    <a:pt x="16873" y="12825"/>
                  </a:cubicBezTo>
                  <a:cubicBezTo>
                    <a:pt x="16873" y="13725"/>
                    <a:pt x="18144" y="13725"/>
                    <a:pt x="18144" y="12825"/>
                  </a:cubicBezTo>
                  <a:cubicBezTo>
                    <a:pt x="19414" y="12825"/>
                    <a:pt x="19414" y="13725"/>
                    <a:pt x="20050" y="14625"/>
                  </a:cubicBezTo>
                  <a:cubicBezTo>
                    <a:pt x="20685" y="14625"/>
                    <a:pt x="20685" y="14625"/>
                    <a:pt x="20685" y="15525"/>
                  </a:cubicBezTo>
                  <a:cubicBezTo>
                    <a:pt x="20050" y="16425"/>
                    <a:pt x="20050" y="18225"/>
                    <a:pt x="18779" y="18225"/>
                  </a:cubicBezTo>
                  <a:cubicBezTo>
                    <a:pt x="18144" y="17325"/>
                    <a:pt x="20050" y="18225"/>
                    <a:pt x="18779" y="18225"/>
                  </a:cubicBezTo>
                  <a:close/>
                </a:path>
              </a:pathLst>
            </a:custGeom>
            <a:solidFill>
              <a:srgbClr val="dadbdf"/>
            </a:solidFill>
            <a:ln w="4680">
              <a:solidFill>
                <a:srgbClr val="ffffff"/>
              </a:solidFill>
              <a:round/>
            </a:ln>
          </p:spPr>
          <p:style>
            <a:lnRef idx="0"/>
            <a:fillRef idx="0"/>
            <a:effectRef idx="0"/>
            <a:fontRef idx="minor"/>
          </p:style>
          <p:txBody>
            <a:bodyPr lIns="45360" rIns="45360" tIns="41040" bIns="41040" anchor="t">
              <a:noAutofit/>
            </a:bodyPr>
            <a:p>
              <a:endParaRPr b="0" lang="en-US" sz="1800" spc="-1" strike="noStrike">
                <a:solidFill>
                  <a:srgbClr val="000000"/>
                </a:solidFill>
                <a:latin typeface="Calibri"/>
              </a:endParaRPr>
            </a:p>
          </p:txBody>
        </p:sp>
        <p:sp>
          <p:nvSpPr>
            <p:cNvPr id="571" name="Shape 1185"/>
            <p:cNvSpPr/>
            <p:nvPr/>
          </p:nvSpPr>
          <p:spPr>
            <a:xfrm>
              <a:off x="6595920" y="2739240"/>
              <a:ext cx="17640" cy="16560"/>
            </a:xfrm>
            <a:custGeom>
              <a:avLst/>
              <a:gdLst/>
              <a:ahLst/>
              <a:rect l="l" t="t" r="r" b="b"/>
              <a:pathLst>
                <a:path w="14399" h="17851">
                  <a:moveTo>
                    <a:pt x="12956" y="17280"/>
                  </a:moveTo>
                  <a:cubicBezTo>
                    <a:pt x="6784" y="21600"/>
                    <a:pt x="-2473" y="0"/>
                    <a:pt x="613" y="0"/>
                  </a:cubicBezTo>
                  <a:cubicBezTo>
                    <a:pt x="3698" y="4320"/>
                    <a:pt x="19127" y="12960"/>
                    <a:pt x="12956"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572" name="Shape 1186"/>
            <p:cNvSpPr/>
            <p:nvPr/>
          </p:nvSpPr>
          <p:spPr>
            <a:xfrm>
              <a:off x="6584760" y="2746800"/>
              <a:ext cx="11520" cy="13680"/>
            </a:xfrm>
            <a:custGeom>
              <a:avLst/>
              <a:gdLst/>
              <a:ahLst/>
              <a:rect l="l" t="t" r="r" b="b"/>
              <a:pathLst>
                <a:path w="17287" h="14699">
                  <a:moveTo>
                    <a:pt x="16200" y="13829"/>
                  </a:moveTo>
                  <a:cubicBezTo>
                    <a:pt x="5400" y="18149"/>
                    <a:pt x="0" y="5189"/>
                    <a:pt x="0" y="869"/>
                  </a:cubicBezTo>
                  <a:cubicBezTo>
                    <a:pt x="5400" y="-3451"/>
                    <a:pt x="21600" y="9509"/>
                    <a:pt x="16200" y="13829"/>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573" name="Shape 1187"/>
            <p:cNvSpPr/>
            <p:nvPr/>
          </p:nvSpPr>
          <p:spPr>
            <a:xfrm>
              <a:off x="6550560" y="2670840"/>
              <a:ext cx="9720" cy="18720"/>
            </a:xfrm>
            <a:custGeom>
              <a:avLst/>
              <a:gdLst/>
              <a:ahLst/>
              <a:rect l="l" t="t" r="r" b="b"/>
              <a:pathLst>
                <a:path w="17600" h="16899">
                  <a:moveTo>
                    <a:pt x="17600" y="15408"/>
                  </a:moveTo>
                  <a:cubicBezTo>
                    <a:pt x="17600" y="11808"/>
                    <a:pt x="17600" y="8208"/>
                    <a:pt x="17600" y="4608"/>
                  </a:cubicBezTo>
                  <a:cubicBezTo>
                    <a:pt x="17600" y="4608"/>
                    <a:pt x="3200" y="-2592"/>
                    <a:pt x="3200" y="1008"/>
                  </a:cubicBezTo>
                  <a:cubicBezTo>
                    <a:pt x="3200" y="4608"/>
                    <a:pt x="-4000" y="11808"/>
                    <a:pt x="3200" y="11808"/>
                  </a:cubicBezTo>
                  <a:cubicBezTo>
                    <a:pt x="3200" y="15408"/>
                    <a:pt x="10400" y="19008"/>
                    <a:pt x="17600" y="15408"/>
                  </a:cubicBezTo>
                  <a:cubicBezTo>
                    <a:pt x="17600" y="11808"/>
                    <a:pt x="10400" y="19008"/>
                    <a:pt x="17600" y="15408"/>
                  </a:cubicBezTo>
                  <a:close/>
                </a:path>
              </a:pathLst>
            </a:custGeom>
            <a:solidFill>
              <a:srgbClr val="dadbdf"/>
            </a:solidFill>
            <a:ln w="4680">
              <a:solidFill>
                <a:srgbClr val="ffffff"/>
              </a:solidFill>
              <a:round/>
            </a:ln>
          </p:spPr>
          <p:style>
            <a:lnRef idx="0"/>
            <a:fillRef idx="0"/>
            <a:effectRef idx="0"/>
            <a:fontRef idx="minor"/>
          </p:style>
          <p:txBody>
            <a:bodyPr lIns="45360" rIns="45360" tIns="-28080" bIns="-28080" anchor="t">
              <a:noAutofit/>
            </a:bodyPr>
            <a:p>
              <a:endParaRPr b="0" lang="en-US" sz="1800" spc="-1" strike="noStrike">
                <a:solidFill>
                  <a:srgbClr val="000000"/>
                </a:solidFill>
                <a:latin typeface="Calibri"/>
              </a:endParaRPr>
            </a:p>
          </p:txBody>
        </p:sp>
        <p:sp>
          <p:nvSpPr>
            <p:cNvPr id="574" name="Shape 1188"/>
            <p:cNvSpPr/>
            <p:nvPr/>
          </p:nvSpPr>
          <p:spPr>
            <a:xfrm>
              <a:off x="6489000" y="2467080"/>
              <a:ext cx="565920" cy="409680"/>
            </a:xfrm>
            <a:custGeom>
              <a:avLst/>
              <a:gdLst/>
              <a:ahLst/>
              <a:rect l="l" t="t" r="r" b="b"/>
              <a:pathLst>
                <a:path w="21491" h="21240">
                  <a:moveTo>
                    <a:pt x="11550" y="16797"/>
                  </a:moveTo>
                  <a:cubicBezTo>
                    <a:pt x="11400" y="17414"/>
                    <a:pt x="11100" y="16797"/>
                    <a:pt x="10650" y="17003"/>
                  </a:cubicBezTo>
                  <a:cubicBezTo>
                    <a:pt x="10500" y="17003"/>
                    <a:pt x="10350" y="17209"/>
                    <a:pt x="10200" y="17414"/>
                  </a:cubicBezTo>
                  <a:cubicBezTo>
                    <a:pt x="9900" y="17620"/>
                    <a:pt x="9750" y="17414"/>
                    <a:pt x="9450" y="17414"/>
                  </a:cubicBezTo>
                  <a:cubicBezTo>
                    <a:pt x="9000" y="17209"/>
                    <a:pt x="8400" y="16797"/>
                    <a:pt x="9000" y="16180"/>
                  </a:cubicBezTo>
                  <a:cubicBezTo>
                    <a:pt x="9300" y="15769"/>
                    <a:pt x="9300" y="15357"/>
                    <a:pt x="9750" y="15357"/>
                  </a:cubicBezTo>
                  <a:cubicBezTo>
                    <a:pt x="10200" y="15563"/>
                    <a:pt x="10650" y="15769"/>
                    <a:pt x="11250" y="15563"/>
                  </a:cubicBezTo>
                  <a:cubicBezTo>
                    <a:pt x="11550" y="15563"/>
                    <a:pt x="11850" y="15357"/>
                    <a:pt x="12150" y="15357"/>
                  </a:cubicBezTo>
                  <a:cubicBezTo>
                    <a:pt x="12300" y="15357"/>
                    <a:pt x="12150" y="15152"/>
                    <a:pt x="12150" y="14946"/>
                  </a:cubicBezTo>
                  <a:cubicBezTo>
                    <a:pt x="11700" y="14534"/>
                    <a:pt x="11550" y="14329"/>
                    <a:pt x="12000" y="13917"/>
                  </a:cubicBezTo>
                  <a:cubicBezTo>
                    <a:pt x="12300" y="13300"/>
                    <a:pt x="12600" y="13300"/>
                    <a:pt x="13050" y="13300"/>
                  </a:cubicBezTo>
                  <a:cubicBezTo>
                    <a:pt x="13200" y="13300"/>
                    <a:pt x="13500" y="13300"/>
                    <a:pt x="13650" y="13506"/>
                  </a:cubicBezTo>
                  <a:cubicBezTo>
                    <a:pt x="13950" y="13712"/>
                    <a:pt x="13950" y="13917"/>
                    <a:pt x="13950" y="14329"/>
                  </a:cubicBezTo>
                  <a:cubicBezTo>
                    <a:pt x="14100" y="14740"/>
                    <a:pt x="14250" y="14123"/>
                    <a:pt x="14400" y="14123"/>
                  </a:cubicBezTo>
                  <a:cubicBezTo>
                    <a:pt x="14400" y="13917"/>
                    <a:pt x="14850" y="14123"/>
                    <a:pt x="14850" y="14123"/>
                  </a:cubicBezTo>
                  <a:cubicBezTo>
                    <a:pt x="15000" y="14123"/>
                    <a:pt x="15450" y="14123"/>
                    <a:pt x="15450" y="13712"/>
                  </a:cubicBezTo>
                  <a:cubicBezTo>
                    <a:pt x="15450" y="13506"/>
                    <a:pt x="15000" y="13300"/>
                    <a:pt x="14850" y="13300"/>
                  </a:cubicBezTo>
                  <a:cubicBezTo>
                    <a:pt x="14550" y="13094"/>
                    <a:pt x="14400" y="12889"/>
                    <a:pt x="14250" y="12683"/>
                  </a:cubicBezTo>
                  <a:cubicBezTo>
                    <a:pt x="14100" y="12683"/>
                    <a:pt x="13950" y="13094"/>
                    <a:pt x="13950" y="13300"/>
                  </a:cubicBezTo>
                  <a:cubicBezTo>
                    <a:pt x="13800" y="13506"/>
                    <a:pt x="13200" y="13300"/>
                    <a:pt x="13050" y="13300"/>
                  </a:cubicBezTo>
                  <a:cubicBezTo>
                    <a:pt x="12150" y="13094"/>
                    <a:pt x="13350" y="12683"/>
                    <a:pt x="13200" y="12272"/>
                  </a:cubicBezTo>
                  <a:cubicBezTo>
                    <a:pt x="13050" y="11654"/>
                    <a:pt x="12900" y="10832"/>
                    <a:pt x="12600" y="10420"/>
                  </a:cubicBezTo>
                  <a:cubicBezTo>
                    <a:pt x="12450" y="10420"/>
                    <a:pt x="12150" y="10626"/>
                    <a:pt x="12150" y="10420"/>
                  </a:cubicBezTo>
                  <a:cubicBezTo>
                    <a:pt x="12150" y="10214"/>
                    <a:pt x="12150" y="9803"/>
                    <a:pt x="12000" y="9597"/>
                  </a:cubicBezTo>
                  <a:cubicBezTo>
                    <a:pt x="11850" y="9392"/>
                    <a:pt x="11700" y="10626"/>
                    <a:pt x="11850" y="10626"/>
                  </a:cubicBezTo>
                  <a:cubicBezTo>
                    <a:pt x="11700" y="10626"/>
                    <a:pt x="11250" y="9186"/>
                    <a:pt x="11250" y="9186"/>
                  </a:cubicBezTo>
                  <a:cubicBezTo>
                    <a:pt x="10950" y="9186"/>
                    <a:pt x="10800" y="9392"/>
                    <a:pt x="10650" y="9597"/>
                  </a:cubicBezTo>
                  <a:cubicBezTo>
                    <a:pt x="10500" y="9597"/>
                    <a:pt x="10050" y="10009"/>
                    <a:pt x="10050" y="9803"/>
                  </a:cubicBezTo>
                  <a:cubicBezTo>
                    <a:pt x="10050" y="9186"/>
                    <a:pt x="9900" y="9186"/>
                    <a:pt x="10350" y="9186"/>
                  </a:cubicBezTo>
                  <a:cubicBezTo>
                    <a:pt x="10500" y="9186"/>
                    <a:pt x="10650" y="8980"/>
                    <a:pt x="10650" y="8774"/>
                  </a:cubicBezTo>
                  <a:cubicBezTo>
                    <a:pt x="10800" y="8569"/>
                    <a:pt x="10350" y="8569"/>
                    <a:pt x="10350" y="8569"/>
                  </a:cubicBezTo>
                  <a:cubicBezTo>
                    <a:pt x="10200" y="8363"/>
                    <a:pt x="9600" y="7952"/>
                    <a:pt x="9600" y="7952"/>
                  </a:cubicBezTo>
                  <a:cubicBezTo>
                    <a:pt x="9600" y="7334"/>
                    <a:pt x="9450" y="7746"/>
                    <a:pt x="9300" y="7746"/>
                  </a:cubicBezTo>
                  <a:cubicBezTo>
                    <a:pt x="9150" y="7746"/>
                    <a:pt x="9300" y="6717"/>
                    <a:pt x="9000" y="6923"/>
                  </a:cubicBezTo>
                  <a:cubicBezTo>
                    <a:pt x="8850" y="6923"/>
                    <a:pt x="8850" y="7129"/>
                    <a:pt x="8550" y="6717"/>
                  </a:cubicBezTo>
                  <a:cubicBezTo>
                    <a:pt x="8400" y="6717"/>
                    <a:pt x="8250" y="6306"/>
                    <a:pt x="8100" y="6306"/>
                  </a:cubicBezTo>
                  <a:cubicBezTo>
                    <a:pt x="8100" y="6306"/>
                    <a:pt x="8250" y="6512"/>
                    <a:pt x="8250" y="6512"/>
                  </a:cubicBezTo>
                  <a:cubicBezTo>
                    <a:pt x="8250" y="6512"/>
                    <a:pt x="7800" y="6512"/>
                    <a:pt x="7800" y="6717"/>
                  </a:cubicBezTo>
                  <a:cubicBezTo>
                    <a:pt x="7950" y="6923"/>
                    <a:pt x="8250" y="6717"/>
                    <a:pt x="8400" y="7129"/>
                  </a:cubicBezTo>
                  <a:cubicBezTo>
                    <a:pt x="8400" y="7540"/>
                    <a:pt x="8100" y="7540"/>
                    <a:pt x="7950" y="7540"/>
                  </a:cubicBezTo>
                  <a:cubicBezTo>
                    <a:pt x="7650" y="7746"/>
                    <a:pt x="6900" y="6923"/>
                    <a:pt x="6600" y="7334"/>
                  </a:cubicBezTo>
                  <a:cubicBezTo>
                    <a:pt x="6450" y="7334"/>
                    <a:pt x="6750" y="7540"/>
                    <a:pt x="6900" y="7746"/>
                  </a:cubicBezTo>
                  <a:cubicBezTo>
                    <a:pt x="6900" y="7952"/>
                    <a:pt x="7050" y="7746"/>
                    <a:pt x="7200" y="7746"/>
                  </a:cubicBezTo>
                  <a:cubicBezTo>
                    <a:pt x="7350" y="7746"/>
                    <a:pt x="7800" y="7540"/>
                    <a:pt x="7800" y="7746"/>
                  </a:cubicBezTo>
                  <a:cubicBezTo>
                    <a:pt x="7800" y="7952"/>
                    <a:pt x="7650" y="8157"/>
                    <a:pt x="7500" y="8363"/>
                  </a:cubicBezTo>
                  <a:cubicBezTo>
                    <a:pt x="7500" y="8363"/>
                    <a:pt x="5850" y="6923"/>
                    <a:pt x="5550" y="7129"/>
                  </a:cubicBezTo>
                  <a:cubicBezTo>
                    <a:pt x="5700" y="7129"/>
                    <a:pt x="5850" y="7334"/>
                    <a:pt x="6000" y="7334"/>
                  </a:cubicBezTo>
                  <a:cubicBezTo>
                    <a:pt x="6300" y="7746"/>
                    <a:pt x="5550" y="7540"/>
                    <a:pt x="5550" y="7540"/>
                  </a:cubicBezTo>
                  <a:cubicBezTo>
                    <a:pt x="5100" y="7129"/>
                    <a:pt x="4500" y="7540"/>
                    <a:pt x="4050" y="7334"/>
                  </a:cubicBezTo>
                  <a:cubicBezTo>
                    <a:pt x="3450" y="7129"/>
                    <a:pt x="3000" y="7334"/>
                    <a:pt x="2550" y="6717"/>
                  </a:cubicBezTo>
                  <a:cubicBezTo>
                    <a:pt x="2100" y="6306"/>
                    <a:pt x="1800" y="6923"/>
                    <a:pt x="1350" y="6717"/>
                  </a:cubicBezTo>
                  <a:cubicBezTo>
                    <a:pt x="1200" y="6512"/>
                    <a:pt x="900" y="6512"/>
                    <a:pt x="750" y="6306"/>
                  </a:cubicBezTo>
                  <a:cubicBezTo>
                    <a:pt x="750" y="6100"/>
                    <a:pt x="300" y="5483"/>
                    <a:pt x="600" y="5483"/>
                  </a:cubicBezTo>
                  <a:cubicBezTo>
                    <a:pt x="1050" y="5483"/>
                    <a:pt x="1650" y="6100"/>
                    <a:pt x="2100" y="5689"/>
                  </a:cubicBezTo>
                  <a:cubicBezTo>
                    <a:pt x="2250" y="5483"/>
                    <a:pt x="1950" y="5277"/>
                    <a:pt x="1950" y="5277"/>
                  </a:cubicBezTo>
                  <a:cubicBezTo>
                    <a:pt x="1650" y="5072"/>
                    <a:pt x="1350" y="5072"/>
                    <a:pt x="1200" y="5072"/>
                  </a:cubicBezTo>
                  <a:cubicBezTo>
                    <a:pt x="750" y="5072"/>
                    <a:pt x="0" y="5072"/>
                    <a:pt x="0" y="4454"/>
                  </a:cubicBezTo>
                  <a:cubicBezTo>
                    <a:pt x="0" y="3632"/>
                    <a:pt x="0" y="3014"/>
                    <a:pt x="300" y="2192"/>
                  </a:cubicBezTo>
                  <a:cubicBezTo>
                    <a:pt x="450" y="1574"/>
                    <a:pt x="900" y="1163"/>
                    <a:pt x="1350" y="752"/>
                  </a:cubicBezTo>
                  <a:cubicBezTo>
                    <a:pt x="1650" y="340"/>
                    <a:pt x="1950" y="340"/>
                    <a:pt x="2400" y="134"/>
                  </a:cubicBezTo>
                  <a:cubicBezTo>
                    <a:pt x="2700" y="134"/>
                    <a:pt x="3600" y="-277"/>
                    <a:pt x="3750" y="340"/>
                  </a:cubicBezTo>
                  <a:cubicBezTo>
                    <a:pt x="3750" y="134"/>
                    <a:pt x="3000" y="1163"/>
                    <a:pt x="2850" y="1163"/>
                  </a:cubicBezTo>
                  <a:cubicBezTo>
                    <a:pt x="2550" y="1574"/>
                    <a:pt x="2250" y="1986"/>
                    <a:pt x="2550" y="2397"/>
                  </a:cubicBezTo>
                  <a:cubicBezTo>
                    <a:pt x="2850" y="2809"/>
                    <a:pt x="2550" y="3014"/>
                    <a:pt x="2700" y="3426"/>
                  </a:cubicBezTo>
                  <a:cubicBezTo>
                    <a:pt x="2700" y="3837"/>
                    <a:pt x="3000" y="4043"/>
                    <a:pt x="3150" y="4249"/>
                  </a:cubicBezTo>
                  <a:cubicBezTo>
                    <a:pt x="3300" y="4454"/>
                    <a:pt x="3600" y="4660"/>
                    <a:pt x="3750" y="4866"/>
                  </a:cubicBezTo>
                  <a:cubicBezTo>
                    <a:pt x="3900" y="5072"/>
                    <a:pt x="3300" y="5072"/>
                    <a:pt x="3300" y="5277"/>
                  </a:cubicBezTo>
                  <a:cubicBezTo>
                    <a:pt x="3300" y="5072"/>
                    <a:pt x="3900" y="5689"/>
                    <a:pt x="3900" y="5689"/>
                  </a:cubicBezTo>
                  <a:cubicBezTo>
                    <a:pt x="4050" y="5483"/>
                    <a:pt x="3900" y="5072"/>
                    <a:pt x="3900" y="4866"/>
                  </a:cubicBezTo>
                  <a:cubicBezTo>
                    <a:pt x="3900" y="4866"/>
                    <a:pt x="4200" y="4660"/>
                    <a:pt x="4050" y="4454"/>
                  </a:cubicBezTo>
                  <a:cubicBezTo>
                    <a:pt x="3900" y="4249"/>
                    <a:pt x="3300" y="4043"/>
                    <a:pt x="3150" y="3837"/>
                  </a:cubicBezTo>
                  <a:cubicBezTo>
                    <a:pt x="3000" y="3837"/>
                    <a:pt x="2850" y="3632"/>
                    <a:pt x="3000" y="3632"/>
                  </a:cubicBezTo>
                  <a:cubicBezTo>
                    <a:pt x="3300" y="3632"/>
                    <a:pt x="3300" y="3426"/>
                    <a:pt x="3450" y="3220"/>
                  </a:cubicBezTo>
                  <a:cubicBezTo>
                    <a:pt x="3750" y="3014"/>
                    <a:pt x="4200" y="3426"/>
                    <a:pt x="4350" y="3632"/>
                  </a:cubicBezTo>
                  <a:cubicBezTo>
                    <a:pt x="4200" y="3426"/>
                    <a:pt x="4050" y="3220"/>
                    <a:pt x="4050" y="3014"/>
                  </a:cubicBezTo>
                  <a:cubicBezTo>
                    <a:pt x="4050" y="2603"/>
                    <a:pt x="3300" y="2809"/>
                    <a:pt x="3300" y="2397"/>
                  </a:cubicBezTo>
                  <a:cubicBezTo>
                    <a:pt x="3000" y="1163"/>
                    <a:pt x="4350" y="2192"/>
                    <a:pt x="4350" y="2192"/>
                  </a:cubicBezTo>
                  <a:cubicBezTo>
                    <a:pt x="4350" y="1986"/>
                    <a:pt x="3450" y="1574"/>
                    <a:pt x="3450" y="1574"/>
                  </a:cubicBezTo>
                  <a:cubicBezTo>
                    <a:pt x="3450" y="1369"/>
                    <a:pt x="4200" y="1574"/>
                    <a:pt x="4200" y="1574"/>
                  </a:cubicBezTo>
                  <a:cubicBezTo>
                    <a:pt x="4200" y="1369"/>
                    <a:pt x="3750" y="1163"/>
                    <a:pt x="3750" y="1163"/>
                  </a:cubicBezTo>
                  <a:cubicBezTo>
                    <a:pt x="3600" y="957"/>
                    <a:pt x="3750" y="957"/>
                    <a:pt x="3900" y="957"/>
                  </a:cubicBezTo>
                  <a:cubicBezTo>
                    <a:pt x="4050" y="1163"/>
                    <a:pt x="4050" y="957"/>
                    <a:pt x="4200" y="957"/>
                  </a:cubicBezTo>
                  <a:cubicBezTo>
                    <a:pt x="4500" y="752"/>
                    <a:pt x="4500" y="957"/>
                    <a:pt x="4800" y="957"/>
                  </a:cubicBezTo>
                  <a:cubicBezTo>
                    <a:pt x="4350" y="752"/>
                    <a:pt x="4950" y="340"/>
                    <a:pt x="5100" y="340"/>
                  </a:cubicBezTo>
                  <a:cubicBezTo>
                    <a:pt x="5400" y="134"/>
                    <a:pt x="6300" y="134"/>
                    <a:pt x="6450" y="546"/>
                  </a:cubicBezTo>
                  <a:cubicBezTo>
                    <a:pt x="6600" y="752"/>
                    <a:pt x="6600" y="957"/>
                    <a:pt x="6600" y="1163"/>
                  </a:cubicBezTo>
                  <a:cubicBezTo>
                    <a:pt x="6750" y="1369"/>
                    <a:pt x="6900" y="1574"/>
                    <a:pt x="7050" y="1780"/>
                  </a:cubicBezTo>
                  <a:cubicBezTo>
                    <a:pt x="7200" y="2192"/>
                    <a:pt x="6450" y="3014"/>
                    <a:pt x="6450" y="3014"/>
                  </a:cubicBezTo>
                  <a:cubicBezTo>
                    <a:pt x="6600" y="3220"/>
                    <a:pt x="6900" y="2603"/>
                    <a:pt x="7050" y="2603"/>
                  </a:cubicBezTo>
                  <a:cubicBezTo>
                    <a:pt x="7050" y="2603"/>
                    <a:pt x="6750" y="3837"/>
                    <a:pt x="6900" y="3632"/>
                  </a:cubicBezTo>
                  <a:cubicBezTo>
                    <a:pt x="7050" y="3632"/>
                    <a:pt x="7050" y="3220"/>
                    <a:pt x="7200" y="3220"/>
                  </a:cubicBezTo>
                  <a:cubicBezTo>
                    <a:pt x="7500" y="3220"/>
                    <a:pt x="7500" y="3426"/>
                    <a:pt x="7800" y="3014"/>
                  </a:cubicBezTo>
                  <a:cubicBezTo>
                    <a:pt x="7950" y="2809"/>
                    <a:pt x="7950" y="3014"/>
                    <a:pt x="8100" y="3220"/>
                  </a:cubicBezTo>
                  <a:cubicBezTo>
                    <a:pt x="8250" y="3426"/>
                    <a:pt x="8100" y="3426"/>
                    <a:pt x="8100" y="3632"/>
                  </a:cubicBezTo>
                  <a:cubicBezTo>
                    <a:pt x="8100" y="3837"/>
                    <a:pt x="8850" y="4043"/>
                    <a:pt x="9000" y="4043"/>
                  </a:cubicBezTo>
                  <a:cubicBezTo>
                    <a:pt x="9000" y="4043"/>
                    <a:pt x="8250" y="3014"/>
                    <a:pt x="8100" y="2809"/>
                  </a:cubicBezTo>
                  <a:cubicBezTo>
                    <a:pt x="8100" y="2809"/>
                    <a:pt x="9450" y="3426"/>
                    <a:pt x="9450" y="3220"/>
                  </a:cubicBezTo>
                  <a:cubicBezTo>
                    <a:pt x="9450" y="3220"/>
                    <a:pt x="8550" y="3014"/>
                    <a:pt x="8550" y="2603"/>
                  </a:cubicBezTo>
                  <a:cubicBezTo>
                    <a:pt x="8550" y="2397"/>
                    <a:pt x="9000" y="2192"/>
                    <a:pt x="9150" y="2192"/>
                  </a:cubicBezTo>
                  <a:cubicBezTo>
                    <a:pt x="9450" y="1986"/>
                    <a:pt x="9600" y="2192"/>
                    <a:pt x="9900" y="2397"/>
                  </a:cubicBezTo>
                  <a:cubicBezTo>
                    <a:pt x="10350" y="2603"/>
                    <a:pt x="10950" y="2397"/>
                    <a:pt x="11100" y="3220"/>
                  </a:cubicBezTo>
                  <a:cubicBezTo>
                    <a:pt x="11100" y="3220"/>
                    <a:pt x="10050" y="3220"/>
                    <a:pt x="10200" y="3837"/>
                  </a:cubicBezTo>
                  <a:cubicBezTo>
                    <a:pt x="10200" y="3632"/>
                    <a:pt x="10650" y="3426"/>
                    <a:pt x="10650" y="3426"/>
                  </a:cubicBezTo>
                  <a:cubicBezTo>
                    <a:pt x="10950" y="3426"/>
                    <a:pt x="10500" y="3837"/>
                    <a:pt x="10500" y="4043"/>
                  </a:cubicBezTo>
                  <a:cubicBezTo>
                    <a:pt x="10500" y="4043"/>
                    <a:pt x="10950" y="3632"/>
                    <a:pt x="10950" y="3632"/>
                  </a:cubicBezTo>
                  <a:cubicBezTo>
                    <a:pt x="10950" y="3426"/>
                    <a:pt x="11550" y="3426"/>
                    <a:pt x="11700" y="3632"/>
                  </a:cubicBezTo>
                  <a:cubicBezTo>
                    <a:pt x="12300" y="3632"/>
                    <a:pt x="10950" y="4249"/>
                    <a:pt x="11100" y="4454"/>
                  </a:cubicBezTo>
                  <a:cubicBezTo>
                    <a:pt x="11100" y="4454"/>
                    <a:pt x="11400" y="4043"/>
                    <a:pt x="11400" y="4249"/>
                  </a:cubicBezTo>
                  <a:cubicBezTo>
                    <a:pt x="11400" y="4454"/>
                    <a:pt x="11100" y="4866"/>
                    <a:pt x="11250" y="5072"/>
                  </a:cubicBezTo>
                  <a:cubicBezTo>
                    <a:pt x="11100" y="4866"/>
                    <a:pt x="11700" y="4043"/>
                    <a:pt x="11850" y="4249"/>
                  </a:cubicBezTo>
                  <a:cubicBezTo>
                    <a:pt x="11850" y="4660"/>
                    <a:pt x="11700" y="5072"/>
                    <a:pt x="11850" y="5277"/>
                  </a:cubicBezTo>
                  <a:cubicBezTo>
                    <a:pt x="11850" y="5277"/>
                    <a:pt x="11850" y="4454"/>
                    <a:pt x="12150" y="4454"/>
                  </a:cubicBezTo>
                  <a:cubicBezTo>
                    <a:pt x="12450" y="4660"/>
                    <a:pt x="12000" y="5277"/>
                    <a:pt x="12150" y="5483"/>
                  </a:cubicBezTo>
                  <a:cubicBezTo>
                    <a:pt x="12150" y="5483"/>
                    <a:pt x="12300" y="4866"/>
                    <a:pt x="12450" y="4866"/>
                  </a:cubicBezTo>
                  <a:cubicBezTo>
                    <a:pt x="12450" y="4866"/>
                    <a:pt x="12300" y="5483"/>
                    <a:pt x="12450" y="5483"/>
                  </a:cubicBezTo>
                  <a:cubicBezTo>
                    <a:pt x="12300" y="5483"/>
                    <a:pt x="12750" y="4660"/>
                    <a:pt x="12900" y="4454"/>
                  </a:cubicBezTo>
                  <a:cubicBezTo>
                    <a:pt x="13050" y="4249"/>
                    <a:pt x="13500" y="4454"/>
                    <a:pt x="13650" y="4660"/>
                  </a:cubicBezTo>
                  <a:cubicBezTo>
                    <a:pt x="13950" y="4866"/>
                    <a:pt x="14100" y="5277"/>
                    <a:pt x="13650" y="5277"/>
                  </a:cubicBezTo>
                  <a:cubicBezTo>
                    <a:pt x="13500" y="5277"/>
                    <a:pt x="12900" y="5277"/>
                    <a:pt x="12900" y="5894"/>
                  </a:cubicBezTo>
                  <a:cubicBezTo>
                    <a:pt x="12900" y="5689"/>
                    <a:pt x="13800" y="5277"/>
                    <a:pt x="13800" y="5483"/>
                  </a:cubicBezTo>
                  <a:cubicBezTo>
                    <a:pt x="13800" y="5483"/>
                    <a:pt x="13200" y="5894"/>
                    <a:pt x="13200" y="6100"/>
                  </a:cubicBezTo>
                  <a:cubicBezTo>
                    <a:pt x="13200" y="5894"/>
                    <a:pt x="13800" y="5894"/>
                    <a:pt x="13800" y="5894"/>
                  </a:cubicBezTo>
                  <a:cubicBezTo>
                    <a:pt x="13950" y="5689"/>
                    <a:pt x="14250" y="5072"/>
                    <a:pt x="14400" y="5277"/>
                  </a:cubicBezTo>
                  <a:cubicBezTo>
                    <a:pt x="14550" y="5689"/>
                    <a:pt x="14400" y="6100"/>
                    <a:pt x="14100" y="6100"/>
                  </a:cubicBezTo>
                  <a:cubicBezTo>
                    <a:pt x="13950" y="6306"/>
                    <a:pt x="13800" y="6512"/>
                    <a:pt x="13650" y="6717"/>
                  </a:cubicBezTo>
                  <a:cubicBezTo>
                    <a:pt x="13650" y="6717"/>
                    <a:pt x="13950" y="6306"/>
                    <a:pt x="14100" y="6306"/>
                  </a:cubicBezTo>
                  <a:cubicBezTo>
                    <a:pt x="14100" y="6306"/>
                    <a:pt x="13950" y="7129"/>
                    <a:pt x="13950" y="7129"/>
                  </a:cubicBezTo>
                  <a:cubicBezTo>
                    <a:pt x="13800" y="6717"/>
                    <a:pt x="14850" y="5277"/>
                    <a:pt x="15000" y="5689"/>
                  </a:cubicBezTo>
                  <a:cubicBezTo>
                    <a:pt x="15150" y="5894"/>
                    <a:pt x="14850" y="6100"/>
                    <a:pt x="14700" y="6100"/>
                  </a:cubicBezTo>
                  <a:cubicBezTo>
                    <a:pt x="14850" y="6100"/>
                    <a:pt x="15300" y="6100"/>
                    <a:pt x="15450" y="6100"/>
                  </a:cubicBezTo>
                  <a:cubicBezTo>
                    <a:pt x="15600" y="6100"/>
                    <a:pt x="15900" y="6100"/>
                    <a:pt x="16050" y="6306"/>
                  </a:cubicBezTo>
                  <a:cubicBezTo>
                    <a:pt x="16200" y="6923"/>
                    <a:pt x="14700" y="6923"/>
                    <a:pt x="14850" y="7540"/>
                  </a:cubicBezTo>
                  <a:cubicBezTo>
                    <a:pt x="14850" y="7540"/>
                    <a:pt x="15300" y="6923"/>
                    <a:pt x="15450" y="6923"/>
                  </a:cubicBezTo>
                  <a:cubicBezTo>
                    <a:pt x="15600" y="6923"/>
                    <a:pt x="15900" y="6923"/>
                    <a:pt x="15900" y="7129"/>
                  </a:cubicBezTo>
                  <a:cubicBezTo>
                    <a:pt x="16050" y="7334"/>
                    <a:pt x="15150" y="7746"/>
                    <a:pt x="15150" y="7746"/>
                  </a:cubicBezTo>
                  <a:cubicBezTo>
                    <a:pt x="15150" y="7746"/>
                    <a:pt x="15600" y="7540"/>
                    <a:pt x="15600" y="7540"/>
                  </a:cubicBezTo>
                  <a:cubicBezTo>
                    <a:pt x="15750" y="7540"/>
                    <a:pt x="16050" y="7334"/>
                    <a:pt x="16200" y="7129"/>
                  </a:cubicBezTo>
                  <a:cubicBezTo>
                    <a:pt x="16350" y="7129"/>
                    <a:pt x="16200" y="6923"/>
                    <a:pt x="16350" y="6717"/>
                  </a:cubicBezTo>
                  <a:cubicBezTo>
                    <a:pt x="16500" y="6717"/>
                    <a:pt x="16800" y="7129"/>
                    <a:pt x="16800" y="7334"/>
                  </a:cubicBezTo>
                  <a:cubicBezTo>
                    <a:pt x="17400" y="7952"/>
                    <a:pt x="16800" y="7746"/>
                    <a:pt x="16350" y="7952"/>
                  </a:cubicBezTo>
                  <a:cubicBezTo>
                    <a:pt x="16350" y="7952"/>
                    <a:pt x="15300" y="8363"/>
                    <a:pt x="15300" y="8157"/>
                  </a:cubicBezTo>
                  <a:cubicBezTo>
                    <a:pt x="15300" y="8363"/>
                    <a:pt x="17700" y="8363"/>
                    <a:pt x="17550" y="8774"/>
                  </a:cubicBezTo>
                  <a:cubicBezTo>
                    <a:pt x="17400" y="8980"/>
                    <a:pt x="16650" y="8980"/>
                    <a:pt x="16500" y="8774"/>
                  </a:cubicBezTo>
                  <a:cubicBezTo>
                    <a:pt x="16500" y="8774"/>
                    <a:pt x="15900" y="8980"/>
                    <a:pt x="15900" y="8980"/>
                  </a:cubicBezTo>
                  <a:cubicBezTo>
                    <a:pt x="16050" y="9186"/>
                    <a:pt x="16500" y="8980"/>
                    <a:pt x="16500" y="9186"/>
                  </a:cubicBezTo>
                  <a:cubicBezTo>
                    <a:pt x="16650" y="9186"/>
                    <a:pt x="16050" y="9392"/>
                    <a:pt x="16050" y="9597"/>
                  </a:cubicBezTo>
                  <a:cubicBezTo>
                    <a:pt x="16050" y="10009"/>
                    <a:pt x="16650" y="10214"/>
                    <a:pt x="16800" y="10214"/>
                  </a:cubicBezTo>
                  <a:cubicBezTo>
                    <a:pt x="17100" y="10420"/>
                    <a:pt x="17550" y="10420"/>
                    <a:pt x="17700" y="10832"/>
                  </a:cubicBezTo>
                  <a:cubicBezTo>
                    <a:pt x="17850" y="11037"/>
                    <a:pt x="17850" y="11243"/>
                    <a:pt x="18000" y="11243"/>
                  </a:cubicBezTo>
                  <a:cubicBezTo>
                    <a:pt x="18000" y="11243"/>
                    <a:pt x="18300" y="11037"/>
                    <a:pt x="18300" y="11037"/>
                  </a:cubicBezTo>
                  <a:cubicBezTo>
                    <a:pt x="18300" y="11037"/>
                    <a:pt x="18300" y="11449"/>
                    <a:pt x="18450" y="11449"/>
                  </a:cubicBezTo>
                  <a:cubicBezTo>
                    <a:pt x="18450" y="11449"/>
                    <a:pt x="18450" y="11037"/>
                    <a:pt x="18600" y="11037"/>
                  </a:cubicBezTo>
                  <a:cubicBezTo>
                    <a:pt x="18600" y="11037"/>
                    <a:pt x="18600" y="11449"/>
                    <a:pt x="18600" y="11449"/>
                  </a:cubicBezTo>
                  <a:cubicBezTo>
                    <a:pt x="18600" y="11654"/>
                    <a:pt x="18900" y="11449"/>
                    <a:pt x="19050" y="11449"/>
                  </a:cubicBezTo>
                  <a:cubicBezTo>
                    <a:pt x="19050" y="11449"/>
                    <a:pt x="19350" y="11654"/>
                    <a:pt x="19350" y="11860"/>
                  </a:cubicBezTo>
                  <a:cubicBezTo>
                    <a:pt x="19350" y="12066"/>
                    <a:pt x="19200" y="11860"/>
                    <a:pt x="19200" y="12066"/>
                  </a:cubicBezTo>
                  <a:cubicBezTo>
                    <a:pt x="19350" y="11860"/>
                    <a:pt x="20700" y="12477"/>
                    <a:pt x="20700" y="12477"/>
                  </a:cubicBezTo>
                  <a:cubicBezTo>
                    <a:pt x="20550" y="12683"/>
                    <a:pt x="20550" y="12683"/>
                    <a:pt x="20550" y="12683"/>
                  </a:cubicBezTo>
                  <a:cubicBezTo>
                    <a:pt x="20550" y="12889"/>
                    <a:pt x="20850" y="12683"/>
                    <a:pt x="20850" y="12683"/>
                  </a:cubicBezTo>
                  <a:cubicBezTo>
                    <a:pt x="21000" y="12477"/>
                    <a:pt x="21000" y="12683"/>
                    <a:pt x="21150" y="12889"/>
                  </a:cubicBezTo>
                  <a:cubicBezTo>
                    <a:pt x="21300" y="12889"/>
                    <a:pt x="21600" y="13300"/>
                    <a:pt x="21450" y="13506"/>
                  </a:cubicBezTo>
                  <a:cubicBezTo>
                    <a:pt x="21450" y="13506"/>
                    <a:pt x="21150" y="13506"/>
                    <a:pt x="21150" y="13506"/>
                  </a:cubicBezTo>
                  <a:cubicBezTo>
                    <a:pt x="21150" y="13712"/>
                    <a:pt x="21450" y="13712"/>
                    <a:pt x="21300" y="13917"/>
                  </a:cubicBezTo>
                  <a:cubicBezTo>
                    <a:pt x="21300" y="13917"/>
                    <a:pt x="20850" y="13917"/>
                    <a:pt x="20850" y="13917"/>
                  </a:cubicBezTo>
                  <a:cubicBezTo>
                    <a:pt x="20550" y="14123"/>
                    <a:pt x="20850" y="14123"/>
                    <a:pt x="20850" y="14329"/>
                  </a:cubicBezTo>
                  <a:cubicBezTo>
                    <a:pt x="21000" y="14740"/>
                    <a:pt x="20400" y="14329"/>
                    <a:pt x="20250" y="14329"/>
                  </a:cubicBezTo>
                  <a:cubicBezTo>
                    <a:pt x="20400" y="14534"/>
                    <a:pt x="20700" y="14740"/>
                    <a:pt x="20550" y="14946"/>
                  </a:cubicBezTo>
                  <a:cubicBezTo>
                    <a:pt x="20400" y="14946"/>
                    <a:pt x="19800" y="14946"/>
                    <a:pt x="19950" y="14740"/>
                  </a:cubicBezTo>
                  <a:cubicBezTo>
                    <a:pt x="19800" y="14946"/>
                    <a:pt x="20250" y="15357"/>
                    <a:pt x="20100" y="15563"/>
                  </a:cubicBezTo>
                  <a:cubicBezTo>
                    <a:pt x="19950" y="15563"/>
                    <a:pt x="19950" y="15152"/>
                    <a:pt x="19800" y="15357"/>
                  </a:cubicBezTo>
                  <a:cubicBezTo>
                    <a:pt x="19650" y="15563"/>
                    <a:pt x="20250" y="16592"/>
                    <a:pt x="19650" y="15974"/>
                  </a:cubicBezTo>
                  <a:cubicBezTo>
                    <a:pt x="19650" y="15974"/>
                    <a:pt x="19200" y="15563"/>
                    <a:pt x="19200" y="15563"/>
                  </a:cubicBezTo>
                  <a:cubicBezTo>
                    <a:pt x="19050" y="15769"/>
                    <a:pt x="19050" y="15974"/>
                    <a:pt x="18900" y="15974"/>
                  </a:cubicBezTo>
                  <a:cubicBezTo>
                    <a:pt x="18900" y="15769"/>
                    <a:pt x="19050" y="15563"/>
                    <a:pt x="19050" y="15357"/>
                  </a:cubicBezTo>
                  <a:cubicBezTo>
                    <a:pt x="19050" y="15563"/>
                    <a:pt x="18750" y="15563"/>
                    <a:pt x="18750" y="15563"/>
                  </a:cubicBezTo>
                  <a:cubicBezTo>
                    <a:pt x="18600" y="15357"/>
                    <a:pt x="18900" y="15152"/>
                    <a:pt x="18750" y="14946"/>
                  </a:cubicBezTo>
                  <a:cubicBezTo>
                    <a:pt x="18750" y="14946"/>
                    <a:pt x="18450" y="15152"/>
                    <a:pt x="18450" y="15152"/>
                  </a:cubicBezTo>
                  <a:cubicBezTo>
                    <a:pt x="18300" y="14946"/>
                    <a:pt x="18450" y="14534"/>
                    <a:pt x="18450" y="14534"/>
                  </a:cubicBezTo>
                  <a:cubicBezTo>
                    <a:pt x="18600" y="14534"/>
                    <a:pt x="19200" y="14123"/>
                    <a:pt x="19050" y="14123"/>
                  </a:cubicBezTo>
                  <a:cubicBezTo>
                    <a:pt x="18900" y="13917"/>
                    <a:pt x="18300" y="14740"/>
                    <a:pt x="18000" y="14534"/>
                  </a:cubicBezTo>
                  <a:cubicBezTo>
                    <a:pt x="18000" y="14534"/>
                    <a:pt x="18450" y="13917"/>
                    <a:pt x="18300" y="13917"/>
                  </a:cubicBezTo>
                  <a:cubicBezTo>
                    <a:pt x="18150" y="13917"/>
                    <a:pt x="18000" y="14329"/>
                    <a:pt x="17850" y="14123"/>
                  </a:cubicBezTo>
                  <a:cubicBezTo>
                    <a:pt x="17700" y="13917"/>
                    <a:pt x="17550" y="13917"/>
                    <a:pt x="17400" y="13712"/>
                  </a:cubicBezTo>
                  <a:cubicBezTo>
                    <a:pt x="17250" y="13506"/>
                    <a:pt x="17100" y="13300"/>
                    <a:pt x="16950" y="13506"/>
                  </a:cubicBezTo>
                  <a:cubicBezTo>
                    <a:pt x="16950" y="13712"/>
                    <a:pt x="16950" y="13712"/>
                    <a:pt x="16950" y="13917"/>
                  </a:cubicBezTo>
                  <a:cubicBezTo>
                    <a:pt x="16950" y="13917"/>
                    <a:pt x="16800" y="13917"/>
                    <a:pt x="16800" y="13917"/>
                  </a:cubicBezTo>
                  <a:cubicBezTo>
                    <a:pt x="16800" y="14123"/>
                    <a:pt x="17400" y="14534"/>
                    <a:pt x="16800" y="14534"/>
                  </a:cubicBezTo>
                  <a:cubicBezTo>
                    <a:pt x="16650" y="14534"/>
                    <a:pt x="16050" y="14329"/>
                    <a:pt x="16200" y="14123"/>
                  </a:cubicBezTo>
                  <a:cubicBezTo>
                    <a:pt x="16050" y="14534"/>
                    <a:pt x="16650" y="14946"/>
                    <a:pt x="16800" y="15152"/>
                  </a:cubicBezTo>
                  <a:cubicBezTo>
                    <a:pt x="17100" y="15152"/>
                    <a:pt x="17100" y="15769"/>
                    <a:pt x="17250" y="15974"/>
                  </a:cubicBezTo>
                  <a:cubicBezTo>
                    <a:pt x="17400" y="16180"/>
                    <a:pt x="17400" y="16386"/>
                    <a:pt x="17550" y="16386"/>
                  </a:cubicBezTo>
                  <a:cubicBezTo>
                    <a:pt x="17700" y="16386"/>
                    <a:pt x="17550" y="16180"/>
                    <a:pt x="17700" y="16180"/>
                  </a:cubicBezTo>
                  <a:cubicBezTo>
                    <a:pt x="17700" y="16180"/>
                    <a:pt x="17850" y="16386"/>
                    <a:pt x="17850" y="16592"/>
                  </a:cubicBezTo>
                  <a:cubicBezTo>
                    <a:pt x="18000" y="16797"/>
                    <a:pt x="18000" y="16592"/>
                    <a:pt x="18150" y="16386"/>
                  </a:cubicBezTo>
                  <a:cubicBezTo>
                    <a:pt x="18300" y="16386"/>
                    <a:pt x="18150" y="17209"/>
                    <a:pt x="18300" y="17003"/>
                  </a:cubicBezTo>
                  <a:cubicBezTo>
                    <a:pt x="18450" y="17003"/>
                    <a:pt x="18300" y="16797"/>
                    <a:pt x="18450" y="16592"/>
                  </a:cubicBezTo>
                  <a:cubicBezTo>
                    <a:pt x="18450" y="16592"/>
                    <a:pt x="18450" y="17003"/>
                    <a:pt x="18450" y="17209"/>
                  </a:cubicBezTo>
                  <a:cubicBezTo>
                    <a:pt x="18450" y="17414"/>
                    <a:pt x="18450" y="17414"/>
                    <a:pt x="18600" y="17620"/>
                  </a:cubicBezTo>
                  <a:cubicBezTo>
                    <a:pt x="18750" y="17620"/>
                    <a:pt x="18900" y="17826"/>
                    <a:pt x="18900" y="18032"/>
                  </a:cubicBezTo>
                  <a:cubicBezTo>
                    <a:pt x="19050" y="18032"/>
                    <a:pt x="19200" y="18854"/>
                    <a:pt x="19200" y="18854"/>
                  </a:cubicBezTo>
                  <a:cubicBezTo>
                    <a:pt x="19050" y="18649"/>
                    <a:pt x="19050" y="18443"/>
                    <a:pt x="19050" y="18443"/>
                  </a:cubicBezTo>
                  <a:cubicBezTo>
                    <a:pt x="18900" y="18443"/>
                    <a:pt x="19050" y="19266"/>
                    <a:pt x="19050" y="19266"/>
                  </a:cubicBezTo>
                  <a:cubicBezTo>
                    <a:pt x="19050" y="19266"/>
                    <a:pt x="18750" y="18443"/>
                    <a:pt x="18600" y="18237"/>
                  </a:cubicBezTo>
                  <a:cubicBezTo>
                    <a:pt x="18600" y="18237"/>
                    <a:pt x="18750" y="19060"/>
                    <a:pt x="18900" y="19266"/>
                  </a:cubicBezTo>
                  <a:cubicBezTo>
                    <a:pt x="18900" y="19883"/>
                    <a:pt x="18600" y="19266"/>
                    <a:pt x="18600" y="19472"/>
                  </a:cubicBezTo>
                  <a:cubicBezTo>
                    <a:pt x="18450" y="19677"/>
                    <a:pt x="19200" y="20089"/>
                    <a:pt x="19200" y="20294"/>
                  </a:cubicBezTo>
                  <a:cubicBezTo>
                    <a:pt x="19200" y="20500"/>
                    <a:pt x="17850" y="19266"/>
                    <a:pt x="17700" y="19266"/>
                  </a:cubicBezTo>
                  <a:cubicBezTo>
                    <a:pt x="17700" y="19266"/>
                    <a:pt x="17700" y="19472"/>
                    <a:pt x="17700" y="19472"/>
                  </a:cubicBezTo>
                  <a:cubicBezTo>
                    <a:pt x="17700" y="19677"/>
                    <a:pt x="17400" y="18854"/>
                    <a:pt x="17250" y="18854"/>
                  </a:cubicBezTo>
                  <a:cubicBezTo>
                    <a:pt x="17250" y="18854"/>
                    <a:pt x="17400" y="19266"/>
                    <a:pt x="17400" y="19266"/>
                  </a:cubicBezTo>
                  <a:cubicBezTo>
                    <a:pt x="17250" y="19472"/>
                    <a:pt x="16950" y="18649"/>
                    <a:pt x="16800" y="18443"/>
                  </a:cubicBezTo>
                  <a:cubicBezTo>
                    <a:pt x="16650" y="18237"/>
                    <a:pt x="16650" y="18649"/>
                    <a:pt x="16500" y="18854"/>
                  </a:cubicBezTo>
                  <a:cubicBezTo>
                    <a:pt x="16500" y="19060"/>
                    <a:pt x="16200" y="18237"/>
                    <a:pt x="16200" y="18237"/>
                  </a:cubicBezTo>
                  <a:cubicBezTo>
                    <a:pt x="16200" y="18237"/>
                    <a:pt x="15750" y="18237"/>
                    <a:pt x="15750" y="18237"/>
                  </a:cubicBezTo>
                  <a:cubicBezTo>
                    <a:pt x="15750" y="18443"/>
                    <a:pt x="15900" y="18649"/>
                    <a:pt x="16050" y="18649"/>
                  </a:cubicBezTo>
                  <a:cubicBezTo>
                    <a:pt x="16200" y="18854"/>
                    <a:pt x="16200" y="18854"/>
                    <a:pt x="16350" y="19060"/>
                  </a:cubicBezTo>
                  <a:cubicBezTo>
                    <a:pt x="16500" y="19266"/>
                    <a:pt x="16800" y="19472"/>
                    <a:pt x="17100" y="19677"/>
                  </a:cubicBezTo>
                  <a:cubicBezTo>
                    <a:pt x="17400" y="20089"/>
                    <a:pt x="17550" y="20294"/>
                    <a:pt x="17700" y="20706"/>
                  </a:cubicBezTo>
                  <a:cubicBezTo>
                    <a:pt x="18000" y="21323"/>
                    <a:pt x="18000" y="21323"/>
                    <a:pt x="17550" y="21117"/>
                  </a:cubicBezTo>
                  <a:cubicBezTo>
                    <a:pt x="16950" y="20706"/>
                    <a:pt x="15900" y="20912"/>
                    <a:pt x="15450" y="20089"/>
                  </a:cubicBezTo>
                  <a:cubicBezTo>
                    <a:pt x="15300" y="19677"/>
                    <a:pt x="14850" y="20089"/>
                    <a:pt x="14550" y="19677"/>
                  </a:cubicBezTo>
                  <a:cubicBezTo>
                    <a:pt x="14400" y="19472"/>
                    <a:pt x="13500" y="19060"/>
                    <a:pt x="13500" y="18854"/>
                  </a:cubicBezTo>
                  <a:cubicBezTo>
                    <a:pt x="13500" y="18649"/>
                    <a:pt x="13950" y="18854"/>
                    <a:pt x="13950" y="18649"/>
                  </a:cubicBezTo>
                  <a:cubicBezTo>
                    <a:pt x="14100" y="18443"/>
                    <a:pt x="13650" y="18237"/>
                    <a:pt x="13650" y="18237"/>
                  </a:cubicBezTo>
                  <a:cubicBezTo>
                    <a:pt x="13200" y="18032"/>
                    <a:pt x="12900" y="17620"/>
                    <a:pt x="12600" y="17414"/>
                  </a:cubicBezTo>
                  <a:cubicBezTo>
                    <a:pt x="12450" y="17209"/>
                    <a:pt x="12600" y="17003"/>
                    <a:pt x="12300" y="17003"/>
                  </a:cubicBezTo>
                  <a:cubicBezTo>
                    <a:pt x="12300" y="16797"/>
                    <a:pt x="11550" y="16797"/>
                    <a:pt x="11550" y="16797"/>
                  </a:cubicBezTo>
                  <a:cubicBezTo>
                    <a:pt x="11550" y="17003"/>
                    <a:pt x="11700" y="16592"/>
                    <a:pt x="11550" y="1679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75" name="Shape 1189"/>
            <p:cNvSpPr/>
            <p:nvPr/>
          </p:nvSpPr>
          <p:spPr>
            <a:xfrm>
              <a:off x="6860520" y="2849760"/>
              <a:ext cx="17280" cy="5040"/>
            </a:xfrm>
            <a:custGeom>
              <a:avLst/>
              <a:gdLst/>
              <a:ahLst/>
              <a:rect l="l" t="t" r="r" b="b"/>
              <a:pathLst>
                <a:path w="15591" h="13824">
                  <a:moveTo>
                    <a:pt x="14876" y="10800"/>
                  </a:moveTo>
                  <a:cubicBezTo>
                    <a:pt x="14876" y="21600"/>
                    <a:pt x="-3124" y="0"/>
                    <a:pt x="476" y="0"/>
                  </a:cubicBezTo>
                  <a:cubicBezTo>
                    <a:pt x="7676" y="0"/>
                    <a:pt x="18476" y="0"/>
                    <a:pt x="14876" y="10800"/>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576" name="Shape 1190"/>
            <p:cNvSpPr/>
            <p:nvPr/>
          </p:nvSpPr>
          <p:spPr>
            <a:xfrm>
              <a:off x="6790320" y="2675880"/>
              <a:ext cx="25200" cy="7920"/>
            </a:xfrm>
            <a:custGeom>
              <a:avLst/>
              <a:gdLst/>
              <a:ahLst/>
              <a:rect l="l" t="t" r="r" b="b"/>
              <a:pathLst>
                <a:path w="17011" h="21600">
                  <a:moveTo>
                    <a:pt x="15811" y="10800"/>
                  </a:moveTo>
                  <a:cubicBezTo>
                    <a:pt x="18511" y="21600"/>
                    <a:pt x="5011" y="21600"/>
                    <a:pt x="2311" y="21600"/>
                  </a:cubicBezTo>
                  <a:cubicBezTo>
                    <a:pt x="-3089" y="10800"/>
                    <a:pt x="2311" y="0"/>
                    <a:pt x="5011" y="0"/>
                  </a:cubicBezTo>
                  <a:cubicBezTo>
                    <a:pt x="10411" y="0"/>
                    <a:pt x="15811" y="0"/>
                    <a:pt x="15811" y="10800"/>
                  </a:cubicBezTo>
                  <a:cubicBezTo>
                    <a:pt x="18511" y="21600"/>
                    <a:pt x="15811" y="0"/>
                    <a:pt x="15811" y="108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77" name="Shape 1191"/>
            <p:cNvSpPr/>
            <p:nvPr/>
          </p:nvSpPr>
          <p:spPr>
            <a:xfrm>
              <a:off x="6740640" y="2667960"/>
              <a:ext cx="41040" cy="36000"/>
            </a:xfrm>
            <a:custGeom>
              <a:avLst/>
              <a:gdLst/>
              <a:ahLst/>
              <a:rect l="l" t="t" r="r" b="b"/>
              <a:pathLst>
                <a:path w="18871" h="20029">
                  <a:moveTo>
                    <a:pt x="16909" y="15120"/>
                  </a:moveTo>
                  <a:cubicBezTo>
                    <a:pt x="13309" y="17280"/>
                    <a:pt x="9709" y="21600"/>
                    <a:pt x="4309" y="19440"/>
                  </a:cubicBezTo>
                  <a:cubicBezTo>
                    <a:pt x="-1091" y="15120"/>
                    <a:pt x="-1091" y="8640"/>
                    <a:pt x="2509" y="4320"/>
                  </a:cubicBezTo>
                  <a:cubicBezTo>
                    <a:pt x="4309" y="0"/>
                    <a:pt x="11509" y="0"/>
                    <a:pt x="15109" y="0"/>
                  </a:cubicBezTo>
                  <a:cubicBezTo>
                    <a:pt x="18709" y="0"/>
                    <a:pt x="20509" y="10800"/>
                    <a:pt x="16909" y="15120"/>
                  </a:cubicBezTo>
                  <a:cubicBezTo>
                    <a:pt x="15109" y="17280"/>
                    <a:pt x="20509" y="12960"/>
                    <a:pt x="16909" y="15120"/>
                  </a:cubicBezTo>
                  <a:close/>
                </a:path>
              </a:pathLst>
            </a:custGeom>
            <a:solidFill>
              <a:srgbClr val="dadbdf"/>
            </a:solidFill>
            <a:ln w="4680">
              <a:solidFill>
                <a:srgbClr val="ffffff"/>
              </a:solidFill>
              <a:round/>
            </a:ln>
          </p:spPr>
          <p:style>
            <a:lnRef idx="0"/>
            <a:fillRef idx="0"/>
            <a:effectRef idx="0"/>
            <a:fontRef idx="minor"/>
          </p:style>
          <p:txBody>
            <a:bodyPr lIns="45360" rIns="45360" tIns="-10800" bIns="-10800" anchor="t">
              <a:noAutofit/>
            </a:bodyPr>
            <a:p>
              <a:endParaRPr b="0" lang="en-US" sz="1800" spc="-1" strike="noStrike">
                <a:solidFill>
                  <a:srgbClr val="000000"/>
                </a:solidFill>
                <a:latin typeface="Calibri"/>
              </a:endParaRPr>
            </a:p>
          </p:txBody>
        </p:sp>
        <p:sp>
          <p:nvSpPr>
            <p:cNvPr id="578" name="Shape 1192"/>
            <p:cNvSpPr/>
            <p:nvPr/>
          </p:nvSpPr>
          <p:spPr>
            <a:xfrm>
              <a:off x="6698520" y="2632680"/>
              <a:ext cx="18000" cy="14760"/>
            </a:xfrm>
            <a:custGeom>
              <a:avLst/>
              <a:gdLst/>
              <a:ahLst/>
              <a:rect l="l" t="t" r="r" b="b"/>
              <a:pathLst>
                <a:path w="14516" h="21600">
                  <a:moveTo>
                    <a:pt x="491" y="21600"/>
                  </a:moveTo>
                  <a:cubicBezTo>
                    <a:pt x="-2595" y="21600"/>
                    <a:pt x="9748" y="0"/>
                    <a:pt x="12834" y="0"/>
                  </a:cubicBezTo>
                  <a:cubicBezTo>
                    <a:pt x="19005" y="5400"/>
                    <a:pt x="6662" y="21600"/>
                    <a:pt x="491" y="2160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579" name="Shape 1193"/>
            <p:cNvSpPr/>
            <p:nvPr/>
          </p:nvSpPr>
          <p:spPr>
            <a:xfrm>
              <a:off x="6738840" y="2631960"/>
              <a:ext cx="11520" cy="8640"/>
            </a:xfrm>
            <a:custGeom>
              <a:avLst/>
              <a:gdLst/>
              <a:ahLst/>
              <a:rect l="l" t="t" r="r" b="b"/>
              <a:pathLst>
                <a:path w="10478" h="15869">
                  <a:moveTo>
                    <a:pt x="3200" y="15869"/>
                  </a:moveTo>
                  <a:cubicBezTo>
                    <a:pt x="3200" y="15869"/>
                    <a:pt x="-4000" y="1469"/>
                    <a:pt x="3200" y="1469"/>
                  </a:cubicBezTo>
                  <a:cubicBezTo>
                    <a:pt x="6800" y="-5731"/>
                    <a:pt x="17600" y="15869"/>
                    <a:pt x="3200" y="15869"/>
                  </a:cubicBezTo>
                  <a:close/>
                </a:path>
              </a:pathLst>
            </a:custGeom>
            <a:solidFill>
              <a:srgbClr val="dadbdf"/>
            </a:solidFill>
            <a:ln w="4680">
              <a:solidFill>
                <a:srgbClr val="ffffff"/>
              </a:solidFill>
              <a:round/>
            </a:ln>
          </p:spPr>
          <p:style>
            <a:lnRef idx="0"/>
            <a:fillRef idx="0"/>
            <a:effectRef idx="0"/>
            <a:fontRef idx="minor"/>
          </p:style>
          <p:txBody>
            <a:bodyPr lIns="45360" rIns="45360" tIns="-38160" bIns="-38160" anchor="t">
              <a:noAutofit/>
            </a:bodyPr>
            <a:p>
              <a:endParaRPr b="0" lang="en-US" sz="1800" spc="-1" strike="noStrike">
                <a:solidFill>
                  <a:srgbClr val="000000"/>
                </a:solidFill>
                <a:latin typeface="Calibri"/>
              </a:endParaRPr>
            </a:p>
          </p:txBody>
        </p:sp>
        <p:sp>
          <p:nvSpPr>
            <p:cNvPr id="580" name="Shape 1194"/>
            <p:cNvSpPr/>
            <p:nvPr/>
          </p:nvSpPr>
          <p:spPr>
            <a:xfrm>
              <a:off x="6711480" y="2620800"/>
              <a:ext cx="15840" cy="5400"/>
            </a:xfrm>
            <a:custGeom>
              <a:avLst/>
              <a:gdLst/>
              <a:ahLst/>
              <a:rect l="l" t="t" r="r" b="b"/>
              <a:pathLst>
                <a:path w="18138" h="15274">
                  <a:moveTo>
                    <a:pt x="0" y="10800"/>
                  </a:moveTo>
                  <a:cubicBezTo>
                    <a:pt x="8640" y="21600"/>
                    <a:pt x="21600" y="10800"/>
                    <a:pt x="17280" y="0"/>
                  </a:cubicBezTo>
                  <a:cubicBezTo>
                    <a:pt x="8640" y="0"/>
                    <a:pt x="0" y="10800"/>
                    <a:pt x="0" y="10800"/>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581" name="Shape 1195"/>
            <p:cNvSpPr/>
            <p:nvPr/>
          </p:nvSpPr>
          <p:spPr>
            <a:xfrm>
              <a:off x="6667560" y="2472480"/>
              <a:ext cx="95760" cy="38160"/>
            </a:xfrm>
            <a:custGeom>
              <a:avLst/>
              <a:gdLst/>
              <a:ahLst/>
              <a:rect l="l" t="t" r="r" b="b"/>
              <a:pathLst>
                <a:path w="19993" h="18535">
                  <a:moveTo>
                    <a:pt x="19818" y="16259"/>
                  </a:moveTo>
                  <a:cubicBezTo>
                    <a:pt x="17326" y="16259"/>
                    <a:pt x="15664" y="14295"/>
                    <a:pt x="14003" y="14295"/>
                  </a:cubicBezTo>
                  <a:cubicBezTo>
                    <a:pt x="11511" y="14295"/>
                    <a:pt x="9849" y="18222"/>
                    <a:pt x="7357" y="18222"/>
                  </a:cubicBezTo>
                  <a:cubicBezTo>
                    <a:pt x="4864" y="20186"/>
                    <a:pt x="4034" y="12331"/>
                    <a:pt x="1541" y="10368"/>
                  </a:cubicBezTo>
                  <a:cubicBezTo>
                    <a:pt x="711" y="8404"/>
                    <a:pt x="-951" y="4477"/>
                    <a:pt x="711" y="550"/>
                  </a:cubicBezTo>
                  <a:cubicBezTo>
                    <a:pt x="1541" y="-1414"/>
                    <a:pt x="4864" y="2513"/>
                    <a:pt x="5695" y="2513"/>
                  </a:cubicBezTo>
                  <a:cubicBezTo>
                    <a:pt x="8187" y="4477"/>
                    <a:pt x="10680" y="550"/>
                    <a:pt x="13172" y="2513"/>
                  </a:cubicBezTo>
                  <a:cubicBezTo>
                    <a:pt x="14834" y="2513"/>
                    <a:pt x="15664" y="6441"/>
                    <a:pt x="17326" y="8404"/>
                  </a:cubicBezTo>
                  <a:cubicBezTo>
                    <a:pt x="17326" y="10368"/>
                    <a:pt x="19818" y="16259"/>
                    <a:pt x="19818" y="16259"/>
                  </a:cubicBezTo>
                  <a:cubicBezTo>
                    <a:pt x="18157" y="16259"/>
                    <a:pt x="20649" y="16259"/>
                    <a:pt x="19818" y="16259"/>
                  </a:cubicBezTo>
                  <a:close/>
                </a:path>
              </a:pathLst>
            </a:custGeom>
            <a:solidFill>
              <a:srgbClr val="dadbdf"/>
            </a:solidFill>
            <a:ln w="4680">
              <a:solidFill>
                <a:srgbClr val="ffffff"/>
              </a:solidFill>
              <a:round/>
            </a:ln>
          </p:spPr>
          <p:style>
            <a:lnRef idx="0"/>
            <a:fillRef idx="0"/>
            <a:effectRef idx="0"/>
            <a:fontRef idx="minor"/>
          </p:style>
          <p:txBody>
            <a:bodyPr lIns="45360" rIns="45360" tIns="-8640" bIns="-8640" anchor="t">
              <a:noAutofit/>
            </a:bodyPr>
            <a:p>
              <a:endParaRPr b="0" lang="en-US" sz="1800" spc="-1" strike="noStrike">
                <a:solidFill>
                  <a:srgbClr val="000000"/>
                </a:solidFill>
                <a:latin typeface="Calibri"/>
              </a:endParaRPr>
            </a:p>
          </p:txBody>
        </p:sp>
        <p:sp>
          <p:nvSpPr>
            <p:cNvPr id="582" name="Shape 1196"/>
            <p:cNvSpPr/>
            <p:nvPr/>
          </p:nvSpPr>
          <p:spPr>
            <a:xfrm>
              <a:off x="5733360" y="3187080"/>
              <a:ext cx="104040" cy="66600"/>
            </a:xfrm>
            <a:custGeom>
              <a:avLst/>
              <a:gdLst/>
              <a:ahLst/>
              <a:rect l="l" t="t" r="r" b="b"/>
              <a:pathLst>
                <a:path w="19648" h="19136">
                  <a:moveTo>
                    <a:pt x="19432" y="18189"/>
                  </a:moveTo>
                  <a:cubicBezTo>
                    <a:pt x="18688" y="17053"/>
                    <a:pt x="17943" y="14779"/>
                    <a:pt x="17198" y="13642"/>
                  </a:cubicBezTo>
                  <a:cubicBezTo>
                    <a:pt x="16453" y="11368"/>
                    <a:pt x="14963" y="11368"/>
                    <a:pt x="13474" y="11368"/>
                  </a:cubicBezTo>
                  <a:cubicBezTo>
                    <a:pt x="11984" y="9095"/>
                    <a:pt x="11984" y="4547"/>
                    <a:pt x="9750" y="3411"/>
                  </a:cubicBezTo>
                  <a:cubicBezTo>
                    <a:pt x="9005" y="3411"/>
                    <a:pt x="6770" y="3411"/>
                    <a:pt x="5281" y="2274"/>
                  </a:cubicBezTo>
                  <a:cubicBezTo>
                    <a:pt x="4536" y="1137"/>
                    <a:pt x="3046" y="0"/>
                    <a:pt x="812" y="0"/>
                  </a:cubicBezTo>
                  <a:cubicBezTo>
                    <a:pt x="-678" y="0"/>
                    <a:pt x="67" y="2274"/>
                    <a:pt x="1556" y="2274"/>
                  </a:cubicBezTo>
                  <a:cubicBezTo>
                    <a:pt x="2301" y="2274"/>
                    <a:pt x="2301" y="2274"/>
                    <a:pt x="3046" y="3411"/>
                  </a:cubicBezTo>
                  <a:cubicBezTo>
                    <a:pt x="3046" y="3411"/>
                    <a:pt x="3791" y="4547"/>
                    <a:pt x="3791" y="4547"/>
                  </a:cubicBezTo>
                  <a:cubicBezTo>
                    <a:pt x="3046" y="4547"/>
                    <a:pt x="2301" y="3411"/>
                    <a:pt x="2301" y="2274"/>
                  </a:cubicBezTo>
                  <a:cubicBezTo>
                    <a:pt x="2301" y="2274"/>
                    <a:pt x="2301" y="4547"/>
                    <a:pt x="2301" y="4547"/>
                  </a:cubicBezTo>
                  <a:cubicBezTo>
                    <a:pt x="2301" y="6821"/>
                    <a:pt x="3791" y="6821"/>
                    <a:pt x="4536" y="6821"/>
                  </a:cubicBezTo>
                  <a:cubicBezTo>
                    <a:pt x="4536" y="6821"/>
                    <a:pt x="8260" y="10232"/>
                    <a:pt x="8260" y="10232"/>
                  </a:cubicBezTo>
                  <a:cubicBezTo>
                    <a:pt x="8260" y="10232"/>
                    <a:pt x="7515" y="10232"/>
                    <a:pt x="6770" y="11368"/>
                  </a:cubicBezTo>
                  <a:cubicBezTo>
                    <a:pt x="6770" y="11368"/>
                    <a:pt x="9750" y="11368"/>
                    <a:pt x="9750" y="11368"/>
                  </a:cubicBezTo>
                  <a:cubicBezTo>
                    <a:pt x="11239" y="12505"/>
                    <a:pt x="9750" y="13642"/>
                    <a:pt x="9750" y="13642"/>
                  </a:cubicBezTo>
                  <a:cubicBezTo>
                    <a:pt x="10494" y="14779"/>
                    <a:pt x="12729" y="13642"/>
                    <a:pt x="13474" y="13642"/>
                  </a:cubicBezTo>
                  <a:cubicBezTo>
                    <a:pt x="9750" y="14779"/>
                    <a:pt x="20922" y="21600"/>
                    <a:pt x="19432" y="18189"/>
                  </a:cubicBezTo>
                  <a:cubicBezTo>
                    <a:pt x="18688" y="17053"/>
                    <a:pt x="20177" y="20463"/>
                    <a:pt x="19432" y="18189"/>
                  </a:cubicBezTo>
                  <a:close/>
                </a:path>
              </a:pathLst>
            </a:custGeom>
            <a:solidFill>
              <a:srgbClr val="dadbdf"/>
            </a:solidFill>
            <a:ln w="4680">
              <a:solidFill>
                <a:srgbClr val="ffffff"/>
              </a:solidFill>
              <a:round/>
            </a:ln>
          </p:spPr>
          <p:style>
            <a:lnRef idx="0"/>
            <a:fillRef idx="0"/>
            <a:effectRef idx="0"/>
            <a:fontRef idx="minor"/>
          </p:style>
          <p:txBody>
            <a:bodyPr lIns="45360" rIns="45360" tIns="19800" bIns="19800" anchor="t">
              <a:noAutofit/>
            </a:bodyPr>
            <a:p>
              <a:endParaRPr b="0" lang="en-US" sz="1800" spc="-1" strike="noStrike">
                <a:solidFill>
                  <a:srgbClr val="000000"/>
                </a:solidFill>
                <a:latin typeface="Calibri"/>
              </a:endParaRPr>
            </a:p>
          </p:txBody>
        </p:sp>
        <p:sp>
          <p:nvSpPr>
            <p:cNvPr id="583" name="Shape 1197"/>
            <p:cNvSpPr/>
            <p:nvPr/>
          </p:nvSpPr>
          <p:spPr>
            <a:xfrm>
              <a:off x="5642280" y="3099240"/>
              <a:ext cx="42120" cy="55080"/>
            </a:xfrm>
            <a:custGeom>
              <a:avLst/>
              <a:gdLst/>
              <a:ahLst/>
              <a:rect l="l" t="t" r="r" b="b"/>
              <a:pathLst>
                <a:path w="17878" h="21600">
                  <a:moveTo>
                    <a:pt x="17068" y="21600"/>
                  </a:moveTo>
                  <a:cubicBezTo>
                    <a:pt x="17068" y="21600"/>
                    <a:pt x="17068" y="21600"/>
                    <a:pt x="17068" y="21600"/>
                  </a:cubicBezTo>
                  <a:cubicBezTo>
                    <a:pt x="17068" y="20057"/>
                    <a:pt x="13745" y="16971"/>
                    <a:pt x="12083" y="16971"/>
                  </a:cubicBezTo>
                  <a:cubicBezTo>
                    <a:pt x="10422" y="13886"/>
                    <a:pt x="12083" y="12343"/>
                    <a:pt x="10422" y="10800"/>
                  </a:cubicBezTo>
                  <a:cubicBezTo>
                    <a:pt x="8760" y="9257"/>
                    <a:pt x="8760" y="9257"/>
                    <a:pt x="8760" y="7714"/>
                  </a:cubicBezTo>
                  <a:cubicBezTo>
                    <a:pt x="7099" y="4629"/>
                    <a:pt x="8760" y="4629"/>
                    <a:pt x="10422" y="3086"/>
                  </a:cubicBezTo>
                  <a:cubicBezTo>
                    <a:pt x="13745" y="0"/>
                    <a:pt x="3776" y="4629"/>
                    <a:pt x="5437" y="6171"/>
                  </a:cubicBezTo>
                  <a:cubicBezTo>
                    <a:pt x="3776" y="4629"/>
                    <a:pt x="8760" y="1543"/>
                    <a:pt x="8760" y="1543"/>
                  </a:cubicBezTo>
                  <a:cubicBezTo>
                    <a:pt x="7099" y="0"/>
                    <a:pt x="453" y="0"/>
                    <a:pt x="453" y="0"/>
                  </a:cubicBezTo>
                  <a:cubicBezTo>
                    <a:pt x="-1209" y="1543"/>
                    <a:pt x="2114" y="7714"/>
                    <a:pt x="3776" y="9257"/>
                  </a:cubicBezTo>
                  <a:cubicBezTo>
                    <a:pt x="7099" y="12343"/>
                    <a:pt x="12083" y="20057"/>
                    <a:pt x="17068" y="21600"/>
                  </a:cubicBezTo>
                  <a:cubicBezTo>
                    <a:pt x="20391" y="21600"/>
                    <a:pt x="12083" y="20057"/>
                    <a:pt x="17068" y="21600"/>
                  </a:cubicBezTo>
                  <a:close/>
                </a:path>
              </a:pathLst>
            </a:custGeom>
            <a:solidFill>
              <a:srgbClr val="dadbdf"/>
            </a:solidFill>
            <a:ln w="4680">
              <a:solidFill>
                <a:srgbClr val="ffffff"/>
              </a:solidFill>
              <a:round/>
            </a:ln>
          </p:spPr>
          <p:style>
            <a:lnRef idx="0"/>
            <a:fillRef idx="0"/>
            <a:effectRef idx="0"/>
            <a:fontRef idx="minor"/>
          </p:style>
          <p:txBody>
            <a:bodyPr lIns="45360" rIns="45360" tIns="8280" bIns="8280" anchor="t">
              <a:noAutofit/>
            </a:bodyPr>
            <a:p>
              <a:endParaRPr b="0" lang="en-US" sz="1800" spc="-1" strike="noStrike">
                <a:solidFill>
                  <a:srgbClr val="000000"/>
                </a:solidFill>
                <a:latin typeface="Calibri"/>
              </a:endParaRPr>
            </a:p>
          </p:txBody>
        </p:sp>
        <p:sp>
          <p:nvSpPr>
            <p:cNvPr id="584" name="Shape 1198"/>
            <p:cNvSpPr/>
            <p:nvPr/>
          </p:nvSpPr>
          <p:spPr>
            <a:xfrm>
              <a:off x="5648040" y="3039120"/>
              <a:ext cx="9000" cy="10080"/>
            </a:xfrm>
            <a:custGeom>
              <a:avLst/>
              <a:gdLst/>
              <a:ahLst/>
              <a:rect l="l" t="t" r="r" b="b"/>
              <a:pathLst>
                <a:path w="12258" h="13461">
                  <a:moveTo>
                    <a:pt x="10021" y="11902"/>
                  </a:moveTo>
                  <a:cubicBezTo>
                    <a:pt x="4621" y="6502"/>
                    <a:pt x="-6179" y="6502"/>
                    <a:pt x="4621" y="1102"/>
                  </a:cubicBezTo>
                  <a:cubicBezTo>
                    <a:pt x="10021" y="-4298"/>
                    <a:pt x="15421" y="11902"/>
                    <a:pt x="10021" y="11902"/>
                  </a:cubicBezTo>
                  <a:cubicBezTo>
                    <a:pt x="10021" y="11902"/>
                    <a:pt x="10021" y="11902"/>
                    <a:pt x="10021" y="11902"/>
                  </a:cubicBezTo>
                  <a:cubicBezTo>
                    <a:pt x="4621" y="6502"/>
                    <a:pt x="15421" y="17302"/>
                    <a:pt x="10021" y="11902"/>
                  </a:cubicBezTo>
                  <a:close/>
                </a:path>
              </a:pathLst>
            </a:custGeom>
            <a:solidFill>
              <a:srgbClr val="dadbdf"/>
            </a:solidFill>
            <a:ln w="4680">
              <a:solidFill>
                <a:srgbClr val="ffffff"/>
              </a:solidFill>
              <a:round/>
            </a:ln>
          </p:spPr>
          <p:style>
            <a:lnRef idx="0"/>
            <a:fillRef idx="0"/>
            <a:effectRef idx="0"/>
            <a:fontRef idx="minor"/>
          </p:style>
          <p:txBody>
            <a:bodyPr lIns="45360" rIns="45360" tIns="-36720" bIns="-36720" anchor="t">
              <a:noAutofit/>
            </a:bodyPr>
            <a:p>
              <a:endParaRPr b="0" lang="en-US" sz="1800" spc="-1" strike="noStrike">
                <a:solidFill>
                  <a:srgbClr val="000000"/>
                </a:solidFill>
                <a:latin typeface="Calibri"/>
              </a:endParaRPr>
            </a:p>
          </p:txBody>
        </p:sp>
        <p:sp>
          <p:nvSpPr>
            <p:cNvPr id="585" name="Shape 1199"/>
            <p:cNvSpPr/>
            <p:nvPr/>
          </p:nvSpPr>
          <p:spPr>
            <a:xfrm>
              <a:off x="5623200" y="3020040"/>
              <a:ext cx="21240" cy="20160"/>
            </a:xfrm>
            <a:custGeom>
              <a:avLst/>
              <a:gdLst/>
              <a:ahLst/>
              <a:rect l="l" t="t" r="r" b="b"/>
              <a:pathLst>
                <a:path w="19039" h="19008">
                  <a:moveTo>
                    <a:pt x="18000" y="4608"/>
                  </a:moveTo>
                  <a:cubicBezTo>
                    <a:pt x="14400" y="4608"/>
                    <a:pt x="3600" y="-2592"/>
                    <a:pt x="0" y="1008"/>
                  </a:cubicBezTo>
                  <a:cubicBezTo>
                    <a:pt x="3600" y="-2592"/>
                    <a:pt x="7200" y="11808"/>
                    <a:pt x="3600" y="8208"/>
                  </a:cubicBezTo>
                  <a:cubicBezTo>
                    <a:pt x="3600" y="11808"/>
                    <a:pt x="3600" y="15408"/>
                    <a:pt x="3600" y="19008"/>
                  </a:cubicBezTo>
                  <a:cubicBezTo>
                    <a:pt x="3600" y="15408"/>
                    <a:pt x="18000" y="11808"/>
                    <a:pt x="18000" y="15408"/>
                  </a:cubicBezTo>
                  <a:cubicBezTo>
                    <a:pt x="18000" y="11808"/>
                    <a:pt x="14400" y="11808"/>
                    <a:pt x="10800" y="8208"/>
                  </a:cubicBezTo>
                  <a:cubicBezTo>
                    <a:pt x="14400" y="11808"/>
                    <a:pt x="21600" y="4608"/>
                    <a:pt x="18000" y="4608"/>
                  </a:cubicBezTo>
                  <a:cubicBezTo>
                    <a:pt x="14400" y="4608"/>
                    <a:pt x="21600" y="4608"/>
                    <a:pt x="18000" y="4608"/>
                  </a:cubicBezTo>
                  <a:close/>
                </a:path>
              </a:pathLst>
            </a:custGeom>
            <a:solidFill>
              <a:srgbClr val="dadbdf"/>
            </a:solidFill>
            <a:ln w="4680">
              <a:solidFill>
                <a:srgbClr val="ffffff"/>
              </a:solidFill>
              <a:round/>
            </a:ln>
          </p:spPr>
          <p:style>
            <a:lnRef idx="0"/>
            <a:fillRef idx="0"/>
            <a:effectRef idx="0"/>
            <a:fontRef idx="minor"/>
          </p:style>
          <p:txBody>
            <a:bodyPr lIns="45360" rIns="45360" tIns="-26640" bIns="-26640" anchor="t">
              <a:noAutofit/>
            </a:bodyPr>
            <a:p>
              <a:endParaRPr b="0" lang="en-US" sz="1800" spc="-1" strike="noStrike">
                <a:solidFill>
                  <a:srgbClr val="000000"/>
                </a:solidFill>
                <a:latin typeface="Calibri"/>
              </a:endParaRPr>
            </a:p>
          </p:txBody>
        </p:sp>
        <p:sp>
          <p:nvSpPr>
            <p:cNvPr id="586" name="Shape 1200"/>
            <p:cNvSpPr/>
            <p:nvPr/>
          </p:nvSpPr>
          <p:spPr>
            <a:xfrm>
              <a:off x="5616720" y="3024000"/>
              <a:ext cx="7920" cy="20880"/>
            </a:xfrm>
            <a:custGeom>
              <a:avLst/>
              <a:gdLst/>
              <a:ahLst/>
              <a:rect l="l" t="t" r="r" b="b"/>
              <a:pathLst>
                <a:path w="11550" h="18735">
                  <a:moveTo>
                    <a:pt x="4800" y="0"/>
                  </a:moveTo>
                  <a:cubicBezTo>
                    <a:pt x="-6000" y="0"/>
                    <a:pt x="4800" y="3600"/>
                    <a:pt x="4800" y="7200"/>
                  </a:cubicBezTo>
                  <a:cubicBezTo>
                    <a:pt x="4800" y="10800"/>
                    <a:pt x="-600" y="18000"/>
                    <a:pt x="4800" y="18000"/>
                  </a:cubicBezTo>
                  <a:cubicBezTo>
                    <a:pt x="10200" y="21600"/>
                    <a:pt x="10200" y="10800"/>
                    <a:pt x="10200" y="10800"/>
                  </a:cubicBezTo>
                  <a:cubicBezTo>
                    <a:pt x="10200" y="7200"/>
                    <a:pt x="15600" y="0"/>
                    <a:pt x="4800" y="0"/>
                  </a:cubicBezTo>
                  <a:close/>
                </a:path>
              </a:pathLst>
            </a:custGeom>
            <a:solidFill>
              <a:srgbClr val="dadbdf"/>
            </a:solidFill>
            <a:ln w="4680">
              <a:solidFill>
                <a:srgbClr val="ffffff"/>
              </a:solidFill>
              <a:round/>
            </a:ln>
          </p:spPr>
          <p:style>
            <a:lnRef idx="0"/>
            <a:fillRef idx="0"/>
            <a:effectRef idx="0"/>
            <a:fontRef idx="minor"/>
          </p:style>
          <p:txBody>
            <a:bodyPr lIns="45360" rIns="45360" tIns="-25920" bIns="-25920" anchor="t">
              <a:noAutofit/>
            </a:bodyPr>
            <a:p>
              <a:endParaRPr b="0" lang="en-US" sz="1800" spc="-1" strike="noStrike">
                <a:solidFill>
                  <a:srgbClr val="000000"/>
                </a:solidFill>
                <a:latin typeface="Calibri"/>
              </a:endParaRPr>
            </a:p>
          </p:txBody>
        </p:sp>
        <p:sp>
          <p:nvSpPr>
            <p:cNvPr id="587" name="Shape 1201"/>
            <p:cNvSpPr/>
            <p:nvPr/>
          </p:nvSpPr>
          <p:spPr>
            <a:xfrm>
              <a:off x="5591520" y="3008880"/>
              <a:ext cx="16560" cy="32040"/>
            </a:xfrm>
            <a:custGeom>
              <a:avLst/>
              <a:gdLst/>
              <a:ahLst/>
              <a:rect l="l" t="t" r="r" b="b"/>
              <a:pathLst>
                <a:path w="17986" h="16195">
                  <a:moveTo>
                    <a:pt x="13666" y="15627"/>
                  </a:moveTo>
                  <a:cubicBezTo>
                    <a:pt x="13666" y="13664"/>
                    <a:pt x="5026" y="7773"/>
                    <a:pt x="5026" y="7773"/>
                  </a:cubicBezTo>
                  <a:cubicBezTo>
                    <a:pt x="13666" y="3846"/>
                    <a:pt x="-3614" y="3846"/>
                    <a:pt x="706" y="1882"/>
                  </a:cubicBezTo>
                  <a:cubicBezTo>
                    <a:pt x="5026" y="-4009"/>
                    <a:pt x="17986" y="5809"/>
                    <a:pt x="17986" y="5809"/>
                  </a:cubicBezTo>
                  <a:cubicBezTo>
                    <a:pt x="17986" y="7773"/>
                    <a:pt x="17986" y="17591"/>
                    <a:pt x="13666" y="15627"/>
                  </a:cubicBezTo>
                  <a:cubicBezTo>
                    <a:pt x="13666" y="13664"/>
                    <a:pt x="17986" y="17591"/>
                    <a:pt x="13666" y="15627"/>
                  </a:cubicBezTo>
                  <a:close/>
                </a:path>
              </a:pathLst>
            </a:custGeom>
            <a:solidFill>
              <a:srgbClr val="dadbdf"/>
            </a:solidFill>
            <a:ln w="4680">
              <a:solidFill>
                <a:srgbClr val="ffffff"/>
              </a:solidFill>
              <a:round/>
            </a:ln>
          </p:spPr>
          <p:style>
            <a:lnRef idx="0"/>
            <a:fillRef idx="0"/>
            <a:effectRef idx="0"/>
            <a:fontRef idx="minor"/>
          </p:style>
          <p:txBody>
            <a:bodyPr lIns="45360" rIns="45360" tIns="-14760" bIns="-14760" anchor="t">
              <a:noAutofit/>
            </a:bodyPr>
            <a:p>
              <a:endParaRPr b="0" lang="en-US" sz="1800" spc="-1" strike="noStrike">
                <a:solidFill>
                  <a:srgbClr val="000000"/>
                </a:solidFill>
                <a:latin typeface="Calibri"/>
              </a:endParaRPr>
            </a:p>
          </p:txBody>
        </p:sp>
        <p:sp>
          <p:nvSpPr>
            <p:cNvPr id="588" name="Shape 1202"/>
            <p:cNvSpPr/>
            <p:nvPr/>
          </p:nvSpPr>
          <p:spPr>
            <a:xfrm>
              <a:off x="5572080" y="2987280"/>
              <a:ext cx="28080" cy="22680"/>
            </a:xfrm>
            <a:custGeom>
              <a:avLst/>
              <a:gdLst/>
              <a:ahLst/>
              <a:rect l="l" t="t" r="r" b="b"/>
              <a:pathLst>
                <a:path w="21600" h="17571">
                  <a:moveTo>
                    <a:pt x="12343" y="16706"/>
                  </a:moveTo>
                  <a:cubicBezTo>
                    <a:pt x="6171" y="10535"/>
                    <a:pt x="3086" y="10535"/>
                    <a:pt x="6171" y="7449"/>
                  </a:cubicBezTo>
                  <a:cubicBezTo>
                    <a:pt x="6171" y="4363"/>
                    <a:pt x="0" y="4363"/>
                    <a:pt x="0" y="4363"/>
                  </a:cubicBezTo>
                  <a:cubicBezTo>
                    <a:pt x="0" y="1278"/>
                    <a:pt x="12343" y="-1808"/>
                    <a:pt x="15429" y="1278"/>
                  </a:cubicBezTo>
                  <a:cubicBezTo>
                    <a:pt x="15429" y="1278"/>
                    <a:pt x="9257" y="4363"/>
                    <a:pt x="12343" y="7449"/>
                  </a:cubicBezTo>
                  <a:cubicBezTo>
                    <a:pt x="15429" y="7449"/>
                    <a:pt x="21600" y="10535"/>
                    <a:pt x="21600" y="10535"/>
                  </a:cubicBezTo>
                  <a:cubicBezTo>
                    <a:pt x="21600" y="13621"/>
                    <a:pt x="15429" y="13621"/>
                    <a:pt x="15429" y="13621"/>
                  </a:cubicBezTo>
                  <a:cubicBezTo>
                    <a:pt x="12343" y="13621"/>
                    <a:pt x="15429" y="19792"/>
                    <a:pt x="12343" y="16706"/>
                  </a:cubicBezTo>
                  <a:cubicBezTo>
                    <a:pt x="6171" y="13621"/>
                    <a:pt x="12343" y="16706"/>
                    <a:pt x="12343" y="16706"/>
                  </a:cubicBezTo>
                  <a:close/>
                </a:path>
              </a:pathLst>
            </a:custGeom>
            <a:solidFill>
              <a:srgbClr val="dadbdf"/>
            </a:solidFill>
            <a:ln w="4680">
              <a:solidFill>
                <a:srgbClr val="ffffff"/>
              </a:solidFill>
              <a:round/>
            </a:ln>
          </p:spPr>
          <p:style>
            <a:lnRef idx="0"/>
            <a:fillRef idx="0"/>
            <a:effectRef idx="0"/>
            <a:fontRef idx="minor"/>
          </p:style>
          <p:txBody>
            <a:bodyPr lIns="45360" rIns="45360" tIns="-24120" bIns="-24120" anchor="t">
              <a:noAutofit/>
            </a:bodyPr>
            <a:p>
              <a:endParaRPr b="0" lang="en-US" sz="1800" spc="-1" strike="noStrike">
                <a:solidFill>
                  <a:srgbClr val="000000"/>
                </a:solidFill>
                <a:latin typeface="Calibri"/>
              </a:endParaRPr>
            </a:p>
          </p:txBody>
        </p:sp>
        <p:sp>
          <p:nvSpPr>
            <p:cNvPr id="589" name="Shape 1203"/>
            <p:cNvSpPr/>
            <p:nvPr/>
          </p:nvSpPr>
          <p:spPr>
            <a:xfrm>
              <a:off x="5606640" y="2988000"/>
              <a:ext cx="17280" cy="30240"/>
            </a:xfrm>
            <a:custGeom>
              <a:avLst/>
              <a:gdLst/>
              <a:ahLst/>
              <a:rect l="l" t="t" r="r" b="b"/>
              <a:pathLst>
                <a:path w="13992" h="17976">
                  <a:moveTo>
                    <a:pt x="4239" y="17283"/>
                  </a:moveTo>
                  <a:cubicBezTo>
                    <a:pt x="7325" y="14883"/>
                    <a:pt x="10411" y="14883"/>
                    <a:pt x="7325" y="12483"/>
                  </a:cubicBezTo>
                  <a:cubicBezTo>
                    <a:pt x="7325" y="10083"/>
                    <a:pt x="1153" y="10083"/>
                    <a:pt x="1153" y="7683"/>
                  </a:cubicBezTo>
                  <a:cubicBezTo>
                    <a:pt x="4239" y="5283"/>
                    <a:pt x="-5018" y="-1917"/>
                    <a:pt x="4239" y="483"/>
                  </a:cubicBezTo>
                  <a:cubicBezTo>
                    <a:pt x="13496" y="2883"/>
                    <a:pt x="13496" y="5283"/>
                    <a:pt x="13496" y="10083"/>
                  </a:cubicBezTo>
                  <a:cubicBezTo>
                    <a:pt x="16582" y="14883"/>
                    <a:pt x="4239" y="17283"/>
                    <a:pt x="4239" y="17283"/>
                  </a:cubicBezTo>
                  <a:cubicBezTo>
                    <a:pt x="4239" y="17283"/>
                    <a:pt x="4239" y="17283"/>
                    <a:pt x="4239" y="17283"/>
                  </a:cubicBezTo>
                  <a:cubicBezTo>
                    <a:pt x="7325" y="14883"/>
                    <a:pt x="1153" y="19683"/>
                    <a:pt x="4239" y="17283"/>
                  </a:cubicBezTo>
                  <a:close/>
                </a:path>
              </a:pathLst>
            </a:custGeom>
            <a:solidFill>
              <a:srgbClr val="dadbdf"/>
            </a:solidFill>
            <a:ln w="4680">
              <a:solidFill>
                <a:srgbClr val="ffffff"/>
              </a:solidFill>
              <a:round/>
            </a:ln>
          </p:spPr>
          <p:style>
            <a:lnRef idx="0"/>
            <a:fillRef idx="0"/>
            <a:effectRef idx="0"/>
            <a:fontRef idx="minor"/>
          </p:style>
          <p:txBody>
            <a:bodyPr lIns="45360" rIns="45360" tIns="-16560" bIns="-16560" anchor="t">
              <a:noAutofit/>
            </a:bodyPr>
            <a:p>
              <a:endParaRPr b="0" lang="en-US" sz="1800" spc="-1" strike="noStrike">
                <a:solidFill>
                  <a:srgbClr val="000000"/>
                </a:solidFill>
                <a:latin typeface="Calibri"/>
              </a:endParaRPr>
            </a:p>
          </p:txBody>
        </p:sp>
        <p:sp>
          <p:nvSpPr>
            <p:cNvPr id="590" name="Shape 1204"/>
            <p:cNvSpPr/>
            <p:nvPr/>
          </p:nvSpPr>
          <p:spPr>
            <a:xfrm>
              <a:off x="5592240" y="2992680"/>
              <a:ext cx="11880" cy="3960"/>
            </a:xfrm>
            <a:custGeom>
              <a:avLst/>
              <a:gdLst/>
              <a:ahLst/>
              <a:rect l="l" t="t" r="r" b="b"/>
              <a:pathLst>
                <a:path w="21600" h="21600">
                  <a:moveTo>
                    <a:pt x="14400" y="21600"/>
                  </a:moveTo>
                  <a:cubicBezTo>
                    <a:pt x="7200" y="21600"/>
                    <a:pt x="0" y="21600"/>
                    <a:pt x="0" y="0"/>
                  </a:cubicBezTo>
                  <a:cubicBezTo>
                    <a:pt x="0" y="0"/>
                    <a:pt x="14400" y="0"/>
                    <a:pt x="21600" y="0"/>
                  </a:cubicBezTo>
                  <a:cubicBezTo>
                    <a:pt x="21600" y="0"/>
                    <a:pt x="14400" y="21600"/>
                    <a:pt x="14400" y="2160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591" name="Shape 1205"/>
            <p:cNvSpPr/>
            <p:nvPr/>
          </p:nvSpPr>
          <p:spPr>
            <a:xfrm>
              <a:off x="5212800" y="2999160"/>
              <a:ext cx="48600" cy="21960"/>
            </a:xfrm>
            <a:custGeom>
              <a:avLst/>
              <a:gdLst/>
              <a:ahLst/>
              <a:rect l="l" t="t" r="r" b="b"/>
              <a:pathLst>
                <a:path w="19976" h="17641">
                  <a:moveTo>
                    <a:pt x="16200" y="1372"/>
                  </a:moveTo>
                  <a:cubicBezTo>
                    <a:pt x="14539" y="1372"/>
                    <a:pt x="12877" y="1372"/>
                    <a:pt x="11216" y="1372"/>
                  </a:cubicBezTo>
                  <a:cubicBezTo>
                    <a:pt x="9554" y="1372"/>
                    <a:pt x="9554" y="1372"/>
                    <a:pt x="7893" y="1372"/>
                  </a:cubicBezTo>
                  <a:cubicBezTo>
                    <a:pt x="4570" y="4457"/>
                    <a:pt x="6231" y="10629"/>
                    <a:pt x="7893" y="10629"/>
                  </a:cubicBezTo>
                  <a:cubicBezTo>
                    <a:pt x="6231" y="10629"/>
                    <a:pt x="2908" y="1372"/>
                    <a:pt x="1247" y="7543"/>
                  </a:cubicBezTo>
                  <a:cubicBezTo>
                    <a:pt x="-415" y="10629"/>
                    <a:pt x="-415" y="13715"/>
                    <a:pt x="1247" y="16800"/>
                  </a:cubicBezTo>
                  <a:cubicBezTo>
                    <a:pt x="2908" y="19886"/>
                    <a:pt x="16200" y="13715"/>
                    <a:pt x="17862" y="10629"/>
                  </a:cubicBezTo>
                  <a:cubicBezTo>
                    <a:pt x="17862" y="10629"/>
                    <a:pt x="16200" y="7543"/>
                    <a:pt x="14539" y="7543"/>
                  </a:cubicBezTo>
                  <a:cubicBezTo>
                    <a:pt x="16200" y="7543"/>
                    <a:pt x="19523" y="7543"/>
                    <a:pt x="19523" y="7543"/>
                  </a:cubicBezTo>
                  <a:cubicBezTo>
                    <a:pt x="21185" y="4457"/>
                    <a:pt x="17862" y="-1714"/>
                    <a:pt x="16200" y="1372"/>
                  </a:cubicBezTo>
                  <a:cubicBezTo>
                    <a:pt x="14539" y="1372"/>
                    <a:pt x="17862" y="-1714"/>
                    <a:pt x="16200" y="1372"/>
                  </a:cubicBezTo>
                  <a:close/>
                </a:path>
              </a:pathLst>
            </a:custGeom>
            <a:solidFill>
              <a:srgbClr val="dadbdf"/>
            </a:solidFill>
            <a:ln w="4680">
              <a:solidFill>
                <a:srgbClr val="ffffff"/>
              </a:solidFill>
              <a:round/>
            </a:ln>
          </p:spPr>
          <p:style>
            <a:lnRef idx="0"/>
            <a:fillRef idx="0"/>
            <a:effectRef idx="0"/>
            <a:fontRef idx="minor"/>
          </p:style>
          <p:txBody>
            <a:bodyPr lIns="45360" rIns="45360" tIns="-24840" bIns="-24840" anchor="t">
              <a:noAutofit/>
            </a:bodyPr>
            <a:p>
              <a:endParaRPr b="0" lang="en-US" sz="1800" spc="-1" strike="noStrike">
                <a:solidFill>
                  <a:srgbClr val="000000"/>
                </a:solidFill>
                <a:latin typeface="Calibri"/>
              </a:endParaRPr>
            </a:p>
          </p:txBody>
        </p:sp>
        <p:sp>
          <p:nvSpPr>
            <p:cNvPr id="592" name="Shape 1206"/>
            <p:cNvSpPr/>
            <p:nvPr/>
          </p:nvSpPr>
          <p:spPr>
            <a:xfrm>
              <a:off x="5238000" y="2978280"/>
              <a:ext cx="26280" cy="19440"/>
            </a:xfrm>
            <a:custGeom>
              <a:avLst/>
              <a:gdLst/>
              <a:ahLst/>
              <a:rect l="l" t="t" r="r" b="b"/>
              <a:pathLst>
                <a:path w="17759" h="14962">
                  <a:moveTo>
                    <a:pt x="1559" y="14071"/>
                  </a:moveTo>
                  <a:cubicBezTo>
                    <a:pt x="4259" y="10986"/>
                    <a:pt x="6959" y="10986"/>
                    <a:pt x="9659" y="7900"/>
                  </a:cubicBezTo>
                  <a:cubicBezTo>
                    <a:pt x="12359" y="7900"/>
                    <a:pt x="17759" y="7900"/>
                    <a:pt x="17759" y="7900"/>
                  </a:cubicBezTo>
                  <a:cubicBezTo>
                    <a:pt x="17759" y="7900"/>
                    <a:pt x="15059" y="-4443"/>
                    <a:pt x="9659" y="1728"/>
                  </a:cubicBezTo>
                  <a:cubicBezTo>
                    <a:pt x="9659" y="1728"/>
                    <a:pt x="-1141" y="10986"/>
                    <a:pt x="1559" y="14071"/>
                  </a:cubicBezTo>
                  <a:cubicBezTo>
                    <a:pt x="1559" y="14071"/>
                    <a:pt x="1559" y="14071"/>
                    <a:pt x="1559" y="14071"/>
                  </a:cubicBezTo>
                  <a:cubicBezTo>
                    <a:pt x="6959" y="10986"/>
                    <a:pt x="-3841" y="17157"/>
                    <a:pt x="1559" y="14071"/>
                  </a:cubicBezTo>
                  <a:close/>
                </a:path>
              </a:pathLst>
            </a:custGeom>
            <a:solidFill>
              <a:srgbClr val="dadbdf"/>
            </a:solidFill>
            <a:ln w="4680">
              <a:solidFill>
                <a:srgbClr val="ffffff"/>
              </a:solidFill>
              <a:round/>
            </a:ln>
          </p:spPr>
          <p:style>
            <a:lnRef idx="0"/>
            <a:fillRef idx="0"/>
            <a:effectRef idx="0"/>
            <a:fontRef idx="minor"/>
          </p:style>
          <p:txBody>
            <a:bodyPr lIns="45360" rIns="45360" tIns="-27360" bIns="-27360" anchor="t">
              <a:noAutofit/>
            </a:bodyPr>
            <a:p>
              <a:endParaRPr b="0" lang="en-US" sz="1800" spc="-1" strike="noStrike">
                <a:solidFill>
                  <a:srgbClr val="000000"/>
                </a:solidFill>
                <a:latin typeface="Calibri"/>
              </a:endParaRPr>
            </a:p>
          </p:txBody>
        </p:sp>
        <p:sp>
          <p:nvSpPr>
            <p:cNvPr id="593" name="Shape 1207"/>
            <p:cNvSpPr/>
            <p:nvPr/>
          </p:nvSpPr>
          <p:spPr>
            <a:xfrm>
              <a:off x="5011560" y="3080520"/>
              <a:ext cx="31680" cy="14760"/>
            </a:xfrm>
            <a:custGeom>
              <a:avLst/>
              <a:gdLst/>
              <a:ahLst/>
              <a:rect l="l" t="t" r="r" b="b"/>
              <a:pathLst>
                <a:path w="17592" h="21600">
                  <a:moveTo>
                    <a:pt x="16968" y="10800"/>
                  </a:moveTo>
                  <a:cubicBezTo>
                    <a:pt x="19128" y="10800"/>
                    <a:pt x="14808" y="5400"/>
                    <a:pt x="16968" y="5400"/>
                  </a:cubicBezTo>
                  <a:cubicBezTo>
                    <a:pt x="14808" y="0"/>
                    <a:pt x="12648" y="0"/>
                    <a:pt x="10488" y="0"/>
                  </a:cubicBezTo>
                  <a:cubicBezTo>
                    <a:pt x="8328" y="5400"/>
                    <a:pt x="4008" y="5400"/>
                    <a:pt x="1848" y="10800"/>
                  </a:cubicBezTo>
                  <a:cubicBezTo>
                    <a:pt x="-2472" y="16200"/>
                    <a:pt x="1848" y="21600"/>
                    <a:pt x="4008" y="21600"/>
                  </a:cubicBezTo>
                  <a:cubicBezTo>
                    <a:pt x="8328" y="21600"/>
                    <a:pt x="12648" y="5400"/>
                    <a:pt x="16968" y="10800"/>
                  </a:cubicBezTo>
                  <a:cubicBezTo>
                    <a:pt x="19128" y="10800"/>
                    <a:pt x="12648" y="5400"/>
                    <a:pt x="16968" y="1080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594" name="Shape 1208"/>
            <p:cNvSpPr/>
            <p:nvPr/>
          </p:nvSpPr>
          <p:spPr>
            <a:xfrm>
              <a:off x="4959720" y="3106800"/>
              <a:ext cx="22680" cy="16560"/>
            </a:xfrm>
            <a:custGeom>
              <a:avLst/>
              <a:gdLst/>
              <a:ahLst/>
              <a:rect l="l" t="t" r="r" b="b"/>
              <a:pathLst>
                <a:path w="21600" h="17948">
                  <a:moveTo>
                    <a:pt x="21600" y="4988"/>
                  </a:moveTo>
                  <a:cubicBezTo>
                    <a:pt x="21600" y="-3652"/>
                    <a:pt x="14400" y="668"/>
                    <a:pt x="10800" y="4988"/>
                  </a:cubicBezTo>
                  <a:cubicBezTo>
                    <a:pt x="10800" y="4988"/>
                    <a:pt x="10800" y="9308"/>
                    <a:pt x="10800" y="13628"/>
                  </a:cubicBezTo>
                  <a:cubicBezTo>
                    <a:pt x="7200" y="13628"/>
                    <a:pt x="0" y="17948"/>
                    <a:pt x="0" y="17948"/>
                  </a:cubicBezTo>
                  <a:cubicBezTo>
                    <a:pt x="0" y="17948"/>
                    <a:pt x="21600" y="17948"/>
                    <a:pt x="21600" y="4988"/>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595" name="Shape 1209"/>
            <p:cNvSpPr/>
            <p:nvPr/>
          </p:nvSpPr>
          <p:spPr>
            <a:xfrm>
              <a:off x="6304320" y="2616120"/>
              <a:ext cx="78120" cy="45360"/>
            </a:xfrm>
            <a:custGeom>
              <a:avLst/>
              <a:gdLst/>
              <a:ahLst/>
              <a:rect l="l" t="t" r="r" b="b"/>
              <a:pathLst>
                <a:path w="20571" h="19184">
                  <a:moveTo>
                    <a:pt x="19543" y="13511"/>
                  </a:moveTo>
                  <a:cubicBezTo>
                    <a:pt x="15429" y="15172"/>
                    <a:pt x="19543" y="11849"/>
                    <a:pt x="18514" y="10188"/>
                  </a:cubicBezTo>
                  <a:cubicBezTo>
                    <a:pt x="17486" y="10188"/>
                    <a:pt x="15429" y="5203"/>
                    <a:pt x="14400" y="5203"/>
                  </a:cubicBezTo>
                  <a:cubicBezTo>
                    <a:pt x="12343" y="5203"/>
                    <a:pt x="10286" y="219"/>
                    <a:pt x="8229" y="219"/>
                  </a:cubicBezTo>
                  <a:cubicBezTo>
                    <a:pt x="6171" y="-1443"/>
                    <a:pt x="6171" y="6865"/>
                    <a:pt x="5143" y="8526"/>
                  </a:cubicBezTo>
                  <a:cubicBezTo>
                    <a:pt x="4114" y="8526"/>
                    <a:pt x="0" y="8526"/>
                    <a:pt x="0" y="11849"/>
                  </a:cubicBezTo>
                  <a:cubicBezTo>
                    <a:pt x="1029" y="15172"/>
                    <a:pt x="6171" y="16834"/>
                    <a:pt x="7200" y="16834"/>
                  </a:cubicBezTo>
                  <a:cubicBezTo>
                    <a:pt x="9257" y="18495"/>
                    <a:pt x="13371" y="20157"/>
                    <a:pt x="15429" y="18495"/>
                  </a:cubicBezTo>
                  <a:cubicBezTo>
                    <a:pt x="15429" y="18495"/>
                    <a:pt x="20571" y="15172"/>
                    <a:pt x="20571" y="13511"/>
                  </a:cubicBezTo>
                  <a:cubicBezTo>
                    <a:pt x="20571" y="13511"/>
                    <a:pt x="19543" y="13511"/>
                    <a:pt x="19543" y="13511"/>
                  </a:cubicBezTo>
                  <a:cubicBezTo>
                    <a:pt x="18514" y="15172"/>
                    <a:pt x="21600" y="13511"/>
                    <a:pt x="19543" y="13511"/>
                  </a:cubicBezTo>
                  <a:close/>
                </a:path>
              </a:pathLst>
            </a:custGeom>
            <a:solidFill>
              <a:srgbClr val="dadbdf"/>
            </a:solidFill>
            <a:ln w="4680">
              <a:solidFill>
                <a:srgbClr val="ffffff"/>
              </a:solidFill>
              <a:round/>
            </a:ln>
          </p:spPr>
          <p:style>
            <a:lnRef idx="0"/>
            <a:fillRef idx="0"/>
            <a:effectRef idx="0"/>
            <a:fontRef idx="minor"/>
          </p:style>
          <p:txBody>
            <a:bodyPr lIns="45360" rIns="45360" tIns="-1440" bIns="-1440" anchor="t">
              <a:noAutofit/>
            </a:bodyPr>
            <a:p>
              <a:endParaRPr b="0" lang="en-US" sz="1800" spc="-1" strike="noStrike">
                <a:solidFill>
                  <a:srgbClr val="000000"/>
                </a:solidFill>
                <a:latin typeface="Calibri"/>
              </a:endParaRPr>
            </a:p>
          </p:txBody>
        </p:sp>
        <p:sp>
          <p:nvSpPr>
            <p:cNvPr id="596" name="Shape 1210"/>
            <p:cNvSpPr/>
            <p:nvPr/>
          </p:nvSpPr>
          <p:spPr>
            <a:xfrm>
              <a:off x="6281640" y="2639880"/>
              <a:ext cx="11160" cy="11520"/>
            </a:xfrm>
            <a:custGeom>
              <a:avLst/>
              <a:gdLst/>
              <a:ahLst/>
              <a:rect l="l" t="t" r="r" b="b"/>
              <a:pathLst>
                <a:path w="12237" h="17067">
                  <a:moveTo>
                    <a:pt x="2419" y="17067"/>
                  </a:moveTo>
                  <a:cubicBezTo>
                    <a:pt x="-6221" y="17067"/>
                    <a:pt x="11059" y="-4533"/>
                    <a:pt x="11059" y="867"/>
                  </a:cubicBezTo>
                  <a:cubicBezTo>
                    <a:pt x="15379" y="867"/>
                    <a:pt x="6739" y="17067"/>
                    <a:pt x="2419" y="17067"/>
                  </a:cubicBezTo>
                  <a:cubicBezTo>
                    <a:pt x="-1901" y="17067"/>
                    <a:pt x="11059" y="17067"/>
                    <a:pt x="2419" y="17067"/>
                  </a:cubicBezTo>
                  <a:close/>
                </a:path>
              </a:pathLst>
            </a:custGeom>
            <a:solidFill>
              <a:srgbClr val="dadbdf"/>
            </a:solidFill>
            <a:ln w="4680">
              <a:solidFill>
                <a:srgbClr val="ffffff"/>
              </a:solidFill>
              <a:round/>
            </a:ln>
          </p:spPr>
          <p:style>
            <a:lnRef idx="0"/>
            <a:fillRef idx="0"/>
            <a:effectRef idx="0"/>
            <a:fontRef idx="minor"/>
          </p:style>
          <p:txBody>
            <a:bodyPr lIns="45360" rIns="45360" tIns="-35280" bIns="-35280" anchor="t">
              <a:noAutofit/>
            </a:bodyPr>
            <a:p>
              <a:endParaRPr b="0" lang="en-US" sz="1800" spc="-1" strike="noStrike">
                <a:solidFill>
                  <a:srgbClr val="000000"/>
                </a:solidFill>
                <a:latin typeface="Calibri"/>
              </a:endParaRPr>
            </a:p>
          </p:txBody>
        </p:sp>
        <p:sp>
          <p:nvSpPr>
            <p:cNvPr id="597" name="Shape 1211"/>
            <p:cNvSpPr/>
            <p:nvPr/>
          </p:nvSpPr>
          <p:spPr>
            <a:xfrm>
              <a:off x="6252480" y="2651760"/>
              <a:ext cx="5760" cy="7920"/>
            </a:xfrm>
            <a:custGeom>
              <a:avLst/>
              <a:gdLst/>
              <a:ahLst/>
              <a:rect l="l" t="t" r="r" b="b"/>
              <a:pathLst>
                <a:path w="16200" h="21600">
                  <a:moveTo>
                    <a:pt x="8100" y="21600"/>
                  </a:moveTo>
                  <a:cubicBezTo>
                    <a:pt x="-2700" y="21600"/>
                    <a:pt x="-2700" y="10800"/>
                    <a:pt x="8100" y="0"/>
                  </a:cubicBezTo>
                  <a:cubicBezTo>
                    <a:pt x="18900" y="0"/>
                    <a:pt x="18900" y="21600"/>
                    <a:pt x="8100"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98" name="Shape 1212"/>
            <p:cNvSpPr/>
            <p:nvPr/>
          </p:nvSpPr>
          <p:spPr>
            <a:xfrm>
              <a:off x="5915520" y="2488680"/>
              <a:ext cx="360360" cy="170640"/>
            </a:xfrm>
            <a:custGeom>
              <a:avLst/>
              <a:gdLst/>
              <a:ahLst/>
              <a:rect l="l" t="t" r="r" b="b"/>
              <a:pathLst>
                <a:path w="21388" h="20725">
                  <a:moveTo>
                    <a:pt x="19275" y="19339"/>
                  </a:moveTo>
                  <a:cubicBezTo>
                    <a:pt x="18805" y="19339"/>
                    <a:pt x="18336" y="19339"/>
                    <a:pt x="17631" y="19339"/>
                  </a:cubicBezTo>
                  <a:cubicBezTo>
                    <a:pt x="17397" y="19339"/>
                    <a:pt x="17162" y="19339"/>
                    <a:pt x="16927" y="19339"/>
                  </a:cubicBezTo>
                  <a:cubicBezTo>
                    <a:pt x="16692" y="19339"/>
                    <a:pt x="16692" y="18859"/>
                    <a:pt x="16458" y="18379"/>
                  </a:cubicBezTo>
                  <a:cubicBezTo>
                    <a:pt x="16223" y="18379"/>
                    <a:pt x="15284" y="18859"/>
                    <a:pt x="15049" y="17899"/>
                  </a:cubicBezTo>
                  <a:cubicBezTo>
                    <a:pt x="15049" y="16459"/>
                    <a:pt x="14579" y="17419"/>
                    <a:pt x="14110" y="17899"/>
                  </a:cubicBezTo>
                  <a:cubicBezTo>
                    <a:pt x="13405" y="18859"/>
                    <a:pt x="12936" y="18379"/>
                    <a:pt x="12466" y="18859"/>
                  </a:cubicBezTo>
                  <a:cubicBezTo>
                    <a:pt x="11762" y="19339"/>
                    <a:pt x="11058" y="19819"/>
                    <a:pt x="10353" y="20299"/>
                  </a:cubicBezTo>
                  <a:cubicBezTo>
                    <a:pt x="9414" y="20299"/>
                    <a:pt x="8005" y="21259"/>
                    <a:pt x="7066" y="20299"/>
                  </a:cubicBezTo>
                  <a:cubicBezTo>
                    <a:pt x="7066" y="20299"/>
                    <a:pt x="6597" y="19819"/>
                    <a:pt x="6597" y="19339"/>
                  </a:cubicBezTo>
                  <a:cubicBezTo>
                    <a:pt x="6597" y="18859"/>
                    <a:pt x="6597" y="17899"/>
                    <a:pt x="6127" y="17899"/>
                  </a:cubicBezTo>
                  <a:cubicBezTo>
                    <a:pt x="5658" y="17899"/>
                    <a:pt x="5188" y="17899"/>
                    <a:pt x="4718" y="17899"/>
                  </a:cubicBezTo>
                  <a:cubicBezTo>
                    <a:pt x="4249" y="17899"/>
                    <a:pt x="3779" y="17899"/>
                    <a:pt x="3310" y="16939"/>
                  </a:cubicBezTo>
                  <a:cubicBezTo>
                    <a:pt x="3075" y="16939"/>
                    <a:pt x="1901" y="15019"/>
                    <a:pt x="2136" y="14539"/>
                  </a:cubicBezTo>
                  <a:cubicBezTo>
                    <a:pt x="3545" y="13099"/>
                    <a:pt x="5188" y="13579"/>
                    <a:pt x="6362" y="13579"/>
                  </a:cubicBezTo>
                  <a:cubicBezTo>
                    <a:pt x="6597" y="13579"/>
                    <a:pt x="9179" y="13579"/>
                    <a:pt x="9179" y="13579"/>
                  </a:cubicBezTo>
                  <a:cubicBezTo>
                    <a:pt x="9179" y="12619"/>
                    <a:pt x="5892" y="11659"/>
                    <a:pt x="5658" y="11659"/>
                  </a:cubicBezTo>
                  <a:cubicBezTo>
                    <a:pt x="4484" y="11659"/>
                    <a:pt x="3075" y="13099"/>
                    <a:pt x="1901" y="12139"/>
                  </a:cubicBezTo>
                  <a:cubicBezTo>
                    <a:pt x="1431" y="11659"/>
                    <a:pt x="492" y="10699"/>
                    <a:pt x="1431" y="9739"/>
                  </a:cubicBezTo>
                  <a:cubicBezTo>
                    <a:pt x="2136" y="9259"/>
                    <a:pt x="2840" y="8779"/>
                    <a:pt x="3545" y="8779"/>
                  </a:cubicBezTo>
                  <a:cubicBezTo>
                    <a:pt x="4014" y="8299"/>
                    <a:pt x="4484" y="8299"/>
                    <a:pt x="4718" y="8299"/>
                  </a:cubicBezTo>
                  <a:cubicBezTo>
                    <a:pt x="4249" y="8779"/>
                    <a:pt x="3545" y="8299"/>
                    <a:pt x="3075" y="8299"/>
                  </a:cubicBezTo>
                  <a:cubicBezTo>
                    <a:pt x="2840" y="8299"/>
                    <a:pt x="1431" y="8779"/>
                    <a:pt x="1197" y="8299"/>
                  </a:cubicBezTo>
                  <a:cubicBezTo>
                    <a:pt x="1197" y="8299"/>
                    <a:pt x="1431" y="7819"/>
                    <a:pt x="1431" y="7819"/>
                  </a:cubicBezTo>
                  <a:cubicBezTo>
                    <a:pt x="1431" y="7339"/>
                    <a:pt x="-212" y="7819"/>
                    <a:pt x="23" y="6859"/>
                  </a:cubicBezTo>
                  <a:cubicBezTo>
                    <a:pt x="258" y="6379"/>
                    <a:pt x="492" y="5419"/>
                    <a:pt x="727" y="4939"/>
                  </a:cubicBezTo>
                  <a:cubicBezTo>
                    <a:pt x="1666" y="4459"/>
                    <a:pt x="727" y="4459"/>
                    <a:pt x="727" y="3979"/>
                  </a:cubicBezTo>
                  <a:cubicBezTo>
                    <a:pt x="727" y="3979"/>
                    <a:pt x="1431" y="3019"/>
                    <a:pt x="1666" y="3019"/>
                  </a:cubicBezTo>
                  <a:cubicBezTo>
                    <a:pt x="2136" y="2539"/>
                    <a:pt x="2371" y="2059"/>
                    <a:pt x="2840" y="1579"/>
                  </a:cubicBezTo>
                  <a:cubicBezTo>
                    <a:pt x="3779" y="619"/>
                    <a:pt x="4484" y="139"/>
                    <a:pt x="5423" y="139"/>
                  </a:cubicBezTo>
                  <a:cubicBezTo>
                    <a:pt x="6597" y="139"/>
                    <a:pt x="5423" y="3019"/>
                    <a:pt x="5423" y="3019"/>
                  </a:cubicBezTo>
                  <a:cubicBezTo>
                    <a:pt x="5892" y="3499"/>
                    <a:pt x="6362" y="3499"/>
                    <a:pt x="6597" y="3019"/>
                  </a:cubicBezTo>
                  <a:cubicBezTo>
                    <a:pt x="6831" y="3019"/>
                    <a:pt x="6831" y="1579"/>
                    <a:pt x="7066" y="1579"/>
                  </a:cubicBezTo>
                  <a:cubicBezTo>
                    <a:pt x="7536" y="1579"/>
                    <a:pt x="8475" y="1579"/>
                    <a:pt x="8945" y="2539"/>
                  </a:cubicBezTo>
                  <a:cubicBezTo>
                    <a:pt x="9649" y="3499"/>
                    <a:pt x="8005" y="4939"/>
                    <a:pt x="9179" y="4459"/>
                  </a:cubicBezTo>
                  <a:cubicBezTo>
                    <a:pt x="9414" y="4459"/>
                    <a:pt x="9649" y="3979"/>
                    <a:pt x="9884" y="3499"/>
                  </a:cubicBezTo>
                  <a:cubicBezTo>
                    <a:pt x="10118" y="3499"/>
                    <a:pt x="10118" y="3499"/>
                    <a:pt x="10353" y="3499"/>
                  </a:cubicBezTo>
                  <a:cubicBezTo>
                    <a:pt x="10588" y="3499"/>
                    <a:pt x="10588" y="3499"/>
                    <a:pt x="10823" y="3979"/>
                  </a:cubicBezTo>
                  <a:cubicBezTo>
                    <a:pt x="11058" y="3979"/>
                    <a:pt x="11058" y="3019"/>
                    <a:pt x="11058" y="2539"/>
                  </a:cubicBezTo>
                  <a:cubicBezTo>
                    <a:pt x="10823" y="2539"/>
                    <a:pt x="10118" y="1579"/>
                    <a:pt x="9884" y="1579"/>
                  </a:cubicBezTo>
                  <a:cubicBezTo>
                    <a:pt x="10353" y="1099"/>
                    <a:pt x="11292" y="2059"/>
                    <a:pt x="11527" y="2539"/>
                  </a:cubicBezTo>
                  <a:cubicBezTo>
                    <a:pt x="12231" y="3019"/>
                    <a:pt x="12231" y="3499"/>
                    <a:pt x="12466" y="4459"/>
                  </a:cubicBezTo>
                  <a:cubicBezTo>
                    <a:pt x="12466" y="4939"/>
                    <a:pt x="12466" y="7339"/>
                    <a:pt x="12936" y="7339"/>
                  </a:cubicBezTo>
                  <a:cubicBezTo>
                    <a:pt x="13171" y="7339"/>
                    <a:pt x="14110" y="7339"/>
                    <a:pt x="13875" y="6379"/>
                  </a:cubicBezTo>
                  <a:cubicBezTo>
                    <a:pt x="13640" y="4459"/>
                    <a:pt x="13171" y="3019"/>
                    <a:pt x="12936" y="1099"/>
                  </a:cubicBezTo>
                  <a:cubicBezTo>
                    <a:pt x="12701" y="-341"/>
                    <a:pt x="13405" y="139"/>
                    <a:pt x="13640" y="139"/>
                  </a:cubicBezTo>
                  <a:cubicBezTo>
                    <a:pt x="14345" y="619"/>
                    <a:pt x="14345" y="-341"/>
                    <a:pt x="14814" y="139"/>
                  </a:cubicBezTo>
                  <a:cubicBezTo>
                    <a:pt x="15284" y="1099"/>
                    <a:pt x="15988" y="1579"/>
                    <a:pt x="15988" y="2539"/>
                  </a:cubicBezTo>
                  <a:cubicBezTo>
                    <a:pt x="16223" y="3979"/>
                    <a:pt x="16458" y="4939"/>
                    <a:pt x="16927" y="5899"/>
                  </a:cubicBezTo>
                  <a:cubicBezTo>
                    <a:pt x="17162" y="7339"/>
                    <a:pt x="17397" y="7819"/>
                    <a:pt x="17162" y="8779"/>
                  </a:cubicBezTo>
                  <a:cubicBezTo>
                    <a:pt x="16927" y="10219"/>
                    <a:pt x="17631" y="11659"/>
                    <a:pt x="18101" y="12139"/>
                  </a:cubicBezTo>
                  <a:cubicBezTo>
                    <a:pt x="18336" y="12139"/>
                    <a:pt x="18805" y="12139"/>
                    <a:pt x="19040" y="12139"/>
                  </a:cubicBezTo>
                  <a:cubicBezTo>
                    <a:pt x="19275" y="12619"/>
                    <a:pt x="19510" y="13099"/>
                    <a:pt x="19745" y="13099"/>
                  </a:cubicBezTo>
                  <a:cubicBezTo>
                    <a:pt x="20449" y="13579"/>
                    <a:pt x="21388" y="13579"/>
                    <a:pt x="21388" y="15499"/>
                  </a:cubicBezTo>
                  <a:cubicBezTo>
                    <a:pt x="21388" y="16459"/>
                    <a:pt x="19275" y="15019"/>
                    <a:pt x="19275" y="15019"/>
                  </a:cubicBezTo>
                  <a:cubicBezTo>
                    <a:pt x="19275" y="15499"/>
                    <a:pt x="19275" y="15979"/>
                    <a:pt x="19275" y="16459"/>
                  </a:cubicBezTo>
                  <a:cubicBezTo>
                    <a:pt x="19275" y="16459"/>
                    <a:pt x="18571" y="16459"/>
                    <a:pt x="18571" y="16459"/>
                  </a:cubicBezTo>
                  <a:cubicBezTo>
                    <a:pt x="18805" y="16459"/>
                    <a:pt x="18805" y="16939"/>
                    <a:pt x="18805" y="16939"/>
                  </a:cubicBezTo>
                  <a:cubicBezTo>
                    <a:pt x="18805" y="17419"/>
                    <a:pt x="18805" y="17899"/>
                    <a:pt x="18805" y="17899"/>
                  </a:cubicBezTo>
                  <a:cubicBezTo>
                    <a:pt x="18805" y="17899"/>
                    <a:pt x="19745" y="16939"/>
                    <a:pt x="19745" y="16939"/>
                  </a:cubicBezTo>
                  <a:cubicBezTo>
                    <a:pt x="20214" y="16939"/>
                    <a:pt x="19979" y="17419"/>
                    <a:pt x="19979" y="17899"/>
                  </a:cubicBezTo>
                  <a:cubicBezTo>
                    <a:pt x="19979" y="17899"/>
                    <a:pt x="20449" y="17899"/>
                    <a:pt x="20684" y="18379"/>
                  </a:cubicBezTo>
                  <a:cubicBezTo>
                    <a:pt x="20684" y="18379"/>
                    <a:pt x="19275" y="19339"/>
                    <a:pt x="19275" y="19339"/>
                  </a:cubicBezTo>
                  <a:cubicBezTo>
                    <a:pt x="18805" y="19339"/>
                    <a:pt x="19979" y="19339"/>
                    <a:pt x="19275" y="1933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99" name="Shape 1213"/>
            <p:cNvSpPr/>
            <p:nvPr/>
          </p:nvSpPr>
          <p:spPr>
            <a:xfrm>
              <a:off x="6153120" y="2469600"/>
              <a:ext cx="50400" cy="32760"/>
            </a:xfrm>
            <a:custGeom>
              <a:avLst/>
              <a:gdLst/>
              <a:ahLst/>
              <a:rect l="l" t="t" r="r" b="b"/>
              <a:pathLst>
                <a:path w="19792" h="19582">
                  <a:moveTo>
                    <a:pt x="13886" y="19200"/>
                  </a:moveTo>
                  <a:cubicBezTo>
                    <a:pt x="10800" y="19200"/>
                    <a:pt x="9257" y="12000"/>
                    <a:pt x="7714" y="12000"/>
                  </a:cubicBezTo>
                  <a:cubicBezTo>
                    <a:pt x="6171" y="9600"/>
                    <a:pt x="0" y="7200"/>
                    <a:pt x="0" y="7200"/>
                  </a:cubicBezTo>
                  <a:cubicBezTo>
                    <a:pt x="1543" y="4800"/>
                    <a:pt x="4629" y="2400"/>
                    <a:pt x="6171" y="0"/>
                  </a:cubicBezTo>
                  <a:cubicBezTo>
                    <a:pt x="9257" y="0"/>
                    <a:pt x="12343" y="0"/>
                    <a:pt x="15429" y="2400"/>
                  </a:cubicBezTo>
                  <a:cubicBezTo>
                    <a:pt x="18514" y="4800"/>
                    <a:pt x="21600" y="4800"/>
                    <a:pt x="18514" y="9600"/>
                  </a:cubicBezTo>
                  <a:cubicBezTo>
                    <a:pt x="16971" y="12000"/>
                    <a:pt x="15429" y="21600"/>
                    <a:pt x="13886" y="19200"/>
                  </a:cubicBezTo>
                  <a:cubicBezTo>
                    <a:pt x="12343" y="19200"/>
                    <a:pt x="13886" y="19200"/>
                    <a:pt x="13886" y="192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600" name="Shape 1214"/>
            <p:cNvSpPr/>
            <p:nvPr/>
          </p:nvSpPr>
          <p:spPr>
            <a:xfrm>
              <a:off x="6240960" y="2456280"/>
              <a:ext cx="122760" cy="107640"/>
            </a:xfrm>
            <a:custGeom>
              <a:avLst/>
              <a:gdLst/>
              <a:ahLst/>
              <a:rect l="l" t="t" r="r" b="b"/>
              <a:pathLst>
                <a:path w="21205" h="20099">
                  <a:moveTo>
                    <a:pt x="12150" y="19574"/>
                  </a:moveTo>
                  <a:cubicBezTo>
                    <a:pt x="10125" y="18085"/>
                    <a:pt x="8775" y="15105"/>
                    <a:pt x="6750" y="13616"/>
                  </a:cubicBezTo>
                  <a:cubicBezTo>
                    <a:pt x="4725" y="12871"/>
                    <a:pt x="2700" y="11381"/>
                    <a:pt x="675" y="10636"/>
                  </a:cubicBezTo>
                  <a:cubicBezTo>
                    <a:pt x="0" y="9892"/>
                    <a:pt x="0" y="9892"/>
                    <a:pt x="0" y="9147"/>
                  </a:cubicBezTo>
                  <a:cubicBezTo>
                    <a:pt x="0" y="6912"/>
                    <a:pt x="1350" y="7657"/>
                    <a:pt x="2700" y="8402"/>
                  </a:cubicBezTo>
                  <a:cubicBezTo>
                    <a:pt x="4050" y="9147"/>
                    <a:pt x="5400" y="10636"/>
                    <a:pt x="7425" y="9892"/>
                  </a:cubicBezTo>
                  <a:cubicBezTo>
                    <a:pt x="8100" y="9892"/>
                    <a:pt x="7425" y="8402"/>
                    <a:pt x="7425" y="8402"/>
                  </a:cubicBezTo>
                  <a:cubicBezTo>
                    <a:pt x="7425" y="7657"/>
                    <a:pt x="8775" y="8402"/>
                    <a:pt x="8775" y="7657"/>
                  </a:cubicBezTo>
                  <a:cubicBezTo>
                    <a:pt x="9450" y="6912"/>
                    <a:pt x="4725" y="5423"/>
                    <a:pt x="4725" y="5423"/>
                  </a:cubicBezTo>
                  <a:cubicBezTo>
                    <a:pt x="3375" y="4678"/>
                    <a:pt x="4050" y="3933"/>
                    <a:pt x="4725" y="3933"/>
                  </a:cubicBezTo>
                  <a:cubicBezTo>
                    <a:pt x="6075" y="3188"/>
                    <a:pt x="6075" y="3933"/>
                    <a:pt x="6750" y="4678"/>
                  </a:cubicBezTo>
                  <a:cubicBezTo>
                    <a:pt x="6750" y="4678"/>
                    <a:pt x="7425" y="3188"/>
                    <a:pt x="7425" y="3188"/>
                  </a:cubicBezTo>
                  <a:cubicBezTo>
                    <a:pt x="8100" y="3188"/>
                    <a:pt x="5400" y="2443"/>
                    <a:pt x="5400" y="2443"/>
                  </a:cubicBezTo>
                  <a:cubicBezTo>
                    <a:pt x="5400" y="2443"/>
                    <a:pt x="6750" y="1698"/>
                    <a:pt x="6750" y="1698"/>
                  </a:cubicBezTo>
                  <a:cubicBezTo>
                    <a:pt x="7425" y="1698"/>
                    <a:pt x="8775" y="2443"/>
                    <a:pt x="9450" y="2443"/>
                  </a:cubicBezTo>
                  <a:cubicBezTo>
                    <a:pt x="9450" y="2443"/>
                    <a:pt x="8775" y="1698"/>
                    <a:pt x="8775" y="1698"/>
                  </a:cubicBezTo>
                  <a:cubicBezTo>
                    <a:pt x="9450" y="954"/>
                    <a:pt x="12150" y="3188"/>
                    <a:pt x="12825" y="3188"/>
                  </a:cubicBezTo>
                  <a:cubicBezTo>
                    <a:pt x="13500" y="2443"/>
                    <a:pt x="12150" y="2443"/>
                    <a:pt x="12150" y="1698"/>
                  </a:cubicBezTo>
                  <a:cubicBezTo>
                    <a:pt x="12150" y="1698"/>
                    <a:pt x="12825" y="1698"/>
                    <a:pt x="12825" y="1698"/>
                  </a:cubicBezTo>
                  <a:cubicBezTo>
                    <a:pt x="12825" y="1698"/>
                    <a:pt x="11475" y="1698"/>
                    <a:pt x="11475" y="954"/>
                  </a:cubicBezTo>
                  <a:cubicBezTo>
                    <a:pt x="11475" y="954"/>
                    <a:pt x="16200" y="-536"/>
                    <a:pt x="16875" y="209"/>
                  </a:cubicBezTo>
                  <a:cubicBezTo>
                    <a:pt x="17550" y="209"/>
                    <a:pt x="15525" y="954"/>
                    <a:pt x="15525" y="1698"/>
                  </a:cubicBezTo>
                  <a:cubicBezTo>
                    <a:pt x="16200" y="2443"/>
                    <a:pt x="18225" y="1698"/>
                    <a:pt x="18900" y="2443"/>
                  </a:cubicBezTo>
                  <a:cubicBezTo>
                    <a:pt x="18900" y="3188"/>
                    <a:pt x="16200" y="4678"/>
                    <a:pt x="18225" y="4678"/>
                  </a:cubicBezTo>
                  <a:cubicBezTo>
                    <a:pt x="18900" y="4678"/>
                    <a:pt x="18225" y="5423"/>
                    <a:pt x="17550" y="5423"/>
                  </a:cubicBezTo>
                  <a:cubicBezTo>
                    <a:pt x="16875" y="5423"/>
                    <a:pt x="16200" y="5423"/>
                    <a:pt x="15525" y="6912"/>
                  </a:cubicBezTo>
                  <a:cubicBezTo>
                    <a:pt x="15525" y="6912"/>
                    <a:pt x="14175" y="9147"/>
                    <a:pt x="14175" y="9147"/>
                  </a:cubicBezTo>
                  <a:cubicBezTo>
                    <a:pt x="14850" y="9147"/>
                    <a:pt x="15525" y="7657"/>
                    <a:pt x="16200" y="7657"/>
                  </a:cubicBezTo>
                  <a:cubicBezTo>
                    <a:pt x="16875" y="7657"/>
                    <a:pt x="16875" y="8402"/>
                    <a:pt x="17550" y="9147"/>
                  </a:cubicBezTo>
                  <a:cubicBezTo>
                    <a:pt x="18225" y="9147"/>
                    <a:pt x="20250" y="12126"/>
                    <a:pt x="19575" y="9147"/>
                  </a:cubicBezTo>
                  <a:cubicBezTo>
                    <a:pt x="19575" y="8402"/>
                    <a:pt x="18225" y="7657"/>
                    <a:pt x="18900" y="6912"/>
                  </a:cubicBezTo>
                  <a:cubicBezTo>
                    <a:pt x="19575" y="6912"/>
                    <a:pt x="20250" y="6912"/>
                    <a:pt x="20250" y="7657"/>
                  </a:cubicBezTo>
                  <a:cubicBezTo>
                    <a:pt x="20250" y="8402"/>
                    <a:pt x="19575" y="9147"/>
                    <a:pt x="20250" y="9892"/>
                  </a:cubicBezTo>
                  <a:cubicBezTo>
                    <a:pt x="20925" y="10636"/>
                    <a:pt x="21600" y="11381"/>
                    <a:pt x="20925" y="12126"/>
                  </a:cubicBezTo>
                  <a:cubicBezTo>
                    <a:pt x="19575" y="13616"/>
                    <a:pt x="21600" y="15850"/>
                    <a:pt x="18900" y="16595"/>
                  </a:cubicBezTo>
                  <a:cubicBezTo>
                    <a:pt x="18900" y="16595"/>
                    <a:pt x="14175" y="18085"/>
                    <a:pt x="14850" y="16595"/>
                  </a:cubicBezTo>
                  <a:cubicBezTo>
                    <a:pt x="14850" y="15850"/>
                    <a:pt x="14175" y="15850"/>
                    <a:pt x="14175" y="16595"/>
                  </a:cubicBezTo>
                  <a:cubicBezTo>
                    <a:pt x="14850" y="17340"/>
                    <a:pt x="14850" y="18085"/>
                    <a:pt x="15525" y="18830"/>
                  </a:cubicBezTo>
                  <a:cubicBezTo>
                    <a:pt x="15525" y="20319"/>
                    <a:pt x="12825" y="19574"/>
                    <a:pt x="12150" y="19574"/>
                  </a:cubicBezTo>
                  <a:cubicBezTo>
                    <a:pt x="11475" y="18830"/>
                    <a:pt x="14850" y="21064"/>
                    <a:pt x="12150" y="1957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01" name="Shape 1215"/>
            <p:cNvSpPr/>
            <p:nvPr/>
          </p:nvSpPr>
          <p:spPr>
            <a:xfrm>
              <a:off x="6376680" y="2455920"/>
              <a:ext cx="101520" cy="84960"/>
            </a:xfrm>
            <a:custGeom>
              <a:avLst/>
              <a:gdLst/>
              <a:ahLst/>
              <a:rect l="l" t="t" r="r" b="b"/>
              <a:pathLst>
                <a:path w="19836" h="21025">
                  <a:moveTo>
                    <a:pt x="4971" y="21025"/>
                  </a:moveTo>
                  <a:cubicBezTo>
                    <a:pt x="3428" y="20043"/>
                    <a:pt x="1885" y="20043"/>
                    <a:pt x="1885" y="18080"/>
                  </a:cubicBezTo>
                  <a:cubicBezTo>
                    <a:pt x="1885" y="15134"/>
                    <a:pt x="-429" y="13170"/>
                    <a:pt x="342" y="10225"/>
                  </a:cubicBezTo>
                  <a:cubicBezTo>
                    <a:pt x="342" y="8261"/>
                    <a:pt x="-429" y="5316"/>
                    <a:pt x="342" y="3352"/>
                  </a:cubicBezTo>
                  <a:cubicBezTo>
                    <a:pt x="1114" y="3352"/>
                    <a:pt x="4200" y="4334"/>
                    <a:pt x="4200" y="3352"/>
                  </a:cubicBezTo>
                  <a:cubicBezTo>
                    <a:pt x="4200" y="2370"/>
                    <a:pt x="-429" y="2370"/>
                    <a:pt x="3428" y="407"/>
                  </a:cubicBezTo>
                  <a:cubicBezTo>
                    <a:pt x="6514" y="-575"/>
                    <a:pt x="8828" y="407"/>
                    <a:pt x="11914" y="1389"/>
                  </a:cubicBezTo>
                  <a:cubicBezTo>
                    <a:pt x="14228" y="1389"/>
                    <a:pt x="16542" y="1389"/>
                    <a:pt x="18857" y="2370"/>
                  </a:cubicBezTo>
                  <a:cubicBezTo>
                    <a:pt x="21171" y="3352"/>
                    <a:pt x="18857" y="5316"/>
                    <a:pt x="17314" y="7280"/>
                  </a:cubicBezTo>
                  <a:cubicBezTo>
                    <a:pt x="16542" y="9243"/>
                    <a:pt x="15771" y="11207"/>
                    <a:pt x="14228" y="12189"/>
                  </a:cubicBezTo>
                  <a:cubicBezTo>
                    <a:pt x="13457" y="14152"/>
                    <a:pt x="10371" y="12189"/>
                    <a:pt x="8828" y="12189"/>
                  </a:cubicBezTo>
                  <a:cubicBezTo>
                    <a:pt x="8828" y="12189"/>
                    <a:pt x="6514" y="12189"/>
                    <a:pt x="7285" y="13170"/>
                  </a:cubicBezTo>
                  <a:cubicBezTo>
                    <a:pt x="7285" y="14152"/>
                    <a:pt x="8828" y="14152"/>
                    <a:pt x="8057" y="16116"/>
                  </a:cubicBezTo>
                  <a:cubicBezTo>
                    <a:pt x="7285" y="16116"/>
                    <a:pt x="5742" y="21025"/>
                    <a:pt x="4971" y="21025"/>
                  </a:cubicBezTo>
                  <a:cubicBezTo>
                    <a:pt x="3428" y="20043"/>
                    <a:pt x="5742" y="21025"/>
                    <a:pt x="4971" y="21025"/>
                  </a:cubicBezTo>
                  <a:close/>
                </a:path>
              </a:pathLst>
            </a:custGeom>
            <a:solidFill>
              <a:srgbClr val="dadbdf"/>
            </a:solidFill>
            <a:ln w="4680">
              <a:solidFill>
                <a:srgbClr val="ffffff"/>
              </a:solidFill>
              <a:round/>
            </a:ln>
          </p:spPr>
          <p:style>
            <a:lnRef idx="0"/>
            <a:fillRef idx="0"/>
            <a:effectRef idx="0"/>
            <a:fontRef idx="minor"/>
          </p:style>
          <p:txBody>
            <a:bodyPr lIns="45360" rIns="45360" tIns="38160" bIns="38160" anchor="t">
              <a:noAutofit/>
            </a:bodyPr>
            <a:p>
              <a:endParaRPr b="0" lang="en-US" sz="1800" spc="-1" strike="noStrike">
                <a:solidFill>
                  <a:srgbClr val="000000"/>
                </a:solidFill>
                <a:latin typeface="Calibri"/>
              </a:endParaRPr>
            </a:p>
          </p:txBody>
        </p:sp>
        <p:sp>
          <p:nvSpPr>
            <p:cNvPr id="602" name="Shape 1216"/>
            <p:cNvSpPr/>
            <p:nvPr/>
          </p:nvSpPr>
          <p:spPr>
            <a:xfrm>
              <a:off x="5782320" y="2442600"/>
              <a:ext cx="207720" cy="127800"/>
            </a:xfrm>
            <a:custGeom>
              <a:avLst/>
              <a:gdLst/>
              <a:ahLst/>
              <a:rect l="l" t="t" r="r" b="b"/>
              <a:pathLst>
                <a:path w="21082" h="21124">
                  <a:moveTo>
                    <a:pt x="20800" y="6545"/>
                  </a:moveTo>
                  <a:cubicBezTo>
                    <a:pt x="20000" y="5236"/>
                    <a:pt x="19200" y="3927"/>
                    <a:pt x="18000" y="2618"/>
                  </a:cubicBezTo>
                  <a:cubicBezTo>
                    <a:pt x="17600" y="2618"/>
                    <a:pt x="16800" y="1964"/>
                    <a:pt x="16400" y="1964"/>
                  </a:cubicBezTo>
                  <a:cubicBezTo>
                    <a:pt x="15200" y="1309"/>
                    <a:pt x="14800" y="1964"/>
                    <a:pt x="14000" y="2618"/>
                  </a:cubicBezTo>
                  <a:cubicBezTo>
                    <a:pt x="13600" y="2618"/>
                    <a:pt x="13200" y="1964"/>
                    <a:pt x="12800" y="1964"/>
                  </a:cubicBezTo>
                  <a:cubicBezTo>
                    <a:pt x="12400" y="1309"/>
                    <a:pt x="11600" y="1309"/>
                    <a:pt x="10800" y="655"/>
                  </a:cubicBezTo>
                  <a:cubicBezTo>
                    <a:pt x="10000" y="655"/>
                    <a:pt x="8800" y="0"/>
                    <a:pt x="8000" y="0"/>
                  </a:cubicBezTo>
                  <a:cubicBezTo>
                    <a:pt x="6800" y="0"/>
                    <a:pt x="5600" y="655"/>
                    <a:pt x="4400" y="655"/>
                  </a:cubicBezTo>
                  <a:cubicBezTo>
                    <a:pt x="3600" y="1309"/>
                    <a:pt x="2400" y="655"/>
                    <a:pt x="3200" y="1964"/>
                  </a:cubicBezTo>
                  <a:cubicBezTo>
                    <a:pt x="4000" y="4582"/>
                    <a:pt x="4000" y="5236"/>
                    <a:pt x="2800" y="7200"/>
                  </a:cubicBezTo>
                  <a:cubicBezTo>
                    <a:pt x="2000" y="8509"/>
                    <a:pt x="2800" y="9164"/>
                    <a:pt x="2800" y="9818"/>
                  </a:cubicBezTo>
                  <a:cubicBezTo>
                    <a:pt x="2400" y="10473"/>
                    <a:pt x="1600" y="10473"/>
                    <a:pt x="1600" y="11782"/>
                  </a:cubicBezTo>
                  <a:cubicBezTo>
                    <a:pt x="1200" y="13091"/>
                    <a:pt x="400" y="14400"/>
                    <a:pt x="0" y="15709"/>
                  </a:cubicBezTo>
                  <a:cubicBezTo>
                    <a:pt x="0" y="16364"/>
                    <a:pt x="2400" y="17018"/>
                    <a:pt x="2800" y="17018"/>
                  </a:cubicBezTo>
                  <a:cubicBezTo>
                    <a:pt x="4000" y="18327"/>
                    <a:pt x="4800" y="20945"/>
                    <a:pt x="6000" y="20945"/>
                  </a:cubicBezTo>
                  <a:cubicBezTo>
                    <a:pt x="6400" y="21600"/>
                    <a:pt x="7200" y="20291"/>
                    <a:pt x="7600" y="19636"/>
                  </a:cubicBezTo>
                  <a:cubicBezTo>
                    <a:pt x="8400" y="18982"/>
                    <a:pt x="9200" y="19636"/>
                    <a:pt x="10000" y="18982"/>
                  </a:cubicBezTo>
                  <a:cubicBezTo>
                    <a:pt x="10800" y="18982"/>
                    <a:pt x="10800" y="18327"/>
                    <a:pt x="11200" y="17018"/>
                  </a:cubicBezTo>
                  <a:cubicBezTo>
                    <a:pt x="11200" y="15709"/>
                    <a:pt x="11200" y="15055"/>
                    <a:pt x="12400" y="13745"/>
                  </a:cubicBezTo>
                  <a:cubicBezTo>
                    <a:pt x="13200" y="13091"/>
                    <a:pt x="13600" y="11782"/>
                    <a:pt x="14800" y="11127"/>
                  </a:cubicBezTo>
                  <a:cubicBezTo>
                    <a:pt x="16000" y="9818"/>
                    <a:pt x="17200" y="9164"/>
                    <a:pt x="18400" y="8509"/>
                  </a:cubicBezTo>
                  <a:cubicBezTo>
                    <a:pt x="18400" y="8509"/>
                    <a:pt x="21200" y="6545"/>
                    <a:pt x="20800" y="6545"/>
                  </a:cubicBezTo>
                  <a:cubicBezTo>
                    <a:pt x="20400" y="5891"/>
                    <a:pt x="21600" y="7200"/>
                    <a:pt x="20800" y="654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03" name="Shape 1217"/>
            <p:cNvSpPr/>
            <p:nvPr/>
          </p:nvSpPr>
          <p:spPr>
            <a:xfrm>
              <a:off x="6199560" y="2406240"/>
              <a:ext cx="20160" cy="15840"/>
            </a:xfrm>
            <a:custGeom>
              <a:avLst/>
              <a:gdLst/>
              <a:ahLst/>
              <a:rect l="l" t="t" r="r" b="b"/>
              <a:pathLst>
                <a:path w="15476" h="21600">
                  <a:moveTo>
                    <a:pt x="9887" y="21600"/>
                  </a:moveTo>
                  <a:cubicBezTo>
                    <a:pt x="6801" y="21600"/>
                    <a:pt x="630" y="21600"/>
                    <a:pt x="630" y="16200"/>
                  </a:cubicBezTo>
                  <a:cubicBezTo>
                    <a:pt x="-2456" y="10800"/>
                    <a:pt x="6801" y="0"/>
                    <a:pt x="6801" y="0"/>
                  </a:cubicBezTo>
                  <a:cubicBezTo>
                    <a:pt x="16058" y="0"/>
                    <a:pt x="19144" y="21600"/>
                    <a:pt x="9887" y="21600"/>
                  </a:cubicBezTo>
                  <a:cubicBezTo>
                    <a:pt x="630" y="16200"/>
                    <a:pt x="16058" y="21600"/>
                    <a:pt x="9887" y="2160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604" name="Shape 1218"/>
            <p:cNvSpPr/>
            <p:nvPr/>
          </p:nvSpPr>
          <p:spPr>
            <a:xfrm>
              <a:off x="5952240" y="2342520"/>
              <a:ext cx="234360" cy="104040"/>
            </a:xfrm>
            <a:custGeom>
              <a:avLst/>
              <a:gdLst/>
              <a:ahLst/>
              <a:rect l="l" t="t" r="r" b="b"/>
              <a:pathLst>
                <a:path w="21338" h="20131">
                  <a:moveTo>
                    <a:pt x="18000" y="15502"/>
                  </a:moveTo>
                  <a:cubicBezTo>
                    <a:pt x="17640" y="15502"/>
                    <a:pt x="17640" y="14731"/>
                    <a:pt x="17280" y="14731"/>
                  </a:cubicBezTo>
                  <a:cubicBezTo>
                    <a:pt x="17280" y="14731"/>
                    <a:pt x="16560" y="15502"/>
                    <a:pt x="16560" y="16274"/>
                  </a:cubicBezTo>
                  <a:cubicBezTo>
                    <a:pt x="16200" y="16274"/>
                    <a:pt x="15840" y="16274"/>
                    <a:pt x="15480" y="15502"/>
                  </a:cubicBezTo>
                  <a:cubicBezTo>
                    <a:pt x="15120" y="15502"/>
                    <a:pt x="14760" y="15502"/>
                    <a:pt x="14400" y="16274"/>
                  </a:cubicBezTo>
                  <a:cubicBezTo>
                    <a:pt x="12600" y="17817"/>
                    <a:pt x="10800" y="18588"/>
                    <a:pt x="8640" y="19360"/>
                  </a:cubicBezTo>
                  <a:cubicBezTo>
                    <a:pt x="8280" y="19360"/>
                    <a:pt x="7200" y="20131"/>
                    <a:pt x="6840" y="20131"/>
                  </a:cubicBezTo>
                  <a:cubicBezTo>
                    <a:pt x="6120" y="19360"/>
                    <a:pt x="4680" y="18588"/>
                    <a:pt x="6120" y="17045"/>
                  </a:cubicBezTo>
                  <a:cubicBezTo>
                    <a:pt x="6840" y="17045"/>
                    <a:pt x="7920" y="15502"/>
                    <a:pt x="8640" y="15502"/>
                  </a:cubicBezTo>
                  <a:cubicBezTo>
                    <a:pt x="9360" y="15502"/>
                    <a:pt x="10080" y="15502"/>
                    <a:pt x="10440" y="15502"/>
                  </a:cubicBezTo>
                  <a:cubicBezTo>
                    <a:pt x="10440" y="15502"/>
                    <a:pt x="11520" y="13960"/>
                    <a:pt x="11160" y="13960"/>
                  </a:cubicBezTo>
                  <a:cubicBezTo>
                    <a:pt x="10800" y="13188"/>
                    <a:pt x="9000" y="13960"/>
                    <a:pt x="8640" y="13960"/>
                  </a:cubicBezTo>
                  <a:cubicBezTo>
                    <a:pt x="7920" y="14731"/>
                    <a:pt x="7560" y="14731"/>
                    <a:pt x="6840" y="14731"/>
                  </a:cubicBezTo>
                  <a:cubicBezTo>
                    <a:pt x="6120" y="14731"/>
                    <a:pt x="6840" y="13960"/>
                    <a:pt x="6840" y="13188"/>
                  </a:cubicBezTo>
                  <a:cubicBezTo>
                    <a:pt x="6840" y="10874"/>
                    <a:pt x="4680" y="14731"/>
                    <a:pt x="4320" y="14731"/>
                  </a:cubicBezTo>
                  <a:cubicBezTo>
                    <a:pt x="4320" y="14731"/>
                    <a:pt x="3960" y="15502"/>
                    <a:pt x="3960" y="15502"/>
                  </a:cubicBezTo>
                  <a:cubicBezTo>
                    <a:pt x="3240" y="13960"/>
                    <a:pt x="3240" y="15502"/>
                    <a:pt x="3240" y="16274"/>
                  </a:cubicBezTo>
                  <a:cubicBezTo>
                    <a:pt x="3240" y="16274"/>
                    <a:pt x="2160" y="14731"/>
                    <a:pt x="1800" y="14731"/>
                  </a:cubicBezTo>
                  <a:cubicBezTo>
                    <a:pt x="1440" y="14731"/>
                    <a:pt x="0" y="15502"/>
                    <a:pt x="0" y="13960"/>
                  </a:cubicBezTo>
                  <a:cubicBezTo>
                    <a:pt x="0" y="12417"/>
                    <a:pt x="720" y="13188"/>
                    <a:pt x="1440" y="12417"/>
                  </a:cubicBezTo>
                  <a:cubicBezTo>
                    <a:pt x="2160" y="12417"/>
                    <a:pt x="2880" y="12417"/>
                    <a:pt x="3240" y="11645"/>
                  </a:cubicBezTo>
                  <a:cubicBezTo>
                    <a:pt x="3240" y="11645"/>
                    <a:pt x="4320" y="10874"/>
                    <a:pt x="3960" y="10874"/>
                  </a:cubicBezTo>
                  <a:cubicBezTo>
                    <a:pt x="3240" y="10102"/>
                    <a:pt x="2160" y="10874"/>
                    <a:pt x="1800" y="10874"/>
                  </a:cubicBezTo>
                  <a:cubicBezTo>
                    <a:pt x="720" y="10874"/>
                    <a:pt x="0" y="9331"/>
                    <a:pt x="1440" y="9331"/>
                  </a:cubicBezTo>
                  <a:cubicBezTo>
                    <a:pt x="2160" y="9331"/>
                    <a:pt x="3600" y="8560"/>
                    <a:pt x="4320" y="8560"/>
                  </a:cubicBezTo>
                  <a:cubicBezTo>
                    <a:pt x="3960" y="8560"/>
                    <a:pt x="1440" y="9331"/>
                    <a:pt x="1440" y="7788"/>
                  </a:cubicBezTo>
                  <a:cubicBezTo>
                    <a:pt x="1080" y="6245"/>
                    <a:pt x="4320" y="7017"/>
                    <a:pt x="4680" y="6245"/>
                  </a:cubicBezTo>
                  <a:cubicBezTo>
                    <a:pt x="4680" y="6245"/>
                    <a:pt x="3240" y="5474"/>
                    <a:pt x="3240" y="4702"/>
                  </a:cubicBezTo>
                  <a:cubicBezTo>
                    <a:pt x="2880" y="3931"/>
                    <a:pt x="5040" y="3160"/>
                    <a:pt x="5040" y="3160"/>
                  </a:cubicBezTo>
                  <a:cubicBezTo>
                    <a:pt x="6120" y="3160"/>
                    <a:pt x="5400" y="6245"/>
                    <a:pt x="6120" y="6245"/>
                  </a:cubicBezTo>
                  <a:cubicBezTo>
                    <a:pt x="7200" y="6245"/>
                    <a:pt x="7920" y="6245"/>
                    <a:pt x="9000" y="7017"/>
                  </a:cubicBezTo>
                  <a:cubicBezTo>
                    <a:pt x="9360" y="7788"/>
                    <a:pt x="10080" y="8560"/>
                    <a:pt x="10440" y="9331"/>
                  </a:cubicBezTo>
                  <a:cubicBezTo>
                    <a:pt x="11160" y="10874"/>
                    <a:pt x="10800" y="11645"/>
                    <a:pt x="11520" y="11645"/>
                  </a:cubicBezTo>
                  <a:cubicBezTo>
                    <a:pt x="12600" y="11645"/>
                    <a:pt x="13320" y="11645"/>
                    <a:pt x="14040" y="10874"/>
                  </a:cubicBezTo>
                  <a:cubicBezTo>
                    <a:pt x="15480" y="10102"/>
                    <a:pt x="13320" y="9331"/>
                    <a:pt x="13320" y="8560"/>
                  </a:cubicBezTo>
                  <a:cubicBezTo>
                    <a:pt x="13320" y="8560"/>
                    <a:pt x="16200" y="7788"/>
                    <a:pt x="13680" y="5474"/>
                  </a:cubicBezTo>
                  <a:cubicBezTo>
                    <a:pt x="13320" y="5474"/>
                    <a:pt x="12600" y="5474"/>
                    <a:pt x="12960" y="4702"/>
                  </a:cubicBezTo>
                  <a:cubicBezTo>
                    <a:pt x="13320" y="3931"/>
                    <a:pt x="13680" y="3160"/>
                    <a:pt x="13680" y="2388"/>
                  </a:cubicBezTo>
                  <a:cubicBezTo>
                    <a:pt x="14040" y="1617"/>
                    <a:pt x="15480" y="-1469"/>
                    <a:pt x="15480" y="845"/>
                  </a:cubicBezTo>
                  <a:cubicBezTo>
                    <a:pt x="15480" y="1617"/>
                    <a:pt x="15840" y="2388"/>
                    <a:pt x="15840" y="3931"/>
                  </a:cubicBezTo>
                  <a:cubicBezTo>
                    <a:pt x="16200" y="3931"/>
                    <a:pt x="16200" y="4702"/>
                    <a:pt x="16200" y="5474"/>
                  </a:cubicBezTo>
                  <a:cubicBezTo>
                    <a:pt x="16560" y="6245"/>
                    <a:pt x="15840" y="5474"/>
                    <a:pt x="15840" y="6245"/>
                  </a:cubicBezTo>
                  <a:cubicBezTo>
                    <a:pt x="15840" y="7788"/>
                    <a:pt x="16920" y="6245"/>
                    <a:pt x="16920" y="7017"/>
                  </a:cubicBezTo>
                  <a:cubicBezTo>
                    <a:pt x="16920" y="8560"/>
                    <a:pt x="18000" y="9331"/>
                    <a:pt x="18360" y="9331"/>
                  </a:cubicBezTo>
                  <a:cubicBezTo>
                    <a:pt x="19080" y="9331"/>
                    <a:pt x="19080" y="10102"/>
                    <a:pt x="19080" y="8560"/>
                  </a:cubicBezTo>
                  <a:cubicBezTo>
                    <a:pt x="19080" y="7017"/>
                    <a:pt x="19800" y="7017"/>
                    <a:pt x="20520" y="7788"/>
                  </a:cubicBezTo>
                  <a:cubicBezTo>
                    <a:pt x="20880" y="7788"/>
                    <a:pt x="21600" y="9331"/>
                    <a:pt x="21240" y="10102"/>
                  </a:cubicBezTo>
                  <a:cubicBezTo>
                    <a:pt x="21240" y="10874"/>
                    <a:pt x="20880" y="13188"/>
                    <a:pt x="20880" y="13960"/>
                  </a:cubicBezTo>
                  <a:cubicBezTo>
                    <a:pt x="20520" y="14731"/>
                    <a:pt x="18360" y="15502"/>
                    <a:pt x="18000" y="15502"/>
                  </a:cubicBezTo>
                  <a:cubicBezTo>
                    <a:pt x="17280" y="14731"/>
                    <a:pt x="18360" y="15502"/>
                    <a:pt x="18000" y="1550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05" name="Shape 1219"/>
            <p:cNvSpPr/>
            <p:nvPr/>
          </p:nvSpPr>
          <p:spPr>
            <a:xfrm>
              <a:off x="5911920" y="2381400"/>
              <a:ext cx="37080" cy="21240"/>
            </a:xfrm>
            <a:custGeom>
              <a:avLst/>
              <a:gdLst/>
              <a:ahLst/>
              <a:rect l="l" t="t" r="r" b="b"/>
              <a:pathLst>
                <a:path w="19894" h="17277">
                  <a:moveTo>
                    <a:pt x="19440" y="1372"/>
                  </a:moveTo>
                  <a:cubicBezTo>
                    <a:pt x="17280" y="1372"/>
                    <a:pt x="0" y="13715"/>
                    <a:pt x="0" y="13715"/>
                  </a:cubicBezTo>
                  <a:cubicBezTo>
                    <a:pt x="4320" y="16800"/>
                    <a:pt x="10800" y="19886"/>
                    <a:pt x="12960" y="13715"/>
                  </a:cubicBezTo>
                  <a:cubicBezTo>
                    <a:pt x="15120" y="10629"/>
                    <a:pt x="19440" y="-1714"/>
                    <a:pt x="19440" y="1372"/>
                  </a:cubicBezTo>
                  <a:cubicBezTo>
                    <a:pt x="15120" y="1372"/>
                    <a:pt x="21600" y="-1714"/>
                    <a:pt x="19440" y="1372"/>
                  </a:cubicBezTo>
                  <a:close/>
                </a:path>
              </a:pathLst>
            </a:custGeom>
            <a:solidFill>
              <a:srgbClr val="dadbdf"/>
            </a:solidFill>
            <a:ln w="4680">
              <a:solidFill>
                <a:srgbClr val="ffffff"/>
              </a:solidFill>
              <a:round/>
            </a:ln>
          </p:spPr>
          <p:style>
            <a:lnRef idx="0"/>
            <a:fillRef idx="0"/>
            <a:effectRef idx="0"/>
            <a:fontRef idx="minor"/>
          </p:style>
          <p:txBody>
            <a:bodyPr lIns="45360" rIns="45360" tIns="-25560" bIns="-25560" anchor="t">
              <a:noAutofit/>
            </a:bodyPr>
            <a:p>
              <a:endParaRPr b="0" lang="en-US" sz="1800" spc="-1" strike="noStrike">
                <a:solidFill>
                  <a:srgbClr val="000000"/>
                </a:solidFill>
                <a:latin typeface="Calibri"/>
              </a:endParaRPr>
            </a:p>
          </p:txBody>
        </p:sp>
        <p:sp>
          <p:nvSpPr>
            <p:cNvPr id="606" name="Shape 1220"/>
            <p:cNvSpPr/>
            <p:nvPr/>
          </p:nvSpPr>
          <p:spPr>
            <a:xfrm>
              <a:off x="5841720" y="2319840"/>
              <a:ext cx="142200" cy="67320"/>
            </a:xfrm>
            <a:custGeom>
              <a:avLst/>
              <a:gdLst/>
              <a:ahLst/>
              <a:rect l="l" t="t" r="r" b="b"/>
              <a:pathLst>
                <a:path w="21135" h="21600">
                  <a:moveTo>
                    <a:pt x="17514" y="15247"/>
                  </a:moveTo>
                  <a:cubicBezTo>
                    <a:pt x="16930" y="16518"/>
                    <a:pt x="15762" y="16518"/>
                    <a:pt x="15762" y="16518"/>
                  </a:cubicBezTo>
                  <a:cubicBezTo>
                    <a:pt x="14011" y="16518"/>
                    <a:pt x="14595" y="13976"/>
                    <a:pt x="15178" y="12706"/>
                  </a:cubicBezTo>
                  <a:cubicBezTo>
                    <a:pt x="15762" y="10165"/>
                    <a:pt x="14011" y="8894"/>
                    <a:pt x="13427" y="10165"/>
                  </a:cubicBezTo>
                  <a:cubicBezTo>
                    <a:pt x="13427" y="11435"/>
                    <a:pt x="13427" y="12706"/>
                    <a:pt x="12843" y="12706"/>
                  </a:cubicBezTo>
                  <a:cubicBezTo>
                    <a:pt x="12843" y="12706"/>
                    <a:pt x="12259" y="12706"/>
                    <a:pt x="12259" y="11435"/>
                  </a:cubicBezTo>
                  <a:cubicBezTo>
                    <a:pt x="11676" y="12706"/>
                    <a:pt x="12259" y="15247"/>
                    <a:pt x="11676" y="16518"/>
                  </a:cubicBezTo>
                  <a:cubicBezTo>
                    <a:pt x="11092" y="19059"/>
                    <a:pt x="10508" y="16518"/>
                    <a:pt x="9924" y="17788"/>
                  </a:cubicBezTo>
                  <a:cubicBezTo>
                    <a:pt x="9341" y="17788"/>
                    <a:pt x="9924" y="20329"/>
                    <a:pt x="9341" y="20329"/>
                  </a:cubicBezTo>
                  <a:cubicBezTo>
                    <a:pt x="9341" y="21600"/>
                    <a:pt x="7589" y="21600"/>
                    <a:pt x="7005" y="21600"/>
                  </a:cubicBezTo>
                  <a:cubicBezTo>
                    <a:pt x="6422" y="20329"/>
                    <a:pt x="6422" y="17788"/>
                    <a:pt x="5838" y="19059"/>
                  </a:cubicBezTo>
                  <a:cubicBezTo>
                    <a:pt x="4670" y="20329"/>
                    <a:pt x="4086" y="20329"/>
                    <a:pt x="2919" y="20329"/>
                  </a:cubicBezTo>
                  <a:cubicBezTo>
                    <a:pt x="2335" y="20329"/>
                    <a:pt x="1168" y="21600"/>
                    <a:pt x="584" y="21600"/>
                  </a:cubicBezTo>
                  <a:cubicBezTo>
                    <a:pt x="0" y="21600"/>
                    <a:pt x="1751" y="17788"/>
                    <a:pt x="1168" y="16518"/>
                  </a:cubicBezTo>
                  <a:cubicBezTo>
                    <a:pt x="1168" y="16518"/>
                    <a:pt x="584" y="17788"/>
                    <a:pt x="0" y="17788"/>
                  </a:cubicBezTo>
                  <a:cubicBezTo>
                    <a:pt x="0" y="16518"/>
                    <a:pt x="2919" y="15247"/>
                    <a:pt x="3503" y="15247"/>
                  </a:cubicBezTo>
                  <a:cubicBezTo>
                    <a:pt x="4670" y="15247"/>
                    <a:pt x="4670" y="13976"/>
                    <a:pt x="5254" y="12706"/>
                  </a:cubicBezTo>
                  <a:cubicBezTo>
                    <a:pt x="6422" y="10165"/>
                    <a:pt x="7005" y="10165"/>
                    <a:pt x="7589" y="8894"/>
                  </a:cubicBezTo>
                  <a:cubicBezTo>
                    <a:pt x="8757" y="6353"/>
                    <a:pt x="9341" y="3812"/>
                    <a:pt x="10508" y="3812"/>
                  </a:cubicBezTo>
                  <a:cubicBezTo>
                    <a:pt x="11676" y="2541"/>
                    <a:pt x="12843" y="2541"/>
                    <a:pt x="14011" y="3812"/>
                  </a:cubicBezTo>
                  <a:cubicBezTo>
                    <a:pt x="15178" y="3812"/>
                    <a:pt x="16930" y="5082"/>
                    <a:pt x="17514" y="3812"/>
                  </a:cubicBezTo>
                  <a:cubicBezTo>
                    <a:pt x="18097" y="2541"/>
                    <a:pt x="17514" y="0"/>
                    <a:pt x="18681" y="0"/>
                  </a:cubicBezTo>
                  <a:cubicBezTo>
                    <a:pt x="18681" y="0"/>
                    <a:pt x="21016" y="1271"/>
                    <a:pt x="21016" y="2541"/>
                  </a:cubicBezTo>
                  <a:cubicBezTo>
                    <a:pt x="21600" y="2541"/>
                    <a:pt x="19849" y="3812"/>
                    <a:pt x="19849" y="5082"/>
                  </a:cubicBezTo>
                  <a:cubicBezTo>
                    <a:pt x="19849" y="6353"/>
                    <a:pt x="21600" y="7624"/>
                    <a:pt x="19849" y="8894"/>
                  </a:cubicBezTo>
                  <a:cubicBezTo>
                    <a:pt x="19265" y="10165"/>
                    <a:pt x="21016" y="11435"/>
                    <a:pt x="20432" y="11435"/>
                  </a:cubicBezTo>
                  <a:cubicBezTo>
                    <a:pt x="19265" y="12706"/>
                    <a:pt x="18681" y="12706"/>
                    <a:pt x="18097" y="12706"/>
                  </a:cubicBezTo>
                  <a:cubicBezTo>
                    <a:pt x="18097" y="13976"/>
                    <a:pt x="18097" y="13976"/>
                    <a:pt x="17514" y="15247"/>
                  </a:cubicBezTo>
                  <a:cubicBezTo>
                    <a:pt x="16930" y="16518"/>
                    <a:pt x="18097" y="13976"/>
                    <a:pt x="17514" y="15247"/>
                  </a:cubicBezTo>
                  <a:close/>
                </a:path>
              </a:pathLst>
            </a:custGeom>
            <a:solidFill>
              <a:srgbClr val="dadbdf"/>
            </a:solidFill>
            <a:ln w="4680">
              <a:solidFill>
                <a:srgbClr val="ffffff"/>
              </a:solidFill>
              <a:round/>
            </a:ln>
          </p:spPr>
          <p:style>
            <a:lnRef idx="0"/>
            <a:fillRef idx="0"/>
            <a:effectRef idx="0"/>
            <a:fontRef idx="minor"/>
          </p:style>
          <p:txBody>
            <a:bodyPr lIns="45360" rIns="45360" tIns="20520" bIns="20520" anchor="t">
              <a:noAutofit/>
            </a:bodyPr>
            <a:p>
              <a:endParaRPr b="0" lang="en-US" sz="1800" spc="-1" strike="noStrike">
                <a:solidFill>
                  <a:srgbClr val="000000"/>
                </a:solidFill>
                <a:latin typeface="Calibri"/>
              </a:endParaRPr>
            </a:p>
          </p:txBody>
        </p:sp>
        <p:sp>
          <p:nvSpPr>
            <p:cNvPr id="607" name="Shape 1221"/>
            <p:cNvSpPr/>
            <p:nvPr/>
          </p:nvSpPr>
          <p:spPr>
            <a:xfrm>
              <a:off x="6006960" y="2346840"/>
              <a:ext cx="18360" cy="7920"/>
            </a:xfrm>
            <a:custGeom>
              <a:avLst/>
              <a:gdLst/>
              <a:ahLst/>
              <a:rect l="l" t="t" r="r" b="b"/>
              <a:pathLst>
                <a:path w="12793" h="21600">
                  <a:moveTo>
                    <a:pt x="11013" y="21600"/>
                  </a:moveTo>
                  <a:cubicBezTo>
                    <a:pt x="5613" y="21600"/>
                    <a:pt x="-5187" y="10800"/>
                    <a:pt x="2913" y="0"/>
                  </a:cubicBezTo>
                  <a:cubicBezTo>
                    <a:pt x="8313" y="0"/>
                    <a:pt x="16413" y="21600"/>
                    <a:pt x="11013"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608" name="Shape 1222"/>
            <p:cNvSpPr/>
            <p:nvPr/>
          </p:nvSpPr>
          <p:spPr>
            <a:xfrm>
              <a:off x="6032880" y="2291760"/>
              <a:ext cx="71640" cy="36720"/>
            </a:xfrm>
            <a:custGeom>
              <a:avLst/>
              <a:gdLst/>
              <a:ahLst/>
              <a:rect l="l" t="t" r="r" b="b"/>
              <a:pathLst>
                <a:path w="18595" h="20400">
                  <a:moveTo>
                    <a:pt x="5560" y="19440"/>
                  </a:moveTo>
                  <a:cubicBezTo>
                    <a:pt x="4531" y="19440"/>
                    <a:pt x="-1640" y="12960"/>
                    <a:pt x="417" y="8640"/>
                  </a:cubicBezTo>
                  <a:cubicBezTo>
                    <a:pt x="2474" y="4320"/>
                    <a:pt x="5560" y="4320"/>
                    <a:pt x="7617" y="4320"/>
                  </a:cubicBezTo>
                  <a:cubicBezTo>
                    <a:pt x="10703" y="2160"/>
                    <a:pt x="13789" y="0"/>
                    <a:pt x="15846" y="0"/>
                  </a:cubicBezTo>
                  <a:cubicBezTo>
                    <a:pt x="16874" y="0"/>
                    <a:pt x="19960" y="2160"/>
                    <a:pt x="17903" y="4320"/>
                  </a:cubicBezTo>
                  <a:cubicBezTo>
                    <a:pt x="16874" y="6480"/>
                    <a:pt x="13789" y="4320"/>
                    <a:pt x="12760" y="8640"/>
                  </a:cubicBezTo>
                  <a:cubicBezTo>
                    <a:pt x="12760" y="8640"/>
                    <a:pt x="17903" y="12960"/>
                    <a:pt x="13789" y="15120"/>
                  </a:cubicBezTo>
                  <a:cubicBezTo>
                    <a:pt x="11731" y="17280"/>
                    <a:pt x="8646" y="21600"/>
                    <a:pt x="5560" y="19440"/>
                  </a:cubicBezTo>
                  <a:cubicBezTo>
                    <a:pt x="3503" y="19440"/>
                    <a:pt x="7617" y="21600"/>
                    <a:pt x="5560" y="19440"/>
                  </a:cubicBezTo>
                  <a:close/>
                </a:path>
              </a:pathLst>
            </a:custGeom>
            <a:solidFill>
              <a:srgbClr val="dadbdf"/>
            </a:solidFill>
            <a:ln w="4680">
              <a:solidFill>
                <a:srgbClr val="ffffff"/>
              </a:solidFill>
              <a:round/>
            </a:ln>
          </p:spPr>
          <p:style>
            <a:lnRef idx="0"/>
            <a:fillRef idx="0"/>
            <a:effectRef idx="0"/>
            <a:fontRef idx="minor"/>
          </p:style>
          <p:txBody>
            <a:bodyPr lIns="45360" rIns="45360" tIns="-10080" bIns="-10080" anchor="t">
              <a:noAutofit/>
            </a:bodyPr>
            <a:p>
              <a:endParaRPr b="0" lang="en-US" sz="1800" spc="-1" strike="noStrike">
                <a:solidFill>
                  <a:srgbClr val="000000"/>
                </a:solidFill>
                <a:latin typeface="Calibri"/>
              </a:endParaRPr>
            </a:p>
          </p:txBody>
        </p:sp>
        <p:sp>
          <p:nvSpPr>
            <p:cNvPr id="609" name="Shape 1223"/>
            <p:cNvSpPr/>
            <p:nvPr/>
          </p:nvSpPr>
          <p:spPr>
            <a:xfrm>
              <a:off x="5998680" y="2299680"/>
              <a:ext cx="18720" cy="15840"/>
            </a:xfrm>
            <a:custGeom>
              <a:avLst/>
              <a:gdLst/>
              <a:ahLst/>
              <a:rect l="l" t="t" r="r" b="b"/>
              <a:pathLst>
                <a:path w="13186" h="21600">
                  <a:moveTo>
                    <a:pt x="11013" y="21600"/>
                  </a:moveTo>
                  <a:cubicBezTo>
                    <a:pt x="5613" y="21600"/>
                    <a:pt x="-5187" y="0"/>
                    <a:pt x="2913" y="0"/>
                  </a:cubicBezTo>
                  <a:cubicBezTo>
                    <a:pt x="11013" y="0"/>
                    <a:pt x="16413" y="16200"/>
                    <a:pt x="11013" y="2160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610" name="Shape 1224"/>
            <p:cNvSpPr/>
            <p:nvPr/>
          </p:nvSpPr>
          <p:spPr>
            <a:xfrm>
              <a:off x="6037200" y="2265840"/>
              <a:ext cx="70920" cy="23400"/>
            </a:xfrm>
            <a:custGeom>
              <a:avLst/>
              <a:gdLst/>
              <a:ahLst/>
              <a:rect l="l" t="t" r="r" b="b"/>
              <a:pathLst>
                <a:path w="18409" h="18011">
                  <a:moveTo>
                    <a:pt x="297" y="13554"/>
                  </a:moveTo>
                  <a:cubicBezTo>
                    <a:pt x="-732" y="13554"/>
                    <a:pt x="2354" y="10468"/>
                    <a:pt x="3382" y="10468"/>
                  </a:cubicBezTo>
                  <a:cubicBezTo>
                    <a:pt x="5439" y="7382"/>
                    <a:pt x="6468" y="4296"/>
                    <a:pt x="8525" y="1211"/>
                  </a:cubicBezTo>
                  <a:cubicBezTo>
                    <a:pt x="11611" y="-1875"/>
                    <a:pt x="14697" y="1211"/>
                    <a:pt x="17782" y="7382"/>
                  </a:cubicBezTo>
                  <a:cubicBezTo>
                    <a:pt x="20868" y="16639"/>
                    <a:pt x="11611" y="16639"/>
                    <a:pt x="10582" y="16639"/>
                  </a:cubicBezTo>
                  <a:cubicBezTo>
                    <a:pt x="8525" y="16639"/>
                    <a:pt x="7497" y="19725"/>
                    <a:pt x="5439" y="16639"/>
                  </a:cubicBezTo>
                  <a:cubicBezTo>
                    <a:pt x="3382" y="13554"/>
                    <a:pt x="1325" y="16639"/>
                    <a:pt x="297" y="13554"/>
                  </a:cubicBezTo>
                  <a:cubicBezTo>
                    <a:pt x="-732" y="10468"/>
                    <a:pt x="1325" y="16639"/>
                    <a:pt x="297" y="13554"/>
                  </a:cubicBezTo>
                  <a:close/>
                </a:path>
              </a:pathLst>
            </a:custGeom>
            <a:solidFill>
              <a:srgbClr val="dadbdf"/>
            </a:solidFill>
            <a:ln w="4680">
              <a:solidFill>
                <a:srgbClr val="ffffff"/>
              </a:solidFill>
              <a:round/>
            </a:ln>
          </p:spPr>
          <p:style>
            <a:lnRef idx="0"/>
            <a:fillRef idx="0"/>
            <a:effectRef idx="0"/>
            <a:fontRef idx="minor"/>
          </p:style>
          <p:txBody>
            <a:bodyPr lIns="45360" rIns="45360" tIns="-23400" bIns="-23400" anchor="t">
              <a:noAutofit/>
            </a:bodyPr>
            <a:p>
              <a:endParaRPr b="0" lang="en-US" sz="1800" spc="-1" strike="noStrike">
                <a:solidFill>
                  <a:srgbClr val="000000"/>
                </a:solidFill>
                <a:latin typeface="Calibri"/>
              </a:endParaRPr>
            </a:p>
          </p:txBody>
        </p:sp>
        <p:sp>
          <p:nvSpPr>
            <p:cNvPr id="611" name="Shape 1225"/>
            <p:cNvSpPr/>
            <p:nvPr/>
          </p:nvSpPr>
          <p:spPr>
            <a:xfrm>
              <a:off x="6239520" y="2350800"/>
              <a:ext cx="106200" cy="71280"/>
            </a:xfrm>
            <a:custGeom>
              <a:avLst/>
              <a:gdLst/>
              <a:ahLst/>
              <a:rect l="l" t="t" r="r" b="b"/>
              <a:pathLst>
                <a:path w="20780" h="20463">
                  <a:moveTo>
                    <a:pt x="16416" y="20463"/>
                  </a:moveTo>
                  <a:cubicBezTo>
                    <a:pt x="14874" y="20463"/>
                    <a:pt x="12559" y="20463"/>
                    <a:pt x="11016" y="20463"/>
                  </a:cubicBezTo>
                  <a:cubicBezTo>
                    <a:pt x="8702" y="20463"/>
                    <a:pt x="11016" y="19326"/>
                    <a:pt x="11016" y="18189"/>
                  </a:cubicBezTo>
                  <a:cubicBezTo>
                    <a:pt x="11788" y="17052"/>
                    <a:pt x="7931" y="17052"/>
                    <a:pt x="8702" y="15916"/>
                  </a:cubicBezTo>
                  <a:cubicBezTo>
                    <a:pt x="9474" y="14779"/>
                    <a:pt x="11016" y="13642"/>
                    <a:pt x="12559" y="13642"/>
                  </a:cubicBezTo>
                  <a:cubicBezTo>
                    <a:pt x="13331" y="12505"/>
                    <a:pt x="12559" y="12505"/>
                    <a:pt x="11788" y="12505"/>
                  </a:cubicBezTo>
                  <a:cubicBezTo>
                    <a:pt x="10245" y="11368"/>
                    <a:pt x="8702" y="12505"/>
                    <a:pt x="6388" y="13642"/>
                  </a:cubicBezTo>
                  <a:cubicBezTo>
                    <a:pt x="4845" y="13642"/>
                    <a:pt x="3302" y="13642"/>
                    <a:pt x="988" y="13642"/>
                  </a:cubicBezTo>
                  <a:cubicBezTo>
                    <a:pt x="988" y="14779"/>
                    <a:pt x="-555" y="14779"/>
                    <a:pt x="216" y="12505"/>
                  </a:cubicBezTo>
                  <a:cubicBezTo>
                    <a:pt x="1759" y="10231"/>
                    <a:pt x="3302" y="11368"/>
                    <a:pt x="4845" y="10231"/>
                  </a:cubicBezTo>
                  <a:cubicBezTo>
                    <a:pt x="7931" y="9095"/>
                    <a:pt x="2531" y="9095"/>
                    <a:pt x="2531" y="7958"/>
                  </a:cubicBezTo>
                  <a:cubicBezTo>
                    <a:pt x="1759" y="7958"/>
                    <a:pt x="4845" y="5684"/>
                    <a:pt x="4845" y="5684"/>
                  </a:cubicBezTo>
                  <a:cubicBezTo>
                    <a:pt x="4845" y="5684"/>
                    <a:pt x="2531" y="5684"/>
                    <a:pt x="1759" y="5684"/>
                  </a:cubicBezTo>
                  <a:cubicBezTo>
                    <a:pt x="1759" y="4547"/>
                    <a:pt x="4074" y="3410"/>
                    <a:pt x="4845" y="3410"/>
                  </a:cubicBezTo>
                  <a:cubicBezTo>
                    <a:pt x="6388" y="3410"/>
                    <a:pt x="7931" y="6821"/>
                    <a:pt x="9474" y="7958"/>
                  </a:cubicBezTo>
                  <a:cubicBezTo>
                    <a:pt x="10245" y="7958"/>
                    <a:pt x="11016" y="10231"/>
                    <a:pt x="11788" y="9095"/>
                  </a:cubicBezTo>
                  <a:cubicBezTo>
                    <a:pt x="14102" y="6821"/>
                    <a:pt x="9474" y="6821"/>
                    <a:pt x="9474" y="6821"/>
                  </a:cubicBezTo>
                  <a:cubicBezTo>
                    <a:pt x="10245" y="6821"/>
                    <a:pt x="13331" y="5684"/>
                    <a:pt x="10245" y="4547"/>
                  </a:cubicBezTo>
                  <a:cubicBezTo>
                    <a:pt x="9474" y="4547"/>
                    <a:pt x="8702" y="4547"/>
                    <a:pt x="7931" y="3410"/>
                  </a:cubicBezTo>
                  <a:cubicBezTo>
                    <a:pt x="6388" y="2274"/>
                    <a:pt x="7931" y="2274"/>
                    <a:pt x="7931" y="1137"/>
                  </a:cubicBezTo>
                  <a:cubicBezTo>
                    <a:pt x="7159" y="1137"/>
                    <a:pt x="4845" y="2274"/>
                    <a:pt x="4845" y="2274"/>
                  </a:cubicBezTo>
                  <a:cubicBezTo>
                    <a:pt x="4074" y="1137"/>
                    <a:pt x="9474" y="0"/>
                    <a:pt x="9474" y="0"/>
                  </a:cubicBezTo>
                  <a:cubicBezTo>
                    <a:pt x="9474" y="0"/>
                    <a:pt x="8702" y="1137"/>
                    <a:pt x="8702" y="1137"/>
                  </a:cubicBezTo>
                  <a:cubicBezTo>
                    <a:pt x="7931" y="2274"/>
                    <a:pt x="10245" y="2274"/>
                    <a:pt x="11016" y="2274"/>
                  </a:cubicBezTo>
                  <a:cubicBezTo>
                    <a:pt x="13331" y="3410"/>
                    <a:pt x="14102" y="3410"/>
                    <a:pt x="15645" y="1137"/>
                  </a:cubicBezTo>
                  <a:cubicBezTo>
                    <a:pt x="17959" y="-1137"/>
                    <a:pt x="20274" y="5684"/>
                    <a:pt x="19502" y="7958"/>
                  </a:cubicBezTo>
                  <a:cubicBezTo>
                    <a:pt x="19502" y="10231"/>
                    <a:pt x="19502" y="11368"/>
                    <a:pt x="20274" y="12505"/>
                  </a:cubicBezTo>
                  <a:cubicBezTo>
                    <a:pt x="21045" y="14779"/>
                    <a:pt x="21045" y="15916"/>
                    <a:pt x="19502" y="14779"/>
                  </a:cubicBezTo>
                  <a:cubicBezTo>
                    <a:pt x="17959" y="12505"/>
                    <a:pt x="18731" y="17052"/>
                    <a:pt x="19502" y="18189"/>
                  </a:cubicBezTo>
                  <a:cubicBezTo>
                    <a:pt x="20274" y="19326"/>
                    <a:pt x="17188" y="20463"/>
                    <a:pt x="16416" y="20463"/>
                  </a:cubicBezTo>
                  <a:close/>
                </a:path>
              </a:pathLst>
            </a:custGeom>
            <a:solidFill>
              <a:srgbClr val="dadbdf"/>
            </a:solidFill>
            <a:ln w="4680">
              <a:solidFill>
                <a:srgbClr val="ffffff"/>
              </a:solidFill>
              <a:round/>
            </a:ln>
          </p:spPr>
          <p:style>
            <a:lnRef idx="0"/>
            <a:fillRef idx="0"/>
            <a:effectRef idx="0"/>
            <a:fontRef idx="minor"/>
          </p:style>
          <p:txBody>
            <a:bodyPr lIns="45360" rIns="45360" tIns="24480" bIns="24480" anchor="t">
              <a:noAutofit/>
            </a:bodyPr>
            <a:p>
              <a:endParaRPr b="0" lang="en-US" sz="1800" spc="-1" strike="noStrike">
                <a:solidFill>
                  <a:srgbClr val="000000"/>
                </a:solidFill>
                <a:latin typeface="Calibri"/>
              </a:endParaRPr>
            </a:p>
          </p:txBody>
        </p:sp>
        <p:sp>
          <p:nvSpPr>
            <p:cNvPr id="612" name="Shape 1226"/>
            <p:cNvSpPr/>
            <p:nvPr/>
          </p:nvSpPr>
          <p:spPr>
            <a:xfrm>
              <a:off x="6228000" y="2383200"/>
              <a:ext cx="25560" cy="10440"/>
            </a:xfrm>
            <a:custGeom>
              <a:avLst/>
              <a:gdLst/>
              <a:ahLst/>
              <a:rect l="l" t="t" r="r" b="b"/>
              <a:pathLst>
                <a:path w="15878" h="21600">
                  <a:moveTo>
                    <a:pt x="376" y="21600"/>
                  </a:moveTo>
                  <a:cubicBezTo>
                    <a:pt x="7576" y="14400"/>
                    <a:pt x="19576" y="0"/>
                    <a:pt x="14776" y="0"/>
                  </a:cubicBezTo>
                  <a:cubicBezTo>
                    <a:pt x="7576" y="0"/>
                    <a:pt x="-2024" y="21600"/>
                    <a:pt x="376" y="21600"/>
                  </a:cubicBezTo>
                  <a:close/>
                </a:path>
              </a:pathLst>
            </a:custGeom>
            <a:solidFill>
              <a:srgbClr val="dadbdf"/>
            </a:solidFill>
            <a:ln w="4680">
              <a:solidFill>
                <a:srgbClr val="ffffff"/>
              </a:solidFill>
              <a:round/>
            </a:ln>
          </p:spPr>
          <p:style>
            <a:lnRef idx="0"/>
            <a:fillRef idx="0"/>
            <a:effectRef idx="0"/>
            <a:fontRef idx="minor"/>
          </p:style>
          <p:txBody>
            <a:bodyPr lIns="45360" rIns="45360" tIns="-36360" bIns="-36360" anchor="t">
              <a:noAutofit/>
            </a:bodyPr>
            <a:p>
              <a:endParaRPr b="0" lang="en-US" sz="1800" spc="-1" strike="noStrike">
                <a:solidFill>
                  <a:srgbClr val="000000"/>
                </a:solidFill>
                <a:latin typeface="Calibri"/>
              </a:endParaRPr>
            </a:p>
          </p:txBody>
        </p:sp>
        <p:sp>
          <p:nvSpPr>
            <p:cNvPr id="613" name="Shape 1227"/>
            <p:cNvSpPr/>
            <p:nvPr/>
          </p:nvSpPr>
          <p:spPr>
            <a:xfrm>
              <a:off x="6220080" y="2379240"/>
              <a:ext cx="23040" cy="7920"/>
            </a:xfrm>
            <a:custGeom>
              <a:avLst/>
              <a:gdLst/>
              <a:ahLst/>
              <a:rect l="l" t="t" r="r" b="b"/>
              <a:pathLst>
                <a:path w="15380" h="21600">
                  <a:moveTo>
                    <a:pt x="426" y="21600"/>
                  </a:moveTo>
                  <a:cubicBezTo>
                    <a:pt x="-2274" y="21600"/>
                    <a:pt x="8526" y="0"/>
                    <a:pt x="13926" y="0"/>
                  </a:cubicBezTo>
                  <a:cubicBezTo>
                    <a:pt x="19326" y="0"/>
                    <a:pt x="8526" y="21600"/>
                    <a:pt x="426"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614" name="Shape 1228"/>
            <p:cNvSpPr/>
            <p:nvPr/>
          </p:nvSpPr>
          <p:spPr>
            <a:xfrm>
              <a:off x="6207480" y="2370240"/>
              <a:ext cx="33120" cy="11880"/>
            </a:xfrm>
            <a:custGeom>
              <a:avLst/>
              <a:gdLst/>
              <a:ahLst/>
              <a:rect l="l" t="t" r="r" b="b"/>
              <a:pathLst>
                <a:path w="17851" h="12724">
                  <a:moveTo>
                    <a:pt x="571" y="9817"/>
                  </a:moveTo>
                  <a:cubicBezTo>
                    <a:pt x="-3749" y="5497"/>
                    <a:pt x="17851" y="-3143"/>
                    <a:pt x="17851" y="1177"/>
                  </a:cubicBezTo>
                  <a:cubicBezTo>
                    <a:pt x="17851" y="5497"/>
                    <a:pt x="9211" y="18457"/>
                    <a:pt x="571" y="9817"/>
                  </a:cubicBezTo>
                  <a:close/>
                </a:path>
              </a:pathLst>
            </a:custGeom>
            <a:solidFill>
              <a:srgbClr val="dadbd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615" name="Shape 1229"/>
            <p:cNvSpPr/>
            <p:nvPr/>
          </p:nvSpPr>
          <p:spPr>
            <a:xfrm>
              <a:off x="6204240" y="2353320"/>
              <a:ext cx="28080" cy="17640"/>
            </a:xfrm>
            <a:custGeom>
              <a:avLst/>
              <a:gdLst/>
              <a:ahLst/>
              <a:rect l="l" t="t" r="r" b="b"/>
              <a:pathLst>
                <a:path w="21600" h="19069">
                  <a:moveTo>
                    <a:pt x="3086" y="19069"/>
                  </a:moveTo>
                  <a:cubicBezTo>
                    <a:pt x="0" y="14749"/>
                    <a:pt x="0" y="6109"/>
                    <a:pt x="0" y="1789"/>
                  </a:cubicBezTo>
                  <a:cubicBezTo>
                    <a:pt x="3086" y="-2531"/>
                    <a:pt x="9257" y="1789"/>
                    <a:pt x="12343" y="6109"/>
                  </a:cubicBezTo>
                  <a:cubicBezTo>
                    <a:pt x="12343" y="6109"/>
                    <a:pt x="21600" y="10429"/>
                    <a:pt x="21600" y="14749"/>
                  </a:cubicBezTo>
                  <a:cubicBezTo>
                    <a:pt x="21600" y="14749"/>
                    <a:pt x="6171" y="19069"/>
                    <a:pt x="3086" y="19069"/>
                  </a:cubicBezTo>
                  <a:cubicBezTo>
                    <a:pt x="0" y="14749"/>
                    <a:pt x="12343" y="19069"/>
                    <a:pt x="3086" y="19069"/>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616" name="Shape 1230"/>
            <p:cNvSpPr/>
            <p:nvPr/>
          </p:nvSpPr>
          <p:spPr>
            <a:xfrm>
              <a:off x="6174000" y="2307240"/>
              <a:ext cx="28080" cy="27720"/>
            </a:xfrm>
            <a:custGeom>
              <a:avLst/>
              <a:gdLst/>
              <a:ahLst/>
              <a:rect l="l" t="t" r="r" b="b"/>
              <a:pathLst>
                <a:path w="12882" h="17173">
                  <a:moveTo>
                    <a:pt x="10485" y="16987"/>
                  </a:moveTo>
                  <a:cubicBezTo>
                    <a:pt x="6885" y="19387"/>
                    <a:pt x="-3915" y="-2213"/>
                    <a:pt x="1485" y="187"/>
                  </a:cubicBezTo>
                  <a:cubicBezTo>
                    <a:pt x="6885" y="4987"/>
                    <a:pt x="17685" y="16987"/>
                    <a:pt x="10485" y="16987"/>
                  </a:cubicBezTo>
                  <a:close/>
                </a:path>
              </a:pathLst>
            </a:custGeom>
            <a:solidFill>
              <a:srgbClr val="dadbdf"/>
            </a:solidFill>
            <a:ln w="4680">
              <a:solidFill>
                <a:srgbClr val="ffffff"/>
              </a:solidFill>
              <a:round/>
            </a:ln>
          </p:spPr>
          <p:style>
            <a:lnRef idx="0"/>
            <a:fillRef idx="0"/>
            <a:effectRef idx="0"/>
            <a:fontRef idx="minor"/>
          </p:style>
          <p:txBody>
            <a:bodyPr lIns="45360" rIns="45360" tIns="-19080" bIns="-19080" anchor="t">
              <a:noAutofit/>
            </a:bodyPr>
            <a:p>
              <a:endParaRPr b="0" lang="en-US" sz="1800" spc="-1" strike="noStrike">
                <a:solidFill>
                  <a:srgbClr val="000000"/>
                </a:solidFill>
                <a:latin typeface="Calibri"/>
              </a:endParaRPr>
            </a:p>
          </p:txBody>
        </p:sp>
        <p:sp>
          <p:nvSpPr>
            <p:cNvPr id="617" name="Shape 1231"/>
            <p:cNvSpPr/>
            <p:nvPr/>
          </p:nvSpPr>
          <p:spPr>
            <a:xfrm>
              <a:off x="6246000" y="2302560"/>
              <a:ext cx="26280" cy="6840"/>
            </a:xfrm>
            <a:custGeom>
              <a:avLst/>
              <a:gdLst/>
              <a:ahLst/>
              <a:rect l="l" t="t" r="r" b="b"/>
              <a:pathLst>
                <a:path w="16279" h="12198">
                  <a:moveTo>
                    <a:pt x="1504" y="2016"/>
                  </a:moveTo>
                  <a:cubicBezTo>
                    <a:pt x="8704" y="-5184"/>
                    <a:pt x="18304" y="9216"/>
                    <a:pt x="15904" y="9216"/>
                  </a:cubicBezTo>
                  <a:cubicBezTo>
                    <a:pt x="3904" y="16416"/>
                    <a:pt x="-3296" y="9216"/>
                    <a:pt x="1504" y="2016"/>
                  </a:cubicBezTo>
                  <a:close/>
                </a:path>
              </a:pathLst>
            </a:custGeom>
            <a:solidFill>
              <a:srgbClr val="dadbdf"/>
            </a:solidFill>
            <a:ln w="4680">
              <a:solidFill>
                <a:srgbClr val="ffffff"/>
              </a:solidFill>
              <a:round/>
            </a:ln>
          </p:spPr>
          <p:style>
            <a:lnRef idx="0"/>
            <a:fillRef idx="0"/>
            <a:effectRef idx="0"/>
            <a:fontRef idx="minor"/>
          </p:style>
          <p:txBody>
            <a:bodyPr lIns="45360" rIns="45360" tIns="-39960" bIns="-39960" anchor="t">
              <a:noAutofit/>
            </a:bodyPr>
            <a:p>
              <a:endParaRPr b="0" lang="en-US" sz="1800" spc="-1" strike="noStrike">
                <a:solidFill>
                  <a:srgbClr val="000000"/>
                </a:solidFill>
                <a:latin typeface="Calibri"/>
              </a:endParaRPr>
            </a:p>
          </p:txBody>
        </p:sp>
        <p:sp>
          <p:nvSpPr>
            <p:cNvPr id="618" name="Shape 1232"/>
            <p:cNvSpPr/>
            <p:nvPr/>
          </p:nvSpPr>
          <p:spPr>
            <a:xfrm>
              <a:off x="6182280" y="2238840"/>
              <a:ext cx="128160" cy="67680"/>
            </a:xfrm>
            <a:custGeom>
              <a:avLst/>
              <a:gdLst/>
              <a:ahLst/>
              <a:rect l="l" t="t" r="r" b="b"/>
              <a:pathLst>
                <a:path w="19556" h="19461">
                  <a:moveTo>
                    <a:pt x="15442" y="18660"/>
                  </a:moveTo>
                  <a:cubicBezTo>
                    <a:pt x="14842" y="18660"/>
                    <a:pt x="14842" y="17523"/>
                    <a:pt x="14842" y="16387"/>
                  </a:cubicBezTo>
                  <a:cubicBezTo>
                    <a:pt x="14242" y="15250"/>
                    <a:pt x="12442" y="14113"/>
                    <a:pt x="11842" y="14113"/>
                  </a:cubicBezTo>
                  <a:cubicBezTo>
                    <a:pt x="11242" y="14113"/>
                    <a:pt x="7042" y="16387"/>
                    <a:pt x="7042" y="15250"/>
                  </a:cubicBezTo>
                  <a:cubicBezTo>
                    <a:pt x="7042" y="15250"/>
                    <a:pt x="9442" y="12976"/>
                    <a:pt x="9442" y="12976"/>
                  </a:cubicBezTo>
                  <a:cubicBezTo>
                    <a:pt x="7642" y="11839"/>
                    <a:pt x="5242" y="15250"/>
                    <a:pt x="3442" y="12976"/>
                  </a:cubicBezTo>
                  <a:cubicBezTo>
                    <a:pt x="-158" y="9566"/>
                    <a:pt x="6442" y="10702"/>
                    <a:pt x="6442" y="10702"/>
                  </a:cubicBezTo>
                  <a:cubicBezTo>
                    <a:pt x="6442" y="10702"/>
                    <a:pt x="5842" y="9566"/>
                    <a:pt x="5842" y="9566"/>
                  </a:cubicBezTo>
                  <a:cubicBezTo>
                    <a:pt x="5842" y="9566"/>
                    <a:pt x="6442" y="8429"/>
                    <a:pt x="6442" y="8429"/>
                  </a:cubicBezTo>
                  <a:cubicBezTo>
                    <a:pt x="7042" y="7292"/>
                    <a:pt x="5242" y="8429"/>
                    <a:pt x="5242" y="8429"/>
                  </a:cubicBezTo>
                  <a:cubicBezTo>
                    <a:pt x="4642" y="7292"/>
                    <a:pt x="5842" y="6155"/>
                    <a:pt x="4642" y="6155"/>
                  </a:cubicBezTo>
                  <a:cubicBezTo>
                    <a:pt x="4042" y="6155"/>
                    <a:pt x="2842" y="7292"/>
                    <a:pt x="2242" y="6155"/>
                  </a:cubicBezTo>
                  <a:cubicBezTo>
                    <a:pt x="2242" y="5018"/>
                    <a:pt x="1042" y="6155"/>
                    <a:pt x="442" y="5018"/>
                  </a:cubicBezTo>
                  <a:cubicBezTo>
                    <a:pt x="-1358" y="-666"/>
                    <a:pt x="2842" y="1608"/>
                    <a:pt x="4042" y="1608"/>
                  </a:cubicBezTo>
                  <a:cubicBezTo>
                    <a:pt x="5242" y="471"/>
                    <a:pt x="7042" y="-666"/>
                    <a:pt x="8242" y="471"/>
                  </a:cubicBezTo>
                  <a:cubicBezTo>
                    <a:pt x="10042" y="1608"/>
                    <a:pt x="7042" y="7292"/>
                    <a:pt x="9442" y="5018"/>
                  </a:cubicBezTo>
                  <a:cubicBezTo>
                    <a:pt x="10042" y="5018"/>
                    <a:pt x="11242" y="2745"/>
                    <a:pt x="11842" y="3881"/>
                  </a:cubicBezTo>
                  <a:cubicBezTo>
                    <a:pt x="12442" y="5018"/>
                    <a:pt x="13042" y="7292"/>
                    <a:pt x="13642" y="7292"/>
                  </a:cubicBezTo>
                  <a:cubicBezTo>
                    <a:pt x="14242" y="7292"/>
                    <a:pt x="16042" y="6155"/>
                    <a:pt x="16642" y="7292"/>
                  </a:cubicBezTo>
                  <a:cubicBezTo>
                    <a:pt x="17842" y="8429"/>
                    <a:pt x="17842" y="11839"/>
                    <a:pt x="18442" y="12976"/>
                  </a:cubicBezTo>
                  <a:cubicBezTo>
                    <a:pt x="19042" y="15250"/>
                    <a:pt x="20242" y="16387"/>
                    <a:pt x="19042" y="17523"/>
                  </a:cubicBezTo>
                  <a:cubicBezTo>
                    <a:pt x="18442" y="19797"/>
                    <a:pt x="16642" y="19797"/>
                    <a:pt x="15442" y="18660"/>
                  </a:cubicBezTo>
                  <a:cubicBezTo>
                    <a:pt x="14842" y="17523"/>
                    <a:pt x="17242" y="20934"/>
                    <a:pt x="15442" y="18660"/>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619" name="Shape 1233"/>
            <p:cNvSpPr/>
            <p:nvPr/>
          </p:nvSpPr>
          <p:spPr>
            <a:xfrm>
              <a:off x="6289560" y="2203560"/>
              <a:ext cx="31680" cy="16200"/>
            </a:xfrm>
            <a:custGeom>
              <a:avLst/>
              <a:gdLst/>
              <a:ahLst/>
              <a:rect l="l" t="t" r="r" b="b"/>
              <a:pathLst>
                <a:path w="15885" h="17670">
                  <a:moveTo>
                    <a:pt x="12881" y="17670"/>
                  </a:moveTo>
                  <a:cubicBezTo>
                    <a:pt x="8954" y="17670"/>
                    <a:pt x="8954" y="13350"/>
                    <a:pt x="5027" y="13350"/>
                  </a:cubicBezTo>
                  <a:cubicBezTo>
                    <a:pt x="5027" y="13350"/>
                    <a:pt x="-2828" y="13350"/>
                    <a:pt x="1099" y="9030"/>
                  </a:cubicBezTo>
                  <a:cubicBezTo>
                    <a:pt x="3063" y="390"/>
                    <a:pt x="8954" y="-3930"/>
                    <a:pt x="10917" y="4710"/>
                  </a:cubicBezTo>
                  <a:cubicBezTo>
                    <a:pt x="14845" y="9030"/>
                    <a:pt x="18772" y="17670"/>
                    <a:pt x="12881" y="17670"/>
                  </a:cubicBezTo>
                  <a:close/>
                </a:path>
              </a:pathLst>
            </a:custGeom>
            <a:solidFill>
              <a:srgbClr val="dadbdf"/>
            </a:solidFill>
            <a:ln w="4680">
              <a:solidFill>
                <a:srgbClr val="ffffff"/>
              </a:solidFill>
              <a:round/>
            </a:ln>
          </p:spPr>
          <p:style>
            <a:lnRef idx="0"/>
            <a:fillRef idx="0"/>
            <a:effectRef idx="0"/>
            <a:fontRef idx="minor"/>
          </p:style>
          <p:txBody>
            <a:bodyPr lIns="45360" rIns="45360" tIns="-30600" bIns="-30600" anchor="t">
              <a:noAutofit/>
            </a:bodyPr>
            <a:p>
              <a:endParaRPr b="0" lang="en-US" sz="1800" spc="-1" strike="noStrike">
                <a:solidFill>
                  <a:srgbClr val="000000"/>
                </a:solidFill>
                <a:latin typeface="Calibri"/>
              </a:endParaRPr>
            </a:p>
          </p:txBody>
        </p:sp>
        <p:sp>
          <p:nvSpPr>
            <p:cNvPr id="620" name="Shape 1234"/>
            <p:cNvSpPr/>
            <p:nvPr/>
          </p:nvSpPr>
          <p:spPr>
            <a:xfrm>
              <a:off x="6323040" y="2265480"/>
              <a:ext cx="72360" cy="42120"/>
            </a:xfrm>
            <a:custGeom>
              <a:avLst/>
              <a:gdLst/>
              <a:ahLst/>
              <a:rect l="l" t="t" r="r" b="b"/>
              <a:pathLst>
                <a:path w="19657" h="20509">
                  <a:moveTo>
                    <a:pt x="7560" y="12654"/>
                  </a:moveTo>
                  <a:cubicBezTo>
                    <a:pt x="5400" y="12654"/>
                    <a:pt x="3240" y="10691"/>
                    <a:pt x="2160" y="8727"/>
                  </a:cubicBezTo>
                  <a:cubicBezTo>
                    <a:pt x="-1080" y="6764"/>
                    <a:pt x="3240" y="4800"/>
                    <a:pt x="3240" y="4800"/>
                  </a:cubicBezTo>
                  <a:cubicBezTo>
                    <a:pt x="3240" y="2836"/>
                    <a:pt x="1080" y="873"/>
                    <a:pt x="0" y="873"/>
                  </a:cubicBezTo>
                  <a:cubicBezTo>
                    <a:pt x="0" y="-1091"/>
                    <a:pt x="5400" y="873"/>
                    <a:pt x="5400" y="873"/>
                  </a:cubicBezTo>
                  <a:cubicBezTo>
                    <a:pt x="7560" y="873"/>
                    <a:pt x="9720" y="2836"/>
                    <a:pt x="11880" y="4800"/>
                  </a:cubicBezTo>
                  <a:cubicBezTo>
                    <a:pt x="14040" y="4800"/>
                    <a:pt x="15120" y="4800"/>
                    <a:pt x="16200" y="4800"/>
                  </a:cubicBezTo>
                  <a:cubicBezTo>
                    <a:pt x="17280" y="4800"/>
                    <a:pt x="20520" y="6764"/>
                    <a:pt x="19440" y="6764"/>
                  </a:cubicBezTo>
                  <a:cubicBezTo>
                    <a:pt x="17280" y="10691"/>
                    <a:pt x="16200" y="8727"/>
                    <a:pt x="18360" y="14618"/>
                  </a:cubicBezTo>
                  <a:cubicBezTo>
                    <a:pt x="19440" y="16582"/>
                    <a:pt x="16200" y="16582"/>
                    <a:pt x="15120" y="18545"/>
                  </a:cubicBezTo>
                  <a:cubicBezTo>
                    <a:pt x="12960" y="18545"/>
                    <a:pt x="10800" y="20509"/>
                    <a:pt x="8640" y="20509"/>
                  </a:cubicBezTo>
                  <a:cubicBezTo>
                    <a:pt x="7560" y="18545"/>
                    <a:pt x="3240" y="16582"/>
                    <a:pt x="3240" y="14618"/>
                  </a:cubicBezTo>
                  <a:cubicBezTo>
                    <a:pt x="3240" y="14618"/>
                    <a:pt x="9720" y="12654"/>
                    <a:pt x="7560" y="12654"/>
                  </a:cubicBezTo>
                  <a:cubicBezTo>
                    <a:pt x="4320" y="10691"/>
                    <a:pt x="9720" y="12654"/>
                    <a:pt x="7560" y="12654"/>
                  </a:cubicBezTo>
                  <a:close/>
                </a:path>
              </a:pathLst>
            </a:custGeom>
            <a:solidFill>
              <a:srgbClr val="dadbdf"/>
            </a:solidFill>
            <a:ln w="4680">
              <a:solidFill>
                <a:srgbClr val="ffffff"/>
              </a:solidFill>
              <a:round/>
            </a:ln>
          </p:spPr>
          <p:style>
            <a:lnRef idx="0"/>
            <a:fillRef idx="0"/>
            <a:effectRef idx="0"/>
            <a:fontRef idx="minor"/>
          </p:style>
          <p:txBody>
            <a:bodyPr lIns="45360" rIns="45360" tIns="-4680" bIns="-4680" anchor="t">
              <a:noAutofit/>
            </a:bodyPr>
            <a:p>
              <a:endParaRPr b="0" lang="en-US" sz="1800" spc="-1" strike="noStrike">
                <a:solidFill>
                  <a:srgbClr val="000000"/>
                </a:solidFill>
                <a:latin typeface="Calibri"/>
              </a:endParaRPr>
            </a:p>
          </p:txBody>
        </p:sp>
        <p:sp>
          <p:nvSpPr>
            <p:cNvPr id="621" name="Shape 1235"/>
            <p:cNvSpPr/>
            <p:nvPr/>
          </p:nvSpPr>
          <p:spPr>
            <a:xfrm>
              <a:off x="6368040" y="2306160"/>
              <a:ext cx="59760" cy="17640"/>
            </a:xfrm>
            <a:custGeom>
              <a:avLst/>
              <a:gdLst/>
              <a:ahLst/>
              <a:rect l="l" t="t" r="r" b="b"/>
              <a:pathLst>
                <a:path w="18446" h="19200">
                  <a:moveTo>
                    <a:pt x="15374" y="19200"/>
                  </a:moveTo>
                  <a:cubicBezTo>
                    <a:pt x="15374" y="14880"/>
                    <a:pt x="20174" y="6240"/>
                    <a:pt x="17774" y="6240"/>
                  </a:cubicBezTo>
                  <a:cubicBezTo>
                    <a:pt x="16574" y="1920"/>
                    <a:pt x="15374" y="1920"/>
                    <a:pt x="14174" y="1920"/>
                  </a:cubicBezTo>
                  <a:cubicBezTo>
                    <a:pt x="10574" y="1920"/>
                    <a:pt x="5774" y="-2400"/>
                    <a:pt x="2174" y="1920"/>
                  </a:cubicBezTo>
                  <a:cubicBezTo>
                    <a:pt x="-1426" y="1920"/>
                    <a:pt x="-226" y="14880"/>
                    <a:pt x="3374" y="14880"/>
                  </a:cubicBezTo>
                  <a:cubicBezTo>
                    <a:pt x="6974" y="14880"/>
                    <a:pt x="11774" y="19200"/>
                    <a:pt x="15374" y="19200"/>
                  </a:cubicBezTo>
                  <a:cubicBezTo>
                    <a:pt x="17774" y="14880"/>
                    <a:pt x="12974" y="19200"/>
                    <a:pt x="15374" y="1920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622" name="Shape 1236"/>
            <p:cNvSpPr/>
            <p:nvPr/>
          </p:nvSpPr>
          <p:spPr>
            <a:xfrm>
              <a:off x="6363000" y="2396520"/>
              <a:ext cx="58680" cy="41040"/>
            </a:xfrm>
            <a:custGeom>
              <a:avLst/>
              <a:gdLst/>
              <a:ahLst/>
              <a:rect l="l" t="t" r="r" b="b"/>
              <a:pathLst>
                <a:path w="19278" h="20018">
                  <a:moveTo>
                    <a:pt x="7733" y="873"/>
                  </a:moveTo>
                  <a:cubicBezTo>
                    <a:pt x="5192" y="-1091"/>
                    <a:pt x="1380" y="6764"/>
                    <a:pt x="110" y="10691"/>
                  </a:cubicBezTo>
                  <a:cubicBezTo>
                    <a:pt x="-1161" y="14618"/>
                    <a:pt x="9004" y="18545"/>
                    <a:pt x="11545" y="18545"/>
                  </a:cubicBezTo>
                  <a:cubicBezTo>
                    <a:pt x="12815" y="20509"/>
                    <a:pt x="16627" y="20509"/>
                    <a:pt x="17898" y="18545"/>
                  </a:cubicBezTo>
                  <a:cubicBezTo>
                    <a:pt x="19168" y="18545"/>
                    <a:pt x="17898" y="16582"/>
                    <a:pt x="17898" y="14618"/>
                  </a:cubicBezTo>
                  <a:cubicBezTo>
                    <a:pt x="17898" y="12654"/>
                    <a:pt x="17898" y="10691"/>
                    <a:pt x="19168" y="10691"/>
                  </a:cubicBezTo>
                  <a:cubicBezTo>
                    <a:pt x="20439" y="6764"/>
                    <a:pt x="10274" y="873"/>
                    <a:pt x="7733" y="873"/>
                  </a:cubicBezTo>
                  <a:cubicBezTo>
                    <a:pt x="5192" y="-1091"/>
                    <a:pt x="9004" y="873"/>
                    <a:pt x="7733" y="873"/>
                  </a:cubicBezTo>
                  <a:close/>
                </a:path>
              </a:pathLst>
            </a:custGeom>
            <a:solidFill>
              <a:srgbClr val="dadbdf"/>
            </a:solidFill>
            <a:ln w="4680">
              <a:solidFill>
                <a:srgbClr val="ffffff"/>
              </a:solidFill>
              <a:round/>
            </a:ln>
          </p:spPr>
          <p:style>
            <a:lnRef idx="0"/>
            <a:fillRef idx="0"/>
            <a:effectRef idx="0"/>
            <a:fontRef idx="minor"/>
          </p:style>
          <p:txBody>
            <a:bodyPr lIns="45360" rIns="45360" tIns="-5760" bIns="-5760" anchor="t">
              <a:noAutofit/>
            </a:bodyPr>
            <a:p>
              <a:endParaRPr b="0" lang="en-US" sz="1800" spc="-1" strike="noStrike">
                <a:solidFill>
                  <a:srgbClr val="000000"/>
                </a:solidFill>
                <a:latin typeface="Calibri"/>
              </a:endParaRPr>
            </a:p>
          </p:txBody>
        </p:sp>
        <p:sp>
          <p:nvSpPr>
            <p:cNvPr id="623" name="Shape 1237"/>
            <p:cNvSpPr/>
            <p:nvPr/>
          </p:nvSpPr>
          <p:spPr>
            <a:xfrm>
              <a:off x="6392880" y="2386080"/>
              <a:ext cx="10440" cy="5400"/>
            </a:xfrm>
            <a:custGeom>
              <a:avLst/>
              <a:gdLst/>
              <a:ahLst/>
              <a:rect l="l" t="t" r="r" b="b"/>
              <a:pathLst>
                <a:path w="14390" h="11232">
                  <a:moveTo>
                    <a:pt x="12918" y="9216"/>
                  </a:moveTo>
                  <a:cubicBezTo>
                    <a:pt x="2118" y="16416"/>
                    <a:pt x="-3282" y="2016"/>
                    <a:pt x="2118" y="2016"/>
                  </a:cubicBezTo>
                  <a:cubicBezTo>
                    <a:pt x="7518" y="-5184"/>
                    <a:pt x="18318" y="9216"/>
                    <a:pt x="12918" y="9216"/>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624" name="Shape 1238"/>
            <p:cNvSpPr/>
            <p:nvPr/>
          </p:nvSpPr>
          <p:spPr>
            <a:xfrm>
              <a:off x="6464880" y="2314080"/>
              <a:ext cx="32040" cy="19800"/>
            </a:xfrm>
            <a:custGeom>
              <a:avLst/>
              <a:gdLst/>
              <a:ahLst/>
              <a:rect l="l" t="t" r="r" b="b"/>
              <a:pathLst>
                <a:path w="19893" h="18700">
                  <a:moveTo>
                    <a:pt x="693" y="16000"/>
                  </a:moveTo>
                  <a:cubicBezTo>
                    <a:pt x="693" y="16000"/>
                    <a:pt x="3093" y="5200"/>
                    <a:pt x="693" y="1600"/>
                  </a:cubicBezTo>
                  <a:cubicBezTo>
                    <a:pt x="693" y="-2000"/>
                    <a:pt x="7893" y="1600"/>
                    <a:pt x="10293" y="1600"/>
                  </a:cubicBezTo>
                  <a:cubicBezTo>
                    <a:pt x="12693" y="1600"/>
                    <a:pt x="19893" y="5200"/>
                    <a:pt x="19893" y="8800"/>
                  </a:cubicBezTo>
                  <a:cubicBezTo>
                    <a:pt x="17493" y="12400"/>
                    <a:pt x="12693" y="16000"/>
                    <a:pt x="10293" y="16000"/>
                  </a:cubicBezTo>
                  <a:cubicBezTo>
                    <a:pt x="5493" y="19600"/>
                    <a:pt x="5493" y="19600"/>
                    <a:pt x="693" y="16000"/>
                  </a:cubicBezTo>
                  <a:cubicBezTo>
                    <a:pt x="-1707" y="12400"/>
                    <a:pt x="3093" y="19600"/>
                    <a:pt x="693" y="16000"/>
                  </a:cubicBezTo>
                  <a:close/>
                </a:path>
              </a:pathLst>
            </a:custGeom>
            <a:solidFill>
              <a:srgbClr val="dadbdf"/>
            </a:solidFill>
            <a:ln w="4680">
              <a:solidFill>
                <a:srgbClr val="ffffff"/>
              </a:solidFill>
              <a:round/>
            </a:ln>
          </p:spPr>
          <p:style>
            <a:lnRef idx="0"/>
            <a:fillRef idx="0"/>
            <a:effectRef idx="0"/>
            <a:fontRef idx="minor"/>
          </p:style>
          <p:txBody>
            <a:bodyPr lIns="45360" rIns="45360" tIns="-27000" bIns="-27000" anchor="t">
              <a:noAutofit/>
            </a:bodyPr>
            <a:p>
              <a:endParaRPr b="0" lang="en-US" sz="1800" spc="-1" strike="noStrike">
                <a:solidFill>
                  <a:srgbClr val="000000"/>
                </a:solidFill>
                <a:latin typeface="Calibri"/>
              </a:endParaRPr>
            </a:p>
          </p:txBody>
        </p:sp>
        <p:sp>
          <p:nvSpPr>
            <p:cNvPr id="625" name="Shape 1239"/>
            <p:cNvSpPr/>
            <p:nvPr/>
          </p:nvSpPr>
          <p:spPr>
            <a:xfrm>
              <a:off x="6482160" y="2350080"/>
              <a:ext cx="8280" cy="9720"/>
            </a:xfrm>
            <a:custGeom>
              <a:avLst/>
              <a:gdLst/>
              <a:ahLst/>
              <a:rect l="l" t="t" r="r" b="b"/>
              <a:pathLst>
                <a:path w="14912" h="13374">
                  <a:moveTo>
                    <a:pt x="11929" y="1102"/>
                  </a:moveTo>
                  <a:cubicBezTo>
                    <a:pt x="-2471" y="-4298"/>
                    <a:pt x="-2471" y="11902"/>
                    <a:pt x="4729" y="11902"/>
                  </a:cubicBezTo>
                  <a:cubicBezTo>
                    <a:pt x="11929" y="17302"/>
                    <a:pt x="19129" y="6502"/>
                    <a:pt x="11929" y="1102"/>
                  </a:cubicBezTo>
                  <a:close/>
                </a:path>
              </a:pathLst>
            </a:custGeom>
            <a:solidFill>
              <a:srgbClr val="dadbdf"/>
            </a:solidFill>
            <a:ln w="4680">
              <a:solidFill>
                <a:srgbClr val="ffffff"/>
              </a:solidFill>
              <a:round/>
            </a:ln>
          </p:spPr>
          <p:style>
            <a:lnRef idx="0"/>
            <a:fillRef idx="0"/>
            <a:effectRef idx="0"/>
            <a:fontRef idx="minor"/>
          </p:style>
          <p:txBody>
            <a:bodyPr lIns="45360" rIns="45360" tIns="-37080" bIns="-37080" anchor="t">
              <a:noAutofit/>
            </a:bodyPr>
            <a:p>
              <a:endParaRPr b="0" lang="en-US" sz="1800" spc="-1" strike="noStrike">
                <a:solidFill>
                  <a:srgbClr val="000000"/>
                </a:solidFill>
                <a:latin typeface="Calibri"/>
              </a:endParaRPr>
            </a:p>
          </p:txBody>
        </p:sp>
        <p:sp>
          <p:nvSpPr>
            <p:cNvPr id="626" name="Shape 1240"/>
            <p:cNvSpPr/>
            <p:nvPr/>
          </p:nvSpPr>
          <p:spPr>
            <a:xfrm>
              <a:off x="6351480" y="2337120"/>
              <a:ext cx="340920" cy="105480"/>
            </a:xfrm>
            <a:custGeom>
              <a:avLst/>
              <a:gdLst/>
              <a:ahLst/>
              <a:rect l="l" t="t" r="r" b="b"/>
              <a:pathLst>
                <a:path w="20929" h="21131">
                  <a:moveTo>
                    <a:pt x="4126" y="5131"/>
                  </a:moveTo>
                  <a:cubicBezTo>
                    <a:pt x="4369" y="5131"/>
                    <a:pt x="4854" y="3531"/>
                    <a:pt x="4611" y="2731"/>
                  </a:cubicBezTo>
                  <a:cubicBezTo>
                    <a:pt x="4369" y="1931"/>
                    <a:pt x="3883" y="1131"/>
                    <a:pt x="3640" y="1131"/>
                  </a:cubicBezTo>
                  <a:cubicBezTo>
                    <a:pt x="3398" y="1131"/>
                    <a:pt x="3155" y="1131"/>
                    <a:pt x="2912" y="1131"/>
                  </a:cubicBezTo>
                  <a:cubicBezTo>
                    <a:pt x="2184" y="331"/>
                    <a:pt x="1699" y="-469"/>
                    <a:pt x="971" y="331"/>
                  </a:cubicBezTo>
                  <a:cubicBezTo>
                    <a:pt x="0" y="1131"/>
                    <a:pt x="728" y="1131"/>
                    <a:pt x="971" y="1931"/>
                  </a:cubicBezTo>
                  <a:cubicBezTo>
                    <a:pt x="971" y="1931"/>
                    <a:pt x="0" y="1931"/>
                    <a:pt x="0" y="2731"/>
                  </a:cubicBezTo>
                  <a:cubicBezTo>
                    <a:pt x="0" y="3531"/>
                    <a:pt x="971" y="3531"/>
                    <a:pt x="1213" y="3531"/>
                  </a:cubicBezTo>
                  <a:cubicBezTo>
                    <a:pt x="1213" y="4331"/>
                    <a:pt x="1699" y="4331"/>
                    <a:pt x="1699" y="4331"/>
                  </a:cubicBezTo>
                  <a:cubicBezTo>
                    <a:pt x="1699" y="5131"/>
                    <a:pt x="1456" y="5131"/>
                    <a:pt x="1456" y="5131"/>
                  </a:cubicBezTo>
                  <a:cubicBezTo>
                    <a:pt x="2912" y="8331"/>
                    <a:pt x="5097" y="3531"/>
                    <a:pt x="5825" y="9931"/>
                  </a:cubicBezTo>
                  <a:cubicBezTo>
                    <a:pt x="5825" y="10731"/>
                    <a:pt x="6310" y="11531"/>
                    <a:pt x="6067" y="12331"/>
                  </a:cubicBezTo>
                  <a:cubicBezTo>
                    <a:pt x="5825" y="13931"/>
                    <a:pt x="5582" y="14731"/>
                    <a:pt x="5825" y="16331"/>
                  </a:cubicBezTo>
                  <a:cubicBezTo>
                    <a:pt x="5825" y="16331"/>
                    <a:pt x="6310" y="19531"/>
                    <a:pt x="6553" y="19531"/>
                  </a:cubicBezTo>
                  <a:cubicBezTo>
                    <a:pt x="6796" y="20331"/>
                    <a:pt x="7281" y="17931"/>
                    <a:pt x="7281" y="18731"/>
                  </a:cubicBezTo>
                  <a:cubicBezTo>
                    <a:pt x="7524" y="18731"/>
                    <a:pt x="7766" y="20331"/>
                    <a:pt x="8009" y="20331"/>
                  </a:cubicBezTo>
                  <a:cubicBezTo>
                    <a:pt x="8494" y="21131"/>
                    <a:pt x="8980" y="20331"/>
                    <a:pt x="9222" y="20331"/>
                  </a:cubicBezTo>
                  <a:cubicBezTo>
                    <a:pt x="9465" y="19531"/>
                    <a:pt x="9951" y="17931"/>
                    <a:pt x="10193" y="17931"/>
                  </a:cubicBezTo>
                  <a:cubicBezTo>
                    <a:pt x="10193" y="17931"/>
                    <a:pt x="10679" y="20331"/>
                    <a:pt x="10921" y="20331"/>
                  </a:cubicBezTo>
                  <a:cubicBezTo>
                    <a:pt x="11407" y="21131"/>
                    <a:pt x="12135" y="21131"/>
                    <a:pt x="12620" y="21131"/>
                  </a:cubicBezTo>
                  <a:cubicBezTo>
                    <a:pt x="13591" y="21131"/>
                    <a:pt x="14319" y="21131"/>
                    <a:pt x="15047" y="21131"/>
                  </a:cubicBezTo>
                  <a:cubicBezTo>
                    <a:pt x="15290" y="21131"/>
                    <a:pt x="15533" y="21131"/>
                    <a:pt x="15775" y="21131"/>
                  </a:cubicBezTo>
                  <a:cubicBezTo>
                    <a:pt x="16261" y="20331"/>
                    <a:pt x="16018" y="18731"/>
                    <a:pt x="16261" y="18731"/>
                  </a:cubicBezTo>
                  <a:cubicBezTo>
                    <a:pt x="16503" y="17931"/>
                    <a:pt x="16746" y="18731"/>
                    <a:pt x="16989" y="19531"/>
                  </a:cubicBezTo>
                  <a:cubicBezTo>
                    <a:pt x="17231" y="20331"/>
                    <a:pt x="17960" y="21131"/>
                    <a:pt x="18445" y="21131"/>
                  </a:cubicBezTo>
                  <a:cubicBezTo>
                    <a:pt x="18930" y="21131"/>
                    <a:pt x="19416" y="21131"/>
                    <a:pt x="19901" y="20331"/>
                  </a:cubicBezTo>
                  <a:cubicBezTo>
                    <a:pt x="20387" y="20331"/>
                    <a:pt x="20144" y="18731"/>
                    <a:pt x="20629" y="18731"/>
                  </a:cubicBezTo>
                  <a:cubicBezTo>
                    <a:pt x="20872" y="18731"/>
                    <a:pt x="21115" y="16331"/>
                    <a:pt x="20629" y="17131"/>
                  </a:cubicBezTo>
                  <a:cubicBezTo>
                    <a:pt x="20629" y="17131"/>
                    <a:pt x="20144" y="17131"/>
                    <a:pt x="19901" y="17131"/>
                  </a:cubicBezTo>
                  <a:cubicBezTo>
                    <a:pt x="19901" y="17131"/>
                    <a:pt x="21600" y="13931"/>
                    <a:pt x="20629" y="13131"/>
                  </a:cubicBezTo>
                  <a:cubicBezTo>
                    <a:pt x="20387" y="13131"/>
                    <a:pt x="19901" y="12331"/>
                    <a:pt x="19416" y="12331"/>
                  </a:cubicBezTo>
                  <a:cubicBezTo>
                    <a:pt x="18930" y="12331"/>
                    <a:pt x="19416" y="10731"/>
                    <a:pt x="18930" y="10731"/>
                  </a:cubicBezTo>
                  <a:cubicBezTo>
                    <a:pt x="18202" y="10731"/>
                    <a:pt x="17717" y="10731"/>
                    <a:pt x="16989" y="10731"/>
                  </a:cubicBezTo>
                  <a:cubicBezTo>
                    <a:pt x="16503" y="10731"/>
                    <a:pt x="16261" y="9931"/>
                    <a:pt x="15775" y="10731"/>
                  </a:cubicBezTo>
                  <a:cubicBezTo>
                    <a:pt x="15533" y="10731"/>
                    <a:pt x="13348" y="12331"/>
                    <a:pt x="13348" y="13131"/>
                  </a:cubicBezTo>
                  <a:cubicBezTo>
                    <a:pt x="13348" y="13131"/>
                    <a:pt x="13591" y="13131"/>
                    <a:pt x="13591" y="13931"/>
                  </a:cubicBezTo>
                  <a:cubicBezTo>
                    <a:pt x="13591" y="13931"/>
                    <a:pt x="12863" y="13931"/>
                    <a:pt x="12620" y="13931"/>
                  </a:cubicBezTo>
                  <a:cubicBezTo>
                    <a:pt x="12378" y="13931"/>
                    <a:pt x="12135" y="13131"/>
                    <a:pt x="11892" y="12331"/>
                  </a:cubicBezTo>
                  <a:cubicBezTo>
                    <a:pt x="11649" y="12331"/>
                    <a:pt x="11407" y="13131"/>
                    <a:pt x="11164" y="13131"/>
                  </a:cubicBezTo>
                  <a:cubicBezTo>
                    <a:pt x="10921" y="13131"/>
                    <a:pt x="10436" y="12331"/>
                    <a:pt x="10193" y="12331"/>
                  </a:cubicBezTo>
                  <a:cubicBezTo>
                    <a:pt x="9951" y="12331"/>
                    <a:pt x="10193" y="13931"/>
                    <a:pt x="9951" y="13931"/>
                  </a:cubicBezTo>
                  <a:cubicBezTo>
                    <a:pt x="9708" y="13931"/>
                    <a:pt x="9465" y="12331"/>
                    <a:pt x="9222" y="12331"/>
                  </a:cubicBezTo>
                  <a:cubicBezTo>
                    <a:pt x="8494" y="12331"/>
                    <a:pt x="9465" y="11531"/>
                    <a:pt x="9465" y="10731"/>
                  </a:cubicBezTo>
                  <a:cubicBezTo>
                    <a:pt x="9465" y="9931"/>
                    <a:pt x="8494" y="9131"/>
                    <a:pt x="8252" y="9131"/>
                  </a:cubicBezTo>
                  <a:cubicBezTo>
                    <a:pt x="8252" y="9131"/>
                    <a:pt x="7281" y="9931"/>
                    <a:pt x="7281" y="9931"/>
                  </a:cubicBezTo>
                  <a:cubicBezTo>
                    <a:pt x="7281" y="9131"/>
                    <a:pt x="7766" y="9131"/>
                    <a:pt x="7766" y="9131"/>
                  </a:cubicBezTo>
                  <a:cubicBezTo>
                    <a:pt x="7766" y="8331"/>
                    <a:pt x="6553" y="7531"/>
                    <a:pt x="6796" y="6731"/>
                  </a:cubicBezTo>
                  <a:cubicBezTo>
                    <a:pt x="6796" y="6731"/>
                    <a:pt x="9222" y="7531"/>
                    <a:pt x="9222" y="7531"/>
                  </a:cubicBezTo>
                  <a:cubicBezTo>
                    <a:pt x="9222" y="6731"/>
                    <a:pt x="8252" y="5931"/>
                    <a:pt x="8009" y="5131"/>
                  </a:cubicBezTo>
                  <a:cubicBezTo>
                    <a:pt x="7766" y="5131"/>
                    <a:pt x="7281" y="5131"/>
                    <a:pt x="6796" y="5131"/>
                  </a:cubicBezTo>
                  <a:cubicBezTo>
                    <a:pt x="7038" y="5131"/>
                    <a:pt x="7524" y="5131"/>
                    <a:pt x="7766" y="4331"/>
                  </a:cubicBezTo>
                  <a:cubicBezTo>
                    <a:pt x="7766" y="3531"/>
                    <a:pt x="6553" y="3531"/>
                    <a:pt x="6553" y="3531"/>
                  </a:cubicBezTo>
                  <a:cubicBezTo>
                    <a:pt x="5582" y="3531"/>
                    <a:pt x="5097" y="4331"/>
                    <a:pt x="4126" y="5131"/>
                  </a:cubicBezTo>
                  <a:cubicBezTo>
                    <a:pt x="4126" y="5131"/>
                    <a:pt x="4369" y="5131"/>
                    <a:pt x="4126" y="513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27" name="Shape 1241"/>
            <p:cNvSpPr/>
            <p:nvPr/>
          </p:nvSpPr>
          <p:spPr>
            <a:xfrm>
              <a:off x="6359400" y="2148840"/>
              <a:ext cx="229680" cy="142920"/>
            </a:xfrm>
            <a:custGeom>
              <a:avLst/>
              <a:gdLst/>
              <a:ahLst/>
              <a:rect l="l" t="t" r="r" b="b"/>
              <a:pathLst>
                <a:path w="21282" h="21016">
                  <a:moveTo>
                    <a:pt x="21234" y="14011"/>
                  </a:moveTo>
                  <a:cubicBezTo>
                    <a:pt x="21234" y="12843"/>
                    <a:pt x="20502" y="12843"/>
                    <a:pt x="20136" y="12259"/>
                  </a:cubicBezTo>
                  <a:cubicBezTo>
                    <a:pt x="19769" y="11676"/>
                    <a:pt x="19403" y="12843"/>
                    <a:pt x="19037" y="12259"/>
                  </a:cubicBezTo>
                  <a:cubicBezTo>
                    <a:pt x="18305" y="11092"/>
                    <a:pt x="17573" y="12259"/>
                    <a:pt x="16841" y="11676"/>
                  </a:cubicBezTo>
                  <a:cubicBezTo>
                    <a:pt x="16841" y="11676"/>
                    <a:pt x="17573" y="11092"/>
                    <a:pt x="17573" y="10508"/>
                  </a:cubicBezTo>
                  <a:cubicBezTo>
                    <a:pt x="17573" y="10508"/>
                    <a:pt x="16841" y="10508"/>
                    <a:pt x="16841" y="10508"/>
                  </a:cubicBezTo>
                  <a:cubicBezTo>
                    <a:pt x="16841" y="9924"/>
                    <a:pt x="17207" y="9924"/>
                    <a:pt x="17207" y="9341"/>
                  </a:cubicBezTo>
                  <a:cubicBezTo>
                    <a:pt x="17207" y="8757"/>
                    <a:pt x="16108" y="9341"/>
                    <a:pt x="16108" y="8757"/>
                  </a:cubicBezTo>
                  <a:cubicBezTo>
                    <a:pt x="15742" y="8757"/>
                    <a:pt x="16475" y="8173"/>
                    <a:pt x="16475" y="8173"/>
                  </a:cubicBezTo>
                  <a:cubicBezTo>
                    <a:pt x="16841" y="7589"/>
                    <a:pt x="16108" y="7005"/>
                    <a:pt x="16108" y="6422"/>
                  </a:cubicBezTo>
                  <a:cubicBezTo>
                    <a:pt x="15742" y="5838"/>
                    <a:pt x="13912" y="6422"/>
                    <a:pt x="13912" y="6422"/>
                  </a:cubicBezTo>
                  <a:cubicBezTo>
                    <a:pt x="13912" y="7005"/>
                    <a:pt x="15742" y="8173"/>
                    <a:pt x="15742" y="8757"/>
                  </a:cubicBezTo>
                  <a:cubicBezTo>
                    <a:pt x="15376" y="9341"/>
                    <a:pt x="14278" y="8173"/>
                    <a:pt x="13912" y="7589"/>
                  </a:cubicBezTo>
                  <a:cubicBezTo>
                    <a:pt x="13180" y="7005"/>
                    <a:pt x="14278" y="5838"/>
                    <a:pt x="12814" y="5838"/>
                  </a:cubicBezTo>
                  <a:cubicBezTo>
                    <a:pt x="12081" y="5838"/>
                    <a:pt x="10983" y="5838"/>
                    <a:pt x="10617" y="4670"/>
                  </a:cubicBezTo>
                  <a:cubicBezTo>
                    <a:pt x="10251" y="3503"/>
                    <a:pt x="9519" y="1751"/>
                    <a:pt x="8786" y="1168"/>
                  </a:cubicBezTo>
                  <a:cubicBezTo>
                    <a:pt x="7688" y="584"/>
                    <a:pt x="6590" y="0"/>
                    <a:pt x="5858" y="0"/>
                  </a:cubicBezTo>
                  <a:cubicBezTo>
                    <a:pt x="5492" y="0"/>
                    <a:pt x="3661" y="0"/>
                    <a:pt x="4393" y="584"/>
                  </a:cubicBezTo>
                  <a:cubicBezTo>
                    <a:pt x="4759" y="584"/>
                    <a:pt x="6224" y="1168"/>
                    <a:pt x="6224" y="1168"/>
                  </a:cubicBezTo>
                  <a:cubicBezTo>
                    <a:pt x="6224" y="2335"/>
                    <a:pt x="4759" y="1751"/>
                    <a:pt x="4393" y="1751"/>
                  </a:cubicBezTo>
                  <a:cubicBezTo>
                    <a:pt x="4393" y="1751"/>
                    <a:pt x="4759" y="2335"/>
                    <a:pt x="4759" y="2335"/>
                  </a:cubicBezTo>
                  <a:cubicBezTo>
                    <a:pt x="4759" y="2919"/>
                    <a:pt x="2563" y="1168"/>
                    <a:pt x="2197" y="2919"/>
                  </a:cubicBezTo>
                  <a:cubicBezTo>
                    <a:pt x="2197" y="2919"/>
                    <a:pt x="4027" y="4086"/>
                    <a:pt x="4393" y="4086"/>
                  </a:cubicBezTo>
                  <a:cubicBezTo>
                    <a:pt x="3661" y="3503"/>
                    <a:pt x="4027" y="5254"/>
                    <a:pt x="4027" y="5254"/>
                  </a:cubicBezTo>
                  <a:cubicBezTo>
                    <a:pt x="4027" y="5838"/>
                    <a:pt x="1464" y="4086"/>
                    <a:pt x="1098" y="4670"/>
                  </a:cubicBezTo>
                  <a:cubicBezTo>
                    <a:pt x="1098" y="4086"/>
                    <a:pt x="2197" y="4670"/>
                    <a:pt x="2197" y="5254"/>
                  </a:cubicBezTo>
                  <a:cubicBezTo>
                    <a:pt x="2197" y="4670"/>
                    <a:pt x="1464" y="5254"/>
                    <a:pt x="1464" y="5254"/>
                  </a:cubicBezTo>
                  <a:cubicBezTo>
                    <a:pt x="1098" y="5838"/>
                    <a:pt x="1831" y="6422"/>
                    <a:pt x="1831" y="6422"/>
                  </a:cubicBezTo>
                  <a:cubicBezTo>
                    <a:pt x="2197" y="7005"/>
                    <a:pt x="732" y="7005"/>
                    <a:pt x="366" y="7005"/>
                  </a:cubicBezTo>
                  <a:cubicBezTo>
                    <a:pt x="732" y="7005"/>
                    <a:pt x="1464" y="7589"/>
                    <a:pt x="2197" y="8173"/>
                  </a:cubicBezTo>
                  <a:cubicBezTo>
                    <a:pt x="2929" y="8173"/>
                    <a:pt x="3661" y="7589"/>
                    <a:pt x="4393" y="7589"/>
                  </a:cubicBezTo>
                  <a:cubicBezTo>
                    <a:pt x="4393" y="7589"/>
                    <a:pt x="3661" y="8173"/>
                    <a:pt x="3661" y="8173"/>
                  </a:cubicBezTo>
                  <a:cubicBezTo>
                    <a:pt x="3661" y="8757"/>
                    <a:pt x="4027" y="8757"/>
                    <a:pt x="4027" y="8757"/>
                  </a:cubicBezTo>
                  <a:cubicBezTo>
                    <a:pt x="4027" y="9341"/>
                    <a:pt x="0" y="8757"/>
                    <a:pt x="0" y="8757"/>
                  </a:cubicBezTo>
                  <a:cubicBezTo>
                    <a:pt x="0" y="8757"/>
                    <a:pt x="732" y="10508"/>
                    <a:pt x="732" y="10508"/>
                  </a:cubicBezTo>
                  <a:cubicBezTo>
                    <a:pt x="1098" y="11092"/>
                    <a:pt x="2563" y="12259"/>
                    <a:pt x="2563" y="11676"/>
                  </a:cubicBezTo>
                  <a:cubicBezTo>
                    <a:pt x="2563" y="12259"/>
                    <a:pt x="1831" y="11676"/>
                    <a:pt x="2197" y="12843"/>
                  </a:cubicBezTo>
                  <a:cubicBezTo>
                    <a:pt x="2197" y="12843"/>
                    <a:pt x="2563" y="13427"/>
                    <a:pt x="2929" y="13427"/>
                  </a:cubicBezTo>
                  <a:cubicBezTo>
                    <a:pt x="3295" y="14011"/>
                    <a:pt x="3661" y="13427"/>
                    <a:pt x="4027" y="13427"/>
                  </a:cubicBezTo>
                  <a:cubicBezTo>
                    <a:pt x="4393" y="12843"/>
                    <a:pt x="4759" y="14011"/>
                    <a:pt x="5125" y="13427"/>
                  </a:cubicBezTo>
                  <a:cubicBezTo>
                    <a:pt x="6224" y="12843"/>
                    <a:pt x="6956" y="12259"/>
                    <a:pt x="7688" y="12843"/>
                  </a:cubicBezTo>
                  <a:cubicBezTo>
                    <a:pt x="8420" y="13427"/>
                    <a:pt x="8786" y="13427"/>
                    <a:pt x="9519" y="13427"/>
                  </a:cubicBezTo>
                  <a:cubicBezTo>
                    <a:pt x="9153" y="13427"/>
                    <a:pt x="8420" y="13427"/>
                    <a:pt x="7688" y="13427"/>
                  </a:cubicBezTo>
                  <a:cubicBezTo>
                    <a:pt x="8420" y="13427"/>
                    <a:pt x="9885" y="13427"/>
                    <a:pt x="10251" y="14011"/>
                  </a:cubicBezTo>
                  <a:cubicBezTo>
                    <a:pt x="10251" y="14011"/>
                    <a:pt x="8420" y="14595"/>
                    <a:pt x="8420" y="14595"/>
                  </a:cubicBezTo>
                  <a:cubicBezTo>
                    <a:pt x="7688" y="14595"/>
                    <a:pt x="6590" y="14595"/>
                    <a:pt x="5858" y="14595"/>
                  </a:cubicBezTo>
                  <a:cubicBezTo>
                    <a:pt x="5858" y="15178"/>
                    <a:pt x="4393" y="15762"/>
                    <a:pt x="4759" y="15762"/>
                  </a:cubicBezTo>
                  <a:cubicBezTo>
                    <a:pt x="5125" y="16346"/>
                    <a:pt x="5492" y="16346"/>
                    <a:pt x="5858" y="17514"/>
                  </a:cubicBezTo>
                  <a:cubicBezTo>
                    <a:pt x="5858" y="18681"/>
                    <a:pt x="8054" y="17514"/>
                    <a:pt x="8420" y="18681"/>
                  </a:cubicBezTo>
                  <a:cubicBezTo>
                    <a:pt x="8420" y="18681"/>
                    <a:pt x="6956" y="18681"/>
                    <a:pt x="6956" y="19265"/>
                  </a:cubicBezTo>
                  <a:cubicBezTo>
                    <a:pt x="7322" y="19849"/>
                    <a:pt x="9153" y="21016"/>
                    <a:pt x="9519" y="21016"/>
                  </a:cubicBezTo>
                  <a:cubicBezTo>
                    <a:pt x="9519" y="21016"/>
                    <a:pt x="11715" y="21016"/>
                    <a:pt x="11715" y="20432"/>
                  </a:cubicBezTo>
                  <a:cubicBezTo>
                    <a:pt x="11715" y="20432"/>
                    <a:pt x="11349" y="20432"/>
                    <a:pt x="11349" y="20432"/>
                  </a:cubicBezTo>
                  <a:cubicBezTo>
                    <a:pt x="11349" y="19265"/>
                    <a:pt x="12814" y="21016"/>
                    <a:pt x="12447" y="21016"/>
                  </a:cubicBezTo>
                  <a:cubicBezTo>
                    <a:pt x="12814" y="21016"/>
                    <a:pt x="12081" y="19265"/>
                    <a:pt x="12081" y="18681"/>
                  </a:cubicBezTo>
                  <a:cubicBezTo>
                    <a:pt x="12814" y="18097"/>
                    <a:pt x="13546" y="21600"/>
                    <a:pt x="14644" y="20432"/>
                  </a:cubicBezTo>
                  <a:cubicBezTo>
                    <a:pt x="15010" y="19849"/>
                    <a:pt x="14278" y="18681"/>
                    <a:pt x="14644" y="18681"/>
                  </a:cubicBezTo>
                  <a:cubicBezTo>
                    <a:pt x="15010" y="18681"/>
                    <a:pt x="15010" y="19849"/>
                    <a:pt x="15010" y="20432"/>
                  </a:cubicBezTo>
                  <a:cubicBezTo>
                    <a:pt x="15376" y="20432"/>
                    <a:pt x="15742" y="18097"/>
                    <a:pt x="15376" y="18097"/>
                  </a:cubicBezTo>
                  <a:cubicBezTo>
                    <a:pt x="15376" y="17514"/>
                    <a:pt x="15376" y="16930"/>
                    <a:pt x="15010" y="16930"/>
                  </a:cubicBezTo>
                  <a:cubicBezTo>
                    <a:pt x="15010" y="16346"/>
                    <a:pt x="15376" y="15178"/>
                    <a:pt x="15742" y="15762"/>
                  </a:cubicBezTo>
                  <a:cubicBezTo>
                    <a:pt x="16108" y="16346"/>
                    <a:pt x="15742" y="18681"/>
                    <a:pt x="16841" y="17514"/>
                  </a:cubicBezTo>
                  <a:cubicBezTo>
                    <a:pt x="17207" y="16930"/>
                    <a:pt x="18305" y="14595"/>
                    <a:pt x="19037" y="15762"/>
                  </a:cubicBezTo>
                  <a:cubicBezTo>
                    <a:pt x="19403" y="15762"/>
                    <a:pt x="18671" y="16346"/>
                    <a:pt x="18671" y="16346"/>
                  </a:cubicBezTo>
                  <a:cubicBezTo>
                    <a:pt x="18671" y="16346"/>
                    <a:pt x="20502" y="15762"/>
                    <a:pt x="20502" y="15762"/>
                  </a:cubicBezTo>
                  <a:cubicBezTo>
                    <a:pt x="20502" y="15762"/>
                    <a:pt x="19769" y="15762"/>
                    <a:pt x="19769" y="15178"/>
                  </a:cubicBezTo>
                  <a:cubicBezTo>
                    <a:pt x="19769" y="14595"/>
                    <a:pt x="21600" y="14595"/>
                    <a:pt x="21234" y="14011"/>
                  </a:cubicBezTo>
                  <a:cubicBezTo>
                    <a:pt x="21234" y="12843"/>
                    <a:pt x="21234" y="14595"/>
                    <a:pt x="21234" y="1401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28" name="Shape 1242"/>
            <p:cNvSpPr/>
            <p:nvPr/>
          </p:nvSpPr>
          <p:spPr>
            <a:xfrm>
              <a:off x="6453720" y="2064600"/>
              <a:ext cx="607320" cy="311040"/>
            </a:xfrm>
            <a:custGeom>
              <a:avLst/>
              <a:gdLst/>
              <a:ahLst/>
              <a:rect l="l" t="t" r="r" b="b"/>
              <a:pathLst>
                <a:path w="21288" h="20954">
                  <a:moveTo>
                    <a:pt x="3600" y="18252"/>
                  </a:moveTo>
                  <a:cubicBezTo>
                    <a:pt x="3046" y="18252"/>
                    <a:pt x="2354" y="18252"/>
                    <a:pt x="1800" y="18518"/>
                  </a:cubicBezTo>
                  <a:cubicBezTo>
                    <a:pt x="1523" y="18785"/>
                    <a:pt x="1523" y="19585"/>
                    <a:pt x="1662" y="19852"/>
                  </a:cubicBezTo>
                  <a:cubicBezTo>
                    <a:pt x="1800" y="20118"/>
                    <a:pt x="2077" y="20385"/>
                    <a:pt x="2077" y="20118"/>
                  </a:cubicBezTo>
                  <a:cubicBezTo>
                    <a:pt x="2354" y="20118"/>
                    <a:pt x="2215" y="19852"/>
                    <a:pt x="2354" y="19585"/>
                  </a:cubicBezTo>
                  <a:cubicBezTo>
                    <a:pt x="2354" y="19585"/>
                    <a:pt x="2354" y="20385"/>
                    <a:pt x="2354" y="20385"/>
                  </a:cubicBezTo>
                  <a:cubicBezTo>
                    <a:pt x="2631" y="20385"/>
                    <a:pt x="3046" y="20385"/>
                    <a:pt x="3323" y="20385"/>
                  </a:cubicBezTo>
                  <a:cubicBezTo>
                    <a:pt x="3600" y="20385"/>
                    <a:pt x="3600" y="19852"/>
                    <a:pt x="3738" y="19852"/>
                  </a:cubicBezTo>
                  <a:cubicBezTo>
                    <a:pt x="4015" y="19852"/>
                    <a:pt x="3738" y="20385"/>
                    <a:pt x="3738" y="20385"/>
                  </a:cubicBezTo>
                  <a:cubicBezTo>
                    <a:pt x="3738" y="20385"/>
                    <a:pt x="5123" y="20652"/>
                    <a:pt x="5123" y="20385"/>
                  </a:cubicBezTo>
                  <a:cubicBezTo>
                    <a:pt x="5123" y="20385"/>
                    <a:pt x="4846" y="20118"/>
                    <a:pt x="4708" y="19852"/>
                  </a:cubicBezTo>
                  <a:cubicBezTo>
                    <a:pt x="4708" y="19852"/>
                    <a:pt x="5262" y="20118"/>
                    <a:pt x="5123" y="20385"/>
                  </a:cubicBezTo>
                  <a:cubicBezTo>
                    <a:pt x="5262" y="20118"/>
                    <a:pt x="5123" y="19852"/>
                    <a:pt x="5262" y="19852"/>
                  </a:cubicBezTo>
                  <a:cubicBezTo>
                    <a:pt x="5262" y="19852"/>
                    <a:pt x="5538" y="20118"/>
                    <a:pt x="5677" y="20118"/>
                  </a:cubicBezTo>
                  <a:cubicBezTo>
                    <a:pt x="5954" y="20652"/>
                    <a:pt x="5677" y="19852"/>
                    <a:pt x="5815" y="19585"/>
                  </a:cubicBezTo>
                  <a:cubicBezTo>
                    <a:pt x="5815" y="19585"/>
                    <a:pt x="6646" y="20385"/>
                    <a:pt x="6646" y="20118"/>
                  </a:cubicBezTo>
                  <a:cubicBezTo>
                    <a:pt x="6646" y="19852"/>
                    <a:pt x="6369" y="19852"/>
                    <a:pt x="6369" y="19585"/>
                  </a:cubicBezTo>
                  <a:cubicBezTo>
                    <a:pt x="6369" y="19585"/>
                    <a:pt x="7338" y="19852"/>
                    <a:pt x="7338" y="19852"/>
                  </a:cubicBezTo>
                  <a:cubicBezTo>
                    <a:pt x="7892" y="19852"/>
                    <a:pt x="7200" y="20652"/>
                    <a:pt x="7200" y="20918"/>
                  </a:cubicBezTo>
                  <a:cubicBezTo>
                    <a:pt x="7200" y="21185"/>
                    <a:pt x="8862" y="19852"/>
                    <a:pt x="9000" y="19852"/>
                  </a:cubicBezTo>
                  <a:cubicBezTo>
                    <a:pt x="9277" y="19852"/>
                    <a:pt x="9969" y="19052"/>
                    <a:pt x="9415" y="18785"/>
                  </a:cubicBezTo>
                  <a:cubicBezTo>
                    <a:pt x="9138" y="18518"/>
                    <a:pt x="8723" y="19052"/>
                    <a:pt x="8446" y="18785"/>
                  </a:cubicBezTo>
                  <a:cubicBezTo>
                    <a:pt x="8446" y="18785"/>
                    <a:pt x="8723" y="18252"/>
                    <a:pt x="8723" y="18252"/>
                  </a:cubicBezTo>
                  <a:cubicBezTo>
                    <a:pt x="8723" y="17985"/>
                    <a:pt x="8308" y="18252"/>
                    <a:pt x="8169" y="18252"/>
                  </a:cubicBezTo>
                  <a:cubicBezTo>
                    <a:pt x="7892" y="18252"/>
                    <a:pt x="7754" y="17718"/>
                    <a:pt x="7477" y="17718"/>
                  </a:cubicBezTo>
                  <a:cubicBezTo>
                    <a:pt x="7338" y="17985"/>
                    <a:pt x="6923" y="18252"/>
                    <a:pt x="6646" y="17985"/>
                  </a:cubicBezTo>
                  <a:cubicBezTo>
                    <a:pt x="6785" y="17985"/>
                    <a:pt x="6923" y="17985"/>
                    <a:pt x="7062" y="17985"/>
                  </a:cubicBezTo>
                  <a:cubicBezTo>
                    <a:pt x="7200" y="17718"/>
                    <a:pt x="6923" y="17185"/>
                    <a:pt x="6923" y="16918"/>
                  </a:cubicBezTo>
                  <a:cubicBezTo>
                    <a:pt x="6923" y="17452"/>
                    <a:pt x="8169" y="17718"/>
                    <a:pt x="8308" y="17718"/>
                  </a:cubicBezTo>
                  <a:cubicBezTo>
                    <a:pt x="8446" y="17718"/>
                    <a:pt x="8723" y="17718"/>
                    <a:pt x="9000" y="17718"/>
                  </a:cubicBezTo>
                  <a:cubicBezTo>
                    <a:pt x="9277" y="17718"/>
                    <a:pt x="9554" y="16918"/>
                    <a:pt x="9415" y="16652"/>
                  </a:cubicBezTo>
                  <a:cubicBezTo>
                    <a:pt x="9000" y="15852"/>
                    <a:pt x="9831" y="15852"/>
                    <a:pt x="10108" y="15852"/>
                  </a:cubicBezTo>
                  <a:cubicBezTo>
                    <a:pt x="10246" y="15852"/>
                    <a:pt x="10938" y="15852"/>
                    <a:pt x="11077" y="15585"/>
                  </a:cubicBezTo>
                  <a:cubicBezTo>
                    <a:pt x="11077" y="15585"/>
                    <a:pt x="10385" y="15052"/>
                    <a:pt x="10385" y="15052"/>
                  </a:cubicBezTo>
                  <a:cubicBezTo>
                    <a:pt x="10662" y="14785"/>
                    <a:pt x="11215" y="15318"/>
                    <a:pt x="11354" y="14785"/>
                  </a:cubicBezTo>
                  <a:cubicBezTo>
                    <a:pt x="11492" y="14518"/>
                    <a:pt x="10662" y="14252"/>
                    <a:pt x="10523" y="14252"/>
                  </a:cubicBezTo>
                  <a:cubicBezTo>
                    <a:pt x="10662" y="14252"/>
                    <a:pt x="11631" y="13985"/>
                    <a:pt x="11769" y="13718"/>
                  </a:cubicBezTo>
                  <a:cubicBezTo>
                    <a:pt x="12046" y="13452"/>
                    <a:pt x="10662" y="12918"/>
                    <a:pt x="10662" y="13185"/>
                  </a:cubicBezTo>
                  <a:cubicBezTo>
                    <a:pt x="10662" y="12918"/>
                    <a:pt x="10938" y="12918"/>
                    <a:pt x="10938" y="12918"/>
                  </a:cubicBezTo>
                  <a:cubicBezTo>
                    <a:pt x="10938" y="12652"/>
                    <a:pt x="9969" y="12918"/>
                    <a:pt x="9831" y="12918"/>
                  </a:cubicBezTo>
                  <a:cubicBezTo>
                    <a:pt x="9554" y="12918"/>
                    <a:pt x="9415" y="13185"/>
                    <a:pt x="9138" y="13452"/>
                  </a:cubicBezTo>
                  <a:cubicBezTo>
                    <a:pt x="9277" y="13452"/>
                    <a:pt x="9692" y="12652"/>
                    <a:pt x="9415" y="12652"/>
                  </a:cubicBezTo>
                  <a:cubicBezTo>
                    <a:pt x="9415" y="12652"/>
                    <a:pt x="8862" y="12652"/>
                    <a:pt x="8862" y="12385"/>
                  </a:cubicBezTo>
                  <a:cubicBezTo>
                    <a:pt x="8862" y="12385"/>
                    <a:pt x="9831" y="12385"/>
                    <a:pt x="9969" y="12385"/>
                  </a:cubicBezTo>
                  <a:cubicBezTo>
                    <a:pt x="9831" y="12385"/>
                    <a:pt x="9415" y="12118"/>
                    <a:pt x="9415" y="12118"/>
                  </a:cubicBezTo>
                  <a:cubicBezTo>
                    <a:pt x="9554" y="11852"/>
                    <a:pt x="9969" y="12385"/>
                    <a:pt x="10246" y="12118"/>
                  </a:cubicBezTo>
                  <a:cubicBezTo>
                    <a:pt x="10108" y="12118"/>
                    <a:pt x="9554" y="11852"/>
                    <a:pt x="9554" y="11852"/>
                  </a:cubicBezTo>
                  <a:cubicBezTo>
                    <a:pt x="9554" y="11585"/>
                    <a:pt x="10662" y="11852"/>
                    <a:pt x="10800" y="11585"/>
                  </a:cubicBezTo>
                  <a:cubicBezTo>
                    <a:pt x="10800" y="11585"/>
                    <a:pt x="10385" y="11318"/>
                    <a:pt x="10385" y="11318"/>
                  </a:cubicBezTo>
                  <a:cubicBezTo>
                    <a:pt x="10246" y="11318"/>
                    <a:pt x="10662" y="11318"/>
                    <a:pt x="10662" y="11318"/>
                  </a:cubicBezTo>
                  <a:cubicBezTo>
                    <a:pt x="10938" y="11585"/>
                    <a:pt x="11077" y="11852"/>
                    <a:pt x="11354" y="11852"/>
                  </a:cubicBezTo>
                  <a:cubicBezTo>
                    <a:pt x="11631" y="11852"/>
                    <a:pt x="12046" y="11585"/>
                    <a:pt x="12462" y="11318"/>
                  </a:cubicBezTo>
                  <a:cubicBezTo>
                    <a:pt x="13569" y="11052"/>
                    <a:pt x="11769" y="10785"/>
                    <a:pt x="11631" y="10252"/>
                  </a:cubicBezTo>
                  <a:cubicBezTo>
                    <a:pt x="11631" y="9985"/>
                    <a:pt x="12877" y="10252"/>
                    <a:pt x="13015" y="10518"/>
                  </a:cubicBezTo>
                  <a:cubicBezTo>
                    <a:pt x="13292" y="10785"/>
                    <a:pt x="13431" y="10785"/>
                    <a:pt x="13846" y="10518"/>
                  </a:cubicBezTo>
                  <a:cubicBezTo>
                    <a:pt x="13985" y="10518"/>
                    <a:pt x="14677" y="9985"/>
                    <a:pt x="14538" y="9452"/>
                  </a:cubicBezTo>
                  <a:cubicBezTo>
                    <a:pt x="14538" y="9185"/>
                    <a:pt x="13015" y="10518"/>
                    <a:pt x="13431" y="9185"/>
                  </a:cubicBezTo>
                  <a:cubicBezTo>
                    <a:pt x="13292" y="9452"/>
                    <a:pt x="13985" y="9452"/>
                    <a:pt x="13985" y="9452"/>
                  </a:cubicBezTo>
                  <a:cubicBezTo>
                    <a:pt x="14400" y="9452"/>
                    <a:pt x="14677" y="9185"/>
                    <a:pt x="14954" y="9185"/>
                  </a:cubicBezTo>
                  <a:cubicBezTo>
                    <a:pt x="14954" y="8918"/>
                    <a:pt x="14538" y="8118"/>
                    <a:pt x="14538" y="8118"/>
                  </a:cubicBezTo>
                  <a:cubicBezTo>
                    <a:pt x="14677" y="8118"/>
                    <a:pt x="14815" y="8385"/>
                    <a:pt x="14815" y="8652"/>
                  </a:cubicBezTo>
                  <a:cubicBezTo>
                    <a:pt x="14954" y="8918"/>
                    <a:pt x="15231" y="8652"/>
                    <a:pt x="15369" y="8652"/>
                  </a:cubicBezTo>
                  <a:cubicBezTo>
                    <a:pt x="15785" y="8118"/>
                    <a:pt x="16062" y="7585"/>
                    <a:pt x="16477" y="7318"/>
                  </a:cubicBezTo>
                  <a:cubicBezTo>
                    <a:pt x="16754" y="7052"/>
                    <a:pt x="18831" y="5452"/>
                    <a:pt x="18831" y="5185"/>
                  </a:cubicBezTo>
                  <a:cubicBezTo>
                    <a:pt x="18831" y="4918"/>
                    <a:pt x="17031" y="5718"/>
                    <a:pt x="16892" y="5718"/>
                  </a:cubicBezTo>
                  <a:cubicBezTo>
                    <a:pt x="16477" y="5985"/>
                    <a:pt x="16062" y="5985"/>
                    <a:pt x="15508" y="6252"/>
                  </a:cubicBezTo>
                  <a:cubicBezTo>
                    <a:pt x="15508" y="6252"/>
                    <a:pt x="14954" y="6252"/>
                    <a:pt x="14954" y="6252"/>
                  </a:cubicBezTo>
                  <a:cubicBezTo>
                    <a:pt x="14954" y="5985"/>
                    <a:pt x="15785" y="5985"/>
                    <a:pt x="15923" y="5718"/>
                  </a:cubicBezTo>
                  <a:cubicBezTo>
                    <a:pt x="16062" y="5718"/>
                    <a:pt x="17031" y="5452"/>
                    <a:pt x="17031" y="5185"/>
                  </a:cubicBezTo>
                  <a:cubicBezTo>
                    <a:pt x="17031" y="5452"/>
                    <a:pt x="15646" y="4918"/>
                    <a:pt x="15785" y="4652"/>
                  </a:cubicBezTo>
                  <a:cubicBezTo>
                    <a:pt x="15785" y="4652"/>
                    <a:pt x="17446" y="4918"/>
                    <a:pt x="17585" y="4652"/>
                  </a:cubicBezTo>
                  <a:cubicBezTo>
                    <a:pt x="17862" y="4652"/>
                    <a:pt x="18277" y="4385"/>
                    <a:pt x="18554" y="4385"/>
                  </a:cubicBezTo>
                  <a:cubicBezTo>
                    <a:pt x="18692" y="4385"/>
                    <a:pt x="18969" y="4385"/>
                    <a:pt x="19108" y="4385"/>
                  </a:cubicBezTo>
                  <a:cubicBezTo>
                    <a:pt x="19662" y="4118"/>
                    <a:pt x="20215" y="3852"/>
                    <a:pt x="20631" y="3585"/>
                  </a:cubicBezTo>
                  <a:cubicBezTo>
                    <a:pt x="20631" y="3585"/>
                    <a:pt x="21600" y="2518"/>
                    <a:pt x="21185" y="2252"/>
                  </a:cubicBezTo>
                  <a:cubicBezTo>
                    <a:pt x="20908" y="2252"/>
                    <a:pt x="20492" y="2252"/>
                    <a:pt x="20215" y="2252"/>
                  </a:cubicBezTo>
                  <a:cubicBezTo>
                    <a:pt x="20077" y="1985"/>
                    <a:pt x="19800" y="2252"/>
                    <a:pt x="19800" y="1985"/>
                  </a:cubicBezTo>
                  <a:cubicBezTo>
                    <a:pt x="19800" y="1452"/>
                    <a:pt x="19523" y="1452"/>
                    <a:pt x="19523" y="918"/>
                  </a:cubicBezTo>
                  <a:cubicBezTo>
                    <a:pt x="19523" y="918"/>
                    <a:pt x="18969" y="1185"/>
                    <a:pt x="18831" y="1185"/>
                  </a:cubicBezTo>
                  <a:cubicBezTo>
                    <a:pt x="18692" y="918"/>
                    <a:pt x="18554" y="385"/>
                    <a:pt x="18415" y="918"/>
                  </a:cubicBezTo>
                  <a:cubicBezTo>
                    <a:pt x="18415" y="918"/>
                    <a:pt x="17585" y="1185"/>
                    <a:pt x="17446" y="1185"/>
                  </a:cubicBezTo>
                  <a:cubicBezTo>
                    <a:pt x="17169" y="1452"/>
                    <a:pt x="16892" y="1452"/>
                    <a:pt x="16615" y="1452"/>
                  </a:cubicBezTo>
                  <a:cubicBezTo>
                    <a:pt x="16615" y="1452"/>
                    <a:pt x="16062" y="1452"/>
                    <a:pt x="16062" y="1452"/>
                  </a:cubicBezTo>
                  <a:cubicBezTo>
                    <a:pt x="16062" y="1185"/>
                    <a:pt x="16615" y="1185"/>
                    <a:pt x="16754" y="918"/>
                  </a:cubicBezTo>
                  <a:cubicBezTo>
                    <a:pt x="17031" y="918"/>
                    <a:pt x="17308" y="652"/>
                    <a:pt x="17446" y="385"/>
                  </a:cubicBezTo>
                  <a:cubicBezTo>
                    <a:pt x="17169" y="1185"/>
                    <a:pt x="14262" y="-415"/>
                    <a:pt x="14123" y="118"/>
                  </a:cubicBezTo>
                  <a:cubicBezTo>
                    <a:pt x="14123" y="385"/>
                    <a:pt x="14400" y="385"/>
                    <a:pt x="14538" y="652"/>
                  </a:cubicBezTo>
                  <a:cubicBezTo>
                    <a:pt x="14538" y="918"/>
                    <a:pt x="13846" y="118"/>
                    <a:pt x="13846" y="118"/>
                  </a:cubicBezTo>
                  <a:cubicBezTo>
                    <a:pt x="13569" y="-148"/>
                    <a:pt x="13154" y="118"/>
                    <a:pt x="13015" y="118"/>
                  </a:cubicBezTo>
                  <a:cubicBezTo>
                    <a:pt x="12877" y="118"/>
                    <a:pt x="12462" y="118"/>
                    <a:pt x="12600" y="385"/>
                  </a:cubicBezTo>
                  <a:cubicBezTo>
                    <a:pt x="12738" y="652"/>
                    <a:pt x="13015" y="1452"/>
                    <a:pt x="13154" y="1185"/>
                  </a:cubicBezTo>
                  <a:cubicBezTo>
                    <a:pt x="13154" y="1452"/>
                    <a:pt x="12600" y="1185"/>
                    <a:pt x="12600" y="918"/>
                  </a:cubicBezTo>
                  <a:cubicBezTo>
                    <a:pt x="12185" y="918"/>
                    <a:pt x="12046" y="118"/>
                    <a:pt x="11769" y="118"/>
                  </a:cubicBezTo>
                  <a:cubicBezTo>
                    <a:pt x="11215" y="118"/>
                    <a:pt x="10800" y="118"/>
                    <a:pt x="10385" y="118"/>
                  </a:cubicBezTo>
                  <a:cubicBezTo>
                    <a:pt x="9692" y="385"/>
                    <a:pt x="10108" y="652"/>
                    <a:pt x="10523" y="918"/>
                  </a:cubicBezTo>
                  <a:cubicBezTo>
                    <a:pt x="10662" y="1185"/>
                    <a:pt x="10938" y="1452"/>
                    <a:pt x="11077" y="1718"/>
                  </a:cubicBezTo>
                  <a:cubicBezTo>
                    <a:pt x="11077" y="1718"/>
                    <a:pt x="10662" y="2252"/>
                    <a:pt x="10662" y="2252"/>
                  </a:cubicBezTo>
                  <a:cubicBezTo>
                    <a:pt x="10523" y="2252"/>
                    <a:pt x="10800" y="1985"/>
                    <a:pt x="10800" y="1985"/>
                  </a:cubicBezTo>
                  <a:cubicBezTo>
                    <a:pt x="10800" y="1718"/>
                    <a:pt x="9831" y="652"/>
                    <a:pt x="9692" y="652"/>
                  </a:cubicBezTo>
                  <a:cubicBezTo>
                    <a:pt x="9138" y="652"/>
                    <a:pt x="8585" y="385"/>
                    <a:pt x="8031" y="652"/>
                  </a:cubicBezTo>
                  <a:cubicBezTo>
                    <a:pt x="8031" y="652"/>
                    <a:pt x="8308" y="1185"/>
                    <a:pt x="8446" y="1185"/>
                  </a:cubicBezTo>
                  <a:cubicBezTo>
                    <a:pt x="8585" y="1185"/>
                    <a:pt x="8862" y="1452"/>
                    <a:pt x="9138" y="1185"/>
                  </a:cubicBezTo>
                  <a:cubicBezTo>
                    <a:pt x="8862" y="1452"/>
                    <a:pt x="8446" y="1718"/>
                    <a:pt x="8169" y="1452"/>
                  </a:cubicBezTo>
                  <a:cubicBezTo>
                    <a:pt x="8031" y="1452"/>
                    <a:pt x="7062" y="652"/>
                    <a:pt x="7200" y="918"/>
                  </a:cubicBezTo>
                  <a:cubicBezTo>
                    <a:pt x="7200" y="652"/>
                    <a:pt x="7892" y="2252"/>
                    <a:pt x="7338" y="1985"/>
                  </a:cubicBezTo>
                  <a:cubicBezTo>
                    <a:pt x="7200" y="1718"/>
                    <a:pt x="6785" y="1452"/>
                    <a:pt x="6508" y="1718"/>
                  </a:cubicBezTo>
                  <a:cubicBezTo>
                    <a:pt x="6646" y="1718"/>
                    <a:pt x="7062" y="1985"/>
                    <a:pt x="7062" y="1985"/>
                  </a:cubicBezTo>
                  <a:cubicBezTo>
                    <a:pt x="6923" y="2252"/>
                    <a:pt x="6369" y="1718"/>
                    <a:pt x="6369" y="2252"/>
                  </a:cubicBezTo>
                  <a:cubicBezTo>
                    <a:pt x="6369" y="2518"/>
                    <a:pt x="6923" y="2785"/>
                    <a:pt x="7062" y="3052"/>
                  </a:cubicBezTo>
                  <a:cubicBezTo>
                    <a:pt x="7477" y="3052"/>
                    <a:pt x="8446" y="3318"/>
                    <a:pt x="8446" y="4118"/>
                  </a:cubicBezTo>
                  <a:cubicBezTo>
                    <a:pt x="8446" y="3852"/>
                    <a:pt x="7477" y="3585"/>
                    <a:pt x="7200" y="3318"/>
                  </a:cubicBezTo>
                  <a:cubicBezTo>
                    <a:pt x="6923" y="3318"/>
                    <a:pt x="6508" y="2518"/>
                    <a:pt x="6231" y="2785"/>
                  </a:cubicBezTo>
                  <a:cubicBezTo>
                    <a:pt x="6231" y="2785"/>
                    <a:pt x="6646" y="3318"/>
                    <a:pt x="6646" y="3318"/>
                  </a:cubicBezTo>
                  <a:cubicBezTo>
                    <a:pt x="6646" y="3318"/>
                    <a:pt x="6231" y="3585"/>
                    <a:pt x="6231" y="3318"/>
                  </a:cubicBezTo>
                  <a:cubicBezTo>
                    <a:pt x="5954" y="3052"/>
                    <a:pt x="5815" y="2785"/>
                    <a:pt x="5538" y="2518"/>
                  </a:cubicBezTo>
                  <a:cubicBezTo>
                    <a:pt x="5400" y="2252"/>
                    <a:pt x="4292" y="2252"/>
                    <a:pt x="4292" y="2252"/>
                  </a:cubicBezTo>
                  <a:cubicBezTo>
                    <a:pt x="4292" y="2518"/>
                    <a:pt x="4708" y="2518"/>
                    <a:pt x="4292" y="2785"/>
                  </a:cubicBezTo>
                  <a:cubicBezTo>
                    <a:pt x="4154" y="2785"/>
                    <a:pt x="3462" y="3318"/>
                    <a:pt x="3462" y="3318"/>
                  </a:cubicBezTo>
                  <a:cubicBezTo>
                    <a:pt x="3600" y="3318"/>
                    <a:pt x="4015" y="3052"/>
                    <a:pt x="4015" y="3052"/>
                  </a:cubicBezTo>
                  <a:cubicBezTo>
                    <a:pt x="4154" y="3318"/>
                    <a:pt x="4708" y="3852"/>
                    <a:pt x="4708" y="3852"/>
                  </a:cubicBezTo>
                  <a:cubicBezTo>
                    <a:pt x="4708" y="3852"/>
                    <a:pt x="4292" y="3585"/>
                    <a:pt x="4292" y="3852"/>
                  </a:cubicBezTo>
                  <a:cubicBezTo>
                    <a:pt x="4292" y="3852"/>
                    <a:pt x="4431" y="4652"/>
                    <a:pt x="4154" y="4118"/>
                  </a:cubicBezTo>
                  <a:cubicBezTo>
                    <a:pt x="4015" y="3852"/>
                    <a:pt x="3877" y="3318"/>
                    <a:pt x="3600" y="3585"/>
                  </a:cubicBezTo>
                  <a:cubicBezTo>
                    <a:pt x="3462" y="3585"/>
                    <a:pt x="3323" y="4118"/>
                    <a:pt x="3185" y="3852"/>
                  </a:cubicBezTo>
                  <a:cubicBezTo>
                    <a:pt x="3046" y="3585"/>
                    <a:pt x="2908" y="3318"/>
                    <a:pt x="2631" y="3318"/>
                  </a:cubicBezTo>
                  <a:cubicBezTo>
                    <a:pt x="2492" y="3318"/>
                    <a:pt x="2077" y="3585"/>
                    <a:pt x="1938" y="3852"/>
                  </a:cubicBezTo>
                  <a:cubicBezTo>
                    <a:pt x="1662" y="4118"/>
                    <a:pt x="1800" y="4385"/>
                    <a:pt x="1385" y="4118"/>
                  </a:cubicBezTo>
                  <a:cubicBezTo>
                    <a:pt x="1108" y="3852"/>
                    <a:pt x="969" y="4118"/>
                    <a:pt x="692" y="4118"/>
                  </a:cubicBezTo>
                  <a:cubicBezTo>
                    <a:pt x="554" y="4385"/>
                    <a:pt x="0" y="4385"/>
                    <a:pt x="0" y="4652"/>
                  </a:cubicBezTo>
                  <a:cubicBezTo>
                    <a:pt x="0" y="5185"/>
                    <a:pt x="1246" y="4652"/>
                    <a:pt x="1246" y="4918"/>
                  </a:cubicBezTo>
                  <a:cubicBezTo>
                    <a:pt x="1246" y="5185"/>
                    <a:pt x="831" y="5185"/>
                    <a:pt x="692" y="5452"/>
                  </a:cubicBezTo>
                  <a:cubicBezTo>
                    <a:pt x="692" y="5185"/>
                    <a:pt x="1385" y="5185"/>
                    <a:pt x="1523" y="5185"/>
                  </a:cubicBezTo>
                  <a:cubicBezTo>
                    <a:pt x="1662" y="5185"/>
                    <a:pt x="2354" y="5185"/>
                    <a:pt x="2354" y="5185"/>
                  </a:cubicBezTo>
                  <a:cubicBezTo>
                    <a:pt x="2354" y="5185"/>
                    <a:pt x="2077" y="5452"/>
                    <a:pt x="1938" y="5452"/>
                  </a:cubicBezTo>
                  <a:cubicBezTo>
                    <a:pt x="1662" y="5452"/>
                    <a:pt x="1523" y="5452"/>
                    <a:pt x="1246" y="5985"/>
                  </a:cubicBezTo>
                  <a:cubicBezTo>
                    <a:pt x="692" y="6518"/>
                    <a:pt x="1662" y="6518"/>
                    <a:pt x="1800" y="6518"/>
                  </a:cubicBezTo>
                  <a:cubicBezTo>
                    <a:pt x="2354" y="6785"/>
                    <a:pt x="2769" y="6785"/>
                    <a:pt x="3323" y="6518"/>
                  </a:cubicBezTo>
                  <a:cubicBezTo>
                    <a:pt x="3600" y="6252"/>
                    <a:pt x="4292" y="5452"/>
                    <a:pt x="4708" y="5985"/>
                  </a:cubicBezTo>
                  <a:cubicBezTo>
                    <a:pt x="4708" y="5985"/>
                    <a:pt x="4015" y="6518"/>
                    <a:pt x="4015" y="6518"/>
                  </a:cubicBezTo>
                  <a:cubicBezTo>
                    <a:pt x="3738" y="6518"/>
                    <a:pt x="3462" y="6518"/>
                    <a:pt x="3185" y="6785"/>
                  </a:cubicBezTo>
                  <a:cubicBezTo>
                    <a:pt x="3046" y="6785"/>
                    <a:pt x="2769" y="6785"/>
                    <a:pt x="2492" y="6785"/>
                  </a:cubicBezTo>
                  <a:cubicBezTo>
                    <a:pt x="2215" y="7052"/>
                    <a:pt x="1938" y="6785"/>
                    <a:pt x="1662" y="7052"/>
                  </a:cubicBezTo>
                  <a:cubicBezTo>
                    <a:pt x="1800" y="7052"/>
                    <a:pt x="2215" y="7318"/>
                    <a:pt x="2215" y="7318"/>
                  </a:cubicBezTo>
                  <a:cubicBezTo>
                    <a:pt x="2354" y="7585"/>
                    <a:pt x="2492" y="7852"/>
                    <a:pt x="2769" y="7852"/>
                  </a:cubicBezTo>
                  <a:cubicBezTo>
                    <a:pt x="3323" y="7852"/>
                    <a:pt x="3600" y="7052"/>
                    <a:pt x="4154" y="6785"/>
                  </a:cubicBezTo>
                  <a:cubicBezTo>
                    <a:pt x="4292" y="6785"/>
                    <a:pt x="6092" y="6518"/>
                    <a:pt x="6092" y="6252"/>
                  </a:cubicBezTo>
                  <a:cubicBezTo>
                    <a:pt x="6092" y="6518"/>
                    <a:pt x="5262" y="6518"/>
                    <a:pt x="5123" y="6518"/>
                  </a:cubicBezTo>
                  <a:cubicBezTo>
                    <a:pt x="4708" y="6785"/>
                    <a:pt x="4015" y="7052"/>
                    <a:pt x="3600" y="7585"/>
                  </a:cubicBezTo>
                  <a:cubicBezTo>
                    <a:pt x="3185" y="8385"/>
                    <a:pt x="4431" y="8118"/>
                    <a:pt x="4569" y="8118"/>
                  </a:cubicBezTo>
                  <a:cubicBezTo>
                    <a:pt x="4846" y="8118"/>
                    <a:pt x="5123" y="8385"/>
                    <a:pt x="5400" y="7852"/>
                  </a:cubicBezTo>
                  <a:cubicBezTo>
                    <a:pt x="5538" y="7852"/>
                    <a:pt x="5538" y="7585"/>
                    <a:pt x="5538" y="7318"/>
                  </a:cubicBezTo>
                  <a:cubicBezTo>
                    <a:pt x="5677" y="7318"/>
                    <a:pt x="5815" y="7318"/>
                    <a:pt x="5815" y="7585"/>
                  </a:cubicBezTo>
                  <a:cubicBezTo>
                    <a:pt x="5815" y="7585"/>
                    <a:pt x="5815" y="7585"/>
                    <a:pt x="5677" y="7585"/>
                  </a:cubicBezTo>
                  <a:cubicBezTo>
                    <a:pt x="5954" y="7585"/>
                    <a:pt x="6646" y="7052"/>
                    <a:pt x="6923" y="7318"/>
                  </a:cubicBezTo>
                  <a:cubicBezTo>
                    <a:pt x="6785" y="7052"/>
                    <a:pt x="6092" y="8118"/>
                    <a:pt x="5954" y="8118"/>
                  </a:cubicBezTo>
                  <a:cubicBezTo>
                    <a:pt x="6092" y="8385"/>
                    <a:pt x="6923" y="7852"/>
                    <a:pt x="7200" y="7852"/>
                  </a:cubicBezTo>
                  <a:cubicBezTo>
                    <a:pt x="7615" y="7852"/>
                    <a:pt x="8031" y="7585"/>
                    <a:pt x="8446" y="7052"/>
                  </a:cubicBezTo>
                  <a:cubicBezTo>
                    <a:pt x="8585" y="6785"/>
                    <a:pt x="8585" y="6252"/>
                    <a:pt x="8585" y="6252"/>
                  </a:cubicBezTo>
                  <a:cubicBezTo>
                    <a:pt x="8862" y="6252"/>
                    <a:pt x="8862" y="6252"/>
                    <a:pt x="9000" y="5985"/>
                  </a:cubicBezTo>
                  <a:cubicBezTo>
                    <a:pt x="9138" y="5985"/>
                    <a:pt x="10108" y="4918"/>
                    <a:pt x="10108" y="5185"/>
                  </a:cubicBezTo>
                  <a:cubicBezTo>
                    <a:pt x="10108" y="5185"/>
                    <a:pt x="9554" y="5985"/>
                    <a:pt x="9554" y="5985"/>
                  </a:cubicBezTo>
                  <a:cubicBezTo>
                    <a:pt x="9415" y="6252"/>
                    <a:pt x="8862" y="6785"/>
                    <a:pt x="8862" y="7052"/>
                  </a:cubicBezTo>
                  <a:cubicBezTo>
                    <a:pt x="8862" y="7318"/>
                    <a:pt x="10385" y="7052"/>
                    <a:pt x="10385" y="7318"/>
                  </a:cubicBezTo>
                  <a:cubicBezTo>
                    <a:pt x="10385" y="7052"/>
                    <a:pt x="8308" y="8118"/>
                    <a:pt x="8308" y="7852"/>
                  </a:cubicBezTo>
                  <a:cubicBezTo>
                    <a:pt x="8308" y="7852"/>
                    <a:pt x="9554" y="8118"/>
                    <a:pt x="9415" y="8118"/>
                  </a:cubicBezTo>
                  <a:cubicBezTo>
                    <a:pt x="9415" y="8385"/>
                    <a:pt x="8862" y="8385"/>
                    <a:pt x="8723" y="8385"/>
                  </a:cubicBezTo>
                  <a:cubicBezTo>
                    <a:pt x="8446" y="8385"/>
                    <a:pt x="8031" y="8385"/>
                    <a:pt x="7754" y="8652"/>
                  </a:cubicBezTo>
                  <a:cubicBezTo>
                    <a:pt x="7200" y="8652"/>
                    <a:pt x="6646" y="8652"/>
                    <a:pt x="6092" y="8918"/>
                  </a:cubicBezTo>
                  <a:cubicBezTo>
                    <a:pt x="5954" y="8918"/>
                    <a:pt x="5954" y="9185"/>
                    <a:pt x="6231" y="9185"/>
                  </a:cubicBezTo>
                  <a:cubicBezTo>
                    <a:pt x="6369" y="9452"/>
                    <a:pt x="6785" y="9718"/>
                    <a:pt x="6923" y="9985"/>
                  </a:cubicBezTo>
                  <a:cubicBezTo>
                    <a:pt x="7200" y="10518"/>
                    <a:pt x="6923" y="11052"/>
                    <a:pt x="7338" y="11052"/>
                  </a:cubicBezTo>
                  <a:cubicBezTo>
                    <a:pt x="7477" y="10785"/>
                    <a:pt x="7892" y="11052"/>
                    <a:pt x="8031" y="10785"/>
                  </a:cubicBezTo>
                  <a:cubicBezTo>
                    <a:pt x="6785" y="12118"/>
                    <a:pt x="6092" y="9185"/>
                    <a:pt x="5123" y="9185"/>
                  </a:cubicBezTo>
                  <a:cubicBezTo>
                    <a:pt x="4846" y="9185"/>
                    <a:pt x="3600" y="8652"/>
                    <a:pt x="3600" y="9185"/>
                  </a:cubicBezTo>
                  <a:cubicBezTo>
                    <a:pt x="3600" y="9185"/>
                    <a:pt x="3462" y="9718"/>
                    <a:pt x="3462" y="9718"/>
                  </a:cubicBezTo>
                  <a:cubicBezTo>
                    <a:pt x="3600" y="9718"/>
                    <a:pt x="4431" y="9718"/>
                    <a:pt x="4431" y="9985"/>
                  </a:cubicBezTo>
                  <a:cubicBezTo>
                    <a:pt x="4431" y="9985"/>
                    <a:pt x="3600" y="9985"/>
                    <a:pt x="3600" y="10518"/>
                  </a:cubicBezTo>
                  <a:cubicBezTo>
                    <a:pt x="3600" y="10785"/>
                    <a:pt x="4431" y="10785"/>
                    <a:pt x="4708" y="11052"/>
                  </a:cubicBezTo>
                  <a:cubicBezTo>
                    <a:pt x="4846" y="11318"/>
                    <a:pt x="4985" y="11585"/>
                    <a:pt x="5123" y="11852"/>
                  </a:cubicBezTo>
                  <a:cubicBezTo>
                    <a:pt x="5262" y="12385"/>
                    <a:pt x="5538" y="12652"/>
                    <a:pt x="5815" y="12918"/>
                  </a:cubicBezTo>
                  <a:cubicBezTo>
                    <a:pt x="6092" y="13185"/>
                    <a:pt x="6231" y="13185"/>
                    <a:pt x="6508" y="12918"/>
                  </a:cubicBezTo>
                  <a:cubicBezTo>
                    <a:pt x="6646" y="12918"/>
                    <a:pt x="6923" y="12652"/>
                    <a:pt x="7062" y="12918"/>
                  </a:cubicBezTo>
                  <a:cubicBezTo>
                    <a:pt x="7062" y="12918"/>
                    <a:pt x="6923" y="13452"/>
                    <a:pt x="6923" y="13452"/>
                  </a:cubicBezTo>
                  <a:cubicBezTo>
                    <a:pt x="6646" y="13452"/>
                    <a:pt x="6231" y="13185"/>
                    <a:pt x="6092" y="13452"/>
                  </a:cubicBezTo>
                  <a:cubicBezTo>
                    <a:pt x="6092" y="13185"/>
                    <a:pt x="6646" y="13985"/>
                    <a:pt x="6646" y="13985"/>
                  </a:cubicBezTo>
                  <a:cubicBezTo>
                    <a:pt x="6646" y="14252"/>
                    <a:pt x="5954" y="13718"/>
                    <a:pt x="5954" y="13718"/>
                  </a:cubicBezTo>
                  <a:cubicBezTo>
                    <a:pt x="5538" y="13185"/>
                    <a:pt x="5262" y="13185"/>
                    <a:pt x="4846" y="13185"/>
                  </a:cubicBezTo>
                  <a:cubicBezTo>
                    <a:pt x="4569" y="13185"/>
                    <a:pt x="4431" y="13185"/>
                    <a:pt x="4154" y="13452"/>
                  </a:cubicBezTo>
                  <a:cubicBezTo>
                    <a:pt x="3877" y="13718"/>
                    <a:pt x="3738" y="13452"/>
                    <a:pt x="3600" y="13718"/>
                  </a:cubicBezTo>
                  <a:cubicBezTo>
                    <a:pt x="3462" y="13985"/>
                    <a:pt x="3462" y="14252"/>
                    <a:pt x="3185" y="14252"/>
                  </a:cubicBezTo>
                  <a:cubicBezTo>
                    <a:pt x="3046" y="14518"/>
                    <a:pt x="2908" y="15318"/>
                    <a:pt x="3185" y="15318"/>
                  </a:cubicBezTo>
                  <a:cubicBezTo>
                    <a:pt x="3462" y="15318"/>
                    <a:pt x="3738" y="15052"/>
                    <a:pt x="3738" y="15318"/>
                  </a:cubicBezTo>
                  <a:cubicBezTo>
                    <a:pt x="3877" y="15852"/>
                    <a:pt x="4431" y="15585"/>
                    <a:pt x="4431" y="15318"/>
                  </a:cubicBezTo>
                  <a:cubicBezTo>
                    <a:pt x="4569" y="15318"/>
                    <a:pt x="4846" y="14518"/>
                    <a:pt x="4846" y="14252"/>
                  </a:cubicBezTo>
                  <a:cubicBezTo>
                    <a:pt x="4846" y="14518"/>
                    <a:pt x="4846" y="14518"/>
                    <a:pt x="4846" y="14785"/>
                  </a:cubicBezTo>
                  <a:cubicBezTo>
                    <a:pt x="4846" y="14785"/>
                    <a:pt x="4985" y="14785"/>
                    <a:pt x="4985" y="14785"/>
                  </a:cubicBezTo>
                  <a:cubicBezTo>
                    <a:pt x="4985" y="14785"/>
                    <a:pt x="4846" y="15052"/>
                    <a:pt x="4846" y="15318"/>
                  </a:cubicBezTo>
                  <a:cubicBezTo>
                    <a:pt x="4846" y="15318"/>
                    <a:pt x="4846" y="15318"/>
                    <a:pt x="4985" y="15318"/>
                  </a:cubicBezTo>
                  <a:cubicBezTo>
                    <a:pt x="4985" y="15318"/>
                    <a:pt x="4569" y="15585"/>
                    <a:pt x="4708" y="15585"/>
                  </a:cubicBezTo>
                  <a:cubicBezTo>
                    <a:pt x="4708" y="15585"/>
                    <a:pt x="4708" y="15585"/>
                    <a:pt x="4708" y="15585"/>
                  </a:cubicBezTo>
                  <a:cubicBezTo>
                    <a:pt x="4708" y="15852"/>
                    <a:pt x="4292" y="15585"/>
                    <a:pt x="4154" y="15852"/>
                  </a:cubicBezTo>
                  <a:cubicBezTo>
                    <a:pt x="4292" y="15852"/>
                    <a:pt x="4846" y="15852"/>
                    <a:pt x="4985" y="16118"/>
                  </a:cubicBezTo>
                  <a:cubicBezTo>
                    <a:pt x="4985" y="16118"/>
                    <a:pt x="4292" y="16918"/>
                    <a:pt x="4431" y="16918"/>
                  </a:cubicBezTo>
                  <a:cubicBezTo>
                    <a:pt x="4431" y="17185"/>
                    <a:pt x="5123" y="16918"/>
                    <a:pt x="5123" y="16918"/>
                  </a:cubicBezTo>
                  <a:cubicBezTo>
                    <a:pt x="5123" y="16918"/>
                    <a:pt x="4985" y="16918"/>
                    <a:pt x="4985" y="16918"/>
                  </a:cubicBezTo>
                  <a:cubicBezTo>
                    <a:pt x="4985" y="17185"/>
                    <a:pt x="5677" y="16918"/>
                    <a:pt x="5815" y="16652"/>
                  </a:cubicBezTo>
                  <a:cubicBezTo>
                    <a:pt x="5815" y="16652"/>
                    <a:pt x="6369" y="15318"/>
                    <a:pt x="6508" y="15585"/>
                  </a:cubicBezTo>
                  <a:cubicBezTo>
                    <a:pt x="6646" y="15852"/>
                    <a:pt x="5538" y="17452"/>
                    <a:pt x="5262" y="17718"/>
                  </a:cubicBezTo>
                  <a:cubicBezTo>
                    <a:pt x="4846" y="17718"/>
                    <a:pt x="4569" y="17718"/>
                    <a:pt x="4154" y="17185"/>
                  </a:cubicBezTo>
                  <a:cubicBezTo>
                    <a:pt x="3877" y="16918"/>
                    <a:pt x="3877" y="16385"/>
                    <a:pt x="3600" y="16385"/>
                  </a:cubicBezTo>
                  <a:cubicBezTo>
                    <a:pt x="3323" y="16118"/>
                    <a:pt x="3046" y="16118"/>
                    <a:pt x="2769" y="16118"/>
                  </a:cubicBezTo>
                  <a:cubicBezTo>
                    <a:pt x="2354" y="16118"/>
                    <a:pt x="2354" y="16385"/>
                    <a:pt x="2631" y="16918"/>
                  </a:cubicBezTo>
                  <a:cubicBezTo>
                    <a:pt x="2769" y="17185"/>
                    <a:pt x="2769" y="17452"/>
                    <a:pt x="3046" y="17452"/>
                  </a:cubicBezTo>
                  <a:cubicBezTo>
                    <a:pt x="3462" y="17452"/>
                    <a:pt x="3046" y="17452"/>
                    <a:pt x="3046" y="17718"/>
                  </a:cubicBezTo>
                  <a:cubicBezTo>
                    <a:pt x="3046" y="17718"/>
                    <a:pt x="3600" y="18252"/>
                    <a:pt x="3600" y="1825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29" name="Shape 1243"/>
            <p:cNvSpPr/>
            <p:nvPr/>
          </p:nvSpPr>
          <p:spPr>
            <a:xfrm>
              <a:off x="6742440" y="2239200"/>
              <a:ext cx="52200" cy="14400"/>
            </a:xfrm>
            <a:custGeom>
              <a:avLst/>
              <a:gdLst/>
              <a:ahLst/>
              <a:rect l="l" t="t" r="r" b="b"/>
              <a:pathLst>
                <a:path w="20503" h="15417">
                  <a:moveTo>
                    <a:pt x="20057" y="14170"/>
                  </a:moveTo>
                  <a:cubicBezTo>
                    <a:pt x="18514" y="9850"/>
                    <a:pt x="20057" y="9850"/>
                    <a:pt x="16971" y="5530"/>
                  </a:cubicBezTo>
                  <a:cubicBezTo>
                    <a:pt x="15429" y="5530"/>
                    <a:pt x="13886" y="5530"/>
                    <a:pt x="12343" y="5530"/>
                  </a:cubicBezTo>
                  <a:cubicBezTo>
                    <a:pt x="10800" y="5530"/>
                    <a:pt x="3086" y="-3110"/>
                    <a:pt x="1543" y="1210"/>
                  </a:cubicBezTo>
                  <a:cubicBezTo>
                    <a:pt x="1543" y="1210"/>
                    <a:pt x="4629" y="5530"/>
                    <a:pt x="3086" y="5530"/>
                  </a:cubicBezTo>
                  <a:cubicBezTo>
                    <a:pt x="3086" y="9850"/>
                    <a:pt x="0" y="14170"/>
                    <a:pt x="0" y="9850"/>
                  </a:cubicBezTo>
                  <a:cubicBezTo>
                    <a:pt x="0" y="14170"/>
                    <a:pt x="3086" y="9850"/>
                    <a:pt x="4629" y="9850"/>
                  </a:cubicBezTo>
                  <a:cubicBezTo>
                    <a:pt x="6171" y="9850"/>
                    <a:pt x="9257" y="14170"/>
                    <a:pt x="12343" y="14170"/>
                  </a:cubicBezTo>
                  <a:cubicBezTo>
                    <a:pt x="13886" y="14170"/>
                    <a:pt x="20057" y="14170"/>
                    <a:pt x="20057" y="14170"/>
                  </a:cubicBezTo>
                  <a:cubicBezTo>
                    <a:pt x="18514" y="9850"/>
                    <a:pt x="21600" y="18490"/>
                    <a:pt x="20057" y="14170"/>
                  </a:cubicBezTo>
                  <a:close/>
                </a:path>
              </a:pathLst>
            </a:custGeom>
            <a:solidFill>
              <a:srgbClr val="dadbdf"/>
            </a:solidFill>
            <a:ln w="4680">
              <a:solidFill>
                <a:srgbClr val="ffffff"/>
              </a:solidFill>
              <a:round/>
            </a:ln>
          </p:spPr>
          <p:style>
            <a:lnRef idx="0"/>
            <a:fillRef idx="0"/>
            <a:effectRef idx="0"/>
            <a:fontRef idx="minor"/>
          </p:style>
          <p:txBody>
            <a:bodyPr lIns="45360" rIns="45360" tIns="-32400" bIns="-32400" anchor="t">
              <a:noAutofit/>
            </a:bodyPr>
            <a:p>
              <a:endParaRPr b="0" lang="en-US" sz="1800" spc="-1" strike="noStrike">
                <a:solidFill>
                  <a:srgbClr val="000000"/>
                </a:solidFill>
                <a:latin typeface="Calibri"/>
              </a:endParaRPr>
            </a:p>
          </p:txBody>
        </p:sp>
        <p:sp>
          <p:nvSpPr>
            <p:cNvPr id="630" name="Shape 1244"/>
            <p:cNvSpPr/>
            <p:nvPr/>
          </p:nvSpPr>
          <p:spPr>
            <a:xfrm>
              <a:off x="6594120" y="2252520"/>
              <a:ext cx="14040" cy="5040"/>
            </a:xfrm>
            <a:custGeom>
              <a:avLst/>
              <a:gdLst/>
              <a:ahLst/>
              <a:rect l="l" t="t" r="r" b="b"/>
              <a:pathLst>
                <a:path w="13513" h="13824">
                  <a:moveTo>
                    <a:pt x="12788" y="10800"/>
                  </a:moveTo>
                  <a:cubicBezTo>
                    <a:pt x="9188" y="21600"/>
                    <a:pt x="-5212" y="0"/>
                    <a:pt x="1988" y="0"/>
                  </a:cubicBezTo>
                  <a:cubicBezTo>
                    <a:pt x="5588" y="0"/>
                    <a:pt x="16388" y="10800"/>
                    <a:pt x="12788" y="10800"/>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631" name="Shape 1245"/>
            <p:cNvSpPr/>
            <p:nvPr/>
          </p:nvSpPr>
          <p:spPr>
            <a:xfrm>
              <a:off x="6694200" y="2378160"/>
              <a:ext cx="14040" cy="6120"/>
            </a:xfrm>
            <a:custGeom>
              <a:avLst/>
              <a:gdLst/>
              <a:ahLst/>
              <a:rect l="l" t="t" r="r" b="b"/>
              <a:pathLst>
                <a:path w="13513" h="11232">
                  <a:moveTo>
                    <a:pt x="11525" y="2016"/>
                  </a:moveTo>
                  <a:cubicBezTo>
                    <a:pt x="7925" y="-5184"/>
                    <a:pt x="-2875" y="9216"/>
                    <a:pt x="725" y="9216"/>
                  </a:cubicBezTo>
                  <a:cubicBezTo>
                    <a:pt x="4325" y="16416"/>
                    <a:pt x="18725" y="2016"/>
                    <a:pt x="11525" y="2016"/>
                  </a:cubicBezTo>
                  <a:close/>
                </a:path>
              </a:pathLst>
            </a:custGeom>
            <a:solidFill>
              <a:srgbClr val="dadbdf"/>
            </a:solidFill>
            <a:ln w="4680">
              <a:solidFill>
                <a:srgbClr val="ffffff"/>
              </a:solidFill>
              <a:round/>
            </a:ln>
          </p:spPr>
          <p:style>
            <a:lnRef idx="0"/>
            <a:fillRef idx="0"/>
            <a:effectRef idx="0"/>
            <a:fontRef idx="minor"/>
          </p:style>
          <p:txBody>
            <a:bodyPr lIns="45360" rIns="45360" tIns="-40680" bIns="-40680" anchor="t">
              <a:noAutofit/>
            </a:bodyPr>
            <a:p>
              <a:endParaRPr b="0" lang="en-US" sz="1800" spc="-1" strike="noStrike">
                <a:solidFill>
                  <a:srgbClr val="000000"/>
                </a:solidFill>
                <a:latin typeface="Calibri"/>
              </a:endParaRPr>
            </a:p>
          </p:txBody>
        </p:sp>
        <p:sp>
          <p:nvSpPr>
            <p:cNvPr id="632" name="Shape 1246"/>
            <p:cNvSpPr/>
            <p:nvPr/>
          </p:nvSpPr>
          <p:spPr>
            <a:xfrm>
              <a:off x="5349960" y="2928960"/>
              <a:ext cx="13320" cy="12600"/>
            </a:xfrm>
            <a:custGeom>
              <a:avLst/>
              <a:gdLst/>
              <a:ahLst/>
              <a:rect l="l" t="t" r="r" b="b"/>
              <a:pathLst>
                <a:path w="14523" h="17067">
                  <a:moveTo>
                    <a:pt x="13829" y="867"/>
                  </a:moveTo>
                  <a:cubicBezTo>
                    <a:pt x="9509" y="-4533"/>
                    <a:pt x="-3451" y="17067"/>
                    <a:pt x="869" y="17067"/>
                  </a:cubicBezTo>
                  <a:cubicBezTo>
                    <a:pt x="869" y="17067"/>
                    <a:pt x="18149" y="867"/>
                    <a:pt x="13829" y="867"/>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633" name="Shape 1247"/>
            <p:cNvSpPr/>
            <p:nvPr/>
          </p:nvSpPr>
          <p:spPr>
            <a:xfrm>
              <a:off x="5375160" y="2921400"/>
              <a:ext cx="3960" cy="3960"/>
            </a:xfrm>
            <a:custGeom>
              <a:avLst/>
              <a:gdLst/>
              <a:ahLst/>
              <a:rect l="l" t="t" r="r" b="b"/>
              <a:pathLst>
                <a:path w="21600" h="21600">
                  <a:moveTo>
                    <a:pt x="0" y="0"/>
                  </a:moveTo>
                  <a:cubicBezTo>
                    <a:pt x="0" y="21600"/>
                    <a:pt x="21600" y="21600"/>
                    <a:pt x="21600" y="21600"/>
                  </a:cubicBezTo>
                  <a:cubicBezTo>
                    <a:pt x="21600" y="0"/>
                    <a:pt x="0" y="0"/>
                    <a:pt x="0"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634" name="Shape 1248"/>
            <p:cNvSpPr/>
            <p:nvPr/>
          </p:nvSpPr>
          <p:spPr>
            <a:xfrm>
              <a:off x="4975200" y="2927520"/>
              <a:ext cx="17640" cy="12240"/>
            </a:xfrm>
            <a:custGeom>
              <a:avLst/>
              <a:gdLst/>
              <a:ahLst/>
              <a:rect l="l" t="t" r="r" b="b"/>
              <a:pathLst>
                <a:path w="14277" h="11104">
                  <a:moveTo>
                    <a:pt x="12834" y="5400"/>
                  </a:moveTo>
                  <a:cubicBezTo>
                    <a:pt x="19005" y="-1800"/>
                    <a:pt x="3576" y="-1800"/>
                    <a:pt x="491" y="5400"/>
                  </a:cubicBezTo>
                  <a:cubicBezTo>
                    <a:pt x="-2595" y="9000"/>
                    <a:pt x="9748" y="16200"/>
                    <a:pt x="12834" y="5400"/>
                  </a:cubicBezTo>
                  <a:cubicBezTo>
                    <a:pt x="15919" y="1800"/>
                    <a:pt x="6662" y="19800"/>
                    <a:pt x="12834" y="5400"/>
                  </a:cubicBezTo>
                  <a:close/>
                </a:path>
              </a:pathLst>
            </a:custGeom>
            <a:solidFill>
              <a:srgbClr val="dadbdf"/>
            </a:solidFill>
            <a:ln w="4680">
              <a:solidFill>
                <a:srgbClr val="ffffff"/>
              </a:solidFill>
              <a:round/>
            </a:ln>
          </p:spPr>
          <p:style>
            <a:lnRef idx="0"/>
            <a:fillRef idx="0"/>
            <a:effectRef idx="0"/>
            <a:fontRef idx="minor"/>
          </p:style>
          <p:txBody>
            <a:bodyPr lIns="45360" rIns="45360" tIns="-34560" bIns="-34560" anchor="t">
              <a:noAutofit/>
            </a:bodyPr>
            <a:p>
              <a:endParaRPr b="0" lang="en-US" sz="1800" spc="-1" strike="noStrike">
                <a:solidFill>
                  <a:srgbClr val="000000"/>
                </a:solidFill>
                <a:latin typeface="Calibri"/>
              </a:endParaRPr>
            </a:p>
          </p:txBody>
        </p:sp>
        <p:sp>
          <p:nvSpPr>
            <p:cNvPr id="635" name="Shape 1249"/>
            <p:cNvSpPr/>
            <p:nvPr/>
          </p:nvSpPr>
          <p:spPr>
            <a:xfrm>
              <a:off x="10790640" y="4331880"/>
              <a:ext cx="7920" cy="1440"/>
            </a:xfrm>
            <a:custGeom>
              <a:avLst/>
              <a:gdLst/>
              <a:ahLst/>
              <a:rect l="l" t="t" r="r" b="b"/>
              <a:pathLst>
                <a:path w="21600" h="9600">
                  <a:moveTo>
                    <a:pt x="21600" y="0"/>
                  </a:moveTo>
                  <a:cubicBezTo>
                    <a:pt x="21600" y="21600"/>
                    <a:pt x="0" y="0"/>
                    <a:pt x="0" y="0"/>
                  </a:cubicBezTo>
                  <a:cubicBezTo>
                    <a:pt x="10800" y="0"/>
                    <a:pt x="21600" y="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45360" bIns="-45360" anchor="t">
              <a:noAutofit/>
            </a:bodyPr>
            <a:p>
              <a:endParaRPr b="0" lang="en-US" sz="1800" spc="-1" strike="noStrike">
                <a:solidFill>
                  <a:srgbClr val="000000"/>
                </a:solidFill>
                <a:latin typeface="Calibri"/>
              </a:endParaRPr>
            </a:p>
          </p:txBody>
        </p:sp>
        <p:sp>
          <p:nvSpPr>
            <p:cNvPr id="636" name="Shape 1250"/>
            <p:cNvSpPr/>
            <p:nvPr/>
          </p:nvSpPr>
          <p:spPr>
            <a:xfrm>
              <a:off x="10739160" y="4323960"/>
              <a:ext cx="7920" cy="5400"/>
            </a:xfrm>
            <a:custGeom>
              <a:avLst/>
              <a:gdLst/>
              <a:ahLst/>
              <a:rect l="l" t="t" r="r" b="b"/>
              <a:pathLst>
                <a:path w="21600" h="15274">
                  <a:moveTo>
                    <a:pt x="21600" y="0"/>
                  </a:moveTo>
                  <a:cubicBezTo>
                    <a:pt x="21600" y="10800"/>
                    <a:pt x="0" y="21600"/>
                    <a:pt x="0" y="10800"/>
                  </a:cubicBezTo>
                  <a:cubicBezTo>
                    <a:pt x="0" y="0"/>
                    <a:pt x="21600" y="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637" name="Shape 1251"/>
            <p:cNvSpPr/>
            <p:nvPr/>
          </p:nvSpPr>
          <p:spPr>
            <a:xfrm>
              <a:off x="10920960" y="5032440"/>
              <a:ext cx="19800" cy="10800"/>
            </a:xfrm>
            <a:custGeom>
              <a:avLst/>
              <a:gdLst/>
              <a:ahLst/>
              <a:rect l="l" t="t" r="r" b="b"/>
              <a:pathLst>
                <a:path w="16034" h="11833">
                  <a:moveTo>
                    <a:pt x="15731" y="4988"/>
                  </a:moveTo>
                  <a:cubicBezTo>
                    <a:pt x="18817" y="-3652"/>
                    <a:pt x="-2783" y="668"/>
                    <a:pt x="303" y="4988"/>
                  </a:cubicBezTo>
                  <a:cubicBezTo>
                    <a:pt x="303" y="9308"/>
                    <a:pt x="12646" y="17948"/>
                    <a:pt x="15731" y="4988"/>
                  </a:cubicBezTo>
                  <a:close/>
                </a:path>
              </a:pathLst>
            </a:custGeom>
            <a:solidFill>
              <a:srgbClr val="dadbdf"/>
            </a:solidFill>
            <a:ln w="4680">
              <a:solidFill>
                <a:srgbClr val="ffffff"/>
              </a:solidFill>
              <a:round/>
            </a:ln>
          </p:spPr>
          <p:style>
            <a:lnRef idx="0"/>
            <a:fillRef idx="0"/>
            <a:effectRef idx="0"/>
            <a:fontRef idx="minor"/>
          </p:style>
          <p:txBody>
            <a:bodyPr lIns="45360" rIns="45360" tIns="-36000" bIns="-36000" anchor="t">
              <a:noAutofit/>
            </a:bodyPr>
            <a:p>
              <a:endParaRPr b="0" lang="en-US" sz="1800" spc="-1" strike="noStrike">
                <a:solidFill>
                  <a:srgbClr val="000000"/>
                </a:solidFill>
                <a:latin typeface="Calibri"/>
              </a:endParaRPr>
            </a:p>
          </p:txBody>
        </p:sp>
        <p:sp>
          <p:nvSpPr>
            <p:cNvPr id="638" name="Shape 1252"/>
            <p:cNvSpPr/>
            <p:nvPr/>
          </p:nvSpPr>
          <p:spPr>
            <a:xfrm>
              <a:off x="8584200" y="2663640"/>
              <a:ext cx="1440" cy="1440"/>
            </a:xfrm>
            <a:prstGeom prst="rect">
              <a:avLst/>
            </a:prstGeom>
            <a:solidFill>
              <a:srgbClr val="dadbdf"/>
            </a:solidFill>
            <a:ln w="4680">
              <a:solidFill>
                <a:srgbClr val="ffffff"/>
              </a:solidFill>
              <a:miter/>
            </a:ln>
          </p:spPr>
          <p:style>
            <a:lnRef idx="0"/>
            <a:fillRef idx="0"/>
            <a:effectRef idx="0"/>
            <a:fontRef idx="minor"/>
          </p:style>
          <p:txBody>
            <a:bodyPr lIns="45720" rIns="45720" tIns="-45360" bIns="-4536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639" name="Shape 1253"/>
            <p:cNvSpPr/>
            <p:nvPr/>
          </p:nvSpPr>
          <p:spPr>
            <a:xfrm>
              <a:off x="7232040" y="4910400"/>
              <a:ext cx="34560" cy="32760"/>
            </a:xfrm>
            <a:custGeom>
              <a:avLst/>
              <a:gdLst/>
              <a:ahLst/>
              <a:rect l="l" t="t" r="r" b="b"/>
              <a:pathLst>
                <a:path w="18473" h="20267">
                  <a:moveTo>
                    <a:pt x="8640" y="9600"/>
                  </a:moveTo>
                  <a:cubicBezTo>
                    <a:pt x="8640" y="12000"/>
                    <a:pt x="2160" y="16800"/>
                    <a:pt x="0" y="19200"/>
                  </a:cubicBezTo>
                  <a:cubicBezTo>
                    <a:pt x="0" y="21600"/>
                    <a:pt x="4320" y="19200"/>
                    <a:pt x="4320" y="19200"/>
                  </a:cubicBezTo>
                  <a:cubicBezTo>
                    <a:pt x="6480" y="16800"/>
                    <a:pt x="8640" y="14400"/>
                    <a:pt x="10800" y="12000"/>
                  </a:cubicBezTo>
                  <a:cubicBezTo>
                    <a:pt x="12960" y="9600"/>
                    <a:pt x="21600" y="0"/>
                    <a:pt x="17280" y="0"/>
                  </a:cubicBezTo>
                  <a:cubicBezTo>
                    <a:pt x="15120" y="0"/>
                    <a:pt x="8640" y="7200"/>
                    <a:pt x="8640" y="9600"/>
                  </a:cubicBezTo>
                  <a:cubicBezTo>
                    <a:pt x="8640" y="12000"/>
                    <a:pt x="8640" y="7200"/>
                    <a:pt x="8640" y="96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640" name="Shape 1254"/>
            <p:cNvSpPr/>
            <p:nvPr/>
          </p:nvSpPr>
          <p:spPr>
            <a:xfrm>
              <a:off x="6627600" y="3313800"/>
              <a:ext cx="24480" cy="6480"/>
            </a:xfrm>
            <a:custGeom>
              <a:avLst/>
              <a:gdLst/>
              <a:ahLst/>
              <a:rect l="l" t="t" r="r" b="b"/>
              <a:pathLst>
                <a:path w="18816" h="12150">
                  <a:moveTo>
                    <a:pt x="18816" y="7200"/>
                  </a:moveTo>
                  <a:cubicBezTo>
                    <a:pt x="18816" y="0"/>
                    <a:pt x="-2784" y="0"/>
                    <a:pt x="302" y="0"/>
                  </a:cubicBezTo>
                  <a:cubicBezTo>
                    <a:pt x="3387" y="0"/>
                    <a:pt x="15730" y="21600"/>
                    <a:pt x="18816" y="7200"/>
                  </a:cubicBezTo>
                  <a:close/>
                </a:path>
              </a:pathLst>
            </a:custGeom>
            <a:solidFill>
              <a:srgbClr val="dadbdf"/>
            </a:solidFill>
            <a:ln w="4680">
              <a:solidFill>
                <a:srgbClr val="ffffff"/>
              </a:solidFill>
              <a:round/>
            </a:ln>
          </p:spPr>
          <p:style>
            <a:lnRef idx="0"/>
            <a:fillRef idx="0"/>
            <a:effectRef idx="0"/>
            <a:fontRef idx="minor"/>
          </p:style>
          <p:txBody>
            <a:bodyPr lIns="45360" rIns="45360" tIns="-40320" bIns="-40320" anchor="t">
              <a:noAutofit/>
            </a:bodyPr>
            <a:p>
              <a:endParaRPr b="0" lang="en-US" sz="1800" spc="-1" strike="noStrike">
                <a:solidFill>
                  <a:srgbClr val="000000"/>
                </a:solidFill>
                <a:latin typeface="Calibri"/>
              </a:endParaRPr>
            </a:p>
          </p:txBody>
        </p:sp>
        <p:sp>
          <p:nvSpPr>
            <p:cNvPr id="641" name="Shape 1255"/>
            <p:cNvSpPr/>
            <p:nvPr/>
          </p:nvSpPr>
          <p:spPr>
            <a:xfrm>
              <a:off x="6904440" y="5444280"/>
              <a:ext cx="71280" cy="63360"/>
            </a:xfrm>
            <a:custGeom>
              <a:avLst/>
              <a:gdLst/>
              <a:ahLst/>
              <a:rect l="l" t="t" r="r" b="b"/>
              <a:pathLst>
                <a:path w="21600" h="21600">
                  <a:moveTo>
                    <a:pt x="20400" y="18900"/>
                  </a:moveTo>
                  <a:cubicBezTo>
                    <a:pt x="15600" y="18900"/>
                    <a:pt x="13200" y="14850"/>
                    <a:pt x="9600" y="12150"/>
                  </a:cubicBezTo>
                  <a:cubicBezTo>
                    <a:pt x="8400" y="9450"/>
                    <a:pt x="6000" y="8100"/>
                    <a:pt x="4800" y="6750"/>
                  </a:cubicBezTo>
                  <a:cubicBezTo>
                    <a:pt x="3600" y="6750"/>
                    <a:pt x="1200" y="5400"/>
                    <a:pt x="1200" y="4050"/>
                  </a:cubicBezTo>
                  <a:cubicBezTo>
                    <a:pt x="1200" y="4050"/>
                    <a:pt x="2400" y="4050"/>
                    <a:pt x="2400" y="2700"/>
                  </a:cubicBezTo>
                  <a:cubicBezTo>
                    <a:pt x="3600" y="2700"/>
                    <a:pt x="1200" y="0"/>
                    <a:pt x="0" y="0"/>
                  </a:cubicBezTo>
                  <a:cubicBezTo>
                    <a:pt x="0" y="6750"/>
                    <a:pt x="0" y="13500"/>
                    <a:pt x="0" y="18900"/>
                  </a:cubicBezTo>
                  <a:cubicBezTo>
                    <a:pt x="0" y="20250"/>
                    <a:pt x="7200" y="20250"/>
                    <a:pt x="8400" y="20250"/>
                  </a:cubicBezTo>
                  <a:cubicBezTo>
                    <a:pt x="9600" y="20250"/>
                    <a:pt x="10800" y="20250"/>
                    <a:pt x="12000" y="21600"/>
                  </a:cubicBezTo>
                  <a:cubicBezTo>
                    <a:pt x="14400" y="21600"/>
                    <a:pt x="14400" y="21600"/>
                    <a:pt x="15600" y="20250"/>
                  </a:cubicBezTo>
                  <a:cubicBezTo>
                    <a:pt x="16800" y="20250"/>
                    <a:pt x="21600" y="20250"/>
                    <a:pt x="21600" y="18900"/>
                  </a:cubicBezTo>
                  <a:cubicBezTo>
                    <a:pt x="21600" y="18900"/>
                    <a:pt x="21600" y="17550"/>
                    <a:pt x="20400" y="18900"/>
                  </a:cubicBezTo>
                  <a:close/>
                </a:path>
              </a:pathLst>
            </a:custGeom>
            <a:solidFill>
              <a:srgbClr val="dadbdf"/>
            </a:solidFill>
            <a:ln w="4680">
              <a:solidFill>
                <a:srgbClr val="ffffff"/>
              </a:solidFill>
              <a:round/>
            </a:ln>
          </p:spPr>
          <p:style>
            <a:lnRef idx="0"/>
            <a:fillRef idx="0"/>
            <a:effectRef idx="0"/>
            <a:fontRef idx="minor"/>
          </p:style>
          <p:txBody>
            <a:bodyPr lIns="45360" rIns="45360" tIns="16560" bIns="16560" anchor="t">
              <a:noAutofit/>
            </a:bodyPr>
            <a:p>
              <a:endParaRPr b="0" lang="en-US" sz="1800" spc="-1" strike="noStrike">
                <a:solidFill>
                  <a:srgbClr val="000000"/>
                </a:solidFill>
                <a:latin typeface="Calibri"/>
              </a:endParaRPr>
            </a:p>
          </p:txBody>
        </p:sp>
        <p:sp>
          <p:nvSpPr>
            <p:cNvPr id="642" name="Shape 1256"/>
            <p:cNvSpPr/>
            <p:nvPr/>
          </p:nvSpPr>
          <p:spPr>
            <a:xfrm>
              <a:off x="6828840" y="5439240"/>
              <a:ext cx="118440" cy="88560"/>
            </a:xfrm>
            <a:custGeom>
              <a:avLst/>
              <a:gdLst/>
              <a:ahLst/>
              <a:rect l="l" t="t" r="r" b="b"/>
              <a:pathLst>
                <a:path w="21600" h="20917">
                  <a:moveTo>
                    <a:pt x="13680" y="15282"/>
                  </a:moveTo>
                  <a:cubicBezTo>
                    <a:pt x="13680" y="11526"/>
                    <a:pt x="13680" y="8708"/>
                    <a:pt x="13680" y="5891"/>
                  </a:cubicBezTo>
                  <a:cubicBezTo>
                    <a:pt x="13680" y="4952"/>
                    <a:pt x="13680" y="3074"/>
                    <a:pt x="13680" y="2134"/>
                  </a:cubicBezTo>
                  <a:cubicBezTo>
                    <a:pt x="13680" y="1195"/>
                    <a:pt x="11520" y="-683"/>
                    <a:pt x="10800" y="256"/>
                  </a:cubicBezTo>
                  <a:cubicBezTo>
                    <a:pt x="10080" y="1195"/>
                    <a:pt x="8640" y="256"/>
                    <a:pt x="8640" y="2134"/>
                  </a:cubicBezTo>
                  <a:cubicBezTo>
                    <a:pt x="7920" y="4013"/>
                    <a:pt x="6480" y="5891"/>
                    <a:pt x="9360" y="4952"/>
                  </a:cubicBezTo>
                  <a:cubicBezTo>
                    <a:pt x="9360" y="4952"/>
                    <a:pt x="10800" y="4952"/>
                    <a:pt x="10800" y="4952"/>
                  </a:cubicBezTo>
                  <a:cubicBezTo>
                    <a:pt x="11520" y="4952"/>
                    <a:pt x="10080" y="6830"/>
                    <a:pt x="10080" y="6830"/>
                  </a:cubicBezTo>
                  <a:cubicBezTo>
                    <a:pt x="9360" y="6830"/>
                    <a:pt x="7920" y="8708"/>
                    <a:pt x="9360" y="9647"/>
                  </a:cubicBezTo>
                  <a:cubicBezTo>
                    <a:pt x="9360" y="10587"/>
                    <a:pt x="11520" y="10587"/>
                    <a:pt x="11520" y="11526"/>
                  </a:cubicBezTo>
                  <a:cubicBezTo>
                    <a:pt x="11520" y="11526"/>
                    <a:pt x="8640" y="11526"/>
                    <a:pt x="8640" y="11526"/>
                  </a:cubicBezTo>
                  <a:cubicBezTo>
                    <a:pt x="7920" y="11526"/>
                    <a:pt x="6480" y="10587"/>
                    <a:pt x="6480" y="10587"/>
                  </a:cubicBezTo>
                  <a:cubicBezTo>
                    <a:pt x="6480" y="10587"/>
                    <a:pt x="7200" y="11526"/>
                    <a:pt x="7200" y="10587"/>
                  </a:cubicBezTo>
                  <a:cubicBezTo>
                    <a:pt x="7200" y="9647"/>
                    <a:pt x="7920" y="8708"/>
                    <a:pt x="7200" y="7769"/>
                  </a:cubicBezTo>
                  <a:cubicBezTo>
                    <a:pt x="7200" y="7769"/>
                    <a:pt x="5760" y="9647"/>
                    <a:pt x="5760" y="9647"/>
                  </a:cubicBezTo>
                  <a:cubicBezTo>
                    <a:pt x="5040" y="10587"/>
                    <a:pt x="4320" y="9647"/>
                    <a:pt x="3600" y="9647"/>
                  </a:cubicBezTo>
                  <a:cubicBezTo>
                    <a:pt x="2880" y="9647"/>
                    <a:pt x="0" y="8708"/>
                    <a:pt x="0" y="10587"/>
                  </a:cubicBezTo>
                  <a:cubicBezTo>
                    <a:pt x="0" y="11526"/>
                    <a:pt x="1440" y="10587"/>
                    <a:pt x="1440" y="10587"/>
                  </a:cubicBezTo>
                  <a:cubicBezTo>
                    <a:pt x="2160" y="9647"/>
                    <a:pt x="1440" y="10587"/>
                    <a:pt x="2160" y="10587"/>
                  </a:cubicBezTo>
                  <a:cubicBezTo>
                    <a:pt x="2880" y="11526"/>
                    <a:pt x="2880" y="9647"/>
                    <a:pt x="3600" y="10587"/>
                  </a:cubicBezTo>
                  <a:cubicBezTo>
                    <a:pt x="3600" y="10587"/>
                    <a:pt x="4320" y="11526"/>
                    <a:pt x="4320" y="11526"/>
                  </a:cubicBezTo>
                  <a:cubicBezTo>
                    <a:pt x="4320" y="11526"/>
                    <a:pt x="1440" y="12465"/>
                    <a:pt x="2880" y="13404"/>
                  </a:cubicBezTo>
                  <a:cubicBezTo>
                    <a:pt x="3600" y="14343"/>
                    <a:pt x="4320" y="12465"/>
                    <a:pt x="4320" y="13404"/>
                  </a:cubicBezTo>
                  <a:cubicBezTo>
                    <a:pt x="5040" y="13404"/>
                    <a:pt x="5760" y="14343"/>
                    <a:pt x="5760" y="14343"/>
                  </a:cubicBezTo>
                  <a:cubicBezTo>
                    <a:pt x="5760" y="14343"/>
                    <a:pt x="5760" y="14343"/>
                    <a:pt x="5040" y="14343"/>
                  </a:cubicBezTo>
                  <a:cubicBezTo>
                    <a:pt x="5040" y="15282"/>
                    <a:pt x="6480" y="15282"/>
                    <a:pt x="7200" y="15282"/>
                  </a:cubicBezTo>
                  <a:cubicBezTo>
                    <a:pt x="7920" y="15282"/>
                    <a:pt x="7920" y="13404"/>
                    <a:pt x="8640" y="15282"/>
                  </a:cubicBezTo>
                  <a:cubicBezTo>
                    <a:pt x="8640" y="15282"/>
                    <a:pt x="11520" y="19978"/>
                    <a:pt x="12240" y="19039"/>
                  </a:cubicBezTo>
                  <a:cubicBezTo>
                    <a:pt x="12240" y="19039"/>
                    <a:pt x="11520" y="18100"/>
                    <a:pt x="11520" y="18100"/>
                  </a:cubicBezTo>
                  <a:cubicBezTo>
                    <a:pt x="11520" y="17160"/>
                    <a:pt x="15840" y="20917"/>
                    <a:pt x="16560" y="20917"/>
                  </a:cubicBezTo>
                  <a:cubicBezTo>
                    <a:pt x="16560" y="19978"/>
                    <a:pt x="13680" y="17160"/>
                    <a:pt x="13680" y="16221"/>
                  </a:cubicBezTo>
                  <a:cubicBezTo>
                    <a:pt x="14400" y="16221"/>
                    <a:pt x="17280" y="17160"/>
                    <a:pt x="17280" y="17160"/>
                  </a:cubicBezTo>
                  <a:cubicBezTo>
                    <a:pt x="18720" y="17160"/>
                    <a:pt x="20160" y="17160"/>
                    <a:pt x="21600" y="16221"/>
                  </a:cubicBezTo>
                  <a:cubicBezTo>
                    <a:pt x="19440" y="14343"/>
                    <a:pt x="16560" y="15282"/>
                    <a:pt x="13680" y="15282"/>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643" name="Shape 1257"/>
            <p:cNvSpPr/>
            <p:nvPr/>
          </p:nvSpPr>
          <p:spPr>
            <a:xfrm>
              <a:off x="6816600" y="4062240"/>
              <a:ext cx="269640" cy="214200"/>
            </a:xfrm>
            <a:custGeom>
              <a:avLst/>
              <a:gdLst/>
              <a:ahLst/>
              <a:rect l="l" t="t" r="r" b="b"/>
              <a:pathLst>
                <a:path w="19376" h="21207">
                  <a:moveTo>
                    <a:pt x="17422" y="10996"/>
                  </a:moveTo>
                  <a:cubicBezTo>
                    <a:pt x="17422" y="10211"/>
                    <a:pt x="17422" y="9818"/>
                    <a:pt x="18275" y="9425"/>
                  </a:cubicBezTo>
                  <a:cubicBezTo>
                    <a:pt x="18275" y="9033"/>
                    <a:pt x="18843" y="9033"/>
                    <a:pt x="18559" y="8640"/>
                  </a:cubicBezTo>
                  <a:cubicBezTo>
                    <a:pt x="18275" y="8247"/>
                    <a:pt x="17991" y="7462"/>
                    <a:pt x="18559" y="7069"/>
                  </a:cubicBezTo>
                  <a:cubicBezTo>
                    <a:pt x="21117" y="5498"/>
                    <a:pt x="16854" y="5891"/>
                    <a:pt x="16854" y="5891"/>
                  </a:cubicBezTo>
                  <a:cubicBezTo>
                    <a:pt x="16854" y="5498"/>
                    <a:pt x="17138" y="5498"/>
                    <a:pt x="17422" y="5498"/>
                  </a:cubicBezTo>
                  <a:cubicBezTo>
                    <a:pt x="17706" y="5498"/>
                    <a:pt x="17706" y="4713"/>
                    <a:pt x="17706" y="4320"/>
                  </a:cubicBezTo>
                  <a:cubicBezTo>
                    <a:pt x="17706" y="3927"/>
                    <a:pt x="16570" y="3142"/>
                    <a:pt x="16570" y="3535"/>
                  </a:cubicBezTo>
                  <a:cubicBezTo>
                    <a:pt x="16570" y="3927"/>
                    <a:pt x="16285" y="3142"/>
                    <a:pt x="16285" y="3142"/>
                  </a:cubicBezTo>
                  <a:cubicBezTo>
                    <a:pt x="16001" y="3142"/>
                    <a:pt x="16001" y="3927"/>
                    <a:pt x="15717" y="3535"/>
                  </a:cubicBezTo>
                  <a:cubicBezTo>
                    <a:pt x="15717" y="3535"/>
                    <a:pt x="15717" y="3142"/>
                    <a:pt x="15717" y="2749"/>
                  </a:cubicBezTo>
                  <a:cubicBezTo>
                    <a:pt x="15433" y="2356"/>
                    <a:pt x="15149" y="3142"/>
                    <a:pt x="14864" y="3142"/>
                  </a:cubicBezTo>
                  <a:cubicBezTo>
                    <a:pt x="14864" y="3142"/>
                    <a:pt x="14864" y="2356"/>
                    <a:pt x="14864" y="2356"/>
                  </a:cubicBezTo>
                  <a:cubicBezTo>
                    <a:pt x="14864" y="1571"/>
                    <a:pt x="15717" y="1964"/>
                    <a:pt x="16001" y="1964"/>
                  </a:cubicBezTo>
                  <a:cubicBezTo>
                    <a:pt x="16285" y="1571"/>
                    <a:pt x="15149" y="1571"/>
                    <a:pt x="15149" y="1571"/>
                  </a:cubicBezTo>
                  <a:cubicBezTo>
                    <a:pt x="14580" y="1571"/>
                    <a:pt x="14012" y="1178"/>
                    <a:pt x="13443" y="1571"/>
                  </a:cubicBezTo>
                  <a:cubicBezTo>
                    <a:pt x="12875" y="1964"/>
                    <a:pt x="12591" y="3142"/>
                    <a:pt x="12022" y="2749"/>
                  </a:cubicBezTo>
                  <a:cubicBezTo>
                    <a:pt x="11170" y="2749"/>
                    <a:pt x="10885" y="2749"/>
                    <a:pt x="10317" y="1964"/>
                  </a:cubicBezTo>
                  <a:cubicBezTo>
                    <a:pt x="9749" y="1178"/>
                    <a:pt x="8612" y="1964"/>
                    <a:pt x="7759" y="1964"/>
                  </a:cubicBezTo>
                  <a:cubicBezTo>
                    <a:pt x="7191" y="1964"/>
                    <a:pt x="7191" y="1571"/>
                    <a:pt x="6906" y="785"/>
                  </a:cubicBezTo>
                  <a:cubicBezTo>
                    <a:pt x="6622" y="0"/>
                    <a:pt x="6054" y="0"/>
                    <a:pt x="5201" y="0"/>
                  </a:cubicBezTo>
                  <a:cubicBezTo>
                    <a:pt x="4917" y="0"/>
                    <a:pt x="2643" y="393"/>
                    <a:pt x="2643" y="1571"/>
                  </a:cubicBezTo>
                  <a:cubicBezTo>
                    <a:pt x="2643" y="2749"/>
                    <a:pt x="3780" y="3142"/>
                    <a:pt x="3212" y="4713"/>
                  </a:cubicBezTo>
                  <a:cubicBezTo>
                    <a:pt x="2643" y="5498"/>
                    <a:pt x="1506" y="3927"/>
                    <a:pt x="1791" y="3142"/>
                  </a:cubicBezTo>
                  <a:cubicBezTo>
                    <a:pt x="1791" y="2749"/>
                    <a:pt x="2359" y="2356"/>
                    <a:pt x="2359" y="1964"/>
                  </a:cubicBezTo>
                  <a:cubicBezTo>
                    <a:pt x="2643" y="1178"/>
                    <a:pt x="1791" y="785"/>
                    <a:pt x="1791" y="393"/>
                  </a:cubicBezTo>
                  <a:cubicBezTo>
                    <a:pt x="938" y="1178"/>
                    <a:pt x="654" y="1571"/>
                    <a:pt x="654" y="2749"/>
                  </a:cubicBezTo>
                  <a:cubicBezTo>
                    <a:pt x="370" y="3142"/>
                    <a:pt x="-483" y="4713"/>
                    <a:pt x="370" y="4713"/>
                  </a:cubicBezTo>
                  <a:cubicBezTo>
                    <a:pt x="370" y="4713"/>
                    <a:pt x="654" y="4713"/>
                    <a:pt x="938" y="5105"/>
                  </a:cubicBezTo>
                  <a:cubicBezTo>
                    <a:pt x="938" y="5498"/>
                    <a:pt x="1222" y="5891"/>
                    <a:pt x="1506" y="6284"/>
                  </a:cubicBezTo>
                  <a:cubicBezTo>
                    <a:pt x="2075" y="7069"/>
                    <a:pt x="938" y="8640"/>
                    <a:pt x="2359" y="9033"/>
                  </a:cubicBezTo>
                  <a:cubicBezTo>
                    <a:pt x="2359" y="9033"/>
                    <a:pt x="2928" y="9033"/>
                    <a:pt x="3212" y="9033"/>
                  </a:cubicBezTo>
                  <a:cubicBezTo>
                    <a:pt x="3496" y="9033"/>
                    <a:pt x="3496" y="8640"/>
                    <a:pt x="3780" y="8640"/>
                  </a:cubicBezTo>
                  <a:cubicBezTo>
                    <a:pt x="4633" y="8640"/>
                    <a:pt x="4917" y="9818"/>
                    <a:pt x="5485" y="10604"/>
                  </a:cubicBezTo>
                  <a:cubicBezTo>
                    <a:pt x="5485" y="10604"/>
                    <a:pt x="5770" y="10996"/>
                    <a:pt x="6054" y="10604"/>
                  </a:cubicBezTo>
                  <a:cubicBezTo>
                    <a:pt x="6054" y="10211"/>
                    <a:pt x="6338" y="10604"/>
                    <a:pt x="6906" y="10604"/>
                  </a:cubicBezTo>
                  <a:cubicBezTo>
                    <a:pt x="7475" y="10996"/>
                    <a:pt x="8896" y="9818"/>
                    <a:pt x="8328" y="11389"/>
                  </a:cubicBezTo>
                  <a:cubicBezTo>
                    <a:pt x="7759" y="12567"/>
                    <a:pt x="7759" y="13745"/>
                    <a:pt x="8328" y="14924"/>
                  </a:cubicBezTo>
                  <a:cubicBezTo>
                    <a:pt x="8328" y="15316"/>
                    <a:pt x="8612" y="15709"/>
                    <a:pt x="8612" y="16102"/>
                  </a:cubicBezTo>
                  <a:cubicBezTo>
                    <a:pt x="8612" y="16495"/>
                    <a:pt x="7759" y="16887"/>
                    <a:pt x="8043" y="17280"/>
                  </a:cubicBezTo>
                  <a:cubicBezTo>
                    <a:pt x="8896" y="18458"/>
                    <a:pt x="9180" y="21600"/>
                    <a:pt x="10885" y="20815"/>
                  </a:cubicBezTo>
                  <a:cubicBezTo>
                    <a:pt x="11170" y="20815"/>
                    <a:pt x="11170" y="21207"/>
                    <a:pt x="11454" y="21207"/>
                  </a:cubicBezTo>
                  <a:cubicBezTo>
                    <a:pt x="11738" y="21207"/>
                    <a:pt x="12022" y="20815"/>
                    <a:pt x="12306" y="20422"/>
                  </a:cubicBezTo>
                  <a:cubicBezTo>
                    <a:pt x="12875" y="20029"/>
                    <a:pt x="13159" y="19244"/>
                    <a:pt x="14012" y="18458"/>
                  </a:cubicBezTo>
                  <a:cubicBezTo>
                    <a:pt x="14580" y="18065"/>
                    <a:pt x="13443" y="18065"/>
                    <a:pt x="13443" y="17280"/>
                  </a:cubicBezTo>
                  <a:cubicBezTo>
                    <a:pt x="13443" y="16887"/>
                    <a:pt x="13159" y="16495"/>
                    <a:pt x="13159" y="16102"/>
                  </a:cubicBezTo>
                  <a:cubicBezTo>
                    <a:pt x="13159" y="15709"/>
                    <a:pt x="12306" y="15316"/>
                    <a:pt x="12306" y="14924"/>
                  </a:cubicBezTo>
                  <a:cubicBezTo>
                    <a:pt x="12306" y="14531"/>
                    <a:pt x="14012" y="14924"/>
                    <a:pt x="14296" y="14924"/>
                  </a:cubicBezTo>
                  <a:cubicBezTo>
                    <a:pt x="14864" y="14924"/>
                    <a:pt x="14580" y="15316"/>
                    <a:pt x="14864" y="15709"/>
                  </a:cubicBezTo>
                  <a:cubicBezTo>
                    <a:pt x="15149" y="15709"/>
                    <a:pt x="15149" y="14924"/>
                    <a:pt x="15433" y="14924"/>
                  </a:cubicBezTo>
                  <a:cubicBezTo>
                    <a:pt x="15717" y="14531"/>
                    <a:pt x="16570" y="14531"/>
                    <a:pt x="17138" y="14138"/>
                  </a:cubicBezTo>
                  <a:cubicBezTo>
                    <a:pt x="17422" y="13745"/>
                    <a:pt x="17991" y="13353"/>
                    <a:pt x="18559" y="12960"/>
                  </a:cubicBezTo>
                  <a:cubicBezTo>
                    <a:pt x="18275" y="12175"/>
                    <a:pt x="17422" y="11782"/>
                    <a:pt x="17422" y="1099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44" name="Shape 1258"/>
            <p:cNvSpPr/>
            <p:nvPr/>
          </p:nvSpPr>
          <p:spPr>
            <a:xfrm>
              <a:off x="7057080" y="4121640"/>
              <a:ext cx="96480" cy="144360"/>
            </a:xfrm>
            <a:custGeom>
              <a:avLst/>
              <a:gdLst/>
              <a:ahLst/>
              <a:rect l="l" t="t" r="r" b="b"/>
              <a:pathLst>
                <a:path w="20379" h="20653">
                  <a:moveTo>
                    <a:pt x="17056" y="16484"/>
                  </a:moveTo>
                  <a:cubicBezTo>
                    <a:pt x="17056" y="15916"/>
                    <a:pt x="12902" y="12505"/>
                    <a:pt x="13733" y="11937"/>
                  </a:cubicBezTo>
                  <a:cubicBezTo>
                    <a:pt x="14564" y="11368"/>
                    <a:pt x="13733" y="10800"/>
                    <a:pt x="15394" y="10232"/>
                  </a:cubicBezTo>
                  <a:cubicBezTo>
                    <a:pt x="17887" y="10232"/>
                    <a:pt x="17056" y="9095"/>
                    <a:pt x="17056" y="8526"/>
                  </a:cubicBezTo>
                  <a:cubicBezTo>
                    <a:pt x="17056" y="7958"/>
                    <a:pt x="17056" y="7389"/>
                    <a:pt x="17056" y="7389"/>
                  </a:cubicBezTo>
                  <a:cubicBezTo>
                    <a:pt x="17056" y="6821"/>
                    <a:pt x="16225" y="6821"/>
                    <a:pt x="15394" y="6253"/>
                  </a:cubicBezTo>
                  <a:cubicBezTo>
                    <a:pt x="14564" y="5116"/>
                    <a:pt x="12071" y="5116"/>
                    <a:pt x="12071" y="3979"/>
                  </a:cubicBezTo>
                  <a:cubicBezTo>
                    <a:pt x="11241" y="2274"/>
                    <a:pt x="7917" y="568"/>
                    <a:pt x="6256" y="0"/>
                  </a:cubicBezTo>
                  <a:cubicBezTo>
                    <a:pt x="6256" y="1705"/>
                    <a:pt x="2102" y="1705"/>
                    <a:pt x="2933" y="2842"/>
                  </a:cubicBezTo>
                  <a:cubicBezTo>
                    <a:pt x="2933" y="3411"/>
                    <a:pt x="4594" y="3979"/>
                    <a:pt x="3764" y="4547"/>
                  </a:cubicBezTo>
                  <a:cubicBezTo>
                    <a:pt x="2933" y="4547"/>
                    <a:pt x="1271" y="5116"/>
                    <a:pt x="1271" y="5684"/>
                  </a:cubicBezTo>
                  <a:cubicBezTo>
                    <a:pt x="-1221" y="6253"/>
                    <a:pt x="441" y="7958"/>
                    <a:pt x="2102" y="9095"/>
                  </a:cubicBezTo>
                  <a:cubicBezTo>
                    <a:pt x="2933" y="9663"/>
                    <a:pt x="2933" y="10232"/>
                    <a:pt x="4594" y="10232"/>
                  </a:cubicBezTo>
                  <a:cubicBezTo>
                    <a:pt x="5425" y="10232"/>
                    <a:pt x="4594" y="10800"/>
                    <a:pt x="5425" y="11368"/>
                  </a:cubicBezTo>
                  <a:cubicBezTo>
                    <a:pt x="7087" y="13074"/>
                    <a:pt x="6256" y="13642"/>
                    <a:pt x="5425" y="15347"/>
                  </a:cubicBezTo>
                  <a:cubicBezTo>
                    <a:pt x="5425" y="17053"/>
                    <a:pt x="7087" y="18758"/>
                    <a:pt x="7917" y="19895"/>
                  </a:cubicBezTo>
                  <a:cubicBezTo>
                    <a:pt x="10410" y="21600"/>
                    <a:pt x="11241" y="19895"/>
                    <a:pt x="12902" y="19895"/>
                  </a:cubicBezTo>
                  <a:cubicBezTo>
                    <a:pt x="14564" y="19895"/>
                    <a:pt x="15394" y="19326"/>
                    <a:pt x="16225" y="19326"/>
                  </a:cubicBezTo>
                  <a:cubicBezTo>
                    <a:pt x="17887" y="18758"/>
                    <a:pt x="18717" y="18758"/>
                    <a:pt x="20379" y="19326"/>
                  </a:cubicBezTo>
                  <a:cubicBezTo>
                    <a:pt x="19548" y="18189"/>
                    <a:pt x="18717" y="17053"/>
                    <a:pt x="17056" y="16484"/>
                  </a:cubicBezTo>
                  <a:cubicBezTo>
                    <a:pt x="16225" y="15347"/>
                    <a:pt x="17887" y="16484"/>
                    <a:pt x="17056" y="1648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45" name="Shape 1259"/>
            <p:cNvSpPr/>
            <p:nvPr/>
          </p:nvSpPr>
          <p:spPr>
            <a:xfrm>
              <a:off x="7120080" y="4168800"/>
              <a:ext cx="84600" cy="88200"/>
            </a:xfrm>
            <a:custGeom>
              <a:avLst/>
              <a:gdLst/>
              <a:ahLst/>
              <a:rect l="l" t="t" r="r" b="b"/>
              <a:pathLst>
                <a:path w="20879" h="20812">
                  <a:moveTo>
                    <a:pt x="17934" y="6574"/>
                  </a:moveTo>
                  <a:cubicBezTo>
                    <a:pt x="17934" y="4696"/>
                    <a:pt x="19897" y="2817"/>
                    <a:pt x="20879" y="1878"/>
                  </a:cubicBezTo>
                  <a:cubicBezTo>
                    <a:pt x="17934" y="939"/>
                    <a:pt x="13024" y="0"/>
                    <a:pt x="11061" y="1878"/>
                  </a:cubicBezTo>
                  <a:cubicBezTo>
                    <a:pt x="9097" y="2817"/>
                    <a:pt x="8115" y="939"/>
                    <a:pt x="8115" y="0"/>
                  </a:cubicBezTo>
                  <a:cubicBezTo>
                    <a:pt x="7134" y="0"/>
                    <a:pt x="6152" y="1878"/>
                    <a:pt x="4188" y="939"/>
                  </a:cubicBezTo>
                  <a:cubicBezTo>
                    <a:pt x="4188" y="1878"/>
                    <a:pt x="6152" y="5635"/>
                    <a:pt x="3206" y="5635"/>
                  </a:cubicBezTo>
                  <a:cubicBezTo>
                    <a:pt x="1243" y="6574"/>
                    <a:pt x="-721" y="7513"/>
                    <a:pt x="261" y="9391"/>
                  </a:cubicBezTo>
                  <a:cubicBezTo>
                    <a:pt x="1243" y="11270"/>
                    <a:pt x="2224" y="12209"/>
                    <a:pt x="3206" y="14087"/>
                  </a:cubicBezTo>
                  <a:cubicBezTo>
                    <a:pt x="4188" y="15965"/>
                    <a:pt x="6152" y="17843"/>
                    <a:pt x="8115" y="20661"/>
                  </a:cubicBezTo>
                  <a:cubicBezTo>
                    <a:pt x="11061" y="21600"/>
                    <a:pt x="9097" y="17843"/>
                    <a:pt x="11061" y="17843"/>
                  </a:cubicBezTo>
                  <a:cubicBezTo>
                    <a:pt x="13024" y="17843"/>
                    <a:pt x="14006" y="17843"/>
                    <a:pt x="14988" y="16904"/>
                  </a:cubicBezTo>
                  <a:cubicBezTo>
                    <a:pt x="15970" y="16904"/>
                    <a:pt x="15970" y="18783"/>
                    <a:pt x="17934" y="17843"/>
                  </a:cubicBezTo>
                  <a:cubicBezTo>
                    <a:pt x="18915" y="15965"/>
                    <a:pt x="19897" y="15026"/>
                    <a:pt x="18915" y="13148"/>
                  </a:cubicBezTo>
                  <a:cubicBezTo>
                    <a:pt x="18915" y="11270"/>
                    <a:pt x="17934" y="8452"/>
                    <a:pt x="17934" y="6574"/>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646" name="Shape 1260"/>
            <p:cNvSpPr/>
            <p:nvPr/>
          </p:nvSpPr>
          <p:spPr>
            <a:xfrm>
              <a:off x="7188840" y="4180320"/>
              <a:ext cx="63360" cy="65880"/>
            </a:xfrm>
            <a:custGeom>
              <a:avLst/>
              <a:gdLst/>
              <a:ahLst/>
              <a:rect l="l" t="t" r="r" b="b"/>
              <a:pathLst>
                <a:path w="21600" h="19923">
                  <a:moveTo>
                    <a:pt x="16200" y="4989"/>
                  </a:moveTo>
                  <a:cubicBezTo>
                    <a:pt x="13500" y="2589"/>
                    <a:pt x="10800" y="189"/>
                    <a:pt x="6750" y="189"/>
                  </a:cubicBezTo>
                  <a:cubicBezTo>
                    <a:pt x="4050" y="-1011"/>
                    <a:pt x="0" y="3789"/>
                    <a:pt x="1350" y="6189"/>
                  </a:cubicBezTo>
                  <a:cubicBezTo>
                    <a:pt x="1350" y="8589"/>
                    <a:pt x="2700" y="10989"/>
                    <a:pt x="2700" y="13389"/>
                  </a:cubicBezTo>
                  <a:cubicBezTo>
                    <a:pt x="4050" y="15789"/>
                    <a:pt x="1350" y="18189"/>
                    <a:pt x="0" y="19389"/>
                  </a:cubicBezTo>
                  <a:cubicBezTo>
                    <a:pt x="1350" y="20589"/>
                    <a:pt x="4050" y="19389"/>
                    <a:pt x="5400" y="19389"/>
                  </a:cubicBezTo>
                  <a:cubicBezTo>
                    <a:pt x="8100" y="19389"/>
                    <a:pt x="9450" y="20589"/>
                    <a:pt x="12150" y="19389"/>
                  </a:cubicBezTo>
                  <a:cubicBezTo>
                    <a:pt x="16200" y="18189"/>
                    <a:pt x="17550" y="10989"/>
                    <a:pt x="21600" y="8589"/>
                  </a:cubicBezTo>
                  <a:cubicBezTo>
                    <a:pt x="18900" y="7389"/>
                    <a:pt x="17550" y="6189"/>
                    <a:pt x="16200" y="4989"/>
                  </a:cubicBezTo>
                  <a:cubicBezTo>
                    <a:pt x="13500" y="3789"/>
                    <a:pt x="17550" y="6189"/>
                    <a:pt x="16200" y="4989"/>
                  </a:cubicBezTo>
                  <a:close/>
                </a:path>
              </a:pathLst>
            </a:custGeom>
            <a:solidFill>
              <a:srgbClr val="dadbdf"/>
            </a:solidFill>
            <a:ln w="4680">
              <a:solidFill>
                <a:srgbClr val="ffffff"/>
              </a:solidFill>
              <a:round/>
            </a:ln>
          </p:spPr>
          <p:style>
            <a:lnRef idx="0"/>
            <a:fillRef idx="0"/>
            <a:effectRef idx="0"/>
            <a:fontRef idx="minor"/>
          </p:style>
          <p:txBody>
            <a:bodyPr lIns="45360" rIns="45360" tIns="19080" bIns="19080" anchor="t">
              <a:noAutofit/>
            </a:bodyPr>
            <a:p>
              <a:endParaRPr b="0" lang="en-US" sz="1800" spc="-1" strike="noStrike">
                <a:solidFill>
                  <a:srgbClr val="000000"/>
                </a:solidFill>
                <a:latin typeface="Calibri"/>
              </a:endParaRPr>
            </a:p>
          </p:txBody>
        </p:sp>
        <p:sp>
          <p:nvSpPr>
            <p:cNvPr id="647" name="Shape 1261"/>
            <p:cNvSpPr/>
            <p:nvPr/>
          </p:nvSpPr>
          <p:spPr>
            <a:xfrm>
              <a:off x="6626160" y="4043160"/>
              <a:ext cx="309240" cy="331560"/>
            </a:xfrm>
            <a:custGeom>
              <a:avLst/>
              <a:gdLst/>
              <a:ahLst/>
              <a:rect l="l" t="t" r="r" b="b"/>
              <a:pathLst>
                <a:path w="20910" h="21512">
                  <a:moveTo>
                    <a:pt x="20377" y="12255"/>
                  </a:moveTo>
                  <a:cubicBezTo>
                    <a:pt x="21444" y="11483"/>
                    <a:pt x="20111" y="10712"/>
                    <a:pt x="20111" y="9941"/>
                  </a:cubicBezTo>
                  <a:cubicBezTo>
                    <a:pt x="20111" y="9426"/>
                    <a:pt x="20644" y="8912"/>
                    <a:pt x="20644" y="8398"/>
                  </a:cubicBezTo>
                  <a:cubicBezTo>
                    <a:pt x="20911" y="7626"/>
                    <a:pt x="19844" y="8141"/>
                    <a:pt x="19577" y="8141"/>
                  </a:cubicBezTo>
                  <a:cubicBezTo>
                    <a:pt x="19311" y="8141"/>
                    <a:pt x="19044" y="8141"/>
                    <a:pt x="18777" y="8141"/>
                  </a:cubicBezTo>
                  <a:cubicBezTo>
                    <a:pt x="18511" y="8141"/>
                    <a:pt x="18511" y="8398"/>
                    <a:pt x="18244" y="8398"/>
                  </a:cubicBezTo>
                  <a:cubicBezTo>
                    <a:pt x="17977" y="8398"/>
                    <a:pt x="17711" y="7626"/>
                    <a:pt x="17444" y="7626"/>
                  </a:cubicBezTo>
                  <a:cubicBezTo>
                    <a:pt x="16911" y="6598"/>
                    <a:pt x="16377" y="7112"/>
                    <a:pt x="15311" y="7112"/>
                  </a:cubicBezTo>
                  <a:cubicBezTo>
                    <a:pt x="14777" y="7112"/>
                    <a:pt x="14511" y="7112"/>
                    <a:pt x="14244" y="6598"/>
                  </a:cubicBezTo>
                  <a:cubicBezTo>
                    <a:pt x="13977" y="6083"/>
                    <a:pt x="14777" y="5569"/>
                    <a:pt x="13977" y="5055"/>
                  </a:cubicBezTo>
                  <a:cubicBezTo>
                    <a:pt x="13711" y="4798"/>
                    <a:pt x="13711" y="4283"/>
                    <a:pt x="13177" y="4283"/>
                  </a:cubicBezTo>
                  <a:cubicBezTo>
                    <a:pt x="12644" y="4283"/>
                    <a:pt x="12911" y="4283"/>
                    <a:pt x="13177" y="3769"/>
                  </a:cubicBezTo>
                  <a:cubicBezTo>
                    <a:pt x="13444" y="3255"/>
                    <a:pt x="13177" y="2741"/>
                    <a:pt x="13444" y="2226"/>
                  </a:cubicBezTo>
                  <a:cubicBezTo>
                    <a:pt x="13711" y="1712"/>
                    <a:pt x="14244" y="1455"/>
                    <a:pt x="14777" y="1198"/>
                  </a:cubicBezTo>
                  <a:cubicBezTo>
                    <a:pt x="15044" y="941"/>
                    <a:pt x="15577" y="941"/>
                    <a:pt x="15844" y="426"/>
                  </a:cubicBezTo>
                  <a:cubicBezTo>
                    <a:pt x="15844" y="-88"/>
                    <a:pt x="14777" y="-88"/>
                    <a:pt x="14777" y="169"/>
                  </a:cubicBezTo>
                  <a:cubicBezTo>
                    <a:pt x="14244" y="683"/>
                    <a:pt x="13444" y="1455"/>
                    <a:pt x="12644" y="1455"/>
                  </a:cubicBezTo>
                  <a:cubicBezTo>
                    <a:pt x="11844" y="1455"/>
                    <a:pt x="11844" y="1455"/>
                    <a:pt x="11577" y="1969"/>
                  </a:cubicBezTo>
                  <a:cubicBezTo>
                    <a:pt x="11311" y="2483"/>
                    <a:pt x="11311" y="1712"/>
                    <a:pt x="10777" y="1712"/>
                  </a:cubicBezTo>
                  <a:cubicBezTo>
                    <a:pt x="9711" y="1969"/>
                    <a:pt x="10244" y="3512"/>
                    <a:pt x="9444" y="4026"/>
                  </a:cubicBezTo>
                  <a:cubicBezTo>
                    <a:pt x="9177" y="4283"/>
                    <a:pt x="8644" y="4541"/>
                    <a:pt x="8377" y="5055"/>
                  </a:cubicBezTo>
                  <a:cubicBezTo>
                    <a:pt x="8377" y="5055"/>
                    <a:pt x="8377" y="5826"/>
                    <a:pt x="8111" y="5826"/>
                  </a:cubicBezTo>
                  <a:cubicBezTo>
                    <a:pt x="7844" y="5312"/>
                    <a:pt x="7577" y="5055"/>
                    <a:pt x="7311" y="4798"/>
                  </a:cubicBezTo>
                  <a:cubicBezTo>
                    <a:pt x="7044" y="4283"/>
                    <a:pt x="6777" y="4283"/>
                    <a:pt x="6511" y="4283"/>
                  </a:cubicBezTo>
                  <a:cubicBezTo>
                    <a:pt x="5444" y="4026"/>
                    <a:pt x="4911" y="3255"/>
                    <a:pt x="3844" y="4026"/>
                  </a:cubicBezTo>
                  <a:cubicBezTo>
                    <a:pt x="3311" y="4283"/>
                    <a:pt x="2244" y="5055"/>
                    <a:pt x="1711" y="4541"/>
                  </a:cubicBezTo>
                  <a:cubicBezTo>
                    <a:pt x="1444" y="4283"/>
                    <a:pt x="1177" y="4283"/>
                    <a:pt x="911" y="4026"/>
                  </a:cubicBezTo>
                  <a:cubicBezTo>
                    <a:pt x="377" y="4026"/>
                    <a:pt x="644" y="3512"/>
                    <a:pt x="111" y="4026"/>
                  </a:cubicBezTo>
                  <a:cubicBezTo>
                    <a:pt x="-156" y="4283"/>
                    <a:pt x="111" y="4283"/>
                    <a:pt x="377" y="4541"/>
                  </a:cubicBezTo>
                  <a:cubicBezTo>
                    <a:pt x="377" y="4798"/>
                    <a:pt x="111" y="5055"/>
                    <a:pt x="111" y="5312"/>
                  </a:cubicBezTo>
                  <a:cubicBezTo>
                    <a:pt x="644" y="5312"/>
                    <a:pt x="1177" y="5569"/>
                    <a:pt x="1444" y="5569"/>
                  </a:cubicBezTo>
                  <a:cubicBezTo>
                    <a:pt x="1711" y="5826"/>
                    <a:pt x="1977" y="5826"/>
                    <a:pt x="1977" y="6083"/>
                  </a:cubicBezTo>
                  <a:cubicBezTo>
                    <a:pt x="2244" y="6341"/>
                    <a:pt x="2244" y="6083"/>
                    <a:pt x="2511" y="6083"/>
                  </a:cubicBezTo>
                  <a:cubicBezTo>
                    <a:pt x="2511" y="5826"/>
                    <a:pt x="2511" y="6598"/>
                    <a:pt x="2777" y="6598"/>
                  </a:cubicBezTo>
                  <a:cubicBezTo>
                    <a:pt x="3044" y="6855"/>
                    <a:pt x="3311" y="6598"/>
                    <a:pt x="3844" y="6341"/>
                  </a:cubicBezTo>
                  <a:cubicBezTo>
                    <a:pt x="4111" y="6341"/>
                    <a:pt x="3311" y="5826"/>
                    <a:pt x="3311" y="5826"/>
                  </a:cubicBezTo>
                  <a:cubicBezTo>
                    <a:pt x="3311" y="5569"/>
                    <a:pt x="4111" y="5055"/>
                    <a:pt x="4111" y="4798"/>
                  </a:cubicBezTo>
                  <a:cubicBezTo>
                    <a:pt x="4377" y="4541"/>
                    <a:pt x="4911" y="4283"/>
                    <a:pt x="5177" y="4541"/>
                  </a:cubicBezTo>
                  <a:cubicBezTo>
                    <a:pt x="5444" y="4541"/>
                    <a:pt x="5977" y="4798"/>
                    <a:pt x="5977" y="4798"/>
                  </a:cubicBezTo>
                  <a:cubicBezTo>
                    <a:pt x="5977" y="5055"/>
                    <a:pt x="5977" y="5055"/>
                    <a:pt x="6244" y="5055"/>
                  </a:cubicBezTo>
                  <a:cubicBezTo>
                    <a:pt x="6244" y="5312"/>
                    <a:pt x="5977" y="5569"/>
                    <a:pt x="5977" y="5569"/>
                  </a:cubicBezTo>
                  <a:cubicBezTo>
                    <a:pt x="5977" y="5826"/>
                    <a:pt x="6511" y="6341"/>
                    <a:pt x="6511" y="6598"/>
                  </a:cubicBezTo>
                  <a:cubicBezTo>
                    <a:pt x="7044" y="7369"/>
                    <a:pt x="7577" y="7369"/>
                    <a:pt x="7577" y="8398"/>
                  </a:cubicBezTo>
                  <a:cubicBezTo>
                    <a:pt x="7577" y="9169"/>
                    <a:pt x="7577" y="9941"/>
                    <a:pt x="7311" y="10712"/>
                  </a:cubicBezTo>
                  <a:cubicBezTo>
                    <a:pt x="7311" y="10969"/>
                    <a:pt x="7844" y="10969"/>
                    <a:pt x="7844" y="11226"/>
                  </a:cubicBezTo>
                  <a:cubicBezTo>
                    <a:pt x="7577" y="11483"/>
                    <a:pt x="7311" y="11741"/>
                    <a:pt x="7311" y="11998"/>
                  </a:cubicBezTo>
                  <a:cubicBezTo>
                    <a:pt x="7044" y="12255"/>
                    <a:pt x="7044" y="12769"/>
                    <a:pt x="6777" y="12769"/>
                  </a:cubicBezTo>
                  <a:cubicBezTo>
                    <a:pt x="6244" y="13026"/>
                    <a:pt x="5711" y="12769"/>
                    <a:pt x="5711" y="13541"/>
                  </a:cubicBezTo>
                  <a:cubicBezTo>
                    <a:pt x="5711" y="14055"/>
                    <a:pt x="4911" y="14055"/>
                    <a:pt x="5711" y="14312"/>
                  </a:cubicBezTo>
                  <a:cubicBezTo>
                    <a:pt x="5977" y="14569"/>
                    <a:pt x="6244" y="14569"/>
                    <a:pt x="6777" y="14826"/>
                  </a:cubicBezTo>
                  <a:cubicBezTo>
                    <a:pt x="7044" y="15083"/>
                    <a:pt x="7311" y="15341"/>
                    <a:pt x="7577" y="15598"/>
                  </a:cubicBezTo>
                  <a:cubicBezTo>
                    <a:pt x="8111" y="15855"/>
                    <a:pt x="8377" y="15598"/>
                    <a:pt x="8911" y="15598"/>
                  </a:cubicBezTo>
                  <a:cubicBezTo>
                    <a:pt x="9177" y="15598"/>
                    <a:pt x="9444" y="15855"/>
                    <a:pt x="9977" y="16112"/>
                  </a:cubicBezTo>
                  <a:cubicBezTo>
                    <a:pt x="10244" y="16112"/>
                    <a:pt x="10511" y="16112"/>
                    <a:pt x="10777" y="16369"/>
                  </a:cubicBezTo>
                  <a:cubicBezTo>
                    <a:pt x="11577" y="16883"/>
                    <a:pt x="12111" y="17398"/>
                    <a:pt x="12644" y="18169"/>
                  </a:cubicBezTo>
                  <a:cubicBezTo>
                    <a:pt x="12911" y="18941"/>
                    <a:pt x="13177" y="19198"/>
                    <a:pt x="14244" y="19455"/>
                  </a:cubicBezTo>
                  <a:cubicBezTo>
                    <a:pt x="14511" y="19455"/>
                    <a:pt x="14777" y="19198"/>
                    <a:pt x="15044" y="18941"/>
                  </a:cubicBezTo>
                  <a:cubicBezTo>
                    <a:pt x="15311" y="18941"/>
                    <a:pt x="15577" y="19455"/>
                    <a:pt x="15844" y="19198"/>
                  </a:cubicBezTo>
                  <a:cubicBezTo>
                    <a:pt x="16377" y="18941"/>
                    <a:pt x="16911" y="19198"/>
                    <a:pt x="17177" y="19455"/>
                  </a:cubicBezTo>
                  <a:cubicBezTo>
                    <a:pt x="17177" y="19712"/>
                    <a:pt x="16911" y="20226"/>
                    <a:pt x="16911" y="20483"/>
                  </a:cubicBezTo>
                  <a:cubicBezTo>
                    <a:pt x="16644" y="20741"/>
                    <a:pt x="16377" y="20741"/>
                    <a:pt x="16911" y="20998"/>
                  </a:cubicBezTo>
                  <a:cubicBezTo>
                    <a:pt x="16911" y="20998"/>
                    <a:pt x="17444" y="21512"/>
                    <a:pt x="17177" y="21512"/>
                  </a:cubicBezTo>
                  <a:cubicBezTo>
                    <a:pt x="17711" y="21512"/>
                    <a:pt x="17977" y="18683"/>
                    <a:pt x="18244" y="18169"/>
                  </a:cubicBezTo>
                  <a:cubicBezTo>
                    <a:pt x="18244" y="17141"/>
                    <a:pt x="17444" y="16883"/>
                    <a:pt x="17177" y="16112"/>
                  </a:cubicBezTo>
                  <a:cubicBezTo>
                    <a:pt x="17177" y="15598"/>
                    <a:pt x="17177" y="15341"/>
                    <a:pt x="17444" y="15341"/>
                  </a:cubicBezTo>
                  <a:cubicBezTo>
                    <a:pt x="17711" y="15341"/>
                    <a:pt x="18511" y="15083"/>
                    <a:pt x="18511" y="14826"/>
                  </a:cubicBezTo>
                  <a:cubicBezTo>
                    <a:pt x="18244" y="14826"/>
                    <a:pt x="17711" y="14826"/>
                    <a:pt x="17711" y="14569"/>
                  </a:cubicBezTo>
                  <a:cubicBezTo>
                    <a:pt x="17444" y="14569"/>
                    <a:pt x="17444" y="14055"/>
                    <a:pt x="17444" y="14055"/>
                  </a:cubicBezTo>
                  <a:cubicBezTo>
                    <a:pt x="17977" y="14055"/>
                    <a:pt x="18511" y="14055"/>
                    <a:pt x="19044" y="14055"/>
                  </a:cubicBezTo>
                  <a:cubicBezTo>
                    <a:pt x="19311" y="14055"/>
                    <a:pt x="20911" y="13283"/>
                    <a:pt x="20911" y="13541"/>
                  </a:cubicBezTo>
                  <a:cubicBezTo>
                    <a:pt x="20911" y="13026"/>
                    <a:pt x="20111" y="12255"/>
                    <a:pt x="20377" y="12255"/>
                  </a:cubicBezTo>
                  <a:cubicBezTo>
                    <a:pt x="20644" y="11998"/>
                    <a:pt x="20111" y="12255"/>
                    <a:pt x="20377" y="1225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48" name="Shape 1262"/>
            <p:cNvSpPr/>
            <p:nvPr/>
          </p:nvSpPr>
          <p:spPr>
            <a:xfrm>
              <a:off x="6666840" y="4264560"/>
              <a:ext cx="108360" cy="127440"/>
            </a:xfrm>
            <a:custGeom>
              <a:avLst/>
              <a:gdLst/>
              <a:ahLst/>
              <a:rect l="l" t="t" r="r" b="b"/>
              <a:pathLst>
                <a:path w="21171" h="21051">
                  <a:moveTo>
                    <a:pt x="15429" y="3927"/>
                  </a:moveTo>
                  <a:cubicBezTo>
                    <a:pt x="13886" y="3927"/>
                    <a:pt x="13114" y="2618"/>
                    <a:pt x="11571" y="1964"/>
                  </a:cubicBezTo>
                  <a:cubicBezTo>
                    <a:pt x="10800" y="1309"/>
                    <a:pt x="9257" y="0"/>
                    <a:pt x="7714" y="0"/>
                  </a:cubicBezTo>
                  <a:cubicBezTo>
                    <a:pt x="7714" y="1964"/>
                    <a:pt x="3086" y="655"/>
                    <a:pt x="3086" y="2618"/>
                  </a:cubicBezTo>
                  <a:cubicBezTo>
                    <a:pt x="3086" y="3927"/>
                    <a:pt x="3086" y="3927"/>
                    <a:pt x="2314" y="4582"/>
                  </a:cubicBezTo>
                  <a:cubicBezTo>
                    <a:pt x="771" y="5236"/>
                    <a:pt x="1543" y="5891"/>
                    <a:pt x="1543" y="6545"/>
                  </a:cubicBezTo>
                  <a:cubicBezTo>
                    <a:pt x="1543" y="7200"/>
                    <a:pt x="771" y="7855"/>
                    <a:pt x="0" y="8509"/>
                  </a:cubicBezTo>
                  <a:cubicBezTo>
                    <a:pt x="0" y="8509"/>
                    <a:pt x="0" y="9164"/>
                    <a:pt x="0" y="9818"/>
                  </a:cubicBezTo>
                  <a:cubicBezTo>
                    <a:pt x="771" y="10473"/>
                    <a:pt x="0" y="11127"/>
                    <a:pt x="0" y="11782"/>
                  </a:cubicBezTo>
                  <a:cubicBezTo>
                    <a:pt x="0" y="11782"/>
                    <a:pt x="771" y="13745"/>
                    <a:pt x="1543" y="13091"/>
                  </a:cubicBezTo>
                  <a:cubicBezTo>
                    <a:pt x="3086" y="13091"/>
                    <a:pt x="3086" y="11782"/>
                    <a:pt x="3857" y="11782"/>
                  </a:cubicBezTo>
                  <a:cubicBezTo>
                    <a:pt x="3086" y="11782"/>
                    <a:pt x="4629" y="13091"/>
                    <a:pt x="3857" y="13091"/>
                  </a:cubicBezTo>
                  <a:cubicBezTo>
                    <a:pt x="3857" y="14400"/>
                    <a:pt x="3857" y="15055"/>
                    <a:pt x="2314" y="15709"/>
                  </a:cubicBezTo>
                  <a:cubicBezTo>
                    <a:pt x="2314" y="15709"/>
                    <a:pt x="3086" y="17018"/>
                    <a:pt x="2314" y="17018"/>
                  </a:cubicBezTo>
                  <a:cubicBezTo>
                    <a:pt x="2314" y="17673"/>
                    <a:pt x="1543" y="17673"/>
                    <a:pt x="2314" y="18327"/>
                  </a:cubicBezTo>
                  <a:cubicBezTo>
                    <a:pt x="3857" y="18982"/>
                    <a:pt x="4629" y="18982"/>
                    <a:pt x="6171" y="20945"/>
                  </a:cubicBezTo>
                  <a:cubicBezTo>
                    <a:pt x="6943" y="21600"/>
                    <a:pt x="7714" y="18982"/>
                    <a:pt x="8486" y="18982"/>
                  </a:cubicBezTo>
                  <a:cubicBezTo>
                    <a:pt x="9257" y="17018"/>
                    <a:pt x="10029" y="15055"/>
                    <a:pt x="12343" y="14400"/>
                  </a:cubicBezTo>
                  <a:cubicBezTo>
                    <a:pt x="13886" y="13745"/>
                    <a:pt x="15429" y="13745"/>
                    <a:pt x="16971" y="12436"/>
                  </a:cubicBezTo>
                  <a:cubicBezTo>
                    <a:pt x="18514" y="11782"/>
                    <a:pt x="20057" y="10473"/>
                    <a:pt x="20829" y="8509"/>
                  </a:cubicBezTo>
                  <a:cubicBezTo>
                    <a:pt x="20829" y="7200"/>
                    <a:pt x="21600" y="6545"/>
                    <a:pt x="20829" y="5236"/>
                  </a:cubicBezTo>
                  <a:cubicBezTo>
                    <a:pt x="20057" y="4582"/>
                    <a:pt x="19286" y="3927"/>
                    <a:pt x="18514" y="3273"/>
                  </a:cubicBezTo>
                  <a:cubicBezTo>
                    <a:pt x="17743" y="3273"/>
                    <a:pt x="16200" y="3927"/>
                    <a:pt x="15429" y="392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49" name="Shape 1263"/>
            <p:cNvSpPr/>
            <p:nvPr/>
          </p:nvSpPr>
          <p:spPr>
            <a:xfrm>
              <a:off x="6660720" y="4288680"/>
              <a:ext cx="247680" cy="370440"/>
            </a:xfrm>
            <a:custGeom>
              <a:avLst/>
              <a:gdLst/>
              <a:ahLst/>
              <a:rect l="l" t="t" r="r" b="b"/>
              <a:pathLst>
                <a:path w="21109" h="21271">
                  <a:moveTo>
                    <a:pt x="18746" y="4775"/>
                  </a:moveTo>
                  <a:cubicBezTo>
                    <a:pt x="17397" y="4320"/>
                    <a:pt x="19422" y="3411"/>
                    <a:pt x="18409" y="3183"/>
                  </a:cubicBezTo>
                  <a:cubicBezTo>
                    <a:pt x="17734" y="2728"/>
                    <a:pt x="17059" y="2956"/>
                    <a:pt x="16384" y="2956"/>
                  </a:cubicBezTo>
                  <a:cubicBezTo>
                    <a:pt x="15709" y="2728"/>
                    <a:pt x="15709" y="3183"/>
                    <a:pt x="15034" y="3183"/>
                  </a:cubicBezTo>
                  <a:cubicBezTo>
                    <a:pt x="14359" y="2956"/>
                    <a:pt x="13684" y="2956"/>
                    <a:pt x="13346" y="2501"/>
                  </a:cubicBezTo>
                  <a:cubicBezTo>
                    <a:pt x="13009" y="2274"/>
                    <a:pt x="12671" y="1592"/>
                    <a:pt x="12334" y="1364"/>
                  </a:cubicBezTo>
                  <a:cubicBezTo>
                    <a:pt x="11659" y="1137"/>
                    <a:pt x="11322" y="682"/>
                    <a:pt x="10646" y="455"/>
                  </a:cubicBezTo>
                  <a:cubicBezTo>
                    <a:pt x="10309" y="0"/>
                    <a:pt x="9634" y="227"/>
                    <a:pt x="8959" y="0"/>
                  </a:cubicBezTo>
                  <a:cubicBezTo>
                    <a:pt x="9634" y="455"/>
                    <a:pt x="9971" y="682"/>
                    <a:pt x="9971" y="1137"/>
                  </a:cubicBezTo>
                  <a:cubicBezTo>
                    <a:pt x="9634" y="1592"/>
                    <a:pt x="9634" y="2046"/>
                    <a:pt x="8959" y="2274"/>
                  </a:cubicBezTo>
                  <a:cubicBezTo>
                    <a:pt x="8284" y="2728"/>
                    <a:pt x="7946" y="3183"/>
                    <a:pt x="7271" y="3183"/>
                  </a:cubicBezTo>
                  <a:cubicBezTo>
                    <a:pt x="6596" y="3411"/>
                    <a:pt x="5921" y="3411"/>
                    <a:pt x="5246" y="3865"/>
                  </a:cubicBezTo>
                  <a:cubicBezTo>
                    <a:pt x="4909" y="4093"/>
                    <a:pt x="3559" y="6139"/>
                    <a:pt x="3221" y="5912"/>
                  </a:cubicBezTo>
                  <a:cubicBezTo>
                    <a:pt x="2546" y="5229"/>
                    <a:pt x="2209" y="5229"/>
                    <a:pt x="1534" y="5002"/>
                  </a:cubicBezTo>
                  <a:cubicBezTo>
                    <a:pt x="1196" y="5002"/>
                    <a:pt x="1196" y="5002"/>
                    <a:pt x="1534" y="4775"/>
                  </a:cubicBezTo>
                  <a:cubicBezTo>
                    <a:pt x="1871" y="4547"/>
                    <a:pt x="1871" y="4320"/>
                    <a:pt x="1534" y="4093"/>
                  </a:cubicBezTo>
                  <a:cubicBezTo>
                    <a:pt x="859" y="4320"/>
                    <a:pt x="-491" y="5229"/>
                    <a:pt x="184" y="5912"/>
                  </a:cubicBezTo>
                  <a:cubicBezTo>
                    <a:pt x="184" y="5912"/>
                    <a:pt x="859" y="6594"/>
                    <a:pt x="521" y="6821"/>
                  </a:cubicBezTo>
                  <a:cubicBezTo>
                    <a:pt x="184" y="6821"/>
                    <a:pt x="-154" y="7048"/>
                    <a:pt x="521" y="7276"/>
                  </a:cubicBezTo>
                  <a:cubicBezTo>
                    <a:pt x="2209" y="7958"/>
                    <a:pt x="3559" y="9322"/>
                    <a:pt x="4234" y="10686"/>
                  </a:cubicBezTo>
                  <a:cubicBezTo>
                    <a:pt x="5246" y="11823"/>
                    <a:pt x="5921" y="13187"/>
                    <a:pt x="7271" y="14324"/>
                  </a:cubicBezTo>
                  <a:cubicBezTo>
                    <a:pt x="7609" y="14779"/>
                    <a:pt x="8284" y="15234"/>
                    <a:pt x="8284" y="15916"/>
                  </a:cubicBezTo>
                  <a:cubicBezTo>
                    <a:pt x="8284" y="16143"/>
                    <a:pt x="7946" y="15916"/>
                    <a:pt x="7946" y="16143"/>
                  </a:cubicBezTo>
                  <a:cubicBezTo>
                    <a:pt x="8284" y="16371"/>
                    <a:pt x="8621" y="16598"/>
                    <a:pt x="8959" y="16825"/>
                  </a:cubicBezTo>
                  <a:cubicBezTo>
                    <a:pt x="9296" y="17280"/>
                    <a:pt x="9634" y="17735"/>
                    <a:pt x="10309" y="17962"/>
                  </a:cubicBezTo>
                  <a:cubicBezTo>
                    <a:pt x="11322" y="18189"/>
                    <a:pt x="12334" y="18644"/>
                    <a:pt x="13346" y="18872"/>
                  </a:cubicBezTo>
                  <a:cubicBezTo>
                    <a:pt x="14022" y="19099"/>
                    <a:pt x="14696" y="19554"/>
                    <a:pt x="15709" y="19781"/>
                  </a:cubicBezTo>
                  <a:cubicBezTo>
                    <a:pt x="16384" y="20236"/>
                    <a:pt x="17059" y="20691"/>
                    <a:pt x="17734" y="21145"/>
                  </a:cubicBezTo>
                  <a:cubicBezTo>
                    <a:pt x="19084" y="21600"/>
                    <a:pt x="18746" y="20691"/>
                    <a:pt x="19422" y="20463"/>
                  </a:cubicBezTo>
                  <a:cubicBezTo>
                    <a:pt x="19759" y="20236"/>
                    <a:pt x="19759" y="19781"/>
                    <a:pt x="20097" y="19554"/>
                  </a:cubicBezTo>
                  <a:cubicBezTo>
                    <a:pt x="20097" y="19326"/>
                    <a:pt x="21109" y="18872"/>
                    <a:pt x="20772" y="18644"/>
                  </a:cubicBezTo>
                  <a:cubicBezTo>
                    <a:pt x="20097" y="18417"/>
                    <a:pt x="19759" y="18417"/>
                    <a:pt x="20097" y="17735"/>
                  </a:cubicBezTo>
                  <a:cubicBezTo>
                    <a:pt x="20097" y="17507"/>
                    <a:pt x="20097" y="17280"/>
                    <a:pt x="20097" y="17280"/>
                  </a:cubicBezTo>
                  <a:cubicBezTo>
                    <a:pt x="20434" y="17053"/>
                    <a:pt x="20772" y="16825"/>
                    <a:pt x="20772" y="16825"/>
                  </a:cubicBezTo>
                  <a:cubicBezTo>
                    <a:pt x="21109" y="16143"/>
                    <a:pt x="20434" y="15006"/>
                    <a:pt x="21109" y="14552"/>
                  </a:cubicBezTo>
                  <a:cubicBezTo>
                    <a:pt x="21109" y="14324"/>
                    <a:pt x="20772" y="13869"/>
                    <a:pt x="20434" y="13415"/>
                  </a:cubicBezTo>
                  <a:cubicBezTo>
                    <a:pt x="20097" y="12733"/>
                    <a:pt x="19759" y="12733"/>
                    <a:pt x="18746" y="12960"/>
                  </a:cubicBezTo>
                  <a:cubicBezTo>
                    <a:pt x="17397" y="12960"/>
                    <a:pt x="18071" y="11368"/>
                    <a:pt x="18071" y="10914"/>
                  </a:cubicBezTo>
                  <a:cubicBezTo>
                    <a:pt x="17397" y="11141"/>
                    <a:pt x="17059" y="11596"/>
                    <a:pt x="16384" y="11596"/>
                  </a:cubicBezTo>
                  <a:cubicBezTo>
                    <a:pt x="16046" y="11596"/>
                    <a:pt x="15371" y="11596"/>
                    <a:pt x="15034" y="11596"/>
                  </a:cubicBezTo>
                  <a:cubicBezTo>
                    <a:pt x="14696" y="11368"/>
                    <a:pt x="14696" y="10914"/>
                    <a:pt x="14359" y="10914"/>
                  </a:cubicBezTo>
                  <a:cubicBezTo>
                    <a:pt x="13346" y="10914"/>
                    <a:pt x="13346" y="10004"/>
                    <a:pt x="13009" y="9549"/>
                  </a:cubicBezTo>
                  <a:cubicBezTo>
                    <a:pt x="12334" y="9095"/>
                    <a:pt x="11996" y="8413"/>
                    <a:pt x="12671" y="7958"/>
                  </a:cubicBezTo>
                  <a:cubicBezTo>
                    <a:pt x="13009" y="7731"/>
                    <a:pt x="13684" y="7731"/>
                    <a:pt x="13684" y="7503"/>
                  </a:cubicBezTo>
                  <a:cubicBezTo>
                    <a:pt x="13684" y="7276"/>
                    <a:pt x="13684" y="7048"/>
                    <a:pt x="13684" y="6821"/>
                  </a:cubicBezTo>
                  <a:cubicBezTo>
                    <a:pt x="13684" y="6139"/>
                    <a:pt x="13684" y="5912"/>
                    <a:pt x="14696" y="5684"/>
                  </a:cubicBezTo>
                  <a:cubicBezTo>
                    <a:pt x="15371" y="5457"/>
                    <a:pt x="15709" y="5457"/>
                    <a:pt x="16384" y="5457"/>
                  </a:cubicBezTo>
                  <a:cubicBezTo>
                    <a:pt x="16722" y="5457"/>
                    <a:pt x="17059" y="5229"/>
                    <a:pt x="17397" y="5002"/>
                  </a:cubicBezTo>
                  <a:cubicBezTo>
                    <a:pt x="17734" y="5002"/>
                    <a:pt x="19422" y="5229"/>
                    <a:pt x="18746" y="477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0" name="Shape 1264"/>
            <p:cNvSpPr/>
            <p:nvPr/>
          </p:nvSpPr>
          <p:spPr>
            <a:xfrm>
              <a:off x="6766560" y="4640760"/>
              <a:ext cx="172440" cy="834840"/>
            </a:xfrm>
            <a:custGeom>
              <a:avLst/>
              <a:gdLst/>
              <a:ahLst/>
              <a:rect l="l" t="t" r="r" b="b"/>
              <a:pathLst>
                <a:path w="21600" h="21466">
                  <a:moveTo>
                    <a:pt x="19636" y="2853"/>
                  </a:moveTo>
                  <a:cubicBezTo>
                    <a:pt x="18655" y="2751"/>
                    <a:pt x="19636" y="2242"/>
                    <a:pt x="18655" y="2038"/>
                  </a:cubicBezTo>
                  <a:cubicBezTo>
                    <a:pt x="18164" y="1936"/>
                    <a:pt x="17182" y="1630"/>
                    <a:pt x="17673" y="1426"/>
                  </a:cubicBezTo>
                  <a:cubicBezTo>
                    <a:pt x="18655" y="1325"/>
                    <a:pt x="17182" y="1325"/>
                    <a:pt x="17673" y="1223"/>
                  </a:cubicBezTo>
                  <a:cubicBezTo>
                    <a:pt x="18164" y="1121"/>
                    <a:pt x="17673" y="1019"/>
                    <a:pt x="17182" y="917"/>
                  </a:cubicBezTo>
                  <a:cubicBezTo>
                    <a:pt x="16691" y="815"/>
                    <a:pt x="16691" y="713"/>
                    <a:pt x="16691" y="509"/>
                  </a:cubicBezTo>
                  <a:cubicBezTo>
                    <a:pt x="16691" y="306"/>
                    <a:pt x="16200" y="204"/>
                    <a:pt x="15709" y="0"/>
                  </a:cubicBezTo>
                  <a:cubicBezTo>
                    <a:pt x="15218" y="102"/>
                    <a:pt x="14727" y="204"/>
                    <a:pt x="14727" y="306"/>
                  </a:cubicBezTo>
                  <a:cubicBezTo>
                    <a:pt x="14236" y="509"/>
                    <a:pt x="13255" y="408"/>
                    <a:pt x="13745" y="611"/>
                  </a:cubicBezTo>
                  <a:cubicBezTo>
                    <a:pt x="13745" y="917"/>
                    <a:pt x="13745" y="1223"/>
                    <a:pt x="13745" y="1528"/>
                  </a:cubicBezTo>
                  <a:cubicBezTo>
                    <a:pt x="13745" y="1936"/>
                    <a:pt x="14236" y="2445"/>
                    <a:pt x="13745" y="2853"/>
                  </a:cubicBezTo>
                  <a:cubicBezTo>
                    <a:pt x="13255" y="2955"/>
                    <a:pt x="12764" y="3057"/>
                    <a:pt x="12764" y="3158"/>
                  </a:cubicBezTo>
                  <a:cubicBezTo>
                    <a:pt x="12764" y="3362"/>
                    <a:pt x="13255" y="3566"/>
                    <a:pt x="13255" y="3770"/>
                  </a:cubicBezTo>
                  <a:cubicBezTo>
                    <a:pt x="13255" y="4381"/>
                    <a:pt x="12273" y="5094"/>
                    <a:pt x="11291" y="5706"/>
                  </a:cubicBezTo>
                  <a:cubicBezTo>
                    <a:pt x="10800" y="6011"/>
                    <a:pt x="10800" y="6215"/>
                    <a:pt x="11291" y="6521"/>
                  </a:cubicBezTo>
                  <a:cubicBezTo>
                    <a:pt x="11291" y="6725"/>
                    <a:pt x="11291" y="6826"/>
                    <a:pt x="10309" y="6928"/>
                  </a:cubicBezTo>
                  <a:cubicBezTo>
                    <a:pt x="9818" y="7030"/>
                    <a:pt x="10309" y="7132"/>
                    <a:pt x="10309" y="7234"/>
                  </a:cubicBezTo>
                  <a:cubicBezTo>
                    <a:pt x="10309" y="7540"/>
                    <a:pt x="10309" y="7845"/>
                    <a:pt x="10309" y="8151"/>
                  </a:cubicBezTo>
                  <a:cubicBezTo>
                    <a:pt x="10309" y="8253"/>
                    <a:pt x="10309" y="8457"/>
                    <a:pt x="10309" y="8558"/>
                  </a:cubicBezTo>
                  <a:cubicBezTo>
                    <a:pt x="9818" y="8660"/>
                    <a:pt x="10309" y="8864"/>
                    <a:pt x="9818" y="8966"/>
                  </a:cubicBezTo>
                  <a:cubicBezTo>
                    <a:pt x="8836" y="9475"/>
                    <a:pt x="7855" y="9985"/>
                    <a:pt x="6873" y="10494"/>
                  </a:cubicBezTo>
                  <a:cubicBezTo>
                    <a:pt x="6382" y="10800"/>
                    <a:pt x="4909" y="10902"/>
                    <a:pt x="5400" y="11208"/>
                  </a:cubicBezTo>
                  <a:cubicBezTo>
                    <a:pt x="5891" y="11513"/>
                    <a:pt x="6873" y="12023"/>
                    <a:pt x="5891" y="12430"/>
                  </a:cubicBezTo>
                  <a:cubicBezTo>
                    <a:pt x="4909" y="12634"/>
                    <a:pt x="3927" y="13143"/>
                    <a:pt x="4909" y="13449"/>
                  </a:cubicBezTo>
                  <a:cubicBezTo>
                    <a:pt x="5400" y="13653"/>
                    <a:pt x="5891" y="13653"/>
                    <a:pt x="6382" y="13551"/>
                  </a:cubicBezTo>
                  <a:cubicBezTo>
                    <a:pt x="6873" y="13449"/>
                    <a:pt x="8836" y="13449"/>
                    <a:pt x="8345" y="13551"/>
                  </a:cubicBezTo>
                  <a:cubicBezTo>
                    <a:pt x="8345" y="13551"/>
                    <a:pt x="7855" y="13551"/>
                    <a:pt x="7364" y="13653"/>
                  </a:cubicBezTo>
                  <a:cubicBezTo>
                    <a:pt x="7364" y="13755"/>
                    <a:pt x="7364" y="13755"/>
                    <a:pt x="7855" y="13857"/>
                  </a:cubicBezTo>
                  <a:cubicBezTo>
                    <a:pt x="7855" y="13857"/>
                    <a:pt x="7364" y="13958"/>
                    <a:pt x="7364" y="13958"/>
                  </a:cubicBezTo>
                  <a:cubicBezTo>
                    <a:pt x="6873" y="14162"/>
                    <a:pt x="6382" y="14570"/>
                    <a:pt x="6873" y="14774"/>
                  </a:cubicBezTo>
                  <a:cubicBezTo>
                    <a:pt x="6873" y="14875"/>
                    <a:pt x="6873" y="14875"/>
                    <a:pt x="6382" y="15079"/>
                  </a:cubicBezTo>
                  <a:cubicBezTo>
                    <a:pt x="5891" y="15181"/>
                    <a:pt x="6873" y="15181"/>
                    <a:pt x="7364" y="15283"/>
                  </a:cubicBezTo>
                  <a:cubicBezTo>
                    <a:pt x="7364" y="15283"/>
                    <a:pt x="7364" y="15283"/>
                    <a:pt x="6873" y="15385"/>
                  </a:cubicBezTo>
                  <a:cubicBezTo>
                    <a:pt x="6382" y="15385"/>
                    <a:pt x="5400" y="15487"/>
                    <a:pt x="6382" y="15487"/>
                  </a:cubicBezTo>
                  <a:cubicBezTo>
                    <a:pt x="5891" y="15589"/>
                    <a:pt x="6382" y="15894"/>
                    <a:pt x="6873" y="15894"/>
                  </a:cubicBezTo>
                  <a:cubicBezTo>
                    <a:pt x="6382" y="15894"/>
                    <a:pt x="4909" y="15792"/>
                    <a:pt x="5400" y="16098"/>
                  </a:cubicBezTo>
                  <a:cubicBezTo>
                    <a:pt x="5400" y="16098"/>
                    <a:pt x="5891" y="16608"/>
                    <a:pt x="4909" y="16506"/>
                  </a:cubicBezTo>
                  <a:cubicBezTo>
                    <a:pt x="4909" y="16506"/>
                    <a:pt x="3927" y="16302"/>
                    <a:pt x="3927" y="16200"/>
                  </a:cubicBezTo>
                  <a:cubicBezTo>
                    <a:pt x="2945" y="16098"/>
                    <a:pt x="3436" y="15996"/>
                    <a:pt x="2455" y="16098"/>
                  </a:cubicBezTo>
                  <a:cubicBezTo>
                    <a:pt x="2455" y="16098"/>
                    <a:pt x="1964" y="16200"/>
                    <a:pt x="1964" y="16200"/>
                  </a:cubicBezTo>
                  <a:cubicBezTo>
                    <a:pt x="1964" y="16302"/>
                    <a:pt x="2455" y="16302"/>
                    <a:pt x="1964" y="16404"/>
                  </a:cubicBezTo>
                  <a:cubicBezTo>
                    <a:pt x="1964" y="16506"/>
                    <a:pt x="0" y="16506"/>
                    <a:pt x="0" y="16709"/>
                  </a:cubicBezTo>
                  <a:cubicBezTo>
                    <a:pt x="0" y="16709"/>
                    <a:pt x="491" y="16811"/>
                    <a:pt x="982" y="16811"/>
                  </a:cubicBezTo>
                  <a:cubicBezTo>
                    <a:pt x="982" y="16811"/>
                    <a:pt x="491" y="16709"/>
                    <a:pt x="982" y="16608"/>
                  </a:cubicBezTo>
                  <a:cubicBezTo>
                    <a:pt x="982" y="16608"/>
                    <a:pt x="2455" y="16811"/>
                    <a:pt x="3436" y="16709"/>
                  </a:cubicBezTo>
                  <a:cubicBezTo>
                    <a:pt x="5400" y="16608"/>
                    <a:pt x="2455" y="17321"/>
                    <a:pt x="3436" y="17423"/>
                  </a:cubicBezTo>
                  <a:cubicBezTo>
                    <a:pt x="3927" y="17423"/>
                    <a:pt x="4909" y="17321"/>
                    <a:pt x="5400" y="17423"/>
                  </a:cubicBezTo>
                  <a:cubicBezTo>
                    <a:pt x="5891" y="17423"/>
                    <a:pt x="5891" y="17728"/>
                    <a:pt x="5400" y="17626"/>
                  </a:cubicBezTo>
                  <a:cubicBezTo>
                    <a:pt x="5400" y="17626"/>
                    <a:pt x="3927" y="17423"/>
                    <a:pt x="3927" y="17525"/>
                  </a:cubicBezTo>
                  <a:cubicBezTo>
                    <a:pt x="3436" y="17626"/>
                    <a:pt x="2945" y="17626"/>
                    <a:pt x="3436" y="17728"/>
                  </a:cubicBezTo>
                  <a:cubicBezTo>
                    <a:pt x="3436" y="17728"/>
                    <a:pt x="4418" y="17932"/>
                    <a:pt x="3927" y="17932"/>
                  </a:cubicBezTo>
                  <a:cubicBezTo>
                    <a:pt x="3436" y="17932"/>
                    <a:pt x="3436" y="18238"/>
                    <a:pt x="3436" y="18238"/>
                  </a:cubicBezTo>
                  <a:cubicBezTo>
                    <a:pt x="2945" y="18543"/>
                    <a:pt x="4418" y="18136"/>
                    <a:pt x="4418" y="18136"/>
                  </a:cubicBezTo>
                  <a:cubicBezTo>
                    <a:pt x="4418" y="18136"/>
                    <a:pt x="3927" y="18645"/>
                    <a:pt x="4418" y="18543"/>
                  </a:cubicBezTo>
                  <a:cubicBezTo>
                    <a:pt x="4418" y="18543"/>
                    <a:pt x="3927" y="18543"/>
                    <a:pt x="3927" y="18645"/>
                  </a:cubicBezTo>
                  <a:cubicBezTo>
                    <a:pt x="3436" y="18747"/>
                    <a:pt x="3927" y="18747"/>
                    <a:pt x="4418" y="18849"/>
                  </a:cubicBezTo>
                  <a:cubicBezTo>
                    <a:pt x="4418" y="18849"/>
                    <a:pt x="3436" y="18951"/>
                    <a:pt x="3436" y="18951"/>
                  </a:cubicBezTo>
                  <a:cubicBezTo>
                    <a:pt x="2945" y="18951"/>
                    <a:pt x="3436" y="18951"/>
                    <a:pt x="3436" y="19053"/>
                  </a:cubicBezTo>
                  <a:cubicBezTo>
                    <a:pt x="2945" y="19257"/>
                    <a:pt x="4909" y="19257"/>
                    <a:pt x="4909" y="19155"/>
                  </a:cubicBezTo>
                  <a:cubicBezTo>
                    <a:pt x="4909" y="19257"/>
                    <a:pt x="4418" y="19257"/>
                    <a:pt x="4909" y="19358"/>
                  </a:cubicBezTo>
                  <a:cubicBezTo>
                    <a:pt x="4909" y="19358"/>
                    <a:pt x="4909" y="19358"/>
                    <a:pt x="4909" y="19358"/>
                  </a:cubicBezTo>
                  <a:cubicBezTo>
                    <a:pt x="4909" y="19460"/>
                    <a:pt x="3927" y="19562"/>
                    <a:pt x="3927" y="19664"/>
                  </a:cubicBezTo>
                  <a:cubicBezTo>
                    <a:pt x="3436" y="19868"/>
                    <a:pt x="4909" y="19562"/>
                    <a:pt x="5400" y="19562"/>
                  </a:cubicBezTo>
                  <a:cubicBezTo>
                    <a:pt x="4909" y="19664"/>
                    <a:pt x="5400" y="19766"/>
                    <a:pt x="5400" y="19766"/>
                  </a:cubicBezTo>
                  <a:cubicBezTo>
                    <a:pt x="5400" y="19868"/>
                    <a:pt x="3927" y="19970"/>
                    <a:pt x="3927" y="19970"/>
                  </a:cubicBezTo>
                  <a:cubicBezTo>
                    <a:pt x="4909" y="20072"/>
                    <a:pt x="4909" y="19970"/>
                    <a:pt x="5400" y="20174"/>
                  </a:cubicBezTo>
                  <a:cubicBezTo>
                    <a:pt x="5891" y="20377"/>
                    <a:pt x="6873" y="19868"/>
                    <a:pt x="6382" y="19868"/>
                  </a:cubicBezTo>
                  <a:cubicBezTo>
                    <a:pt x="6873" y="19868"/>
                    <a:pt x="6873" y="19970"/>
                    <a:pt x="7364" y="20072"/>
                  </a:cubicBezTo>
                  <a:cubicBezTo>
                    <a:pt x="7364" y="20072"/>
                    <a:pt x="7364" y="19868"/>
                    <a:pt x="7364" y="19868"/>
                  </a:cubicBezTo>
                  <a:cubicBezTo>
                    <a:pt x="7364" y="19868"/>
                    <a:pt x="7364" y="20072"/>
                    <a:pt x="7364" y="20072"/>
                  </a:cubicBezTo>
                  <a:cubicBezTo>
                    <a:pt x="7855" y="19970"/>
                    <a:pt x="7855" y="19868"/>
                    <a:pt x="7855" y="19970"/>
                  </a:cubicBezTo>
                  <a:cubicBezTo>
                    <a:pt x="8345" y="19970"/>
                    <a:pt x="7855" y="20174"/>
                    <a:pt x="7855" y="20174"/>
                  </a:cubicBezTo>
                  <a:cubicBezTo>
                    <a:pt x="7364" y="20275"/>
                    <a:pt x="8345" y="20275"/>
                    <a:pt x="7855" y="20377"/>
                  </a:cubicBezTo>
                  <a:cubicBezTo>
                    <a:pt x="7364" y="20581"/>
                    <a:pt x="8345" y="20479"/>
                    <a:pt x="8836" y="20581"/>
                  </a:cubicBezTo>
                  <a:cubicBezTo>
                    <a:pt x="10309" y="20581"/>
                    <a:pt x="11782" y="20785"/>
                    <a:pt x="10309" y="20989"/>
                  </a:cubicBezTo>
                  <a:cubicBezTo>
                    <a:pt x="9818" y="21091"/>
                    <a:pt x="8345" y="20989"/>
                    <a:pt x="7855" y="21091"/>
                  </a:cubicBezTo>
                  <a:cubicBezTo>
                    <a:pt x="7364" y="21294"/>
                    <a:pt x="8836" y="21192"/>
                    <a:pt x="9327" y="21294"/>
                  </a:cubicBezTo>
                  <a:cubicBezTo>
                    <a:pt x="8836" y="21294"/>
                    <a:pt x="8836" y="21294"/>
                    <a:pt x="8836" y="21294"/>
                  </a:cubicBezTo>
                  <a:cubicBezTo>
                    <a:pt x="8836" y="21294"/>
                    <a:pt x="10800" y="21600"/>
                    <a:pt x="11782" y="21396"/>
                  </a:cubicBezTo>
                  <a:cubicBezTo>
                    <a:pt x="12273" y="21192"/>
                    <a:pt x="11291" y="20989"/>
                    <a:pt x="12273" y="20785"/>
                  </a:cubicBezTo>
                  <a:cubicBezTo>
                    <a:pt x="12764" y="20581"/>
                    <a:pt x="14236" y="20581"/>
                    <a:pt x="14727" y="20581"/>
                  </a:cubicBezTo>
                  <a:cubicBezTo>
                    <a:pt x="17182" y="20275"/>
                    <a:pt x="13745" y="20275"/>
                    <a:pt x="12764" y="20275"/>
                  </a:cubicBezTo>
                  <a:cubicBezTo>
                    <a:pt x="11782" y="20275"/>
                    <a:pt x="10309" y="20275"/>
                    <a:pt x="9327" y="20174"/>
                  </a:cubicBezTo>
                  <a:cubicBezTo>
                    <a:pt x="8345" y="19970"/>
                    <a:pt x="8345" y="19970"/>
                    <a:pt x="8345" y="19562"/>
                  </a:cubicBezTo>
                  <a:cubicBezTo>
                    <a:pt x="8345" y="19155"/>
                    <a:pt x="7855" y="19460"/>
                    <a:pt x="6382" y="19257"/>
                  </a:cubicBezTo>
                  <a:cubicBezTo>
                    <a:pt x="5891" y="19257"/>
                    <a:pt x="5891" y="18951"/>
                    <a:pt x="5891" y="18849"/>
                  </a:cubicBezTo>
                  <a:cubicBezTo>
                    <a:pt x="5400" y="18645"/>
                    <a:pt x="5400" y="18340"/>
                    <a:pt x="6382" y="18238"/>
                  </a:cubicBezTo>
                  <a:cubicBezTo>
                    <a:pt x="6873" y="18136"/>
                    <a:pt x="6873" y="18136"/>
                    <a:pt x="7364" y="18034"/>
                  </a:cubicBezTo>
                  <a:cubicBezTo>
                    <a:pt x="7364" y="17932"/>
                    <a:pt x="7855" y="17830"/>
                    <a:pt x="8345" y="17830"/>
                  </a:cubicBezTo>
                  <a:cubicBezTo>
                    <a:pt x="8836" y="17728"/>
                    <a:pt x="7855" y="17423"/>
                    <a:pt x="8345" y="17219"/>
                  </a:cubicBezTo>
                  <a:cubicBezTo>
                    <a:pt x="8345" y="17117"/>
                    <a:pt x="9327" y="17015"/>
                    <a:pt x="9818" y="16811"/>
                  </a:cubicBezTo>
                  <a:cubicBezTo>
                    <a:pt x="9818" y="16608"/>
                    <a:pt x="9818" y="16302"/>
                    <a:pt x="10309" y="16098"/>
                  </a:cubicBezTo>
                  <a:cubicBezTo>
                    <a:pt x="10309" y="15894"/>
                    <a:pt x="11291" y="15894"/>
                    <a:pt x="10309" y="15691"/>
                  </a:cubicBezTo>
                  <a:cubicBezTo>
                    <a:pt x="9818" y="15589"/>
                    <a:pt x="8345" y="15589"/>
                    <a:pt x="10309" y="15487"/>
                  </a:cubicBezTo>
                  <a:cubicBezTo>
                    <a:pt x="12764" y="15385"/>
                    <a:pt x="9818" y="15385"/>
                    <a:pt x="9327" y="15181"/>
                  </a:cubicBezTo>
                  <a:cubicBezTo>
                    <a:pt x="9327" y="14875"/>
                    <a:pt x="9327" y="14468"/>
                    <a:pt x="9327" y="14264"/>
                  </a:cubicBezTo>
                  <a:cubicBezTo>
                    <a:pt x="9327" y="13857"/>
                    <a:pt x="9327" y="13347"/>
                    <a:pt x="9327" y="12940"/>
                  </a:cubicBezTo>
                  <a:cubicBezTo>
                    <a:pt x="9818" y="12634"/>
                    <a:pt x="10309" y="12125"/>
                    <a:pt x="11291" y="11921"/>
                  </a:cubicBezTo>
                  <a:cubicBezTo>
                    <a:pt x="12764" y="11615"/>
                    <a:pt x="11291" y="11106"/>
                    <a:pt x="11291" y="10800"/>
                  </a:cubicBezTo>
                  <a:cubicBezTo>
                    <a:pt x="11291" y="10596"/>
                    <a:pt x="11782" y="10494"/>
                    <a:pt x="12764" y="10392"/>
                  </a:cubicBezTo>
                  <a:cubicBezTo>
                    <a:pt x="13745" y="10189"/>
                    <a:pt x="13255" y="10087"/>
                    <a:pt x="13255" y="9781"/>
                  </a:cubicBezTo>
                  <a:cubicBezTo>
                    <a:pt x="13255" y="9374"/>
                    <a:pt x="14727" y="9068"/>
                    <a:pt x="14236" y="8660"/>
                  </a:cubicBezTo>
                  <a:cubicBezTo>
                    <a:pt x="14236" y="8355"/>
                    <a:pt x="13745" y="8049"/>
                    <a:pt x="13255" y="7743"/>
                  </a:cubicBezTo>
                  <a:cubicBezTo>
                    <a:pt x="13255" y="7642"/>
                    <a:pt x="12764" y="7540"/>
                    <a:pt x="13255" y="7438"/>
                  </a:cubicBezTo>
                  <a:cubicBezTo>
                    <a:pt x="13745" y="7336"/>
                    <a:pt x="14236" y="6928"/>
                    <a:pt x="14236" y="6826"/>
                  </a:cubicBezTo>
                  <a:cubicBezTo>
                    <a:pt x="14236" y="6725"/>
                    <a:pt x="13745" y="6521"/>
                    <a:pt x="14727" y="6317"/>
                  </a:cubicBezTo>
                  <a:cubicBezTo>
                    <a:pt x="15218" y="6215"/>
                    <a:pt x="14727" y="6011"/>
                    <a:pt x="15218" y="5909"/>
                  </a:cubicBezTo>
                  <a:cubicBezTo>
                    <a:pt x="15218" y="5706"/>
                    <a:pt x="16200" y="5604"/>
                    <a:pt x="16691" y="5502"/>
                  </a:cubicBezTo>
                  <a:cubicBezTo>
                    <a:pt x="16691" y="5400"/>
                    <a:pt x="18164" y="5094"/>
                    <a:pt x="18164" y="4992"/>
                  </a:cubicBezTo>
                  <a:cubicBezTo>
                    <a:pt x="18164" y="4891"/>
                    <a:pt x="17673" y="4687"/>
                    <a:pt x="17673" y="4483"/>
                  </a:cubicBezTo>
                  <a:cubicBezTo>
                    <a:pt x="17673" y="4279"/>
                    <a:pt x="17673" y="4177"/>
                    <a:pt x="17673" y="3974"/>
                  </a:cubicBezTo>
                  <a:cubicBezTo>
                    <a:pt x="17673" y="3668"/>
                    <a:pt x="18164" y="3668"/>
                    <a:pt x="19636" y="3566"/>
                  </a:cubicBezTo>
                  <a:cubicBezTo>
                    <a:pt x="21600" y="3464"/>
                    <a:pt x="21600" y="3260"/>
                    <a:pt x="21600" y="2853"/>
                  </a:cubicBezTo>
                  <a:cubicBezTo>
                    <a:pt x="21109" y="2955"/>
                    <a:pt x="20127" y="2955"/>
                    <a:pt x="19636" y="2853"/>
                  </a:cubicBezTo>
                  <a:cubicBezTo>
                    <a:pt x="19636" y="2853"/>
                    <a:pt x="19636" y="2955"/>
                    <a:pt x="19636" y="285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1" name="Shape 1265"/>
            <p:cNvSpPr/>
            <p:nvPr/>
          </p:nvSpPr>
          <p:spPr>
            <a:xfrm>
              <a:off x="6891480" y="4485240"/>
              <a:ext cx="238320" cy="267120"/>
            </a:xfrm>
            <a:custGeom>
              <a:avLst/>
              <a:gdLst/>
              <a:ahLst/>
              <a:rect l="l" t="t" r="r" b="b"/>
              <a:pathLst>
                <a:path w="20322" h="20880">
                  <a:moveTo>
                    <a:pt x="19952" y="12464"/>
                  </a:moveTo>
                  <a:cubicBezTo>
                    <a:pt x="18601" y="11847"/>
                    <a:pt x="18939" y="11538"/>
                    <a:pt x="18939" y="10304"/>
                  </a:cubicBezTo>
                  <a:cubicBezTo>
                    <a:pt x="17926" y="10304"/>
                    <a:pt x="16914" y="10304"/>
                    <a:pt x="16239" y="10304"/>
                  </a:cubicBezTo>
                  <a:cubicBezTo>
                    <a:pt x="15564" y="10304"/>
                    <a:pt x="15901" y="9995"/>
                    <a:pt x="15901" y="9687"/>
                  </a:cubicBezTo>
                  <a:cubicBezTo>
                    <a:pt x="15901" y="9378"/>
                    <a:pt x="15564" y="8761"/>
                    <a:pt x="15226" y="8761"/>
                  </a:cubicBezTo>
                  <a:cubicBezTo>
                    <a:pt x="15226" y="8453"/>
                    <a:pt x="15564" y="8453"/>
                    <a:pt x="15564" y="8144"/>
                  </a:cubicBezTo>
                  <a:cubicBezTo>
                    <a:pt x="15901" y="7835"/>
                    <a:pt x="15564" y="7527"/>
                    <a:pt x="15226" y="7527"/>
                  </a:cubicBezTo>
                  <a:cubicBezTo>
                    <a:pt x="15226" y="7218"/>
                    <a:pt x="15564" y="6910"/>
                    <a:pt x="15226" y="6601"/>
                  </a:cubicBezTo>
                  <a:cubicBezTo>
                    <a:pt x="14551" y="5984"/>
                    <a:pt x="13877" y="5984"/>
                    <a:pt x="13201" y="5984"/>
                  </a:cubicBezTo>
                  <a:cubicBezTo>
                    <a:pt x="12864" y="5984"/>
                    <a:pt x="12189" y="5367"/>
                    <a:pt x="11851" y="5058"/>
                  </a:cubicBezTo>
                  <a:cubicBezTo>
                    <a:pt x="11177" y="5058"/>
                    <a:pt x="10839" y="4441"/>
                    <a:pt x="10501" y="4441"/>
                  </a:cubicBezTo>
                  <a:cubicBezTo>
                    <a:pt x="9826" y="4441"/>
                    <a:pt x="9489" y="4441"/>
                    <a:pt x="9151" y="4441"/>
                  </a:cubicBezTo>
                  <a:cubicBezTo>
                    <a:pt x="8476" y="4441"/>
                    <a:pt x="7126" y="2898"/>
                    <a:pt x="7126" y="2281"/>
                  </a:cubicBezTo>
                  <a:cubicBezTo>
                    <a:pt x="7126" y="1973"/>
                    <a:pt x="7126" y="1664"/>
                    <a:pt x="7126" y="1355"/>
                  </a:cubicBezTo>
                  <a:cubicBezTo>
                    <a:pt x="7126" y="1047"/>
                    <a:pt x="7126" y="1047"/>
                    <a:pt x="7126" y="738"/>
                  </a:cubicBezTo>
                  <a:cubicBezTo>
                    <a:pt x="7126" y="-496"/>
                    <a:pt x="6451" y="121"/>
                    <a:pt x="5439" y="430"/>
                  </a:cubicBezTo>
                  <a:cubicBezTo>
                    <a:pt x="4426" y="430"/>
                    <a:pt x="3751" y="1355"/>
                    <a:pt x="2739" y="1355"/>
                  </a:cubicBezTo>
                  <a:cubicBezTo>
                    <a:pt x="2064" y="1355"/>
                    <a:pt x="2064" y="1973"/>
                    <a:pt x="1726" y="2281"/>
                  </a:cubicBezTo>
                  <a:cubicBezTo>
                    <a:pt x="1389" y="2281"/>
                    <a:pt x="376" y="1973"/>
                    <a:pt x="39" y="1973"/>
                  </a:cubicBezTo>
                  <a:cubicBezTo>
                    <a:pt x="714" y="2281"/>
                    <a:pt x="1051" y="3824"/>
                    <a:pt x="1389" y="4441"/>
                  </a:cubicBezTo>
                  <a:cubicBezTo>
                    <a:pt x="714" y="4750"/>
                    <a:pt x="1051" y="5984"/>
                    <a:pt x="1051" y="6601"/>
                  </a:cubicBezTo>
                  <a:cubicBezTo>
                    <a:pt x="1051" y="7218"/>
                    <a:pt x="1051" y="7527"/>
                    <a:pt x="714" y="7835"/>
                  </a:cubicBezTo>
                  <a:cubicBezTo>
                    <a:pt x="376" y="8144"/>
                    <a:pt x="376" y="8761"/>
                    <a:pt x="376" y="9070"/>
                  </a:cubicBezTo>
                  <a:cubicBezTo>
                    <a:pt x="39" y="9687"/>
                    <a:pt x="1051" y="9687"/>
                    <a:pt x="1051" y="10304"/>
                  </a:cubicBezTo>
                  <a:cubicBezTo>
                    <a:pt x="1051" y="10613"/>
                    <a:pt x="376" y="10921"/>
                    <a:pt x="376" y="11230"/>
                  </a:cubicBezTo>
                  <a:cubicBezTo>
                    <a:pt x="-636" y="12155"/>
                    <a:pt x="714" y="12464"/>
                    <a:pt x="714" y="13698"/>
                  </a:cubicBezTo>
                  <a:cubicBezTo>
                    <a:pt x="714" y="14007"/>
                    <a:pt x="714" y="14315"/>
                    <a:pt x="714" y="14624"/>
                  </a:cubicBezTo>
                  <a:cubicBezTo>
                    <a:pt x="1051" y="14933"/>
                    <a:pt x="1389" y="15241"/>
                    <a:pt x="1726" y="15550"/>
                  </a:cubicBezTo>
                  <a:cubicBezTo>
                    <a:pt x="1726" y="15858"/>
                    <a:pt x="1051" y="15858"/>
                    <a:pt x="1726" y="16167"/>
                  </a:cubicBezTo>
                  <a:cubicBezTo>
                    <a:pt x="1726" y="16167"/>
                    <a:pt x="1389" y="16784"/>
                    <a:pt x="1389" y="16784"/>
                  </a:cubicBezTo>
                  <a:cubicBezTo>
                    <a:pt x="1389" y="17710"/>
                    <a:pt x="2401" y="18327"/>
                    <a:pt x="2401" y="18944"/>
                  </a:cubicBezTo>
                  <a:cubicBezTo>
                    <a:pt x="2739" y="19870"/>
                    <a:pt x="2064" y="20795"/>
                    <a:pt x="3751" y="20795"/>
                  </a:cubicBezTo>
                  <a:cubicBezTo>
                    <a:pt x="4089" y="21104"/>
                    <a:pt x="4089" y="20487"/>
                    <a:pt x="4089" y="20178"/>
                  </a:cubicBezTo>
                  <a:cubicBezTo>
                    <a:pt x="4089" y="19870"/>
                    <a:pt x="4764" y="19561"/>
                    <a:pt x="5101" y="19561"/>
                  </a:cubicBezTo>
                  <a:cubicBezTo>
                    <a:pt x="5439" y="19253"/>
                    <a:pt x="5776" y="18944"/>
                    <a:pt x="6114" y="19561"/>
                  </a:cubicBezTo>
                  <a:cubicBezTo>
                    <a:pt x="6789" y="19870"/>
                    <a:pt x="7464" y="19561"/>
                    <a:pt x="7801" y="19561"/>
                  </a:cubicBezTo>
                  <a:cubicBezTo>
                    <a:pt x="8476" y="19561"/>
                    <a:pt x="8476" y="20487"/>
                    <a:pt x="8814" y="20487"/>
                  </a:cubicBezTo>
                  <a:cubicBezTo>
                    <a:pt x="9151" y="20487"/>
                    <a:pt x="9489" y="19870"/>
                    <a:pt x="9826" y="19561"/>
                  </a:cubicBezTo>
                  <a:cubicBezTo>
                    <a:pt x="10164" y="18944"/>
                    <a:pt x="11514" y="19870"/>
                    <a:pt x="11851" y="19253"/>
                  </a:cubicBezTo>
                  <a:cubicBezTo>
                    <a:pt x="12526" y="17710"/>
                    <a:pt x="12189" y="16167"/>
                    <a:pt x="14214" y="15550"/>
                  </a:cubicBezTo>
                  <a:cubicBezTo>
                    <a:pt x="14889" y="15241"/>
                    <a:pt x="15901" y="15241"/>
                    <a:pt x="16914" y="15241"/>
                  </a:cubicBezTo>
                  <a:cubicBezTo>
                    <a:pt x="17926" y="15241"/>
                    <a:pt x="18601" y="15550"/>
                    <a:pt x="19276" y="16167"/>
                  </a:cubicBezTo>
                  <a:cubicBezTo>
                    <a:pt x="19614" y="15241"/>
                    <a:pt x="20964" y="12773"/>
                    <a:pt x="19952" y="12464"/>
                  </a:cubicBezTo>
                  <a:cubicBezTo>
                    <a:pt x="19614" y="12155"/>
                    <a:pt x="20289" y="12464"/>
                    <a:pt x="19952" y="1246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2" name="Shape 1266"/>
            <p:cNvSpPr/>
            <p:nvPr/>
          </p:nvSpPr>
          <p:spPr>
            <a:xfrm>
              <a:off x="7029360" y="4678200"/>
              <a:ext cx="165600" cy="172800"/>
            </a:xfrm>
            <a:custGeom>
              <a:avLst/>
              <a:gdLst/>
              <a:ahLst/>
              <a:rect l="l" t="t" r="r" b="b"/>
              <a:pathLst>
                <a:path w="20126" h="21302">
                  <a:moveTo>
                    <a:pt x="18919" y="11484"/>
                  </a:moveTo>
                  <a:cubicBezTo>
                    <a:pt x="18439" y="11975"/>
                    <a:pt x="17479" y="12466"/>
                    <a:pt x="16999" y="11484"/>
                  </a:cubicBezTo>
                  <a:cubicBezTo>
                    <a:pt x="16519" y="10993"/>
                    <a:pt x="17479" y="10502"/>
                    <a:pt x="16999" y="9520"/>
                  </a:cubicBezTo>
                  <a:cubicBezTo>
                    <a:pt x="16519" y="9029"/>
                    <a:pt x="16519" y="8538"/>
                    <a:pt x="16039" y="8047"/>
                  </a:cubicBezTo>
                  <a:cubicBezTo>
                    <a:pt x="14599" y="7066"/>
                    <a:pt x="14599" y="8047"/>
                    <a:pt x="13639" y="7557"/>
                  </a:cubicBezTo>
                  <a:cubicBezTo>
                    <a:pt x="13159" y="7557"/>
                    <a:pt x="12679" y="7557"/>
                    <a:pt x="11719" y="7066"/>
                  </a:cubicBezTo>
                  <a:cubicBezTo>
                    <a:pt x="10759" y="7066"/>
                    <a:pt x="11239" y="6084"/>
                    <a:pt x="11719" y="5593"/>
                  </a:cubicBezTo>
                  <a:cubicBezTo>
                    <a:pt x="11719" y="4611"/>
                    <a:pt x="11239" y="3629"/>
                    <a:pt x="11239" y="3138"/>
                  </a:cubicBezTo>
                  <a:cubicBezTo>
                    <a:pt x="10759" y="1666"/>
                    <a:pt x="11239" y="1666"/>
                    <a:pt x="9799" y="1175"/>
                  </a:cubicBezTo>
                  <a:cubicBezTo>
                    <a:pt x="8839" y="193"/>
                    <a:pt x="8359" y="-298"/>
                    <a:pt x="6439" y="193"/>
                  </a:cubicBezTo>
                  <a:cubicBezTo>
                    <a:pt x="4999" y="193"/>
                    <a:pt x="3079" y="684"/>
                    <a:pt x="2119" y="1175"/>
                  </a:cubicBezTo>
                  <a:cubicBezTo>
                    <a:pt x="679" y="2647"/>
                    <a:pt x="1159" y="3629"/>
                    <a:pt x="679" y="5102"/>
                  </a:cubicBezTo>
                  <a:cubicBezTo>
                    <a:pt x="679" y="5593"/>
                    <a:pt x="199" y="6084"/>
                    <a:pt x="199" y="6575"/>
                  </a:cubicBezTo>
                  <a:cubicBezTo>
                    <a:pt x="-281" y="7066"/>
                    <a:pt x="199" y="7066"/>
                    <a:pt x="679" y="8047"/>
                  </a:cubicBezTo>
                  <a:cubicBezTo>
                    <a:pt x="1639" y="9520"/>
                    <a:pt x="2599" y="10011"/>
                    <a:pt x="4039" y="11484"/>
                  </a:cubicBezTo>
                  <a:cubicBezTo>
                    <a:pt x="4519" y="11975"/>
                    <a:pt x="5479" y="11975"/>
                    <a:pt x="5959" y="11975"/>
                  </a:cubicBezTo>
                  <a:cubicBezTo>
                    <a:pt x="6919" y="11975"/>
                    <a:pt x="7399" y="12466"/>
                    <a:pt x="7879" y="12957"/>
                  </a:cubicBezTo>
                  <a:cubicBezTo>
                    <a:pt x="8839" y="13447"/>
                    <a:pt x="12679" y="14920"/>
                    <a:pt x="11719" y="16884"/>
                  </a:cubicBezTo>
                  <a:cubicBezTo>
                    <a:pt x="11239" y="17375"/>
                    <a:pt x="10279" y="17866"/>
                    <a:pt x="10279" y="18847"/>
                  </a:cubicBezTo>
                  <a:cubicBezTo>
                    <a:pt x="10279" y="19829"/>
                    <a:pt x="10279" y="19829"/>
                    <a:pt x="9319" y="20320"/>
                  </a:cubicBezTo>
                  <a:cubicBezTo>
                    <a:pt x="8839" y="21302"/>
                    <a:pt x="12679" y="20811"/>
                    <a:pt x="13159" y="21302"/>
                  </a:cubicBezTo>
                  <a:cubicBezTo>
                    <a:pt x="14119" y="21302"/>
                    <a:pt x="14119" y="21302"/>
                    <a:pt x="15079" y="20811"/>
                  </a:cubicBezTo>
                  <a:cubicBezTo>
                    <a:pt x="15559" y="19829"/>
                    <a:pt x="16999" y="20811"/>
                    <a:pt x="17479" y="20320"/>
                  </a:cubicBezTo>
                  <a:cubicBezTo>
                    <a:pt x="17959" y="19829"/>
                    <a:pt x="18439" y="19338"/>
                    <a:pt x="18919" y="18847"/>
                  </a:cubicBezTo>
                  <a:cubicBezTo>
                    <a:pt x="19399" y="17866"/>
                    <a:pt x="18919" y="16884"/>
                    <a:pt x="19399" y="16393"/>
                  </a:cubicBezTo>
                  <a:cubicBezTo>
                    <a:pt x="19399" y="15411"/>
                    <a:pt x="21319" y="11484"/>
                    <a:pt x="18919" y="11484"/>
                  </a:cubicBezTo>
                  <a:cubicBezTo>
                    <a:pt x="18919" y="11975"/>
                    <a:pt x="19399" y="11484"/>
                    <a:pt x="18919" y="1148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3" name="Shape 1267"/>
            <p:cNvSpPr/>
            <p:nvPr/>
          </p:nvSpPr>
          <p:spPr>
            <a:xfrm>
              <a:off x="6806160" y="4192200"/>
              <a:ext cx="773640" cy="793440"/>
            </a:xfrm>
            <a:custGeom>
              <a:avLst/>
              <a:gdLst/>
              <a:ahLst/>
              <a:rect l="l" t="t" r="r" b="b"/>
              <a:pathLst>
                <a:path w="21266" h="21514">
                  <a:moveTo>
                    <a:pt x="21153" y="6039"/>
                  </a:moveTo>
                  <a:cubicBezTo>
                    <a:pt x="21045" y="5824"/>
                    <a:pt x="21045" y="5610"/>
                    <a:pt x="20936" y="5502"/>
                  </a:cubicBezTo>
                  <a:cubicBezTo>
                    <a:pt x="20719" y="5395"/>
                    <a:pt x="20394" y="5502"/>
                    <a:pt x="20285" y="5395"/>
                  </a:cubicBezTo>
                  <a:cubicBezTo>
                    <a:pt x="19742" y="5287"/>
                    <a:pt x="19417" y="4857"/>
                    <a:pt x="19091" y="4642"/>
                  </a:cubicBezTo>
                  <a:cubicBezTo>
                    <a:pt x="18874" y="4535"/>
                    <a:pt x="18657" y="4427"/>
                    <a:pt x="18548" y="4320"/>
                  </a:cubicBezTo>
                  <a:cubicBezTo>
                    <a:pt x="18223" y="4213"/>
                    <a:pt x="18114" y="4320"/>
                    <a:pt x="17789" y="4320"/>
                  </a:cubicBezTo>
                  <a:cubicBezTo>
                    <a:pt x="17354" y="4427"/>
                    <a:pt x="16920" y="3890"/>
                    <a:pt x="16486" y="4105"/>
                  </a:cubicBezTo>
                  <a:cubicBezTo>
                    <a:pt x="16160" y="4213"/>
                    <a:pt x="15835" y="3675"/>
                    <a:pt x="15618" y="3568"/>
                  </a:cubicBezTo>
                  <a:cubicBezTo>
                    <a:pt x="15292" y="3353"/>
                    <a:pt x="14858" y="3138"/>
                    <a:pt x="14532" y="3138"/>
                  </a:cubicBezTo>
                  <a:cubicBezTo>
                    <a:pt x="14315" y="3030"/>
                    <a:pt x="14098" y="3030"/>
                    <a:pt x="13990" y="3138"/>
                  </a:cubicBezTo>
                  <a:cubicBezTo>
                    <a:pt x="13881" y="3460"/>
                    <a:pt x="13555" y="3568"/>
                    <a:pt x="13447" y="3783"/>
                  </a:cubicBezTo>
                  <a:cubicBezTo>
                    <a:pt x="13230" y="4105"/>
                    <a:pt x="13338" y="3998"/>
                    <a:pt x="13121" y="3783"/>
                  </a:cubicBezTo>
                  <a:cubicBezTo>
                    <a:pt x="13121" y="3783"/>
                    <a:pt x="13013" y="3675"/>
                    <a:pt x="13013" y="3675"/>
                  </a:cubicBezTo>
                  <a:cubicBezTo>
                    <a:pt x="12796" y="3568"/>
                    <a:pt x="12904" y="3783"/>
                    <a:pt x="12796" y="3890"/>
                  </a:cubicBezTo>
                  <a:cubicBezTo>
                    <a:pt x="12687" y="3998"/>
                    <a:pt x="12361" y="3030"/>
                    <a:pt x="12470" y="3030"/>
                  </a:cubicBezTo>
                  <a:cubicBezTo>
                    <a:pt x="12470" y="3030"/>
                    <a:pt x="12144" y="3460"/>
                    <a:pt x="12036" y="3460"/>
                  </a:cubicBezTo>
                  <a:cubicBezTo>
                    <a:pt x="12036" y="3460"/>
                    <a:pt x="12470" y="3138"/>
                    <a:pt x="12361" y="3030"/>
                  </a:cubicBezTo>
                  <a:cubicBezTo>
                    <a:pt x="12144" y="2923"/>
                    <a:pt x="12144" y="3460"/>
                    <a:pt x="11927" y="3460"/>
                  </a:cubicBezTo>
                  <a:cubicBezTo>
                    <a:pt x="11927" y="3460"/>
                    <a:pt x="12361" y="2815"/>
                    <a:pt x="12361" y="2708"/>
                  </a:cubicBezTo>
                  <a:cubicBezTo>
                    <a:pt x="12361" y="2601"/>
                    <a:pt x="12578" y="2601"/>
                    <a:pt x="12578" y="2493"/>
                  </a:cubicBezTo>
                  <a:cubicBezTo>
                    <a:pt x="12687" y="2386"/>
                    <a:pt x="12796" y="2601"/>
                    <a:pt x="12904" y="2386"/>
                  </a:cubicBezTo>
                  <a:cubicBezTo>
                    <a:pt x="13013" y="2278"/>
                    <a:pt x="12904" y="2278"/>
                    <a:pt x="12904" y="2063"/>
                  </a:cubicBezTo>
                  <a:cubicBezTo>
                    <a:pt x="13013" y="1956"/>
                    <a:pt x="13013" y="1741"/>
                    <a:pt x="12796" y="1633"/>
                  </a:cubicBezTo>
                  <a:cubicBezTo>
                    <a:pt x="12470" y="1526"/>
                    <a:pt x="12470" y="1096"/>
                    <a:pt x="12470" y="774"/>
                  </a:cubicBezTo>
                  <a:cubicBezTo>
                    <a:pt x="12470" y="666"/>
                    <a:pt x="12361" y="559"/>
                    <a:pt x="12253" y="451"/>
                  </a:cubicBezTo>
                  <a:cubicBezTo>
                    <a:pt x="12144" y="344"/>
                    <a:pt x="12036" y="666"/>
                    <a:pt x="11927" y="774"/>
                  </a:cubicBezTo>
                  <a:cubicBezTo>
                    <a:pt x="11819" y="1096"/>
                    <a:pt x="11602" y="1526"/>
                    <a:pt x="11276" y="1526"/>
                  </a:cubicBezTo>
                  <a:cubicBezTo>
                    <a:pt x="11167" y="1526"/>
                    <a:pt x="11059" y="1418"/>
                    <a:pt x="10842" y="1418"/>
                  </a:cubicBezTo>
                  <a:cubicBezTo>
                    <a:pt x="10733" y="1418"/>
                    <a:pt x="10625" y="1526"/>
                    <a:pt x="10516" y="1418"/>
                  </a:cubicBezTo>
                  <a:cubicBezTo>
                    <a:pt x="10299" y="1311"/>
                    <a:pt x="10191" y="1418"/>
                    <a:pt x="9973" y="1418"/>
                  </a:cubicBezTo>
                  <a:cubicBezTo>
                    <a:pt x="9756" y="1418"/>
                    <a:pt x="9865" y="1418"/>
                    <a:pt x="9756" y="1633"/>
                  </a:cubicBezTo>
                  <a:cubicBezTo>
                    <a:pt x="9648" y="1741"/>
                    <a:pt x="9105" y="1633"/>
                    <a:pt x="8997" y="1741"/>
                  </a:cubicBezTo>
                  <a:cubicBezTo>
                    <a:pt x="8780" y="1741"/>
                    <a:pt x="8454" y="1956"/>
                    <a:pt x="8237" y="1956"/>
                  </a:cubicBezTo>
                  <a:cubicBezTo>
                    <a:pt x="7911" y="1956"/>
                    <a:pt x="7694" y="1526"/>
                    <a:pt x="7694" y="1311"/>
                  </a:cubicBezTo>
                  <a:cubicBezTo>
                    <a:pt x="7477" y="989"/>
                    <a:pt x="7911" y="774"/>
                    <a:pt x="7803" y="451"/>
                  </a:cubicBezTo>
                  <a:cubicBezTo>
                    <a:pt x="7694" y="236"/>
                    <a:pt x="7586" y="-86"/>
                    <a:pt x="7368" y="21"/>
                  </a:cubicBezTo>
                  <a:cubicBezTo>
                    <a:pt x="7368" y="129"/>
                    <a:pt x="6609" y="451"/>
                    <a:pt x="6500" y="451"/>
                  </a:cubicBezTo>
                  <a:cubicBezTo>
                    <a:pt x="6392" y="451"/>
                    <a:pt x="6174" y="451"/>
                    <a:pt x="6174" y="559"/>
                  </a:cubicBezTo>
                  <a:cubicBezTo>
                    <a:pt x="6066" y="559"/>
                    <a:pt x="6066" y="881"/>
                    <a:pt x="5957" y="666"/>
                  </a:cubicBezTo>
                  <a:cubicBezTo>
                    <a:pt x="5849" y="559"/>
                    <a:pt x="4981" y="451"/>
                    <a:pt x="4981" y="559"/>
                  </a:cubicBezTo>
                  <a:cubicBezTo>
                    <a:pt x="4981" y="559"/>
                    <a:pt x="5198" y="666"/>
                    <a:pt x="5198" y="666"/>
                  </a:cubicBezTo>
                  <a:cubicBezTo>
                    <a:pt x="5306" y="774"/>
                    <a:pt x="5306" y="881"/>
                    <a:pt x="5306" y="1096"/>
                  </a:cubicBezTo>
                  <a:cubicBezTo>
                    <a:pt x="5415" y="1096"/>
                    <a:pt x="5415" y="1311"/>
                    <a:pt x="5523" y="1418"/>
                  </a:cubicBezTo>
                  <a:cubicBezTo>
                    <a:pt x="5523" y="1418"/>
                    <a:pt x="5740" y="1418"/>
                    <a:pt x="5740" y="1418"/>
                  </a:cubicBezTo>
                  <a:cubicBezTo>
                    <a:pt x="5740" y="1526"/>
                    <a:pt x="5523" y="1633"/>
                    <a:pt x="5415" y="1633"/>
                  </a:cubicBezTo>
                  <a:cubicBezTo>
                    <a:pt x="5306" y="1741"/>
                    <a:pt x="5306" y="1848"/>
                    <a:pt x="5198" y="1956"/>
                  </a:cubicBezTo>
                  <a:cubicBezTo>
                    <a:pt x="5198" y="1956"/>
                    <a:pt x="4655" y="2386"/>
                    <a:pt x="4546" y="2278"/>
                  </a:cubicBezTo>
                  <a:cubicBezTo>
                    <a:pt x="4546" y="2171"/>
                    <a:pt x="4438" y="2171"/>
                    <a:pt x="4329" y="2278"/>
                  </a:cubicBezTo>
                  <a:cubicBezTo>
                    <a:pt x="4221" y="2386"/>
                    <a:pt x="4004" y="2171"/>
                    <a:pt x="4004" y="2171"/>
                  </a:cubicBezTo>
                  <a:cubicBezTo>
                    <a:pt x="3787" y="2063"/>
                    <a:pt x="3678" y="1633"/>
                    <a:pt x="3569" y="1633"/>
                  </a:cubicBezTo>
                  <a:cubicBezTo>
                    <a:pt x="3352" y="1526"/>
                    <a:pt x="3027" y="1848"/>
                    <a:pt x="2810" y="1848"/>
                  </a:cubicBezTo>
                  <a:cubicBezTo>
                    <a:pt x="2593" y="1848"/>
                    <a:pt x="2375" y="1848"/>
                    <a:pt x="2158" y="1848"/>
                  </a:cubicBezTo>
                  <a:cubicBezTo>
                    <a:pt x="2158" y="1848"/>
                    <a:pt x="2158" y="2063"/>
                    <a:pt x="2267" y="2063"/>
                  </a:cubicBezTo>
                  <a:cubicBezTo>
                    <a:pt x="2267" y="2171"/>
                    <a:pt x="2484" y="2171"/>
                    <a:pt x="2593" y="2171"/>
                  </a:cubicBezTo>
                  <a:cubicBezTo>
                    <a:pt x="2593" y="2278"/>
                    <a:pt x="2158" y="2386"/>
                    <a:pt x="2050" y="2386"/>
                  </a:cubicBezTo>
                  <a:cubicBezTo>
                    <a:pt x="1941" y="2493"/>
                    <a:pt x="2158" y="2815"/>
                    <a:pt x="2267" y="2923"/>
                  </a:cubicBezTo>
                  <a:cubicBezTo>
                    <a:pt x="2484" y="3353"/>
                    <a:pt x="2484" y="3675"/>
                    <a:pt x="2267" y="4105"/>
                  </a:cubicBezTo>
                  <a:cubicBezTo>
                    <a:pt x="2267" y="4320"/>
                    <a:pt x="2267" y="4965"/>
                    <a:pt x="2050" y="4965"/>
                  </a:cubicBezTo>
                  <a:cubicBezTo>
                    <a:pt x="1941" y="5072"/>
                    <a:pt x="1724" y="4965"/>
                    <a:pt x="1507" y="5072"/>
                  </a:cubicBezTo>
                  <a:cubicBezTo>
                    <a:pt x="1399" y="5180"/>
                    <a:pt x="1073" y="5180"/>
                    <a:pt x="964" y="5180"/>
                  </a:cubicBezTo>
                  <a:cubicBezTo>
                    <a:pt x="422" y="5395"/>
                    <a:pt x="422" y="5610"/>
                    <a:pt x="422" y="6039"/>
                  </a:cubicBezTo>
                  <a:cubicBezTo>
                    <a:pt x="422" y="6254"/>
                    <a:pt x="96" y="6254"/>
                    <a:pt x="96" y="6362"/>
                  </a:cubicBezTo>
                  <a:cubicBezTo>
                    <a:pt x="96" y="6684"/>
                    <a:pt x="-121" y="6792"/>
                    <a:pt x="96" y="7007"/>
                  </a:cubicBezTo>
                  <a:cubicBezTo>
                    <a:pt x="313" y="7221"/>
                    <a:pt x="313" y="7436"/>
                    <a:pt x="422" y="7651"/>
                  </a:cubicBezTo>
                  <a:cubicBezTo>
                    <a:pt x="422" y="7759"/>
                    <a:pt x="530" y="7759"/>
                    <a:pt x="639" y="7759"/>
                  </a:cubicBezTo>
                  <a:cubicBezTo>
                    <a:pt x="747" y="7759"/>
                    <a:pt x="747" y="7866"/>
                    <a:pt x="856" y="7974"/>
                  </a:cubicBezTo>
                  <a:cubicBezTo>
                    <a:pt x="1073" y="8296"/>
                    <a:pt x="1616" y="7974"/>
                    <a:pt x="1833" y="7759"/>
                  </a:cubicBezTo>
                  <a:cubicBezTo>
                    <a:pt x="1833" y="8081"/>
                    <a:pt x="1616" y="8618"/>
                    <a:pt x="1941" y="8726"/>
                  </a:cubicBezTo>
                  <a:cubicBezTo>
                    <a:pt x="2050" y="8726"/>
                    <a:pt x="2375" y="8618"/>
                    <a:pt x="2484" y="8618"/>
                  </a:cubicBezTo>
                  <a:cubicBezTo>
                    <a:pt x="2810" y="8726"/>
                    <a:pt x="2918" y="8726"/>
                    <a:pt x="3135" y="8511"/>
                  </a:cubicBezTo>
                  <a:cubicBezTo>
                    <a:pt x="3135" y="8404"/>
                    <a:pt x="3352" y="8404"/>
                    <a:pt x="3461" y="8404"/>
                  </a:cubicBezTo>
                  <a:cubicBezTo>
                    <a:pt x="3678" y="8189"/>
                    <a:pt x="3895" y="8081"/>
                    <a:pt x="4112" y="8081"/>
                  </a:cubicBezTo>
                  <a:cubicBezTo>
                    <a:pt x="4329" y="7974"/>
                    <a:pt x="4872" y="7759"/>
                    <a:pt x="4655" y="8189"/>
                  </a:cubicBezTo>
                  <a:cubicBezTo>
                    <a:pt x="4655" y="8404"/>
                    <a:pt x="4546" y="8618"/>
                    <a:pt x="4655" y="8833"/>
                  </a:cubicBezTo>
                  <a:cubicBezTo>
                    <a:pt x="4763" y="9048"/>
                    <a:pt x="4981" y="9263"/>
                    <a:pt x="5198" y="9371"/>
                  </a:cubicBezTo>
                  <a:cubicBezTo>
                    <a:pt x="5415" y="9586"/>
                    <a:pt x="5740" y="9478"/>
                    <a:pt x="5957" y="9586"/>
                  </a:cubicBezTo>
                  <a:cubicBezTo>
                    <a:pt x="6066" y="9693"/>
                    <a:pt x="6174" y="9801"/>
                    <a:pt x="6283" y="9801"/>
                  </a:cubicBezTo>
                  <a:cubicBezTo>
                    <a:pt x="6392" y="9801"/>
                    <a:pt x="6500" y="9908"/>
                    <a:pt x="6500" y="10015"/>
                  </a:cubicBezTo>
                  <a:cubicBezTo>
                    <a:pt x="6717" y="10015"/>
                    <a:pt x="7260" y="9908"/>
                    <a:pt x="7260" y="10230"/>
                  </a:cubicBezTo>
                  <a:cubicBezTo>
                    <a:pt x="7368" y="10445"/>
                    <a:pt x="7260" y="10445"/>
                    <a:pt x="7368" y="10660"/>
                  </a:cubicBezTo>
                  <a:cubicBezTo>
                    <a:pt x="7477" y="10768"/>
                    <a:pt x="7368" y="10768"/>
                    <a:pt x="7260" y="10875"/>
                  </a:cubicBezTo>
                  <a:cubicBezTo>
                    <a:pt x="7260" y="10875"/>
                    <a:pt x="7477" y="11413"/>
                    <a:pt x="7477" y="11520"/>
                  </a:cubicBezTo>
                  <a:cubicBezTo>
                    <a:pt x="7477" y="11627"/>
                    <a:pt x="8345" y="11520"/>
                    <a:pt x="8454" y="11520"/>
                  </a:cubicBezTo>
                  <a:cubicBezTo>
                    <a:pt x="8454" y="11735"/>
                    <a:pt x="8345" y="12057"/>
                    <a:pt x="8562" y="12165"/>
                  </a:cubicBezTo>
                  <a:cubicBezTo>
                    <a:pt x="8888" y="12380"/>
                    <a:pt x="8888" y="12595"/>
                    <a:pt x="8780" y="13024"/>
                  </a:cubicBezTo>
                  <a:cubicBezTo>
                    <a:pt x="8671" y="13239"/>
                    <a:pt x="8562" y="13562"/>
                    <a:pt x="8671" y="13884"/>
                  </a:cubicBezTo>
                  <a:cubicBezTo>
                    <a:pt x="8671" y="13992"/>
                    <a:pt x="8780" y="14207"/>
                    <a:pt x="8780" y="14421"/>
                  </a:cubicBezTo>
                  <a:cubicBezTo>
                    <a:pt x="8780" y="14529"/>
                    <a:pt x="8562" y="14744"/>
                    <a:pt x="8780" y="14744"/>
                  </a:cubicBezTo>
                  <a:cubicBezTo>
                    <a:pt x="8888" y="14851"/>
                    <a:pt x="9214" y="14959"/>
                    <a:pt x="9431" y="14851"/>
                  </a:cubicBezTo>
                  <a:cubicBezTo>
                    <a:pt x="9648" y="14636"/>
                    <a:pt x="10082" y="15389"/>
                    <a:pt x="9973" y="15496"/>
                  </a:cubicBezTo>
                  <a:cubicBezTo>
                    <a:pt x="9973" y="15604"/>
                    <a:pt x="9973" y="15711"/>
                    <a:pt x="10082" y="15818"/>
                  </a:cubicBezTo>
                  <a:cubicBezTo>
                    <a:pt x="10191" y="15926"/>
                    <a:pt x="10408" y="15711"/>
                    <a:pt x="10516" y="15818"/>
                  </a:cubicBezTo>
                  <a:cubicBezTo>
                    <a:pt x="10950" y="16033"/>
                    <a:pt x="10516" y="16463"/>
                    <a:pt x="10516" y="16786"/>
                  </a:cubicBezTo>
                  <a:cubicBezTo>
                    <a:pt x="10733" y="16463"/>
                    <a:pt x="10950" y="17108"/>
                    <a:pt x="10950" y="17108"/>
                  </a:cubicBezTo>
                  <a:cubicBezTo>
                    <a:pt x="11059" y="17538"/>
                    <a:pt x="10842" y="17645"/>
                    <a:pt x="10516" y="17753"/>
                  </a:cubicBezTo>
                  <a:cubicBezTo>
                    <a:pt x="10082" y="17968"/>
                    <a:pt x="9865" y="18183"/>
                    <a:pt x="9648" y="18505"/>
                  </a:cubicBezTo>
                  <a:cubicBezTo>
                    <a:pt x="9539" y="18720"/>
                    <a:pt x="9431" y="18827"/>
                    <a:pt x="9214" y="18935"/>
                  </a:cubicBezTo>
                  <a:cubicBezTo>
                    <a:pt x="9105" y="19150"/>
                    <a:pt x="8888" y="19257"/>
                    <a:pt x="8671" y="19472"/>
                  </a:cubicBezTo>
                  <a:cubicBezTo>
                    <a:pt x="8888" y="19472"/>
                    <a:pt x="9105" y="19365"/>
                    <a:pt x="9214" y="19365"/>
                  </a:cubicBezTo>
                  <a:cubicBezTo>
                    <a:pt x="9322" y="19365"/>
                    <a:pt x="9431" y="19580"/>
                    <a:pt x="9539" y="19580"/>
                  </a:cubicBezTo>
                  <a:cubicBezTo>
                    <a:pt x="9539" y="19687"/>
                    <a:pt x="9648" y="19795"/>
                    <a:pt x="9756" y="19902"/>
                  </a:cubicBezTo>
                  <a:cubicBezTo>
                    <a:pt x="9865" y="20010"/>
                    <a:pt x="9973" y="19902"/>
                    <a:pt x="10082" y="20010"/>
                  </a:cubicBezTo>
                  <a:cubicBezTo>
                    <a:pt x="10299" y="20224"/>
                    <a:pt x="10733" y="20332"/>
                    <a:pt x="10842" y="20654"/>
                  </a:cubicBezTo>
                  <a:cubicBezTo>
                    <a:pt x="10950" y="20869"/>
                    <a:pt x="11059" y="21299"/>
                    <a:pt x="11167" y="21514"/>
                  </a:cubicBezTo>
                  <a:cubicBezTo>
                    <a:pt x="11276" y="21407"/>
                    <a:pt x="11385" y="21299"/>
                    <a:pt x="11493" y="21084"/>
                  </a:cubicBezTo>
                  <a:cubicBezTo>
                    <a:pt x="11493" y="20977"/>
                    <a:pt x="11602" y="20762"/>
                    <a:pt x="11710" y="20654"/>
                  </a:cubicBezTo>
                  <a:cubicBezTo>
                    <a:pt x="11819" y="20332"/>
                    <a:pt x="12144" y="20224"/>
                    <a:pt x="12470" y="20010"/>
                  </a:cubicBezTo>
                  <a:cubicBezTo>
                    <a:pt x="12687" y="19795"/>
                    <a:pt x="12687" y="19580"/>
                    <a:pt x="12796" y="19257"/>
                  </a:cubicBezTo>
                  <a:cubicBezTo>
                    <a:pt x="13013" y="18827"/>
                    <a:pt x="13338" y="18720"/>
                    <a:pt x="13555" y="18398"/>
                  </a:cubicBezTo>
                  <a:cubicBezTo>
                    <a:pt x="13881" y="18075"/>
                    <a:pt x="13555" y="17645"/>
                    <a:pt x="13664" y="17215"/>
                  </a:cubicBezTo>
                  <a:cubicBezTo>
                    <a:pt x="13772" y="17108"/>
                    <a:pt x="13772" y="17001"/>
                    <a:pt x="13772" y="16786"/>
                  </a:cubicBezTo>
                  <a:cubicBezTo>
                    <a:pt x="13772" y="16678"/>
                    <a:pt x="13772" y="16678"/>
                    <a:pt x="13881" y="16678"/>
                  </a:cubicBezTo>
                  <a:cubicBezTo>
                    <a:pt x="14098" y="16571"/>
                    <a:pt x="14207" y="16356"/>
                    <a:pt x="14315" y="16248"/>
                  </a:cubicBezTo>
                  <a:cubicBezTo>
                    <a:pt x="14424" y="16141"/>
                    <a:pt x="14532" y="16033"/>
                    <a:pt x="14749" y="15926"/>
                  </a:cubicBezTo>
                  <a:cubicBezTo>
                    <a:pt x="14858" y="15926"/>
                    <a:pt x="14966" y="15818"/>
                    <a:pt x="15184" y="15711"/>
                  </a:cubicBezTo>
                  <a:cubicBezTo>
                    <a:pt x="15292" y="15711"/>
                    <a:pt x="15401" y="15818"/>
                    <a:pt x="15509" y="15818"/>
                  </a:cubicBezTo>
                  <a:cubicBezTo>
                    <a:pt x="15618" y="15818"/>
                    <a:pt x="15509" y="15711"/>
                    <a:pt x="15509" y="15711"/>
                  </a:cubicBezTo>
                  <a:cubicBezTo>
                    <a:pt x="15401" y="15604"/>
                    <a:pt x="15835" y="15496"/>
                    <a:pt x="15835" y="15496"/>
                  </a:cubicBezTo>
                  <a:cubicBezTo>
                    <a:pt x="15835" y="15496"/>
                    <a:pt x="16052" y="15174"/>
                    <a:pt x="16052" y="15281"/>
                  </a:cubicBezTo>
                  <a:cubicBezTo>
                    <a:pt x="16160" y="15389"/>
                    <a:pt x="16703" y="15174"/>
                    <a:pt x="16703" y="15174"/>
                  </a:cubicBezTo>
                  <a:cubicBezTo>
                    <a:pt x="16812" y="15174"/>
                    <a:pt x="16703" y="15281"/>
                    <a:pt x="16812" y="15281"/>
                  </a:cubicBezTo>
                  <a:cubicBezTo>
                    <a:pt x="16920" y="15281"/>
                    <a:pt x="17246" y="15281"/>
                    <a:pt x="17354" y="15174"/>
                  </a:cubicBezTo>
                  <a:cubicBezTo>
                    <a:pt x="17463" y="15066"/>
                    <a:pt x="17463" y="14959"/>
                    <a:pt x="17571" y="14851"/>
                  </a:cubicBezTo>
                  <a:cubicBezTo>
                    <a:pt x="17680" y="14851"/>
                    <a:pt x="17789" y="14744"/>
                    <a:pt x="17789" y="14636"/>
                  </a:cubicBezTo>
                  <a:cubicBezTo>
                    <a:pt x="17897" y="14529"/>
                    <a:pt x="17789" y="14314"/>
                    <a:pt x="17897" y="14207"/>
                  </a:cubicBezTo>
                  <a:cubicBezTo>
                    <a:pt x="18006" y="14099"/>
                    <a:pt x="18114" y="13992"/>
                    <a:pt x="18223" y="13884"/>
                  </a:cubicBezTo>
                  <a:cubicBezTo>
                    <a:pt x="18440" y="13562"/>
                    <a:pt x="18548" y="13454"/>
                    <a:pt x="18548" y="13132"/>
                  </a:cubicBezTo>
                  <a:cubicBezTo>
                    <a:pt x="18548" y="12917"/>
                    <a:pt x="18548" y="12810"/>
                    <a:pt x="18657" y="12595"/>
                  </a:cubicBezTo>
                  <a:cubicBezTo>
                    <a:pt x="18657" y="12487"/>
                    <a:pt x="18765" y="12487"/>
                    <a:pt x="18874" y="12380"/>
                  </a:cubicBezTo>
                  <a:cubicBezTo>
                    <a:pt x="18983" y="12272"/>
                    <a:pt x="18874" y="12057"/>
                    <a:pt x="18874" y="11950"/>
                  </a:cubicBezTo>
                  <a:cubicBezTo>
                    <a:pt x="18874" y="11735"/>
                    <a:pt x="18983" y="11627"/>
                    <a:pt x="18983" y="11413"/>
                  </a:cubicBezTo>
                  <a:cubicBezTo>
                    <a:pt x="19091" y="11090"/>
                    <a:pt x="18983" y="10768"/>
                    <a:pt x="18983" y="10445"/>
                  </a:cubicBezTo>
                  <a:cubicBezTo>
                    <a:pt x="18983" y="10230"/>
                    <a:pt x="18874" y="10015"/>
                    <a:pt x="18983" y="9908"/>
                  </a:cubicBezTo>
                  <a:cubicBezTo>
                    <a:pt x="19091" y="9693"/>
                    <a:pt x="18983" y="9801"/>
                    <a:pt x="18983" y="9586"/>
                  </a:cubicBezTo>
                  <a:cubicBezTo>
                    <a:pt x="18983" y="9586"/>
                    <a:pt x="19200" y="9693"/>
                    <a:pt x="19200" y="9693"/>
                  </a:cubicBezTo>
                  <a:cubicBezTo>
                    <a:pt x="19200" y="9693"/>
                    <a:pt x="19200" y="9586"/>
                    <a:pt x="19200" y="9586"/>
                  </a:cubicBezTo>
                  <a:cubicBezTo>
                    <a:pt x="19200" y="9586"/>
                    <a:pt x="19308" y="9586"/>
                    <a:pt x="19308" y="9586"/>
                  </a:cubicBezTo>
                  <a:cubicBezTo>
                    <a:pt x="19525" y="9586"/>
                    <a:pt x="19634" y="9263"/>
                    <a:pt x="19634" y="9156"/>
                  </a:cubicBezTo>
                  <a:cubicBezTo>
                    <a:pt x="19742" y="9048"/>
                    <a:pt x="19851" y="8833"/>
                    <a:pt x="19959" y="8618"/>
                  </a:cubicBezTo>
                  <a:cubicBezTo>
                    <a:pt x="20176" y="8404"/>
                    <a:pt x="20394" y="8404"/>
                    <a:pt x="20502" y="8189"/>
                  </a:cubicBezTo>
                  <a:cubicBezTo>
                    <a:pt x="21045" y="7544"/>
                    <a:pt x="21479" y="6792"/>
                    <a:pt x="21153" y="6039"/>
                  </a:cubicBezTo>
                  <a:cubicBezTo>
                    <a:pt x="20936" y="5610"/>
                    <a:pt x="21370" y="6362"/>
                    <a:pt x="21153" y="6039"/>
                  </a:cubicBezTo>
                  <a:close/>
                  <a:moveTo>
                    <a:pt x="12361" y="19902"/>
                  </a:moveTo>
                  <a:cubicBezTo>
                    <a:pt x="12144" y="20010"/>
                    <a:pt x="12036" y="20224"/>
                    <a:pt x="11819" y="20332"/>
                  </a:cubicBezTo>
                  <a:cubicBezTo>
                    <a:pt x="11493" y="20439"/>
                    <a:pt x="12036" y="20117"/>
                    <a:pt x="12036" y="20010"/>
                  </a:cubicBezTo>
                  <a:cubicBezTo>
                    <a:pt x="12144" y="19902"/>
                    <a:pt x="12253" y="19687"/>
                    <a:pt x="12470" y="19472"/>
                  </a:cubicBezTo>
                  <a:cubicBezTo>
                    <a:pt x="12687" y="19257"/>
                    <a:pt x="12578" y="19687"/>
                    <a:pt x="12361" y="19902"/>
                  </a:cubicBezTo>
                  <a:cubicBezTo>
                    <a:pt x="12361" y="19902"/>
                    <a:pt x="12470" y="19795"/>
                    <a:pt x="12361" y="19902"/>
                  </a:cubicBezTo>
                  <a:close/>
                </a:path>
              </a:pathLst>
            </a:custGeom>
            <a:solidFill>
              <a:srgbClr val="1e74ed"/>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4" name="Shape 1268"/>
            <p:cNvSpPr/>
            <p:nvPr/>
          </p:nvSpPr>
          <p:spPr>
            <a:xfrm>
              <a:off x="7107840" y="4906080"/>
              <a:ext cx="102600" cy="106560"/>
            </a:xfrm>
            <a:custGeom>
              <a:avLst/>
              <a:gdLst/>
              <a:ahLst/>
              <a:rect l="l" t="t" r="r" b="b"/>
              <a:pathLst>
                <a:path w="20839" h="20829">
                  <a:moveTo>
                    <a:pt x="16525" y="6943"/>
                  </a:moveTo>
                  <a:cubicBezTo>
                    <a:pt x="15725" y="5400"/>
                    <a:pt x="14125" y="5400"/>
                    <a:pt x="13325" y="4629"/>
                  </a:cubicBezTo>
                  <a:cubicBezTo>
                    <a:pt x="12525" y="3858"/>
                    <a:pt x="11725" y="4629"/>
                    <a:pt x="10925" y="3858"/>
                  </a:cubicBezTo>
                  <a:cubicBezTo>
                    <a:pt x="10125" y="3086"/>
                    <a:pt x="9325" y="2315"/>
                    <a:pt x="8525" y="1543"/>
                  </a:cubicBezTo>
                  <a:cubicBezTo>
                    <a:pt x="7725" y="-771"/>
                    <a:pt x="6925" y="0"/>
                    <a:pt x="4525" y="772"/>
                  </a:cubicBezTo>
                  <a:cubicBezTo>
                    <a:pt x="3725" y="772"/>
                    <a:pt x="3725" y="0"/>
                    <a:pt x="2925" y="1543"/>
                  </a:cubicBezTo>
                  <a:cubicBezTo>
                    <a:pt x="2125" y="2315"/>
                    <a:pt x="2125" y="3086"/>
                    <a:pt x="2125" y="3858"/>
                  </a:cubicBezTo>
                  <a:cubicBezTo>
                    <a:pt x="2125" y="5400"/>
                    <a:pt x="2125" y="6943"/>
                    <a:pt x="2125" y="8486"/>
                  </a:cubicBezTo>
                  <a:cubicBezTo>
                    <a:pt x="2125" y="9258"/>
                    <a:pt x="2125" y="10800"/>
                    <a:pt x="1325" y="12343"/>
                  </a:cubicBezTo>
                  <a:cubicBezTo>
                    <a:pt x="-275" y="13886"/>
                    <a:pt x="-275" y="13886"/>
                    <a:pt x="525" y="16200"/>
                  </a:cubicBezTo>
                  <a:cubicBezTo>
                    <a:pt x="1325" y="17743"/>
                    <a:pt x="1325" y="17743"/>
                    <a:pt x="2925" y="18515"/>
                  </a:cubicBezTo>
                  <a:cubicBezTo>
                    <a:pt x="4525" y="18515"/>
                    <a:pt x="6125" y="18515"/>
                    <a:pt x="6925" y="19286"/>
                  </a:cubicBezTo>
                  <a:cubicBezTo>
                    <a:pt x="7725" y="19286"/>
                    <a:pt x="9325" y="20829"/>
                    <a:pt x="10125" y="20829"/>
                  </a:cubicBezTo>
                  <a:cubicBezTo>
                    <a:pt x="11725" y="20058"/>
                    <a:pt x="13325" y="20829"/>
                    <a:pt x="14925" y="20829"/>
                  </a:cubicBezTo>
                  <a:cubicBezTo>
                    <a:pt x="15725" y="20829"/>
                    <a:pt x="18125" y="19286"/>
                    <a:pt x="18925" y="18515"/>
                  </a:cubicBezTo>
                  <a:cubicBezTo>
                    <a:pt x="20525" y="16972"/>
                    <a:pt x="21325" y="15429"/>
                    <a:pt x="20525" y="13886"/>
                  </a:cubicBezTo>
                  <a:cubicBezTo>
                    <a:pt x="19725" y="12343"/>
                    <a:pt x="19725" y="11572"/>
                    <a:pt x="18925" y="10029"/>
                  </a:cubicBezTo>
                  <a:cubicBezTo>
                    <a:pt x="18925" y="8486"/>
                    <a:pt x="18125" y="7715"/>
                    <a:pt x="16525" y="6943"/>
                  </a:cubicBezTo>
                  <a:cubicBezTo>
                    <a:pt x="15725" y="6172"/>
                    <a:pt x="17325" y="6943"/>
                    <a:pt x="16525" y="694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5" name="Shape 1269"/>
            <p:cNvSpPr/>
            <p:nvPr/>
          </p:nvSpPr>
          <p:spPr>
            <a:xfrm>
              <a:off x="6810480" y="4731120"/>
              <a:ext cx="396000" cy="704880"/>
            </a:xfrm>
            <a:custGeom>
              <a:avLst/>
              <a:gdLst/>
              <a:ahLst/>
              <a:rect l="l" t="t" r="r" b="b"/>
              <a:pathLst>
                <a:path w="21017" h="21513">
                  <a:moveTo>
                    <a:pt x="15897" y="7395"/>
                  </a:moveTo>
                  <a:cubicBezTo>
                    <a:pt x="16526" y="7033"/>
                    <a:pt x="16107" y="6671"/>
                    <a:pt x="16317" y="6188"/>
                  </a:cubicBezTo>
                  <a:cubicBezTo>
                    <a:pt x="16317" y="6067"/>
                    <a:pt x="16317" y="5826"/>
                    <a:pt x="16317" y="5705"/>
                  </a:cubicBezTo>
                  <a:cubicBezTo>
                    <a:pt x="16526" y="5343"/>
                    <a:pt x="16946" y="5222"/>
                    <a:pt x="17365" y="4981"/>
                  </a:cubicBezTo>
                  <a:cubicBezTo>
                    <a:pt x="18204" y="4619"/>
                    <a:pt x="18623" y="4016"/>
                    <a:pt x="19462" y="3654"/>
                  </a:cubicBezTo>
                  <a:cubicBezTo>
                    <a:pt x="19882" y="3533"/>
                    <a:pt x="20511" y="3533"/>
                    <a:pt x="20930" y="3412"/>
                  </a:cubicBezTo>
                  <a:cubicBezTo>
                    <a:pt x="21140" y="3171"/>
                    <a:pt x="20930" y="2809"/>
                    <a:pt x="20721" y="2688"/>
                  </a:cubicBezTo>
                  <a:cubicBezTo>
                    <a:pt x="20511" y="2447"/>
                    <a:pt x="20721" y="2447"/>
                    <a:pt x="20301" y="2447"/>
                  </a:cubicBezTo>
                  <a:cubicBezTo>
                    <a:pt x="19882" y="2326"/>
                    <a:pt x="20091" y="2809"/>
                    <a:pt x="19882" y="2930"/>
                  </a:cubicBezTo>
                  <a:cubicBezTo>
                    <a:pt x="19672" y="3050"/>
                    <a:pt x="19462" y="3292"/>
                    <a:pt x="19253" y="3412"/>
                  </a:cubicBezTo>
                  <a:cubicBezTo>
                    <a:pt x="19043" y="3533"/>
                    <a:pt x="18414" y="3412"/>
                    <a:pt x="17994" y="3533"/>
                  </a:cubicBezTo>
                  <a:cubicBezTo>
                    <a:pt x="17785" y="3774"/>
                    <a:pt x="17156" y="3533"/>
                    <a:pt x="16736" y="3533"/>
                  </a:cubicBezTo>
                  <a:cubicBezTo>
                    <a:pt x="16526" y="3533"/>
                    <a:pt x="16107" y="3654"/>
                    <a:pt x="15897" y="3533"/>
                  </a:cubicBezTo>
                  <a:cubicBezTo>
                    <a:pt x="15478" y="3533"/>
                    <a:pt x="16107" y="3292"/>
                    <a:pt x="16107" y="3292"/>
                  </a:cubicBezTo>
                  <a:cubicBezTo>
                    <a:pt x="16317" y="3171"/>
                    <a:pt x="16107" y="3050"/>
                    <a:pt x="16107" y="3050"/>
                  </a:cubicBezTo>
                  <a:cubicBezTo>
                    <a:pt x="16107" y="2809"/>
                    <a:pt x="16317" y="2688"/>
                    <a:pt x="16526" y="2568"/>
                  </a:cubicBezTo>
                  <a:cubicBezTo>
                    <a:pt x="17365" y="2085"/>
                    <a:pt x="15688" y="1844"/>
                    <a:pt x="15058" y="1602"/>
                  </a:cubicBezTo>
                  <a:cubicBezTo>
                    <a:pt x="14429" y="1361"/>
                    <a:pt x="13590" y="1361"/>
                    <a:pt x="12961" y="999"/>
                  </a:cubicBezTo>
                  <a:cubicBezTo>
                    <a:pt x="12752" y="878"/>
                    <a:pt x="12332" y="758"/>
                    <a:pt x="12123" y="637"/>
                  </a:cubicBezTo>
                  <a:cubicBezTo>
                    <a:pt x="11913" y="396"/>
                    <a:pt x="11703" y="154"/>
                    <a:pt x="11493" y="154"/>
                  </a:cubicBezTo>
                  <a:cubicBezTo>
                    <a:pt x="11284" y="34"/>
                    <a:pt x="10655" y="34"/>
                    <a:pt x="10445" y="154"/>
                  </a:cubicBezTo>
                  <a:cubicBezTo>
                    <a:pt x="10235" y="275"/>
                    <a:pt x="10025" y="637"/>
                    <a:pt x="9606" y="396"/>
                  </a:cubicBezTo>
                  <a:cubicBezTo>
                    <a:pt x="9396" y="154"/>
                    <a:pt x="8977" y="154"/>
                    <a:pt x="8557" y="154"/>
                  </a:cubicBezTo>
                  <a:cubicBezTo>
                    <a:pt x="8138" y="154"/>
                    <a:pt x="8138" y="-87"/>
                    <a:pt x="7719" y="34"/>
                  </a:cubicBezTo>
                  <a:cubicBezTo>
                    <a:pt x="7509" y="154"/>
                    <a:pt x="6880" y="275"/>
                    <a:pt x="6880" y="396"/>
                  </a:cubicBezTo>
                  <a:cubicBezTo>
                    <a:pt x="6670" y="637"/>
                    <a:pt x="6880" y="878"/>
                    <a:pt x="6880" y="999"/>
                  </a:cubicBezTo>
                  <a:cubicBezTo>
                    <a:pt x="6670" y="1482"/>
                    <a:pt x="6041" y="1482"/>
                    <a:pt x="5412" y="1602"/>
                  </a:cubicBezTo>
                  <a:cubicBezTo>
                    <a:pt x="4992" y="1723"/>
                    <a:pt x="5202" y="2326"/>
                    <a:pt x="5202" y="2568"/>
                  </a:cubicBezTo>
                  <a:cubicBezTo>
                    <a:pt x="5202" y="2809"/>
                    <a:pt x="5412" y="3050"/>
                    <a:pt x="5412" y="3171"/>
                  </a:cubicBezTo>
                  <a:cubicBezTo>
                    <a:pt x="5412" y="3292"/>
                    <a:pt x="4783" y="3654"/>
                    <a:pt x="4783" y="3774"/>
                  </a:cubicBezTo>
                  <a:cubicBezTo>
                    <a:pt x="4573" y="3895"/>
                    <a:pt x="3944" y="4136"/>
                    <a:pt x="3944" y="4257"/>
                  </a:cubicBezTo>
                  <a:cubicBezTo>
                    <a:pt x="3944" y="4378"/>
                    <a:pt x="3944" y="4498"/>
                    <a:pt x="3944" y="4619"/>
                  </a:cubicBezTo>
                  <a:cubicBezTo>
                    <a:pt x="3944" y="4740"/>
                    <a:pt x="3734" y="4860"/>
                    <a:pt x="3734" y="4981"/>
                  </a:cubicBezTo>
                  <a:cubicBezTo>
                    <a:pt x="3734" y="5102"/>
                    <a:pt x="3944" y="5464"/>
                    <a:pt x="3524" y="5585"/>
                  </a:cubicBezTo>
                  <a:cubicBezTo>
                    <a:pt x="3524" y="5705"/>
                    <a:pt x="3524" y="5947"/>
                    <a:pt x="3524" y="6067"/>
                  </a:cubicBezTo>
                  <a:cubicBezTo>
                    <a:pt x="3315" y="6067"/>
                    <a:pt x="3105" y="6067"/>
                    <a:pt x="3105" y="6188"/>
                  </a:cubicBezTo>
                  <a:cubicBezTo>
                    <a:pt x="3105" y="6429"/>
                    <a:pt x="3524" y="6550"/>
                    <a:pt x="3524" y="6791"/>
                  </a:cubicBezTo>
                  <a:cubicBezTo>
                    <a:pt x="3524" y="6912"/>
                    <a:pt x="3524" y="7153"/>
                    <a:pt x="3734" y="7274"/>
                  </a:cubicBezTo>
                  <a:cubicBezTo>
                    <a:pt x="4154" y="7757"/>
                    <a:pt x="3315" y="8239"/>
                    <a:pt x="3315" y="8722"/>
                  </a:cubicBezTo>
                  <a:cubicBezTo>
                    <a:pt x="3105" y="8963"/>
                    <a:pt x="3524" y="9205"/>
                    <a:pt x="3315" y="9446"/>
                  </a:cubicBezTo>
                  <a:cubicBezTo>
                    <a:pt x="3105" y="9567"/>
                    <a:pt x="2686" y="9687"/>
                    <a:pt x="2476" y="9929"/>
                  </a:cubicBezTo>
                  <a:cubicBezTo>
                    <a:pt x="2266" y="10170"/>
                    <a:pt x="3105" y="11135"/>
                    <a:pt x="2686" y="11256"/>
                  </a:cubicBezTo>
                  <a:cubicBezTo>
                    <a:pt x="1847" y="11497"/>
                    <a:pt x="2057" y="12101"/>
                    <a:pt x="1847" y="12583"/>
                  </a:cubicBezTo>
                  <a:cubicBezTo>
                    <a:pt x="1427" y="12945"/>
                    <a:pt x="1637" y="13549"/>
                    <a:pt x="1637" y="14031"/>
                  </a:cubicBezTo>
                  <a:cubicBezTo>
                    <a:pt x="1637" y="14393"/>
                    <a:pt x="1637" y="14755"/>
                    <a:pt x="1637" y="15117"/>
                  </a:cubicBezTo>
                  <a:cubicBezTo>
                    <a:pt x="1637" y="15238"/>
                    <a:pt x="2686" y="15600"/>
                    <a:pt x="2266" y="15600"/>
                  </a:cubicBezTo>
                  <a:cubicBezTo>
                    <a:pt x="2266" y="15600"/>
                    <a:pt x="1427" y="15721"/>
                    <a:pt x="1847" y="15841"/>
                  </a:cubicBezTo>
                  <a:cubicBezTo>
                    <a:pt x="2266" y="15841"/>
                    <a:pt x="2266" y="15962"/>
                    <a:pt x="2057" y="16204"/>
                  </a:cubicBezTo>
                  <a:cubicBezTo>
                    <a:pt x="1847" y="16445"/>
                    <a:pt x="1847" y="16686"/>
                    <a:pt x="1847" y="17048"/>
                  </a:cubicBezTo>
                  <a:cubicBezTo>
                    <a:pt x="1847" y="17290"/>
                    <a:pt x="1427" y="17410"/>
                    <a:pt x="1218" y="17652"/>
                  </a:cubicBezTo>
                  <a:cubicBezTo>
                    <a:pt x="1008" y="17772"/>
                    <a:pt x="1218" y="18014"/>
                    <a:pt x="1218" y="18255"/>
                  </a:cubicBezTo>
                  <a:cubicBezTo>
                    <a:pt x="1218" y="18376"/>
                    <a:pt x="798" y="18738"/>
                    <a:pt x="589" y="18738"/>
                  </a:cubicBezTo>
                  <a:cubicBezTo>
                    <a:pt x="-460" y="18979"/>
                    <a:pt x="169" y="19703"/>
                    <a:pt x="379" y="20065"/>
                  </a:cubicBezTo>
                  <a:cubicBezTo>
                    <a:pt x="589" y="20306"/>
                    <a:pt x="1218" y="19944"/>
                    <a:pt x="1218" y="20427"/>
                  </a:cubicBezTo>
                  <a:cubicBezTo>
                    <a:pt x="1218" y="20548"/>
                    <a:pt x="1008" y="20910"/>
                    <a:pt x="1427" y="21030"/>
                  </a:cubicBezTo>
                  <a:cubicBezTo>
                    <a:pt x="1637" y="21151"/>
                    <a:pt x="1847" y="21151"/>
                    <a:pt x="2266" y="21151"/>
                  </a:cubicBezTo>
                  <a:cubicBezTo>
                    <a:pt x="2686" y="21272"/>
                    <a:pt x="3315" y="21272"/>
                    <a:pt x="3734" y="21272"/>
                  </a:cubicBezTo>
                  <a:cubicBezTo>
                    <a:pt x="3944" y="21272"/>
                    <a:pt x="4154" y="21272"/>
                    <a:pt x="4363" y="21392"/>
                  </a:cubicBezTo>
                  <a:cubicBezTo>
                    <a:pt x="4363" y="21272"/>
                    <a:pt x="4573" y="21272"/>
                    <a:pt x="4783" y="21272"/>
                  </a:cubicBezTo>
                  <a:cubicBezTo>
                    <a:pt x="4783" y="21392"/>
                    <a:pt x="5202" y="21513"/>
                    <a:pt x="5202" y="21513"/>
                  </a:cubicBezTo>
                  <a:cubicBezTo>
                    <a:pt x="5412" y="21513"/>
                    <a:pt x="4992" y="21151"/>
                    <a:pt x="4992" y="21030"/>
                  </a:cubicBezTo>
                  <a:cubicBezTo>
                    <a:pt x="4573" y="20789"/>
                    <a:pt x="4573" y="20548"/>
                    <a:pt x="4573" y="20306"/>
                  </a:cubicBezTo>
                  <a:cubicBezTo>
                    <a:pt x="4573" y="20065"/>
                    <a:pt x="4573" y="19944"/>
                    <a:pt x="5202" y="19703"/>
                  </a:cubicBezTo>
                  <a:cubicBezTo>
                    <a:pt x="5622" y="19582"/>
                    <a:pt x="4783" y="19582"/>
                    <a:pt x="4783" y="19582"/>
                  </a:cubicBezTo>
                  <a:cubicBezTo>
                    <a:pt x="4783" y="19582"/>
                    <a:pt x="5202" y="19462"/>
                    <a:pt x="4992" y="19462"/>
                  </a:cubicBezTo>
                  <a:cubicBezTo>
                    <a:pt x="5202" y="19462"/>
                    <a:pt x="5202" y="19582"/>
                    <a:pt x="5412" y="19582"/>
                  </a:cubicBezTo>
                  <a:cubicBezTo>
                    <a:pt x="5622" y="19703"/>
                    <a:pt x="5831" y="19582"/>
                    <a:pt x="6041" y="19582"/>
                  </a:cubicBezTo>
                  <a:cubicBezTo>
                    <a:pt x="6251" y="19341"/>
                    <a:pt x="6041" y="19100"/>
                    <a:pt x="6041" y="18858"/>
                  </a:cubicBezTo>
                  <a:cubicBezTo>
                    <a:pt x="6251" y="18617"/>
                    <a:pt x="6670" y="18496"/>
                    <a:pt x="7299" y="18376"/>
                  </a:cubicBezTo>
                  <a:cubicBezTo>
                    <a:pt x="7509" y="18255"/>
                    <a:pt x="7719" y="18255"/>
                    <a:pt x="7928" y="18134"/>
                  </a:cubicBezTo>
                  <a:cubicBezTo>
                    <a:pt x="8138" y="18014"/>
                    <a:pt x="7719" y="17893"/>
                    <a:pt x="7719" y="17893"/>
                  </a:cubicBezTo>
                  <a:cubicBezTo>
                    <a:pt x="7719" y="17772"/>
                    <a:pt x="8348" y="17652"/>
                    <a:pt x="8138" y="17410"/>
                  </a:cubicBezTo>
                  <a:cubicBezTo>
                    <a:pt x="7928" y="17169"/>
                    <a:pt x="7090" y="17410"/>
                    <a:pt x="6880" y="17169"/>
                  </a:cubicBezTo>
                  <a:cubicBezTo>
                    <a:pt x="6670" y="17048"/>
                    <a:pt x="6460" y="17048"/>
                    <a:pt x="6251" y="16807"/>
                  </a:cubicBezTo>
                  <a:cubicBezTo>
                    <a:pt x="6041" y="16566"/>
                    <a:pt x="6460" y="16204"/>
                    <a:pt x="6670" y="16083"/>
                  </a:cubicBezTo>
                  <a:cubicBezTo>
                    <a:pt x="7090" y="15962"/>
                    <a:pt x="7299" y="15721"/>
                    <a:pt x="7719" y="15721"/>
                  </a:cubicBezTo>
                  <a:cubicBezTo>
                    <a:pt x="8138" y="15600"/>
                    <a:pt x="8138" y="15841"/>
                    <a:pt x="8348" y="15479"/>
                  </a:cubicBezTo>
                  <a:cubicBezTo>
                    <a:pt x="8348" y="15238"/>
                    <a:pt x="8767" y="15117"/>
                    <a:pt x="8557" y="14876"/>
                  </a:cubicBezTo>
                  <a:cubicBezTo>
                    <a:pt x="8348" y="14514"/>
                    <a:pt x="9396" y="14514"/>
                    <a:pt x="9606" y="14273"/>
                  </a:cubicBezTo>
                  <a:cubicBezTo>
                    <a:pt x="9606" y="14273"/>
                    <a:pt x="8557" y="13790"/>
                    <a:pt x="9606" y="13911"/>
                  </a:cubicBezTo>
                  <a:cubicBezTo>
                    <a:pt x="9816" y="14031"/>
                    <a:pt x="9816" y="14152"/>
                    <a:pt x="10025" y="14152"/>
                  </a:cubicBezTo>
                  <a:cubicBezTo>
                    <a:pt x="10445" y="14152"/>
                    <a:pt x="10445" y="13790"/>
                    <a:pt x="10235" y="13669"/>
                  </a:cubicBezTo>
                  <a:cubicBezTo>
                    <a:pt x="10235" y="13549"/>
                    <a:pt x="9816" y="13790"/>
                    <a:pt x="9816" y="13790"/>
                  </a:cubicBezTo>
                  <a:cubicBezTo>
                    <a:pt x="9396" y="13790"/>
                    <a:pt x="8977" y="13669"/>
                    <a:pt x="8977" y="13549"/>
                  </a:cubicBezTo>
                  <a:cubicBezTo>
                    <a:pt x="8977" y="13428"/>
                    <a:pt x="8557" y="12583"/>
                    <a:pt x="8977" y="12583"/>
                  </a:cubicBezTo>
                  <a:cubicBezTo>
                    <a:pt x="9606" y="12704"/>
                    <a:pt x="10025" y="12945"/>
                    <a:pt x="10864" y="12945"/>
                  </a:cubicBezTo>
                  <a:cubicBezTo>
                    <a:pt x="11074" y="12945"/>
                    <a:pt x="11284" y="12825"/>
                    <a:pt x="11493" y="12825"/>
                  </a:cubicBezTo>
                  <a:cubicBezTo>
                    <a:pt x="11913" y="12583"/>
                    <a:pt x="11493" y="12463"/>
                    <a:pt x="11703" y="12221"/>
                  </a:cubicBezTo>
                  <a:cubicBezTo>
                    <a:pt x="11703" y="12101"/>
                    <a:pt x="11913" y="11980"/>
                    <a:pt x="11913" y="11980"/>
                  </a:cubicBezTo>
                  <a:cubicBezTo>
                    <a:pt x="12123" y="11739"/>
                    <a:pt x="11913" y="11739"/>
                    <a:pt x="11913" y="11618"/>
                  </a:cubicBezTo>
                  <a:cubicBezTo>
                    <a:pt x="11703" y="11497"/>
                    <a:pt x="11703" y="11256"/>
                    <a:pt x="11913" y="11256"/>
                  </a:cubicBezTo>
                  <a:cubicBezTo>
                    <a:pt x="12332" y="11256"/>
                    <a:pt x="12123" y="11497"/>
                    <a:pt x="12123" y="11497"/>
                  </a:cubicBezTo>
                  <a:cubicBezTo>
                    <a:pt x="11913" y="11377"/>
                    <a:pt x="13171" y="11377"/>
                    <a:pt x="13171" y="11377"/>
                  </a:cubicBezTo>
                  <a:cubicBezTo>
                    <a:pt x="14010" y="11377"/>
                    <a:pt x="14639" y="11135"/>
                    <a:pt x="15478" y="11135"/>
                  </a:cubicBezTo>
                  <a:cubicBezTo>
                    <a:pt x="15688" y="11015"/>
                    <a:pt x="16317" y="10894"/>
                    <a:pt x="16736" y="10773"/>
                  </a:cubicBezTo>
                  <a:cubicBezTo>
                    <a:pt x="16946" y="10653"/>
                    <a:pt x="16946" y="10532"/>
                    <a:pt x="17156" y="10411"/>
                  </a:cubicBezTo>
                  <a:cubicBezTo>
                    <a:pt x="17365" y="10291"/>
                    <a:pt x="17575" y="10170"/>
                    <a:pt x="17785" y="9929"/>
                  </a:cubicBezTo>
                  <a:cubicBezTo>
                    <a:pt x="17785" y="9567"/>
                    <a:pt x="17365" y="9567"/>
                    <a:pt x="16946" y="9325"/>
                  </a:cubicBezTo>
                  <a:cubicBezTo>
                    <a:pt x="16736" y="9084"/>
                    <a:pt x="17365" y="8963"/>
                    <a:pt x="16946" y="8722"/>
                  </a:cubicBezTo>
                  <a:cubicBezTo>
                    <a:pt x="16736" y="8601"/>
                    <a:pt x="15897" y="8481"/>
                    <a:pt x="15897" y="8239"/>
                  </a:cubicBezTo>
                  <a:cubicBezTo>
                    <a:pt x="15897" y="8239"/>
                    <a:pt x="15897" y="8119"/>
                    <a:pt x="16107" y="8119"/>
                  </a:cubicBezTo>
                  <a:cubicBezTo>
                    <a:pt x="16107" y="7998"/>
                    <a:pt x="15897" y="7998"/>
                    <a:pt x="15897" y="7877"/>
                  </a:cubicBezTo>
                  <a:cubicBezTo>
                    <a:pt x="15897" y="7757"/>
                    <a:pt x="15688" y="7515"/>
                    <a:pt x="15897" y="7395"/>
                  </a:cubicBezTo>
                  <a:cubicBezTo>
                    <a:pt x="16107" y="7274"/>
                    <a:pt x="15688" y="7515"/>
                    <a:pt x="15897" y="739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6" name="Shape 1270"/>
            <p:cNvSpPr/>
            <p:nvPr/>
          </p:nvSpPr>
          <p:spPr>
            <a:xfrm>
              <a:off x="6537600" y="3990240"/>
              <a:ext cx="86040" cy="88200"/>
            </a:xfrm>
            <a:custGeom>
              <a:avLst/>
              <a:gdLst/>
              <a:ahLst/>
              <a:rect l="l" t="t" r="r" b="b"/>
              <a:pathLst>
                <a:path w="21600" h="19904">
                  <a:moveTo>
                    <a:pt x="14727" y="19004"/>
                  </a:moveTo>
                  <a:cubicBezTo>
                    <a:pt x="15709" y="19904"/>
                    <a:pt x="16691" y="19904"/>
                    <a:pt x="18655" y="19904"/>
                  </a:cubicBezTo>
                  <a:cubicBezTo>
                    <a:pt x="16691" y="17204"/>
                    <a:pt x="18655" y="16304"/>
                    <a:pt x="18655" y="13604"/>
                  </a:cubicBezTo>
                  <a:cubicBezTo>
                    <a:pt x="18655" y="11804"/>
                    <a:pt x="19636" y="9104"/>
                    <a:pt x="19636" y="7304"/>
                  </a:cubicBezTo>
                  <a:cubicBezTo>
                    <a:pt x="19636" y="6404"/>
                    <a:pt x="20618" y="5504"/>
                    <a:pt x="20618" y="4604"/>
                  </a:cubicBezTo>
                  <a:cubicBezTo>
                    <a:pt x="21600" y="3704"/>
                    <a:pt x="20618" y="2804"/>
                    <a:pt x="21600" y="1004"/>
                  </a:cubicBezTo>
                  <a:cubicBezTo>
                    <a:pt x="21600" y="-1696"/>
                    <a:pt x="17673" y="1904"/>
                    <a:pt x="16691" y="1904"/>
                  </a:cubicBezTo>
                  <a:cubicBezTo>
                    <a:pt x="14727" y="1904"/>
                    <a:pt x="13745" y="1004"/>
                    <a:pt x="11782" y="2804"/>
                  </a:cubicBezTo>
                  <a:cubicBezTo>
                    <a:pt x="11782" y="2804"/>
                    <a:pt x="9818" y="6404"/>
                    <a:pt x="8836" y="5504"/>
                  </a:cubicBezTo>
                  <a:cubicBezTo>
                    <a:pt x="6873" y="5504"/>
                    <a:pt x="5891" y="5504"/>
                    <a:pt x="3927" y="6404"/>
                  </a:cubicBezTo>
                  <a:cubicBezTo>
                    <a:pt x="3927" y="7304"/>
                    <a:pt x="3927" y="9104"/>
                    <a:pt x="2945" y="9104"/>
                  </a:cubicBezTo>
                  <a:cubicBezTo>
                    <a:pt x="2945" y="10004"/>
                    <a:pt x="982" y="10004"/>
                    <a:pt x="0" y="10004"/>
                  </a:cubicBezTo>
                  <a:cubicBezTo>
                    <a:pt x="1964" y="11804"/>
                    <a:pt x="3927" y="14504"/>
                    <a:pt x="5891" y="15404"/>
                  </a:cubicBezTo>
                  <a:cubicBezTo>
                    <a:pt x="6873" y="17204"/>
                    <a:pt x="8836" y="18104"/>
                    <a:pt x="10800" y="18104"/>
                  </a:cubicBezTo>
                  <a:cubicBezTo>
                    <a:pt x="11782" y="18104"/>
                    <a:pt x="13745" y="18104"/>
                    <a:pt x="14727" y="19004"/>
                  </a:cubicBezTo>
                  <a:cubicBezTo>
                    <a:pt x="15709" y="19004"/>
                    <a:pt x="14727" y="18104"/>
                    <a:pt x="14727" y="19004"/>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657" name="Shape 1271"/>
            <p:cNvSpPr/>
            <p:nvPr/>
          </p:nvSpPr>
          <p:spPr>
            <a:xfrm>
              <a:off x="6571800" y="4070160"/>
              <a:ext cx="59760" cy="56160"/>
            </a:xfrm>
            <a:custGeom>
              <a:avLst/>
              <a:gdLst/>
              <a:ahLst/>
              <a:rect l="l" t="t" r="r" b="b"/>
              <a:pathLst>
                <a:path w="19233" h="20446">
                  <a:moveTo>
                    <a:pt x="17962" y="14400"/>
                  </a:moveTo>
                  <a:cubicBezTo>
                    <a:pt x="17962" y="12960"/>
                    <a:pt x="17962" y="11520"/>
                    <a:pt x="19233" y="11520"/>
                  </a:cubicBezTo>
                  <a:cubicBezTo>
                    <a:pt x="17962" y="10080"/>
                    <a:pt x="17962" y="8640"/>
                    <a:pt x="16692" y="8640"/>
                  </a:cubicBezTo>
                  <a:cubicBezTo>
                    <a:pt x="15421" y="7200"/>
                    <a:pt x="14151" y="2880"/>
                    <a:pt x="12880" y="2880"/>
                  </a:cubicBezTo>
                  <a:cubicBezTo>
                    <a:pt x="10339" y="2880"/>
                    <a:pt x="9068" y="2880"/>
                    <a:pt x="7798" y="1440"/>
                  </a:cubicBezTo>
                  <a:cubicBezTo>
                    <a:pt x="6527" y="0"/>
                    <a:pt x="2715" y="0"/>
                    <a:pt x="1445" y="0"/>
                  </a:cubicBezTo>
                  <a:cubicBezTo>
                    <a:pt x="2715" y="1440"/>
                    <a:pt x="-2367" y="8640"/>
                    <a:pt x="1445" y="8640"/>
                  </a:cubicBezTo>
                  <a:cubicBezTo>
                    <a:pt x="2715" y="8640"/>
                    <a:pt x="2715" y="11520"/>
                    <a:pt x="5257" y="10080"/>
                  </a:cubicBezTo>
                  <a:cubicBezTo>
                    <a:pt x="6527" y="8640"/>
                    <a:pt x="2715" y="7200"/>
                    <a:pt x="2715" y="7200"/>
                  </a:cubicBezTo>
                  <a:cubicBezTo>
                    <a:pt x="3986" y="7200"/>
                    <a:pt x="6527" y="8640"/>
                    <a:pt x="6527" y="10080"/>
                  </a:cubicBezTo>
                  <a:cubicBezTo>
                    <a:pt x="7798" y="12960"/>
                    <a:pt x="10339" y="11520"/>
                    <a:pt x="11609" y="14400"/>
                  </a:cubicBezTo>
                  <a:cubicBezTo>
                    <a:pt x="12880" y="15840"/>
                    <a:pt x="12880" y="18720"/>
                    <a:pt x="15421" y="20160"/>
                  </a:cubicBezTo>
                  <a:cubicBezTo>
                    <a:pt x="19233" y="21600"/>
                    <a:pt x="19233" y="17280"/>
                    <a:pt x="17962" y="14400"/>
                  </a:cubicBezTo>
                  <a:cubicBezTo>
                    <a:pt x="17962" y="12960"/>
                    <a:pt x="17962" y="15840"/>
                    <a:pt x="17962" y="14400"/>
                  </a:cubicBezTo>
                  <a:close/>
                </a:path>
              </a:pathLst>
            </a:custGeom>
            <a:solidFill>
              <a:srgbClr val="dadbdf"/>
            </a:solidFill>
            <a:ln w="4680">
              <a:solidFill>
                <a:srgbClr val="ffffff"/>
              </a:solidFill>
              <a:round/>
            </a:ln>
          </p:spPr>
          <p:style>
            <a:lnRef idx="0"/>
            <a:fillRef idx="0"/>
            <a:effectRef idx="0"/>
            <a:fontRef idx="minor"/>
          </p:style>
          <p:txBody>
            <a:bodyPr lIns="45360" rIns="45360" tIns="9360" bIns="9360" anchor="t">
              <a:noAutofit/>
            </a:bodyPr>
            <a:p>
              <a:endParaRPr b="0" lang="en-US" sz="1800" spc="-1" strike="noStrike">
                <a:solidFill>
                  <a:srgbClr val="000000"/>
                </a:solidFill>
                <a:latin typeface="Calibri"/>
              </a:endParaRPr>
            </a:p>
          </p:txBody>
        </p:sp>
        <p:sp>
          <p:nvSpPr>
            <p:cNvPr id="658" name="Shape 1272"/>
            <p:cNvSpPr/>
            <p:nvPr/>
          </p:nvSpPr>
          <p:spPr>
            <a:xfrm>
              <a:off x="6489000" y="4002840"/>
              <a:ext cx="44280" cy="25920"/>
            </a:xfrm>
            <a:custGeom>
              <a:avLst/>
              <a:gdLst/>
              <a:ahLst/>
              <a:rect l="l" t="t" r="r" b="b"/>
              <a:pathLst>
                <a:path w="21600" h="16183">
                  <a:moveTo>
                    <a:pt x="7855" y="2400"/>
                  </a:moveTo>
                  <a:cubicBezTo>
                    <a:pt x="7855" y="0"/>
                    <a:pt x="7855" y="0"/>
                    <a:pt x="7855" y="0"/>
                  </a:cubicBezTo>
                  <a:cubicBezTo>
                    <a:pt x="5891" y="2400"/>
                    <a:pt x="1964" y="7200"/>
                    <a:pt x="0" y="9600"/>
                  </a:cubicBezTo>
                  <a:cubicBezTo>
                    <a:pt x="3927" y="12000"/>
                    <a:pt x="21600" y="21600"/>
                    <a:pt x="21600" y="12000"/>
                  </a:cubicBezTo>
                  <a:cubicBezTo>
                    <a:pt x="21600" y="4800"/>
                    <a:pt x="11782" y="7200"/>
                    <a:pt x="7855" y="2400"/>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659" name="Shape 1273"/>
            <p:cNvSpPr/>
            <p:nvPr/>
          </p:nvSpPr>
          <p:spPr>
            <a:xfrm>
              <a:off x="6448320" y="3933720"/>
              <a:ext cx="72720" cy="82800"/>
            </a:xfrm>
            <a:custGeom>
              <a:avLst/>
              <a:gdLst/>
              <a:ahLst/>
              <a:rect l="l" t="t" r="r" b="b"/>
              <a:pathLst>
                <a:path w="19781" h="19581">
                  <a:moveTo>
                    <a:pt x="15461" y="14504"/>
                  </a:moveTo>
                  <a:cubicBezTo>
                    <a:pt x="15461" y="12626"/>
                    <a:pt x="18701" y="11687"/>
                    <a:pt x="19781" y="10748"/>
                  </a:cubicBezTo>
                  <a:cubicBezTo>
                    <a:pt x="16541" y="9808"/>
                    <a:pt x="15461" y="9808"/>
                    <a:pt x="15461" y="6991"/>
                  </a:cubicBezTo>
                  <a:cubicBezTo>
                    <a:pt x="15461" y="6052"/>
                    <a:pt x="16541" y="1356"/>
                    <a:pt x="15461" y="417"/>
                  </a:cubicBezTo>
                  <a:cubicBezTo>
                    <a:pt x="14381" y="-522"/>
                    <a:pt x="8981" y="417"/>
                    <a:pt x="6821" y="417"/>
                  </a:cubicBezTo>
                  <a:cubicBezTo>
                    <a:pt x="4661" y="417"/>
                    <a:pt x="4661" y="3235"/>
                    <a:pt x="5741" y="5113"/>
                  </a:cubicBezTo>
                  <a:cubicBezTo>
                    <a:pt x="6821" y="6052"/>
                    <a:pt x="11141" y="8869"/>
                    <a:pt x="6821" y="8869"/>
                  </a:cubicBezTo>
                  <a:cubicBezTo>
                    <a:pt x="5741" y="8869"/>
                    <a:pt x="3581" y="8869"/>
                    <a:pt x="2501" y="8869"/>
                  </a:cubicBezTo>
                  <a:cubicBezTo>
                    <a:pt x="341" y="8869"/>
                    <a:pt x="341" y="12626"/>
                    <a:pt x="341" y="13565"/>
                  </a:cubicBezTo>
                  <a:cubicBezTo>
                    <a:pt x="-1819" y="19200"/>
                    <a:pt x="6821" y="18261"/>
                    <a:pt x="11141" y="19200"/>
                  </a:cubicBezTo>
                  <a:cubicBezTo>
                    <a:pt x="12221" y="21078"/>
                    <a:pt x="15461" y="15443"/>
                    <a:pt x="15461" y="14504"/>
                  </a:cubicBezTo>
                  <a:close/>
                </a:path>
              </a:pathLst>
            </a:custGeom>
            <a:solidFill>
              <a:srgbClr val="dadbdf"/>
            </a:solidFill>
            <a:ln w="4680">
              <a:solidFill>
                <a:srgbClr val="ffffff"/>
              </a:solidFill>
              <a:round/>
            </a:ln>
          </p:spPr>
          <p:style>
            <a:lnRef idx="0"/>
            <a:fillRef idx="0"/>
            <a:effectRef idx="0"/>
            <a:fontRef idx="minor"/>
          </p:style>
          <p:txBody>
            <a:bodyPr lIns="45360" rIns="45360" tIns="36000" bIns="36000" anchor="t">
              <a:noAutofit/>
            </a:bodyPr>
            <a:p>
              <a:endParaRPr b="0" lang="en-US" sz="1800" spc="-1" strike="noStrike">
                <a:solidFill>
                  <a:srgbClr val="000000"/>
                </a:solidFill>
                <a:latin typeface="Calibri"/>
              </a:endParaRPr>
            </a:p>
          </p:txBody>
        </p:sp>
        <p:sp>
          <p:nvSpPr>
            <p:cNvPr id="660" name="Shape 1274"/>
            <p:cNvSpPr/>
            <p:nvPr/>
          </p:nvSpPr>
          <p:spPr>
            <a:xfrm>
              <a:off x="5960160" y="3620880"/>
              <a:ext cx="591840" cy="377640"/>
            </a:xfrm>
            <a:custGeom>
              <a:avLst/>
              <a:gdLst/>
              <a:ahLst/>
              <a:rect l="l" t="t" r="r" b="b"/>
              <a:pathLst>
                <a:path w="21600" h="21468">
                  <a:moveTo>
                    <a:pt x="18144" y="19893"/>
                  </a:moveTo>
                  <a:cubicBezTo>
                    <a:pt x="18288" y="19893"/>
                    <a:pt x="19296" y="20118"/>
                    <a:pt x="19008" y="19668"/>
                  </a:cubicBezTo>
                  <a:cubicBezTo>
                    <a:pt x="18864" y="19218"/>
                    <a:pt x="18576" y="18993"/>
                    <a:pt x="18432" y="18543"/>
                  </a:cubicBezTo>
                  <a:cubicBezTo>
                    <a:pt x="18432" y="18543"/>
                    <a:pt x="18576" y="17868"/>
                    <a:pt x="18720" y="17868"/>
                  </a:cubicBezTo>
                  <a:cubicBezTo>
                    <a:pt x="18864" y="17643"/>
                    <a:pt x="19584" y="17868"/>
                    <a:pt x="19872" y="17868"/>
                  </a:cubicBezTo>
                  <a:cubicBezTo>
                    <a:pt x="20304" y="17868"/>
                    <a:pt x="20160" y="16743"/>
                    <a:pt x="20736" y="17418"/>
                  </a:cubicBezTo>
                  <a:cubicBezTo>
                    <a:pt x="20880" y="16968"/>
                    <a:pt x="21024" y="16743"/>
                    <a:pt x="21024" y="16293"/>
                  </a:cubicBezTo>
                  <a:cubicBezTo>
                    <a:pt x="21024" y="15843"/>
                    <a:pt x="20880" y="15393"/>
                    <a:pt x="21024" y="15168"/>
                  </a:cubicBezTo>
                  <a:cubicBezTo>
                    <a:pt x="21168" y="14718"/>
                    <a:pt x="21600" y="14268"/>
                    <a:pt x="21600" y="14043"/>
                  </a:cubicBezTo>
                  <a:cubicBezTo>
                    <a:pt x="21456" y="13593"/>
                    <a:pt x="21312" y="13593"/>
                    <a:pt x="21024" y="13593"/>
                  </a:cubicBezTo>
                  <a:cubicBezTo>
                    <a:pt x="20592" y="13593"/>
                    <a:pt x="20016" y="13593"/>
                    <a:pt x="19584" y="13818"/>
                  </a:cubicBezTo>
                  <a:cubicBezTo>
                    <a:pt x="19296" y="13818"/>
                    <a:pt x="19152" y="14043"/>
                    <a:pt x="19008" y="14268"/>
                  </a:cubicBezTo>
                  <a:cubicBezTo>
                    <a:pt x="18864" y="14718"/>
                    <a:pt x="19008" y="15168"/>
                    <a:pt x="18864" y="15618"/>
                  </a:cubicBezTo>
                  <a:cubicBezTo>
                    <a:pt x="18864" y="15843"/>
                    <a:pt x="18144" y="16968"/>
                    <a:pt x="18144" y="16968"/>
                  </a:cubicBezTo>
                  <a:cubicBezTo>
                    <a:pt x="17568" y="16743"/>
                    <a:pt x="16992" y="16968"/>
                    <a:pt x="16416" y="17418"/>
                  </a:cubicBezTo>
                  <a:cubicBezTo>
                    <a:pt x="16128" y="17418"/>
                    <a:pt x="15984" y="17193"/>
                    <a:pt x="15840" y="16968"/>
                  </a:cubicBezTo>
                  <a:cubicBezTo>
                    <a:pt x="15696" y="16743"/>
                    <a:pt x="15408" y="16743"/>
                    <a:pt x="15120" y="16518"/>
                  </a:cubicBezTo>
                  <a:cubicBezTo>
                    <a:pt x="14832" y="16518"/>
                    <a:pt x="14832" y="15843"/>
                    <a:pt x="14688" y="15393"/>
                  </a:cubicBezTo>
                  <a:cubicBezTo>
                    <a:pt x="14544" y="14943"/>
                    <a:pt x="14256" y="14718"/>
                    <a:pt x="14112" y="14268"/>
                  </a:cubicBezTo>
                  <a:cubicBezTo>
                    <a:pt x="13968" y="13368"/>
                    <a:pt x="13680" y="12243"/>
                    <a:pt x="13824" y="11343"/>
                  </a:cubicBezTo>
                  <a:cubicBezTo>
                    <a:pt x="13824" y="10668"/>
                    <a:pt x="13680" y="9768"/>
                    <a:pt x="13968" y="9093"/>
                  </a:cubicBezTo>
                  <a:cubicBezTo>
                    <a:pt x="14112" y="8868"/>
                    <a:pt x="14112" y="8643"/>
                    <a:pt x="14112" y="8418"/>
                  </a:cubicBezTo>
                  <a:cubicBezTo>
                    <a:pt x="14256" y="7968"/>
                    <a:pt x="13968" y="8193"/>
                    <a:pt x="13824" y="7968"/>
                  </a:cubicBezTo>
                  <a:cubicBezTo>
                    <a:pt x="13536" y="7968"/>
                    <a:pt x="13248" y="7743"/>
                    <a:pt x="12960" y="7743"/>
                  </a:cubicBezTo>
                  <a:cubicBezTo>
                    <a:pt x="12816" y="7518"/>
                    <a:pt x="12528" y="7068"/>
                    <a:pt x="12528" y="6618"/>
                  </a:cubicBezTo>
                  <a:cubicBezTo>
                    <a:pt x="12528" y="5943"/>
                    <a:pt x="12096" y="5718"/>
                    <a:pt x="11808" y="5268"/>
                  </a:cubicBezTo>
                  <a:cubicBezTo>
                    <a:pt x="11664" y="4818"/>
                    <a:pt x="11664" y="4368"/>
                    <a:pt x="11520" y="3918"/>
                  </a:cubicBezTo>
                  <a:cubicBezTo>
                    <a:pt x="11376" y="3693"/>
                    <a:pt x="11088" y="3693"/>
                    <a:pt x="10800" y="3693"/>
                  </a:cubicBezTo>
                  <a:cubicBezTo>
                    <a:pt x="10656" y="3468"/>
                    <a:pt x="10368" y="3468"/>
                    <a:pt x="10224" y="3693"/>
                  </a:cubicBezTo>
                  <a:cubicBezTo>
                    <a:pt x="10224" y="3918"/>
                    <a:pt x="10080" y="4368"/>
                    <a:pt x="9792" y="4368"/>
                  </a:cubicBezTo>
                  <a:cubicBezTo>
                    <a:pt x="9504" y="4368"/>
                    <a:pt x="9072" y="3918"/>
                    <a:pt x="8928" y="3468"/>
                  </a:cubicBezTo>
                  <a:cubicBezTo>
                    <a:pt x="8784" y="2793"/>
                    <a:pt x="8784" y="2568"/>
                    <a:pt x="8496" y="2118"/>
                  </a:cubicBezTo>
                  <a:cubicBezTo>
                    <a:pt x="8208" y="1893"/>
                    <a:pt x="7776" y="1218"/>
                    <a:pt x="7488" y="1218"/>
                  </a:cubicBezTo>
                  <a:cubicBezTo>
                    <a:pt x="7344" y="993"/>
                    <a:pt x="6480" y="993"/>
                    <a:pt x="6480" y="1218"/>
                  </a:cubicBezTo>
                  <a:cubicBezTo>
                    <a:pt x="6192" y="1893"/>
                    <a:pt x="6048" y="1668"/>
                    <a:pt x="5616" y="1668"/>
                  </a:cubicBezTo>
                  <a:cubicBezTo>
                    <a:pt x="5040" y="1668"/>
                    <a:pt x="4608" y="1668"/>
                    <a:pt x="4176" y="1668"/>
                  </a:cubicBezTo>
                  <a:cubicBezTo>
                    <a:pt x="4032" y="1668"/>
                    <a:pt x="3600" y="1218"/>
                    <a:pt x="3312" y="993"/>
                  </a:cubicBezTo>
                  <a:cubicBezTo>
                    <a:pt x="2880" y="768"/>
                    <a:pt x="2448" y="543"/>
                    <a:pt x="1872" y="93"/>
                  </a:cubicBezTo>
                  <a:cubicBezTo>
                    <a:pt x="1296" y="-132"/>
                    <a:pt x="576" y="93"/>
                    <a:pt x="0" y="318"/>
                  </a:cubicBezTo>
                  <a:cubicBezTo>
                    <a:pt x="144" y="1443"/>
                    <a:pt x="720" y="2343"/>
                    <a:pt x="1008" y="3468"/>
                  </a:cubicBezTo>
                  <a:cubicBezTo>
                    <a:pt x="1152" y="3918"/>
                    <a:pt x="1584" y="4368"/>
                    <a:pt x="1872" y="4593"/>
                  </a:cubicBezTo>
                  <a:cubicBezTo>
                    <a:pt x="2016" y="5043"/>
                    <a:pt x="2304" y="5718"/>
                    <a:pt x="2160" y="6168"/>
                  </a:cubicBezTo>
                  <a:cubicBezTo>
                    <a:pt x="2160" y="6168"/>
                    <a:pt x="1152" y="5718"/>
                    <a:pt x="1728" y="6393"/>
                  </a:cubicBezTo>
                  <a:cubicBezTo>
                    <a:pt x="1872" y="6618"/>
                    <a:pt x="2016" y="6843"/>
                    <a:pt x="2160" y="7068"/>
                  </a:cubicBezTo>
                  <a:cubicBezTo>
                    <a:pt x="2448" y="7068"/>
                    <a:pt x="2592" y="7068"/>
                    <a:pt x="2736" y="7293"/>
                  </a:cubicBezTo>
                  <a:cubicBezTo>
                    <a:pt x="3024" y="7518"/>
                    <a:pt x="3312" y="7968"/>
                    <a:pt x="3600" y="8418"/>
                  </a:cubicBezTo>
                  <a:cubicBezTo>
                    <a:pt x="3744" y="8643"/>
                    <a:pt x="3600" y="9093"/>
                    <a:pt x="3456" y="9318"/>
                  </a:cubicBezTo>
                  <a:cubicBezTo>
                    <a:pt x="3312" y="9543"/>
                    <a:pt x="3600" y="9768"/>
                    <a:pt x="3744" y="9768"/>
                  </a:cubicBezTo>
                  <a:cubicBezTo>
                    <a:pt x="4176" y="10218"/>
                    <a:pt x="4464" y="10668"/>
                    <a:pt x="4752" y="11118"/>
                  </a:cubicBezTo>
                  <a:cubicBezTo>
                    <a:pt x="4896" y="11343"/>
                    <a:pt x="5040" y="11793"/>
                    <a:pt x="5184" y="11793"/>
                  </a:cubicBezTo>
                  <a:cubicBezTo>
                    <a:pt x="5328" y="11793"/>
                    <a:pt x="5472" y="11343"/>
                    <a:pt x="5328" y="11118"/>
                  </a:cubicBezTo>
                  <a:cubicBezTo>
                    <a:pt x="5328" y="10893"/>
                    <a:pt x="5184" y="10668"/>
                    <a:pt x="5184" y="10443"/>
                  </a:cubicBezTo>
                  <a:cubicBezTo>
                    <a:pt x="5040" y="10218"/>
                    <a:pt x="4752" y="10443"/>
                    <a:pt x="4608" y="10218"/>
                  </a:cubicBezTo>
                  <a:cubicBezTo>
                    <a:pt x="4320" y="9768"/>
                    <a:pt x="4608" y="9768"/>
                    <a:pt x="4608" y="9318"/>
                  </a:cubicBezTo>
                  <a:cubicBezTo>
                    <a:pt x="4608" y="9318"/>
                    <a:pt x="4320" y="8868"/>
                    <a:pt x="4320" y="8643"/>
                  </a:cubicBezTo>
                  <a:cubicBezTo>
                    <a:pt x="4032" y="8193"/>
                    <a:pt x="4032" y="7518"/>
                    <a:pt x="3744" y="7068"/>
                  </a:cubicBezTo>
                  <a:cubicBezTo>
                    <a:pt x="3456" y="6843"/>
                    <a:pt x="3168" y="6393"/>
                    <a:pt x="3024" y="5943"/>
                  </a:cubicBezTo>
                  <a:cubicBezTo>
                    <a:pt x="3024" y="5718"/>
                    <a:pt x="3024" y="5268"/>
                    <a:pt x="2880" y="5043"/>
                  </a:cubicBezTo>
                  <a:cubicBezTo>
                    <a:pt x="2736" y="4818"/>
                    <a:pt x="2592" y="4593"/>
                    <a:pt x="2448" y="4368"/>
                  </a:cubicBezTo>
                  <a:cubicBezTo>
                    <a:pt x="2304" y="3918"/>
                    <a:pt x="2160" y="3693"/>
                    <a:pt x="1872" y="3468"/>
                  </a:cubicBezTo>
                  <a:cubicBezTo>
                    <a:pt x="1728" y="3243"/>
                    <a:pt x="1728" y="2793"/>
                    <a:pt x="1728" y="2568"/>
                  </a:cubicBezTo>
                  <a:cubicBezTo>
                    <a:pt x="1728" y="2343"/>
                    <a:pt x="1440" y="1218"/>
                    <a:pt x="1584" y="993"/>
                  </a:cubicBezTo>
                  <a:cubicBezTo>
                    <a:pt x="1728" y="768"/>
                    <a:pt x="1872" y="1443"/>
                    <a:pt x="2016" y="1443"/>
                  </a:cubicBezTo>
                  <a:cubicBezTo>
                    <a:pt x="2160" y="1443"/>
                    <a:pt x="2160" y="1443"/>
                    <a:pt x="2160" y="1443"/>
                  </a:cubicBezTo>
                  <a:cubicBezTo>
                    <a:pt x="2448" y="1218"/>
                    <a:pt x="2448" y="1443"/>
                    <a:pt x="2592" y="1668"/>
                  </a:cubicBezTo>
                  <a:cubicBezTo>
                    <a:pt x="2736" y="1668"/>
                    <a:pt x="2880" y="1668"/>
                    <a:pt x="2880" y="1893"/>
                  </a:cubicBezTo>
                  <a:cubicBezTo>
                    <a:pt x="2880" y="2343"/>
                    <a:pt x="3024" y="2793"/>
                    <a:pt x="3168" y="3243"/>
                  </a:cubicBezTo>
                  <a:cubicBezTo>
                    <a:pt x="3168" y="3468"/>
                    <a:pt x="3312" y="3918"/>
                    <a:pt x="3312" y="4143"/>
                  </a:cubicBezTo>
                  <a:cubicBezTo>
                    <a:pt x="3312" y="4368"/>
                    <a:pt x="3168" y="4593"/>
                    <a:pt x="3168" y="4818"/>
                  </a:cubicBezTo>
                  <a:cubicBezTo>
                    <a:pt x="3312" y="4818"/>
                    <a:pt x="3312" y="4368"/>
                    <a:pt x="3312" y="4368"/>
                  </a:cubicBezTo>
                  <a:cubicBezTo>
                    <a:pt x="3456" y="4143"/>
                    <a:pt x="3600" y="4818"/>
                    <a:pt x="3744" y="4818"/>
                  </a:cubicBezTo>
                  <a:cubicBezTo>
                    <a:pt x="3888" y="5043"/>
                    <a:pt x="4608" y="5718"/>
                    <a:pt x="4608" y="5943"/>
                  </a:cubicBezTo>
                  <a:cubicBezTo>
                    <a:pt x="4608" y="6393"/>
                    <a:pt x="4752" y="6618"/>
                    <a:pt x="4896" y="6618"/>
                  </a:cubicBezTo>
                  <a:cubicBezTo>
                    <a:pt x="5040" y="6843"/>
                    <a:pt x="5040" y="7068"/>
                    <a:pt x="5184" y="7293"/>
                  </a:cubicBezTo>
                  <a:cubicBezTo>
                    <a:pt x="5328" y="7518"/>
                    <a:pt x="5472" y="7293"/>
                    <a:pt x="5472" y="7518"/>
                  </a:cubicBezTo>
                  <a:cubicBezTo>
                    <a:pt x="5616" y="7743"/>
                    <a:pt x="5328" y="7968"/>
                    <a:pt x="5472" y="8418"/>
                  </a:cubicBezTo>
                  <a:cubicBezTo>
                    <a:pt x="5760" y="8643"/>
                    <a:pt x="6048" y="8868"/>
                    <a:pt x="6336" y="9318"/>
                  </a:cubicBezTo>
                  <a:cubicBezTo>
                    <a:pt x="6480" y="9543"/>
                    <a:pt x="6480" y="9768"/>
                    <a:pt x="6624" y="9993"/>
                  </a:cubicBezTo>
                  <a:cubicBezTo>
                    <a:pt x="6768" y="10218"/>
                    <a:pt x="6912" y="10218"/>
                    <a:pt x="7056" y="10668"/>
                  </a:cubicBezTo>
                  <a:cubicBezTo>
                    <a:pt x="7344" y="10893"/>
                    <a:pt x="7488" y="11343"/>
                    <a:pt x="7776" y="11793"/>
                  </a:cubicBezTo>
                  <a:cubicBezTo>
                    <a:pt x="7920" y="12018"/>
                    <a:pt x="8064" y="12243"/>
                    <a:pt x="8208" y="12468"/>
                  </a:cubicBezTo>
                  <a:cubicBezTo>
                    <a:pt x="8352" y="12918"/>
                    <a:pt x="8064" y="12918"/>
                    <a:pt x="8064" y="13143"/>
                  </a:cubicBezTo>
                  <a:cubicBezTo>
                    <a:pt x="8064" y="13368"/>
                    <a:pt x="8496" y="13143"/>
                    <a:pt x="8496" y="13593"/>
                  </a:cubicBezTo>
                  <a:cubicBezTo>
                    <a:pt x="8352" y="14043"/>
                    <a:pt x="8208" y="14043"/>
                    <a:pt x="8352" y="14493"/>
                  </a:cubicBezTo>
                  <a:cubicBezTo>
                    <a:pt x="8352" y="14493"/>
                    <a:pt x="8064" y="14943"/>
                    <a:pt x="8208" y="15168"/>
                  </a:cubicBezTo>
                  <a:cubicBezTo>
                    <a:pt x="8352" y="15393"/>
                    <a:pt x="8496" y="15843"/>
                    <a:pt x="8640" y="16068"/>
                  </a:cubicBezTo>
                  <a:cubicBezTo>
                    <a:pt x="8784" y="16293"/>
                    <a:pt x="8928" y="16293"/>
                    <a:pt x="9072" y="16293"/>
                  </a:cubicBezTo>
                  <a:cubicBezTo>
                    <a:pt x="9504" y="16518"/>
                    <a:pt x="9504" y="16968"/>
                    <a:pt x="9792" y="17193"/>
                  </a:cubicBezTo>
                  <a:cubicBezTo>
                    <a:pt x="10224" y="17643"/>
                    <a:pt x="10800" y="17643"/>
                    <a:pt x="11088" y="18093"/>
                  </a:cubicBezTo>
                  <a:cubicBezTo>
                    <a:pt x="11664" y="18543"/>
                    <a:pt x="12240" y="18993"/>
                    <a:pt x="12816" y="19218"/>
                  </a:cubicBezTo>
                  <a:cubicBezTo>
                    <a:pt x="13248" y="19668"/>
                    <a:pt x="13968" y="20118"/>
                    <a:pt x="14544" y="20343"/>
                  </a:cubicBezTo>
                  <a:cubicBezTo>
                    <a:pt x="15120" y="20343"/>
                    <a:pt x="15552" y="19443"/>
                    <a:pt x="16272" y="19668"/>
                  </a:cubicBezTo>
                  <a:cubicBezTo>
                    <a:pt x="16848" y="19893"/>
                    <a:pt x="17280" y="20793"/>
                    <a:pt x="17712" y="21468"/>
                  </a:cubicBezTo>
                  <a:cubicBezTo>
                    <a:pt x="17712" y="21243"/>
                    <a:pt x="17856" y="20118"/>
                    <a:pt x="18144" y="19893"/>
                  </a:cubicBezTo>
                  <a:cubicBezTo>
                    <a:pt x="18288" y="19893"/>
                    <a:pt x="18000" y="19893"/>
                    <a:pt x="18144" y="1989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61" name="Shape 1275"/>
            <p:cNvSpPr/>
            <p:nvPr/>
          </p:nvSpPr>
          <p:spPr>
            <a:xfrm>
              <a:off x="6503760" y="3975120"/>
              <a:ext cx="115560" cy="60120"/>
            </a:xfrm>
            <a:custGeom>
              <a:avLst/>
              <a:gdLst/>
              <a:ahLst/>
              <a:rect l="l" t="t" r="r" b="b"/>
              <a:pathLst>
                <a:path w="21082" h="20518">
                  <a:moveTo>
                    <a:pt x="8122" y="19168"/>
                  </a:moveTo>
                  <a:cubicBezTo>
                    <a:pt x="8842" y="19168"/>
                    <a:pt x="8842" y="17818"/>
                    <a:pt x="8842" y="16468"/>
                  </a:cubicBezTo>
                  <a:cubicBezTo>
                    <a:pt x="8842" y="15118"/>
                    <a:pt x="10282" y="13768"/>
                    <a:pt x="11002" y="13768"/>
                  </a:cubicBezTo>
                  <a:cubicBezTo>
                    <a:pt x="12442" y="12418"/>
                    <a:pt x="12442" y="15118"/>
                    <a:pt x="13882" y="12418"/>
                  </a:cubicBezTo>
                  <a:cubicBezTo>
                    <a:pt x="14602" y="11068"/>
                    <a:pt x="15322" y="7018"/>
                    <a:pt x="16762" y="8368"/>
                  </a:cubicBezTo>
                  <a:cubicBezTo>
                    <a:pt x="18922" y="8368"/>
                    <a:pt x="18922" y="7018"/>
                    <a:pt x="21082" y="5668"/>
                  </a:cubicBezTo>
                  <a:cubicBezTo>
                    <a:pt x="18202" y="2968"/>
                    <a:pt x="17482" y="-1082"/>
                    <a:pt x="13882" y="268"/>
                  </a:cubicBezTo>
                  <a:cubicBezTo>
                    <a:pt x="12442" y="268"/>
                    <a:pt x="11002" y="1618"/>
                    <a:pt x="9562" y="1618"/>
                  </a:cubicBezTo>
                  <a:cubicBezTo>
                    <a:pt x="8122" y="1618"/>
                    <a:pt x="6682" y="268"/>
                    <a:pt x="5242" y="268"/>
                  </a:cubicBezTo>
                  <a:cubicBezTo>
                    <a:pt x="3082" y="1618"/>
                    <a:pt x="2362" y="1618"/>
                    <a:pt x="922" y="4318"/>
                  </a:cubicBezTo>
                  <a:cubicBezTo>
                    <a:pt x="922" y="5668"/>
                    <a:pt x="-518" y="8368"/>
                    <a:pt x="202" y="11068"/>
                  </a:cubicBezTo>
                  <a:cubicBezTo>
                    <a:pt x="2362" y="13768"/>
                    <a:pt x="5242" y="11068"/>
                    <a:pt x="5242" y="17818"/>
                  </a:cubicBezTo>
                  <a:cubicBezTo>
                    <a:pt x="5242" y="17818"/>
                    <a:pt x="6682" y="17818"/>
                    <a:pt x="6682" y="17818"/>
                  </a:cubicBezTo>
                  <a:cubicBezTo>
                    <a:pt x="6682" y="17818"/>
                    <a:pt x="5962" y="20518"/>
                    <a:pt x="5962" y="20518"/>
                  </a:cubicBezTo>
                  <a:cubicBezTo>
                    <a:pt x="6682" y="20518"/>
                    <a:pt x="8122" y="20518"/>
                    <a:pt x="8122" y="19168"/>
                  </a:cubicBezTo>
                  <a:close/>
                </a:path>
              </a:pathLst>
            </a:custGeom>
            <a:solidFill>
              <a:srgbClr val="dadbdf"/>
            </a:solidFill>
            <a:ln w="4680">
              <a:solidFill>
                <a:srgbClr val="ffffff"/>
              </a:solidFill>
              <a:round/>
            </a:ln>
          </p:spPr>
          <p:style>
            <a:lnRef idx="0"/>
            <a:fillRef idx="0"/>
            <a:effectRef idx="0"/>
            <a:fontRef idx="minor"/>
          </p:style>
          <p:txBody>
            <a:bodyPr lIns="45360" rIns="45360" tIns="13320" bIns="13320" anchor="t">
              <a:noAutofit/>
            </a:bodyPr>
            <a:p>
              <a:endParaRPr b="0" lang="en-US" sz="1800" spc="-1" strike="noStrike">
                <a:solidFill>
                  <a:srgbClr val="000000"/>
                </a:solidFill>
                <a:latin typeface="Calibri"/>
              </a:endParaRPr>
            </a:p>
          </p:txBody>
        </p:sp>
        <p:sp>
          <p:nvSpPr>
            <p:cNvPr id="662" name="Shape 1276"/>
            <p:cNvSpPr/>
            <p:nvPr/>
          </p:nvSpPr>
          <p:spPr>
            <a:xfrm>
              <a:off x="6504120" y="3921480"/>
              <a:ext cx="25200" cy="53280"/>
            </a:xfrm>
            <a:custGeom>
              <a:avLst/>
              <a:gdLst/>
              <a:ahLst/>
              <a:rect l="l" t="t" r="r" b="b"/>
              <a:pathLst>
                <a:path w="19286" h="19484">
                  <a:moveTo>
                    <a:pt x="13115" y="640"/>
                  </a:moveTo>
                  <a:cubicBezTo>
                    <a:pt x="10029" y="-800"/>
                    <a:pt x="3857" y="3520"/>
                    <a:pt x="3857" y="4960"/>
                  </a:cubicBezTo>
                  <a:cubicBezTo>
                    <a:pt x="772" y="6400"/>
                    <a:pt x="772" y="4960"/>
                    <a:pt x="772" y="7840"/>
                  </a:cubicBezTo>
                  <a:cubicBezTo>
                    <a:pt x="772" y="9280"/>
                    <a:pt x="-2314" y="20800"/>
                    <a:pt x="3857" y="19360"/>
                  </a:cubicBezTo>
                  <a:cubicBezTo>
                    <a:pt x="3857" y="17920"/>
                    <a:pt x="13115" y="13600"/>
                    <a:pt x="16200" y="10720"/>
                  </a:cubicBezTo>
                  <a:cubicBezTo>
                    <a:pt x="16200" y="6400"/>
                    <a:pt x="16200" y="4960"/>
                    <a:pt x="19286" y="2080"/>
                  </a:cubicBezTo>
                  <a:cubicBezTo>
                    <a:pt x="19286" y="640"/>
                    <a:pt x="16200" y="640"/>
                    <a:pt x="13115" y="640"/>
                  </a:cubicBezTo>
                  <a:cubicBezTo>
                    <a:pt x="10029" y="-800"/>
                    <a:pt x="16200" y="640"/>
                    <a:pt x="13115" y="640"/>
                  </a:cubicBezTo>
                  <a:close/>
                </a:path>
              </a:pathLst>
            </a:custGeom>
            <a:solidFill>
              <a:srgbClr val="dadbdf"/>
            </a:solidFill>
            <a:ln w="4680">
              <a:solidFill>
                <a:srgbClr val="ffffff"/>
              </a:solidFill>
              <a:round/>
            </a:ln>
          </p:spPr>
          <p:style>
            <a:lnRef idx="0"/>
            <a:fillRef idx="0"/>
            <a:effectRef idx="0"/>
            <a:fontRef idx="minor"/>
          </p:style>
          <p:txBody>
            <a:bodyPr lIns="45360" rIns="45360" tIns="6480" bIns="6480" anchor="t">
              <a:noAutofit/>
            </a:bodyPr>
            <a:p>
              <a:endParaRPr b="0" lang="en-US" sz="1800" spc="-1" strike="noStrike">
                <a:solidFill>
                  <a:srgbClr val="000000"/>
                </a:solidFill>
                <a:latin typeface="Calibri"/>
              </a:endParaRPr>
            </a:p>
          </p:txBody>
        </p:sp>
        <p:sp>
          <p:nvSpPr>
            <p:cNvPr id="663" name="Shape 1277"/>
            <p:cNvSpPr/>
            <p:nvPr/>
          </p:nvSpPr>
          <p:spPr>
            <a:xfrm>
              <a:off x="6797880" y="3887280"/>
              <a:ext cx="51120" cy="39960"/>
            </a:xfrm>
            <a:custGeom>
              <a:avLst/>
              <a:gdLst/>
              <a:ahLst/>
              <a:rect l="l" t="t" r="r" b="b"/>
              <a:pathLst>
                <a:path w="21600" h="20037">
                  <a:moveTo>
                    <a:pt x="19938" y="4328"/>
                  </a:moveTo>
                  <a:cubicBezTo>
                    <a:pt x="16615" y="4328"/>
                    <a:pt x="13292" y="-1563"/>
                    <a:pt x="9969" y="401"/>
                  </a:cubicBezTo>
                  <a:cubicBezTo>
                    <a:pt x="4985" y="2364"/>
                    <a:pt x="11631" y="4328"/>
                    <a:pt x="11631" y="8255"/>
                  </a:cubicBezTo>
                  <a:cubicBezTo>
                    <a:pt x="13292" y="10219"/>
                    <a:pt x="16615" y="14146"/>
                    <a:pt x="14954" y="16110"/>
                  </a:cubicBezTo>
                  <a:cubicBezTo>
                    <a:pt x="13292" y="18073"/>
                    <a:pt x="11631" y="18073"/>
                    <a:pt x="9969" y="18073"/>
                  </a:cubicBezTo>
                  <a:cubicBezTo>
                    <a:pt x="6646" y="16110"/>
                    <a:pt x="9969" y="16110"/>
                    <a:pt x="8308" y="14146"/>
                  </a:cubicBezTo>
                  <a:cubicBezTo>
                    <a:pt x="8308" y="14146"/>
                    <a:pt x="0" y="16110"/>
                    <a:pt x="0" y="16110"/>
                  </a:cubicBezTo>
                  <a:cubicBezTo>
                    <a:pt x="0" y="20037"/>
                    <a:pt x="3323" y="20037"/>
                    <a:pt x="4985" y="20037"/>
                  </a:cubicBezTo>
                  <a:cubicBezTo>
                    <a:pt x="9969" y="18073"/>
                    <a:pt x="14954" y="20037"/>
                    <a:pt x="21600" y="20037"/>
                  </a:cubicBezTo>
                  <a:cubicBezTo>
                    <a:pt x="21600" y="14146"/>
                    <a:pt x="19938" y="8255"/>
                    <a:pt x="19938" y="4328"/>
                  </a:cubicBezTo>
                  <a:cubicBezTo>
                    <a:pt x="18277" y="4328"/>
                    <a:pt x="19938" y="8255"/>
                    <a:pt x="19938" y="4328"/>
                  </a:cubicBezTo>
                  <a:close/>
                </a:path>
              </a:pathLst>
            </a:custGeom>
            <a:solidFill>
              <a:srgbClr val="dadbdf"/>
            </a:solidFill>
            <a:ln w="4680">
              <a:solidFill>
                <a:srgbClr val="ffffff"/>
              </a:solidFill>
              <a:round/>
            </a:ln>
          </p:spPr>
          <p:style>
            <a:lnRef idx="0"/>
            <a:fillRef idx="0"/>
            <a:effectRef idx="0"/>
            <a:fontRef idx="minor"/>
          </p:style>
          <p:txBody>
            <a:bodyPr lIns="45360" rIns="45360" tIns="-6840" bIns="-6840" anchor="t">
              <a:noAutofit/>
            </a:bodyPr>
            <a:p>
              <a:endParaRPr b="0" lang="en-US" sz="1800" spc="-1" strike="noStrike">
                <a:solidFill>
                  <a:srgbClr val="000000"/>
                </a:solidFill>
                <a:latin typeface="Calibri"/>
              </a:endParaRPr>
            </a:p>
          </p:txBody>
        </p:sp>
        <p:sp>
          <p:nvSpPr>
            <p:cNvPr id="664" name="Shape 1278"/>
            <p:cNvSpPr/>
            <p:nvPr/>
          </p:nvSpPr>
          <p:spPr>
            <a:xfrm>
              <a:off x="6845040" y="3886920"/>
              <a:ext cx="68760" cy="48600"/>
            </a:xfrm>
            <a:custGeom>
              <a:avLst/>
              <a:gdLst/>
              <a:ahLst/>
              <a:rect l="l" t="t" r="r" b="b"/>
              <a:pathLst>
                <a:path w="20850" h="17811">
                  <a:moveTo>
                    <a:pt x="16800" y="9032"/>
                  </a:moveTo>
                  <a:cubicBezTo>
                    <a:pt x="14400" y="7592"/>
                    <a:pt x="12000" y="4712"/>
                    <a:pt x="9600" y="3272"/>
                  </a:cubicBezTo>
                  <a:cubicBezTo>
                    <a:pt x="8400" y="1832"/>
                    <a:pt x="2400" y="-1048"/>
                    <a:pt x="1200" y="392"/>
                  </a:cubicBezTo>
                  <a:cubicBezTo>
                    <a:pt x="1200" y="392"/>
                    <a:pt x="3600" y="3272"/>
                    <a:pt x="0" y="3272"/>
                  </a:cubicBezTo>
                  <a:cubicBezTo>
                    <a:pt x="0" y="6152"/>
                    <a:pt x="1200" y="9032"/>
                    <a:pt x="1200" y="13352"/>
                  </a:cubicBezTo>
                  <a:cubicBezTo>
                    <a:pt x="1200" y="14792"/>
                    <a:pt x="1200" y="14792"/>
                    <a:pt x="2400" y="16232"/>
                  </a:cubicBezTo>
                  <a:cubicBezTo>
                    <a:pt x="3600" y="20552"/>
                    <a:pt x="3600" y="14792"/>
                    <a:pt x="4800" y="13352"/>
                  </a:cubicBezTo>
                  <a:cubicBezTo>
                    <a:pt x="7200" y="10472"/>
                    <a:pt x="13200" y="13352"/>
                    <a:pt x="15600" y="13352"/>
                  </a:cubicBezTo>
                  <a:cubicBezTo>
                    <a:pt x="18000" y="13352"/>
                    <a:pt x="18000" y="14792"/>
                    <a:pt x="20400" y="13352"/>
                  </a:cubicBezTo>
                  <a:cubicBezTo>
                    <a:pt x="21600" y="10472"/>
                    <a:pt x="20400" y="9032"/>
                    <a:pt x="16800" y="9032"/>
                  </a:cubicBezTo>
                  <a:cubicBezTo>
                    <a:pt x="14400" y="9032"/>
                    <a:pt x="19200" y="9032"/>
                    <a:pt x="16800" y="9032"/>
                  </a:cubicBezTo>
                  <a:close/>
                </a:path>
              </a:pathLst>
            </a:custGeom>
            <a:solidFill>
              <a:srgbClr val="dadbdf"/>
            </a:solidFill>
            <a:ln w="4680">
              <a:solidFill>
                <a:srgbClr val="ffffff"/>
              </a:solidFill>
              <a:round/>
            </a:ln>
          </p:spPr>
          <p:style>
            <a:lnRef idx="0"/>
            <a:fillRef idx="0"/>
            <a:effectRef idx="0"/>
            <a:fontRef idx="minor"/>
          </p:style>
          <p:txBody>
            <a:bodyPr lIns="45360" rIns="45360" tIns="1800" bIns="1800" anchor="t">
              <a:noAutofit/>
            </a:bodyPr>
            <a:p>
              <a:endParaRPr b="0" lang="en-US" sz="1800" spc="-1" strike="noStrike">
                <a:solidFill>
                  <a:srgbClr val="000000"/>
                </a:solidFill>
                <a:latin typeface="Calibri"/>
              </a:endParaRPr>
            </a:p>
          </p:txBody>
        </p:sp>
        <p:sp>
          <p:nvSpPr>
            <p:cNvPr id="665" name="Shape 1279"/>
            <p:cNvSpPr/>
            <p:nvPr/>
          </p:nvSpPr>
          <p:spPr>
            <a:xfrm>
              <a:off x="4954680" y="2567880"/>
              <a:ext cx="752040" cy="509760"/>
            </a:xfrm>
            <a:custGeom>
              <a:avLst/>
              <a:gdLst/>
              <a:ahLst/>
              <a:rect l="l" t="t" r="r" b="b"/>
              <a:pathLst>
                <a:path w="21179" h="21378">
                  <a:moveTo>
                    <a:pt x="21179" y="20834"/>
                  </a:moveTo>
                  <a:cubicBezTo>
                    <a:pt x="21068" y="20668"/>
                    <a:pt x="20845" y="20668"/>
                    <a:pt x="21068" y="20336"/>
                  </a:cubicBezTo>
                  <a:cubicBezTo>
                    <a:pt x="21068" y="20170"/>
                    <a:pt x="20956" y="20170"/>
                    <a:pt x="20845" y="20170"/>
                  </a:cubicBezTo>
                  <a:cubicBezTo>
                    <a:pt x="20622" y="19837"/>
                    <a:pt x="20177" y="19671"/>
                    <a:pt x="20066" y="19505"/>
                  </a:cubicBezTo>
                  <a:cubicBezTo>
                    <a:pt x="19620" y="18674"/>
                    <a:pt x="19398" y="17677"/>
                    <a:pt x="18952" y="17013"/>
                  </a:cubicBezTo>
                  <a:cubicBezTo>
                    <a:pt x="18730" y="16847"/>
                    <a:pt x="18507" y="16514"/>
                    <a:pt x="18395" y="16348"/>
                  </a:cubicBezTo>
                  <a:cubicBezTo>
                    <a:pt x="18173" y="16182"/>
                    <a:pt x="18173" y="15684"/>
                    <a:pt x="17950" y="15684"/>
                  </a:cubicBezTo>
                  <a:cubicBezTo>
                    <a:pt x="17839" y="15684"/>
                    <a:pt x="17505" y="16016"/>
                    <a:pt x="17505" y="16016"/>
                  </a:cubicBezTo>
                  <a:cubicBezTo>
                    <a:pt x="17616" y="16348"/>
                    <a:pt x="17282" y="16514"/>
                    <a:pt x="17171" y="16514"/>
                  </a:cubicBezTo>
                  <a:cubicBezTo>
                    <a:pt x="16837" y="16681"/>
                    <a:pt x="16503" y="16016"/>
                    <a:pt x="16280" y="15684"/>
                  </a:cubicBezTo>
                  <a:cubicBezTo>
                    <a:pt x="16169" y="15517"/>
                    <a:pt x="16057" y="15517"/>
                    <a:pt x="15946" y="15185"/>
                  </a:cubicBezTo>
                  <a:cubicBezTo>
                    <a:pt x="15835" y="14853"/>
                    <a:pt x="15612" y="15019"/>
                    <a:pt x="15501" y="15185"/>
                  </a:cubicBezTo>
                  <a:cubicBezTo>
                    <a:pt x="15278" y="15185"/>
                    <a:pt x="15278" y="15019"/>
                    <a:pt x="15055" y="15185"/>
                  </a:cubicBezTo>
                  <a:cubicBezTo>
                    <a:pt x="15055" y="15185"/>
                    <a:pt x="14944" y="15185"/>
                    <a:pt x="14944" y="15019"/>
                  </a:cubicBezTo>
                  <a:cubicBezTo>
                    <a:pt x="14944" y="14853"/>
                    <a:pt x="14944" y="14853"/>
                    <a:pt x="14944" y="14687"/>
                  </a:cubicBezTo>
                  <a:cubicBezTo>
                    <a:pt x="14944" y="14022"/>
                    <a:pt x="14944" y="13191"/>
                    <a:pt x="14944" y="12527"/>
                  </a:cubicBezTo>
                  <a:cubicBezTo>
                    <a:pt x="14944" y="10533"/>
                    <a:pt x="14944" y="8373"/>
                    <a:pt x="14944" y="6213"/>
                  </a:cubicBezTo>
                  <a:cubicBezTo>
                    <a:pt x="14944" y="5382"/>
                    <a:pt x="14944" y="4385"/>
                    <a:pt x="14944" y="3388"/>
                  </a:cubicBezTo>
                  <a:cubicBezTo>
                    <a:pt x="14944" y="3222"/>
                    <a:pt x="14944" y="2890"/>
                    <a:pt x="14944" y="2557"/>
                  </a:cubicBezTo>
                  <a:cubicBezTo>
                    <a:pt x="14944" y="2391"/>
                    <a:pt x="14833" y="2391"/>
                    <a:pt x="14610" y="2225"/>
                  </a:cubicBezTo>
                  <a:cubicBezTo>
                    <a:pt x="14053" y="1893"/>
                    <a:pt x="13719" y="1893"/>
                    <a:pt x="13163" y="1893"/>
                  </a:cubicBezTo>
                  <a:cubicBezTo>
                    <a:pt x="12606" y="1893"/>
                    <a:pt x="12160" y="1727"/>
                    <a:pt x="11604" y="1561"/>
                  </a:cubicBezTo>
                  <a:cubicBezTo>
                    <a:pt x="10936" y="1561"/>
                    <a:pt x="10379" y="1228"/>
                    <a:pt x="9822" y="1228"/>
                  </a:cubicBezTo>
                  <a:cubicBezTo>
                    <a:pt x="9488" y="1228"/>
                    <a:pt x="9266" y="1394"/>
                    <a:pt x="8932" y="1228"/>
                  </a:cubicBezTo>
                  <a:cubicBezTo>
                    <a:pt x="8932" y="1228"/>
                    <a:pt x="8486" y="1062"/>
                    <a:pt x="8486" y="1062"/>
                  </a:cubicBezTo>
                  <a:cubicBezTo>
                    <a:pt x="8486" y="1062"/>
                    <a:pt x="8598" y="730"/>
                    <a:pt x="8598" y="564"/>
                  </a:cubicBezTo>
                  <a:cubicBezTo>
                    <a:pt x="8598" y="564"/>
                    <a:pt x="8264" y="564"/>
                    <a:pt x="8264" y="564"/>
                  </a:cubicBezTo>
                  <a:cubicBezTo>
                    <a:pt x="8041" y="564"/>
                    <a:pt x="7707" y="730"/>
                    <a:pt x="7484" y="730"/>
                  </a:cubicBezTo>
                  <a:cubicBezTo>
                    <a:pt x="7261" y="730"/>
                    <a:pt x="7373" y="65"/>
                    <a:pt x="7039" y="397"/>
                  </a:cubicBezTo>
                  <a:cubicBezTo>
                    <a:pt x="6927" y="397"/>
                    <a:pt x="6816" y="730"/>
                    <a:pt x="6705" y="564"/>
                  </a:cubicBezTo>
                  <a:cubicBezTo>
                    <a:pt x="6482" y="564"/>
                    <a:pt x="6482" y="397"/>
                    <a:pt x="6705" y="231"/>
                  </a:cubicBezTo>
                  <a:cubicBezTo>
                    <a:pt x="6927" y="231"/>
                    <a:pt x="6593" y="65"/>
                    <a:pt x="6482" y="65"/>
                  </a:cubicBezTo>
                  <a:cubicBezTo>
                    <a:pt x="6037" y="-101"/>
                    <a:pt x="6037" y="65"/>
                    <a:pt x="5814" y="397"/>
                  </a:cubicBezTo>
                  <a:cubicBezTo>
                    <a:pt x="5480" y="896"/>
                    <a:pt x="5035" y="564"/>
                    <a:pt x="4589" y="730"/>
                  </a:cubicBezTo>
                  <a:cubicBezTo>
                    <a:pt x="4144" y="896"/>
                    <a:pt x="4589" y="1228"/>
                    <a:pt x="4589" y="1228"/>
                  </a:cubicBezTo>
                  <a:cubicBezTo>
                    <a:pt x="4478" y="1228"/>
                    <a:pt x="4367" y="1228"/>
                    <a:pt x="4367" y="1228"/>
                  </a:cubicBezTo>
                  <a:cubicBezTo>
                    <a:pt x="4367" y="1228"/>
                    <a:pt x="4478" y="1561"/>
                    <a:pt x="4367" y="1561"/>
                  </a:cubicBezTo>
                  <a:cubicBezTo>
                    <a:pt x="4255" y="1561"/>
                    <a:pt x="4255" y="1228"/>
                    <a:pt x="4255" y="1062"/>
                  </a:cubicBezTo>
                  <a:cubicBezTo>
                    <a:pt x="4144" y="1062"/>
                    <a:pt x="3810" y="1561"/>
                    <a:pt x="3810" y="1561"/>
                  </a:cubicBezTo>
                  <a:cubicBezTo>
                    <a:pt x="3587" y="1727"/>
                    <a:pt x="3365" y="1394"/>
                    <a:pt x="3142" y="1727"/>
                  </a:cubicBezTo>
                  <a:cubicBezTo>
                    <a:pt x="2919" y="1893"/>
                    <a:pt x="2697" y="2059"/>
                    <a:pt x="2585" y="2391"/>
                  </a:cubicBezTo>
                  <a:cubicBezTo>
                    <a:pt x="2585" y="2724"/>
                    <a:pt x="2585" y="3056"/>
                    <a:pt x="2363" y="3222"/>
                  </a:cubicBezTo>
                  <a:cubicBezTo>
                    <a:pt x="2140" y="3388"/>
                    <a:pt x="2028" y="3554"/>
                    <a:pt x="1806" y="3554"/>
                  </a:cubicBezTo>
                  <a:cubicBezTo>
                    <a:pt x="1694" y="3554"/>
                    <a:pt x="1026" y="3554"/>
                    <a:pt x="915" y="3721"/>
                  </a:cubicBezTo>
                  <a:cubicBezTo>
                    <a:pt x="915" y="3887"/>
                    <a:pt x="692" y="4385"/>
                    <a:pt x="692" y="4385"/>
                  </a:cubicBezTo>
                  <a:cubicBezTo>
                    <a:pt x="804" y="4551"/>
                    <a:pt x="1138" y="4551"/>
                    <a:pt x="1249" y="4717"/>
                  </a:cubicBezTo>
                  <a:cubicBezTo>
                    <a:pt x="1583" y="4884"/>
                    <a:pt x="1917" y="5216"/>
                    <a:pt x="2140" y="5548"/>
                  </a:cubicBezTo>
                  <a:cubicBezTo>
                    <a:pt x="2251" y="5714"/>
                    <a:pt x="2251" y="6047"/>
                    <a:pt x="2474" y="6213"/>
                  </a:cubicBezTo>
                  <a:cubicBezTo>
                    <a:pt x="2697" y="6213"/>
                    <a:pt x="2808" y="6213"/>
                    <a:pt x="3031" y="6047"/>
                  </a:cubicBezTo>
                  <a:cubicBezTo>
                    <a:pt x="3031" y="6047"/>
                    <a:pt x="3365" y="6213"/>
                    <a:pt x="3365" y="6213"/>
                  </a:cubicBezTo>
                  <a:cubicBezTo>
                    <a:pt x="3587" y="6711"/>
                    <a:pt x="3031" y="6379"/>
                    <a:pt x="3031" y="6379"/>
                  </a:cubicBezTo>
                  <a:cubicBezTo>
                    <a:pt x="2808" y="6379"/>
                    <a:pt x="3142" y="6711"/>
                    <a:pt x="3253" y="6877"/>
                  </a:cubicBezTo>
                  <a:cubicBezTo>
                    <a:pt x="3365" y="7210"/>
                    <a:pt x="3476" y="7044"/>
                    <a:pt x="3699" y="6877"/>
                  </a:cubicBezTo>
                  <a:cubicBezTo>
                    <a:pt x="3810" y="6711"/>
                    <a:pt x="4144" y="6711"/>
                    <a:pt x="4255" y="6877"/>
                  </a:cubicBezTo>
                  <a:cubicBezTo>
                    <a:pt x="4367" y="7044"/>
                    <a:pt x="3810" y="7210"/>
                    <a:pt x="3810" y="7210"/>
                  </a:cubicBezTo>
                  <a:cubicBezTo>
                    <a:pt x="3699" y="7210"/>
                    <a:pt x="3810" y="7210"/>
                    <a:pt x="3810" y="7376"/>
                  </a:cubicBezTo>
                  <a:cubicBezTo>
                    <a:pt x="3810" y="7542"/>
                    <a:pt x="3587" y="7376"/>
                    <a:pt x="3587" y="7376"/>
                  </a:cubicBezTo>
                  <a:cubicBezTo>
                    <a:pt x="3476" y="7376"/>
                    <a:pt x="3365" y="7542"/>
                    <a:pt x="3142" y="7542"/>
                  </a:cubicBezTo>
                  <a:cubicBezTo>
                    <a:pt x="2919" y="7542"/>
                    <a:pt x="2474" y="7708"/>
                    <a:pt x="2251" y="7542"/>
                  </a:cubicBezTo>
                  <a:cubicBezTo>
                    <a:pt x="2028" y="7376"/>
                    <a:pt x="2363" y="7044"/>
                    <a:pt x="2251" y="6877"/>
                  </a:cubicBezTo>
                  <a:cubicBezTo>
                    <a:pt x="2140" y="6877"/>
                    <a:pt x="1917" y="6877"/>
                    <a:pt x="1806" y="7044"/>
                  </a:cubicBezTo>
                  <a:cubicBezTo>
                    <a:pt x="1694" y="7044"/>
                    <a:pt x="1472" y="7044"/>
                    <a:pt x="1360" y="7044"/>
                  </a:cubicBezTo>
                  <a:cubicBezTo>
                    <a:pt x="1138" y="7210"/>
                    <a:pt x="1249" y="7542"/>
                    <a:pt x="1249" y="7542"/>
                  </a:cubicBezTo>
                  <a:cubicBezTo>
                    <a:pt x="1026" y="7542"/>
                    <a:pt x="804" y="7376"/>
                    <a:pt x="581" y="7542"/>
                  </a:cubicBezTo>
                  <a:cubicBezTo>
                    <a:pt x="470" y="7708"/>
                    <a:pt x="247" y="7874"/>
                    <a:pt x="136" y="8041"/>
                  </a:cubicBezTo>
                  <a:cubicBezTo>
                    <a:pt x="-421" y="8539"/>
                    <a:pt x="915" y="8539"/>
                    <a:pt x="915" y="8705"/>
                  </a:cubicBezTo>
                  <a:cubicBezTo>
                    <a:pt x="804" y="8871"/>
                    <a:pt x="470" y="8871"/>
                    <a:pt x="692" y="9037"/>
                  </a:cubicBezTo>
                  <a:cubicBezTo>
                    <a:pt x="804" y="9204"/>
                    <a:pt x="804" y="9536"/>
                    <a:pt x="915" y="9536"/>
                  </a:cubicBezTo>
                  <a:cubicBezTo>
                    <a:pt x="1360" y="9702"/>
                    <a:pt x="1694" y="9536"/>
                    <a:pt x="2140" y="9536"/>
                  </a:cubicBezTo>
                  <a:cubicBezTo>
                    <a:pt x="2251" y="9702"/>
                    <a:pt x="2363" y="9702"/>
                    <a:pt x="2474" y="9702"/>
                  </a:cubicBezTo>
                  <a:cubicBezTo>
                    <a:pt x="2697" y="9702"/>
                    <a:pt x="2585" y="9702"/>
                    <a:pt x="2808" y="9868"/>
                  </a:cubicBezTo>
                  <a:cubicBezTo>
                    <a:pt x="2808" y="9868"/>
                    <a:pt x="3031" y="9536"/>
                    <a:pt x="3142" y="9536"/>
                  </a:cubicBezTo>
                  <a:cubicBezTo>
                    <a:pt x="3253" y="9370"/>
                    <a:pt x="3365" y="9370"/>
                    <a:pt x="3476" y="9370"/>
                  </a:cubicBezTo>
                  <a:cubicBezTo>
                    <a:pt x="3587" y="9204"/>
                    <a:pt x="3699" y="9037"/>
                    <a:pt x="3699" y="9037"/>
                  </a:cubicBezTo>
                  <a:cubicBezTo>
                    <a:pt x="3810" y="9204"/>
                    <a:pt x="3921" y="9370"/>
                    <a:pt x="3810" y="9536"/>
                  </a:cubicBezTo>
                  <a:cubicBezTo>
                    <a:pt x="3699" y="9702"/>
                    <a:pt x="3587" y="9702"/>
                    <a:pt x="3810" y="10034"/>
                  </a:cubicBezTo>
                  <a:cubicBezTo>
                    <a:pt x="4033" y="10699"/>
                    <a:pt x="3810" y="11197"/>
                    <a:pt x="3253" y="11031"/>
                  </a:cubicBezTo>
                  <a:cubicBezTo>
                    <a:pt x="3253" y="11031"/>
                    <a:pt x="3142" y="10865"/>
                    <a:pt x="3031" y="11031"/>
                  </a:cubicBezTo>
                  <a:cubicBezTo>
                    <a:pt x="2919" y="11197"/>
                    <a:pt x="2808" y="11530"/>
                    <a:pt x="2697" y="11530"/>
                  </a:cubicBezTo>
                  <a:cubicBezTo>
                    <a:pt x="2474" y="11696"/>
                    <a:pt x="1806" y="11197"/>
                    <a:pt x="1917" y="11696"/>
                  </a:cubicBezTo>
                  <a:cubicBezTo>
                    <a:pt x="1917" y="11696"/>
                    <a:pt x="1583" y="12028"/>
                    <a:pt x="1694" y="12028"/>
                  </a:cubicBezTo>
                  <a:cubicBezTo>
                    <a:pt x="1694" y="12028"/>
                    <a:pt x="1806" y="12028"/>
                    <a:pt x="1806" y="12028"/>
                  </a:cubicBezTo>
                  <a:cubicBezTo>
                    <a:pt x="1917" y="12194"/>
                    <a:pt x="1583" y="12361"/>
                    <a:pt x="1472" y="12527"/>
                  </a:cubicBezTo>
                  <a:cubicBezTo>
                    <a:pt x="1360" y="12527"/>
                    <a:pt x="1249" y="12693"/>
                    <a:pt x="1249" y="12859"/>
                  </a:cubicBezTo>
                  <a:cubicBezTo>
                    <a:pt x="1138" y="13191"/>
                    <a:pt x="1360" y="13191"/>
                    <a:pt x="1138" y="13357"/>
                  </a:cubicBezTo>
                  <a:cubicBezTo>
                    <a:pt x="915" y="13524"/>
                    <a:pt x="1138" y="13856"/>
                    <a:pt x="1249" y="14022"/>
                  </a:cubicBezTo>
                  <a:cubicBezTo>
                    <a:pt x="1249" y="14188"/>
                    <a:pt x="1583" y="13357"/>
                    <a:pt x="1694" y="13357"/>
                  </a:cubicBezTo>
                  <a:cubicBezTo>
                    <a:pt x="1694" y="13357"/>
                    <a:pt x="1472" y="13856"/>
                    <a:pt x="1472" y="13856"/>
                  </a:cubicBezTo>
                  <a:cubicBezTo>
                    <a:pt x="1360" y="14022"/>
                    <a:pt x="1694" y="14354"/>
                    <a:pt x="1806" y="14354"/>
                  </a:cubicBezTo>
                  <a:cubicBezTo>
                    <a:pt x="1917" y="14521"/>
                    <a:pt x="1917" y="14687"/>
                    <a:pt x="2028" y="14521"/>
                  </a:cubicBezTo>
                  <a:cubicBezTo>
                    <a:pt x="2140" y="14354"/>
                    <a:pt x="2251" y="14188"/>
                    <a:pt x="2251" y="14188"/>
                  </a:cubicBezTo>
                  <a:cubicBezTo>
                    <a:pt x="2251" y="14354"/>
                    <a:pt x="2363" y="14687"/>
                    <a:pt x="2474" y="14687"/>
                  </a:cubicBezTo>
                  <a:cubicBezTo>
                    <a:pt x="2251" y="14853"/>
                    <a:pt x="2140" y="14687"/>
                    <a:pt x="2028" y="14687"/>
                  </a:cubicBezTo>
                  <a:cubicBezTo>
                    <a:pt x="1917" y="14853"/>
                    <a:pt x="1806" y="14354"/>
                    <a:pt x="1694" y="14354"/>
                  </a:cubicBezTo>
                  <a:cubicBezTo>
                    <a:pt x="1583" y="14354"/>
                    <a:pt x="1360" y="14853"/>
                    <a:pt x="1583" y="15019"/>
                  </a:cubicBezTo>
                  <a:cubicBezTo>
                    <a:pt x="1806" y="15185"/>
                    <a:pt x="1806" y="15351"/>
                    <a:pt x="2028" y="15517"/>
                  </a:cubicBezTo>
                  <a:cubicBezTo>
                    <a:pt x="2140" y="15850"/>
                    <a:pt x="2363" y="15684"/>
                    <a:pt x="2585" y="15684"/>
                  </a:cubicBezTo>
                  <a:cubicBezTo>
                    <a:pt x="2697" y="15517"/>
                    <a:pt x="2919" y="15684"/>
                    <a:pt x="2919" y="15351"/>
                  </a:cubicBezTo>
                  <a:cubicBezTo>
                    <a:pt x="2919" y="15019"/>
                    <a:pt x="3031" y="14521"/>
                    <a:pt x="3253" y="14687"/>
                  </a:cubicBezTo>
                  <a:cubicBezTo>
                    <a:pt x="3253" y="14521"/>
                    <a:pt x="3031" y="15185"/>
                    <a:pt x="3031" y="15351"/>
                  </a:cubicBezTo>
                  <a:cubicBezTo>
                    <a:pt x="3031" y="15517"/>
                    <a:pt x="3476" y="16016"/>
                    <a:pt x="3365" y="16182"/>
                  </a:cubicBezTo>
                  <a:cubicBezTo>
                    <a:pt x="3142" y="16514"/>
                    <a:pt x="3476" y="16681"/>
                    <a:pt x="3476" y="16681"/>
                  </a:cubicBezTo>
                  <a:cubicBezTo>
                    <a:pt x="3365" y="16681"/>
                    <a:pt x="3142" y="17179"/>
                    <a:pt x="3142" y="17179"/>
                  </a:cubicBezTo>
                  <a:cubicBezTo>
                    <a:pt x="3253" y="17345"/>
                    <a:pt x="3810" y="16847"/>
                    <a:pt x="3810" y="16847"/>
                  </a:cubicBezTo>
                  <a:cubicBezTo>
                    <a:pt x="3810" y="17013"/>
                    <a:pt x="3699" y="17013"/>
                    <a:pt x="3699" y="17179"/>
                  </a:cubicBezTo>
                  <a:cubicBezTo>
                    <a:pt x="3699" y="17179"/>
                    <a:pt x="3921" y="16847"/>
                    <a:pt x="4033" y="16681"/>
                  </a:cubicBezTo>
                  <a:cubicBezTo>
                    <a:pt x="4144" y="16681"/>
                    <a:pt x="4589" y="16847"/>
                    <a:pt x="4589" y="17013"/>
                  </a:cubicBezTo>
                  <a:cubicBezTo>
                    <a:pt x="4701" y="17179"/>
                    <a:pt x="4923" y="17677"/>
                    <a:pt x="4923" y="17345"/>
                  </a:cubicBezTo>
                  <a:cubicBezTo>
                    <a:pt x="4923" y="17179"/>
                    <a:pt x="5146" y="16514"/>
                    <a:pt x="5146" y="16514"/>
                  </a:cubicBezTo>
                  <a:cubicBezTo>
                    <a:pt x="5146" y="16348"/>
                    <a:pt x="5480" y="16847"/>
                    <a:pt x="5480" y="16681"/>
                  </a:cubicBezTo>
                  <a:cubicBezTo>
                    <a:pt x="5480" y="16681"/>
                    <a:pt x="5146" y="16681"/>
                    <a:pt x="5146" y="16847"/>
                  </a:cubicBezTo>
                  <a:cubicBezTo>
                    <a:pt x="5146" y="17179"/>
                    <a:pt x="5480" y="17179"/>
                    <a:pt x="5591" y="17013"/>
                  </a:cubicBezTo>
                  <a:cubicBezTo>
                    <a:pt x="5703" y="16847"/>
                    <a:pt x="5814" y="17013"/>
                    <a:pt x="5925" y="16847"/>
                  </a:cubicBezTo>
                  <a:cubicBezTo>
                    <a:pt x="5925" y="16847"/>
                    <a:pt x="6148" y="16514"/>
                    <a:pt x="6148" y="16514"/>
                  </a:cubicBezTo>
                  <a:cubicBezTo>
                    <a:pt x="6148" y="16514"/>
                    <a:pt x="5925" y="17013"/>
                    <a:pt x="5814" y="17179"/>
                  </a:cubicBezTo>
                  <a:cubicBezTo>
                    <a:pt x="5814" y="17345"/>
                    <a:pt x="5814" y="17345"/>
                    <a:pt x="5703" y="17511"/>
                  </a:cubicBezTo>
                  <a:cubicBezTo>
                    <a:pt x="5703" y="17677"/>
                    <a:pt x="5814" y="17511"/>
                    <a:pt x="5814" y="17677"/>
                  </a:cubicBezTo>
                  <a:cubicBezTo>
                    <a:pt x="5814" y="17677"/>
                    <a:pt x="5703" y="17844"/>
                    <a:pt x="5591" y="18010"/>
                  </a:cubicBezTo>
                  <a:cubicBezTo>
                    <a:pt x="5591" y="18342"/>
                    <a:pt x="5591" y="18342"/>
                    <a:pt x="5703" y="18508"/>
                  </a:cubicBezTo>
                  <a:cubicBezTo>
                    <a:pt x="5703" y="18508"/>
                    <a:pt x="5369" y="18841"/>
                    <a:pt x="5257" y="18841"/>
                  </a:cubicBezTo>
                  <a:cubicBezTo>
                    <a:pt x="5146" y="19173"/>
                    <a:pt x="5035" y="19339"/>
                    <a:pt x="4812" y="19505"/>
                  </a:cubicBezTo>
                  <a:cubicBezTo>
                    <a:pt x="4589" y="19505"/>
                    <a:pt x="4367" y="19837"/>
                    <a:pt x="4255" y="20004"/>
                  </a:cubicBezTo>
                  <a:cubicBezTo>
                    <a:pt x="4144" y="20004"/>
                    <a:pt x="4144" y="20170"/>
                    <a:pt x="4033" y="20170"/>
                  </a:cubicBezTo>
                  <a:cubicBezTo>
                    <a:pt x="4033" y="20336"/>
                    <a:pt x="4144" y="20502"/>
                    <a:pt x="4144" y="20502"/>
                  </a:cubicBezTo>
                  <a:cubicBezTo>
                    <a:pt x="4033" y="20668"/>
                    <a:pt x="3699" y="20502"/>
                    <a:pt x="3587" y="20502"/>
                  </a:cubicBezTo>
                  <a:cubicBezTo>
                    <a:pt x="3253" y="20502"/>
                    <a:pt x="3142" y="20668"/>
                    <a:pt x="2919" y="21001"/>
                  </a:cubicBezTo>
                  <a:cubicBezTo>
                    <a:pt x="2808" y="21167"/>
                    <a:pt x="2919" y="21499"/>
                    <a:pt x="3031" y="21333"/>
                  </a:cubicBezTo>
                  <a:cubicBezTo>
                    <a:pt x="3253" y="21167"/>
                    <a:pt x="3476" y="20668"/>
                    <a:pt x="3587" y="20834"/>
                  </a:cubicBezTo>
                  <a:cubicBezTo>
                    <a:pt x="3587" y="20668"/>
                    <a:pt x="3476" y="21333"/>
                    <a:pt x="3810" y="20834"/>
                  </a:cubicBezTo>
                  <a:cubicBezTo>
                    <a:pt x="3810" y="20834"/>
                    <a:pt x="4033" y="21333"/>
                    <a:pt x="4144" y="21001"/>
                  </a:cubicBezTo>
                  <a:cubicBezTo>
                    <a:pt x="4144" y="20834"/>
                    <a:pt x="4033" y="20834"/>
                    <a:pt x="4144" y="20834"/>
                  </a:cubicBezTo>
                  <a:cubicBezTo>
                    <a:pt x="4255" y="20668"/>
                    <a:pt x="4255" y="20668"/>
                    <a:pt x="4367" y="20668"/>
                  </a:cubicBezTo>
                  <a:cubicBezTo>
                    <a:pt x="4478" y="20668"/>
                    <a:pt x="4478" y="20668"/>
                    <a:pt x="4589" y="20502"/>
                  </a:cubicBezTo>
                  <a:cubicBezTo>
                    <a:pt x="4701" y="20336"/>
                    <a:pt x="4923" y="20336"/>
                    <a:pt x="5146" y="20170"/>
                  </a:cubicBezTo>
                  <a:cubicBezTo>
                    <a:pt x="5480" y="20004"/>
                    <a:pt x="5035" y="20004"/>
                    <a:pt x="5257" y="19837"/>
                  </a:cubicBezTo>
                  <a:cubicBezTo>
                    <a:pt x="5369" y="19671"/>
                    <a:pt x="5480" y="19505"/>
                    <a:pt x="5591" y="19505"/>
                  </a:cubicBezTo>
                  <a:cubicBezTo>
                    <a:pt x="5814" y="19339"/>
                    <a:pt x="6037" y="19173"/>
                    <a:pt x="6148" y="19173"/>
                  </a:cubicBezTo>
                  <a:cubicBezTo>
                    <a:pt x="6482" y="18841"/>
                    <a:pt x="6259" y="19007"/>
                    <a:pt x="6259" y="18674"/>
                  </a:cubicBezTo>
                  <a:cubicBezTo>
                    <a:pt x="6259" y="18674"/>
                    <a:pt x="7150" y="18010"/>
                    <a:pt x="7261" y="17844"/>
                  </a:cubicBezTo>
                  <a:cubicBezTo>
                    <a:pt x="7373" y="17844"/>
                    <a:pt x="7595" y="17844"/>
                    <a:pt x="7595" y="17677"/>
                  </a:cubicBezTo>
                  <a:cubicBezTo>
                    <a:pt x="7595" y="17179"/>
                    <a:pt x="7707" y="17345"/>
                    <a:pt x="7930" y="17179"/>
                  </a:cubicBezTo>
                  <a:cubicBezTo>
                    <a:pt x="8264" y="16847"/>
                    <a:pt x="7261" y="16681"/>
                    <a:pt x="7707" y="16016"/>
                  </a:cubicBezTo>
                  <a:cubicBezTo>
                    <a:pt x="7930" y="15850"/>
                    <a:pt x="8152" y="15850"/>
                    <a:pt x="8264" y="15684"/>
                  </a:cubicBezTo>
                  <a:cubicBezTo>
                    <a:pt x="8375" y="15517"/>
                    <a:pt x="8375" y="15019"/>
                    <a:pt x="8152" y="15019"/>
                  </a:cubicBezTo>
                  <a:cubicBezTo>
                    <a:pt x="8375" y="15019"/>
                    <a:pt x="8375" y="15185"/>
                    <a:pt x="8598" y="15019"/>
                  </a:cubicBezTo>
                  <a:cubicBezTo>
                    <a:pt x="8709" y="14853"/>
                    <a:pt x="8820" y="14521"/>
                    <a:pt x="9043" y="14354"/>
                  </a:cubicBezTo>
                  <a:cubicBezTo>
                    <a:pt x="9154" y="14188"/>
                    <a:pt x="9377" y="13856"/>
                    <a:pt x="9488" y="13856"/>
                  </a:cubicBezTo>
                  <a:cubicBezTo>
                    <a:pt x="9600" y="13856"/>
                    <a:pt x="10156" y="13856"/>
                    <a:pt x="10045" y="14188"/>
                  </a:cubicBezTo>
                  <a:cubicBezTo>
                    <a:pt x="9934" y="14354"/>
                    <a:pt x="9711" y="14022"/>
                    <a:pt x="9488" y="14188"/>
                  </a:cubicBezTo>
                  <a:cubicBezTo>
                    <a:pt x="9266" y="14354"/>
                    <a:pt x="9266" y="14521"/>
                    <a:pt x="9154" y="14853"/>
                  </a:cubicBezTo>
                  <a:cubicBezTo>
                    <a:pt x="9154" y="15185"/>
                    <a:pt x="8932" y="15517"/>
                    <a:pt x="8932" y="15850"/>
                  </a:cubicBezTo>
                  <a:cubicBezTo>
                    <a:pt x="8820" y="16016"/>
                    <a:pt x="9266" y="15850"/>
                    <a:pt x="9266" y="16016"/>
                  </a:cubicBezTo>
                  <a:cubicBezTo>
                    <a:pt x="9154" y="16016"/>
                    <a:pt x="8598" y="16348"/>
                    <a:pt x="9043" y="16348"/>
                  </a:cubicBezTo>
                  <a:cubicBezTo>
                    <a:pt x="9377" y="16348"/>
                    <a:pt x="9600" y="16016"/>
                    <a:pt x="9934" y="15850"/>
                  </a:cubicBezTo>
                  <a:cubicBezTo>
                    <a:pt x="10156" y="15517"/>
                    <a:pt x="10379" y="15517"/>
                    <a:pt x="10602" y="15351"/>
                  </a:cubicBezTo>
                  <a:cubicBezTo>
                    <a:pt x="11047" y="15185"/>
                    <a:pt x="10824" y="14853"/>
                    <a:pt x="10824" y="14521"/>
                  </a:cubicBezTo>
                  <a:cubicBezTo>
                    <a:pt x="10713" y="13856"/>
                    <a:pt x="11715" y="14354"/>
                    <a:pt x="11938" y="14521"/>
                  </a:cubicBezTo>
                  <a:cubicBezTo>
                    <a:pt x="12160" y="14521"/>
                    <a:pt x="12272" y="14853"/>
                    <a:pt x="12494" y="15019"/>
                  </a:cubicBezTo>
                  <a:cubicBezTo>
                    <a:pt x="12494" y="15019"/>
                    <a:pt x="12717" y="14521"/>
                    <a:pt x="12828" y="14687"/>
                  </a:cubicBezTo>
                  <a:cubicBezTo>
                    <a:pt x="12828" y="14687"/>
                    <a:pt x="12828" y="15019"/>
                    <a:pt x="12828" y="15185"/>
                  </a:cubicBezTo>
                  <a:cubicBezTo>
                    <a:pt x="13051" y="15351"/>
                    <a:pt x="13163" y="15351"/>
                    <a:pt x="13274" y="15351"/>
                  </a:cubicBezTo>
                  <a:cubicBezTo>
                    <a:pt x="13608" y="15351"/>
                    <a:pt x="13942" y="15185"/>
                    <a:pt x="14165" y="15351"/>
                  </a:cubicBezTo>
                  <a:cubicBezTo>
                    <a:pt x="14276" y="15351"/>
                    <a:pt x="14387" y="15517"/>
                    <a:pt x="14499" y="15351"/>
                  </a:cubicBezTo>
                  <a:cubicBezTo>
                    <a:pt x="14610" y="15351"/>
                    <a:pt x="14610" y="15517"/>
                    <a:pt x="14721" y="15684"/>
                  </a:cubicBezTo>
                  <a:cubicBezTo>
                    <a:pt x="14833" y="15684"/>
                    <a:pt x="15055" y="15850"/>
                    <a:pt x="15167" y="15850"/>
                  </a:cubicBezTo>
                  <a:cubicBezTo>
                    <a:pt x="15389" y="15850"/>
                    <a:pt x="15501" y="15517"/>
                    <a:pt x="15612" y="15517"/>
                  </a:cubicBezTo>
                  <a:cubicBezTo>
                    <a:pt x="15835" y="15351"/>
                    <a:pt x="15723" y="15850"/>
                    <a:pt x="15723" y="15850"/>
                  </a:cubicBezTo>
                  <a:cubicBezTo>
                    <a:pt x="15612" y="16016"/>
                    <a:pt x="15612" y="16016"/>
                    <a:pt x="15723" y="16182"/>
                  </a:cubicBezTo>
                  <a:cubicBezTo>
                    <a:pt x="16057" y="16348"/>
                    <a:pt x="16280" y="16514"/>
                    <a:pt x="16503" y="16681"/>
                  </a:cubicBezTo>
                  <a:cubicBezTo>
                    <a:pt x="16725" y="17013"/>
                    <a:pt x="16948" y="17345"/>
                    <a:pt x="17171" y="17511"/>
                  </a:cubicBezTo>
                  <a:cubicBezTo>
                    <a:pt x="17282" y="17511"/>
                    <a:pt x="17393" y="17345"/>
                    <a:pt x="17505" y="17345"/>
                  </a:cubicBezTo>
                  <a:cubicBezTo>
                    <a:pt x="17616" y="17179"/>
                    <a:pt x="17393" y="17013"/>
                    <a:pt x="17393" y="16847"/>
                  </a:cubicBezTo>
                  <a:cubicBezTo>
                    <a:pt x="17393" y="16681"/>
                    <a:pt x="17727" y="17013"/>
                    <a:pt x="17727" y="17013"/>
                  </a:cubicBezTo>
                  <a:cubicBezTo>
                    <a:pt x="17727" y="17179"/>
                    <a:pt x="18061" y="17511"/>
                    <a:pt x="18173" y="17345"/>
                  </a:cubicBezTo>
                  <a:cubicBezTo>
                    <a:pt x="18173" y="17345"/>
                    <a:pt x="17950" y="16348"/>
                    <a:pt x="17950" y="16348"/>
                  </a:cubicBezTo>
                  <a:cubicBezTo>
                    <a:pt x="18061" y="16348"/>
                    <a:pt x="18284" y="17179"/>
                    <a:pt x="18395" y="17179"/>
                  </a:cubicBezTo>
                  <a:cubicBezTo>
                    <a:pt x="18395" y="17345"/>
                    <a:pt x="18507" y="17677"/>
                    <a:pt x="18618" y="17677"/>
                  </a:cubicBezTo>
                  <a:cubicBezTo>
                    <a:pt x="18730" y="17677"/>
                    <a:pt x="18841" y="17345"/>
                    <a:pt x="18841" y="17345"/>
                  </a:cubicBezTo>
                  <a:cubicBezTo>
                    <a:pt x="18618" y="17511"/>
                    <a:pt x="19286" y="18176"/>
                    <a:pt x="19286" y="18342"/>
                  </a:cubicBezTo>
                  <a:cubicBezTo>
                    <a:pt x="19175" y="18342"/>
                    <a:pt x="19175" y="18342"/>
                    <a:pt x="19175" y="18342"/>
                  </a:cubicBezTo>
                  <a:cubicBezTo>
                    <a:pt x="19064" y="18508"/>
                    <a:pt x="19286" y="18508"/>
                    <a:pt x="19286" y="18674"/>
                  </a:cubicBezTo>
                  <a:cubicBezTo>
                    <a:pt x="19286" y="18674"/>
                    <a:pt x="19064" y="18841"/>
                    <a:pt x="19175" y="18841"/>
                  </a:cubicBezTo>
                  <a:cubicBezTo>
                    <a:pt x="19286" y="19007"/>
                    <a:pt x="19398" y="19173"/>
                    <a:pt x="19509" y="19339"/>
                  </a:cubicBezTo>
                  <a:cubicBezTo>
                    <a:pt x="19732" y="19671"/>
                    <a:pt x="19843" y="19837"/>
                    <a:pt x="20066" y="20004"/>
                  </a:cubicBezTo>
                  <a:cubicBezTo>
                    <a:pt x="20066" y="20004"/>
                    <a:pt x="19843" y="20668"/>
                    <a:pt x="19954" y="20668"/>
                  </a:cubicBezTo>
                  <a:cubicBezTo>
                    <a:pt x="20066" y="20834"/>
                    <a:pt x="20066" y="20502"/>
                    <a:pt x="20066" y="20502"/>
                  </a:cubicBezTo>
                  <a:cubicBezTo>
                    <a:pt x="20177" y="20336"/>
                    <a:pt x="20177" y="20834"/>
                    <a:pt x="20288" y="21001"/>
                  </a:cubicBezTo>
                  <a:cubicBezTo>
                    <a:pt x="20288" y="21001"/>
                    <a:pt x="20288" y="20834"/>
                    <a:pt x="20288" y="20668"/>
                  </a:cubicBezTo>
                  <a:cubicBezTo>
                    <a:pt x="20288" y="21001"/>
                    <a:pt x="20956" y="21499"/>
                    <a:pt x="21068" y="21001"/>
                  </a:cubicBezTo>
                  <a:cubicBezTo>
                    <a:pt x="21068" y="21001"/>
                    <a:pt x="21068" y="21167"/>
                    <a:pt x="21068" y="21167"/>
                  </a:cubicBezTo>
                  <a:cubicBezTo>
                    <a:pt x="21068" y="21167"/>
                    <a:pt x="21179" y="21001"/>
                    <a:pt x="21179" y="20834"/>
                  </a:cubicBezTo>
                  <a:cubicBezTo>
                    <a:pt x="21068" y="20834"/>
                    <a:pt x="21179" y="21001"/>
                    <a:pt x="21179" y="2083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66" name="Shape 1280"/>
            <p:cNvSpPr/>
            <p:nvPr/>
          </p:nvSpPr>
          <p:spPr>
            <a:xfrm>
              <a:off x="5808240" y="3225240"/>
              <a:ext cx="1136160" cy="563040"/>
            </a:xfrm>
            <a:custGeom>
              <a:avLst/>
              <a:gdLst/>
              <a:ahLst/>
              <a:rect l="l" t="t" r="r" b="b"/>
              <a:pathLst>
                <a:path w="21492" h="21480">
                  <a:moveTo>
                    <a:pt x="5028" y="16193"/>
                  </a:moveTo>
                  <a:cubicBezTo>
                    <a:pt x="5253" y="16193"/>
                    <a:pt x="5477" y="16193"/>
                    <a:pt x="5776" y="16193"/>
                  </a:cubicBezTo>
                  <a:cubicBezTo>
                    <a:pt x="5850" y="16193"/>
                    <a:pt x="6000" y="16193"/>
                    <a:pt x="6075" y="16193"/>
                  </a:cubicBezTo>
                  <a:cubicBezTo>
                    <a:pt x="6149" y="16193"/>
                    <a:pt x="6149" y="15891"/>
                    <a:pt x="6224" y="15891"/>
                  </a:cubicBezTo>
                  <a:cubicBezTo>
                    <a:pt x="6299" y="15740"/>
                    <a:pt x="6747" y="15740"/>
                    <a:pt x="6747" y="15891"/>
                  </a:cubicBezTo>
                  <a:cubicBezTo>
                    <a:pt x="6972" y="16193"/>
                    <a:pt x="7196" y="16495"/>
                    <a:pt x="7420" y="16797"/>
                  </a:cubicBezTo>
                  <a:cubicBezTo>
                    <a:pt x="7420" y="16797"/>
                    <a:pt x="7495" y="17251"/>
                    <a:pt x="7495" y="17402"/>
                  </a:cubicBezTo>
                  <a:cubicBezTo>
                    <a:pt x="7570" y="17704"/>
                    <a:pt x="7570" y="17704"/>
                    <a:pt x="7794" y="17855"/>
                  </a:cubicBezTo>
                  <a:cubicBezTo>
                    <a:pt x="7943" y="18006"/>
                    <a:pt x="8018" y="18157"/>
                    <a:pt x="8093" y="17855"/>
                  </a:cubicBezTo>
                  <a:cubicBezTo>
                    <a:pt x="8167" y="17402"/>
                    <a:pt x="8242" y="17402"/>
                    <a:pt x="8466" y="17553"/>
                  </a:cubicBezTo>
                  <a:cubicBezTo>
                    <a:pt x="8616" y="17553"/>
                    <a:pt x="8840" y="17704"/>
                    <a:pt x="8840" y="18006"/>
                  </a:cubicBezTo>
                  <a:cubicBezTo>
                    <a:pt x="8990" y="18459"/>
                    <a:pt x="9139" y="18610"/>
                    <a:pt x="9289" y="19063"/>
                  </a:cubicBezTo>
                  <a:cubicBezTo>
                    <a:pt x="9438" y="19365"/>
                    <a:pt x="9363" y="19970"/>
                    <a:pt x="9588" y="20121"/>
                  </a:cubicBezTo>
                  <a:cubicBezTo>
                    <a:pt x="9737" y="20423"/>
                    <a:pt x="10036" y="20423"/>
                    <a:pt x="10185" y="20574"/>
                  </a:cubicBezTo>
                  <a:cubicBezTo>
                    <a:pt x="10185" y="20423"/>
                    <a:pt x="10036" y="19365"/>
                    <a:pt x="10036" y="19365"/>
                  </a:cubicBezTo>
                  <a:cubicBezTo>
                    <a:pt x="10185" y="19516"/>
                    <a:pt x="10111" y="19063"/>
                    <a:pt x="10185" y="19063"/>
                  </a:cubicBezTo>
                  <a:cubicBezTo>
                    <a:pt x="10185" y="18912"/>
                    <a:pt x="10335" y="18912"/>
                    <a:pt x="10410" y="18761"/>
                  </a:cubicBezTo>
                  <a:cubicBezTo>
                    <a:pt x="10484" y="18761"/>
                    <a:pt x="10559" y="18308"/>
                    <a:pt x="10559" y="18308"/>
                  </a:cubicBezTo>
                  <a:cubicBezTo>
                    <a:pt x="10634" y="18459"/>
                    <a:pt x="10709" y="18459"/>
                    <a:pt x="10783" y="18308"/>
                  </a:cubicBezTo>
                  <a:cubicBezTo>
                    <a:pt x="10933" y="18157"/>
                    <a:pt x="11008" y="18157"/>
                    <a:pt x="11082" y="17855"/>
                  </a:cubicBezTo>
                  <a:cubicBezTo>
                    <a:pt x="11232" y="17704"/>
                    <a:pt x="11008" y="17704"/>
                    <a:pt x="11008" y="17553"/>
                  </a:cubicBezTo>
                  <a:cubicBezTo>
                    <a:pt x="11008" y="17553"/>
                    <a:pt x="11232" y="17704"/>
                    <a:pt x="11307" y="17553"/>
                  </a:cubicBezTo>
                  <a:cubicBezTo>
                    <a:pt x="11456" y="17402"/>
                    <a:pt x="11531" y="17402"/>
                    <a:pt x="11680" y="17402"/>
                  </a:cubicBezTo>
                  <a:cubicBezTo>
                    <a:pt x="11830" y="17402"/>
                    <a:pt x="11904" y="17855"/>
                    <a:pt x="12054" y="17704"/>
                  </a:cubicBezTo>
                  <a:cubicBezTo>
                    <a:pt x="12278" y="17402"/>
                    <a:pt x="12353" y="17704"/>
                    <a:pt x="12502" y="17855"/>
                  </a:cubicBezTo>
                  <a:cubicBezTo>
                    <a:pt x="12652" y="18006"/>
                    <a:pt x="12727" y="17704"/>
                    <a:pt x="12801" y="17704"/>
                  </a:cubicBezTo>
                  <a:cubicBezTo>
                    <a:pt x="12876" y="17553"/>
                    <a:pt x="13100" y="17855"/>
                    <a:pt x="13100" y="18006"/>
                  </a:cubicBezTo>
                  <a:cubicBezTo>
                    <a:pt x="13175" y="18157"/>
                    <a:pt x="13250" y="18006"/>
                    <a:pt x="13175" y="17855"/>
                  </a:cubicBezTo>
                  <a:cubicBezTo>
                    <a:pt x="13175" y="17855"/>
                    <a:pt x="13100" y="17704"/>
                    <a:pt x="13026" y="17704"/>
                  </a:cubicBezTo>
                  <a:cubicBezTo>
                    <a:pt x="12951" y="17553"/>
                    <a:pt x="13100" y="17553"/>
                    <a:pt x="13100" y="17553"/>
                  </a:cubicBezTo>
                  <a:cubicBezTo>
                    <a:pt x="13026" y="17251"/>
                    <a:pt x="13026" y="17100"/>
                    <a:pt x="12876" y="17251"/>
                  </a:cubicBezTo>
                  <a:cubicBezTo>
                    <a:pt x="12876" y="17251"/>
                    <a:pt x="12577" y="17251"/>
                    <a:pt x="12727" y="16949"/>
                  </a:cubicBezTo>
                  <a:cubicBezTo>
                    <a:pt x="12876" y="16949"/>
                    <a:pt x="12951" y="17100"/>
                    <a:pt x="13026" y="17100"/>
                  </a:cubicBezTo>
                  <a:cubicBezTo>
                    <a:pt x="13250" y="16949"/>
                    <a:pt x="13399" y="16949"/>
                    <a:pt x="13624" y="16949"/>
                  </a:cubicBezTo>
                  <a:cubicBezTo>
                    <a:pt x="13698" y="16949"/>
                    <a:pt x="13624" y="16949"/>
                    <a:pt x="13698" y="17100"/>
                  </a:cubicBezTo>
                  <a:cubicBezTo>
                    <a:pt x="13698" y="17100"/>
                    <a:pt x="13773" y="17100"/>
                    <a:pt x="13848" y="16949"/>
                  </a:cubicBezTo>
                  <a:cubicBezTo>
                    <a:pt x="13997" y="16949"/>
                    <a:pt x="14147" y="16949"/>
                    <a:pt x="14296" y="16949"/>
                  </a:cubicBezTo>
                  <a:cubicBezTo>
                    <a:pt x="14446" y="16949"/>
                    <a:pt x="14446" y="17251"/>
                    <a:pt x="14595" y="17402"/>
                  </a:cubicBezTo>
                  <a:cubicBezTo>
                    <a:pt x="14745" y="17704"/>
                    <a:pt x="14894" y="17402"/>
                    <a:pt x="15044" y="17251"/>
                  </a:cubicBezTo>
                  <a:cubicBezTo>
                    <a:pt x="15118" y="17251"/>
                    <a:pt x="15567" y="18157"/>
                    <a:pt x="15567" y="18308"/>
                  </a:cubicBezTo>
                  <a:cubicBezTo>
                    <a:pt x="15642" y="18459"/>
                    <a:pt x="15492" y="18761"/>
                    <a:pt x="15567" y="18912"/>
                  </a:cubicBezTo>
                  <a:cubicBezTo>
                    <a:pt x="15642" y="19214"/>
                    <a:pt x="15567" y="19214"/>
                    <a:pt x="15642" y="19516"/>
                  </a:cubicBezTo>
                  <a:cubicBezTo>
                    <a:pt x="15642" y="19667"/>
                    <a:pt x="15716" y="19818"/>
                    <a:pt x="15716" y="19818"/>
                  </a:cubicBezTo>
                  <a:cubicBezTo>
                    <a:pt x="15791" y="19818"/>
                    <a:pt x="15791" y="19970"/>
                    <a:pt x="15866" y="19970"/>
                  </a:cubicBezTo>
                  <a:cubicBezTo>
                    <a:pt x="15940" y="20121"/>
                    <a:pt x="15866" y="20423"/>
                    <a:pt x="15940" y="20574"/>
                  </a:cubicBezTo>
                  <a:cubicBezTo>
                    <a:pt x="16015" y="20725"/>
                    <a:pt x="16090" y="20725"/>
                    <a:pt x="16165" y="21027"/>
                  </a:cubicBezTo>
                  <a:cubicBezTo>
                    <a:pt x="16314" y="21480"/>
                    <a:pt x="16239" y="21027"/>
                    <a:pt x="16389" y="21178"/>
                  </a:cubicBezTo>
                  <a:cubicBezTo>
                    <a:pt x="16389" y="21178"/>
                    <a:pt x="16389" y="21480"/>
                    <a:pt x="16389" y="21480"/>
                  </a:cubicBezTo>
                  <a:cubicBezTo>
                    <a:pt x="16464" y="21480"/>
                    <a:pt x="16538" y="20423"/>
                    <a:pt x="16538" y="20272"/>
                  </a:cubicBezTo>
                  <a:cubicBezTo>
                    <a:pt x="16538" y="19818"/>
                    <a:pt x="16464" y="19516"/>
                    <a:pt x="16389" y="18912"/>
                  </a:cubicBezTo>
                  <a:cubicBezTo>
                    <a:pt x="16239" y="18459"/>
                    <a:pt x="16239" y="18006"/>
                    <a:pt x="16165" y="17553"/>
                  </a:cubicBezTo>
                  <a:cubicBezTo>
                    <a:pt x="16015" y="17251"/>
                    <a:pt x="15940" y="16646"/>
                    <a:pt x="16015" y="16193"/>
                  </a:cubicBezTo>
                  <a:cubicBezTo>
                    <a:pt x="16090" y="15740"/>
                    <a:pt x="16239" y="15438"/>
                    <a:pt x="16464" y="15136"/>
                  </a:cubicBezTo>
                  <a:cubicBezTo>
                    <a:pt x="16538" y="14985"/>
                    <a:pt x="16613" y="14985"/>
                    <a:pt x="16688" y="14834"/>
                  </a:cubicBezTo>
                  <a:cubicBezTo>
                    <a:pt x="16763" y="14683"/>
                    <a:pt x="16837" y="14381"/>
                    <a:pt x="16912" y="14381"/>
                  </a:cubicBezTo>
                  <a:cubicBezTo>
                    <a:pt x="17062" y="14079"/>
                    <a:pt x="17286" y="14079"/>
                    <a:pt x="17435" y="13777"/>
                  </a:cubicBezTo>
                  <a:cubicBezTo>
                    <a:pt x="17510" y="13625"/>
                    <a:pt x="17585" y="13323"/>
                    <a:pt x="17734" y="13323"/>
                  </a:cubicBezTo>
                  <a:cubicBezTo>
                    <a:pt x="17734" y="13323"/>
                    <a:pt x="18033" y="13323"/>
                    <a:pt x="17958" y="13021"/>
                  </a:cubicBezTo>
                  <a:cubicBezTo>
                    <a:pt x="17958" y="13021"/>
                    <a:pt x="17734" y="13172"/>
                    <a:pt x="17734" y="13172"/>
                  </a:cubicBezTo>
                  <a:cubicBezTo>
                    <a:pt x="17734" y="13021"/>
                    <a:pt x="17884" y="13172"/>
                    <a:pt x="17809" y="12870"/>
                  </a:cubicBezTo>
                  <a:cubicBezTo>
                    <a:pt x="17809" y="12870"/>
                    <a:pt x="17734" y="12719"/>
                    <a:pt x="17809" y="12719"/>
                  </a:cubicBezTo>
                  <a:cubicBezTo>
                    <a:pt x="17809" y="12568"/>
                    <a:pt x="17809" y="12719"/>
                    <a:pt x="17884" y="12568"/>
                  </a:cubicBezTo>
                  <a:cubicBezTo>
                    <a:pt x="17809" y="12719"/>
                    <a:pt x="17958" y="12870"/>
                    <a:pt x="17958" y="12719"/>
                  </a:cubicBezTo>
                  <a:cubicBezTo>
                    <a:pt x="18033" y="12719"/>
                    <a:pt x="18257" y="12417"/>
                    <a:pt x="18183" y="12266"/>
                  </a:cubicBezTo>
                  <a:cubicBezTo>
                    <a:pt x="18183" y="12417"/>
                    <a:pt x="17734" y="12266"/>
                    <a:pt x="17809" y="12115"/>
                  </a:cubicBezTo>
                  <a:cubicBezTo>
                    <a:pt x="17809" y="11964"/>
                    <a:pt x="17884" y="12266"/>
                    <a:pt x="17958" y="12115"/>
                  </a:cubicBezTo>
                  <a:cubicBezTo>
                    <a:pt x="17958" y="12115"/>
                    <a:pt x="18108" y="11964"/>
                    <a:pt x="18108" y="11964"/>
                  </a:cubicBezTo>
                  <a:cubicBezTo>
                    <a:pt x="18108" y="11964"/>
                    <a:pt x="18033" y="11813"/>
                    <a:pt x="18033" y="11662"/>
                  </a:cubicBezTo>
                  <a:cubicBezTo>
                    <a:pt x="18108" y="11511"/>
                    <a:pt x="18108" y="11360"/>
                    <a:pt x="17958" y="11360"/>
                  </a:cubicBezTo>
                  <a:cubicBezTo>
                    <a:pt x="17958" y="11360"/>
                    <a:pt x="17659" y="11058"/>
                    <a:pt x="17659" y="11058"/>
                  </a:cubicBezTo>
                  <a:cubicBezTo>
                    <a:pt x="17734" y="10907"/>
                    <a:pt x="17809" y="11058"/>
                    <a:pt x="17884" y="11058"/>
                  </a:cubicBezTo>
                  <a:cubicBezTo>
                    <a:pt x="17958" y="10907"/>
                    <a:pt x="17809" y="10604"/>
                    <a:pt x="17734" y="10604"/>
                  </a:cubicBezTo>
                  <a:cubicBezTo>
                    <a:pt x="17659" y="10453"/>
                    <a:pt x="17585" y="10302"/>
                    <a:pt x="17585" y="10151"/>
                  </a:cubicBezTo>
                  <a:cubicBezTo>
                    <a:pt x="17510" y="10000"/>
                    <a:pt x="17734" y="9698"/>
                    <a:pt x="17659" y="9547"/>
                  </a:cubicBezTo>
                  <a:cubicBezTo>
                    <a:pt x="17734" y="9698"/>
                    <a:pt x="17659" y="9849"/>
                    <a:pt x="17659" y="10000"/>
                  </a:cubicBezTo>
                  <a:cubicBezTo>
                    <a:pt x="17659" y="10000"/>
                    <a:pt x="17809" y="10302"/>
                    <a:pt x="17809" y="10302"/>
                  </a:cubicBezTo>
                  <a:cubicBezTo>
                    <a:pt x="17958" y="10000"/>
                    <a:pt x="17809" y="9245"/>
                    <a:pt x="18033" y="9094"/>
                  </a:cubicBezTo>
                  <a:cubicBezTo>
                    <a:pt x="17958" y="9094"/>
                    <a:pt x="17958" y="9849"/>
                    <a:pt x="18033" y="10000"/>
                  </a:cubicBezTo>
                  <a:cubicBezTo>
                    <a:pt x="18033" y="10302"/>
                    <a:pt x="18183" y="10302"/>
                    <a:pt x="18183" y="10604"/>
                  </a:cubicBezTo>
                  <a:cubicBezTo>
                    <a:pt x="18183" y="10756"/>
                    <a:pt x="17958" y="11058"/>
                    <a:pt x="18033" y="11209"/>
                  </a:cubicBezTo>
                  <a:cubicBezTo>
                    <a:pt x="18033" y="11209"/>
                    <a:pt x="18482" y="10302"/>
                    <a:pt x="18407" y="10000"/>
                  </a:cubicBezTo>
                  <a:cubicBezTo>
                    <a:pt x="18407" y="9698"/>
                    <a:pt x="18257" y="9547"/>
                    <a:pt x="18257" y="9245"/>
                  </a:cubicBezTo>
                  <a:cubicBezTo>
                    <a:pt x="18183" y="9094"/>
                    <a:pt x="18257" y="8641"/>
                    <a:pt x="18407" y="8792"/>
                  </a:cubicBezTo>
                  <a:cubicBezTo>
                    <a:pt x="18332" y="8641"/>
                    <a:pt x="18257" y="9094"/>
                    <a:pt x="18332" y="9245"/>
                  </a:cubicBezTo>
                  <a:cubicBezTo>
                    <a:pt x="18482" y="9547"/>
                    <a:pt x="18482" y="9698"/>
                    <a:pt x="18631" y="9245"/>
                  </a:cubicBezTo>
                  <a:cubicBezTo>
                    <a:pt x="18706" y="9094"/>
                    <a:pt x="18855" y="8641"/>
                    <a:pt x="18781" y="8339"/>
                  </a:cubicBezTo>
                  <a:cubicBezTo>
                    <a:pt x="18781" y="8339"/>
                    <a:pt x="18706" y="8188"/>
                    <a:pt x="18781" y="8037"/>
                  </a:cubicBezTo>
                  <a:cubicBezTo>
                    <a:pt x="18781" y="8037"/>
                    <a:pt x="18855" y="7735"/>
                    <a:pt x="18855" y="7735"/>
                  </a:cubicBezTo>
                  <a:cubicBezTo>
                    <a:pt x="18855" y="7735"/>
                    <a:pt x="18855" y="8037"/>
                    <a:pt x="18855" y="8037"/>
                  </a:cubicBezTo>
                  <a:cubicBezTo>
                    <a:pt x="18855" y="8037"/>
                    <a:pt x="19229" y="7583"/>
                    <a:pt x="19379" y="7583"/>
                  </a:cubicBezTo>
                  <a:cubicBezTo>
                    <a:pt x="19453" y="7432"/>
                    <a:pt x="19603" y="7583"/>
                    <a:pt x="19677" y="7583"/>
                  </a:cubicBezTo>
                  <a:cubicBezTo>
                    <a:pt x="19827" y="7432"/>
                    <a:pt x="19752" y="7281"/>
                    <a:pt x="19752" y="7130"/>
                  </a:cubicBezTo>
                  <a:cubicBezTo>
                    <a:pt x="19827" y="7130"/>
                    <a:pt x="19827" y="7432"/>
                    <a:pt x="19902" y="7432"/>
                  </a:cubicBezTo>
                  <a:cubicBezTo>
                    <a:pt x="19902" y="7432"/>
                    <a:pt x="20051" y="7281"/>
                    <a:pt x="20051" y="7281"/>
                  </a:cubicBezTo>
                  <a:cubicBezTo>
                    <a:pt x="20201" y="7583"/>
                    <a:pt x="20500" y="6828"/>
                    <a:pt x="20275" y="6828"/>
                  </a:cubicBezTo>
                  <a:cubicBezTo>
                    <a:pt x="20275" y="6828"/>
                    <a:pt x="20275" y="7130"/>
                    <a:pt x="20201" y="7130"/>
                  </a:cubicBezTo>
                  <a:cubicBezTo>
                    <a:pt x="20126" y="7130"/>
                    <a:pt x="19976" y="6526"/>
                    <a:pt x="19976" y="6526"/>
                  </a:cubicBezTo>
                  <a:cubicBezTo>
                    <a:pt x="20051" y="6375"/>
                    <a:pt x="19976" y="6224"/>
                    <a:pt x="20051" y="6073"/>
                  </a:cubicBezTo>
                  <a:cubicBezTo>
                    <a:pt x="20126" y="5771"/>
                    <a:pt x="20201" y="5469"/>
                    <a:pt x="20275" y="5318"/>
                  </a:cubicBezTo>
                  <a:cubicBezTo>
                    <a:pt x="20350" y="5318"/>
                    <a:pt x="20425" y="5167"/>
                    <a:pt x="20425" y="5167"/>
                  </a:cubicBezTo>
                  <a:cubicBezTo>
                    <a:pt x="20574" y="5318"/>
                    <a:pt x="20649" y="4865"/>
                    <a:pt x="20724" y="4714"/>
                  </a:cubicBezTo>
                  <a:cubicBezTo>
                    <a:pt x="20724" y="4714"/>
                    <a:pt x="20873" y="4865"/>
                    <a:pt x="20948" y="4714"/>
                  </a:cubicBezTo>
                  <a:cubicBezTo>
                    <a:pt x="21098" y="4563"/>
                    <a:pt x="21247" y="4563"/>
                    <a:pt x="21322" y="4411"/>
                  </a:cubicBezTo>
                  <a:cubicBezTo>
                    <a:pt x="21397" y="4411"/>
                    <a:pt x="21546" y="4260"/>
                    <a:pt x="21471" y="4109"/>
                  </a:cubicBezTo>
                  <a:cubicBezTo>
                    <a:pt x="21322" y="3807"/>
                    <a:pt x="21322" y="3656"/>
                    <a:pt x="21247" y="3505"/>
                  </a:cubicBezTo>
                  <a:cubicBezTo>
                    <a:pt x="20948" y="3354"/>
                    <a:pt x="21397" y="1995"/>
                    <a:pt x="20948" y="1995"/>
                  </a:cubicBezTo>
                  <a:cubicBezTo>
                    <a:pt x="20873" y="1844"/>
                    <a:pt x="20799" y="2146"/>
                    <a:pt x="20724" y="1995"/>
                  </a:cubicBezTo>
                  <a:cubicBezTo>
                    <a:pt x="20649" y="1844"/>
                    <a:pt x="20649" y="1693"/>
                    <a:pt x="20574" y="1844"/>
                  </a:cubicBezTo>
                  <a:cubicBezTo>
                    <a:pt x="20500" y="1995"/>
                    <a:pt x="20425" y="2297"/>
                    <a:pt x="20350" y="2448"/>
                  </a:cubicBezTo>
                  <a:cubicBezTo>
                    <a:pt x="20275" y="2599"/>
                    <a:pt x="20275" y="2901"/>
                    <a:pt x="20201" y="3052"/>
                  </a:cubicBezTo>
                  <a:cubicBezTo>
                    <a:pt x="20201" y="3354"/>
                    <a:pt x="20126" y="3807"/>
                    <a:pt x="19976" y="3807"/>
                  </a:cubicBezTo>
                  <a:cubicBezTo>
                    <a:pt x="19827" y="3807"/>
                    <a:pt x="19827" y="4109"/>
                    <a:pt x="19677" y="4109"/>
                  </a:cubicBezTo>
                  <a:cubicBezTo>
                    <a:pt x="19304" y="4109"/>
                    <a:pt x="18930" y="4109"/>
                    <a:pt x="18556" y="4109"/>
                  </a:cubicBezTo>
                  <a:cubicBezTo>
                    <a:pt x="18407" y="4109"/>
                    <a:pt x="18407" y="4109"/>
                    <a:pt x="18332" y="4260"/>
                  </a:cubicBezTo>
                  <a:cubicBezTo>
                    <a:pt x="18257" y="4563"/>
                    <a:pt x="17958" y="4865"/>
                    <a:pt x="17958" y="5016"/>
                  </a:cubicBezTo>
                  <a:cubicBezTo>
                    <a:pt x="18033" y="5469"/>
                    <a:pt x="17809" y="5771"/>
                    <a:pt x="17659" y="5771"/>
                  </a:cubicBezTo>
                  <a:cubicBezTo>
                    <a:pt x="17510" y="5771"/>
                    <a:pt x="17435" y="5620"/>
                    <a:pt x="17286" y="5620"/>
                  </a:cubicBezTo>
                  <a:cubicBezTo>
                    <a:pt x="17136" y="5620"/>
                    <a:pt x="16987" y="5771"/>
                    <a:pt x="16912" y="5771"/>
                  </a:cubicBezTo>
                  <a:cubicBezTo>
                    <a:pt x="16912" y="5771"/>
                    <a:pt x="16912" y="6224"/>
                    <a:pt x="16987" y="6224"/>
                  </a:cubicBezTo>
                  <a:cubicBezTo>
                    <a:pt x="16912" y="6375"/>
                    <a:pt x="16837" y="6526"/>
                    <a:pt x="16688" y="6677"/>
                  </a:cubicBezTo>
                  <a:cubicBezTo>
                    <a:pt x="16538" y="6828"/>
                    <a:pt x="16314" y="7130"/>
                    <a:pt x="16090" y="7281"/>
                  </a:cubicBezTo>
                  <a:cubicBezTo>
                    <a:pt x="15866" y="7432"/>
                    <a:pt x="15642" y="7432"/>
                    <a:pt x="15417" y="7281"/>
                  </a:cubicBezTo>
                  <a:cubicBezTo>
                    <a:pt x="15343" y="7130"/>
                    <a:pt x="15268" y="6979"/>
                    <a:pt x="15343" y="6828"/>
                  </a:cubicBezTo>
                  <a:cubicBezTo>
                    <a:pt x="15343" y="6828"/>
                    <a:pt x="15417" y="6526"/>
                    <a:pt x="15492" y="6526"/>
                  </a:cubicBezTo>
                  <a:cubicBezTo>
                    <a:pt x="15492" y="6526"/>
                    <a:pt x="15492" y="6677"/>
                    <a:pt x="15492" y="6828"/>
                  </a:cubicBezTo>
                  <a:cubicBezTo>
                    <a:pt x="15642" y="6224"/>
                    <a:pt x="15716" y="5771"/>
                    <a:pt x="15567" y="5167"/>
                  </a:cubicBezTo>
                  <a:cubicBezTo>
                    <a:pt x="15492" y="5016"/>
                    <a:pt x="15343" y="5318"/>
                    <a:pt x="15268" y="5318"/>
                  </a:cubicBezTo>
                  <a:cubicBezTo>
                    <a:pt x="15193" y="5469"/>
                    <a:pt x="15193" y="5318"/>
                    <a:pt x="15118" y="5318"/>
                  </a:cubicBezTo>
                  <a:cubicBezTo>
                    <a:pt x="15044" y="5167"/>
                    <a:pt x="15193" y="5016"/>
                    <a:pt x="15193" y="5016"/>
                  </a:cubicBezTo>
                  <a:cubicBezTo>
                    <a:pt x="15492" y="4411"/>
                    <a:pt x="15268" y="3807"/>
                    <a:pt x="14969" y="3656"/>
                  </a:cubicBezTo>
                  <a:cubicBezTo>
                    <a:pt x="14745" y="3505"/>
                    <a:pt x="14745" y="3656"/>
                    <a:pt x="14595" y="3807"/>
                  </a:cubicBezTo>
                  <a:cubicBezTo>
                    <a:pt x="14595" y="3958"/>
                    <a:pt x="14595" y="3958"/>
                    <a:pt x="14595" y="4109"/>
                  </a:cubicBezTo>
                  <a:cubicBezTo>
                    <a:pt x="14595" y="4260"/>
                    <a:pt x="14446" y="4109"/>
                    <a:pt x="14371" y="4109"/>
                  </a:cubicBezTo>
                  <a:cubicBezTo>
                    <a:pt x="14296" y="4109"/>
                    <a:pt x="14147" y="5318"/>
                    <a:pt x="14147" y="5469"/>
                  </a:cubicBezTo>
                  <a:cubicBezTo>
                    <a:pt x="14221" y="6224"/>
                    <a:pt x="14296" y="6677"/>
                    <a:pt x="13997" y="6979"/>
                  </a:cubicBezTo>
                  <a:cubicBezTo>
                    <a:pt x="13997" y="7130"/>
                    <a:pt x="13773" y="7281"/>
                    <a:pt x="13773" y="7130"/>
                  </a:cubicBezTo>
                  <a:cubicBezTo>
                    <a:pt x="13773" y="6828"/>
                    <a:pt x="13698" y="6526"/>
                    <a:pt x="13698" y="6224"/>
                  </a:cubicBezTo>
                  <a:cubicBezTo>
                    <a:pt x="13698" y="6073"/>
                    <a:pt x="13848" y="4411"/>
                    <a:pt x="13848" y="4411"/>
                  </a:cubicBezTo>
                  <a:cubicBezTo>
                    <a:pt x="13773" y="4411"/>
                    <a:pt x="13624" y="4714"/>
                    <a:pt x="13624" y="4563"/>
                  </a:cubicBezTo>
                  <a:cubicBezTo>
                    <a:pt x="13624" y="4411"/>
                    <a:pt x="13848" y="3807"/>
                    <a:pt x="13922" y="3656"/>
                  </a:cubicBezTo>
                  <a:cubicBezTo>
                    <a:pt x="13997" y="3354"/>
                    <a:pt x="14221" y="3354"/>
                    <a:pt x="14371" y="3203"/>
                  </a:cubicBezTo>
                  <a:cubicBezTo>
                    <a:pt x="14595" y="3203"/>
                    <a:pt x="14819" y="3354"/>
                    <a:pt x="15044" y="3354"/>
                  </a:cubicBezTo>
                  <a:cubicBezTo>
                    <a:pt x="15268" y="3354"/>
                    <a:pt x="14969" y="2901"/>
                    <a:pt x="14819" y="2901"/>
                  </a:cubicBezTo>
                  <a:cubicBezTo>
                    <a:pt x="14670" y="2901"/>
                    <a:pt x="14819" y="2448"/>
                    <a:pt x="14595" y="2448"/>
                  </a:cubicBezTo>
                  <a:cubicBezTo>
                    <a:pt x="14446" y="2599"/>
                    <a:pt x="14296" y="2750"/>
                    <a:pt x="14072" y="2750"/>
                  </a:cubicBezTo>
                  <a:cubicBezTo>
                    <a:pt x="13922" y="2750"/>
                    <a:pt x="13773" y="2448"/>
                    <a:pt x="13624" y="2297"/>
                  </a:cubicBezTo>
                  <a:cubicBezTo>
                    <a:pt x="13624" y="2297"/>
                    <a:pt x="13399" y="2297"/>
                    <a:pt x="13474" y="2146"/>
                  </a:cubicBezTo>
                  <a:cubicBezTo>
                    <a:pt x="13549" y="2146"/>
                    <a:pt x="13698" y="1995"/>
                    <a:pt x="13698" y="1844"/>
                  </a:cubicBezTo>
                  <a:cubicBezTo>
                    <a:pt x="13698" y="1844"/>
                    <a:pt x="13100" y="2297"/>
                    <a:pt x="13026" y="2297"/>
                  </a:cubicBezTo>
                  <a:cubicBezTo>
                    <a:pt x="12951" y="2448"/>
                    <a:pt x="12876" y="2599"/>
                    <a:pt x="12801" y="2599"/>
                  </a:cubicBezTo>
                  <a:cubicBezTo>
                    <a:pt x="12652" y="2599"/>
                    <a:pt x="12652" y="2297"/>
                    <a:pt x="12502" y="2297"/>
                  </a:cubicBezTo>
                  <a:cubicBezTo>
                    <a:pt x="12428" y="2297"/>
                    <a:pt x="12054" y="2599"/>
                    <a:pt x="12278" y="2146"/>
                  </a:cubicBezTo>
                  <a:cubicBezTo>
                    <a:pt x="12502" y="1844"/>
                    <a:pt x="12727" y="1542"/>
                    <a:pt x="12951" y="1239"/>
                  </a:cubicBezTo>
                  <a:cubicBezTo>
                    <a:pt x="12801" y="1239"/>
                    <a:pt x="12652" y="937"/>
                    <a:pt x="12502" y="1239"/>
                  </a:cubicBezTo>
                  <a:cubicBezTo>
                    <a:pt x="12278" y="1390"/>
                    <a:pt x="12203" y="1088"/>
                    <a:pt x="11979" y="937"/>
                  </a:cubicBezTo>
                  <a:cubicBezTo>
                    <a:pt x="11904" y="937"/>
                    <a:pt x="11830" y="786"/>
                    <a:pt x="11755" y="635"/>
                  </a:cubicBezTo>
                  <a:cubicBezTo>
                    <a:pt x="11606" y="635"/>
                    <a:pt x="11531" y="786"/>
                    <a:pt x="11381" y="786"/>
                  </a:cubicBezTo>
                  <a:cubicBezTo>
                    <a:pt x="11307" y="635"/>
                    <a:pt x="11157" y="635"/>
                    <a:pt x="11157" y="333"/>
                  </a:cubicBezTo>
                  <a:cubicBezTo>
                    <a:pt x="11157" y="333"/>
                    <a:pt x="11008" y="-120"/>
                    <a:pt x="11008" y="31"/>
                  </a:cubicBezTo>
                  <a:cubicBezTo>
                    <a:pt x="10933" y="31"/>
                    <a:pt x="11008" y="484"/>
                    <a:pt x="10933" y="484"/>
                  </a:cubicBezTo>
                  <a:cubicBezTo>
                    <a:pt x="10858" y="484"/>
                    <a:pt x="10783" y="484"/>
                    <a:pt x="10783" y="484"/>
                  </a:cubicBezTo>
                  <a:cubicBezTo>
                    <a:pt x="10559" y="484"/>
                    <a:pt x="10335" y="484"/>
                    <a:pt x="10111" y="484"/>
                  </a:cubicBezTo>
                  <a:cubicBezTo>
                    <a:pt x="9289" y="484"/>
                    <a:pt x="8541" y="484"/>
                    <a:pt x="7794" y="484"/>
                  </a:cubicBezTo>
                  <a:cubicBezTo>
                    <a:pt x="5925" y="484"/>
                    <a:pt x="4057" y="484"/>
                    <a:pt x="2188" y="484"/>
                  </a:cubicBezTo>
                  <a:cubicBezTo>
                    <a:pt x="1740" y="484"/>
                    <a:pt x="1217" y="484"/>
                    <a:pt x="768" y="484"/>
                  </a:cubicBezTo>
                  <a:cubicBezTo>
                    <a:pt x="843" y="635"/>
                    <a:pt x="992" y="1844"/>
                    <a:pt x="768" y="1995"/>
                  </a:cubicBezTo>
                  <a:cubicBezTo>
                    <a:pt x="619" y="1995"/>
                    <a:pt x="544" y="1995"/>
                    <a:pt x="693" y="1693"/>
                  </a:cubicBezTo>
                  <a:cubicBezTo>
                    <a:pt x="843" y="1239"/>
                    <a:pt x="619" y="1239"/>
                    <a:pt x="469" y="1239"/>
                  </a:cubicBezTo>
                  <a:cubicBezTo>
                    <a:pt x="320" y="1239"/>
                    <a:pt x="95" y="937"/>
                    <a:pt x="21" y="937"/>
                  </a:cubicBezTo>
                  <a:cubicBezTo>
                    <a:pt x="-54" y="1088"/>
                    <a:pt x="95" y="1693"/>
                    <a:pt x="95" y="1693"/>
                  </a:cubicBezTo>
                  <a:cubicBezTo>
                    <a:pt x="170" y="2146"/>
                    <a:pt x="245" y="2297"/>
                    <a:pt x="245" y="2599"/>
                  </a:cubicBezTo>
                  <a:cubicBezTo>
                    <a:pt x="245" y="2750"/>
                    <a:pt x="469" y="3052"/>
                    <a:pt x="544" y="3052"/>
                  </a:cubicBezTo>
                  <a:cubicBezTo>
                    <a:pt x="469" y="3052"/>
                    <a:pt x="394" y="3052"/>
                    <a:pt x="320" y="3203"/>
                  </a:cubicBezTo>
                  <a:cubicBezTo>
                    <a:pt x="245" y="3354"/>
                    <a:pt x="320" y="3505"/>
                    <a:pt x="320" y="3656"/>
                  </a:cubicBezTo>
                  <a:cubicBezTo>
                    <a:pt x="320" y="4109"/>
                    <a:pt x="320" y="4411"/>
                    <a:pt x="245" y="4714"/>
                  </a:cubicBezTo>
                  <a:cubicBezTo>
                    <a:pt x="245" y="5167"/>
                    <a:pt x="170" y="5469"/>
                    <a:pt x="95" y="5922"/>
                  </a:cubicBezTo>
                  <a:cubicBezTo>
                    <a:pt x="21" y="6375"/>
                    <a:pt x="170" y="6828"/>
                    <a:pt x="245" y="7281"/>
                  </a:cubicBezTo>
                  <a:cubicBezTo>
                    <a:pt x="245" y="7735"/>
                    <a:pt x="170" y="8037"/>
                    <a:pt x="170" y="8339"/>
                  </a:cubicBezTo>
                  <a:cubicBezTo>
                    <a:pt x="170" y="8490"/>
                    <a:pt x="245" y="8641"/>
                    <a:pt x="245" y="8792"/>
                  </a:cubicBezTo>
                  <a:cubicBezTo>
                    <a:pt x="320" y="8943"/>
                    <a:pt x="320" y="9245"/>
                    <a:pt x="320" y="9396"/>
                  </a:cubicBezTo>
                  <a:cubicBezTo>
                    <a:pt x="394" y="9849"/>
                    <a:pt x="619" y="10000"/>
                    <a:pt x="693" y="10453"/>
                  </a:cubicBezTo>
                  <a:cubicBezTo>
                    <a:pt x="768" y="10756"/>
                    <a:pt x="768" y="10604"/>
                    <a:pt x="843" y="10453"/>
                  </a:cubicBezTo>
                  <a:cubicBezTo>
                    <a:pt x="843" y="10453"/>
                    <a:pt x="918" y="10907"/>
                    <a:pt x="918" y="10907"/>
                  </a:cubicBezTo>
                  <a:cubicBezTo>
                    <a:pt x="918" y="10907"/>
                    <a:pt x="843" y="10756"/>
                    <a:pt x="843" y="10907"/>
                  </a:cubicBezTo>
                  <a:cubicBezTo>
                    <a:pt x="843" y="11058"/>
                    <a:pt x="843" y="11209"/>
                    <a:pt x="918" y="11360"/>
                  </a:cubicBezTo>
                  <a:cubicBezTo>
                    <a:pt x="992" y="11360"/>
                    <a:pt x="992" y="11360"/>
                    <a:pt x="1067" y="11511"/>
                  </a:cubicBezTo>
                  <a:cubicBezTo>
                    <a:pt x="1142" y="11662"/>
                    <a:pt x="992" y="11813"/>
                    <a:pt x="1067" y="11964"/>
                  </a:cubicBezTo>
                  <a:cubicBezTo>
                    <a:pt x="1217" y="12417"/>
                    <a:pt x="1516" y="12719"/>
                    <a:pt x="1516" y="13172"/>
                  </a:cubicBezTo>
                  <a:cubicBezTo>
                    <a:pt x="1590" y="13474"/>
                    <a:pt x="1665" y="13474"/>
                    <a:pt x="1815" y="13625"/>
                  </a:cubicBezTo>
                  <a:cubicBezTo>
                    <a:pt x="1964" y="13777"/>
                    <a:pt x="2113" y="13928"/>
                    <a:pt x="2263" y="13928"/>
                  </a:cubicBezTo>
                  <a:cubicBezTo>
                    <a:pt x="2412" y="13928"/>
                    <a:pt x="2562" y="14230"/>
                    <a:pt x="2637" y="14381"/>
                  </a:cubicBezTo>
                  <a:cubicBezTo>
                    <a:pt x="2637" y="14532"/>
                    <a:pt x="2936" y="15136"/>
                    <a:pt x="2861" y="15287"/>
                  </a:cubicBezTo>
                  <a:cubicBezTo>
                    <a:pt x="3160" y="15136"/>
                    <a:pt x="3534" y="14985"/>
                    <a:pt x="3833" y="15136"/>
                  </a:cubicBezTo>
                  <a:cubicBezTo>
                    <a:pt x="4281" y="15438"/>
                    <a:pt x="4655" y="15891"/>
                    <a:pt x="5028" y="16193"/>
                  </a:cubicBezTo>
                  <a:close/>
                </a:path>
              </a:pathLst>
            </a:custGeom>
            <a:solidFill>
              <a:srgbClr val="dadbd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67" name="Shape 1281"/>
            <p:cNvSpPr/>
            <p:nvPr/>
          </p:nvSpPr>
          <p:spPr>
            <a:xfrm>
              <a:off x="5485680" y="2541240"/>
              <a:ext cx="1680840" cy="866880"/>
            </a:xfrm>
            <a:custGeom>
              <a:avLst/>
              <a:gdLst/>
              <a:ahLst/>
              <a:rect l="l" t="t" r="r" b="b"/>
              <a:pathLst>
                <a:path w="21523" h="21600">
                  <a:moveTo>
                    <a:pt x="11584" y="17162"/>
                  </a:moveTo>
                  <a:cubicBezTo>
                    <a:pt x="11584" y="17162"/>
                    <a:pt x="11584" y="17063"/>
                    <a:pt x="11584" y="17063"/>
                  </a:cubicBezTo>
                  <a:cubicBezTo>
                    <a:pt x="11584" y="17063"/>
                    <a:pt x="11736" y="17458"/>
                    <a:pt x="11736" y="17458"/>
                  </a:cubicBezTo>
                  <a:cubicBezTo>
                    <a:pt x="11837" y="17458"/>
                    <a:pt x="11888" y="17556"/>
                    <a:pt x="11938" y="17556"/>
                  </a:cubicBezTo>
                  <a:cubicBezTo>
                    <a:pt x="12039" y="17556"/>
                    <a:pt x="12039" y="17458"/>
                    <a:pt x="12090" y="17556"/>
                  </a:cubicBezTo>
                  <a:cubicBezTo>
                    <a:pt x="12242" y="17655"/>
                    <a:pt x="12343" y="17753"/>
                    <a:pt x="12444" y="17852"/>
                  </a:cubicBezTo>
                  <a:cubicBezTo>
                    <a:pt x="12495" y="17951"/>
                    <a:pt x="12545" y="17852"/>
                    <a:pt x="12596" y="17852"/>
                  </a:cubicBezTo>
                  <a:cubicBezTo>
                    <a:pt x="12646" y="17753"/>
                    <a:pt x="12697" y="17753"/>
                    <a:pt x="12748" y="17753"/>
                  </a:cubicBezTo>
                  <a:cubicBezTo>
                    <a:pt x="12798" y="17753"/>
                    <a:pt x="12849" y="17852"/>
                    <a:pt x="12899" y="17852"/>
                  </a:cubicBezTo>
                  <a:cubicBezTo>
                    <a:pt x="13000" y="17852"/>
                    <a:pt x="13051" y="17753"/>
                    <a:pt x="13102" y="17655"/>
                  </a:cubicBezTo>
                  <a:cubicBezTo>
                    <a:pt x="13152" y="17556"/>
                    <a:pt x="13304" y="17260"/>
                    <a:pt x="13355" y="17260"/>
                  </a:cubicBezTo>
                  <a:cubicBezTo>
                    <a:pt x="13355" y="17260"/>
                    <a:pt x="13405" y="17359"/>
                    <a:pt x="13405" y="17359"/>
                  </a:cubicBezTo>
                  <a:cubicBezTo>
                    <a:pt x="13506" y="17359"/>
                    <a:pt x="13557" y="17359"/>
                    <a:pt x="13607" y="17359"/>
                  </a:cubicBezTo>
                  <a:cubicBezTo>
                    <a:pt x="13810" y="17359"/>
                    <a:pt x="13759" y="17655"/>
                    <a:pt x="13860" y="17852"/>
                  </a:cubicBezTo>
                  <a:cubicBezTo>
                    <a:pt x="13911" y="17951"/>
                    <a:pt x="14113" y="17852"/>
                    <a:pt x="14113" y="18049"/>
                  </a:cubicBezTo>
                  <a:cubicBezTo>
                    <a:pt x="14113" y="18247"/>
                    <a:pt x="14164" y="18444"/>
                    <a:pt x="14215" y="18641"/>
                  </a:cubicBezTo>
                  <a:cubicBezTo>
                    <a:pt x="14215" y="19134"/>
                    <a:pt x="14670" y="19036"/>
                    <a:pt x="14822" y="19134"/>
                  </a:cubicBezTo>
                  <a:cubicBezTo>
                    <a:pt x="14923" y="19134"/>
                    <a:pt x="15074" y="19134"/>
                    <a:pt x="15125" y="19233"/>
                  </a:cubicBezTo>
                  <a:cubicBezTo>
                    <a:pt x="15176" y="19332"/>
                    <a:pt x="15429" y="19825"/>
                    <a:pt x="15378" y="19825"/>
                  </a:cubicBezTo>
                  <a:cubicBezTo>
                    <a:pt x="15277" y="20022"/>
                    <a:pt x="15277" y="20022"/>
                    <a:pt x="15176" y="19923"/>
                  </a:cubicBezTo>
                  <a:cubicBezTo>
                    <a:pt x="15125" y="19825"/>
                    <a:pt x="14923" y="19627"/>
                    <a:pt x="14923" y="19627"/>
                  </a:cubicBezTo>
                  <a:cubicBezTo>
                    <a:pt x="14923" y="19726"/>
                    <a:pt x="15074" y="19825"/>
                    <a:pt x="15024" y="20022"/>
                  </a:cubicBezTo>
                  <a:cubicBezTo>
                    <a:pt x="14973" y="20121"/>
                    <a:pt x="14923" y="20318"/>
                    <a:pt x="14923" y="20416"/>
                  </a:cubicBezTo>
                  <a:cubicBezTo>
                    <a:pt x="14923" y="20614"/>
                    <a:pt x="14923" y="20712"/>
                    <a:pt x="14872" y="20811"/>
                  </a:cubicBezTo>
                  <a:cubicBezTo>
                    <a:pt x="14872" y="20910"/>
                    <a:pt x="14720" y="21008"/>
                    <a:pt x="14720" y="21008"/>
                  </a:cubicBezTo>
                  <a:cubicBezTo>
                    <a:pt x="14670" y="21107"/>
                    <a:pt x="14518" y="21600"/>
                    <a:pt x="14720" y="21600"/>
                  </a:cubicBezTo>
                  <a:cubicBezTo>
                    <a:pt x="14771" y="21600"/>
                    <a:pt x="14872" y="21403"/>
                    <a:pt x="14973" y="21205"/>
                  </a:cubicBezTo>
                  <a:cubicBezTo>
                    <a:pt x="15074" y="21107"/>
                    <a:pt x="15125" y="21304"/>
                    <a:pt x="15226" y="21205"/>
                  </a:cubicBezTo>
                  <a:cubicBezTo>
                    <a:pt x="15378" y="21205"/>
                    <a:pt x="15429" y="21008"/>
                    <a:pt x="15580" y="21008"/>
                  </a:cubicBezTo>
                  <a:cubicBezTo>
                    <a:pt x="15580" y="20811"/>
                    <a:pt x="15580" y="20910"/>
                    <a:pt x="15479" y="20811"/>
                  </a:cubicBezTo>
                  <a:cubicBezTo>
                    <a:pt x="15429" y="20811"/>
                    <a:pt x="15429" y="20712"/>
                    <a:pt x="15479" y="20712"/>
                  </a:cubicBezTo>
                  <a:cubicBezTo>
                    <a:pt x="15530" y="20515"/>
                    <a:pt x="15580" y="20416"/>
                    <a:pt x="15732" y="20416"/>
                  </a:cubicBezTo>
                  <a:cubicBezTo>
                    <a:pt x="15783" y="20416"/>
                    <a:pt x="15934" y="20219"/>
                    <a:pt x="16036" y="20318"/>
                  </a:cubicBezTo>
                  <a:cubicBezTo>
                    <a:pt x="16137" y="20416"/>
                    <a:pt x="16187" y="20022"/>
                    <a:pt x="16289" y="20318"/>
                  </a:cubicBezTo>
                  <a:cubicBezTo>
                    <a:pt x="16390" y="20121"/>
                    <a:pt x="16440" y="20022"/>
                    <a:pt x="16541" y="19825"/>
                  </a:cubicBezTo>
                  <a:cubicBezTo>
                    <a:pt x="16643" y="19726"/>
                    <a:pt x="16693" y="19726"/>
                    <a:pt x="16794" y="19726"/>
                  </a:cubicBezTo>
                  <a:cubicBezTo>
                    <a:pt x="16946" y="19726"/>
                    <a:pt x="17148" y="19726"/>
                    <a:pt x="17300" y="19726"/>
                  </a:cubicBezTo>
                  <a:cubicBezTo>
                    <a:pt x="17452" y="19726"/>
                    <a:pt x="17503" y="19825"/>
                    <a:pt x="17553" y="19627"/>
                  </a:cubicBezTo>
                  <a:cubicBezTo>
                    <a:pt x="17604" y="19529"/>
                    <a:pt x="17654" y="19627"/>
                    <a:pt x="17705" y="19529"/>
                  </a:cubicBezTo>
                  <a:cubicBezTo>
                    <a:pt x="17756" y="19332"/>
                    <a:pt x="17806" y="19233"/>
                    <a:pt x="17806" y="19036"/>
                  </a:cubicBezTo>
                  <a:cubicBezTo>
                    <a:pt x="17857" y="18838"/>
                    <a:pt x="17857" y="18740"/>
                    <a:pt x="17907" y="18542"/>
                  </a:cubicBezTo>
                  <a:cubicBezTo>
                    <a:pt x="17958" y="18444"/>
                    <a:pt x="18008" y="18345"/>
                    <a:pt x="18059" y="18247"/>
                  </a:cubicBezTo>
                  <a:cubicBezTo>
                    <a:pt x="18110" y="18148"/>
                    <a:pt x="18160" y="18444"/>
                    <a:pt x="18261" y="18345"/>
                  </a:cubicBezTo>
                  <a:cubicBezTo>
                    <a:pt x="18363" y="18148"/>
                    <a:pt x="18464" y="18444"/>
                    <a:pt x="18464" y="18641"/>
                  </a:cubicBezTo>
                  <a:cubicBezTo>
                    <a:pt x="18464" y="18740"/>
                    <a:pt x="18413" y="19332"/>
                    <a:pt x="18514" y="19332"/>
                  </a:cubicBezTo>
                  <a:cubicBezTo>
                    <a:pt x="18565" y="19430"/>
                    <a:pt x="18615" y="19627"/>
                    <a:pt x="18666" y="19825"/>
                  </a:cubicBezTo>
                  <a:cubicBezTo>
                    <a:pt x="18717" y="19627"/>
                    <a:pt x="19273" y="19332"/>
                    <a:pt x="19273" y="19332"/>
                  </a:cubicBezTo>
                  <a:cubicBezTo>
                    <a:pt x="19273" y="19233"/>
                    <a:pt x="19222" y="19233"/>
                    <a:pt x="19222" y="19134"/>
                  </a:cubicBezTo>
                  <a:cubicBezTo>
                    <a:pt x="19222" y="19134"/>
                    <a:pt x="19324" y="19332"/>
                    <a:pt x="19324" y="19332"/>
                  </a:cubicBezTo>
                  <a:cubicBezTo>
                    <a:pt x="19324" y="19430"/>
                    <a:pt x="19222" y="19430"/>
                    <a:pt x="19222" y="19430"/>
                  </a:cubicBezTo>
                  <a:cubicBezTo>
                    <a:pt x="19222" y="19430"/>
                    <a:pt x="19526" y="19529"/>
                    <a:pt x="19526" y="19529"/>
                  </a:cubicBezTo>
                  <a:cubicBezTo>
                    <a:pt x="19526" y="19529"/>
                    <a:pt x="19526" y="19529"/>
                    <a:pt x="19526" y="19529"/>
                  </a:cubicBezTo>
                  <a:cubicBezTo>
                    <a:pt x="19526" y="19529"/>
                    <a:pt x="19526" y="19627"/>
                    <a:pt x="19526" y="19627"/>
                  </a:cubicBezTo>
                  <a:cubicBezTo>
                    <a:pt x="19475" y="19627"/>
                    <a:pt x="19425" y="19627"/>
                    <a:pt x="19374" y="19726"/>
                  </a:cubicBezTo>
                  <a:cubicBezTo>
                    <a:pt x="19374" y="19825"/>
                    <a:pt x="19324" y="19529"/>
                    <a:pt x="19324" y="19529"/>
                  </a:cubicBezTo>
                  <a:cubicBezTo>
                    <a:pt x="19273" y="19529"/>
                    <a:pt x="19273" y="19627"/>
                    <a:pt x="19273" y="19627"/>
                  </a:cubicBezTo>
                  <a:cubicBezTo>
                    <a:pt x="19273" y="19627"/>
                    <a:pt x="19273" y="19529"/>
                    <a:pt x="19222" y="19627"/>
                  </a:cubicBezTo>
                  <a:cubicBezTo>
                    <a:pt x="19172" y="19726"/>
                    <a:pt x="19121" y="19726"/>
                    <a:pt x="19071" y="19825"/>
                  </a:cubicBezTo>
                  <a:cubicBezTo>
                    <a:pt x="18970" y="19923"/>
                    <a:pt x="18767" y="20219"/>
                    <a:pt x="18868" y="20515"/>
                  </a:cubicBezTo>
                  <a:cubicBezTo>
                    <a:pt x="19020" y="20712"/>
                    <a:pt x="19121" y="20515"/>
                    <a:pt x="19172" y="20416"/>
                  </a:cubicBezTo>
                  <a:cubicBezTo>
                    <a:pt x="19222" y="20318"/>
                    <a:pt x="19425" y="20022"/>
                    <a:pt x="19425" y="19923"/>
                  </a:cubicBezTo>
                  <a:cubicBezTo>
                    <a:pt x="19425" y="20022"/>
                    <a:pt x="19526" y="20121"/>
                    <a:pt x="19577" y="20022"/>
                  </a:cubicBezTo>
                  <a:cubicBezTo>
                    <a:pt x="19577" y="19923"/>
                    <a:pt x="19728" y="19825"/>
                    <a:pt x="19779" y="19825"/>
                  </a:cubicBezTo>
                  <a:cubicBezTo>
                    <a:pt x="19880" y="19726"/>
                    <a:pt x="19981" y="19627"/>
                    <a:pt x="20082" y="19627"/>
                  </a:cubicBezTo>
                  <a:cubicBezTo>
                    <a:pt x="20133" y="19627"/>
                    <a:pt x="20133" y="19627"/>
                    <a:pt x="20133" y="19529"/>
                  </a:cubicBezTo>
                  <a:cubicBezTo>
                    <a:pt x="20082" y="19430"/>
                    <a:pt x="20133" y="19430"/>
                    <a:pt x="20133" y="19430"/>
                  </a:cubicBezTo>
                  <a:cubicBezTo>
                    <a:pt x="20133" y="19332"/>
                    <a:pt x="20032" y="19430"/>
                    <a:pt x="19981" y="19332"/>
                  </a:cubicBezTo>
                  <a:cubicBezTo>
                    <a:pt x="19931" y="19332"/>
                    <a:pt x="19981" y="19134"/>
                    <a:pt x="19880" y="19332"/>
                  </a:cubicBezTo>
                  <a:cubicBezTo>
                    <a:pt x="19779" y="19430"/>
                    <a:pt x="19577" y="19332"/>
                    <a:pt x="19475" y="19233"/>
                  </a:cubicBezTo>
                  <a:cubicBezTo>
                    <a:pt x="19425" y="19233"/>
                    <a:pt x="19475" y="19036"/>
                    <a:pt x="19425" y="19036"/>
                  </a:cubicBezTo>
                  <a:cubicBezTo>
                    <a:pt x="19425" y="19036"/>
                    <a:pt x="19324" y="19036"/>
                    <a:pt x="19273" y="18937"/>
                  </a:cubicBezTo>
                  <a:cubicBezTo>
                    <a:pt x="19222" y="18937"/>
                    <a:pt x="19222" y="18641"/>
                    <a:pt x="19222" y="18542"/>
                  </a:cubicBezTo>
                  <a:cubicBezTo>
                    <a:pt x="19222" y="18444"/>
                    <a:pt x="19121" y="18542"/>
                    <a:pt x="19071" y="18444"/>
                  </a:cubicBezTo>
                  <a:cubicBezTo>
                    <a:pt x="19071" y="18444"/>
                    <a:pt x="19172" y="18247"/>
                    <a:pt x="19172" y="18247"/>
                  </a:cubicBezTo>
                  <a:cubicBezTo>
                    <a:pt x="19222" y="18148"/>
                    <a:pt x="19222" y="17852"/>
                    <a:pt x="19121" y="17852"/>
                  </a:cubicBezTo>
                  <a:cubicBezTo>
                    <a:pt x="19121" y="17852"/>
                    <a:pt x="19020" y="18247"/>
                    <a:pt x="18970" y="18049"/>
                  </a:cubicBezTo>
                  <a:cubicBezTo>
                    <a:pt x="18970" y="17852"/>
                    <a:pt x="18919" y="17951"/>
                    <a:pt x="18868" y="17852"/>
                  </a:cubicBezTo>
                  <a:cubicBezTo>
                    <a:pt x="18868" y="17753"/>
                    <a:pt x="19020" y="17852"/>
                    <a:pt x="19020" y="17852"/>
                  </a:cubicBezTo>
                  <a:cubicBezTo>
                    <a:pt x="19121" y="17852"/>
                    <a:pt x="19172" y="17753"/>
                    <a:pt x="19222" y="17753"/>
                  </a:cubicBezTo>
                  <a:cubicBezTo>
                    <a:pt x="19273" y="17655"/>
                    <a:pt x="19324" y="17655"/>
                    <a:pt x="19374" y="17655"/>
                  </a:cubicBezTo>
                  <a:cubicBezTo>
                    <a:pt x="19425" y="17556"/>
                    <a:pt x="19324" y="17359"/>
                    <a:pt x="19324" y="17359"/>
                  </a:cubicBezTo>
                  <a:cubicBezTo>
                    <a:pt x="19324" y="17359"/>
                    <a:pt x="19374" y="17359"/>
                    <a:pt x="19374" y="17359"/>
                  </a:cubicBezTo>
                  <a:cubicBezTo>
                    <a:pt x="19374" y="17359"/>
                    <a:pt x="19172" y="17162"/>
                    <a:pt x="19172" y="17162"/>
                  </a:cubicBezTo>
                  <a:cubicBezTo>
                    <a:pt x="19071" y="17063"/>
                    <a:pt x="18970" y="17063"/>
                    <a:pt x="18868" y="17162"/>
                  </a:cubicBezTo>
                  <a:cubicBezTo>
                    <a:pt x="18666" y="17260"/>
                    <a:pt x="18514" y="17359"/>
                    <a:pt x="18363" y="17556"/>
                  </a:cubicBezTo>
                  <a:cubicBezTo>
                    <a:pt x="18211" y="17655"/>
                    <a:pt x="18110" y="17852"/>
                    <a:pt x="17958" y="18049"/>
                  </a:cubicBezTo>
                  <a:cubicBezTo>
                    <a:pt x="17907" y="18148"/>
                    <a:pt x="17857" y="18247"/>
                    <a:pt x="17806" y="18444"/>
                  </a:cubicBezTo>
                  <a:cubicBezTo>
                    <a:pt x="17806" y="18444"/>
                    <a:pt x="17604" y="18641"/>
                    <a:pt x="17604" y="18641"/>
                  </a:cubicBezTo>
                  <a:cubicBezTo>
                    <a:pt x="17604" y="18542"/>
                    <a:pt x="17857" y="18148"/>
                    <a:pt x="17907" y="18049"/>
                  </a:cubicBezTo>
                  <a:cubicBezTo>
                    <a:pt x="17907" y="17951"/>
                    <a:pt x="17958" y="17852"/>
                    <a:pt x="17907" y="17753"/>
                  </a:cubicBezTo>
                  <a:cubicBezTo>
                    <a:pt x="17857" y="17753"/>
                    <a:pt x="17756" y="17655"/>
                    <a:pt x="17705" y="17655"/>
                  </a:cubicBezTo>
                  <a:cubicBezTo>
                    <a:pt x="17756" y="17655"/>
                    <a:pt x="17857" y="17753"/>
                    <a:pt x="17907" y="17753"/>
                  </a:cubicBezTo>
                  <a:cubicBezTo>
                    <a:pt x="18008" y="17852"/>
                    <a:pt x="18110" y="17556"/>
                    <a:pt x="18160" y="17458"/>
                  </a:cubicBezTo>
                  <a:cubicBezTo>
                    <a:pt x="18211" y="17359"/>
                    <a:pt x="18261" y="17162"/>
                    <a:pt x="18363" y="17063"/>
                  </a:cubicBezTo>
                  <a:cubicBezTo>
                    <a:pt x="18464" y="17063"/>
                    <a:pt x="18565" y="17162"/>
                    <a:pt x="18615" y="16964"/>
                  </a:cubicBezTo>
                  <a:cubicBezTo>
                    <a:pt x="18666" y="16570"/>
                    <a:pt x="18767" y="16471"/>
                    <a:pt x="18970" y="16471"/>
                  </a:cubicBezTo>
                  <a:cubicBezTo>
                    <a:pt x="19172" y="16471"/>
                    <a:pt x="19374" y="16471"/>
                    <a:pt x="19577" y="16471"/>
                  </a:cubicBezTo>
                  <a:cubicBezTo>
                    <a:pt x="19931" y="16471"/>
                    <a:pt x="20437" y="16668"/>
                    <a:pt x="20689" y="16077"/>
                  </a:cubicBezTo>
                  <a:cubicBezTo>
                    <a:pt x="20791" y="15879"/>
                    <a:pt x="20841" y="15781"/>
                    <a:pt x="20942" y="15781"/>
                  </a:cubicBezTo>
                  <a:cubicBezTo>
                    <a:pt x="21044" y="15781"/>
                    <a:pt x="21145" y="15781"/>
                    <a:pt x="21296" y="15584"/>
                  </a:cubicBezTo>
                  <a:cubicBezTo>
                    <a:pt x="21347" y="15584"/>
                    <a:pt x="21499" y="15386"/>
                    <a:pt x="21499" y="15288"/>
                  </a:cubicBezTo>
                  <a:cubicBezTo>
                    <a:pt x="21600" y="14992"/>
                    <a:pt x="21347" y="15090"/>
                    <a:pt x="21347" y="14992"/>
                  </a:cubicBezTo>
                  <a:cubicBezTo>
                    <a:pt x="21347" y="14893"/>
                    <a:pt x="21448" y="14893"/>
                    <a:pt x="21448" y="14893"/>
                  </a:cubicBezTo>
                  <a:cubicBezTo>
                    <a:pt x="21499" y="14795"/>
                    <a:pt x="21448" y="14696"/>
                    <a:pt x="21448" y="14597"/>
                  </a:cubicBezTo>
                  <a:cubicBezTo>
                    <a:pt x="21448" y="14597"/>
                    <a:pt x="21499" y="14499"/>
                    <a:pt x="21499" y="14499"/>
                  </a:cubicBezTo>
                  <a:cubicBezTo>
                    <a:pt x="21499" y="14400"/>
                    <a:pt x="21398" y="14301"/>
                    <a:pt x="21398" y="14301"/>
                  </a:cubicBezTo>
                  <a:cubicBezTo>
                    <a:pt x="21347" y="14203"/>
                    <a:pt x="21296" y="14203"/>
                    <a:pt x="21296" y="14104"/>
                  </a:cubicBezTo>
                  <a:cubicBezTo>
                    <a:pt x="21246" y="14104"/>
                    <a:pt x="21145" y="14400"/>
                    <a:pt x="21094" y="14203"/>
                  </a:cubicBezTo>
                  <a:cubicBezTo>
                    <a:pt x="21094" y="14203"/>
                    <a:pt x="21195" y="14104"/>
                    <a:pt x="21145" y="14104"/>
                  </a:cubicBezTo>
                  <a:cubicBezTo>
                    <a:pt x="21145" y="14005"/>
                    <a:pt x="21094" y="13907"/>
                    <a:pt x="21044" y="13907"/>
                  </a:cubicBezTo>
                  <a:cubicBezTo>
                    <a:pt x="20993" y="13808"/>
                    <a:pt x="20791" y="13907"/>
                    <a:pt x="20740" y="14005"/>
                  </a:cubicBezTo>
                  <a:cubicBezTo>
                    <a:pt x="20689" y="14203"/>
                    <a:pt x="20538" y="14301"/>
                    <a:pt x="20437" y="14400"/>
                  </a:cubicBezTo>
                  <a:cubicBezTo>
                    <a:pt x="20386" y="14400"/>
                    <a:pt x="20234" y="14203"/>
                    <a:pt x="20234" y="14104"/>
                  </a:cubicBezTo>
                  <a:cubicBezTo>
                    <a:pt x="20234" y="14005"/>
                    <a:pt x="20386" y="14301"/>
                    <a:pt x="20386" y="14301"/>
                  </a:cubicBezTo>
                  <a:cubicBezTo>
                    <a:pt x="20437" y="14301"/>
                    <a:pt x="20639" y="14005"/>
                    <a:pt x="20639" y="14005"/>
                  </a:cubicBezTo>
                  <a:cubicBezTo>
                    <a:pt x="20639" y="14005"/>
                    <a:pt x="20538" y="13907"/>
                    <a:pt x="20538" y="13907"/>
                  </a:cubicBezTo>
                  <a:cubicBezTo>
                    <a:pt x="20689" y="13808"/>
                    <a:pt x="20841" y="13808"/>
                    <a:pt x="20993" y="13710"/>
                  </a:cubicBezTo>
                  <a:cubicBezTo>
                    <a:pt x="20993" y="13710"/>
                    <a:pt x="21094" y="13611"/>
                    <a:pt x="21044" y="13512"/>
                  </a:cubicBezTo>
                  <a:cubicBezTo>
                    <a:pt x="21044" y="13512"/>
                    <a:pt x="20942" y="13315"/>
                    <a:pt x="20942" y="13315"/>
                  </a:cubicBezTo>
                  <a:cubicBezTo>
                    <a:pt x="20841" y="13414"/>
                    <a:pt x="20740" y="13414"/>
                    <a:pt x="20689" y="13216"/>
                  </a:cubicBezTo>
                  <a:cubicBezTo>
                    <a:pt x="20639" y="13216"/>
                    <a:pt x="20437" y="13512"/>
                    <a:pt x="20437" y="13414"/>
                  </a:cubicBezTo>
                  <a:cubicBezTo>
                    <a:pt x="20437" y="13414"/>
                    <a:pt x="20588" y="13118"/>
                    <a:pt x="20437" y="13216"/>
                  </a:cubicBezTo>
                  <a:cubicBezTo>
                    <a:pt x="20437" y="13216"/>
                    <a:pt x="20234" y="13315"/>
                    <a:pt x="20234" y="13315"/>
                  </a:cubicBezTo>
                  <a:cubicBezTo>
                    <a:pt x="20285" y="13118"/>
                    <a:pt x="20437" y="13118"/>
                    <a:pt x="20335" y="12822"/>
                  </a:cubicBezTo>
                  <a:cubicBezTo>
                    <a:pt x="20335" y="12822"/>
                    <a:pt x="20133" y="12625"/>
                    <a:pt x="20133" y="12625"/>
                  </a:cubicBezTo>
                  <a:cubicBezTo>
                    <a:pt x="20032" y="12625"/>
                    <a:pt x="20032" y="12427"/>
                    <a:pt x="19931" y="12427"/>
                  </a:cubicBezTo>
                  <a:cubicBezTo>
                    <a:pt x="19981" y="12427"/>
                    <a:pt x="19830" y="12033"/>
                    <a:pt x="19830" y="12033"/>
                  </a:cubicBezTo>
                  <a:cubicBezTo>
                    <a:pt x="19830" y="12033"/>
                    <a:pt x="19880" y="12132"/>
                    <a:pt x="19931" y="12132"/>
                  </a:cubicBezTo>
                  <a:cubicBezTo>
                    <a:pt x="19981" y="12230"/>
                    <a:pt x="19981" y="12033"/>
                    <a:pt x="20032" y="12033"/>
                  </a:cubicBezTo>
                  <a:cubicBezTo>
                    <a:pt x="20234" y="11934"/>
                    <a:pt x="19880" y="11638"/>
                    <a:pt x="19830" y="11540"/>
                  </a:cubicBezTo>
                  <a:cubicBezTo>
                    <a:pt x="19830" y="11638"/>
                    <a:pt x="19931" y="11441"/>
                    <a:pt x="19931" y="11441"/>
                  </a:cubicBezTo>
                  <a:cubicBezTo>
                    <a:pt x="19981" y="11342"/>
                    <a:pt x="19880" y="11342"/>
                    <a:pt x="19830" y="11244"/>
                  </a:cubicBezTo>
                  <a:cubicBezTo>
                    <a:pt x="19830" y="11244"/>
                    <a:pt x="19779" y="11145"/>
                    <a:pt x="19728" y="11145"/>
                  </a:cubicBezTo>
                  <a:cubicBezTo>
                    <a:pt x="19728" y="11145"/>
                    <a:pt x="19627" y="11145"/>
                    <a:pt x="19627" y="11145"/>
                  </a:cubicBezTo>
                  <a:cubicBezTo>
                    <a:pt x="19678" y="11047"/>
                    <a:pt x="19779" y="11145"/>
                    <a:pt x="19728" y="10849"/>
                  </a:cubicBezTo>
                  <a:cubicBezTo>
                    <a:pt x="19678" y="10849"/>
                    <a:pt x="19526" y="10948"/>
                    <a:pt x="19526" y="10948"/>
                  </a:cubicBezTo>
                  <a:cubicBezTo>
                    <a:pt x="19526" y="10849"/>
                    <a:pt x="19678" y="10849"/>
                    <a:pt x="19627" y="10652"/>
                  </a:cubicBezTo>
                  <a:cubicBezTo>
                    <a:pt x="19627" y="10553"/>
                    <a:pt x="19627" y="10455"/>
                    <a:pt x="19577" y="10356"/>
                  </a:cubicBezTo>
                  <a:cubicBezTo>
                    <a:pt x="19577" y="10356"/>
                    <a:pt x="19526" y="10455"/>
                    <a:pt x="19526" y="10356"/>
                  </a:cubicBezTo>
                  <a:cubicBezTo>
                    <a:pt x="19526" y="10455"/>
                    <a:pt x="19425" y="10060"/>
                    <a:pt x="19425" y="10060"/>
                  </a:cubicBezTo>
                  <a:cubicBezTo>
                    <a:pt x="19374" y="9863"/>
                    <a:pt x="19324" y="9764"/>
                    <a:pt x="19324" y="9666"/>
                  </a:cubicBezTo>
                  <a:cubicBezTo>
                    <a:pt x="19273" y="9468"/>
                    <a:pt x="19273" y="9271"/>
                    <a:pt x="19172" y="9567"/>
                  </a:cubicBezTo>
                  <a:cubicBezTo>
                    <a:pt x="19172" y="9567"/>
                    <a:pt x="19121" y="9962"/>
                    <a:pt x="19172" y="9863"/>
                  </a:cubicBezTo>
                  <a:cubicBezTo>
                    <a:pt x="18970" y="9962"/>
                    <a:pt x="19071" y="9962"/>
                    <a:pt x="19121" y="10258"/>
                  </a:cubicBezTo>
                  <a:cubicBezTo>
                    <a:pt x="19121" y="10159"/>
                    <a:pt x="19071" y="10159"/>
                    <a:pt x="19071" y="10258"/>
                  </a:cubicBezTo>
                  <a:cubicBezTo>
                    <a:pt x="19020" y="10258"/>
                    <a:pt x="19020" y="10258"/>
                    <a:pt x="18970" y="10356"/>
                  </a:cubicBezTo>
                  <a:cubicBezTo>
                    <a:pt x="18970" y="10356"/>
                    <a:pt x="19071" y="10455"/>
                    <a:pt x="19071" y="10455"/>
                  </a:cubicBezTo>
                  <a:cubicBezTo>
                    <a:pt x="19020" y="10553"/>
                    <a:pt x="18919" y="10455"/>
                    <a:pt x="18919" y="10553"/>
                  </a:cubicBezTo>
                  <a:cubicBezTo>
                    <a:pt x="18868" y="10652"/>
                    <a:pt x="18970" y="10849"/>
                    <a:pt x="18868" y="10948"/>
                  </a:cubicBezTo>
                  <a:cubicBezTo>
                    <a:pt x="18919" y="10948"/>
                    <a:pt x="18818" y="10553"/>
                    <a:pt x="18717" y="10751"/>
                  </a:cubicBezTo>
                  <a:cubicBezTo>
                    <a:pt x="18717" y="10849"/>
                    <a:pt x="18514" y="11145"/>
                    <a:pt x="18514" y="11145"/>
                  </a:cubicBezTo>
                  <a:cubicBezTo>
                    <a:pt x="18464" y="11145"/>
                    <a:pt x="18464" y="11047"/>
                    <a:pt x="18464" y="10948"/>
                  </a:cubicBezTo>
                  <a:cubicBezTo>
                    <a:pt x="18413" y="10948"/>
                    <a:pt x="18413" y="11047"/>
                    <a:pt x="18413" y="11047"/>
                  </a:cubicBezTo>
                  <a:cubicBezTo>
                    <a:pt x="18363" y="10948"/>
                    <a:pt x="18413" y="10948"/>
                    <a:pt x="18413" y="10849"/>
                  </a:cubicBezTo>
                  <a:cubicBezTo>
                    <a:pt x="18413" y="10948"/>
                    <a:pt x="18059" y="11441"/>
                    <a:pt x="18059" y="11342"/>
                  </a:cubicBezTo>
                  <a:cubicBezTo>
                    <a:pt x="18008" y="11244"/>
                    <a:pt x="18211" y="11145"/>
                    <a:pt x="18261" y="11145"/>
                  </a:cubicBezTo>
                  <a:cubicBezTo>
                    <a:pt x="18363" y="10948"/>
                    <a:pt x="18363" y="10849"/>
                    <a:pt x="18312" y="10652"/>
                  </a:cubicBezTo>
                  <a:cubicBezTo>
                    <a:pt x="18261" y="10553"/>
                    <a:pt x="18110" y="10553"/>
                    <a:pt x="18059" y="10553"/>
                  </a:cubicBezTo>
                  <a:cubicBezTo>
                    <a:pt x="18008" y="10553"/>
                    <a:pt x="18008" y="10652"/>
                    <a:pt x="18008" y="10652"/>
                  </a:cubicBezTo>
                  <a:cubicBezTo>
                    <a:pt x="17958" y="10849"/>
                    <a:pt x="17857" y="10652"/>
                    <a:pt x="17806" y="10652"/>
                  </a:cubicBezTo>
                  <a:cubicBezTo>
                    <a:pt x="17857" y="10652"/>
                    <a:pt x="17958" y="10455"/>
                    <a:pt x="17958" y="10455"/>
                  </a:cubicBezTo>
                  <a:cubicBezTo>
                    <a:pt x="17958" y="10455"/>
                    <a:pt x="18008" y="10553"/>
                    <a:pt x="18008" y="10553"/>
                  </a:cubicBezTo>
                  <a:cubicBezTo>
                    <a:pt x="17958" y="10553"/>
                    <a:pt x="18059" y="10356"/>
                    <a:pt x="18059" y="10356"/>
                  </a:cubicBezTo>
                  <a:cubicBezTo>
                    <a:pt x="18110" y="10159"/>
                    <a:pt x="18008" y="10258"/>
                    <a:pt x="17958" y="10159"/>
                  </a:cubicBezTo>
                  <a:cubicBezTo>
                    <a:pt x="17958" y="10159"/>
                    <a:pt x="18008" y="9666"/>
                    <a:pt x="17907" y="9764"/>
                  </a:cubicBezTo>
                  <a:cubicBezTo>
                    <a:pt x="17958" y="9666"/>
                    <a:pt x="18008" y="9666"/>
                    <a:pt x="17958" y="9468"/>
                  </a:cubicBezTo>
                  <a:cubicBezTo>
                    <a:pt x="17857" y="9370"/>
                    <a:pt x="18059" y="9271"/>
                    <a:pt x="18008" y="9074"/>
                  </a:cubicBezTo>
                  <a:cubicBezTo>
                    <a:pt x="18008" y="8975"/>
                    <a:pt x="17907" y="9173"/>
                    <a:pt x="17857" y="9074"/>
                  </a:cubicBezTo>
                  <a:cubicBezTo>
                    <a:pt x="17806" y="8975"/>
                    <a:pt x="17705" y="8975"/>
                    <a:pt x="17654" y="8975"/>
                  </a:cubicBezTo>
                  <a:cubicBezTo>
                    <a:pt x="17553" y="8877"/>
                    <a:pt x="17503" y="8877"/>
                    <a:pt x="17452" y="8679"/>
                  </a:cubicBezTo>
                  <a:cubicBezTo>
                    <a:pt x="17452" y="8482"/>
                    <a:pt x="17300" y="8581"/>
                    <a:pt x="17300" y="8384"/>
                  </a:cubicBezTo>
                  <a:cubicBezTo>
                    <a:pt x="17300" y="8285"/>
                    <a:pt x="17199" y="8384"/>
                    <a:pt x="17199" y="8384"/>
                  </a:cubicBezTo>
                  <a:cubicBezTo>
                    <a:pt x="17250" y="8186"/>
                    <a:pt x="17148" y="8186"/>
                    <a:pt x="17098" y="8088"/>
                  </a:cubicBezTo>
                  <a:cubicBezTo>
                    <a:pt x="16997" y="7989"/>
                    <a:pt x="16997" y="7890"/>
                    <a:pt x="16896" y="7989"/>
                  </a:cubicBezTo>
                  <a:cubicBezTo>
                    <a:pt x="16794" y="8088"/>
                    <a:pt x="16744" y="8186"/>
                    <a:pt x="16643" y="8088"/>
                  </a:cubicBezTo>
                  <a:cubicBezTo>
                    <a:pt x="16541" y="7989"/>
                    <a:pt x="16491" y="8186"/>
                    <a:pt x="16390" y="8088"/>
                  </a:cubicBezTo>
                  <a:cubicBezTo>
                    <a:pt x="16289" y="7890"/>
                    <a:pt x="16187" y="7890"/>
                    <a:pt x="16086" y="7890"/>
                  </a:cubicBezTo>
                  <a:cubicBezTo>
                    <a:pt x="15985" y="7890"/>
                    <a:pt x="15884" y="7890"/>
                    <a:pt x="15833" y="8088"/>
                  </a:cubicBezTo>
                  <a:cubicBezTo>
                    <a:pt x="15783" y="8285"/>
                    <a:pt x="15934" y="8384"/>
                    <a:pt x="15934" y="8482"/>
                  </a:cubicBezTo>
                  <a:cubicBezTo>
                    <a:pt x="15985" y="8581"/>
                    <a:pt x="15934" y="8877"/>
                    <a:pt x="15884" y="8975"/>
                  </a:cubicBezTo>
                  <a:cubicBezTo>
                    <a:pt x="15884" y="9074"/>
                    <a:pt x="15884" y="8975"/>
                    <a:pt x="15833" y="9074"/>
                  </a:cubicBezTo>
                  <a:cubicBezTo>
                    <a:pt x="15833" y="9074"/>
                    <a:pt x="15934" y="9271"/>
                    <a:pt x="15934" y="9271"/>
                  </a:cubicBezTo>
                  <a:cubicBezTo>
                    <a:pt x="15934" y="9468"/>
                    <a:pt x="15985" y="9666"/>
                    <a:pt x="15985" y="9764"/>
                  </a:cubicBezTo>
                  <a:cubicBezTo>
                    <a:pt x="15985" y="9863"/>
                    <a:pt x="15985" y="9863"/>
                    <a:pt x="15985" y="9962"/>
                  </a:cubicBezTo>
                  <a:cubicBezTo>
                    <a:pt x="15985" y="10060"/>
                    <a:pt x="15934" y="9962"/>
                    <a:pt x="15934" y="9962"/>
                  </a:cubicBezTo>
                  <a:cubicBezTo>
                    <a:pt x="15884" y="10060"/>
                    <a:pt x="15884" y="10258"/>
                    <a:pt x="15884" y="10258"/>
                  </a:cubicBezTo>
                  <a:cubicBezTo>
                    <a:pt x="15833" y="10356"/>
                    <a:pt x="15783" y="10455"/>
                    <a:pt x="15783" y="10553"/>
                  </a:cubicBezTo>
                  <a:cubicBezTo>
                    <a:pt x="15732" y="10751"/>
                    <a:pt x="15732" y="10751"/>
                    <a:pt x="15783" y="10849"/>
                  </a:cubicBezTo>
                  <a:cubicBezTo>
                    <a:pt x="15934" y="11047"/>
                    <a:pt x="16086" y="11244"/>
                    <a:pt x="16187" y="11441"/>
                  </a:cubicBezTo>
                  <a:cubicBezTo>
                    <a:pt x="16238" y="11737"/>
                    <a:pt x="16289" y="12230"/>
                    <a:pt x="16238" y="12526"/>
                  </a:cubicBezTo>
                  <a:cubicBezTo>
                    <a:pt x="16137" y="12921"/>
                    <a:pt x="15833" y="13118"/>
                    <a:pt x="15681" y="13315"/>
                  </a:cubicBezTo>
                  <a:cubicBezTo>
                    <a:pt x="15631" y="13414"/>
                    <a:pt x="15580" y="13414"/>
                    <a:pt x="15530" y="13512"/>
                  </a:cubicBezTo>
                  <a:cubicBezTo>
                    <a:pt x="15378" y="13611"/>
                    <a:pt x="15580" y="13907"/>
                    <a:pt x="15580" y="14104"/>
                  </a:cubicBezTo>
                  <a:cubicBezTo>
                    <a:pt x="15580" y="14104"/>
                    <a:pt x="15631" y="14301"/>
                    <a:pt x="15631" y="14400"/>
                  </a:cubicBezTo>
                  <a:cubicBezTo>
                    <a:pt x="15631" y="14597"/>
                    <a:pt x="15631" y="14696"/>
                    <a:pt x="15681" y="14893"/>
                  </a:cubicBezTo>
                  <a:cubicBezTo>
                    <a:pt x="15732" y="15090"/>
                    <a:pt x="15732" y="15189"/>
                    <a:pt x="15631" y="15386"/>
                  </a:cubicBezTo>
                  <a:cubicBezTo>
                    <a:pt x="15631" y="15386"/>
                    <a:pt x="15681" y="15781"/>
                    <a:pt x="15631" y="15879"/>
                  </a:cubicBezTo>
                  <a:cubicBezTo>
                    <a:pt x="15580" y="15879"/>
                    <a:pt x="15530" y="15485"/>
                    <a:pt x="15479" y="15682"/>
                  </a:cubicBezTo>
                  <a:cubicBezTo>
                    <a:pt x="15429" y="15879"/>
                    <a:pt x="15530" y="16175"/>
                    <a:pt x="15530" y="16175"/>
                  </a:cubicBezTo>
                  <a:cubicBezTo>
                    <a:pt x="15530" y="16077"/>
                    <a:pt x="15226" y="15584"/>
                    <a:pt x="15074" y="15879"/>
                  </a:cubicBezTo>
                  <a:cubicBezTo>
                    <a:pt x="15125" y="15781"/>
                    <a:pt x="15277" y="15682"/>
                    <a:pt x="15176" y="15485"/>
                  </a:cubicBezTo>
                  <a:cubicBezTo>
                    <a:pt x="15125" y="15386"/>
                    <a:pt x="15074" y="15288"/>
                    <a:pt x="15024" y="15288"/>
                  </a:cubicBezTo>
                  <a:cubicBezTo>
                    <a:pt x="15024" y="15189"/>
                    <a:pt x="14923" y="15189"/>
                    <a:pt x="14872" y="15189"/>
                  </a:cubicBezTo>
                  <a:cubicBezTo>
                    <a:pt x="14872" y="15090"/>
                    <a:pt x="14923" y="15090"/>
                    <a:pt x="14872" y="14893"/>
                  </a:cubicBezTo>
                  <a:cubicBezTo>
                    <a:pt x="14822" y="14795"/>
                    <a:pt x="14771" y="14597"/>
                    <a:pt x="14822" y="14400"/>
                  </a:cubicBezTo>
                  <a:cubicBezTo>
                    <a:pt x="14872" y="14104"/>
                    <a:pt x="14720" y="14005"/>
                    <a:pt x="14720" y="13808"/>
                  </a:cubicBezTo>
                  <a:cubicBezTo>
                    <a:pt x="14720" y="13611"/>
                    <a:pt x="14822" y="13512"/>
                    <a:pt x="14771" y="13315"/>
                  </a:cubicBezTo>
                  <a:cubicBezTo>
                    <a:pt x="14670" y="13118"/>
                    <a:pt x="14467" y="13118"/>
                    <a:pt x="14316" y="13118"/>
                  </a:cubicBezTo>
                  <a:cubicBezTo>
                    <a:pt x="14265" y="13118"/>
                    <a:pt x="14215" y="13118"/>
                    <a:pt x="14113" y="13118"/>
                  </a:cubicBezTo>
                  <a:cubicBezTo>
                    <a:pt x="14113" y="13118"/>
                    <a:pt x="14012" y="13315"/>
                    <a:pt x="14012" y="13315"/>
                  </a:cubicBezTo>
                  <a:cubicBezTo>
                    <a:pt x="14012" y="13216"/>
                    <a:pt x="14063" y="13216"/>
                    <a:pt x="14012" y="13118"/>
                  </a:cubicBezTo>
                  <a:cubicBezTo>
                    <a:pt x="14012" y="13019"/>
                    <a:pt x="13962" y="12921"/>
                    <a:pt x="13911" y="12921"/>
                  </a:cubicBezTo>
                  <a:cubicBezTo>
                    <a:pt x="13810" y="12822"/>
                    <a:pt x="13709" y="12822"/>
                    <a:pt x="13607" y="12723"/>
                  </a:cubicBezTo>
                  <a:cubicBezTo>
                    <a:pt x="13456" y="12625"/>
                    <a:pt x="13355" y="12329"/>
                    <a:pt x="13203" y="12132"/>
                  </a:cubicBezTo>
                  <a:cubicBezTo>
                    <a:pt x="13102" y="12033"/>
                    <a:pt x="13000" y="11934"/>
                    <a:pt x="12950" y="11934"/>
                  </a:cubicBezTo>
                  <a:cubicBezTo>
                    <a:pt x="12849" y="11934"/>
                    <a:pt x="12748" y="11737"/>
                    <a:pt x="12646" y="11737"/>
                  </a:cubicBezTo>
                  <a:cubicBezTo>
                    <a:pt x="12596" y="11737"/>
                    <a:pt x="12141" y="11934"/>
                    <a:pt x="12141" y="11934"/>
                  </a:cubicBezTo>
                  <a:cubicBezTo>
                    <a:pt x="12141" y="11836"/>
                    <a:pt x="12191" y="11836"/>
                    <a:pt x="12242" y="11737"/>
                  </a:cubicBezTo>
                  <a:cubicBezTo>
                    <a:pt x="12242" y="11638"/>
                    <a:pt x="12191" y="11540"/>
                    <a:pt x="12191" y="11540"/>
                  </a:cubicBezTo>
                  <a:cubicBezTo>
                    <a:pt x="12141" y="11244"/>
                    <a:pt x="12090" y="11047"/>
                    <a:pt x="12039" y="10849"/>
                  </a:cubicBezTo>
                  <a:cubicBezTo>
                    <a:pt x="11989" y="10652"/>
                    <a:pt x="11938" y="10652"/>
                    <a:pt x="11837" y="10652"/>
                  </a:cubicBezTo>
                  <a:cubicBezTo>
                    <a:pt x="11685" y="10652"/>
                    <a:pt x="11635" y="10652"/>
                    <a:pt x="11635" y="10356"/>
                  </a:cubicBezTo>
                  <a:cubicBezTo>
                    <a:pt x="11685" y="10159"/>
                    <a:pt x="11635" y="9863"/>
                    <a:pt x="11635" y="9666"/>
                  </a:cubicBezTo>
                  <a:cubicBezTo>
                    <a:pt x="11685" y="9370"/>
                    <a:pt x="11786" y="9173"/>
                    <a:pt x="11837" y="8877"/>
                  </a:cubicBezTo>
                  <a:cubicBezTo>
                    <a:pt x="11888" y="8679"/>
                    <a:pt x="11888" y="8581"/>
                    <a:pt x="11989" y="8482"/>
                  </a:cubicBezTo>
                  <a:cubicBezTo>
                    <a:pt x="12039" y="8482"/>
                    <a:pt x="11989" y="8384"/>
                    <a:pt x="11989" y="8285"/>
                  </a:cubicBezTo>
                  <a:cubicBezTo>
                    <a:pt x="12039" y="8285"/>
                    <a:pt x="12141" y="8088"/>
                    <a:pt x="12141" y="8088"/>
                  </a:cubicBezTo>
                  <a:cubicBezTo>
                    <a:pt x="12141" y="8088"/>
                    <a:pt x="12141" y="8088"/>
                    <a:pt x="12090" y="7989"/>
                  </a:cubicBezTo>
                  <a:cubicBezTo>
                    <a:pt x="12090" y="7989"/>
                    <a:pt x="12141" y="7989"/>
                    <a:pt x="12141" y="7989"/>
                  </a:cubicBezTo>
                  <a:cubicBezTo>
                    <a:pt x="12141" y="7792"/>
                    <a:pt x="12242" y="7890"/>
                    <a:pt x="12292" y="7890"/>
                  </a:cubicBezTo>
                  <a:cubicBezTo>
                    <a:pt x="12343" y="7890"/>
                    <a:pt x="12343" y="7792"/>
                    <a:pt x="12343" y="7792"/>
                  </a:cubicBezTo>
                  <a:cubicBezTo>
                    <a:pt x="12393" y="7595"/>
                    <a:pt x="12292" y="7693"/>
                    <a:pt x="12242" y="7595"/>
                  </a:cubicBezTo>
                  <a:cubicBezTo>
                    <a:pt x="12242" y="7595"/>
                    <a:pt x="12343" y="7595"/>
                    <a:pt x="12343" y="7595"/>
                  </a:cubicBezTo>
                  <a:cubicBezTo>
                    <a:pt x="12393" y="7496"/>
                    <a:pt x="12444" y="7595"/>
                    <a:pt x="12444" y="7595"/>
                  </a:cubicBezTo>
                  <a:cubicBezTo>
                    <a:pt x="12545" y="7792"/>
                    <a:pt x="12545" y="7595"/>
                    <a:pt x="12646" y="7496"/>
                  </a:cubicBezTo>
                  <a:cubicBezTo>
                    <a:pt x="12748" y="7299"/>
                    <a:pt x="12545" y="7101"/>
                    <a:pt x="12444" y="7003"/>
                  </a:cubicBezTo>
                  <a:cubicBezTo>
                    <a:pt x="12393" y="7003"/>
                    <a:pt x="12191" y="7101"/>
                    <a:pt x="12191" y="7101"/>
                  </a:cubicBezTo>
                  <a:cubicBezTo>
                    <a:pt x="12141" y="6904"/>
                    <a:pt x="12292" y="6904"/>
                    <a:pt x="12141" y="6805"/>
                  </a:cubicBezTo>
                  <a:cubicBezTo>
                    <a:pt x="12090" y="6805"/>
                    <a:pt x="11837" y="6805"/>
                    <a:pt x="11837" y="6707"/>
                  </a:cubicBezTo>
                  <a:cubicBezTo>
                    <a:pt x="11837" y="6608"/>
                    <a:pt x="11938" y="6608"/>
                    <a:pt x="11938" y="6608"/>
                  </a:cubicBezTo>
                  <a:cubicBezTo>
                    <a:pt x="11989" y="6510"/>
                    <a:pt x="11989" y="6608"/>
                    <a:pt x="12039" y="6608"/>
                  </a:cubicBezTo>
                  <a:cubicBezTo>
                    <a:pt x="11989" y="6707"/>
                    <a:pt x="12141" y="6707"/>
                    <a:pt x="12141" y="6707"/>
                  </a:cubicBezTo>
                  <a:cubicBezTo>
                    <a:pt x="12242" y="6707"/>
                    <a:pt x="12393" y="6904"/>
                    <a:pt x="12444" y="6904"/>
                  </a:cubicBezTo>
                  <a:cubicBezTo>
                    <a:pt x="12495" y="6904"/>
                    <a:pt x="12545" y="7003"/>
                    <a:pt x="12596" y="7003"/>
                  </a:cubicBezTo>
                  <a:cubicBezTo>
                    <a:pt x="12697" y="7101"/>
                    <a:pt x="12646" y="7003"/>
                    <a:pt x="12697" y="7003"/>
                  </a:cubicBezTo>
                  <a:cubicBezTo>
                    <a:pt x="12748" y="7003"/>
                    <a:pt x="12899" y="7003"/>
                    <a:pt x="12849" y="6904"/>
                  </a:cubicBezTo>
                  <a:cubicBezTo>
                    <a:pt x="12798" y="6805"/>
                    <a:pt x="12849" y="6608"/>
                    <a:pt x="12899" y="6510"/>
                  </a:cubicBezTo>
                  <a:cubicBezTo>
                    <a:pt x="12899" y="6608"/>
                    <a:pt x="13051" y="6707"/>
                    <a:pt x="13051" y="6707"/>
                  </a:cubicBezTo>
                  <a:cubicBezTo>
                    <a:pt x="13152" y="6707"/>
                    <a:pt x="13203" y="6707"/>
                    <a:pt x="13304" y="6608"/>
                  </a:cubicBezTo>
                  <a:cubicBezTo>
                    <a:pt x="13355" y="6510"/>
                    <a:pt x="13405" y="6312"/>
                    <a:pt x="13456" y="6214"/>
                  </a:cubicBezTo>
                  <a:cubicBezTo>
                    <a:pt x="13506" y="6115"/>
                    <a:pt x="13607" y="6016"/>
                    <a:pt x="13557" y="5819"/>
                  </a:cubicBezTo>
                  <a:cubicBezTo>
                    <a:pt x="13506" y="5622"/>
                    <a:pt x="13355" y="5721"/>
                    <a:pt x="13304" y="5721"/>
                  </a:cubicBezTo>
                  <a:cubicBezTo>
                    <a:pt x="13152" y="5721"/>
                    <a:pt x="13051" y="5622"/>
                    <a:pt x="12950" y="5523"/>
                  </a:cubicBezTo>
                  <a:cubicBezTo>
                    <a:pt x="12899" y="5425"/>
                    <a:pt x="12849" y="5326"/>
                    <a:pt x="12748" y="5227"/>
                  </a:cubicBezTo>
                  <a:cubicBezTo>
                    <a:pt x="12748" y="5227"/>
                    <a:pt x="12495" y="5227"/>
                    <a:pt x="12495" y="5227"/>
                  </a:cubicBezTo>
                  <a:cubicBezTo>
                    <a:pt x="12495" y="5129"/>
                    <a:pt x="12748" y="5227"/>
                    <a:pt x="12798" y="5227"/>
                  </a:cubicBezTo>
                  <a:cubicBezTo>
                    <a:pt x="12899" y="5227"/>
                    <a:pt x="12899" y="5129"/>
                    <a:pt x="13000" y="5227"/>
                  </a:cubicBezTo>
                  <a:cubicBezTo>
                    <a:pt x="13203" y="5425"/>
                    <a:pt x="13405" y="5819"/>
                    <a:pt x="13607" y="5523"/>
                  </a:cubicBezTo>
                  <a:cubicBezTo>
                    <a:pt x="13709" y="5326"/>
                    <a:pt x="13759" y="5227"/>
                    <a:pt x="13810" y="5030"/>
                  </a:cubicBezTo>
                  <a:cubicBezTo>
                    <a:pt x="13860" y="4932"/>
                    <a:pt x="13557" y="4833"/>
                    <a:pt x="13709" y="4636"/>
                  </a:cubicBezTo>
                  <a:cubicBezTo>
                    <a:pt x="13759" y="4636"/>
                    <a:pt x="13911" y="4636"/>
                    <a:pt x="13962" y="4734"/>
                  </a:cubicBezTo>
                  <a:cubicBezTo>
                    <a:pt x="14113" y="4734"/>
                    <a:pt x="14113" y="4932"/>
                    <a:pt x="14265" y="4734"/>
                  </a:cubicBezTo>
                  <a:cubicBezTo>
                    <a:pt x="14265" y="4734"/>
                    <a:pt x="14417" y="4833"/>
                    <a:pt x="14366" y="4636"/>
                  </a:cubicBezTo>
                  <a:cubicBezTo>
                    <a:pt x="14316" y="4537"/>
                    <a:pt x="14113" y="4340"/>
                    <a:pt x="14063" y="4340"/>
                  </a:cubicBezTo>
                  <a:cubicBezTo>
                    <a:pt x="14164" y="4241"/>
                    <a:pt x="14265" y="4438"/>
                    <a:pt x="14366" y="4438"/>
                  </a:cubicBezTo>
                  <a:cubicBezTo>
                    <a:pt x="14417" y="4438"/>
                    <a:pt x="14518" y="4932"/>
                    <a:pt x="14619" y="4833"/>
                  </a:cubicBezTo>
                  <a:cubicBezTo>
                    <a:pt x="14619" y="4833"/>
                    <a:pt x="14569" y="4734"/>
                    <a:pt x="14569" y="4734"/>
                  </a:cubicBezTo>
                  <a:cubicBezTo>
                    <a:pt x="14619" y="4636"/>
                    <a:pt x="14670" y="4636"/>
                    <a:pt x="14771" y="4537"/>
                  </a:cubicBezTo>
                  <a:cubicBezTo>
                    <a:pt x="14822" y="4438"/>
                    <a:pt x="14973" y="4142"/>
                    <a:pt x="15024" y="4044"/>
                  </a:cubicBezTo>
                  <a:cubicBezTo>
                    <a:pt x="15024" y="3748"/>
                    <a:pt x="14923" y="3748"/>
                    <a:pt x="14822" y="3551"/>
                  </a:cubicBezTo>
                  <a:cubicBezTo>
                    <a:pt x="14822" y="3551"/>
                    <a:pt x="14670" y="2959"/>
                    <a:pt x="14670" y="3058"/>
                  </a:cubicBezTo>
                  <a:cubicBezTo>
                    <a:pt x="14720" y="2959"/>
                    <a:pt x="14923" y="2959"/>
                    <a:pt x="14973" y="2959"/>
                  </a:cubicBezTo>
                  <a:cubicBezTo>
                    <a:pt x="15125" y="2860"/>
                    <a:pt x="14872" y="2762"/>
                    <a:pt x="14872" y="2663"/>
                  </a:cubicBezTo>
                  <a:cubicBezTo>
                    <a:pt x="14822" y="2564"/>
                    <a:pt x="15024" y="2564"/>
                    <a:pt x="15024" y="2466"/>
                  </a:cubicBezTo>
                  <a:cubicBezTo>
                    <a:pt x="15024" y="2466"/>
                    <a:pt x="14518" y="2071"/>
                    <a:pt x="14518" y="2071"/>
                  </a:cubicBezTo>
                  <a:cubicBezTo>
                    <a:pt x="14569" y="2071"/>
                    <a:pt x="14670" y="1973"/>
                    <a:pt x="14720" y="1973"/>
                  </a:cubicBezTo>
                  <a:cubicBezTo>
                    <a:pt x="14569" y="1973"/>
                    <a:pt x="14417" y="1874"/>
                    <a:pt x="14265" y="1874"/>
                  </a:cubicBezTo>
                  <a:cubicBezTo>
                    <a:pt x="14164" y="1874"/>
                    <a:pt x="14012" y="1973"/>
                    <a:pt x="13962" y="1874"/>
                  </a:cubicBezTo>
                  <a:cubicBezTo>
                    <a:pt x="14063" y="1973"/>
                    <a:pt x="13911" y="2071"/>
                    <a:pt x="13962" y="2268"/>
                  </a:cubicBezTo>
                  <a:cubicBezTo>
                    <a:pt x="14012" y="2367"/>
                    <a:pt x="14164" y="2466"/>
                    <a:pt x="14164" y="2564"/>
                  </a:cubicBezTo>
                  <a:cubicBezTo>
                    <a:pt x="14164" y="2564"/>
                    <a:pt x="14063" y="2663"/>
                    <a:pt x="14063" y="2663"/>
                  </a:cubicBezTo>
                  <a:cubicBezTo>
                    <a:pt x="14063" y="2663"/>
                    <a:pt x="14164" y="2762"/>
                    <a:pt x="14113" y="2762"/>
                  </a:cubicBezTo>
                  <a:cubicBezTo>
                    <a:pt x="14012" y="2860"/>
                    <a:pt x="13962" y="2663"/>
                    <a:pt x="13911" y="3058"/>
                  </a:cubicBezTo>
                  <a:cubicBezTo>
                    <a:pt x="13860" y="3255"/>
                    <a:pt x="13860" y="3452"/>
                    <a:pt x="13810" y="3649"/>
                  </a:cubicBezTo>
                  <a:cubicBezTo>
                    <a:pt x="13759" y="3649"/>
                    <a:pt x="13709" y="3748"/>
                    <a:pt x="13709" y="3847"/>
                  </a:cubicBezTo>
                  <a:cubicBezTo>
                    <a:pt x="13709" y="3945"/>
                    <a:pt x="13658" y="3945"/>
                    <a:pt x="13658" y="4044"/>
                  </a:cubicBezTo>
                  <a:cubicBezTo>
                    <a:pt x="13506" y="4142"/>
                    <a:pt x="13557" y="4241"/>
                    <a:pt x="13456" y="3945"/>
                  </a:cubicBezTo>
                  <a:cubicBezTo>
                    <a:pt x="13405" y="3847"/>
                    <a:pt x="13253" y="3649"/>
                    <a:pt x="13253" y="3452"/>
                  </a:cubicBezTo>
                  <a:cubicBezTo>
                    <a:pt x="13253" y="3452"/>
                    <a:pt x="13253" y="3156"/>
                    <a:pt x="13304" y="3156"/>
                  </a:cubicBezTo>
                  <a:cubicBezTo>
                    <a:pt x="13304" y="3156"/>
                    <a:pt x="13405" y="3255"/>
                    <a:pt x="13405" y="3058"/>
                  </a:cubicBezTo>
                  <a:cubicBezTo>
                    <a:pt x="13355" y="2860"/>
                    <a:pt x="13355" y="2762"/>
                    <a:pt x="13253" y="2564"/>
                  </a:cubicBezTo>
                  <a:cubicBezTo>
                    <a:pt x="13152" y="2466"/>
                    <a:pt x="13051" y="2268"/>
                    <a:pt x="12950" y="2466"/>
                  </a:cubicBezTo>
                  <a:cubicBezTo>
                    <a:pt x="12899" y="2564"/>
                    <a:pt x="12899" y="2762"/>
                    <a:pt x="12899" y="2959"/>
                  </a:cubicBezTo>
                  <a:cubicBezTo>
                    <a:pt x="12899" y="3058"/>
                    <a:pt x="12697" y="3058"/>
                    <a:pt x="12697" y="2959"/>
                  </a:cubicBezTo>
                  <a:cubicBezTo>
                    <a:pt x="12697" y="2860"/>
                    <a:pt x="12697" y="2564"/>
                    <a:pt x="12646" y="2466"/>
                  </a:cubicBezTo>
                  <a:cubicBezTo>
                    <a:pt x="12444" y="2170"/>
                    <a:pt x="12697" y="2466"/>
                    <a:pt x="12697" y="2367"/>
                  </a:cubicBezTo>
                  <a:cubicBezTo>
                    <a:pt x="12748" y="2367"/>
                    <a:pt x="12798" y="2268"/>
                    <a:pt x="12748" y="2268"/>
                  </a:cubicBezTo>
                  <a:cubicBezTo>
                    <a:pt x="12748" y="2170"/>
                    <a:pt x="12697" y="2071"/>
                    <a:pt x="12646" y="2170"/>
                  </a:cubicBezTo>
                  <a:cubicBezTo>
                    <a:pt x="12596" y="2268"/>
                    <a:pt x="12596" y="2071"/>
                    <a:pt x="12545" y="2071"/>
                  </a:cubicBezTo>
                  <a:cubicBezTo>
                    <a:pt x="12495" y="1973"/>
                    <a:pt x="12444" y="2170"/>
                    <a:pt x="12393" y="2071"/>
                  </a:cubicBezTo>
                  <a:cubicBezTo>
                    <a:pt x="12292" y="1973"/>
                    <a:pt x="12242" y="2071"/>
                    <a:pt x="12292" y="1775"/>
                  </a:cubicBezTo>
                  <a:cubicBezTo>
                    <a:pt x="12292" y="1775"/>
                    <a:pt x="12292" y="1775"/>
                    <a:pt x="12343" y="1775"/>
                  </a:cubicBezTo>
                  <a:cubicBezTo>
                    <a:pt x="12343" y="1677"/>
                    <a:pt x="12343" y="1677"/>
                    <a:pt x="12343" y="1578"/>
                  </a:cubicBezTo>
                  <a:cubicBezTo>
                    <a:pt x="12393" y="1578"/>
                    <a:pt x="12393" y="1578"/>
                    <a:pt x="12444" y="1578"/>
                  </a:cubicBezTo>
                  <a:cubicBezTo>
                    <a:pt x="12393" y="1578"/>
                    <a:pt x="12343" y="1282"/>
                    <a:pt x="12343" y="1282"/>
                  </a:cubicBezTo>
                  <a:cubicBezTo>
                    <a:pt x="12292" y="1085"/>
                    <a:pt x="12191" y="1085"/>
                    <a:pt x="12191" y="986"/>
                  </a:cubicBezTo>
                  <a:cubicBezTo>
                    <a:pt x="12090" y="888"/>
                    <a:pt x="12141" y="888"/>
                    <a:pt x="12090" y="690"/>
                  </a:cubicBezTo>
                  <a:cubicBezTo>
                    <a:pt x="12090" y="493"/>
                    <a:pt x="11989" y="395"/>
                    <a:pt x="11989" y="296"/>
                  </a:cubicBezTo>
                  <a:cubicBezTo>
                    <a:pt x="11938" y="99"/>
                    <a:pt x="11837" y="99"/>
                    <a:pt x="11736" y="99"/>
                  </a:cubicBezTo>
                  <a:cubicBezTo>
                    <a:pt x="11685" y="99"/>
                    <a:pt x="11736" y="0"/>
                    <a:pt x="11635" y="0"/>
                  </a:cubicBezTo>
                  <a:cubicBezTo>
                    <a:pt x="11584" y="0"/>
                    <a:pt x="11533" y="0"/>
                    <a:pt x="11533" y="197"/>
                  </a:cubicBezTo>
                  <a:cubicBezTo>
                    <a:pt x="11533" y="197"/>
                    <a:pt x="11382" y="296"/>
                    <a:pt x="11382" y="296"/>
                  </a:cubicBezTo>
                  <a:cubicBezTo>
                    <a:pt x="11432" y="296"/>
                    <a:pt x="11533" y="296"/>
                    <a:pt x="11533" y="395"/>
                  </a:cubicBezTo>
                  <a:cubicBezTo>
                    <a:pt x="11533" y="395"/>
                    <a:pt x="11432" y="493"/>
                    <a:pt x="11432" y="493"/>
                  </a:cubicBezTo>
                  <a:cubicBezTo>
                    <a:pt x="11382" y="592"/>
                    <a:pt x="11331" y="395"/>
                    <a:pt x="11281" y="592"/>
                  </a:cubicBezTo>
                  <a:cubicBezTo>
                    <a:pt x="11230" y="592"/>
                    <a:pt x="11179" y="888"/>
                    <a:pt x="11179" y="986"/>
                  </a:cubicBezTo>
                  <a:cubicBezTo>
                    <a:pt x="11230" y="986"/>
                    <a:pt x="11331" y="986"/>
                    <a:pt x="11382" y="1085"/>
                  </a:cubicBezTo>
                  <a:cubicBezTo>
                    <a:pt x="11331" y="986"/>
                    <a:pt x="11230" y="1381"/>
                    <a:pt x="11230" y="1479"/>
                  </a:cubicBezTo>
                  <a:cubicBezTo>
                    <a:pt x="11230" y="1578"/>
                    <a:pt x="11331" y="1775"/>
                    <a:pt x="11382" y="1874"/>
                  </a:cubicBezTo>
                  <a:cubicBezTo>
                    <a:pt x="11432" y="1874"/>
                    <a:pt x="11533" y="2071"/>
                    <a:pt x="11584" y="2071"/>
                  </a:cubicBezTo>
                  <a:cubicBezTo>
                    <a:pt x="11685" y="1973"/>
                    <a:pt x="11685" y="1973"/>
                    <a:pt x="11736" y="2071"/>
                  </a:cubicBezTo>
                  <a:cubicBezTo>
                    <a:pt x="11786" y="2071"/>
                    <a:pt x="11888" y="2268"/>
                    <a:pt x="11888" y="2268"/>
                  </a:cubicBezTo>
                  <a:cubicBezTo>
                    <a:pt x="11837" y="2367"/>
                    <a:pt x="11786" y="2170"/>
                    <a:pt x="11786" y="2367"/>
                  </a:cubicBezTo>
                  <a:cubicBezTo>
                    <a:pt x="11786" y="2564"/>
                    <a:pt x="11736" y="2564"/>
                    <a:pt x="11736" y="2663"/>
                  </a:cubicBezTo>
                  <a:cubicBezTo>
                    <a:pt x="11685" y="2860"/>
                    <a:pt x="11786" y="2860"/>
                    <a:pt x="11837" y="2762"/>
                  </a:cubicBezTo>
                  <a:cubicBezTo>
                    <a:pt x="11837" y="2762"/>
                    <a:pt x="11938" y="2466"/>
                    <a:pt x="11938" y="2564"/>
                  </a:cubicBezTo>
                  <a:cubicBezTo>
                    <a:pt x="11989" y="2663"/>
                    <a:pt x="11938" y="2860"/>
                    <a:pt x="11938" y="2959"/>
                  </a:cubicBezTo>
                  <a:cubicBezTo>
                    <a:pt x="11888" y="3058"/>
                    <a:pt x="11837" y="3058"/>
                    <a:pt x="11786" y="3058"/>
                  </a:cubicBezTo>
                  <a:cubicBezTo>
                    <a:pt x="11786" y="3156"/>
                    <a:pt x="11786" y="3255"/>
                    <a:pt x="11736" y="3353"/>
                  </a:cubicBezTo>
                  <a:cubicBezTo>
                    <a:pt x="11685" y="3353"/>
                    <a:pt x="11584" y="3353"/>
                    <a:pt x="11533" y="3452"/>
                  </a:cubicBezTo>
                  <a:cubicBezTo>
                    <a:pt x="11483" y="3452"/>
                    <a:pt x="11432" y="3649"/>
                    <a:pt x="11432" y="3649"/>
                  </a:cubicBezTo>
                  <a:cubicBezTo>
                    <a:pt x="11483" y="3748"/>
                    <a:pt x="11533" y="3847"/>
                    <a:pt x="11533" y="4044"/>
                  </a:cubicBezTo>
                  <a:cubicBezTo>
                    <a:pt x="11533" y="4142"/>
                    <a:pt x="11483" y="4044"/>
                    <a:pt x="11432" y="3945"/>
                  </a:cubicBezTo>
                  <a:cubicBezTo>
                    <a:pt x="11432" y="3945"/>
                    <a:pt x="11382" y="3945"/>
                    <a:pt x="11382" y="4044"/>
                  </a:cubicBezTo>
                  <a:cubicBezTo>
                    <a:pt x="11331" y="4044"/>
                    <a:pt x="11230" y="3945"/>
                    <a:pt x="11230" y="3847"/>
                  </a:cubicBezTo>
                  <a:cubicBezTo>
                    <a:pt x="11230" y="3748"/>
                    <a:pt x="11331" y="3452"/>
                    <a:pt x="11331" y="3353"/>
                  </a:cubicBezTo>
                  <a:cubicBezTo>
                    <a:pt x="11382" y="3156"/>
                    <a:pt x="11230" y="3353"/>
                    <a:pt x="11230" y="3353"/>
                  </a:cubicBezTo>
                  <a:cubicBezTo>
                    <a:pt x="11179" y="3353"/>
                    <a:pt x="11028" y="3156"/>
                    <a:pt x="10977" y="3058"/>
                  </a:cubicBezTo>
                  <a:cubicBezTo>
                    <a:pt x="10876" y="2959"/>
                    <a:pt x="10926" y="3156"/>
                    <a:pt x="10825" y="3156"/>
                  </a:cubicBezTo>
                  <a:cubicBezTo>
                    <a:pt x="10775" y="3156"/>
                    <a:pt x="10623" y="3058"/>
                    <a:pt x="10724" y="3255"/>
                  </a:cubicBezTo>
                  <a:cubicBezTo>
                    <a:pt x="10775" y="3353"/>
                    <a:pt x="10775" y="3452"/>
                    <a:pt x="10876" y="3452"/>
                  </a:cubicBezTo>
                  <a:cubicBezTo>
                    <a:pt x="10926" y="3452"/>
                    <a:pt x="11028" y="3452"/>
                    <a:pt x="11028" y="3649"/>
                  </a:cubicBezTo>
                  <a:cubicBezTo>
                    <a:pt x="11129" y="4044"/>
                    <a:pt x="10825" y="3551"/>
                    <a:pt x="10775" y="3452"/>
                  </a:cubicBezTo>
                  <a:cubicBezTo>
                    <a:pt x="10674" y="3452"/>
                    <a:pt x="10674" y="3649"/>
                    <a:pt x="10572" y="3649"/>
                  </a:cubicBezTo>
                  <a:cubicBezTo>
                    <a:pt x="10471" y="3649"/>
                    <a:pt x="10421" y="3551"/>
                    <a:pt x="10319" y="3551"/>
                  </a:cubicBezTo>
                  <a:cubicBezTo>
                    <a:pt x="10117" y="3649"/>
                    <a:pt x="9965" y="3649"/>
                    <a:pt x="9763" y="3649"/>
                  </a:cubicBezTo>
                  <a:cubicBezTo>
                    <a:pt x="9611" y="3551"/>
                    <a:pt x="9409" y="3353"/>
                    <a:pt x="9207" y="3255"/>
                  </a:cubicBezTo>
                  <a:cubicBezTo>
                    <a:pt x="9156" y="3255"/>
                    <a:pt x="9055" y="3255"/>
                    <a:pt x="9004" y="3156"/>
                  </a:cubicBezTo>
                  <a:cubicBezTo>
                    <a:pt x="8954" y="2959"/>
                    <a:pt x="8954" y="2762"/>
                    <a:pt x="8903" y="2762"/>
                  </a:cubicBezTo>
                  <a:cubicBezTo>
                    <a:pt x="8802" y="2663"/>
                    <a:pt x="8701" y="2762"/>
                    <a:pt x="8650" y="2762"/>
                  </a:cubicBezTo>
                  <a:cubicBezTo>
                    <a:pt x="8498" y="2860"/>
                    <a:pt x="8397" y="2860"/>
                    <a:pt x="8296" y="2860"/>
                  </a:cubicBezTo>
                  <a:cubicBezTo>
                    <a:pt x="8245" y="2959"/>
                    <a:pt x="8144" y="3058"/>
                    <a:pt x="8144" y="3156"/>
                  </a:cubicBezTo>
                  <a:cubicBezTo>
                    <a:pt x="8144" y="3156"/>
                    <a:pt x="8347" y="3353"/>
                    <a:pt x="8397" y="3353"/>
                  </a:cubicBezTo>
                  <a:cubicBezTo>
                    <a:pt x="8397" y="3353"/>
                    <a:pt x="8347" y="3058"/>
                    <a:pt x="8448" y="3156"/>
                  </a:cubicBezTo>
                  <a:cubicBezTo>
                    <a:pt x="8498" y="3156"/>
                    <a:pt x="8498" y="3255"/>
                    <a:pt x="8549" y="3156"/>
                  </a:cubicBezTo>
                  <a:cubicBezTo>
                    <a:pt x="8600" y="3156"/>
                    <a:pt x="8903" y="2762"/>
                    <a:pt x="8903" y="2959"/>
                  </a:cubicBezTo>
                  <a:cubicBezTo>
                    <a:pt x="8903" y="3058"/>
                    <a:pt x="8751" y="3156"/>
                    <a:pt x="8701" y="3255"/>
                  </a:cubicBezTo>
                  <a:cubicBezTo>
                    <a:pt x="8650" y="3353"/>
                    <a:pt x="8549" y="3353"/>
                    <a:pt x="8448" y="3353"/>
                  </a:cubicBezTo>
                  <a:cubicBezTo>
                    <a:pt x="8397" y="3452"/>
                    <a:pt x="8245" y="3649"/>
                    <a:pt x="8347" y="3748"/>
                  </a:cubicBezTo>
                  <a:cubicBezTo>
                    <a:pt x="8448" y="3748"/>
                    <a:pt x="8448" y="3847"/>
                    <a:pt x="8397" y="4044"/>
                  </a:cubicBezTo>
                  <a:cubicBezTo>
                    <a:pt x="8397" y="4142"/>
                    <a:pt x="8498" y="4142"/>
                    <a:pt x="8498" y="4241"/>
                  </a:cubicBezTo>
                  <a:cubicBezTo>
                    <a:pt x="8549" y="4340"/>
                    <a:pt x="8549" y="4537"/>
                    <a:pt x="8448" y="4340"/>
                  </a:cubicBezTo>
                  <a:cubicBezTo>
                    <a:pt x="8347" y="4142"/>
                    <a:pt x="8448" y="4537"/>
                    <a:pt x="8397" y="4438"/>
                  </a:cubicBezTo>
                  <a:cubicBezTo>
                    <a:pt x="8347" y="4438"/>
                    <a:pt x="8245" y="4142"/>
                    <a:pt x="8195" y="4241"/>
                  </a:cubicBezTo>
                  <a:cubicBezTo>
                    <a:pt x="8296" y="4142"/>
                    <a:pt x="8448" y="4241"/>
                    <a:pt x="8296" y="4044"/>
                  </a:cubicBezTo>
                  <a:cubicBezTo>
                    <a:pt x="8347" y="4044"/>
                    <a:pt x="8397" y="3945"/>
                    <a:pt x="8296" y="3847"/>
                  </a:cubicBezTo>
                  <a:cubicBezTo>
                    <a:pt x="8397" y="3945"/>
                    <a:pt x="8144" y="3945"/>
                    <a:pt x="8195" y="3945"/>
                  </a:cubicBezTo>
                  <a:cubicBezTo>
                    <a:pt x="8195" y="3847"/>
                    <a:pt x="8195" y="3847"/>
                    <a:pt x="8245" y="3847"/>
                  </a:cubicBezTo>
                  <a:cubicBezTo>
                    <a:pt x="8245" y="3748"/>
                    <a:pt x="8094" y="3945"/>
                    <a:pt x="8094" y="3945"/>
                  </a:cubicBezTo>
                  <a:cubicBezTo>
                    <a:pt x="8043" y="3945"/>
                    <a:pt x="8094" y="3748"/>
                    <a:pt x="8043" y="3649"/>
                  </a:cubicBezTo>
                  <a:cubicBezTo>
                    <a:pt x="8043" y="3649"/>
                    <a:pt x="7942" y="3649"/>
                    <a:pt x="7942" y="3649"/>
                  </a:cubicBezTo>
                  <a:cubicBezTo>
                    <a:pt x="7841" y="3649"/>
                    <a:pt x="7841" y="3353"/>
                    <a:pt x="7740" y="3452"/>
                  </a:cubicBezTo>
                  <a:cubicBezTo>
                    <a:pt x="7638" y="3649"/>
                    <a:pt x="7588" y="3649"/>
                    <a:pt x="7436" y="3649"/>
                  </a:cubicBezTo>
                  <a:cubicBezTo>
                    <a:pt x="7234" y="3649"/>
                    <a:pt x="7082" y="3649"/>
                    <a:pt x="6880" y="3649"/>
                  </a:cubicBezTo>
                  <a:cubicBezTo>
                    <a:pt x="6829" y="3649"/>
                    <a:pt x="6475" y="3649"/>
                    <a:pt x="6475" y="3551"/>
                  </a:cubicBezTo>
                  <a:cubicBezTo>
                    <a:pt x="6424" y="3551"/>
                    <a:pt x="6576" y="3353"/>
                    <a:pt x="6627" y="3255"/>
                  </a:cubicBezTo>
                  <a:cubicBezTo>
                    <a:pt x="6677" y="3156"/>
                    <a:pt x="6728" y="3255"/>
                    <a:pt x="6829" y="3255"/>
                  </a:cubicBezTo>
                  <a:cubicBezTo>
                    <a:pt x="6880" y="3156"/>
                    <a:pt x="6728" y="2959"/>
                    <a:pt x="6728" y="2959"/>
                  </a:cubicBezTo>
                  <a:cubicBezTo>
                    <a:pt x="6627" y="2762"/>
                    <a:pt x="6576" y="2762"/>
                    <a:pt x="6475" y="2663"/>
                  </a:cubicBezTo>
                  <a:cubicBezTo>
                    <a:pt x="6424" y="2663"/>
                    <a:pt x="6374" y="2564"/>
                    <a:pt x="6323" y="2663"/>
                  </a:cubicBezTo>
                  <a:cubicBezTo>
                    <a:pt x="6273" y="2762"/>
                    <a:pt x="6222" y="2860"/>
                    <a:pt x="6171" y="2762"/>
                  </a:cubicBezTo>
                  <a:cubicBezTo>
                    <a:pt x="6020" y="2564"/>
                    <a:pt x="5868" y="2564"/>
                    <a:pt x="5716" y="2466"/>
                  </a:cubicBezTo>
                  <a:cubicBezTo>
                    <a:pt x="5514" y="2367"/>
                    <a:pt x="5362" y="2367"/>
                    <a:pt x="5160" y="2170"/>
                  </a:cubicBezTo>
                  <a:cubicBezTo>
                    <a:pt x="5008" y="1973"/>
                    <a:pt x="4907" y="1874"/>
                    <a:pt x="4704" y="1874"/>
                  </a:cubicBezTo>
                  <a:cubicBezTo>
                    <a:pt x="4654" y="1874"/>
                    <a:pt x="4603" y="1874"/>
                    <a:pt x="4553" y="1973"/>
                  </a:cubicBezTo>
                  <a:cubicBezTo>
                    <a:pt x="4502" y="2071"/>
                    <a:pt x="4452" y="2268"/>
                    <a:pt x="4401" y="2268"/>
                  </a:cubicBezTo>
                  <a:cubicBezTo>
                    <a:pt x="4350" y="2268"/>
                    <a:pt x="4199" y="2367"/>
                    <a:pt x="4199" y="2268"/>
                  </a:cubicBezTo>
                  <a:cubicBezTo>
                    <a:pt x="4199" y="2170"/>
                    <a:pt x="4300" y="2071"/>
                    <a:pt x="4300" y="1973"/>
                  </a:cubicBezTo>
                  <a:cubicBezTo>
                    <a:pt x="4300" y="1973"/>
                    <a:pt x="4148" y="2071"/>
                    <a:pt x="4148" y="1973"/>
                  </a:cubicBezTo>
                  <a:cubicBezTo>
                    <a:pt x="4199" y="1874"/>
                    <a:pt x="4199" y="1775"/>
                    <a:pt x="4148" y="1677"/>
                  </a:cubicBezTo>
                  <a:cubicBezTo>
                    <a:pt x="4148" y="1479"/>
                    <a:pt x="3946" y="1677"/>
                    <a:pt x="3946" y="1775"/>
                  </a:cubicBezTo>
                  <a:cubicBezTo>
                    <a:pt x="3946" y="1775"/>
                    <a:pt x="4047" y="1677"/>
                    <a:pt x="4047" y="1775"/>
                  </a:cubicBezTo>
                  <a:cubicBezTo>
                    <a:pt x="4097" y="1775"/>
                    <a:pt x="3895" y="1973"/>
                    <a:pt x="4047" y="1973"/>
                  </a:cubicBezTo>
                  <a:cubicBezTo>
                    <a:pt x="3996" y="1973"/>
                    <a:pt x="3946" y="1973"/>
                    <a:pt x="3946" y="2170"/>
                  </a:cubicBezTo>
                  <a:cubicBezTo>
                    <a:pt x="3946" y="2268"/>
                    <a:pt x="3895" y="2367"/>
                    <a:pt x="3844" y="2268"/>
                  </a:cubicBezTo>
                  <a:cubicBezTo>
                    <a:pt x="3693" y="2170"/>
                    <a:pt x="3642" y="2071"/>
                    <a:pt x="3592" y="1775"/>
                  </a:cubicBezTo>
                  <a:cubicBezTo>
                    <a:pt x="3541" y="1578"/>
                    <a:pt x="3440" y="1479"/>
                    <a:pt x="3339" y="1282"/>
                  </a:cubicBezTo>
                  <a:cubicBezTo>
                    <a:pt x="3288" y="1282"/>
                    <a:pt x="3237" y="1085"/>
                    <a:pt x="3187" y="1184"/>
                  </a:cubicBezTo>
                  <a:cubicBezTo>
                    <a:pt x="3187" y="1381"/>
                    <a:pt x="3339" y="1479"/>
                    <a:pt x="3389" y="1578"/>
                  </a:cubicBezTo>
                  <a:cubicBezTo>
                    <a:pt x="3389" y="1479"/>
                    <a:pt x="3187" y="1578"/>
                    <a:pt x="3187" y="1677"/>
                  </a:cubicBezTo>
                  <a:cubicBezTo>
                    <a:pt x="3136" y="1775"/>
                    <a:pt x="3187" y="1775"/>
                    <a:pt x="3136" y="1874"/>
                  </a:cubicBezTo>
                  <a:cubicBezTo>
                    <a:pt x="3086" y="1874"/>
                    <a:pt x="3035" y="2071"/>
                    <a:pt x="2985" y="1973"/>
                  </a:cubicBezTo>
                  <a:cubicBezTo>
                    <a:pt x="2985" y="1973"/>
                    <a:pt x="2985" y="1874"/>
                    <a:pt x="2985" y="1874"/>
                  </a:cubicBezTo>
                  <a:cubicBezTo>
                    <a:pt x="2985" y="1775"/>
                    <a:pt x="2732" y="1973"/>
                    <a:pt x="2732" y="2071"/>
                  </a:cubicBezTo>
                  <a:cubicBezTo>
                    <a:pt x="2681" y="2170"/>
                    <a:pt x="2630" y="2268"/>
                    <a:pt x="2529" y="2367"/>
                  </a:cubicBezTo>
                  <a:cubicBezTo>
                    <a:pt x="2479" y="2466"/>
                    <a:pt x="2529" y="2170"/>
                    <a:pt x="2479" y="2170"/>
                  </a:cubicBezTo>
                  <a:cubicBezTo>
                    <a:pt x="2428" y="2170"/>
                    <a:pt x="2378" y="2268"/>
                    <a:pt x="2327" y="2268"/>
                  </a:cubicBezTo>
                  <a:cubicBezTo>
                    <a:pt x="2276" y="2268"/>
                    <a:pt x="2276" y="2466"/>
                    <a:pt x="2226" y="2466"/>
                  </a:cubicBezTo>
                  <a:cubicBezTo>
                    <a:pt x="2175" y="2466"/>
                    <a:pt x="2023" y="2663"/>
                    <a:pt x="2074" y="2663"/>
                  </a:cubicBezTo>
                  <a:cubicBezTo>
                    <a:pt x="2074" y="2762"/>
                    <a:pt x="2175" y="2762"/>
                    <a:pt x="2023" y="2860"/>
                  </a:cubicBezTo>
                  <a:cubicBezTo>
                    <a:pt x="2023" y="2860"/>
                    <a:pt x="1872" y="2860"/>
                    <a:pt x="1872" y="2762"/>
                  </a:cubicBezTo>
                  <a:cubicBezTo>
                    <a:pt x="1872" y="2663"/>
                    <a:pt x="2023" y="2564"/>
                    <a:pt x="2023" y="2564"/>
                  </a:cubicBezTo>
                  <a:cubicBezTo>
                    <a:pt x="2074" y="2367"/>
                    <a:pt x="2175" y="2268"/>
                    <a:pt x="2226" y="2170"/>
                  </a:cubicBezTo>
                  <a:cubicBezTo>
                    <a:pt x="2327" y="2071"/>
                    <a:pt x="2378" y="2071"/>
                    <a:pt x="2479" y="2170"/>
                  </a:cubicBezTo>
                  <a:cubicBezTo>
                    <a:pt x="2428" y="2170"/>
                    <a:pt x="2833" y="1775"/>
                    <a:pt x="2833" y="1775"/>
                  </a:cubicBezTo>
                  <a:cubicBezTo>
                    <a:pt x="2934" y="1677"/>
                    <a:pt x="2883" y="1578"/>
                    <a:pt x="2833" y="1578"/>
                  </a:cubicBezTo>
                  <a:cubicBezTo>
                    <a:pt x="2732" y="1578"/>
                    <a:pt x="2630" y="1578"/>
                    <a:pt x="2529" y="1677"/>
                  </a:cubicBezTo>
                  <a:cubicBezTo>
                    <a:pt x="2479" y="1677"/>
                    <a:pt x="2479" y="1874"/>
                    <a:pt x="2378" y="1874"/>
                  </a:cubicBezTo>
                  <a:cubicBezTo>
                    <a:pt x="2327" y="1874"/>
                    <a:pt x="2226" y="1973"/>
                    <a:pt x="2175" y="1973"/>
                  </a:cubicBezTo>
                  <a:cubicBezTo>
                    <a:pt x="2074" y="1973"/>
                    <a:pt x="1821" y="2466"/>
                    <a:pt x="1770" y="2367"/>
                  </a:cubicBezTo>
                  <a:cubicBezTo>
                    <a:pt x="1720" y="2367"/>
                    <a:pt x="1821" y="2268"/>
                    <a:pt x="1821" y="2170"/>
                  </a:cubicBezTo>
                  <a:cubicBezTo>
                    <a:pt x="1821" y="2170"/>
                    <a:pt x="1669" y="2071"/>
                    <a:pt x="1669" y="2071"/>
                  </a:cubicBezTo>
                  <a:cubicBezTo>
                    <a:pt x="1669" y="2071"/>
                    <a:pt x="1518" y="2268"/>
                    <a:pt x="1467" y="2268"/>
                  </a:cubicBezTo>
                  <a:cubicBezTo>
                    <a:pt x="1416" y="2268"/>
                    <a:pt x="1315" y="2367"/>
                    <a:pt x="1265" y="2466"/>
                  </a:cubicBezTo>
                  <a:cubicBezTo>
                    <a:pt x="1214" y="2466"/>
                    <a:pt x="1315" y="2564"/>
                    <a:pt x="1315" y="2564"/>
                  </a:cubicBezTo>
                  <a:cubicBezTo>
                    <a:pt x="1366" y="2564"/>
                    <a:pt x="1315" y="2663"/>
                    <a:pt x="1315" y="2663"/>
                  </a:cubicBezTo>
                  <a:cubicBezTo>
                    <a:pt x="1315" y="2762"/>
                    <a:pt x="1518" y="2663"/>
                    <a:pt x="1518" y="2663"/>
                  </a:cubicBezTo>
                  <a:cubicBezTo>
                    <a:pt x="1568" y="2564"/>
                    <a:pt x="1669" y="2466"/>
                    <a:pt x="1720" y="2367"/>
                  </a:cubicBezTo>
                  <a:cubicBezTo>
                    <a:pt x="1467" y="2564"/>
                    <a:pt x="1720" y="2663"/>
                    <a:pt x="1669" y="2860"/>
                  </a:cubicBezTo>
                  <a:cubicBezTo>
                    <a:pt x="1669" y="2860"/>
                    <a:pt x="1619" y="2762"/>
                    <a:pt x="1619" y="2762"/>
                  </a:cubicBezTo>
                  <a:cubicBezTo>
                    <a:pt x="1518" y="2663"/>
                    <a:pt x="1467" y="2762"/>
                    <a:pt x="1416" y="2860"/>
                  </a:cubicBezTo>
                  <a:cubicBezTo>
                    <a:pt x="1366" y="2860"/>
                    <a:pt x="1163" y="2762"/>
                    <a:pt x="1062" y="2762"/>
                  </a:cubicBezTo>
                  <a:cubicBezTo>
                    <a:pt x="961" y="2762"/>
                    <a:pt x="809" y="2564"/>
                    <a:pt x="708" y="2466"/>
                  </a:cubicBezTo>
                  <a:cubicBezTo>
                    <a:pt x="658" y="2466"/>
                    <a:pt x="607" y="2367"/>
                    <a:pt x="556" y="2367"/>
                  </a:cubicBezTo>
                  <a:cubicBezTo>
                    <a:pt x="506" y="2268"/>
                    <a:pt x="455" y="2071"/>
                    <a:pt x="506" y="2071"/>
                  </a:cubicBezTo>
                  <a:cubicBezTo>
                    <a:pt x="455" y="2071"/>
                    <a:pt x="354" y="2071"/>
                    <a:pt x="304" y="2170"/>
                  </a:cubicBezTo>
                  <a:cubicBezTo>
                    <a:pt x="202" y="2170"/>
                    <a:pt x="101" y="2170"/>
                    <a:pt x="0" y="2071"/>
                  </a:cubicBezTo>
                  <a:cubicBezTo>
                    <a:pt x="0" y="4044"/>
                    <a:pt x="0" y="6016"/>
                    <a:pt x="0" y="7890"/>
                  </a:cubicBezTo>
                  <a:cubicBezTo>
                    <a:pt x="0" y="8384"/>
                    <a:pt x="0" y="8778"/>
                    <a:pt x="0" y="9271"/>
                  </a:cubicBezTo>
                  <a:cubicBezTo>
                    <a:pt x="0" y="9370"/>
                    <a:pt x="0" y="9468"/>
                    <a:pt x="0" y="9567"/>
                  </a:cubicBezTo>
                  <a:cubicBezTo>
                    <a:pt x="0" y="9764"/>
                    <a:pt x="101" y="9567"/>
                    <a:pt x="152" y="9567"/>
                  </a:cubicBezTo>
                  <a:cubicBezTo>
                    <a:pt x="253" y="9666"/>
                    <a:pt x="253" y="9567"/>
                    <a:pt x="354" y="9567"/>
                  </a:cubicBezTo>
                  <a:cubicBezTo>
                    <a:pt x="455" y="9567"/>
                    <a:pt x="455" y="9666"/>
                    <a:pt x="506" y="9764"/>
                  </a:cubicBezTo>
                  <a:cubicBezTo>
                    <a:pt x="556" y="9962"/>
                    <a:pt x="809" y="10553"/>
                    <a:pt x="911" y="10553"/>
                  </a:cubicBezTo>
                  <a:cubicBezTo>
                    <a:pt x="961" y="10553"/>
                    <a:pt x="1062" y="10455"/>
                    <a:pt x="1113" y="10356"/>
                  </a:cubicBezTo>
                  <a:cubicBezTo>
                    <a:pt x="1163" y="10258"/>
                    <a:pt x="1113" y="10159"/>
                    <a:pt x="1163" y="10060"/>
                  </a:cubicBezTo>
                  <a:cubicBezTo>
                    <a:pt x="1214" y="10060"/>
                    <a:pt x="1416" y="9962"/>
                    <a:pt x="1416" y="10060"/>
                  </a:cubicBezTo>
                  <a:cubicBezTo>
                    <a:pt x="1518" y="10258"/>
                    <a:pt x="1619" y="10356"/>
                    <a:pt x="1669" y="10553"/>
                  </a:cubicBezTo>
                  <a:cubicBezTo>
                    <a:pt x="1770" y="10751"/>
                    <a:pt x="1872" y="10849"/>
                    <a:pt x="1922" y="11047"/>
                  </a:cubicBezTo>
                  <a:cubicBezTo>
                    <a:pt x="1973" y="11145"/>
                    <a:pt x="1973" y="11244"/>
                    <a:pt x="2023" y="11441"/>
                  </a:cubicBezTo>
                  <a:cubicBezTo>
                    <a:pt x="2125" y="11638"/>
                    <a:pt x="2175" y="12033"/>
                    <a:pt x="2327" y="12230"/>
                  </a:cubicBezTo>
                  <a:cubicBezTo>
                    <a:pt x="2428" y="12427"/>
                    <a:pt x="2630" y="12526"/>
                    <a:pt x="2732" y="12625"/>
                  </a:cubicBezTo>
                  <a:cubicBezTo>
                    <a:pt x="2833" y="12723"/>
                    <a:pt x="2681" y="12822"/>
                    <a:pt x="2732" y="13019"/>
                  </a:cubicBezTo>
                  <a:cubicBezTo>
                    <a:pt x="2782" y="13019"/>
                    <a:pt x="2833" y="13019"/>
                    <a:pt x="2833" y="13118"/>
                  </a:cubicBezTo>
                  <a:cubicBezTo>
                    <a:pt x="2833" y="13118"/>
                    <a:pt x="2782" y="13414"/>
                    <a:pt x="2833" y="13315"/>
                  </a:cubicBezTo>
                  <a:cubicBezTo>
                    <a:pt x="2782" y="13414"/>
                    <a:pt x="2681" y="13414"/>
                    <a:pt x="2681" y="13611"/>
                  </a:cubicBezTo>
                  <a:cubicBezTo>
                    <a:pt x="2630" y="13710"/>
                    <a:pt x="2782" y="13907"/>
                    <a:pt x="2833" y="13907"/>
                  </a:cubicBezTo>
                  <a:cubicBezTo>
                    <a:pt x="2833" y="13907"/>
                    <a:pt x="2732" y="14104"/>
                    <a:pt x="2732" y="14104"/>
                  </a:cubicBezTo>
                  <a:cubicBezTo>
                    <a:pt x="2732" y="14104"/>
                    <a:pt x="2681" y="14005"/>
                    <a:pt x="2681" y="13907"/>
                  </a:cubicBezTo>
                  <a:cubicBezTo>
                    <a:pt x="2630" y="13907"/>
                    <a:pt x="2681" y="14104"/>
                    <a:pt x="2681" y="14104"/>
                  </a:cubicBezTo>
                  <a:cubicBezTo>
                    <a:pt x="2732" y="14203"/>
                    <a:pt x="2681" y="14301"/>
                    <a:pt x="2732" y="14400"/>
                  </a:cubicBezTo>
                  <a:cubicBezTo>
                    <a:pt x="2782" y="14597"/>
                    <a:pt x="2782" y="14597"/>
                    <a:pt x="2883" y="14499"/>
                  </a:cubicBezTo>
                  <a:cubicBezTo>
                    <a:pt x="2883" y="14499"/>
                    <a:pt x="2934" y="14499"/>
                    <a:pt x="2934" y="14499"/>
                  </a:cubicBezTo>
                  <a:cubicBezTo>
                    <a:pt x="2985" y="14499"/>
                    <a:pt x="2985" y="14301"/>
                    <a:pt x="2985" y="14301"/>
                  </a:cubicBezTo>
                  <a:cubicBezTo>
                    <a:pt x="2985" y="14301"/>
                    <a:pt x="3035" y="14499"/>
                    <a:pt x="3086" y="14499"/>
                  </a:cubicBezTo>
                  <a:cubicBezTo>
                    <a:pt x="3086" y="14499"/>
                    <a:pt x="3035" y="14696"/>
                    <a:pt x="3035" y="14795"/>
                  </a:cubicBezTo>
                  <a:cubicBezTo>
                    <a:pt x="2985" y="14893"/>
                    <a:pt x="2985" y="14992"/>
                    <a:pt x="3086" y="14893"/>
                  </a:cubicBezTo>
                  <a:cubicBezTo>
                    <a:pt x="3086" y="14795"/>
                    <a:pt x="3136" y="14795"/>
                    <a:pt x="3136" y="14795"/>
                  </a:cubicBezTo>
                  <a:cubicBezTo>
                    <a:pt x="3187" y="14795"/>
                    <a:pt x="3187" y="14696"/>
                    <a:pt x="3187" y="14696"/>
                  </a:cubicBezTo>
                  <a:cubicBezTo>
                    <a:pt x="3288" y="14597"/>
                    <a:pt x="3237" y="14893"/>
                    <a:pt x="3237" y="14992"/>
                  </a:cubicBezTo>
                  <a:cubicBezTo>
                    <a:pt x="3237" y="15090"/>
                    <a:pt x="3288" y="15189"/>
                    <a:pt x="3339" y="15189"/>
                  </a:cubicBezTo>
                  <a:cubicBezTo>
                    <a:pt x="3389" y="15189"/>
                    <a:pt x="3440" y="14992"/>
                    <a:pt x="3490" y="14992"/>
                  </a:cubicBezTo>
                  <a:cubicBezTo>
                    <a:pt x="3490" y="14992"/>
                    <a:pt x="3440" y="15090"/>
                    <a:pt x="3440" y="15090"/>
                  </a:cubicBezTo>
                  <a:cubicBezTo>
                    <a:pt x="3440" y="15090"/>
                    <a:pt x="3541" y="15189"/>
                    <a:pt x="3541" y="15189"/>
                  </a:cubicBezTo>
                  <a:cubicBezTo>
                    <a:pt x="3541" y="15189"/>
                    <a:pt x="3187" y="15386"/>
                    <a:pt x="3339" y="15584"/>
                  </a:cubicBezTo>
                  <a:cubicBezTo>
                    <a:pt x="3339" y="15584"/>
                    <a:pt x="3642" y="15485"/>
                    <a:pt x="3592" y="15584"/>
                  </a:cubicBezTo>
                  <a:cubicBezTo>
                    <a:pt x="3592" y="15584"/>
                    <a:pt x="3339" y="15584"/>
                    <a:pt x="3389" y="15781"/>
                  </a:cubicBezTo>
                  <a:cubicBezTo>
                    <a:pt x="3389" y="15781"/>
                    <a:pt x="3490" y="15781"/>
                    <a:pt x="3490" y="15781"/>
                  </a:cubicBezTo>
                  <a:cubicBezTo>
                    <a:pt x="3440" y="15879"/>
                    <a:pt x="3339" y="15879"/>
                    <a:pt x="3389" y="15978"/>
                  </a:cubicBezTo>
                  <a:cubicBezTo>
                    <a:pt x="3490" y="16077"/>
                    <a:pt x="3592" y="16077"/>
                    <a:pt x="3642" y="16077"/>
                  </a:cubicBezTo>
                  <a:cubicBezTo>
                    <a:pt x="3743" y="16077"/>
                    <a:pt x="3693" y="16175"/>
                    <a:pt x="3743" y="16175"/>
                  </a:cubicBezTo>
                  <a:cubicBezTo>
                    <a:pt x="3844" y="16274"/>
                    <a:pt x="3844" y="15978"/>
                    <a:pt x="3895" y="15978"/>
                  </a:cubicBezTo>
                  <a:cubicBezTo>
                    <a:pt x="3946" y="15978"/>
                    <a:pt x="3895" y="16175"/>
                    <a:pt x="3895" y="16175"/>
                  </a:cubicBezTo>
                  <a:cubicBezTo>
                    <a:pt x="3844" y="16274"/>
                    <a:pt x="3844" y="16274"/>
                    <a:pt x="3895" y="16373"/>
                  </a:cubicBezTo>
                  <a:cubicBezTo>
                    <a:pt x="4047" y="16570"/>
                    <a:pt x="4097" y="16077"/>
                    <a:pt x="4097" y="16077"/>
                  </a:cubicBezTo>
                  <a:cubicBezTo>
                    <a:pt x="4097" y="16077"/>
                    <a:pt x="4097" y="16373"/>
                    <a:pt x="4047" y="16373"/>
                  </a:cubicBezTo>
                  <a:cubicBezTo>
                    <a:pt x="4047" y="16471"/>
                    <a:pt x="4148" y="16373"/>
                    <a:pt x="4199" y="16373"/>
                  </a:cubicBezTo>
                  <a:cubicBezTo>
                    <a:pt x="4148" y="16570"/>
                    <a:pt x="4097" y="16668"/>
                    <a:pt x="4199" y="16767"/>
                  </a:cubicBezTo>
                  <a:cubicBezTo>
                    <a:pt x="4300" y="16866"/>
                    <a:pt x="4350" y="16570"/>
                    <a:pt x="4350" y="16570"/>
                  </a:cubicBezTo>
                  <a:cubicBezTo>
                    <a:pt x="4350" y="16570"/>
                    <a:pt x="4350" y="16668"/>
                    <a:pt x="4350" y="16767"/>
                  </a:cubicBezTo>
                  <a:cubicBezTo>
                    <a:pt x="4401" y="16964"/>
                    <a:pt x="4350" y="16866"/>
                    <a:pt x="4300" y="16866"/>
                  </a:cubicBezTo>
                  <a:cubicBezTo>
                    <a:pt x="4249" y="16964"/>
                    <a:pt x="4553" y="17063"/>
                    <a:pt x="4502" y="16866"/>
                  </a:cubicBezTo>
                  <a:cubicBezTo>
                    <a:pt x="4603" y="17162"/>
                    <a:pt x="4553" y="17359"/>
                    <a:pt x="4755" y="17359"/>
                  </a:cubicBezTo>
                  <a:cubicBezTo>
                    <a:pt x="4907" y="17359"/>
                    <a:pt x="5008" y="17359"/>
                    <a:pt x="5160" y="17359"/>
                  </a:cubicBezTo>
                  <a:cubicBezTo>
                    <a:pt x="5716" y="17359"/>
                    <a:pt x="6222" y="17359"/>
                    <a:pt x="6728" y="17359"/>
                  </a:cubicBezTo>
                  <a:cubicBezTo>
                    <a:pt x="7993" y="17359"/>
                    <a:pt x="9257" y="17359"/>
                    <a:pt x="10522" y="17359"/>
                  </a:cubicBezTo>
                  <a:cubicBezTo>
                    <a:pt x="10775" y="17359"/>
                    <a:pt x="11028" y="17359"/>
                    <a:pt x="11281" y="17359"/>
                  </a:cubicBezTo>
                  <a:cubicBezTo>
                    <a:pt x="11331" y="17359"/>
                    <a:pt x="11584" y="17458"/>
                    <a:pt x="11584" y="17162"/>
                  </a:cubicBezTo>
                  <a:close/>
                  <a:moveTo>
                    <a:pt x="5666" y="5326"/>
                  </a:moveTo>
                  <a:cubicBezTo>
                    <a:pt x="5564" y="5326"/>
                    <a:pt x="5463" y="5227"/>
                    <a:pt x="5362" y="5326"/>
                  </a:cubicBezTo>
                  <a:cubicBezTo>
                    <a:pt x="5261" y="5622"/>
                    <a:pt x="5463" y="5523"/>
                    <a:pt x="5463" y="5622"/>
                  </a:cubicBezTo>
                  <a:cubicBezTo>
                    <a:pt x="5463" y="5523"/>
                    <a:pt x="5059" y="5918"/>
                    <a:pt x="5059" y="5918"/>
                  </a:cubicBezTo>
                  <a:cubicBezTo>
                    <a:pt x="4957" y="5819"/>
                    <a:pt x="5413" y="5227"/>
                    <a:pt x="5008" y="5523"/>
                  </a:cubicBezTo>
                  <a:cubicBezTo>
                    <a:pt x="4957" y="5523"/>
                    <a:pt x="4907" y="5622"/>
                    <a:pt x="4907" y="5622"/>
                  </a:cubicBezTo>
                  <a:cubicBezTo>
                    <a:pt x="4856" y="5721"/>
                    <a:pt x="4907" y="5819"/>
                    <a:pt x="4856" y="5918"/>
                  </a:cubicBezTo>
                  <a:cubicBezTo>
                    <a:pt x="4806" y="5918"/>
                    <a:pt x="4452" y="5819"/>
                    <a:pt x="4452" y="5819"/>
                  </a:cubicBezTo>
                  <a:cubicBezTo>
                    <a:pt x="4452" y="5721"/>
                    <a:pt x="4603" y="5819"/>
                    <a:pt x="4603" y="5721"/>
                  </a:cubicBezTo>
                  <a:cubicBezTo>
                    <a:pt x="4654" y="5622"/>
                    <a:pt x="4603" y="5622"/>
                    <a:pt x="4654" y="5523"/>
                  </a:cubicBezTo>
                  <a:cubicBezTo>
                    <a:pt x="4654" y="5425"/>
                    <a:pt x="4755" y="5326"/>
                    <a:pt x="4755" y="5326"/>
                  </a:cubicBezTo>
                  <a:cubicBezTo>
                    <a:pt x="4755" y="5227"/>
                    <a:pt x="4603" y="5129"/>
                    <a:pt x="4755" y="5129"/>
                  </a:cubicBezTo>
                  <a:cubicBezTo>
                    <a:pt x="4755" y="5129"/>
                    <a:pt x="4957" y="5227"/>
                    <a:pt x="4957" y="5129"/>
                  </a:cubicBezTo>
                  <a:cubicBezTo>
                    <a:pt x="4957" y="5030"/>
                    <a:pt x="4704" y="4932"/>
                    <a:pt x="4654" y="4932"/>
                  </a:cubicBezTo>
                  <a:cubicBezTo>
                    <a:pt x="4603" y="4932"/>
                    <a:pt x="4502" y="5030"/>
                    <a:pt x="4401" y="5030"/>
                  </a:cubicBezTo>
                  <a:cubicBezTo>
                    <a:pt x="4350" y="5030"/>
                    <a:pt x="4249" y="4932"/>
                    <a:pt x="4148" y="5030"/>
                  </a:cubicBezTo>
                  <a:cubicBezTo>
                    <a:pt x="4097" y="5030"/>
                    <a:pt x="3996" y="5227"/>
                    <a:pt x="4047" y="5030"/>
                  </a:cubicBezTo>
                  <a:cubicBezTo>
                    <a:pt x="4097" y="4833"/>
                    <a:pt x="4199" y="4932"/>
                    <a:pt x="4249" y="4833"/>
                  </a:cubicBezTo>
                  <a:cubicBezTo>
                    <a:pt x="4350" y="4833"/>
                    <a:pt x="4502" y="4734"/>
                    <a:pt x="4603" y="4636"/>
                  </a:cubicBezTo>
                  <a:cubicBezTo>
                    <a:pt x="4806" y="4537"/>
                    <a:pt x="5008" y="4537"/>
                    <a:pt x="5160" y="4340"/>
                  </a:cubicBezTo>
                  <a:cubicBezTo>
                    <a:pt x="5261" y="4340"/>
                    <a:pt x="5413" y="4241"/>
                    <a:pt x="5463" y="4438"/>
                  </a:cubicBezTo>
                  <a:cubicBezTo>
                    <a:pt x="5514" y="4537"/>
                    <a:pt x="5311" y="4636"/>
                    <a:pt x="5261" y="4734"/>
                  </a:cubicBezTo>
                  <a:cubicBezTo>
                    <a:pt x="5160" y="4833"/>
                    <a:pt x="5564" y="4833"/>
                    <a:pt x="5615" y="4833"/>
                  </a:cubicBezTo>
                  <a:cubicBezTo>
                    <a:pt x="5615" y="4833"/>
                    <a:pt x="5716" y="4833"/>
                    <a:pt x="5716" y="4833"/>
                  </a:cubicBezTo>
                  <a:cubicBezTo>
                    <a:pt x="5767" y="4734"/>
                    <a:pt x="5868" y="4537"/>
                    <a:pt x="5919" y="4636"/>
                  </a:cubicBezTo>
                  <a:cubicBezTo>
                    <a:pt x="5969" y="4734"/>
                    <a:pt x="5716" y="5326"/>
                    <a:pt x="5666" y="5326"/>
                  </a:cubicBezTo>
                  <a:cubicBezTo>
                    <a:pt x="5564" y="5326"/>
                    <a:pt x="5767" y="5326"/>
                    <a:pt x="5666" y="5326"/>
                  </a:cubicBezTo>
                  <a:close/>
                  <a:moveTo>
                    <a:pt x="7942" y="7693"/>
                  </a:moveTo>
                  <a:cubicBezTo>
                    <a:pt x="7942" y="7693"/>
                    <a:pt x="7689" y="7693"/>
                    <a:pt x="7740" y="7693"/>
                  </a:cubicBezTo>
                  <a:cubicBezTo>
                    <a:pt x="7740" y="7792"/>
                    <a:pt x="7841" y="7693"/>
                    <a:pt x="7841" y="7792"/>
                  </a:cubicBezTo>
                  <a:cubicBezTo>
                    <a:pt x="7841" y="7890"/>
                    <a:pt x="7638" y="7989"/>
                    <a:pt x="7588" y="7989"/>
                  </a:cubicBezTo>
                  <a:cubicBezTo>
                    <a:pt x="7487" y="7989"/>
                    <a:pt x="7436" y="8186"/>
                    <a:pt x="7335" y="8285"/>
                  </a:cubicBezTo>
                  <a:cubicBezTo>
                    <a:pt x="7335" y="8285"/>
                    <a:pt x="7133" y="8285"/>
                    <a:pt x="7183" y="8384"/>
                  </a:cubicBezTo>
                  <a:cubicBezTo>
                    <a:pt x="7183" y="8482"/>
                    <a:pt x="7335" y="8482"/>
                    <a:pt x="7183" y="8679"/>
                  </a:cubicBezTo>
                  <a:cubicBezTo>
                    <a:pt x="7133" y="8679"/>
                    <a:pt x="6930" y="8679"/>
                    <a:pt x="6930" y="8778"/>
                  </a:cubicBezTo>
                  <a:cubicBezTo>
                    <a:pt x="6880" y="8778"/>
                    <a:pt x="6930" y="8877"/>
                    <a:pt x="6930" y="8877"/>
                  </a:cubicBezTo>
                  <a:cubicBezTo>
                    <a:pt x="6930" y="9074"/>
                    <a:pt x="6829" y="9074"/>
                    <a:pt x="6778" y="9074"/>
                  </a:cubicBezTo>
                  <a:cubicBezTo>
                    <a:pt x="6627" y="9173"/>
                    <a:pt x="6475" y="9173"/>
                    <a:pt x="6323" y="9173"/>
                  </a:cubicBezTo>
                  <a:cubicBezTo>
                    <a:pt x="6323" y="9173"/>
                    <a:pt x="6070" y="8877"/>
                    <a:pt x="6070" y="8877"/>
                  </a:cubicBezTo>
                  <a:cubicBezTo>
                    <a:pt x="6171" y="8778"/>
                    <a:pt x="6323" y="8877"/>
                    <a:pt x="6374" y="8778"/>
                  </a:cubicBezTo>
                  <a:cubicBezTo>
                    <a:pt x="6424" y="8778"/>
                    <a:pt x="6374" y="8581"/>
                    <a:pt x="6424" y="8581"/>
                  </a:cubicBezTo>
                  <a:cubicBezTo>
                    <a:pt x="6475" y="8384"/>
                    <a:pt x="6576" y="8482"/>
                    <a:pt x="6627" y="8384"/>
                  </a:cubicBezTo>
                  <a:cubicBezTo>
                    <a:pt x="6677" y="8384"/>
                    <a:pt x="6576" y="8186"/>
                    <a:pt x="6576" y="8186"/>
                  </a:cubicBezTo>
                  <a:cubicBezTo>
                    <a:pt x="6475" y="8088"/>
                    <a:pt x="6475" y="8088"/>
                    <a:pt x="6475" y="7989"/>
                  </a:cubicBezTo>
                  <a:cubicBezTo>
                    <a:pt x="6475" y="7792"/>
                    <a:pt x="6374" y="7890"/>
                    <a:pt x="6374" y="7792"/>
                  </a:cubicBezTo>
                  <a:cubicBezTo>
                    <a:pt x="6323" y="7693"/>
                    <a:pt x="6475" y="7792"/>
                    <a:pt x="6475" y="7792"/>
                  </a:cubicBezTo>
                  <a:cubicBezTo>
                    <a:pt x="6627" y="7890"/>
                    <a:pt x="6778" y="7989"/>
                    <a:pt x="6880" y="8088"/>
                  </a:cubicBezTo>
                  <a:cubicBezTo>
                    <a:pt x="6981" y="8285"/>
                    <a:pt x="7183" y="8186"/>
                    <a:pt x="7284" y="8088"/>
                  </a:cubicBezTo>
                  <a:cubicBezTo>
                    <a:pt x="7436" y="7989"/>
                    <a:pt x="7487" y="7693"/>
                    <a:pt x="7689" y="7595"/>
                  </a:cubicBezTo>
                  <a:cubicBezTo>
                    <a:pt x="7740" y="7496"/>
                    <a:pt x="7841" y="7496"/>
                    <a:pt x="7942" y="7595"/>
                  </a:cubicBezTo>
                  <a:cubicBezTo>
                    <a:pt x="7942" y="7595"/>
                    <a:pt x="8094" y="7693"/>
                    <a:pt x="8094" y="7693"/>
                  </a:cubicBezTo>
                  <a:cubicBezTo>
                    <a:pt x="8094" y="7693"/>
                    <a:pt x="7993" y="7693"/>
                    <a:pt x="7942" y="7693"/>
                  </a:cubicBezTo>
                  <a:close/>
                  <a:moveTo>
                    <a:pt x="11230" y="16274"/>
                  </a:moveTo>
                  <a:cubicBezTo>
                    <a:pt x="11179" y="16471"/>
                    <a:pt x="11078" y="16077"/>
                    <a:pt x="11078" y="15978"/>
                  </a:cubicBezTo>
                  <a:cubicBezTo>
                    <a:pt x="11078" y="15781"/>
                    <a:pt x="11179" y="15682"/>
                    <a:pt x="11179" y="15485"/>
                  </a:cubicBezTo>
                  <a:cubicBezTo>
                    <a:pt x="11129" y="15386"/>
                    <a:pt x="11078" y="15682"/>
                    <a:pt x="11028" y="15584"/>
                  </a:cubicBezTo>
                  <a:cubicBezTo>
                    <a:pt x="11028" y="15485"/>
                    <a:pt x="11028" y="15189"/>
                    <a:pt x="10926" y="15189"/>
                  </a:cubicBezTo>
                  <a:cubicBezTo>
                    <a:pt x="10926" y="15189"/>
                    <a:pt x="10926" y="15386"/>
                    <a:pt x="10876" y="15386"/>
                  </a:cubicBezTo>
                  <a:cubicBezTo>
                    <a:pt x="10825" y="15288"/>
                    <a:pt x="10825" y="15189"/>
                    <a:pt x="10775" y="15090"/>
                  </a:cubicBezTo>
                  <a:cubicBezTo>
                    <a:pt x="10724" y="14992"/>
                    <a:pt x="10674" y="14893"/>
                    <a:pt x="10623" y="14795"/>
                  </a:cubicBezTo>
                  <a:cubicBezTo>
                    <a:pt x="10572" y="14696"/>
                    <a:pt x="10724" y="14696"/>
                    <a:pt x="10724" y="14597"/>
                  </a:cubicBezTo>
                  <a:cubicBezTo>
                    <a:pt x="10674" y="14499"/>
                    <a:pt x="10572" y="14597"/>
                    <a:pt x="10572" y="14499"/>
                  </a:cubicBezTo>
                  <a:cubicBezTo>
                    <a:pt x="10572" y="14400"/>
                    <a:pt x="10623" y="14104"/>
                    <a:pt x="10623" y="14005"/>
                  </a:cubicBezTo>
                  <a:cubicBezTo>
                    <a:pt x="10724" y="13808"/>
                    <a:pt x="10977" y="14499"/>
                    <a:pt x="10977" y="14597"/>
                  </a:cubicBezTo>
                  <a:cubicBezTo>
                    <a:pt x="11028" y="14795"/>
                    <a:pt x="11078" y="14893"/>
                    <a:pt x="11078" y="15090"/>
                  </a:cubicBezTo>
                  <a:cubicBezTo>
                    <a:pt x="11129" y="15288"/>
                    <a:pt x="11129" y="15189"/>
                    <a:pt x="11179" y="15386"/>
                  </a:cubicBezTo>
                  <a:cubicBezTo>
                    <a:pt x="11179" y="15485"/>
                    <a:pt x="11230" y="15584"/>
                    <a:pt x="11230" y="15682"/>
                  </a:cubicBezTo>
                  <a:cubicBezTo>
                    <a:pt x="11281" y="15879"/>
                    <a:pt x="11230" y="16077"/>
                    <a:pt x="11230" y="16274"/>
                  </a:cubicBezTo>
                  <a:cubicBezTo>
                    <a:pt x="11179" y="16373"/>
                    <a:pt x="11230" y="16175"/>
                    <a:pt x="11230" y="1627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68" name="Shape 1282"/>
            <p:cNvSpPr/>
            <p:nvPr/>
          </p:nvSpPr>
          <p:spPr>
            <a:xfrm>
              <a:off x="10662480" y="4470840"/>
              <a:ext cx="33480" cy="28800"/>
            </a:xfrm>
            <a:custGeom>
              <a:avLst/>
              <a:gdLst/>
              <a:ahLst/>
              <a:rect l="l" t="t" r="r" b="b"/>
              <a:pathLst>
                <a:path w="18048" h="17780">
                  <a:moveTo>
                    <a:pt x="15888" y="0"/>
                  </a:moveTo>
                  <a:cubicBezTo>
                    <a:pt x="11568" y="2400"/>
                    <a:pt x="-3552" y="9600"/>
                    <a:pt x="768" y="16800"/>
                  </a:cubicBezTo>
                  <a:cubicBezTo>
                    <a:pt x="5088" y="21600"/>
                    <a:pt x="15888" y="7200"/>
                    <a:pt x="18048" y="7200"/>
                  </a:cubicBezTo>
                  <a:cubicBezTo>
                    <a:pt x="18048" y="4800"/>
                    <a:pt x="15888" y="2400"/>
                    <a:pt x="15888" y="0"/>
                  </a:cubicBezTo>
                  <a:close/>
                </a:path>
              </a:pathLst>
            </a:custGeom>
            <a:solidFill>
              <a:srgbClr val="dadbdf"/>
            </a:solidFill>
            <a:ln w="4680">
              <a:solidFill>
                <a:srgbClr val="ffffff"/>
              </a:solidFill>
              <a:round/>
            </a:ln>
          </p:spPr>
          <p:style>
            <a:lnRef idx="0"/>
            <a:fillRef idx="0"/>
            <a:effectRef idx="0"/>
            <a:fontRef idx="minor"/>
          </p:style>
          <p:txBody>
            <a:bodyPr lIns="45360" rIns="45360" tIns="-18000" bIns="-18000" anchor="t">
              <a:noAutofit/>
            </a:bodyPr>
            <a:p>
              <a:endParaRPr b="0" lang="en-US" sz="1800" spc="-1" strike="noStrike">
                <a:solidFill>
                  <a:srgbClr val="000000"/>
                </a:solidFill>
                <a:latin typeface="Calibri"/>
              </a:endParaRPr>
            </a:p>
          </p:txBody>
        </p:sp>
        <p:sp>
          <p:nvSpPr>
            <p:cNvPr id="669" name="Shape 1283"/>
            <p:cNvSpPr/>
            <p:nvPr/>
          </p:nvSpPr>
          <p:spPr>
            <a:xfrm>
              <a:off x="10691640" y="4462560"/>
              <a:ext cx="43920" cy="16560"/>
            </a:xfrm>
            <a:custGeom>
              <a:avLst/>
              <a:gdLst/>
              <a:ahLst/>
              <a:rect l="l" t="t" r="r" b="b"/>
              <a:pathLst>
                <a:path w="18650" h="18982">
                  <a:moveTo>
                    <a:pt x="18463" y="0"/>
                  </a:moveTo>
                  <a:cubicBezTo>
                    <a:pt x="20125" y="0"/>
                    <a:pt x="10156" y="0"/>
                    <a:pt x="10156" y="0"/>
                  </a:cubicBezTo>
                  <a:cubicBezTo>
                    <a:pt x="8494" y="0"/>
                    <a:pt x="-1475" y="4320"/>
                    <a:pt x="187" y="8640"/>
                  </a:cubicBezTo>
                  <a:cubicBezTo>
                    <a:pt x="3510" y="21600"/>
                    <a:pt x="1848" y="21600"/>
                    <a:pt x="6833" y="12960"/>
                  </a:cubicBezTo>
                  <a:cubicBezTo>
                    <a:pt x="11817" y="8640"/>
                    <a:pt x="15140" y="8640"/>
                    <a:pt x="18463" y="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670" name="Shape 1284"/>
            <p:cNvSpPr/>
            <p:nvPr/>
          </p:nvSpPr>
          <p:spPr>
            <a:xfrm>
              <a:off x="8508960" y="3178800"/>
              <a:ext cx="117720" cy="67320"/>
            </a:xfrm>
            <a:custGeom>
              <a:avLst/>
              <a:gdLst/>
              <a:ahLst/>
              <a:rect l="l" t="t" r="r" b="b"/>
              <a:pathLst>
                <a:path w="20784" h="21600">
                  <a:moveTo>
                    <a:pt x="6968" y="21600"/>
                  </a:moveTo>
                  <a:cubicBezTo>
                    <a:pt x="8361" y="21600"/>
                    <a:pt x="7665" y="17788"/>
                    <a:pt x="9058" y="17788"/>
                  </a:cubicBezTo>
                  <a:cubicBezTo>
                    <a:pt x="10452" y="17788"/>
                    <a:pt x="11148" y="20329"/>
                    <a:pt x="12542" y="20329"/>
                  </a:cubicBezTo>
                  <a:cubicBezTo>
                    <a:pt x="13239" y="20329"/>
                    <a:pt x="13935" y="20329"/>
                    <a:pt x="14632" y="20329"/>
                  </a:cubicBezTo>
                  <a:cubicBezTo>
                    <a:pt x="15329" y="20329"/>
                    <a:pt x="16026" y="19059"/>
                    <a:pt x="16026" y="19059"/>
                  </a:cubicBezTo>
                  <a:cubicBezTo>
                    <a:pt x="18116" y="17788"/>
                    <a:pt x="18813" y="16518"/>
                    <a:pt x="20206" y="13976"/>
                  </a:cubicBezTo>
                  <a:cubicBezTo>
                    <a:pt x="21600" y="11435"/>
                    <a:pt x="20206" y="10165"/>
                    <a:pt x="18813" y="8894"/>
                  </a:cubicBezTo>
                  <a:cubicBezTo>
                    <a:pt x="17419" y="7624"/>
                    <a:pt x="15329" y="3812"/>
                    <a:pt x="14632" y="6353"/>
                  </a:cubicBezTo>
                  <a:cubicBezTo>
                    <a:pt x="13239" y="10165"/>
                    <a:pt x="12542" y="5082"/>
                    <a:pt x="11845" y="3812"/>
                  </a:cubicBezTo>
                  <a:cubicBezTo>
                    <a:pt x="11148" y="2541"/>
                    <a:pt x="9058" y="3812"/>
                    <a:pt x="9058" y="0"/>
                  </a:cubicBezTo>
                  <a:cubicBezTo>
                    <a:pt x="9058" y="1271"/>
                    <a:pt x="8361" y="3812"/>
                    <a:pt x="7665" y="2541"/>
                  </a:cubicBezTo>
                  <a:cubicBezTo>
                    <a:pt x="6271" y="0"/>
                    <a:pt x="6271" y="0"/>
                    <a:pt x="5574" y="2541"/>
                  </a:cubicBezTo>
                  <a:cubicBezTo>
                    <a:pt x="4877" y="3812"/>
                    <a:pt x="0" y="6353"/>
                    <a:pt x="0" y="7624"/>
                  </a:cubicBezTo>
                  <a:cubicBezTo>
                    <a:pt x="0" y="7624"/>
                    <a:pt x="697" y="11435"/>
                    <a:pt x="1394" y="12706"/>
                  </a:cubicBezTo>
                  <a:cubicBezTo>
                    <a:pt x="1394" y="13976"/>
                    <a:pt x="2090" y="15247"/>
                    <a:pt x="2787" y="16518"/>
                  </a:cubicBezTo>
                  <a:cubicBezTo>
                    <a:pt x="4181" y="17788"/>
                    <a:pt x="5574" y="21600"/>
                    <a:pt x="6968" y="21600"/>
                  </a:cubicBezTo>
                  <a:close/>
                </a:path>
              </a:pathLst>
            </a:custGeom>
            <a:solidFill>
              <a:srgbClr val="dadbdf"/>
            </a:solidFill>
            <a:ln w="4680">
              <a:solidFill>
                <a:srgbClr val="ffffff"/>
              </a:solidFill>
              <a:round/>
            </a:ln>
          </p:spPr>
          <p:style>
            <a:lnRef idx="0"/>
            <a:fillRef idx="0"/>
            <a:effectRef idx="0"/>
            <a:fontRef idx="minor"/>
          </p:style>
          <p:txBody>
            <a:bodyPr lIns="45360" rIns="45360" tIns="20520" bIns="20520" anchor="t">
              <a:noAutofit/>
            </a:bodyPr>
            <a:p>
              <a:endParaRPr b="0" lang="en-US" sz="1800" spc="-1" strike="noStrike">
                <a:solidFill>
                  <a:srgbClr val="000000"/>
                </a:solidFill>
                <a:latin typeface="Calibri"/>
              </a:endParaRPr>
            </a:p>
          </p:txBody>
        </p:sp>
        <p:sp>
          <p:nvSpPr>
            <p:cNvPr id="671" name="Shape 1285"/>
            <p:cNvSpPr/>
            <p:nvPr/>
          </p:nvSpPr>
          <p:spPr>
            <a:xfrm>
              <a:off x="8453520" y="3234240"/>
              <a:ext cx="144720" cy="63360"/>
            </a:xfrm>
            <a:custGeom>
              <a:avLst/>
              <a:gdLst/>
              <a:ahLst/>
              <a:rect l="l" t="t" r="r" b="b"/>
              <a:pathLst>
                <a:path w="21276" h="21600">
                  <a:moveTo>
                    <a:pt x="18681" y="2700"/>
                  </a:moveTo>
                  <a:cubicBezTo>
                    <a:pt x="17514" y="2700"/>
                    <a:pt x="16346" y="0"/>
                    <a:pt x="15762" y="0"/>
                  </a:cubicBezTo>
                  <a:cubicBezTo>
                    <a:pt x="14595" y="0"/>
                    <a:pt x="15178" y="4050"/>
                    <a:pt x="14011" y="4050"/>
                  </a:cubicBezTo>
                  <a:cubicBezTo>
                    <a:pt x="12843" y="4050"/>
                    <a:pt x="12843" y="2700"/>
                    <a:pt x="11676" y="4050"/>
                  </a:cubicBezTo>
                  <a:cubicBezTo>
                    <a:pt x="11676" y="4050"/>
                    <a:pt x="9341" y="8100"/>
                    <a:pt x="9924" y="9450"/>
                  </a:cubicBezTo>
                  <a:cubicBezTo>
                    <a:pt x="9924" y="10800"/>
                    <a:pt x="11092" y="13500"/>
                    <a:pt x="9341" y="12150"/>
                  </a:cubicBezTo>
                  <a:cubicBezTo>
                    <a:pt x="8757" y="12150"/>
                    <a:pt x="8173" y="10800"/>
                    <a:pt x="7589" y="12150"/>
                  </a:cubicBezTo>
                  <a:cubicBezTo>
                    <a:pt x="7005" y="12150"/>
                    <a:pt x="5838" y="13500"/>
                    <a:pt x="5254" y="13500"/>
                  </a:cubicBezTo>
                  <a:cubicBezTo>
                    <a:pt x="4086" y="13500"/>
                    <a:pt x="3503" y="10800"/>
                    <a:pt x="2919" y="14850"/>
                  </a:cubicBezTo>
                  <a:cubicBezTo>
                    <a:pt x="2919" y="14850"/>
                    <a:pt x="584" y="12150"/>
                    <a:pt x="0" y="12150"/>
                  </a:cubicBezTo>
                  <a:cubicBezTo>
                    <a:pt x="0" y="14850"/>
                    <a:pt x="584" y="16200"/>
                    <a:pt x="2335" y="17550"/>
                  </a:cubicBezTo>
                  <a:cubicBezTo>
                    <a:pt x="2919" y="17550"/>
                    <a:pt x="2919" y="17550"/>
                    <a:pt x="3503" y="17550"/>
                  </a:cubicBezTo>
                  <a:cubicBezTo>
                    <a:pt x="4086" y="17550"/>
                    <a:pt x="4086" y="20250"/>
                    <a:pt x="4670" y="18900"/>
                  </a:cubicBezTo>
                  <a:cubicBezTo>
                    <a:pt x="5838" y="17550"/>
                    <a:pt x="5838" y="17550"/>
                    <a:pt x="7005" y="17550"/>
                  </a:cubicBezTo>
                  <a:cubicBezTo>
                    <a:pt x="8173" y="17550"/>
                    <a:pt x="7589" y="18900"/>
                    <a:pt x="8757" y="20250"/>
                  </a:cubicBezTo>
                  <a:cubicBezTo>
                    <a:pt x="9924" y="21600"/>
                    <a:pt x="11676" y="21600"/>
                    <a:pt x="12843" y="21600"/>
                  </a:cubicBezTo>
                  <a:cubicBezTo>
                    <a:pt x="14595" y="21600"/>
                    <a:pt x="15178" y="18900"/>
                    <a:pt x="16930" y="18900"/>
                  </a:cubicBezTo>
                  <a:cubicBezTo>
                    <a:pt x="18097" y="18900"/>
                    <a:pt x="19265" y="17550"/>
                    <a:pt x="19265" y="16200"/>
                  </a:cubicBezTo>
                  <a:cubicBezTo>
                    <a:pt x="19849" y="14850"/>
                    <a:pt x="19849" y="13500"/>
                    <a:pt x="19849" y="12150"/>
                  </a:cubicBezTo>
                  <a:cubicBezTo>
                    <a:pt x="19849" y="9450"/>
                    <a:pt x="20432" y="12150"/>
                    <a:pt x="21016" y="10800"/>
                  </a:cubicBezTo>
                  <a:cubicBezTo>
                    <a:pt x="21600" y="8100"/>
                    <a:pt x="21016" y="4050"/>
                    <a:pt x="21016" y="2700"/>
                  </a:cubicBezTo>
                  <a:cubicBezTo>
                    <a:pt x="19849" y="2700"/>
                    <a:pt x="19265" y="2700"/>
                    <a:pt x="18681" y="2700"/>
                  </a:cubicBezTo>
                  <a:close/>
                </a:path>
              </a:pathLst>
            </a:custGeom>
            <a:solidFill>
              <a:srgbClr val="dadbdf"/>
            </a:solidFill>
            <a:ln w="4680">
              <a:solidFill>
                <a:srgbClr val="ffffff"/>
              </a:solidFill>
              <a:round/>
            </a:ln>
          </p:spPr>
          <p:style>
            <a:lnRef idx="0"/>
            <a:fillRef idx="0"/>
            <a:effectRef idx="0"/>
            <a:fontRef idx="minor"/>
          </p:style>
          <p:txBody>
            <a:bodyPr lIns="45360" rIns="45360" tIns="16560" bIns="16560" anchor="t">
              <a:noAutofit/>
            </a:bodyPr>
            <a:p>
              <a:endParaRPr b="0" lang="en-US" sz="1800" spc="-1" strike="noStrike">
                <a:solidFill>
                  <a:srgbClr val="000000"/>
                </a:solidFill>
                <a:latin typeface="Calibri"/>
              </a:endParaRPr>
            </a:p>
          </p:txBody>
        </p:sp>
        <p:sp>
          <p:nvSpPr>
            <p:cNvPr id="672" name="Shape 1286"/>
            <p:cNvSpPr/>
            <p:nvPr/>
          </p:nvSpPr>
          <p:spPr>
            <a:xfrm>
              <a:off x="8402400" y="3283560"/>
              <a:ext cx="219600" cy="216000"/>
            </a:xfrm>
            <a:custGeom>
              <a:avLst/>
              <a:gdLst/>
              <a:ahLst/>
              <a:rect l="l" t="t" r="r" b="b"/>
              <a:pathLst>
                <a:path w="21097" h="21382">
                  <a:moveTo>
                    <a:pt x="14021" y="3709"/>
                  </a:moveTo>
                  <a:cubicBezTo>
                    <a:pt x="14400" y="3317"/>
                    <a:pt x="15158" y="3709"/>
                    <a:pt x="15537" y="3317"/>
                  </a:cubicBezTo>
                  <a:cubicBezTo>
                    <a:pt x="16295" y="2924"/>
                    <a:pt x="15916" y="2531"/>
                    <a:pt x="16295" y="2138"/>
                  </a:cubicBezTo>
                  <a:cubicBezTo>
                    <a:pt x="16295" y="1746"/>
                    <a:pt x="16674" y="1353"/>
                    <a:pt x="17053" y="1353"/>
                  </a:cubicBezTo>
                  <a:cubicBezTo>
                    <a:pt x="17432" y="960"/>
                    <a:pt x="17053" y="960"/>
                    <a:pt x="17053" y="175"/>
                  </a:cubicBezTo>
                  <a:cubicBezTo>
                    <a:pt x="16674" y="567"/>
                    <a:pt x="16295" y="567"/>
                    <a:pt x="15537" y="567"/>
                  </a:cubicBezTo>
                  <a:cubicBezTo>
                    <a:pt x="14779" y="567"/>
                    <a:pt x="14021" y="1746"/>
                    <a:pt x="13642" y="1353"/>
                  </a:cubicBezTo>
                  <a:cubicBezTo>
                    <a:pt x="12505" y="960"/>
                    <a:pt x="10611" y="1353"/>
                    <a:pt x="10232" y="175"/>
                  </a:cubicBezTo>
                  <a:cubicBezTo>
                    <a:pt x="9853" y="-218"/>
                    <a:pt x="8716" y="175"/>
                    <a:pt x="8337" y="175"/>
                  </a:cubicBezTo>
                  <a:cubicBezTo>
                    <a:pt x="7579" y="960"/>
                    <a:pt x="7579" y="175"/>
                    <a:pt x="7200" y="175"/>
                  </a:cubicBezTo>
                  <a:cubicBezTo>
                    <a:pt x="6821" y="175"/>
                    <a:pt x="6821" y="960"/>
                    <a:pt x="6821" y="960"/>
                  </a:cubicBezTo>
                  <a:cubicBezTo>
                    <a:pt x="6821" y="960"/>
                    <a:pt x="6442" y="1353"/>
                    <a:pt x="6442" y="1353"/>
                  </a:cubicBezTo>
                  <a:cubicBezTo>
                    <a:pt x="6442" y="1746"/>
                    <a:pt x="6063" y="1746"/>
                    <a:pt x="5684" y="1746"/>
                  </a:cubicBezTo>
                  <a:cubicBezTo>
                    <a:pt x="5684" y="1746"/>
                    <a:pt x="5305" y="1746"/>
                    <a:pt x="4926" y="1746"/>
                  </a:cubicBezTo>
                  <a:cubicBezTo>
                    <a:pt x="4926" y="1746"/>
                    <a:pt x="4926" y="1746"/>
                    <a:pt x="4547" y="1353"/>
                  </a:cubicBezTo>
                  <a:cubicBezTo>
                    <a:pt x="4547" y="1353"/>
                    <a:pt x="4168" y="2531"/>
                    <a:pt x="4168" y="2924"/>
                  </a:cubicBezTo>
                  <a:cubicBezTo>
                    <a:pt x="4168" y="3317"/>
                    <a:pt x="3411" y="2138"/>
                    <a:pt x="3411" y="1746"/>
                  </a:cubicBezTo>
                  <a:cubicBezTo>
                    <a:pt x="2653" y="1353"/>
                    <a:pt x="2274" y="2531"/>
                    <a:pt x="1895" y="2531"/>
                  </a:cubicBezTo>
                  <a:cubicBezTo>
                    <a:pt x="1137" y="2531"/>
                    <a:pt x="379" y="2531"/>
                    <a:pt x="0" y="2531"/>
                  </a:cubicBezTo>
                  <a:cubicBezTo>
                    <a:pt x="0" y="2924"/>
                    <a:pt x="379" y="3317"/>
                    <a:pt x="379" y="3709"/>
                  </a:cubicBezTo>
                  <a:cubicBezTo>
                    <a:pt x="379" y="4495"/>
                    <a:pt x="0" y="4495"/>
                    <a:pt x="0" y="5280"/>
                  </a:cubicBezTo>
                  <a:cubicBezTo>
                    <a:pt x="0" y="5673"/>
                    <a:pt x="0" y="6851"/>
                    <a:pt x="758" y="6851"/>
                  </a:cubicBezTo>
                  <a:cubicBezTo>
                    <a:pt x="1137" y="7244"/>
                    <a:pt x="1516" y="6851"/>
                    <a:pt x="1516" y="8029"/>
                  </a:cubicBezTo>
                  <a:cubicBezTo>
                    <a:pt x="2274" y="7637"/>
                    <a:pt x="3789" y="6066"/>
                    <a:pt x="4547" y="6458"/>
                  </a:cubicBezTo>
                  <a:cubicBezTo>
                    <a:pt x="4926" y="6851"/>
                    <a:pt x="5305" y="7244"/>
                    <a:pt x="5684" y="7244"/>
                  </a:cubicBezTo>
                  <a:cubicBezTo>
                    <a:pt x="6063" y="7244"/>
                    <a:pt x="6442" y="8029"/>
                    <a:pt x="6442" y="8422"/>
                  </a:cubicBezTo>
                  <a:cubicBezTo>
                    <a:pt x="6821" y="8815"/>
                    <a:pt x="6821" y="9207"/>
                    <a:pt x="6821" y="9600"/>
                  </a:cubicBezTo>
                  <a:cubicBezTo>
                    <a:pt x="7200" y="9993"/>
                    <a:pt x="7579" y="10386"/>
                    <a:pt x="7958" y="10778"/>
                  </a:cubicBezTo>
                  <a:cubicBezTo>
                    <a:pt x="8716" y="11171"/>
                    <a:pt x="9474" y="11957"/>
                    <a:pt x="10611" y="12742"/>
                  </a:cubicBezTo>
                  <a:cubicBezTo>
                    <a:pt x="11368" y="13527"/>
                    <a:pt x="11747" y="13527"/>
                    <a:pt x="12505" y="13920"/>
                  </a:cubicBezTo>
                  <a:cubicBezTo>
                    <a:pt x="13642" y="14706"/>
                    <a:pt x="14400" y="15884"/>
                    <a:pt x="15916" y="16277"/>
                  </a:cubicBezTo>
                  <a:cubicBezTo>
                    <a:pt x="16674" y="16669"/>
                    <a:pt x="16674" y="17847"/>
                    <a:pt x="17053" y="18633"/>
                  </a:cubicBezTo>
                  <a:cubicBezTo>
                    <a:pt x="17053" y="19418"/>
                    <a:pt x="15916" y="20204"/>
                    <a:pt x="16295" y="21382"/>
                  </a:cubicBezTo>
                  <a:cubicBezTo>
                    <a:pt x="16295" y="20989"/>
                    <a:pt x="18568" y="19026"/>
                    <a:pt x="18568" y="18633"/>
                  </a:cubicBezTo>
                  <a:cubicBezTo>
                    <a:pt x="18947" y="18240"/>
                    <a:pt x="17811" y="17455"/>
                    <a:pt x="17811" y="17455"/>
                  </a:cubicBezTo>
                  <a:cubicBezTo>
                    <a:pt x="17053" y="16669"/>
                    <a:pt x="18568" y="15098"/>
                    <a:pt x="18947" y="15491"/>
                  </a:cubicBezTo>
                  <a:cubicBezTo>
                    <a:pt x="19326" y="15884"/>
                    <a:pt x="19705" y="15884"/>
                    <a:pt x="20084" y="15884"/>
                  </a:cubicBezTo>
                  <a:cubicBezTo>
                    <a:pt x="20463" y="16277"/>
                    <a:pt x="20463" y="16669"/>
                    <a:pt x="20842" y="17062"/>
                  </a:cubicBezTo>
                  <a:cubicBezTo>
                    <a:pt x="21600" y="17062"/>
                    <a:pt x="20463" y="15491"/>
                    <a:pt x="20084" y="15098"/>
                  </a:cubicBezTo>
                  <a:cubicBezTo>
                    <a:pt x="19326" y="14313"/>
                    <a:pt x="17811" y="14313"/>
                    <a:pt x="16674" y="13527"/>
                  </a:cubicBezTo>
                  <a:cubicBezTo>
                    <a:pt x="16295" y="13135"/>
                    <a:pt x="17432" y="12349"/>
                    <a:pt x="16674" y="12349"/>
                  </a:cubicBezTo>
                  <a:cubicBezTo>
                    <a:pt x="16295" y="11957"/>
                    <a:pt x="15537" y="12349"/>
                    <a:pt x="14779" y="11957"/>
                  </a:cubicBezTo>
                  <a:cubicBezTo>
                    <a:pt x="14021" y="11564"/>
                    <a:pt x="13642" y="10778"/>
                    <a:pt x="13263" y="9993"/>
                  </a:cubicBezTo>
                  <a:cubicBezTo>
                    <a:pt x="12884" y="9207"/>
                    <a:pt x="12884" y="8422"/>
                    <a:pt x="12126" y="8029"/>
                  </a:cubicBezTo>
                  <a:cubicBezTo>
                    <a:pt x="11747" y="7637"/>
                    <a:pt x="10232" y="7244"/>
                    <a:pt x="10232" y="6458"/>
                  </a:cubicBezTo>
                  <a:cubicBezTo>
                    <a:pt x="10232" y="6066"/>
                    <a:pt x="10232" y="5673"/>
                    <a:pt x="10232" y="5673"/>
                  </a:cubicBezTo>
                  <a:cubicBezTo>
                    <a:pt x="10611" y="4887"/>
                    <a:pt x="10611" y="4887"/>
                    <a:pt x="10611" y="4495"/>
                  </a:cubicBezTo>
                  <a:cubicBezTo>
                    <a:pt x="10232" y="3317"/>
                    <a:pt x="11368" y="3709"/>
                    <a:pt x="11368" y="3317"/>
                  </a:cubicBezTo>
                  <a:cubicBezTo>
                    <a:pt x="11747" y="2924"/>
                    <a:pt x="12126" y="2924"/>
                    <a:pt x="12126" y="2924"/>
                  </a:cubicBezTo>
                  <a:cubicBezTo>
                    <a:pt x="12884" y="2924"/>
                    <a:pt x="12884" y="3317"/>
                    <a:pt x="12884" y="3709"/>
                  </a:cubicBezTo>
                  <a:cubicBezTo>
                    <a:pt x="13263" y="3709"/>
                    <a:pt x="13642" y="3709"/>
                    <a:pt x="14021" y="3709"/>
                  </a:cubicBezTo>
                  <a:cubicBezTo>
                    <a:pt x="14021" y="3317"/>
                    <a:pt x="13642" y="3709"/>
                    <a:pt x="14021" y="370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73" name="Shape 1287"/>
            <p:cNvSpPr/>
            <p:nvPr/>
          </p:nvSpPr>
          <p:spPr>
            <a:xfrm>
              <a:off x="8535240" y="3293640"/>
              <a:ext cx="104040" cy="99720"/>
            </a:xfrm>
            <a:custGeom>
              <a:avLst/>
              <a:gdLst/>
              <a:ahLst/>
              <a:rect l="l" t="t" r="r" b="b"/>
              <a:pathLst>
                <a:path w="21156" h="21600">
                  <a:moveTo>
                    <a:pt x="9156" y="8640"/>
                  </a:moveTo>
                  <a:cubicBezTo>
                    <a:pt x="11556" y="8640"/>
                    <a:pt x="13956" y="6912"/>
                    <a:pt x="16356" y="7776"/>
                  </a:cubicBezTo>
                  <a:cubicBezTo>
                    <a:pt x="17956" y="7776"/>
                    <a:pt x="19556" y="8640"/>
                    <a:pt x="21156" y="9504"/>
                  </a:cubicBezTo>
                  <a:cubicBezTo>
                    <a:pt x="20356" y="7776"/>
                    <a:pt x="20356" y="6048"/>
                    <a:pt x="19556" y="3456"/>
                  </a:cubicBezTo>
                  <a:cubicBezTo>
                    <a:pt x="17156" y="5184"/>
                    <a:pt x="14756" y="3456"/>
                    <a:pt x="13156" y="2592"/>
                  </a:cubicBezTo>
                  <a:cubicBezTo>
                    <a:pt x="11556" y="1728"/>
                    <a:pt x="10756" y="1728"/>
                    <a:pt x="9956" y="0"/>
                  </a:cubicBezTo>
                  <a:cubicBezTo>
                    <a:pt x="9956" y="0"/>
                    <a:pt x="8356" y="864"/>
                    <a:pt x="8356" y="1728"/>
                  </a:cubicBezTo>
                  <a:cubicBezTo>
                    <a:pt x="6756" y="2592"/>
                    <a:pt x="7556" y="6912"/>
                    <a:pt x="4356" y="6048"/>
                  </a:cubicBezTo>
                  <a:cubicBezTo>
                    <a:pt x="2756" y="5184"/>
                    <a:pt x="1156" y="6048"/>
                    <a:pt x="356" y="6048"/>
                  </a:cubicBezTo>
                  <a:cubicBezTo>
                    <a:pt x="-444" y="6912"/>
                    <a:pt x="356" y="9504"/>
                    <a:pt x="356" y="9504"/>
                  </a:cubicBezTo>
                  <a:cubicBezTo>
                    <a:pt x="356" y="9504"/>
                    <a:pt x="1956" y="8640"/>
                    <a:pt x="1956" y="8640"/>
                  </a:cubicBezTo>
                  <a:cubicBezTo>
                    <a:pt x="2756" y="8640"/>
                    <a:pt x="2756" y="10368"/>
                    <a:pt x="2756" y="11232"/>
                  </a:cubicBezTo>
                  <a:cubicBezTo>
                    <a:pt x="2756" y="9504"/>
                    <a:pt x="3556" y="6912"/>
                    <a:pt x="4356" y="8640"/>
                  </a:cubicBezTo>
                  <a:cubicBezTo>
                    <a:pt x="5156" y="11232"/>
                    <a:pt x="6756" y="12960"/>
                    <a:pt x="8356" y="14688"/>
                  </a:cubicBezTo>
                  <a:cubicBezTo>
                    <a:pt x="10756" y="17280"/>
                    <a:pt x="14756" y="19008"/>
                    <a:pt x="17956" y="21600"/>
                  </a:cubicBezTo>
                  <a:cubicBezTo>
                    <a:pt x="17956" y="19872"/>
                    <a:pt x="17956" y="19872"/>
                    <a:pt x="16356" y="19008"/>
                  </a:cubicBezTo>
                  <a:cubicBezTo>
                    <a:pt x="14756" y="18144"/>
                    <a:pt x="13156" y="17280"/>
                    <a:pt x="12356" y="16416"/>
                  </a:cubicBezTo>
                  <a:cubicBezTo>
                    <a:pt x="10756" y="14688"/>
                    <a:pt x="6756" y="8640"/>
                    <a:pt x="9156" y="864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74" name="Shape 1288"/>
            <p:cNvSpPr/>
            <p:nvPr/>
          </p:nvSpPr>
          <p:spPr>
            <a:xfrm>
              <a:off x="8173080" y="3179880"/>
              <a:ext cx="254160" cy="219960"/>
            </a:xfrm>
            <a:custGeom>
              <a:avLst/>
              <a:gdLst/>
              <a:ahLst/>
              <a:rect l="l" t="t" r="r" b="b"/>
              <a:pathLst>
                <a:path w="20988" h="21126">
                  <a:moveTo>
                    <a:pt x="18982" y="11652"/>
                  </a:moveTo>
                  <a:cubicBezTo>
                    <a:pt x="18655" y="10894"/>
                    <a:pt x="17673" y="12410"/>
                    <a:pt x="18000" y="11273"/>
                  </a:cubicBezTo>
                  <a:cubicBezTo>
                    <a:pt x="18000" y="10894"/>
                    <a:pt x="18982" y="9000"/>
                    <a:pt x="19309" y="9000"/>
                  </a:cubicBezTo>
                  <a:cubicBezTo>
                    <a:pt x="19637" y="8621"/>
                    <a:pt x="19964" y="9379"/>
                    <a:pt x="20291" y="8621"/>
                  </a:cubicBezTo>
                  <a:cubicBezTo>
                    <a:pt x="20618" y="7484"/>
                    <a:pt x="20291" y="6726"/>
                    <a:pt x="20946" y="5589"/>
                  </a:cubicBezTo>
                  <a:cubicBezTo>
                    <a:pt x="21273" y="4831"/>
                    <a:pt x="19637" y="4831"/>
                    <a:pt x="19309" y="4831"/>
                  </a:cubicBezTo>
                  <a:cubicBezTo>
                    <a:pt x="18655" y="4831"/>
                    <a:pt x="18328" y="4452"/>
                    <a:pt x="18328" y="4073"/>
                  </a:cubicBezTo>
                  <a:cubicBezTo>
                    <a:pt x="18000" y="4073"/>
                    <a:pt x="17673" y="4073"/>
                    <a:pt x="17673" y="4073"/>
                  </a:cubicBezTo>
                  <a:cubicBezTo>
                    <a:pt x="17018" y="4073"/>
                    <a:pt x="15382" y="3316"/>
                    <a:pt x="15382" y="2558"/>
                  </a:cubicBezTo>
                  <a:cubicBezTo>
                    <a:pt x="15055" y="3694"/>
                    <a:pt x="14073" y="1800"/>
                    <a:pt x="13746" y="1800"/>
                  </a:cubicBezTo>
                  <a:cubicBezTo>
                    <a:pt x="13091" y="1421"/>
                    <a:pt x="12437" y="1042"/>
                    <a:pt x="12109" y="284"/>
                  </a:cubicBezTo>
                  <a:cubicBezTo>
                    <a:pt x="11782" y="-95"/>
                    <a:pt x="11128" y="-95"/>
                    <a:pt x="10800" y="284"/>
                  </a:cubicBezTo>
                  <a:cubicBezTo>
                    <a:pt x="10473" y="663"/>
                    <a:pt x="10146" y="1421"/>
                    <a:pt x="10473" y="1800"/>
                  </a:cubicBezTo>
                  <a:cubicBezTo>
                    <a:pt x="10473" y="2179"/>
                    <a:pt x="9818" y="2558"/>
                    <a:pt x="9491" y="2937"/>
                  </a:cubicBezTo>
                  <a:cubicBezTo>
                    <a:pt x="9164" y="2937"/>
                    <a:pt x="8509" y="2937"/>
                    <a:pt x="8182" y="3694"/>
                  </a:cubicBezTo>
                  <a:cubicBezTo>
                    <a:pt x="8182" y="4073"/>
                    <a:pt x="7855" y="4452"/>
                    <a:pt x="7528" y="4452"/>
                  </a:cubicBezTo>
                  <a:cubicBezTo>
                    <a:pt x="6873" y="4452"/>
                    <a:pt x="6546" y="4452"/>
                    <a:pt x="6218" y="4073"/>
                  </a:cubicBezTo>
                  <a:cubicBezTo>
                    <a:pt x="5564" y="4073"/>
                    <a:pt x="5564" y="3694"/>
                    <a:pt x="4909" y="3694"/>
                  </a:cubicBezTo>
                  <a:cubicBezTo>
                    <a:pt x="4255" y="3316"/>
                    <a:pt x="6218" y="5968"/>
                    <a:pt x="4909" y="5968"/>
                  </a:cubicBezTo>
                  <a:cubicBezTo>
                    <a:pt x="3928" y="5968"/>
                    <a:pt x="3273" y="6347"/>
                    <a:pt x="2618" y="5589"/>
                  </a:cubicBezTo>
                  <a:cubicBezTo>
                    <a:pt x="2291" y="5210"/>
                    <a:pt x="0" y="5968"/>
                    <a:pt x="0" y="6347"/>
                  </a:cubicBezTo>
                  <a:cubicBezTo>
                    <a:pt x="0" y="6726"/>
                    <a:pt x="982" y="6726"/>
                    <a:pt x="328" y="7105"/>
                  </a:cubicBezTo>
                  <a:cubicBezTo>
                    <a:pt x="-327" y="7484"/>
                    <a:pt x="655" y="7863"/>
                    <a:pt x="982" y="7863"/>
                  </a:cubicBezTo>
                  <a:cubicBezTo>
                    <a:pt x="1637" y="8242"/>
                    <a:pt x="4582" y="8621"/>
                    <a:pt x="4582" y="9379"/>
                  </a:cubicBezTo>
                  <a:cubicBezTo>
                    <a:pt x="4582" y="9758"/>
                    <a:pt x="3928" y="9758"/>
                    <a:pt x="4255" y="10516"/>
                  </a:cubicBezTo>
                  <a:cubicBezTo>
                    <a:pt x="4909" y="11273"/>
                    <a:pt x="5237" y="11273"/>
                    <a:pt x="5891" y="11652"/>
                  </a:cubicBezTo>
                  <a:cubicBezTo>
                    <a:pt x="6546" y="12031"/>
                    <a:pt x="5564" y="12789"/>
                    <a:pt x="6218" y="13168"/>
                  </a:cubicBezTo>
                  <a:cubicBezTo>
                    <a:pt x="6218" y="13168"/>
                    <a:pt x="6873" y="14305"/>
                    <a:pt x="6873" y="14305"/>
                  </a:cubicBezTo>
                  <a:cubicBezTo>
                    <a:pt x="6546" y="14684"/>
                    <a:pt x="6218" y="13547"/>
                    <a:pt x="5891" y="13547"/>
                  </a:cubicBezTo>
                  <a:cubicBezTo>
                    <a:pt x="5564" y="13547"/>
                    <a:pt x="5891" y="18094"/>
                    <a:pt x="4909" y="18473"/>
                  </a:cubicBezTo>
                  <a:cubicBezTo>
                    <a:pt x="5891" y="19231"/>
                    <a:pt x="7200" y="20368"/>
                    <a:pt x="8509" y="19989"/>
                  </a:cubicBezTo>
                  <a:cubicBezTo>
                    <a:pt x="8837" y="19989"/>
                    <a:pt x="9164" y="19610"/>
                    <a:pt x="9491" y="19989"/>
                  </a:cubicBezTo>
                  <a:cubicBezTo>
                    <a:pt x="9818" y="19989"/>
                    <a:pt x="10146" y="20368"/>
                    <a:pt x="10473" y="20747"/>
                  </a:cubicBezTo>
                  <a:cubicBezTo>
                    <a:pt x="11128" y="21126"/>
                    <a:pt x="13091" y="21505"/>
                    <a:pt x="12764" y="20368"/>
                  </a:cubicBezTo>
                  <a:cubicBezTo>
                    <a:pt x="12437" y="18473"/>
                    <a:pt x="14073" y="17716"/>
                    <a:pt x="15055" y="18094"/>
                  </a:cubicBezTo>
                  <a:cubicBezTo>
                    <a:pt x="16364" y="18473"/>
                    <a:pt x="17018" y="19610"/>
                    <a:pt x="18328" y="18852"/>
                  </a:cubicBezTo>
                  <a:cubicBezTo>
                    <a:pt x="18982" y="18473"/>
                    <a:pt x="19309" y="18094"/>
                    <a:pt x="19964" y="17716"/>
                  </a:cubicBezTo>
                  <a:cubicBezTo>
                    <a:pt x="19964" y="17716"/>
                    <a:pt x="20618" y="16958"/>
                    <a:pt x="19964" y="16958"/>
                  </a:cubicBezTo>
                  <a:cubicBezTo>
                    <a:pt x="19309" y="16579"/>
                    <a:pt x="18655" y="15063"/>
                    <a:pt x="18982" y="14305"/>
                  </a:cubicBezTo>
                  <a:cubicBezTo>
                    <a:pt x="19637" y="13547"/>
                    <a:pt x="19309" y="13547"/>
                    <a:pt x="18982" y="12789"/>
                  </a:cubicBezTo>
                  <a:cubicBezTo>
                    <a:pt x="18982" y="12410"/>
                    <a:pt x="18982" y="12031"/>
                    <a:pt x="18982" y="11652"/>
                  </a:cubicBezTo>
                  <a:cubicBezTo>
                    <a:pt x="18655" y="11273"/>
                    <a:pt x="18982" y="12031"/>
                    <a:pt x="18982" y="11652"/>
                  </a:cubicBezTo>
                  <a:close/>
                </a:path>
              </a:pathLst>
            </a:custGeom>
            <a:solidFill>
              <a:srgbClr val="dadbd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75" name="Shape 1289"/>
            <p:cNvSpPr/>
            <p:nvPr/>
          </p:nvSpPr>
          <p:spPr>
            <a:xfrm>
              <a:off x="8389080" y="3268800"/>
              <a:ext cx="84600" cy="44280"/>
            </a:xfrm>
            <a:custGeom>
              <a:avLst/>
              <a:gdLst/>
              <a:ahLst/>
              <a:rect l="l" t="t" r="r" b="b"/>
              <a:pathLst>
                <a:path w="20886" h="16193">
                  <a:moveTo>
                    <a:pt x="15977" y="640"/>
                  </a:moveTo>
                  <a:cubicBezTo>
                    <a:pt x="13031" y="-800"/>
                    <a:pt x="11068" y="640"/>
                    <a:pt x="8122" y="640"/>
                  </a:cubicBezTo>
                  <a:cubicBezTo>
                    <a:pt x="6159" y="640"/>
                    <a:pt x="8122" y="640"/>
                    <a:pt x="7141" y="2080"/>
                  </a:cubicBezTo>
                  <a:cubicBezTo>
                    <a:pt x="6159" y="2080"/>
                    <a:pt x="4195" y="2080"/>
                    <a:pt x="4195" y="2080"/>
                  </a:cubicBezTo>
                  <a:cubicBezTo>
                    <a:pt x="3213" y="2080"/>
                    <a:pt x="2231" y="6400"/>
                    <a:pt x="2231" y="6400"/>
                  </a:cubicBezTo>
                  <a:cubicBezTo>
                    <a:pt x="1250" y="7840"/>
                    <a:pt x="-714" y="13600"/>
                    <a:pt x="268" y="12160"/>
                  </a:cubicBezTo>
                  <a:cubicBezTo>
                    <a:pt x="2231" y="12160"/>
                    <a:pt x="2231" y="10720"/>
                    <a:pt x="3213" y="13600"/>
                  </a:cubicBezTo>
                  <a:cubicBezTo>
                    <a:pt x="3213" y="16480"/>
                    <a:pt x="4195" y="15040"/>
                    <a:pt x="6159" y="15040"/>
                  </a:cubicBezTo>
                  <a:cubicBezTo>
                    <a:pt x="7141" y="15040"/>
                    <a:pt x="9104" y="15040"/>
                    <a:pt x="10086" y="13600"/>
                  </a:cubicBezTo>
                  <a:cubicBezTo>
                    <a:pt x="11068" y="10720"/>
                    <a:pt x="12050" y="12160"/>
                    <a:pt x="12050" y="13600"/>
                  </a:cubicBezTo>
                  <a:cubicBezTo>
                    <a:pt x="14995" y="20800"/>
                    <a:pt x="14013" y="10720"/>
                    <a:pt x="14995" y="10720"/>
                  </a:cubicBezTo>
                  <a:cubicBezTo>
                    <a:pt x="15977" y="10720"/>
                    <a:pt x="15977" y="12160"/>
                    <a:pt x="16959" y="12160"/>
                  </a:cubicBezTo>
                  <a:cubicBezTo>
                    <a:pt x="17941" y="12160"/>
                    <a:pt x="18922" y="12160"/>
                    <a:pt x="19904" y="10720"/>
                  </a:cubicBezTo>
                  <a:cubicBezTo>
                    <a:pt x="20886" y="9280"/>
                    <a:pt x="20886" y="9280"/>
                    <a:pt x="20886" y="6400"/>
                  </a:cubicBezTo>
                  <a:cubicBezTo>
                    <a:pt x="20886" y="6400"/>
                    <a:pt x="17941" y="4960"/>
                    <a:pt x="16959" y="4960"/>
                  </a:cubicBezTo>
                  <a:cubicBezTo>
                    <a:pt x="15977" y="3520"/>
                    <a:pt x="15977" y="2080"/>
                    <a:pt x="15977" y="640"/>
                  </a:cubicBezTo>
                  <a:close/>
                </a:path>
              </a:pathLst>
            </a:custGeom>
            <a:solidFill>
              <a:srgbClr val="dadbdf"/>
            </a:solidFill>
            <a:ln w="4680">
              <a:solidFill>
                <a:srgbClr val="ffffff"/>
              </a:solidFill>
              <a:round/>
            </a:ln>
          </p:spPr>
          <p:style>
            <a:lnRef idx="0"/>
            <a:fillRef idx="0"/>
            <a:effectRef idx="0"/>
            <a:fontRef idx="minor"/>
          </p:style>
          <p:txBody>
            <a:bodyPr lIns="45360" rIns="45360" tIns="-2520" bIns="-2520" anchor="t">
              <a:noAutofit/>
            </a:bodyPr>
            <a:p>
              <a:endParaRPr b="0" lang="en-US" sz="1800" spc="-1" strike="noStrike">
                <a:solidFill>
                  <a:srgbClr val="000000"/>
                </a:solidFill>
                <a:latin typeface="Calibri"/>
              </a:endParaRPr>
            </a:p>
          </p:txBody>
        </p:sp>
        <p:sp>
          <p:nvSpPr>
            <p:cNvPr id="676" name="Shape 1290"/>
            <p:cNvSpPr/>
            <p:nvPr/>
          </p:nvSpPr>
          <p:spPr>
            <a:xfrm>
              <a:off x="8318880" y="3170880"/>
              <a:ext cx="72360" cy="51120"/>
            </a:xfrm>
            <a:custGeom>
              <a:avLst/>
              <a:gdLst/>
              <a:ahLst/>
              <a:rect l="l" t="t" r="r" b="b"/>
              <a:pathLst>
                <a:path w="19004" h="21600">
                  <a:moveTo>
                    <a:pt x="17763" y="14954"/>
                  </a:moveTo>
                  <a:cubicBezTo>
                    <a:pt x="16734" y="14954"/>
                    <a:pt x="19820" y="11631"/>
                    <a:pt x="18791" y="9969"/>
                  </a:cubicBezTo>
                  <a:cubicBezTo>
                    <a:pt x="18791" y="8308"/>
                    <a:pt x="17763" y="4985"/>
                    <a:pt x="16734" y="4985"/>
                  </a:cubicBezTo>
                  <a:cubicBezTo>
                    <a:pt x="15706" y="3323"/>
                    <a:pt x="13649" y="0"/>
                    <a:pt x="11591" y="0"/>
                  </a:cubicBezTo>
                  <a:cubicBezTo>
                    <a:pt x="9534" y="0"/>
                    <a:pt x="8506" y="1662"/>
                    <a:pt x="6449" y="1662"/>
                  </a:cubicBezTo>
                  <a:cubicBezTo>
                    <a:pt x="4391" y="1662"/>
                    <a:pt x="3363" y="0"/>
                    <a:pt x="1306" y="1662"/>
                  </a:cubicBezTo>
                  <a:cubicBezTo>
                    <a:pt x="-1780" y="4985"/>
                    <a:pt x="1306" y="8308"/>
                    <a:pt x="3363" y="9969"/>
                  </a:cubicBezTo>
                  <a:cubicBezTo>
                    <a:pt x="5420" y="11631"/>
                    <a:pt x="6449" y="11631"/>
                    <a:pt x="8506" y="14954"/>
                  </a:cubicBezTo>
                  <a:cubicBezTo>
                    <a:pt x="8506" y="16615"/>
                    <a:pt x="10563" y="16615"/>
                    <a:pt x="10563" y="14954"/>
                  </a:cubicBezTo>
                  <a:cubicBezTo>
                    <a:pt x="10563" y="16615"/>
                    <a:pt x="15706" y="21600"/>
                    <a:pt x="16734" y="21600"/>
                  </a:cubicBezTo>
                  <a:cubicBezTo>
                    <a:pt x="16734" y="18277"/>
                    <a:pt x="16734" y="16615"/>
                    <a:pt x="17763" y="14954"/>
                  </a:cubicBezTo>
                  <a:cubicBezTo>
                    <a:pt x="17763" y="14954"/>
                    <a:pt x="15706" y="16615"/>
                    <a:pt x="17763" y="14954"/>
                  </a:cubicBezTo>
                  <a:close/>
                </a:path>
              </a:pathLst>
            </a:custGeom>
            <a:solidFill>
              <a:srgbClr val="dadbdf"/>
            </a:solidFill>
            <a:ln w="4680">
              <a:solidFill>
                <a:srgbClr val="ffffff"/>
              </a:solidFill>
              <a:round/>
            </a:ln>
          </p:spPr>
          <p:style>
            <a:lnRef idx="0"/>
            <a:fillRef idx="0"/>
            <a:effectRef idx="0"/>
            <a:fontRef idx="minor"/>
          </p:style>
          <p:txBody>
            <a:bodyPr lIns="45360" rIns="45360" tIns="4320" bIns="4320" anchor="t">
              <a:noAutofit/>
            </a:bodyPr>
            <a:p>
              <a:endParaRPr b="0" lang="en-US" sz="1800" spc="-1" strike="noStrike">
                <a:solidFill>
                  <a:srgbClr val="000000"/>
                </a:solidFill>
                <a:latin typeface="Calibri"/>
              </a:endParaRPr>
            </a:p>
          </p:txBody>
        </p:sp>
        <p:sp>
          <p:nvSpPr>
            <p:cNvPr id="677" name="Shape 1291"/>
            <p:cNvSpPr/>
            <p:nvPr/>
          </p:nvSpPr>
          <p:spPr>
            <a:xfrm>
              <a:off x="8383320" y="3207240"/>
              <a:ext cx="10800" cy="14760"/>
            </a:xfrm>
            <a:custGeom>
              <a:avLst/>
              <a:gdLst/>
              <a:ahLst/>
              <a:rect l="l" t="t" r="r" b="b"/>
              <a:pathLst>
                <a:path w="16200" h="21600">
                  <a:moveTo>
                    <a:pt x="5400" y="0"/>
                  </a:moveTo>
                  <a:cubicBezTo>
                    <a:pt x="0" y="0"/>
                    <a:pt x="0" y="10800"/>
                    <a:pt x="0" y="16200"/>
                  </a:cubicBezTo>
                  <a:cubicBezTo>
                    <a:pt x="0" y="21600"/>
                    <a:pt x="10800" y="21600"/>
                    <a:pt x="16200" y="21600"/>
                  </a:cubicBezTo>
                  <a:cubicBezTo>
                    <a:pt x="16200" y="10800"/>
                    <a:pt x="16200" y="5400"/>
                    <a:pt x="5400" y="0"/>
                  </a:cubicBezTo>
                  <a:cubicBezTo>
                    <a:pt x="-5400" y="5400"/>
                    <a:pt x="10800" y="5400"/>
                    <a:pt x="5400" y="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678" name="Shape 1292"/>
            <p:cNvSpPr/>
            <p:nvPr/>
          </p:nvSpPr>
          <p:spPr>
            <a:xfrm>
              <a:off x="8331120" y="3115440"/>
              <a:ext cx="79560" cy="71280"/>
            </a:xfrm>
            <a:custGeom>
              <a:avLst/>
              <a:gdLst/>
              <a:ahLst/>
              <a:rect l="l" t="t" r="r" b="b"/>
              <a:pathLst>
                <a:path w="21600" h="21600">
                  <a:moveTo>
                    <a:pt x="5400" y="16800"/>
                  </a:moveTo>
                  <a:cubicBezTo>
                    <a:pt x="7560" y="14400"/>
                    <a:pt x="14040" y="19200"/>
                    <a:pt x="15120" y="21600"/>
                  </a:cubicBezTo>
                  <a:cubicBezTo>
                    <a:pt x="16200" y="19200"/>
                    <a:pt x="16200" y="16800"/>
                    <a:pt x="15120" y="15600"/>
                  </a:cubicBezTo>
                  <a:cubicBezTo>
                    <a:pt x="14040" y="10800"/>
                    <a:pt x="16200" y="13200"/>
                    <a:pt x="18360" y="13200"/>
                  </a:cubicBezTo>
                  <a:cubicBezTo>
                    <a:pt x="20520" y="12000"/>
                    <a:pt x="20520" y="9600"/>
                    <a:pt x="19440" y="7200"/>
                  </a:cubicBezTo>
                  <a:cubicBezTo>
                    <a:pt x="19440" y="7200"/>
                    <a:pt x="21600" y="6000"/>
                    <a:pt x="21600" y="6000"/>
                  </a:cubicBezTo>
                  <a:cubicBezTo>
                    <a:pt x="21600" y="3600"/>
                    <a:pt x="21600" y="2400"/>
                    <a:pt x="20520" y="0"/>
                  </a:cubicBezTo>
                  <a:cubicBezTo>
                    <a:pt x="20520" y="0"/>
                    <a:pt x="16200" y="1200"/>
                    <a:pt x="16200" y="1200"/>
                  </a:cubicBezTo>
                  <a:cubicBezTo>
                    <a:pt x="14040" y="1200"/>
                    <a:pt x="12960" y="1200"/>
                    <a:pt x="10800" y="3600"/>
                  </a:cubicBezTo>
                  <a:cubicBezTo>
                    <a:pt x="10800" y="3600"/>
                    <a:pt x="14040" y="6000"/>
                    <a:pt x="12960" y="7200"/>
                  </a:cubicBezTo>
                  <a:cubicBezTo>
                    <a:pt x="10800" y="9600"/>
                    <a:pt x="9720" y="4800"/>
                    <a:pt x="10800" y="4800"/>
                  </a:cubicBezTo>
                  <a:cubicBezTo>
                    <a:pt x="10800" y="4800"/>
                    <a:pt x="7560" y="6000"/>
                    <a:pt x="7560" y="7200"/>
                  </a:cubicBezTo>
                  <a:cubicBezTo>
                    <a:pt x="7560" y="8400"/>
                    <a:pt x="6480" y="8400"/>
                    <a:pt x="5400" y="9600"/>
                  </a:cubicBezTo>
                  <a:cubicBezTo>
                    <a:pt x="5400" y="10800"/>
                    <a:pt x="3240" y="14400"/>
                    <a:pt x="5400" y="14400"/>
                  </a:cubicBezTo>
                  <a:cubicBezTo>
                    <a:pt x="5400" y="14400"/>
                    <a:pt x="4320" y="14400"/>
                    <a:pt x="3240" y="14400"/>
                  </a:cubicBezTo>
                  <a:cubicBezTo>
                    <a:pt x="3240" y="14400"/>
                    <a:pt x="4320" y="14400"/>
                    <a:pt x="4320" y="14400"/>
                  </a:cubicBezTo>
                  <a:cubicBezTo>
                    <a:pt x="4320" y="14400"/>
                    <a:pt x="3240" y="14400"/>
                    <a:pt x="3240" y="14400"/>
                  </a:cubicBezTo>
                  <a:cubicBezTo>
                    <a:pt x="2160" y="15600"/>
                    <a:pt x="4320" y="16800"/>
                    <a:pt x="4320" y="16800"/>
                  </a:cubicBezTo>
                  <a:cubicBezTo>
                    <a:pt x="4320" y="15600"/>
                    <a:pt x="2160" y="15600"/>
                    <a:pt x="2160" y="15600"/>
                  </a:cubicBezTo>
                  <a:cubicBezTo>
                    <a:pt x="2160" y="15600"/>
                    <a:pt x="3240" y="16800"/>
                    <a:pt x="3240" y="16800"/>
                  </a:cubicBezTo>
                  <a:cubicBezTo>
                    <a:pt x="3240" y="16800"/>
                    <a:pt x="2160" y="15600"/>
                    <a:pt x="1080" y="16800"/>
                  </a:cubicBezTo>
                  <a:cubicBezTo>
                    <a:pt x="1080" y="16800"/>
                    <a:pt x="2160" y="18000"/>
                    <a:pt x="2160" y="18000"/>
                  </a:cubicBezTo>
                  <a:cubicBezTo>
                    <a:pt x="2160" y="16800"/>
                    <a:pt x="1080" y="16800"/>
                    <a:pt x="0" y="18000"/>
                  </a:cubicBezTo>
                  <a:cubicBezTo>
                    <a:pt x="1080" y="18000"/>
                    <a:pt x="4320" y="19200"/>
                    <a:pt x="5400" y="16800"/>
                  </a:cubicBezTo>
                  <a:cubicBezTo>
                    <a:pt x="5400" y="16800"/>
                    <a:pt x="5400" y="18000"/>
                    <a:pt x="5400" y="16800"/>
                  </a:cubicBezTo>
                  <a:close/>
                </a:path>
              </a:pathLst>
            </a:custGeom>
            <a:solidFill>
              <a:srgbClr val="dadbdf"/>
            </a:solidFill>
            <a:ln w="4680">
              <a:solidFill>
                <a:srgbClr val="ffffff"/>
              </a:solidFill>
              <a:round/>
            </a:ln>
          </p:spPr>
          <p:style>
            <a:lnRef idx="0"/>
            <a:fillRef idx="0"/>
            <a:effectRef idx="0"/>
            <a:fontRef idx="minor"/>
          </p:style>
          <p:txBody>
            <a:bodyPr lIns="45360" rIns="45360" tIns="24480" bIns="24480" anchor="t">
              <a:noAutofit/>
            </a:bodyPr>
            <a:p>
              <a:endParaRPr b="0" lang="en-US" sz="1800" spc="-1" strike="noStrike">
                <a:solidFill>
                  <a:srgbClr val="000000"/>
                </a:solidFill>
                <a:latin typeface="Calibri"/>
              </a:endParaRPr>
            </a:p>
          </p:txBody>
        </p:sp>
        <p:sp>
          <p:nvSpPr>
            <p:cNvPr id="679" name="Shape 1293"/>
            <p:cNvSpPr/>
            <p:nvPr/>
          </p:nvSpPr>
          <p:spPr>
            <a:xfrm>
              <a:off x="8426520" y="2999160"/>
              <a:ext cx="59040" cy="82440"/>
            </a:xfrm>
            <a:custGeom>
              <a:avLst/>
              <a:gdLst/>
              <a:ahLst/>
              <a:rect l="l" t="t" r="r" b="b"/>
              <a:pathLst>
                <a:path w="21600" h="20318">
                  <a:moveTo>
                    <a:pt x="14400" y="20073"/>
                  </a:moveTo>
                  <a:cubicBezTo>
                    <a:pt x="14400" y="19091"/>
                    <a:pt x="8640" y="17128"/>
                    <a:pt x="11520" y="16146"/>
                  </a:cubicBezTo>
                  <a:cubicBezTo>
                    <a:pt x="12960" y="15164"/>
                    <a:pt x="12960" y="12219"/>
                    <a:pt x="15840" y="11237"/>
                  </a:cubicBezTo>
                  <a:cubicBezTo>
                    <a:pt x="15840" y="11237"/>
                    <a:pt x="15840" y="12219"/>
                    <a:pt x="15840" y="12219"/>
                  </a:cubicBezTo>
                  <a:cubicBezTo>
                    <a:pt x="17280" y="12219"/>
                    <a:pt x="21600" y="10255"/>
                    <a:pt x="21600" y="9273"/>
                  </a:cubicBezTo>
                  <a:cubicBezTo>
                    <a:pt x="21600" y="8291"/>
                    <a:pt x="15840" y="8291"/>
                    <a:pt x="15840" y="6328"/>
                  </a:cubicBezTo>
                  <a:cubicBezTo>
                    <a:pt x="15840" y="5346"/>
                    <a:pt x="14400" y="5346"/>
                    <a:pt x="14400" y="4364"/>
                  </a:cubicBezTo>
                  <a:cubicBezTo>
                    <a:pt x="14400" y="3382"/>
                    <a:pt x="17280" y="4364"/>
                    <a:pt x="17280" y="3382"/>
                  </a:cubicBezTo>
                  <a:cubicBezTo>
                    <a:pt x="17280" y="2400"/>
                    <a:pt x="17280" y="1419"/>
                    <a:pt x="17280" y="437"/>
                  </a:cubicBezTo>
                  <a:cubicBezTo>
                    <a:pt x="17280" y="-545"/>
                    <a:pt x="17280" y="437"/>
                    <a:pt x="15840" y="437"/>
                  </a:cubicBezTo>
                  <a:cubicBezTo>
                    <a:pt x="11520" y="437"/>
                    <a:pt x="12960" y="1419"/>
                    <a:pt x="10080" y="3382"/>
                  </a:cubicBezTo>
                  <a:cubicBezTo>
                    <a:pt x="8640" y="4364"/>
                    <a:pt x="4320" y="2400"/>
                    <a:pt x="2880" y="4364"/>
                  </a:cubicBezTo>
                  <a:cubicBezTo>
                    <a:pt x="0" y="6328"/>
                    <a:pt x="4320" y="6328"/>
                    <a:pt x="5760" y="5346"/>
                  </a:cubicBezTo>
                  <a:cubicBezTo>
                    <a:pt x="7200" y="4364"/>
                    <a:pt x="10080" y="5346"/>
                    <a:pt x="8640" y="7310"/>
                  </a:cubicBezTo>
                  <a:cubicBezTo>
                    <a:pt x="8640" y="6328"/>
                    <a:pt x="5760" y="5346"/>
                    <a:pt x="5760" y="7310"/>
                  </a:cubicBezTo>
                  <a:cubicBezTo>
                    <a:pt x="4320" y="7310"/>
                    <a:pt x="2880" y="8291"/>
                    <a:pt x="2880" y="7310"/>
                  </a:cubicBezTo>
                  <a:cubicBezTo>
                    <a:pt x="2880" y="8291"/>
                    <a:pt x="0" y="6328"/>
                    <a:pt x="0" y="8291"/>
                  </a:cubicBezTo>
                  <a:cubicBezTo>
                    <a:pt x="0" y="10255"/>
                    <a:pt x="0" y="11237"/>
                    <a:pt x="0" y="13200"/>
                  </a:cubicBezTo>
                  <a:cubicBezTo>
                    <a:pt x="1440" y="14182"/>
                    <a:pt x="2880" y="14182"/>
                    <a:pt x="2880" y="15164"/>
                  </a:cubicBezTo>
                  <a:cubicBezTo>
                    <a:pt x="4320" y="17128"/>
                    <a:pt x="1440" y="18110"/>
                    <a:pt x="2880" y="19091"/>
                  </a:cubicBezTo>
                  <a:cubicBezTo>
                    <a:pt x="5760" y="21055"/>
                    <a:pt x="11520" y="20073"/>
                    <a:pt x="14400" y="20073"/>
                  </a:cubicBezTo>
                  <a:close/>
                </a:path>
              </a:pathLst>
            </a:custGeom>
            <a:solidFill>
              <a:srgbClr val="dadbdf"/>
            </a:solidFill>
            <a:ln w="4680">
              <a:solidFill>
                <a:srgbClr val="ffffff"/>
              </a:solidFill>
              <a:round/>
            </a:ln>
          </p:spPr>
          <p:style>
            <a:lnRef idx="0"/>
            <a:fillRef idx="0"/>
            <a:effectRef idx="0"/>
            <a:fontRef idx="minor"/>
          </p:style>
          <p:txBody>
            <a:bodyPr lIns="45360" rIns="45360" tIns="35640" bIns="35640" anchor="t">
              <a:noAutofit/>
            </a:bodyPr>
            <a:p>
              <a:endParaRPr b="0" lang="en-US" sz="1800" spc="-1" strike="noStrike">
                <a:solidFill>
                  <a:srgbClr val="000000"/>
                </a:solidFill>
                <a:latin typeface="Calibri"/>
              </a:endParaRPr>
            </a:p>
          </p:txBody>
        </p:sp>
        <p:sp>
          <p:nvSpPr>
            <p:cNvPr id="680" name="Shape 1294"/>
            <p:cNvSpPr/>
            <p:nvPr/>
          </p:nvSpPr>
          <p:spPr>
            <a:xfrm>
              <a:off x="8386560" y="3076560"/>
              <a:ext cx="172440" cy="201600"/>
            </a:xfrm>
            <a:custGeom>
              <a:avLst/>
              <a:gdLst/>
              <a:ahLst/>
              <a:rect l="l" t="t" r="r" b="b"/>
              <a:pathLst>
                <a:path w="21099" h="21269">
                  <a:moveTo>
                    <a:pt x="20739" y="9969"/>
                  </a:moveTo>
                  <a:cubicBezTo>
                    <a:pt x="20259" y="9138"/>
                    <a:pt x="20259" y="8308"/>
                    <a:pt x="20259" y="7477"/>
                  </a:cubicBezTo>
                  <a:cubicBezTo>
                    <a:pt x="19779" y="6646"/>
                    <a:pt x="19299" y="6231"/>
                    <a:pt x="19779" y="4985"/>
                  </a:cubicBezTo>
                  <a:cubicBezTo>
                    <a:pt x="20259" y="4154"/>
                    <a:pt x="19779" y="3323"/>
                    <a:pt x="19299" y="2908"/>
                  </a:cubicBezTo>
                  <a:cubicBezTo>
                    <a:pt x="18819" y="2492"/>
                    <a:pt x="17859" y="2077"/>
                    <a:pt x="17859" y="1662"/>
                  </a:cubicBezTo>
                  <a:cubicBezTo>
                    <a:pt x="17859" y="1662"/>
                    <a:pt x="18339" y="1246"/>
                    <a:pt x="17859" y="831"/>
                  </a:cubicBezTo>
                  <a:cubicBezTo>
                    <a:pt x="17379" y="831"/>
                    <a:pt x="17379" y="2077"/>
                    <a:pt x="17379" y="2077"/>
                  </a:cubicBezTo>
                  <a:cubicBezTo>
                    <a:pt x="16419" y="2077"/>
                    <a:pt x="16419" y="1662"/>
                    <a:pt x="15459" y="1662"/>
                  </a:cubicBezTo>
                  <a:cubicBezTo>
                    <a:pt x="14499" y="2077"/>
                    <a:pt x="13059" y="2908"/>
                    <a:pt x="11619" y="2908"/>
                  </a:cubicBezTo>
                  <a:cubicBezTo>
                    <a:pt x="11139" y="2492"/>
                    <a:pt x="12099" y="2077"/>
                    <a:pt x="12099" y="1662"/>
                  </a:cubicBezTo>
                  <a:cubicBezTo>
                    <a:pt x="11139" y="1662"/>
                    <a:pt x="10659" y="2077"/>
                    <a:pt x="9699" y="1662"/>
                  </a:cubicBezTo>
                  <a:cubicBezTo>
                    <a:pt x="9219" y="1246"/>
                    <a:pt x="10659" y="415"/>
                    <a:pt x="9219" y="415"/>
                  </a:cubicBezTo>
                  <a:cubicBezTo>
                    <a:pt x="8259" y="415"/>
                    <a:pt x="7299" y="415"/>
                    <a:pt x="5859" y="0"/>
                  </a:cubicBezTo>
                  <a:cubicBezTo>
                    <a:pt x="6339" y="415"/>
                    <a:pt x="6819" y="415"/>
                    <a:pt x="6819" y="1246"/>
                  </a:cubicBezTo>
                  <a:cubicBezTo>
                    <a:pt x="6339" y="1662"/>
                    <a:pt x="6339" y="1662"/>
                    <a:pt x="6819" y="2492"/>
                  </a:cubicBezTo>
                  <a:cubicBezTo>
                    <a:pt x="6819" y="3323"/>
                    <a:pt x="6819" y="2908"/>
                    <a:pt x="7779" y="2908"/>
                  </a:cubicBezTo>
                  <a:cubicBezTo>
                    <a:pt x="8259" y="2908"/>
                    <a:pt x="8739" y="3323"/>
                    <a:pt x="9219" y="3738"/>
                  </a:cubicBezTo>
                  <a:cubicBezTo>
                    <a:pt x="8739" y="3323"/>
                    <a:pt x="7299" y="3323"/>
                    <a:pt x="6819" y="3323"/>
                  </a:cubicBezTo>
                  <a:cubicBezTo>
                    <a:pt x="6819" y="3323"/>
                    <a:pt x="6339" y="3323"/>
                    <a:pt x="6339" y="3323"/>
                  </a:cubicBezTo>
                  <a:cubicBezTo>
                    <a:pt x="5859" y="3738"/>
                    <a:pt x="6339" y="4154"/>
                    <a:pt x="5859" y="4154"/>
                  </a:cubicBezTo>
                  <a:cubicBezTo>
                    <a:pt x="4899" y="4569"/>
                    <a:pt x="2979" y="2492"/>
                    <a:pt x="2499" y="4154"/>
                  </a:cubicBezTo>
                  <a:cubicBezTo>
                    <a:pt x="2979" y="4985"/>
                    <a:pt x="3459" y="5815"/>
                    <a:pt x="2499" y="6231"/>
                  </a:cubicBezTo>
                  <a:cubicBezTo>
                    <a:pt x="2019" y="7062"/>
                    <a:pt x="2019" y="6231"/>
                    <a:pt x="2499" y="7062"/>
                  </a:cubicBezTo>
                  <a:cubicBezTo>
                    <a:pt x="2499" y="9138"/>
                    <a:pt x="-381" y="8308"/>
                    <a:pt x="99" y="9138"/>
                  </a:cubicBezTo>
                  <a:cubicBezTo>
                    <a:pt x="99" y="9554"/>
                    <a:pt x="579" y="9969"/>
                    <a:pt x="579" y="10800"/>
                  </a:cubicBezTo>
                  <a:cubicBezTo>
                    <a:pt x="579" y="11631"/>
                    <a:pt x="99" y="11631"/>
                    <a:pt x="579" y="12462"/>
                  </a:cubicBezTo>
                  <a:cubicBezTo>
                    <a:pt x="1059" y="12877"/>
                    <a:pt x="-381" y="13708"/>
                    <a:pt x="99" y="13708"/>
                  </a:cubicBezTo>
                  <a:cubicBezTo>
                    <a:pt x="1059" y="14123"/>
                    <a:pt x="579" y="14954"/>
                    <a:pt x="1059" y="15369"/>
                  </a:cubicBezTo>
                  <a:cubicBezTo>
                    <a:pt x="1539" y="16615"/>
                    <a:pt x="3459" y="16200"/>
                    <a:pt x="4899" y="16615"/>
                  </a:cubicBezTo>
                  <a:cubicBezTo>
                    <a:pt x="4899" y="16615"/>
                    <a:pt x="3939" y="19938"/>
                    <a:pt x="3939" y="20354"/>
                  </a:cubicBezTo>
                  <a:cubicBezTo>
                    <a:pt x="5859" y="20354"/>
                    <a:pt x="6819" y="19938"/>
                    <a:pt x="8739" y="20354"/>
                  </a:cubicBezTo>
                  <a:cubicBezTo>
                    <a:pt x="8739" y="20354"/>
                    <a:pt x="10659" y="21600"/>
                    <a:pt x="10659" y="21185"/>
                  </a:cubicBezTo>
                  <a:cubicBezTo>
                    <a:pt x="11139" y="20354"/>
                    <a:pt x="11619" y="20354"/>
                    <a:pt x="12099" y="20769"/>
                  </a:cubicBezTo>
                  <a:cubicBezTo>
                    <a:pt x="12579" y="21185"/>
                    <a:pt x="14979" y="19938"/>
                    <a:pt x="15459" y="20354"/>
                  </a:cubicBezTo>
                  <a:cubicBezTo>
                    <a:pt x="15459" y="20354"/>
                    <a:pt x="17379" y="20769"/>
                    <a:pt x="16899" y="20354"/>
                  </a:cubicBezTo>
                  <a:cubicBezTo>
                    <a:pt x="16419" y="19108"/>
                    <a:pt x="15939" y="19108"/>
                    <a:pt x="16899" y="18692"/>
                  </a:cubicBezTo>
                  <a:cubicBezTo>
                    <a:pt x="17859" y="17862"/>
                    <a:pt x="17859" y="17862"/>
                    <a:pt x="18819" y="17862"/>
                  </a:cubicBezTo>
                  <a:cubicBezTo>
                    <a:pt x="19299" y="17446"/>
                    <a:pt x="16899" y="15785"/>
                    <a:pt x="16419" y="15369"/>
                  </a:cubicBezTo>
                  <a:cubicBezTo>
                    <a:pt x="15939" y="15369"/>
                    <a:pt x="14499" y="13292"/>
                    <a:pt x="14979" y="12877"/>
                  </a:cubicBezTo>
                  <a:cubicBezTo>
                    <a:pt x="16899" y="12462"/>
                    <a:pt x="17859" y="12046"/>
                    <a:pt x="19299" y="10800"/>
                  </a:cubicBezTo>
                  <a:cubicBezTo>
                    <a:pt x="19779" y="10385"/>
                    <a:pt x="20259" y="12046"/>
                    <a:pt x="20739" y="11631"/>
                  </a:cubicBezTo>
                  <a:cubicBezTo>
                    <a:pt x="21219" y="11215"/>
                    <a:pt x="21219" y="10385"/>
                    <a:pt x="20739" y="9969"/>
                  </a:cubicBezTo>
                  <a:cubicBezTo>
                    <a:pt x="20739" y="9554"/>
                    <a:pt x="20739" y="9969"/>
                    <a:pt x="20739" y="996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81" name="Shape 1295"/>
            <p:cNvSpPr/>
            <p:nvPr/>
          </p:nvSpPr>
          <p:spPr>
            <a:xfrm>
              <a:off x="8695080" y="3143160"/>
              <a:ext cx="348480" cy="200880"/>
            </a:xfrm>
            <a:custGeom>
              <a:avLst/>
              <a:gdLst/>
              <a:ahLst/>
              <a:rect l="l" t="t" r="r" b="b"/>
              <a:pathLst>
                <a:path w="21407" h="20762">
                  <a:moveTo>
                    <a:pt x="0" y="10643"/>
                  </a:moveTo>
                  <a:cubicBezTo>
                    <a:pt x="0" y="11865"/>
                    <a:pt x="1699" y="11865"/>
                    <a:pt x="2184" y="11865"/>
                  </a:cubicBezTo>
                  <a:cubicBezTo>
                    <a:pt x="2670" y="11865"/>
                    <a:pt x="3155" y="12681"/>
                    <a:pt x="3883" y="12273"/>
                  </a:cubicBezTo>
                  <a:cubicBezTo>
                    <a:pt x="4126" y="11458"/>
                    <a:pt x="4854" y="11050"/>
                    <a:pt x="5339" y="11050"/>
                  </a:cubicBezTo>
                  <a:cubicBezTo>
                    <a:pt x="6067" y="10235"/>
                    <a:pt x="7524" y="11050"/>
                    <a:pt x="8009" y="11865"/>
                  </a:cubicBezTo>
                  <a:cubicBezTo>
                    <a:pt x="8737" y="13496"/>
                    <a:pt x="8980" y="15126"/>
                    <a:pt x="9708" y="16348"/>
                  </a:cubicBezTo>
                  <a:cubicBezTo>
                    <a:pt x="10193" y="15941"/>
                    <a:pt x="10193" y="15533"/>
                    <a:pt x="10679" y="15126"/>
                  </a:cubicBezTo>
                  <a:cubicBezTo>
                    <a:pt x="11164" y="15126"/>
                    <a:pt x="11164" y="15941"/>
                    <a:pt x="11407" y="16348"/>
                  </a:cubicBezTo>
                  <a:cubicBezTo>
                    <a:pt x="11649" y="16756"/>
                    <a:pt x="13834" y="17164"/>
                    <a:pt x="13834" y="16756"/>
                  </a:cubicBezTo>
                  <a:cubicBezTo>
                    <a:pt x="13834" y="17164"/>
                    <a:pt x="12378" y="17979"/>
                    <a:pt x="12378" y="18386"/>
                  </a:cubicBezTo>
                  <a:cubicBezTo>
                    <a:pt x="12620" y="18794"/>
                    <a:pt x="13591" y="18386"/>
                    <a:pt x="13348" y="19609"/>
                  </a:cubicBezTo>
                  <a:cubicBezTo>
                    <a:pt x="13106" y="20424"/>
                    <a:pt x="13834" y="21239"/>
                    <a:pt x="14319" y="20424"/>
                  </a:cubicBezTo>
                  <a:cubicBezTo>
                    <a:pt x="14804" y="20016"/>
                    <a:pt x="15533" y="19201"/>
                    <a:pt x="16261" y="19201"/>
                  </a:cubicBezTo>
                  <a:cubicBezTo>
                    <a:pt x="16989" y="19201"/>
                    <a:pt x="17231" y="19201"/>
                    <a:pt x="17474" y="18386"/>
                  </a:cubicBezTo>
                  <a:cubicBezTo>
                    <a:pt x="17474" y="18386"/>
                    <a:pt x="16746" y="18386"/>
                    <a:pt x="16503" y="18386"/>
                  </a:cubicBezTo>
                  <a:cubicBezTo>
                    <a:pt x="16018" y="18386"/>
                    <a:pt x="15533" y="18794"/>
                    <a:pt x="15290" y="17571"/>
                  </a:cubicBezTo>
                  <a:cubicBezTo>
                    <a:pt x="14562" y="15941"/>
                    <a:pt x="16989" y="15126"/>
                    <a:pt x="17474" y="15126"/>
                  </a:cubicBezTo>
                  <a:cubicBezTo>
                    <a:pt x="17960" y="14718"/>
                    <a:pt x="18445" y="14311"/>
                    <a:pt x="18930" y="13903"/>
                  </a:cubicBezTo>
                  <a:cubicBezTo>
                    <a:pt x="19173" y="13088"/>
                    <a:pt x="19658" y="12273"/>
                    <a:pt x="20387" y="12273"/>
                  </a:cubicBezTo>
                  <a:cubicBezTo>
                    <a:pt x="20629" y="12273"/>
                    <a:pt x="21115" y="12273"/>
                    <a:pt x="21115" y="11050"/>
                  </a:cubicBezTo>
                  <a:cubicBezTo>
                    <a:pt x="21115" y="10643"/>
                    <a:pt x="20872" y="10643"/>
                    <a:pt x="20872" y="10235"/>
                  </a:cubicBezTo>
                  <a:cubicBezTo>
                    <a:pt x="20872" y="9828"/>
                    <a:pt x="21357" y="9828"/>
                    <a:pt x="21357" y="9828"/>
                  </a:cubicBezTo>
                  <a:cubicBezTo>
                    <a:pt x="21357" y="9828"/>
                    <a:pt x="20872" y="9420"/>
                    <a:pt x="20872" y="9420"/>
                  </a:cubicBezTo>
                  <a:cubicBezTo>
                    <a:pt x="20872" y="9013"/>
                    <a:pt x="21600" y="9013"/>
                    <a:pt x="21357" y="8197"/>
                  </a:cubicBezTo>
                  <a:cubicBezTo>
                    <a:pt x="21357" y="8197"/>
                    <a:pt x="20872" y="7790"/>
                    <a:pt x="20629" y="7382"/>
                  </a:cubicBezTo>
                  <a:cubicBezTo>
                    <a:pt x="20387" y="6975"/>
                    <a:pt x="20144" y="7790"/>
                    <a:pt x="19901" y="6975"/>
                  </a:cubicBezTo>
                  <a:cubicBezTo>
                    <a:pt x="19658" y="6567"/>
                    <a:pt x="19416" y="6567"/>
                    <a:pt x="18930" y="6975"/>
                  </a:cubicBezTo>
                  <a:cubicBezTo>
                    <a:pt x="18688" y="6975"/>
                    <a:pt x="18445" y="5752"/>
                    <a:pt x="18202" y="5752"/>
                  </a:cubicBezTo>
                  <a:cubicBezTo>
                    <a:pt x="17960" y="5345"/>
                    <a:pt x="17717" y="6160"/>
                    <a:pt x="17474" y="6567"/>
                  </a:cubicBezTo>
                  <a:cubicBezTo>
                    <a:pt x="17231" y="6567"/>
                    <a:pt x="16989" y="5345"/>
                    <a:pt x="16746" y="5345"/>
                  </a:cubicBezTo>
                  <a:cubicBezTo>
                    <a:pt x="16503" y="5345"/>
                    <a:pt x="15775" y="5752"/>
                    <a:pt x="15775" y="5345"/>
                  </a:cubicBezTo>
                  <a:cubicBezTo>
                    <a:pt x="15775" y="4937"/>
                    <a:pt x="15775" y="4122"/>
                    <a:pt x="15533" y="3714"/>
                  </a:cubicBezTo>
                  <a:cubicBezTo>
                    <a:pt x="15290" y="3307"/>
                    <a:pt x="14804" y="3714"/>
                    <a:pt x="14562" y="3307"/>
                  </a:cubicBezTo>
                  <a:cubicBezTo>
                    <a:pt x="14319" y="2899"/>
                    <a:pt x="14076" y="2084"/>
                    <a:pt x="14562" y="1677"/>
                  </a:cubicBezTo>
                  <a:cubicBezTo>
                    <a:pt x="14804" y="1677"/>
                    <a:pt x="14319" y="454"/>
                    <a:pt x="14076" y="454"/>
                  </a:cubicBezTo>
                  <a:cubicBezTo>
                    <a:pt x="13834" y="47"/>
                    <a:pt x="13106" y="454"/>
                    <a:pt x="12863" y="47"/>
                  </a:cubicBezTo>
                  <a:cubicBezTo>
                    <a:pt x="12135" y="-361"/>
                    <a:pt x="12135" y="2084"/>
                    <a:pt x="11407" y="454"/>
                  </a:cubicBezTo>
                  <a:cubicBezTo>
                    <a:pt x="11164" y="454"/>
                    <a:pt x="10679" y="862"/>
                    <a:pt x="10436" y="862"/>
                  </a:cubicBezTo>
                  <a:cubicBezTo>
                    <a:pt x="9951" y="1269"/>
                    <a:pt x="10193" y="3307"/>
                    <a:pt x="9951" y="3307"/>
                  </a:cubicBezTo>
                  <a:cubicBezTo>
                    <a:pt x="9708" y="3307"/>
                    <a:pt x="9465" y="2492"/>
                    <a:pt x="9222" y="2492"/>
                  </a:cubicBezTo>
                  <a:cubicBezTo>
                    <a:pt x="9222" y="2492"/>
                    <a:pt x="8980" y="2899"/>
                    <a:pt x="8737" y="2899"/>
                  </a:cubicBezTo>
                  <a:cubicBezTo>
                    <a:pt x="8494" y="2899"/>
                    <a:pt x="8252" y="2492"/>
                    <a:pt x="8252" y="2084"/>
                  </a:cubicBezTo>
                  <a:cubicBezTo>
                    <a:pt x="8252" y="1677"/>
                    <a:pt x="7766" y="2492"/>
                    <a:pt x="7524" y="2492"/>
                  </a:cubicBezTo>
                  <a:cubicBezTo>
                    <a:pt x="7281" y="2492"/>
                    <a:pt x="7281" y="2084"/>
                    <a:pt x="7038" y="2084"/>
                  </a:cubicBezTo>
                  <a:cubicBezTo>
                    <a:pt x="6796" y="2084"/>
                    <a:pt x="6796" y="2492"/>
                    <a:pt x="6796" y="2899"/>
                  </a:cubicBezTo>
                  <a:cubicBezTo>
                    <a:pt x="6796" y="2899"/>
                    <a:pt x="5097" y="1677"/>
                    <a:pt x="5097" y="1677"/>
                  </a:cubicBezTo>
                  <a:cubicBezTo>
                    <a:pt x="4369" y="1269"/>
                    <a:pt x="3640" y="1269"/>
                    <a:pt x="2912" y="1269"/>
                  </a:cubicBezTo>
                  <a:cubicBezTo>
                    <a:pt x="2427" y="1269"/>
                    <a:pt x="2184" y="2084"/>
                    <a:pt x="1456" y="2084"/>
                  </a:cubicBezTo>
                  <a:cubicBezTo>
                    <a:pt x="1456" y="3307"/>
                    <a:pt x="2184" y="3307"/>
                    <a:pt x="2184" y="4122"/>
                  </a:cubicBezTo>
                  <a:cubicBezTo>
                    <a:pt x="2184" y="4530"/>
                    <a:pt x="2427" y="4937"/>
                    <a:pt x="2427" y="5345"/>
                  </a:cubicBezTo>
                  <a:cubicBezTo>
                    <a:pt x="2184" y="5752"/>
                    <a:pt x="1456" y="5752"/>
                    <a:pt x="1213" y="6160"/>
                  </a:cubicBezTo>
                  <a:cubicBezTo>
                    <a:pt x="485" y="6975"/>
                    <a:pt x="728" y="7790"/>
                    <a:pt x="485" y="9013"/>
                  </a:cubicBezTo>
                  <a:cubicBezTo>
                    <a:pt x="485" y="9828"/>
                    <a:pt x="243" y="10235"/>
                    <a:pt x="0" y="1064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82" name="Shape 1296"/>
            <p:cNvSpPr/>
            <p:nvPr/>
          </p:nvSpPr>
          <p:spPr>
            <a:xfrm>
              <a:off x="8593200" y="3218040"/>
              <a:ext cx="109800" cy="46080"/>
            </a:xfrm>
            <a:custGeom>
              <a:avLst/>
              <a:gdLst/>
              <a:ahLst/>
              <a:rect l="l" t="t" r="r" b="b"/>
              <a:pathLst>
                <a:path w="20034" h="20506">
                  <a:moveTo>
                    <a:pt x="20034" y="7200"/>
                  </a:moveTo>
                  <a:cubicBezTo>
                    <a:pt x="17874" y="3600"/>
                    <a:pt x="17154" y="0"/>
                    <a:pt x="14274" y="0"/>
                  </a:cubicBezTo>
                  <a:cubicBezTo>
                    <a:pt x="12834" y="0"/>
                    <a:pt x="12114" y="0"/>
                    <a:pt x="10674" y="0"/>
                  </a:cubicBezTo>
                  <a:cubicBezTo>
                    <a:pt x="9234" y="0"/>
                    <a:pt x="9234" y="1800"/>
                    <a:pt x="8514" y="1800"/>
                  </a:cubicBezTo>
                  <a:cubicBezTo>
                    <a:pt x="7794" y="1800"/>
                    <a:pt x="7074" y="0"/>
                    <a:pt x="6354" y="0"/>
                  </a:cubicBezTo>
                  <a:cubicBezTo>
                    <a:pt x="5634" y="1800"/>
                    <a:pt x="4914" y="3600"/>
                    <a:pt x="4194" y="5400"/>
                  </a:cubicBezTo>
                  <a:cubicBezTo>
                    <a:pt x="2754" y="9000"/>
                    <a:pt x="-1566" y="7200"/>
                    <a:pt x="594" y="16200"/>
                  </a:cubicBezTo>
                  <a:cubicBezTo>
                    <a:pt x="1314" y="19800"/>
                    <a:pt x="4194" y="21600"/>
                    <a:pt x="6354" y="19800"/>
                  </a:cubicBezTo>
                  <a:cubicBezTo>
                    <a:pt x="7074" y="19800"/>
                    <a:pt x="7074" y="16200"/>
                    <a:pt x="7794" y="16200"/>
                  </a:cubicBezTo>
                  <a:cubicBezTo>
                    <a:pt x="9234" y="16200"/>
                    <a:pt x="10674" y="16200"/>
                    <a:pt x="11394" y="16200"/>
                  </a:cubicBezTo>
                  <a:cubicBezTo>
                    <a:pt x="12114" y="16200"/>
                    <a:pt x="12114" y="12600"/>
                    <a:pt x="12114" y="10800"/>
                  </a:cubicBezTo>
                  <a:cubicBezTo>
                    <a:pt x="12834" y="9000"/>
                    <a:pt x="14994" y="12600"/>
                    <a:pt x="15714" y="12600"/>
                  </a:cubicBezTo>
                  <a:cubicBezTo>
                    <a:pt x="16434" y="12600"/>
                    <a:pt x="17874" y="12600"/>
                    <a:pt x="18594" y="12600"/>
                  </a:cubicBezTo>
                  <a:cubicBezTo>
                    <a:pt x="19314" y="12600"/>
                    <a:pt x="19314" y="9000"/>
                    <a:pt x="20034" y="7200"/>
                  </a:cubicBezTo>
                  <a:close/>
                </a:path>
              </a:pathLst>
            </a:custGeom>
            <a:solidFill>
              <a:srgbClr val="dadbdf"/>
            </a:solidFill>
            <a:ln w="4680">
              <a:solidFill>
                <a:srgbClr val="ffffff"/>
              </a:solidFill>
              <a:round/>
            </a:ln>
          </p:spPr>
          <p:style>
            <a:lnRef idx="0"/>
            <a:fillRef idx="0"/>
            <a:effectRef idx="0"/>
            <a:fontRef idx="minor"/>
          </p:style>
          <p:txBody>
            <a:bodyPr lIns="45360" rIns="45360" tIns="-720" bIns="-720" anchor="t">
              <a:noAutofit/>
            </a:bodyPr>
            <a:p>
              <a:endParaRPr b="0" lang="en-US" sz="1800" spc="-1" strike="noStrike">
                <a:solidFill>
                  <a:srgbClr val="000000"/>
                </a:solidFill>
                <a:latin typeface="Calibri"/>
              </a:endParaRPr>
            </a:p>
          </p:txBody>
        </p:sp>
        <p:sp>
          <p:nvSpPr>
            <p:cNvPr id="683" name="Shape 1297"/>
            <p:cNvSpPr/>
            <p:nvPr/>
          </p:nvSpPr>
          <p:spPr>
            <a:xfrm>
              <a:off x="8716680" y="3040200"/>
              <a:ext cx="181080" cy="133200"/>
            </a:xfrm>
            <a:custGeom>
              <a:avLst/>
              <a:gdLst/>
              <a:ahLst/>
              <a:rect l="l" t="t" r="r" b="b"/>
              <a:pathLst>
                <a:path w="21024" h="20716">
                  <a:moveTo>
                    <a:pt x="4897" y="17897"/>
                  </a:moveTo>
                  <a:cubicBezTo>
                    <a:pt x="6276" y="17897"/>
                    <a:pt x="7195" y="18514"/>
                    <a:pt x="8114" y="18514"/>
                  </a:cubicBezTo>
                  <a:cubicBezTo>
                    <a:pt x="8114" y="18514"/>
                    <a:pt x="10412" y="20366"/>
                    <a:pt x="10412" y="20366"/>
                  </a:cubicBezTo>
                  <a:cubicBezTo>
                    <a:pt x="10412" y="19749"/>
                    <a:pt x="10872" y="17897"/>
                    <a:pt x="11331" y="19131"/>
                  </a:cubicBezTo>
                  <a:cubicBezTo>
                    <a:pt x="12251" y="20983"/>
                    <a:pt x="12710" y="17897"/>
                    <a:pt x="13170" y="19749"/>
                  </a:cubicBezTo>
                  <a:cubicBezTo>
                    <a:pt x="13629" y="20983"/>
                    <a:pt x="14548" y="19749"/>
                    <a:pt x="15008" y="19749"/>
                  </a:cubicBezTo>
                  <a:cubicBezTo>
                    <a:pt x="15468" y="19131"/>
                    <a:pt x="16387" y="21600"/>
                    <a:pt x="16387" y="20366"/>
                  </a:cubicBezTo>
                  <a:cubicBezTo>
                    <a:pt x="16846" y="19131"/>
                    <a:pt x="16387" y="17897"/>
                    <a:pt x="17306" y="17280"/>
                  </a:cubicBezTo>
                  <a:cubicBezTo>
                    <a:pt x="17765" y="17280"/>
                    <a:pt x="18685" y="16663"/>
                    <a:pt x="19144" y="16663"/>
                  </a:cubicBezTo>
                  <a:cubicBezTo>
                    <a:pt x="18685" y="16046"/>
                    <a:pt x="18225" y="14811"/>
                    <a:pt x="18225" y="13577"/>
                  </a:cubicBezTo>
                  <a:cubicBezTo>
                    <a:pt x="18225" y="12343"/>
                    <a:pt x="19144" y="13577"/>
                    <a:pt x="20063" y="12960"/>
                  </a:cubicBezTo>
                  <a:cubicBezTo>
                    <a:pt x="20982" y="12960"/>
                    <a:pt x="21442" y="11726"/>
                    <a:pt x="20523" y="10491"/>
                  </a:cubicBezTo>
                  <a:cubicBezTo>
                    <a:pt x="20063" y="9874"/>
                    <a:pt x="19604" y="10491"/>
                    <a:pt x="19144" y="9257"/>
                  </a:cubicBezTo>
                  <a:cubicBezTo>
                    <a:pt x="18685" y="8640"/>
                    <a:pt x="18225" y="8023"/>
                    <a:pt x="17765" y="6789"/>
                  </a:cubicBezTo>
                  <a:cubicBezTo>
                    <a:pt x="17306" y="6171"/>
                    <a:pt x="17306" y="4937"/>
                    <a:pt x="17306" y="3703"/>
                  </a:cubicBezTo>
                  <a:cubicBezTo>
                    <a:pt x="17765" y="2469"/>
                    <a:pt x="16387" y="1234"/>
                    <a:pt x="15927" y="1234"/>
                  </a:cubicBezTo>
                  <a:cubicBezTo>
                    <a:pt x="15468" y="617"/>
                    <a:pt x="15468" y="1234"/>
                    <a:pt x="15008" y="1234"/>
                  </a:cubicBezTo>
                  <a:cubicBezTo>
                    <a:pt x="14089" y="1851"/>
                    <a:pt x="14089" y="1234"/>
                    <a:pt x="13629" y="617"/>
                  </a:cubicBezTo>
                  <a:cubicBezTo>
                    <a:pt x="13170" y="0"/>
                    <a:pt x="13170" y="1234"/>
                    <a:pt x="12710" y="1234"/>
                  </a:cubicBezTo>
                  <a:cubicBezTo>
                    <a:pt x="12251" y="1234"/>
                    <a:pt x="11331" y="0"/>
                    <a:pt x="11331" y="0"/>
                  </a:cubicBezTo>
                  <a:cubicBezTo>
                    <a:pt x="10412" y="0"/>
                    <a:pt x="10412" y="1234"/>
                    <a:pt x="9953" y="1234"/>
                  </a:cubicBezTo>
                  <a:cubicBezTo>
                    <a:pt x="9033" y="1851"/>
                    <a:pt x="8574" y="1851"/>
                    <a:pt x="7655" y="1851"/>
                  </a:cubicBezTo>
                  <a:cubicBezTo>
                    <a:pt x="7195" y="2469"/>
                    <a:pt x="7655" y="3703"/>
                    <a:pt x="7655" y="3703"/>
                  </a:cubicBezTo>
                  <a:cubicBezTo>
                    <a:pt x="7195" y="4937"/>
                    <a:pt x="5816" y="4320"/>
                    <a:pt x="5816" y="5554"/>
                  </a:cubicBezTo>
                  <a:cubicBezTo>
                    <a:pt x="5357" y="6171"/>
                    <a:pt x="5357" y="6789"/>
                    <a:pt x="5357" y="8023"/>
                  </a:cubicBezTo>
                  <a:cubicBezTo>
                    <a:pt x="5357" y="8640"/>
                    <a:pt x="3978" y="8640"/>
                    <a:pt x="3519" y="8640"/>
                  </a:cubicBezTo>
                  <a:cubicBezTo>
                    <a:pt x="2140" y="9257"/>
                    <a:pt x="1680" y="9874"/>
                    <a:pt x="302" y="9874"/>
                  </a:cubicBezTo>
                  <a:cubicBezTo>
                    <a:pt x="761" y="11726"/>
                    <a:pt x="2140" y="12960"/>
                    <a:pt x="761" y="14811"/>
                  </a:cubicBezTo>
                  <a:cubicBezTo>
                    <a:pt x="-158" y="15429"/>
                    <a:pt x="-158" y="16046"/>
                    <a:pt x="302" y="16663"/>
                  </a:cubicBezTo>
                  <a:cubicBezTo>
                    <a:pt x="1221" y="17280"/>
                    <a:pt x="302" y="18514"/>
                    <a:pt x="302" y="19131"/>
                  </a:cubicBezTo>
                  <a:cubicBezTo>
                    <a:pt x="1221" y="19131"/>
                    <a:pt x="1680" y="19131"/>
                    <a:pt x="2140" y="18514"/>
                  </a:cubicBezTo>
                  <a:cubicBezTo>
                    <a:pt x="3059" y="17897"/>
                    <a:pt x="4438" y="17897"/>
                    <a:pt x="4897" y="1789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84" name="Shape 1298"/>
            <p:cNvSpPr/>
            <p:nvPr/>
          </p:nvSpPr>
          <p:spPr>
            <a:xfrm>
              <a:off x="8672040" y="3034080"/>
              <a:ext cx="110880" cy="70200"/>
            </a:xfrm>
            <a:custGeom>
              <a:avLst/>
              <a:gdLst/>
              <a:ahLst/>
              <a:rect l="l" t="t" r="r" b="b"/>
              <a:pathLst>
                <a:path w="20922" h="20160">
                  <a:moveTo>
                    <a:pt x="11917" y="19831"/>
                  </a:moveTo>
                  <a:cubicBezTo>
                    <a:pt x="13407" y="17557"/>
                    <a:pt x="15641" y="17557"/>
                    <a:pt x="17131" y="16421"/>
                  </a:cubicBezTo>
                  <a:cubicBezTo>
                    <a:pt x="17131" y="15284"/>
                    <a:pt x="17131" y="14147"/>
                    <a:pt x="17131" y="13010"/>
                  </a:cubicBezTo>
                  <a:cubicBezTo>
                    <a:pt x="17876" y="10736"/>
                    <a:pt x="18621" y="10736"/>
                    <a:pt x="20110" y="9600"/>
                  </a:cubicBezTo>
                  <a:cubicBezTo>
                    <a:pt x="21600" y="8463"/>
                    <a:pt x="20855" y="5052"/>
                    <a:pt x="19366" y="3915"/>
                  </a:cubicBezTo>
                  <a:cubicBezTo>
                    <a:pt x="17876" y="2779"/>
                    <a:pt x="16386" y="1642"/>
                    <a:pt x="14152" y="505"/>
                  </a:cubicBezTo>
                  <a:cubicBezTo>
                    <a:pt x="12662" y="-632"/>
                    <a:pt x="9683" y="505"/>
                    <a:pt x="7448" y="505"/>
                  </a:cubicBezTo>
                  <a:cubicBezTo>
                    <a:pt x="5959" y="505"/>
                    <a:pt x="0" y="-632"/>
                    <a:pt x="0" y="3915"/>
                  </a:cubicBezTo>
                  <a:cubicBezTo>
                    <a:pt x="0" y="3915"/>
                    <a:pt x="745" y="5052"/>
                    <a:pt x="745" y="6189"/>
                  </a:cubicBezTo>
                  <a:cubicBezTo>
                    <a:pt x="1490" y="7326"/>
                    <a:pt x="745" y="8463"/>
                    <a:pt x="1490" y="9600"/>
                  </a:cubicBezTo>
                  <a:cubicBezTo>
                    <a:pt x="2234" y="9600"/>
                    <a:pt x="2979" y="11873"/>
                    <a:pt x="3724" y="10736"/>
                  </a:cubicBezTo>
                  <a:cubicBezTo>
                    <a:pt x="5214" y="10736"/>
                    <a:pt x="6703" y="9600"/>
                    <a:pt x="6703" y="11873"/>
                  </a:cubicBezTo>
                  <a:cubicBezTo>
                    <a:pt x="6703" y="13010"/>
                    <a:pt x="6703" y="15284"/>
                    <a:pt x="5959" y="16421"/>
                  </a:cubicBezTo>
                  <a:cubicBezTo>
                    <a:pt x="8193" y="16421"/>
                    <a:pt x="8193" y="16421"/>
                    <a:pt x="8938" y="19831"/>
                  </a:cubicBezTo>
                  <a:cubicBezTo>
                    <a:pt x="9683" y="19831"/>
                    <a:pt x="11917" y="19831"/>
                    <a:pt x="11917" y="19831"/>
                  </a:cubicBezTo>
                  <a:cubicBezTo>
                    <a:pt x="12662" y="18694"/>
                    <a:pt x="11172" y="20968"/>
                    <a:pt x="11917" y="19831"/>
                  </a:cubicBezTo>
                  <a:close/>
                </a:path>
              </a:pathLst>
            </a:custGeom>
            <a:solidFill>
              <a:srgbClr val="dadbdf"/>
            </a:solidFill>
            <a:ln w="4680">
              <a:solidFill>
                <a:srgbClr val="ffffff"/>
              </a:solidFill>
              <a:round/>
            </a:ln>
          </p:spPr>
          <p:style>
            <a:lnRef idx="0"/>
            <a:fillRef idx="0"/>
            <a:effectRef idx="0"/>
            <a:fontRef idx="minor"/>
          </p:style>
          <p:txBody>
            <a:bodyPr lIns="45360" rIns="45360" tIns="23400" bIns="23400" anchor="t">
              <a:noAutofit/>
            </a:bodyPr>
            <a:p>
              <a:endParaRPr b="0" lang="en-US" sz="1800" spc="-1" strike="noStrike">
                <a:solidFill>
                  <a:srgbClr val="000000"/>
                </a:solidFill>
                <a:latin typeface="Calibri"/>
              </a:endParaRPr>
            </a:p>
          </p:txBody>
        </p:sp>
        <p:sp>
          <p:nvSpPr>
            <p:cNvPr id="685" name="Shape 1299"/>
            <p:cNvSpPr/>
            <p:nvPr/>
          </p:nvSpPr>
          <p:spPr>
            <a:xfrm>
              <a:off x="8672040" y="2987280"/>
              <a:ext cx="141480" cy="65880"/>
            </a:xfrm>
            <a:custGeom>
              <a:avLst/>
              <a:gdLst/>
              <a:ahLst/>
              <a:rect l="l" t="t" r="r" b="b"/>
              <a:pathLst>
                <a:path w="21600" h="19998">
                  <a:moveTo>
                    <a:pt x="6600" y="14871"/>
                  </a:moveTo>
                  <a:cubicBezTo>
                    <a:pt x="8400" y="14871"/>
                    <a:pt x="9600" y="13671"/>
                    <a:pt x="11400" y="13671"/>
                  </a:cubicBezTo>
                  <a:cubicBezTo>
                    <a:pt x="12000" y="13671"/>
                    <a:pt x="14400" y="16071"/>
                    <a:pt x="15000" y="17271"/>
                  </a:cubicBezTo>
                  <a:cubicBezTo>
                    <a:pt x="15600" y="18471"/>
                    <a:pt x="16200" y="20871"/>
                    <a:pt x="17400" y="19671"/>
                  </a:cubicBezTo>
                  <a:cubicBezTo>
                    <a:pt x="18000" y="19671"/>
                    <a:pt x="18600" y="18471"/>
                    <a:pt x="19800" y="18471"/>
                  </a:cubicBezTo>
                  <a:cubicBezTo>
                    <a:pt x="20400" y="18471"/>
                    <a:pt x="20400" y="16071"/>
                    <a:pt x="21600" y="16071"/>
                  </a:cubicBezTo>
                  <a:cubicBezTo>
                    <a:pt x="21000" y="13671"/>
                    <a:pt x="19800" y="10071"/>
                    <a:pt x="20400" y="8871"/>
                  </a:cubicBezTo>
                  <a:cubicBezTo>
                    <a:pt x="21000" y="6471"/>
                    <a:pt x="19200" y="4071"/>
                    <a:pt x="18600" y="4071"/>
                  </a:cubicBezTo>
                  <a:cubicBezTo>
                    <a:pt x="17400" y="2871"/>
                    <a:pt x="16200" y="5271"/>
                    <a:pt x="15000" y="2871"/>
                  </a:cubicBezTo>
                  <a:cubicBezTo>
                    <a:pt x="13200" y="471"/>
                    <a:pt x="12600" y="-729"/>
                    <a:pt x="10800" y="471"/>
                  </a:cubicBezTo>
                  <a:cubicBezTo>
                    <a:pt x="9600" y="1671"/>
                    <a:pt x="10200" y="2871"/>
                    <a:pt x="10200" y="5271"/>
                  </a:cubicBezTo>
                  <a:cubicBezTo>
                    <a:pt x="9600" y="6471"/>
                    <a:pt x="9600" y="7671"/>
                    <a:pt x="9000" y="7671"/>
                  </a:cubicBezTo>
                  <a:cubicBezTo>
                    <a:pt x="7200" y="10071"/>
                    <a:pt x="6000" y="5271"/>
                    <a:pt x="4800" y="4071"/>
                  </a:cubicBezTo>
                  <a:cubicBezTo>
                    <a:pt x="1800" y="-729"/>
                    <a:pt x="0" y="12471"/>
                    <a:pt x="0" y="17271"/>
                  </a:cubicBezTo>
                  <a:cubicBezTo>
                    <a:pt x="2400" y="14871"/>
                    <a:pt x="4200" y="14871"/>
                    <a:pt x="6600" y="14871"/>
                  </a:cubicBezTo>
                  <a:close/>
                </a:path>
              </a:pathLst>
            </a:custGeom>
            <a:solidFill>
              <a:srgbClr val="dadbdf"/>
            </a:solidFill>
            <a:ln w="4680">
              <a:solidFill>
                <a:srgbClr val="ffffff"/>
              </a:solidFill>
              <a:round/>
            </a:ln>
          </p:spPr>
          <p:style>
            <a:lnRef idx="0"/>
            <a:fillRef idx="0"/>
            <a:effectRef idx="0"/>
            <a:fontRef idx="minor"/>
          </p:style>
          <p:txBody>
            <a:bodyPr lIns="45360" rIns="45360" tIns="19080" bIns="19080" anchor="t">
              <a:noAutofit/>
            </a:bodyPr>
            <a:p>
              <a:endParaRPr b="0" lang="en-US" sz="1800" spc="-1" strike="noStrike">
                <a:solidFill>
                  <a:srgbClr val="000000"/>
                </a:solidFill>
                <a:latin typeface="Calibri"/>
              </a:endParaRPr>
            </a:p>
          </p:txBody>
        </p:sp>
        <p:sp>
          <p:nvSpPr>
            <p:cNvPr id="686" name="Shape 1300"/>
            <p:cNvSpPr/>
            <p:nvPr/>
          </p:nvSpPr>
          <p:spPr>
            <a:xfrm>
              <a:off x="8715240" y="2941560"/>
              <a:ext cx="94320" cy="59040"/>
            </a:xfrm>
            <a:custGeom>
              <a:avLst/>
              <a:gdLst/>
              <a:ahLst/>
              <a:rect l="l" t="t" r="r" b="b"/>
              <a:pathLst>
                <a:path w="21600" h="21600">
                  <a:moveTo>
                    <a:pt x="14400" y="21600"/>
                  </a:moveTo>
                  <a:cubicBezTo>
                    <a:pt x="15300" y="21600"/>
                    <a:pt x="17100" y="21600"/>
                    <a:pt x="18000" y="21600"/>
                  </a:cubicBezTo>
                  <a:cubicBezTo>
                    <a:pt x="18000" y="20160"/>
                    <a:pt x="19800" y="20160"/>
                    <a:pt x="19800" y="18720"/>
                  </a:cubicBezTo>
                  <a:cubicBezTo>
                    <a:pt x="19800" y="17280"/>
                    <a:pt x="19800" y="15840"/>
                    <a:pt x="19800" y="14400"/>
                  </a:cubicBezTo>
                  <a:cubicBezTo>
                    <a:pt x="18900" y="11520"/>
                    <a:pt x="18000" y="10080"/>
                    <a:pt x="18900" y="7200"/>
                  </a:cubicBezTo>
                  <a:cubicBezTo>
                    <a:pt x="20700" y="5760"/>
                    <a:pt x="21600" y="2880"/>
                    <a:pt x="21600" y="0"/>
                  </a:cubicBezTo>
                  <a:cubicBezTo>
                    <a:pt x="19800" y="4320"/>
                    <a:pt x="13500" y="0"/>
                    <a:pt x="10800" y="0"/>
                  </a:cubicBezTo>
                  <a:cubicBezTo>
                    <a:pt x="9000" y="0"/>
                    <a:pt x="7200" y="0"/>
                    <a:pt x="5400" y="1440"/>
                  </a:cubicBezTo>
                  <a:cubicBezTo>
                    <a:pt x="4500" y="1440"/>
                    <a:pt x="0" y="7200"/>
                    <a:pt x="0" y="7200"/>
                  </a:cubicBezTo>
                  <a:cubicBezTo>
                    <a:pt x="0" y="8640"/>
                    <a:pt x="2700" y="7200"/>
                    <a:pt x="1800" y="8640"/>
                  </a:cubicBezTo>
                  <a:cubicBezTo>
                    <a:pt x="1800" y="10080"/>
                    <a:pt x="1800" y="10080"/>
                    <a:pt x="1800" y="11520"/>
                  </a:cubicBezTo>
                  <a:cubicBezTo>
                    <a:pt x="2700" y="14400"/>
                    <a:pt x="6300" y="12960"/>
                    <a:pt x="6300" y="12960"/>
                  </a:cubicBezTo>
                  <a:cubicBezTo>
                    <a:pt x="6300" y="14400"/>
                    <a:pt x="5400" y="17280"/>
                    <a:pt x="5400" y="18720"/>
                  </a:cubicBezTo>
                  <a:cubicBezTo>
                    <a:pt x="6300" y="17280"/>
                    <a:pt x="8100" y="15840"/>
                    <a:pt x="9900" y="17280"/>
                  </a:cubicBezTo>
                  <a:cubicBezTo>
                    <a:pt x="11700" y="18720"/>
                    <a:pt x="12600" y="21600"/>
                    <a:pt x="14400" y="21600"/>
                  </a:cubicBezTo>
                  <a:close/>
                </a:path>
              </a:pathLst>
            </a:custGeom>
            <a:solidFill>
              <a:srgbClr val="dadbdf"/>
            </a:solidFill>
            <a:ln w="4680">
              <a:solidFill>
                <a:srgbClr val="ffffff"/>
              </a:solidFill>
              <a:round/>
            </a:ln>
          </p:spPr>
          <p:style>
            <a:lnRef idx="0"/>
            <a:fillRef idx="0"/>
            <a:effectRef idx="0"/>
            <a:fontRef idx="minor"/>
          </p:style>
          <p:txBody>
            <a:bodyPr lIns="45360" rIns="45360" tIns="12240" bIns="12240" anchor="t">
              <a:noAutofit/>
            </a:bodyPr>
            <a:p>
              <a:endParaRPr b="0" lang="en-US" sz="1800" spc="-1" strike="noStrike">
                <a:solidFill>
                  <a:srgbClr val="000000"/>
                </a:solidFill>
                <a:latin typeface="Calibri"/>
              </a:endParaRPr>
            </a:p>
          </p:txBody>
        </p:sp>
        <p:sp>
          <p:nvSpPr>
            <p:cNvPr id="687" name="Shape 1301"/>
            <p:cNvSpPr/>
            <p:nvPr/>
          </p:nvSpPr>
          <p:spPr>
            <a:xfrm>
              <a:off x="8643960" y="3064320"/>
              <a:ext cx="63360" cy="27360"/>
            </a:xfrm>
            <a:custGeom>
              <a:avLst/>
              <a:gdLst/>
              <a:ahLst/>
              <a:rect l="l" t="t" r="r" b="b"/>
              <a:pathLst>
                <a:path w="21600" h="19200">
                  <a:moveTo>
                    <a:pt x="21600" y="10800"/>
                  </a:moveTo>
                  <a:cubicBezTo>
                    <a:pt x="21600" y="2700"/>
                    <a:pt x="18900" y="5400"/>
                    <a:pt x="16200" y="5400"/>
                  </a:cubicBezTo>
                  <a:cubicBezTo>
                    <a:pt x="14850" y="8100"/>
                    <a:pt x="13500" y="2700"/>
                    <a:pt x="10800" y="0"/>
                  </a:cubicBezTo>
                  <a:cubicBezTo>
                    <a:pt x="10800" y="2700"/>
                    <a:pt x="10800" y="5400"/>
                    <a:pt x="9450" y="8100"/>
                  </a:cubicBezTo>
                  <a:cubicBezTo>
                    <a:pt x="8100" y="8100"/>
                    <a:pt x="9450" y="2700"/>
                    <a:pt x="6750" y="5400"/>
                  </a:cubicBezTo>
                  <a:cubicBezTo>
                    <a:pt x="5400" y="5400"/>
                    <a:pt x="2700" y="5400"/>
                    <a:pt x="2700" y="8100"/>
                  </a:cubicBezTo>
                  <a:cubicBezTo>
                    <a:pt x="1350" y="13500"/>
                    <a:pt x="2700" y="16200"/>
                    <a:pt x="0" y="13500"/>
                  </a:cubicBezTo>
                  <a:cubicBezTo>
                    <a:pt x="0" y="13500"/>
                    <a:pt x="0" y="13500"/>
                    <a:pt x="0" y="16200"/>
                  </a:cubicBezTo>
                  <a:cubicBezTo>
                    <a:pt x="0" y="16200"/>
                    <a:pt x="1350" y="16200"/>
                    <a:pt x="2700" y="16200"/>
                  </a:cubicBezTo>
                  <a:cubicBezTo>
                    <a:pt x="5400" y="18900"/>
                    <a:pt x="8100" y="18900"/>
                    <a:pt x="10800" y="18900"/>
                  </a:cubicBezTo>
                  <a:cubicBezTo>
                    <a:pt x="13500" y="18900"/>
                    <a:pt x="21600" y="21600"/>
                    <a:pt x="21600" y="10800"/>
                  </a:cubicBezTo>
                  <a:close/>
                </a:path>
              </a:pathLst>
            </a:custGeom>
            <a:solidFill>
              <a:srgbClr val="dadbdf"/>
            </a:solidFill>
            <a:ln w="4680">
              <a:solidFill>
                <a:srgbClr val="ffffff"/>
              </a:solidFill>
              <a:round/>
            </a:ln>
          </p:spPr>
          <p:style>
            <a:lnRef idx="0"/>
            <a:fillRef idx="0"/>
            <a:effectRef idx="0"/>
            <a:fontRef idx="minor"/>
          </p:style>
          <p:txBody>
            <a:bodyPr lIns="45360" rIns="45360" tIns="-19440" bIns="-19440" anchor="t">
              <a:noAutofit/>
            </a:bodyPr>
            <a:p>
              <a:endParaRPr b="0" lang="en-US" sz="1800" spc="-1" strike="noStrike">
                <a:solidFill>
                  <a:srgbClr val="000000"/>
                </a:solidFill>
                <a:latin typeface="Calibri"/>
              </a:endParaRPr>
            </a:p>
          </p:txBody>
        </p:sp>
        <p:sp>
          <p:nvSpPr>
            <p:cNvPr id="688" name="Shape 1302"/>
            <p:cNvSpPr/>
            <p:nvPr/>
          </p:nvSpPr>
          <p:spPr>
            <a:xfrm>
              <a:off x="8545320" y="3076920"/>
              <a:ext cx="188640" cy="157680"/>
            </a:xfrm>
            <a:custGeom>
              <a:avLst/>
              <a:gdLst/>
              <a:ahLst/>
              <a:rect l="l" t="t" r="r" b="b"/>
              <a:pathLst>
                <a:path w="21600" h="20541">
                  <a:moveTo>
                    <a:pt x="450" y="5568"/>
                  </a:moveTo>
                  <a:cubicBezTo>
                    <a:pt x="450" y="6083"/>
                    <a:pt x="0" y="7111"/>
                    <a:pt x="0" y="7626"/>
                  </a:cubicBezTo>
                  <a:cubicBezTo>
                    <a:pt x="450" y="8140"/>
                    <a:pt x="900" y="9168"/>
                    <a:pt x="900" y="9683"/>
                  </a:cubicBezTo>
                  <a:cubicBezTo>
                    <a:pt x="900" y="10711"/>
                    <a:pt x="1350" y="12254"/>
                    <a:pt x="1800" y="13283"/>
                  </a:cubicBezTo>
                  <a:cubicBezTo>
                    <a:pt x="2250" y="14826"/>
                    <a:pt x="3600" y="14311"/>
                    <a:pt x="4050" y="15340"/>
                  </a:cubicBezTo>
                  <a:cubicBezTo>
                    <a:pt x="4050" y="15340"/>
                    <a:pt x="4050" y="16368"/>
                    <a:pt x="4500" y="16368"/>
                  </a:cubicBezTo>
                  <a:cubicBezTo>
                    <a:pt x="4950" y="16883"/>
                    <a:pt x="5400" y="15854"/>
                    <a:pt x="5850" y="15854"/>
                  </a:cubicBezTo>
                  <a:cubicBezTo>
                    <a:pt x="6750" y="15340"/>
                    <a:pt x="8550" y="17397"/>
                    <a:pt x="9450" y="17911"/>
                  </a:cubicBezTo>
                  <a:cubicBezTo>
                    <a:pt x="9900" y="18426"/>
                    <a:pt x="10350" y="19454"/>
                    <a:pt x="11250" y="18426"/>
                  </a:cubicBezTo>
                  <a:cubicBezTo>
                    <a:pt x="11700" y="17911"/>
                    <a:pt x="13950" y="18426"/>
                    <a:pt x="14850" y="18426"/>
                  </a:cubicBezTo>
                  <a:cubicBezTo>
                    <a:pt x="16200" y="18426"/>
                    <a:pt x="16650" y="19454"/>
                    <a:pt x="17550" y="20483"/>
                  </a:cubicBezTo>
                  <a:cubicBezTo>
                    <a:pt x="18000" y="20997"/>
                    <a:pt x="18000" y="17911"/>
                    <a:pt x="18450" y="17397"/>
                  </a:cubicBezTo>
                  <a:cubicBezTo>
                    <a:pt x="18900" y="16883"/>
                    <a:pt x="19350" y="16368"/>
                    <a:pt x="19800" y="15854"/>
                  </a:cubicBezTo>
                  <a:cubicBezTo>
                    <a:pt x="20250" y="15854"/>
                    <a:pt x="21600" y="15854"/>
                    <a:pt x="21600" y="15340"/>
                  </a:cubicBezTo>
                  <a:cubicBezTo>
                    <a:pt x="21150" y="13797"/>
                    <a:pt x="21150" y="13283"/>
                    <a:pt x="20250" y="12768"/>
                  </a:cubicBezTo>
                  <a:cubicBezTo>
                    <a:pt x="19350" y="11740"/>
                    <a:pt x="20700" y="10197"/>
                    <a:pt x="19800" y="9168"/>
                  </a:cubicBezTo>
                  <a:cubicBezTo>
                    <a:pt x="18900" y="8654"/>
                    <a:pt x="21150" y="6597"/>
                    <a:pt x="20700" y="5568"/>
                  </a:cubicBezTo>
                  <a:cubicBezTo>
                    <a:pt x="20250" y="4540"/>
                    <a:pt x="19800" y="4026"/>
                    <a:pt x="19800" y="2997"/>
                  </a:cubicBezTo>
                  <a:cubicBezTo>
                    <a:pt x="19800" y="2483"/>
                    <a:pt x="19800" y="1968"/>
                    <a:pt x="18900" y="1968"/>
                  </a:cubicBezTo>
                  <a:cubicBezTo>
                    <a:pt x="16650" y="940"/>
                    <a:pt x="13500" y="2483"/>
                    <a:pt x="11250" y="1454"/>
                  </a:cubicBezTo>
                  <a:cubicBezTo>
                    <a:pt x="11250" y="2997"/>
                    <a:pt x="9450" y="426"/>
                    <a:pt x="9000" y="426"/>
                  </a:cubicBezTo>
                  <a:cubicBezTo>
                    <a:pt x="7650" y="-603"/>
                    <a:pt x="6750" y="426"/>
                    <a:pt x="5850" y="1454"/>
                  </a:cubicBezTo>
                  <a:cubicBezTo>
                    <a:pt x="4500" y="1968"/>
                    <a:pt x="3600" y="2483"/>
                    <a:pt x="2700" y="2483"/>
                  </a:cubicBezTo>
                  <a:cubicBezTo>
                    <a:pt x="2250" y="2997"/>
                    <a:pt x="1350" y="2997"/>
                    <a:pt x="900" y="2997"/>
                  </a:cubicBezTo>
                  <a:cubicBezTo>
                    <a:pt x="450" y="3511"/>
                    <a:pt x="1350" y="4026"/>
                    <a:pt x="450" y="4026"/>
                  </a:cubicBezTo>
                  <a:cubicBezTo>
                    <a:pt x="450" y="4540"/>
                    <a:pt x="450" y="5054"/>
                    <a:pt x="450" y="5568"/>
                  </a:cubicBezTo>
                  <a:cubicBezTo>
                    <a:pt x="450" y="6597"/>
                    <a:pt x="450" y="5568"/>
                    <a:pt x="450" y="556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89" name="Shape 1303"/>
            <p:cNvSpPr/>
            <p:nvPr/>
          </p:nvSpPr>
          <p:spPr>
            <a:xfrm>
              <a:off x="8659800" y="3246480"/>
              <a:ext cx="181800" cy="118440"/>
            </a:xfrm>
            <a:custGeom>
              <a:avLst/>
              <a:gdLst/>
              <a:ahLst/>
              <a:rect l="l" t="t" r="r" b="b"/>
              <a:pathLst>
                <a:path w="21600" h="21600">
                  <a:moveTo>
                    <a:pt x="17843" y="9360"/>
                  </a:moveTo>
                  <a:cubicBezTo>
                    <a:pt x="18313" y="7200"/>
                    <a:pt x="16904" y="5760"/>
                    <a:pt x="16435" y="4320"/>
                  </a:cubicBezTo>
                  <a:cubicBezTo>
                    <a:pt x="15496" y="3600"/>
                    <a:pt x="15026" y="1440"/>
                    <a:pt x="15026" y="0"/>
                  </a:cubicBezTo>
                  <a:cubicBezTo>
                    <a:pt x="13617" y="720"/>
                    <a:pt x="12209" y="2880"/>
                    <a:pt x="10330" y="2880"/>
                  </a:cubicBezTo>
                  <a:cubicBezTo>
                    <a:pt x="9861" y="2880"/>
                    <a:pt x="8922" y="2160"/>
                    <a:pt x="8452" y="2160"/>
                  </a:cubicBezTo>
                  <a:cubicBezTo>
                    <a:pt x="7513" y="2160"/>
                    <a:pt x="6574" y="2160"/>
                    <a:pt x="5635" y="2160"/>
                  </a:cubicBezTo>
                  <a:cubicBezTo>
                    <a:pt x="5635" y="2160"/>
                    <a:pt x="4226" y="4320"/>
                    <a:pt x="3757" y="4320"/>
                  </a:cubicBezTo>
                  <a:cubicBezTo>
                    <a:pt x="3287" y="6480"/>
                    <a:pt x="2348" y="7920"/>
                    <a:pt x="1878" y="10080"/>
                  </a:cubicBezTo>
                  <a:cubicBezTo>
                    <a:pt x="1409" y="10080"/>
                    <a:pt x="470" y="10080"/>
                    <a:pt x="0" y="10800"/>
                  </a:cubicBezTo>
                  <a:cubicBezTo>
                    <a:pt x="0" y="11520"/>
                    <a:pt x="1409" y="12240"/>
                    <a:pt x="1409" y="12960"/>
                  </a:cubicBezTo>
                  <a:cubicBezTo>
                    <a:pt x="1409" y="14400"/>
                    <a:pt x="1878" y="14400"/>
                    <a:pt x="2348" y="15840"/>
                  </a:cubicBezTo>
                  <a:cubicBezTo>
                    <a:pt x="2348" y="17280"/>
                    <a:pt x="2817" y="17280"/>
                    <a:pt x="3757" y="17280"/>
                  </a:cubicBezTo>
                  <a:cubicBezTo>
                    <a:pt x="4226" y="17280"/>
                    <a:pt x="5165" y="17280"/>
                    <a:pt x="5165" y="18000"/>
                  </a:cubicBezTo>
                  <a:cubicBezTo>
                    <a:pt x="5165" y="18720"/>
                    <a:pt x="5165" y="19440"/>
                    <a:pt x="5165" y="20160"/>
                  </a:cubicBezTo>
                  <a:cubicBezTo>
                    <a:pt x="6104" y="21600"/>
                    <a:pt x="8452" y="21600"/>
                    <a:pt x="9861" y="21600"/>
                  </a:cubicBezTo>
                  <a:cubicBezTo>
                    <a:pt x="11270" y="21600"/>
                    <a:pt x="12209" y="21600"/>
                    <a:pt x="13148" y="20160"/>
                  </a:cubicBezTo>
                  <a:cubicBezTo>
                    <a:pt x="15026" y="18720"/>
                    <a:pt x="16904" y="20160"/>
                    <a:pt x="18783" y="21600"/>
                  </a:cubicBezTo>
                  <a:cubicBezTo>
                    <a:pt x="18783" y="20160"/>
                    <a:pt x="18783" y="18000"/>
                    <a:pt x="19252" y="16560"/>
                  </a:cubicBezTo>
                  <a:cubicBezTo>
                    <a:pt x="19722" y="15840"/>
                    <a:pt x="21130" y="17280"/>
                    <a:pt x="21600" y="14400"/>
                  </a:cubicBezTo>
                  <a:cubicBezTo>
                    <a:pt x="20191" y="12960"/>
                    <a:pt x="19722" y="14400"/>
                    <a:pt x="18313" y="14400"/>
                  </a:cubicBezTo>
                  <a:cubicBezTo>
                    <a:pt x="17374" y="13680"/>
                    <a:pt x="17374" y="10080"/>
                    <a:pt x="17843" y="9360"/>
                  </a:cubicBezTo>
                  <a:cubicBezTo>
                    <a:pt x="18313" y="7920"/>
                    <a:pt x="17374" y="10800"/>
                    <a:pt x="17843" y="93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90" name="Shape 1304"/>
            <p:cNvSpPr/>
            <p:nvPr/>
          </p:nvSpPr>
          <p:spPr>
            <a:xfrm>
              <a:off x="8786880" y="3245400"/>
              <a:ext cx="59400" cy="76320"/>
            </a:xfrm>
            <a:custGeom>
              <a:avLst/>
              <a:gdLst/>
              <a:ahLst/>
              <a:rect l="l" t="t" r="r" b="b"/>
              <a:pathLst>
                <a:path w="19482" h="20740">
                  <a:moveTo>
                    <a:pt x="17788" y="9940"/>
                  </a:moveTo>
                  <a:cubicBezTo>
                    <a:pt x="15247" y="7780"/>
                    <a:pt x="13976" y="3460"/>
                    <a:pt x="11435" y="2380"/>
                  </a:cubicBezTo>
                  <a:cubicBezTo>
                    <a:pt x="10165" y="2380"/>
                    <a:pt x="0" y="-860"/>
                    <a:pt x="0" y="220"/>
                  </a:cubicBezTo>
                  <a:cubicBezTo>
                    <a:pt x="1271" y="4540"/>
                    <a:pt x="3812" y="6700"/>
                    <a:pt x="6353" y="9940"/>
                  </a:cubicBezTo>
                  <a:cubicBezTo>
                    <a:pt x="8894" y="13180"/>
                    <a:pt x="5082" y="17500"/>
                    <a:pt x="8894" y="20740"/>
                  </a:cubicBezTo>
                  <a:cubicBezTo>
                    <a:pt x="10165" y="19660"/>
                    <a:pt x="11435" y="16420"/>
                    <a:pt x="12706" y="14260"/>
                  </a:cubicBezTo>
                  <a:cubicBezTo>
                    <a:pt x="15247" y="13180"/>
                    <a:pt x="16518" y="14260"/>
                    <a:pt x="17788" y="14260"/>
                  </a:cubicBezTo>
                  <a:cubicBezTo>
                    <a:pt x="21600" y="14260"/>
                    <a:pt x="17788" y="9940"/>
                    <a:pt x="17788" y="9940"/>
                  </a:cubicBezTo>
                  <a:cubicBezTo>
                    <a:pt x="16518" y="8860"/>
                    <a:pt x="17788" y="9940"/>
                    <a:pt x="17788" y="9940"/>
                  </a:cubicBezTo>
                  <a:close/>
                </a:path>
              </a:pathLst>
            </a:custGeom>
            <a:solidFill>
              <a:srgbClr val="dadbdf"/>
            </a:solidFill>
            <a:ln w="4680">
              <a:solidFill>
                <a:srgbClr val="ffffff"/>
              </a:solidFill>
              <a:round/>
            </a:ln>
          </p:spPr>
          <p:style>
            <a:lnRef idx="0"/>
            <a:fillRef idx="0"/>
            <a:effectRef idx="0"/>
            <a:fontRef idx="minor"/>
          </p:style>
          <p:txBody>
            <a:bodyPr lIns="45360" rIns="45360" tIns="29520" bIns="29520" anchor="t">
              <a:noAutofit/>
            </a:bodyPr>
            <a:p>
              <a:endParaRPr b="0" lang="en-US" sz="1800" spc="-1" strike="noStrike">
                <a:solidFill>
                  <a:srgbClr val="000000"/>
                </a:solidFill>
                <a:latin typeface="Calibri"/>
              </a:endParaRPr>
            </a:p>
          </p:txBody>
        </p:sp>
        <p:sp>
          <p:nvSpPr>
            <p:cNvPr id="691" name="Shape 1305"/>
            <p:cNvSpPr/>
            <p:nvPr/>
          </p:nvSpPr>
          <p:spPr>
            <a:xfrm>
              <a:off x="8813880" y="3289680"/>
              <a:ext cx="38880" cy="36360"/>
            </a:xfrm>
            <a:custGeom>
              <a:avLst/>
              <a:gdLst/>
              <a:ahLst/>
              <a:rect l="l" t="t" r="r" b="b"/>
              <a:pathLst>
                <a:path w="21600" h="19440">
                  <a:moveTo>
                    <a:pt x="15120" y="17280"/>
                  </a:moveTo>
                  <a:cubicBezTo>
                    <a:pt x="12960" y="15120"/>
                    <a:pt x="12960" y="15120"/>
                    <a:pt x="15120" y="12960"/>
                  </a:cubicBezTo>
                  <a:cubicBezTo>
                    <a:pt x="17280" y="10800"/>
                    <a:pt x="19440" y="8640"/>
                    <a:pt x="21600" y="6480"/>
                  </a:cubicBezTo>
                  <a:cubicBezTo>
                    <a:pt x="21600" y="6480"/>
                    <a:pt x="17280" y="2160"/>
                    <a:pt x="17280" y="0"/>
                  </a:cubicBezTo>
                  <a:cubicBezTo>
                    <a:pt x="17280" y="8640"/>
                    <a:pt x="6480" y="-2160"/>
                    <a:pt x="6480" y="6480"/>
                  </a:cubicBezTo>
                  <a:cubicBezTo>
                    <a:pt x="6480" y="10800"/>
                    <a:pt x="2160" y="15120"/>
                    <a:pt x="0" y="17280"/>
                  </a:cubicBezTo>
                  <a:cubicBezTo>
                    <a:pt x="0" y="19440"/>
                    <a:pt x="4320" y="17280"/>
                    <a:pt x="6480" y="17280"/>
                  </a:cubicBezTo>
                  <a:cubicBezTo>
                    <a:pt x="10800" y="17280"/>
                    <a:pt x="12960" y="17280"/>
                    <a:pt x="15120" y="19440"/>
                  </a:cubicBezTo>
                  <a:cubicBezTo>
                    <a:pt x="15120" y="19440"/>
                    <a:pt x="15120" y="17280"/>
                    <a:pt x="15120" y="17280"/>
                  </a:cubicBezTo>
                  <a:cubicBezTo>
                    <a:pt x="12960" y="15120"/>
                    <a:pt x="15120" y="17280"/>
                    <a:pt x="15120" y="17280"/>
                  </a:cubicBezTo>
                  <a:close/>
                </a:path>
              </a:pathLst>
            </a:custGeom>
            <a:solidFill>
              <a:srgbClr val="dadbdf"/>
            </a:solidFill>
            <a:ln w="4680">
              <a:solidFill>
                <a:srgbClr val="ffffff"/>
              </a:solidFill>
              <a:round/>
            </a:ln>
          </p:spPr>
          <p:style>
            <a:lnRef idx="0"/>
            <a:fillRef idx="0"/>
            <a:effectRef idx="0"/>
            <a:fontRef idx="minor"/>
          </p:style>
          <p:txBody>
            <a:bodyPr lIns="45360" rIns="45360" tIns="-10440" bIns="-10440" anchor="t">
              <a:noAutofit/>
            </a:bodyPr>
            <a:p>
              <a:endParaRPr b="0" lang="en-US" sz="1800" spc="-1" strike="noStrike">
                <a:solidFill>
                  <a:srgbClr val="000000"/>
                </a:solidFill>
                <a:latin typeface="Calibri"/>
              </a:endParaRPr>
            </a:p>
          </p:txBody>
        </p:sp>
        <p:sp>
          <p:nvSpPr>
            <p:cNvPr id="692" name="Shape 1306"/>
            <p:cNvSpPr/>
            <p:nvPr/>
          </p:nvSpPr>
          <p:spPr>
            <a:xfrm>
              <a:off x="8698320" y="3348720"/>
              <a:ext cx="116640" cy="72360"/>
            </a:xfrm>
            <a:custGeom>
              <a:avLst/>
              <a:gdLst/>
              <a:ahLst/>
              <a:rect l="l" t="t" r="r" b="b"/>
              <a:pathLst>
                <a:path w="19881" h="20781">
                  <a:moveTo>
                    <a:pt x="10904" y="4547"/>
                  </a:moveTo>
                  <a:cubicBezTo>
                    <a:pt x="8204" y="4547"/>
                    <a:pt x="1454" y="6821"/>
                    <a:pt x="779" y="0"/>
                  </a:cubicBezTo>
                  <a:cubicBezTo>
                    <a:pt x="104" y="2274"/>
                    <a:pt x="-571" y="4547"/>
                    <a:pt x="779" y="5684"/>
                  </a:cubicBezTo>
                  <a:cubicBezTo>
                    <a:pt x="1454" y="6821"/>
                    <a:pt x="2129" y="7958"/>
                    <a:pt x="1454" y="9095"/>
                  </a:cubicBezTo>
                  <a:cubicBezTo>
                    <a:pt x="779" y="10232"/>
                    <a:pt x="104" y="10232"/>
                    <a:pt x="104" y="12505"/>
                  </a:cubicBezTo>
                  <a:cubicBezTo>
                    <a:pt x="779" y="14779"/>
                    <a:pt x="1454" y="15916"/>
                    <a:pt x="1454" y="19326"/>
                  </a:cubicBezTo>
                  <a:cubicBezTo>
                    <a:pt x="2804" y="19326"/>
                    <a:pt x="4154" y="19326"/>
                    <a:pt x="5504" y="19326"/>
                  </a:cubicBezTo>
                  <a:cubicBezTo>
                    <a:pt x="6854" y="19326"/>
                    <a:pt x="8879" y="21600"/>
                    <a:pt x="10229" y="20463"/>
                  </a:cubicBezTo>
                  <a:cubicBezTo>
                    <a:pt x="11579" y="20463"/>
                    <a:pt x="12929" y="18189"/>
                    <a:pt x="13604" y="17053"/>
                  </a:cubicBezTo>
                  <a:cubicBezTo>
                    <a:pt x="14954" y="14779"/>
                    <a:pt x="16304" y="15916"/>
                    <a:pt x="18329" y="15916"/>
                  </a:cubicBezTo>
                  <a:cubicBezTo>
                    <a:pt x="17654" y="13642"/>
                    <a:pt x="17654" y="12505"/>
                    <a:pt x="18329" y="9095"/>
                  </a:cubicBezTo>
                  <a:cubicBezTo>
                    <a:pt x="19004" y="6821"/>
                    <a:pt x="21029" y="4547"/>
                    <a:pt x="19004" y="3411"/>
                  </a:cubicBezTo>
                  <a:cubicBezTo>
                    <a:pt x="17654" y="2274"/>
                    <a:pt x="15629" y="1137"/>
                    <a:pt x="13604" y="2274"/>
                  </a:cubicBezTo>
                  <a:cubicBezTo>
                    <a:pt x="12254" y="2274"/>
                    <a:pt x="11579" y="4547"/>
                    <a:pt x="10904" y="4547"/>
                  </a:cubicBezTo>
                  <a:close/>
                </a:path>
              </a:pathLst>
            </a:custGeom>
            <a:solidFill>
              <a:srgbClr val="dadbdf"/>
            </a:solidFill>
            <a:ln w="4680">
              <a:solidFill>
                <a:srgbClr val="ffffff"/>
              </a:solidFill>
              <a:round/>
            </a:ln>
          </p:spPr>
          <p:style>
            <a:lnRef idx="0"/>
            <a:fillRef idx="0"/>
            <a:effectRef idx="0"/>
            <a:fontRef idx="minor"/>
          </p:style>
          <p:txBody>
            <a:bodyPr lIns="45360" rIns="45360" tIns="25560" bIns="25560" anchor="t">
              <a:noAutofit/>
            </a:bodyPr>
            <a:p>
              <a:endParaRPr b="0" lang="en-US" sz="1800" spc="-1" strike="noStrike">
                <a:solidFill>
                  <a:srgbClr val="000000"/>
                </a:solidFill>
                <a:latin typeface="Calibri"/>
              </a:endParaRPr>
            </a:p>
          </p:txBody>
        </p:sp>
        <p:sp>
          <p:nvSpPr>
            <p:cNvPr id="693" name="Shape 1307"/>
            <p:cNvSpPr/>
            <p:nvPr/>
          </p:nvSpPr>
          <p:spPr>
            <a:xfrm>
              <a:off x="8575920" y="3330000"/>
              <a:ext cx="65160" cy="59040"/>
            </a:xfrm>
            <a:custGeom>
              <a:avLst/>
              <a:gdLst/>
              <a:ahLst/>
              <a:rect l="l" t="t" r="r" b="b"/>
              <a:pathLst>
                <a:path w="19774" h="21600">
                  <a:moveTo>
                    <a:pt x="10903" y="0"/>
                  </a:moveTo>
                  <a:cubicBezTo>
                    <a:pt x="8503" y="0"/>
                    <a:pt x="-1097" y="0"/>
                    <a:pt x="103" y="2880"/>
                  </a:cubicBezTo>
                  <a:cubicBezTo>
                    <a:pt x="103" y="4320"/>
                    <a:pt x="2503" y="10080"/>
                    <a:pt x="3703" y="11520"/>
                  </a:cubicBezTo>
                  <a:cubicBezTo>
                    <a:pt x="6103" y="15840"/>
                    <a:pt x="10903" y="18720"/>
                    <a:pt x="14503" y="21600"/>
                  </a:cubicBezTo>
                  <a:cubicBezTo>
                    <a:pt x="14503" y="18720"/>
                    <a:pt x="14503" y="15840"/>
                    <a:pt x="16903" y="14400"/>
                  </a:cubicBezTo>
                  <a:cubicBezTo>
                    <a:pt x="19303" y="12960"/>
                    <a:pt x="20503" y="11520"/>
                    <a:pt x="19303" y="8640"/>
                  </a:cubicBezTo>
                  <a:cubicBezTo>
                    <a:pt x="19303" y="5760"/>
                    <a:pt x="19303" y="4320"/>
                    <a:pt x="18103" y="2880"/>
                  </a:cubicBezTo>
                  <a:cubicBezTo>
                    <a:pt x="15703" y="1440"/>
                    <a:pt x="13303" y="0"/>
                    <a:pt x="10903" y="0"/>
                  </a:cubicBezTo>
                  <a:close/>
                </a:path>
              </a:pathLst>
            </a:custGeom>
            <a:solidFill>
              <a:srgbClr val="dadbdf"/>
            </a:solidFill>
            <a:ln w="4680">
              <a:solidFill>
                <a:srgbClr val="ffffff"/>
              </a:solidFill>
              <a:round/>
            </a:ln>
          </p:spPr>
          <p:style>
            <a:lnRef idx="0"/>
            <a:fillRef idx="0"/>
            <a:effectRef idx="0"/>
            <a:fontRef idx="minor"/>
          </p:style>
          <p:txBody>
            <a:bodyPr lIns="45360" rIns="45360" tIns="12240" bIns="12240" anchor="t">
              <a:noAutofit/>
            </a:bodyPr>
            <a:p>
              <a:endParaRPr b="0" lang="en-US" sz="1800" spc="-1" strike="noStrike">
                <a:solidFill>
                  <a:srgbClr val="000000"/>
                </a:solidFill>
                <a:latin typeface="Calibri"/>
              </a:endParaRPr>
            </a:p>
          </p:txBody>
        </p:sp>
        <p:sp>
          <p:nvSpPr>
            <p:cNvPr id="694" name="Shape 1308"/>
            <p:cNvSpPr/>
            <p:nvPr/>
          </p:nvSpPr>
          <p:spPr>
            <a:xfrm>
              <a:off x="8623440" y="3304440"/>
              <a:ext cx="84960" cy="103320"/>
            </a:xfrm>
            <a:custGeom>
              <a:avLst/>
              <a:gdLst/>
              <a:ahLst/>
              <a:rect l="l" t="t" r="r" b="b"/>
              <a:pathLst>
                <a:path w="21025" h="21008">
                  <a:moveTo>
                    <a:pt x="20618" y="14608"/>
                  </a:moveTo>
                  <a:cubicBezTo>
                    <a:pt x="21600" y="13808"/>
                    <a:pt x="20618" y="13808"/>
                    <a:pt x="19636" y="13008"/>
                  </a:cubicBezTo>
                  <a:cubicBezTo>
                    <a:pt x="18655" y="12208"/>
                    <a:pt x="18655" y="11408"/>
                    <a:pt x="18655" y="9808"/>
                  </a:cubicBezTo>
                  <a:cubicBezTo>
                    <a:pt x="20618" y="7408"/>
                    <a:pt x="17673" y="7408"/>
                    <a:pt x="14727" y="7408"/>
                  </a:cubicBezTo>
                  <a:cubicBezTo>
                    <a:pt x="13745" y="7408"/>
                    <a:pt x="13745" y="6608"/>
                    <a:pt x="13745" y="5808"/>
                  </a:cubicBezTo>
                  <a:cubicBezTo>
                    <a:pt x="12764" y="4208"/>
                    <a:pt x="11782" y="5008"/>
                    <a:pt x="11782" y="3408"/>
                  </a:cubicBezTo>
                  <a:cubicBezTo>
                    <a:pt x="10800" y="1008"/>
                    <a:pt x="8836" y="-592"/>
                    <a:pt x="4909" y="208"/>
                  </a:cubicBezTo>
                  <a:cubicBezTo>
                    <a:pt x="1964" y="1008"/>
                    <a:pt x="1964" y="1008"/>
                    <a:pt x="1964" y="2608"/>
                  </a:cubicBezTo>
                  <a:cubicBezTo>
                    <a:pt x="2945" y="5008"/>
                    <a:pt x="3927" y="7408"/>
                    <a:pt x="3927" y="10608"/>
                  </a:cubicBezTo>
                  <a:cubicBezTo>
                    <a:pt x="4909" y="13008"/>
                    <a:pt x="1964" y="12208"/>
                    <a:pt x="982" y="14608"/>
                  </a:cubicBezTo>
                  <a:cubicBezTo>
                    <a:pt x="0" y="15408"/>
                    <a:pt x="0" y="17008"/>
                    <a:pt x="0" y="17808"/>
                  </a:cubicBezTo>
                  <a:cubicBezTo>
                    <a:pt x="0" y="19408"/>
                    <a:pt x="2945" y="20208"/>
                    <a:pt x="3927" y="21008"/>
                  </a:cubicBezTo>
                  <a:cubicBezTo>
                    <a:pt x="3927" y="20208"/>
                    <a:pt x="3927" y="17808"/>
                    <a:pt x="5891" y="17808"/>
                  </a:cubicBezTo>
                  <a:cubicBezTo>
                    <a:pt x="7855" y="17808"/>
                    <a:pt x="8836" y="18608"/>
                    <a:pt x="9818" y="20208"/>
                  </a:cubicBezTo>
                  <a:cubicBezTo>
                    <a:pt x="10800" y="20208"/>
                    <a:pt x="17673" y="18608"/>
                    <a:pt x="19636" y="18608"/>
                  </a:cubicBezTo>
                  <a:cubicBezTo>
                    <a:pt x="17673" y="17008"/>
                    <a:pt x="19636" y="16208"/>
                    <a:pt x="20618" y="14608"/>
                  </a:cubicBezTo>
                  <a:cubicBezTo>
                    <a:pt x="21600" y="13808"/>
                    <a:pt x="19636" y="15408"/>
                    <a:pt x="20618" y="1460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95" name="Shape 1309"/>
            <p:cNvSpPr/>
            <p:nvPr/>
          </p:nvSpPr>
          <p:spPr>
            <a:xfrm>
              <a:off x="8583120" y="3241440"/>
              <a:ext cx="126000" cy="72000"/>
            </a:xfrm>
            <a:custGeom>
              <a:avLst/>
              <a:gdLst/>
              <a:ahLst/>
              <a:rect l="l" t="t" r="r" b="b"/>
              <a:pathLst>
                <a:path w="19629" h="20646">
                  <a:moveTo>
                    <a:pt x="17485" y="2457"/>
                  </a:moveTo>
                  <a:cubicBezTo>
                    <a:pt x="17485" y="1320"/>
                    <a:pt x="14400" y="1320"/>
                    <a:pt x="13782" y="183"/>
                  </a:cubicBezTo>
                  <a:cubicBezTo>
                    <a:pt x="11314" y="-954"/>
                    <a:pt x="12548" y="3593"/>
                    <a:pt x="10697" y="3593"/>
                  </a:cubicBezTo>
                  <a:cubicBezTo>
                    <a:pt x="10080" y="2457"/>
                    <a:pt x="9462" y="3593"/>
                    <a:pt x="8228" y="3593"/>
                  </a:cubicBezTo>
                  <a:cubicBezTo>
                    <a:pt x="7611" y="3593"/>
                    <a:pt x="7611" y="5867"/>
                    <a:pt x="6994" y="5867"/>
                  </a:cubicBezTo>
                  <a:cubicBezTo>
                    <a:pt x="4525" y="8141"/>
                    <a:pt x="3291" y="5867"/>
                    <a:pt x="2057" y="3593"/>
                  </a:cubicBezTo>
                  <a:cubicBezTo>
                    <a:pt x="2057" y="4730"/>
                    <a:pt x="2057" y="5867"/>
                    <a:pt x="2057" y="7004"/>
                  </a:cubicBezTo>
                  <a:cubicBezTo>
                    <a:pt x="1440" y="8141"/>
                    <a:pt x="822" y="5867"/>
                    <a:pt x="822" y="8141"/>
                  </a:cubicBezTo>
                  <a:cubicBezTo>
                    <a:pt x="822" y="11551"/>
                    <a:pt x="-1029" y="13825"/>
                    <a:pt x="822" y="16099"/>
                  </a:cubicBezTo>
                  <a:cubicBezTo>
                    <a:pt x="2057" y="18372"/>
                    <a:pt x="3908" y="20646"/>
                    <a:pt x="5760" y="20646"/>
                  </a:cubicBezTo>
                  <a:cubicBezTo>
                    <a:pt x="8228" y="20646"/>
                    <a:pt x="9462" y="17235"/>
                    <a:pt x="11931" y="18372"/>
                  </a:cubicBezTo>
                  <a:cubicBezTo>
                    <a:pt x="11931" y="17235"/>
                    <a:pt x="13782" y="17235"/>
                    <a:pt x="14400" y="16099"/>
                  </a:cubicBezTo>
                  <a:cubicBezTo>
                    <a:pt x="15017" y="13825"/>
                    <a:pt x="15634" y="11551"/>
                    <a:pt x="16868" y="9278"/>
                  </a:cubicBezTo>
                  <a:cubicBezTo>
                    <a:pt x="17485" y="7004"/>
                    <a:pt x="18102" y="7004"/>
                    <a:pt x="19337" y="5867"/>
                  </a:cubicBezTo>
                  <a:cubicBezTo>
                    <a:pt x="20571" y="3593"/>
                    <a:pt x="17485" y="3593"/>
                    <a:pt x="17485" y="2457"/>
                  </a:cubicBezTo>
                  <a:cubicBezTo>
                    <a:pt x="17485" y="2457"/>
                    <a:pt x="17485" y="3593"/>
                    <a:pt x="17485" y="2457"/>
                  </a:cubicBezTo>
                  <a:close/>
                </a:path>
              </a:pathLst>
            </a:custGeom>
            <a:solidFill>
              <a:srgbClr val="dadbdf"/>
            </a:solidFill>
            <a:ln w="4680">
              <a:solidFill>
                <a:srgbClr val="ffffff"/>
              </a:solidFill>
              <a:round/>
            </a:ln>
          </p:spPr>
          <p:style>
            <a:lnRef idx="0"/>
            <a:fillRef idx="0"/>
            <a:effectRef idx="0"/>
            <a:fontRef idx="minor"/>
          </p:style>
          <p:txBody>
            <a:bodyPr lIns="45360" rIns="45360" tIns="25200" bIns="25200" anchor="t">
              <a:noAutofit/>
            </a:bodyPr>
            <a:p>
              <a:endParaRPr b="0" lang="en-US" sz="1800" spc="-1" strike="noStrike">
                <a:solidFill>
                  <a:srgbClr val="000000"/>
                </a:solidFill>
                <a:latin typeface="Calibri"/>
              </a:endParaRPr>
            </a:p>
          </p:txBody>
        </p:sp>
        <p:sp>
          <p:nvSpPr>
            <p:cNvPr id="696" name="Shape 1310"/>
            <p:cNvSpPr/>
            <p:nvPr/>
          </p:nvSpPr>
          <p:spPr>
            <a:xfrm>
              <a:off x="8658000" y="3408120"/>
              <a:ext cx="120600" cy="123120"/>
            </a:xfrm>
            <a:custGeom>
              <a:avLst/>
              <a:gdLst/>
              <a:ahLst/>
              <a:rect l="l" t="t" r="r" b="b"/>
              <a:pathLst>
                <a:path w="21252" h="20991">
                  <a:moveTo>
                    <a:pt x="21252" y="0"/>
                  </a:moveTo>
                  <a:cubicBezTo>
                    <a:pt x="19162" y="1350"/>
                    <a:pt x="18465" y="2700"/>
                    <a:pt x="15678" y="2025"/>
                  </a:cubicBezTo>
                  <a:cubicBezTo>
                    <a:pt x="14284" y="1350"/>
                    <a:pt x="10104" y="675"/>
                    <a:pt x="8710" y="1350"/>
                  </a:cubicBezTo>
                  <a:cubicBezTo>
                    <a:pt x="8710" y="3375"/>
                    <a:pt x="6620" y="2025"/>
                    <a:pt x="5923" y="2700"/>
                  </a:cubicBezTo>
                  <a:cubicBezTo>
                    <a:pt x="5226" y="3375"/>
                    <a:pt x="4529" y="3375"/>
                    <a:pt x="3833" y="3375"/>
                  </a:cubicBezTo>
                  <a:cubicBezTo>
                    <a:pt x="2439" y="4050"/>
                    <a:pt x="2439" y="4725"/>
                    <a:pt x="2439" y="5400"/>
                  </a:cubicBezTo>
                  <a:cubicBezTo>
                    <a:pt x="1742" y="6075"/>
                    <a:pt x="1742" y="6750"/>
                    <a:pt x="1046" y="7425"/>
                  </a:cubicBezTo>
                  <a:cubicBezTo>
                    <a:pt x="-348" y="8775"/>
                    <a:pt x="-348" y="8775"/>
                    <a:pt x="1046" y="10125"/>
                  </a:cubicBezTo>
                  <a:cubicBezTo>
                    <a:pt x="1742" y="10800"/>
                    <a:pt x="2439" y="10800"/>
                    <a:pt x="2439" y="11475"/>
                  </a:cubicBezTo>
                  <a:cubicBezTo>
                    <a:pt x="2439" y="12825"/>
                    <a:pt x="2439" y="13500"/>
                    <a:pt x="3136" y="14850"/>
                  </a:cubicBezTo>
                  <a:cubicBezTo>
                    <a:pt x="3136" y="15525"/>
                    <a:pt x="3136" y="16200"/>
                    <a:pt x="3833" y="16875"/>
                  </a:cubicBezTo>
                  <a:cubicBezTo>
                    <a:pt x="5226" y="17550"/>
                    <a:pt x="3833" y="18225"/>
                    <a:pt x="4529" y="18900"/>
                  </a:cubicBezTo>
                  <a:cubicBezTo>
                    <a:pt x="4529" y="20250"/>
                    <a:pt x="5226" y="19575"/>
                    <a:pt x="5226" y="19575"/>
                  </a:cubicBezTo>
                  <a:cubicBezTo>
                    <a:pt x="6620" y="19575"/>
                    <a:pt x="6620" y="20250"/>
                    <a:pt x="6620" y="20925"/>
                  </a:cubicBezTo>
                  <a:cubicBezTo>
                    <a:pt x="7317" y="20925"/>
                    <a:pt x="8013" y="20250"/>
                    <a:pt x="8013" y="20250"/>
                  </a:cubicBezTo>
                  <a:cubicBezTo>
                    <a:pt x="8710" y="19575"/>
                    <a:pt x="8710" y="20925"/>
                    <a:pt x="8710" y="20925"/>
                  </a:cubicBezTo>
                  <a:cubicBezTo>
                    <a:pt x="9407" y="21600"/>
                    <a:pt x="8710" y="16875"/>
                    <a:pt x="8710" y="17550"/>
                  </a:cubicBezTo>
                  <a:cubicBezTo>
                    <a:pt x="8710" y="16875"/>
                    <a:pt x="10800" y="17550"/>
                    <a:pt x="11497" y="17550"/>
                  </a:cubicBezTo>
                  <a:cubicBezTo>
                    <a:pt x="11497" y="16875"/>
                    <a:pt x="9407" y="16200"/>
                    <a:pt x="9407" y="15525"/>
                  </a:cubicBezTo>
                  <a:cubicBezTo>
                    <a:pt x="10104" y="14175"/>
                    <a:pt x="11497" y="15525"/>
                    <a:pt x="11497" y="16200"/>
                  </a:cubicBezTo>
                  <a:cubicBezTo>
                    <a:pt x="12891" y="16875"/>
                    <a:pt x="12194" y="15525"/>
                    <a:pt x="12194" y="14850"/>
                  </a:cubicBezTo>
                  <a:cubicBezTo>
                    <a:pt x="12194" y="14175"/>
                    <a:pt x="14284" y="15525"/>
                    <a:pt x="14284" y="15525"/>
                  </a:cubicBezTo>
                  <a:cubicBezTo>
                    <a:pt x="14284" y="14850"/>
                    <a:pt x="12891" y="12825"/>
                    <a:pt x="12891" y="12825"/>
                  </a:cubicBezTo>
                  <a:cubicBezTo>
                    <a:pt x="12194" y="12150"/>
                    <a:pt x="10800" y="12150"/>
                    <a:pt x="10104" y="11475"/>
                  </a:cubicBezTo>
                  <a:cubicBezTo>
                    <a:pt x="10104" y="11475"/>
                    <a:pt x="10104" y="10125"/>
                    <a:pt x="10104" y="10800"/>
                  </a:cubicBezTo>
                  <a:cubicBezTo>
                    <a:pt x="9407" y="9450"/>
                    <a:pt x="7317" y="8100"/>
                    <a:pt x="7317" y="6750"/>
                  </a:cubicBezTo>
                  <a:cubicBezTo>
                    <a:pt x="8013" y="4050"/>
                    <a:pt x="10104" y="6750"/>
                    <a:pt x="10800" y="7425"/>
                  </a:cubicBezTo>
                  <a:cubicBezTo>
                    <a:pt x="10800" y="7425"/>
                    <a:pt x="10800" y="6750"/>
                    <a:pt x="10800" y="6750"/>
                  </a:cubicBezTo>
                  <a:cubicBezTo>
                    <a:pt x="11497" y="6075"/>
                    <a:pt x="12194" y="6750"/>
                    <a:pt x="12194" y="7425"/>
                  </a:cubicBezTo>
                  <a:cubicBezTo>
                    <a:pt x="12194" y="7425"/>
                    <a:pt x="11497" y="6075"/>
                    <a:pt x="11497" y="6075"/>
                  </a:cubicBezTo>
                  <a:cubicBezTo>
                    <a:pt x="12194" y="6075"/>
                    <a:pt x="13587" y="6750"/>
                    <a:pt x="14284" y="6750"/>
                  </a:cubicBezTo>
                  <a:cubicBezTo>
                    <a:pt x="14284" y="6075"/>
                    <a:pt x="11497" y="6075"/>
                    <a:pt x="11497" y="4725"/>
                  </a:cubicBezTo>
                  <a:cubicBezTo>
                    <a:pt x="11497" y="4725"/>
                    <a:pt x="14284" y="3375"/>
                    <a:pt x="14981" y="3375"/>
                  </a:cubicBezTo>
                  <a:cubicBezTo>
                    <a:pt x="14981" y="3375"/>
                    <a:pt x="14284" y="4725"/>
                    <a:pt x="14284" y="4725"/>
                  </a:cubicBezTo>
                  <a:cubicBezTo>
                    <a:pt x="14284" y="4725"/>
                    <a:pt x="16375" y="3375"/>
                    <a:pt x="17071" y="3375"/>
                  </a:cubicBezTo>
                  <a:cubicBezTo>
                    <a:pt x="17768" y="3375"/>
                    <a:pt x="18465" y="4050"/>
                    <a:pt x="19858" y="4725"/>
                  </a:cubicBezTo>
                  <a:cubicBezTo>
                    <a:pt x="20555" y="3375"/>
                    <a:pt x="21252" y="1350"/>
                    <a:pt x="21252"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97" name="Shape 1311"/>
            <p:cNvSpPr/>
            <p:nvPr/>
          </p:nvSpPr>
          <p:spPr>
            <a:xfrm>
              <a:off x="8769240" y="3403440"/>
              <a:ext cx="56160" cy="36000"/>
            </a:xfrm>
            <a:custGeom>
              <a:avLst/>
              <a:gdLst/>
              <a:ahLst/>
              <a:rect l="l" t="t" r="r" b="b"/>
              <a:pathLst>
                <a:path w="20563" h="20029">
                  <a:moveTo>
                    <a:pt x="20563" y="11929"/>
                  </a:moveTo>
                  <a:cubicBezTo>
                    <a:pt x="17683" y="7609"/>
                    <a:pt x="13363" y="7609"/>
                    <a:pt x="13363" y="1129"/>
                  </a:cubicBezTo>
                  <a:cubicBezTo>
                    <a:pt x="6163" y="-1031"/>
                    <a:pt x="4723" y="-1031"/>
                    <a:pt x="1843" y="9769"/>
                  </a:cubicBezTo>
                  <a:cubicBezTo>
                    <a:pt x="1843" y="11929"/>
                    <a:pt x="-1037" y="18409"/>
                    <a:pt x="403" y="18409"/>
                  </a:cubicBezTo>
                  <a:cubicBezTo>
                    <a:pt x="3283" y="20569"/>
                    <a:pt x="6163" y="20569"/>
                    <a:pt x="7603" y="18409"/>
                  </a:cubicBezTo>
                  <a:cubicBezTo>
                    <a:pt x="10483" y="16249"/>
                    <a:pt x="11923" y="14089"/>
                    <a:pt x="14803" y="14089"/>
                  </a:cubicBezTo>
                  <a:cubicBezTo>
                    <a:pt x="14803" y="14089"/>
                    <a:pt x="20563" y="14089"/>
                    <a:pt x="20563" y="11929"/>
                  </a:cubicBezTo>
                  <a:cubicBezTo>
                    <a:pt x="19123" y="11929"/>
                    <a:pt x="20563" y="14089"/>
                    <a:pt x="20563" y="11929"/>
                  </a:cubicBezTo>
                  <a:close/>
                </a:path>
              </a:pathLst>
            </a:custGeom>
            <a:solidFill>
              <a:srgbClr val="dadbdf"/>
            </a:solidFill>
            <a:ln w="4680">
              <a:solidFill>
                <a:srgbClr val="ffffff"/>
              </a:solidFill>
              <a:round/>
            </a:ln>
          </p:spPr>
          <p:style>
            <a:lnRef idx="0"/>
            <a:fillRef idx="0"/>
            <a:effectRef idx="0"/>
            <a:fontRef idx="minor"/>
          </p:style>
          <p:txBody>
            <a:bodyPr lIns="45360" rIns="45360" tIns="-10800" bIns="-10800" anchor="t">
              <a:noAutofit/>
            </a:bodyPr>
            <a:p>
              <a:endParaRPr b="0" lang="en-US" sz="1800" spc="-1" strike="noStrike">
                <a:solidFill>
                  <a:srgbClr val="000000"/>
                </a:solidFill>
                <a:latin typeface="Calibri"/>
              </a:endParaRPr>
            </a:p>
          </p:txBody>
        </p:sp>
        <p:sp>
          <p:nvSpPr>
            <p:cNvPr id="698" name="Shape 1312"/>
            <p:cNvSpPr/>
            <p:nvPr/>
          </p:nvSpPr>
          <p:spPr>
            <a:xfrm>
              <a:off x="8639640" y="3393000"/>
              <a:ext cx="30600" cy="67680"/>
            </a:xfrm>
            <a:custGeom>
              <a:avLst/>
              <a:gdLst/>
              <a:ahLst/>
              <a:rect l="l" t="t" r="r" b="b"/>
              <a:pathLst>
                <a:path w="18854" h="20517">
                  <a:moveTo>
                    <a:pt x="14400" y="18117"/>
                  </a:moveTo>
                  <a:cubicBezTo>
                    <a:pt x="16800" y="15717"/>
                    <a:pt x="21600" y="13317"/>
                    <a:pt x="16800" y="12117"/>
                  </a:cubicBezTo>
                  <a:cubicBezTo>
                    <a:pt x="14400" y="10917"/>
                    <a:pt x="12000" y="8517"/>
                    <a:pt x="14400" y="6117"/>
                  </a:cubicBezTo>
                  <a:cubicBezTo>
                    <a:pt x="14400" y="6117"/>
                    <a:pt x="16800" y="3717"/>
                    <a:pt x="16800" y="3717"/>
                  </a:cubicBezTo>
                  <a:cubicBezTo>
                    <a:pt x="14400" y="2517"/>
                    <a:pt x="9600" y="117"/>
                    <a:pt x="7200" y="117"/>
                  </a:cubicBezTo>
                  <a:cubicBezTo>
                    <a:pt x="0" y="-1083"/>
                    <a:pt x="0" y="7317"/>
                    <a:pt x="0" y="9717"/>
                  </a:cubicBezTo>
                  <a:cubicBezTo>
                    <a:pt x="0" y="14517"/>
                    <a:pt x="4800" y="16917"/>
                    <a:pt x="9600" y="20517"/>
                  </a:cubicBezTo>
                  <a:cubicBezTo>
                    <a:pt x="12000" y="19317"/>
                    <a:pt x="14400" y="18117"/>
                    <a:pt x="14400" y="18117"/>
                  </a:cubicBezTo>
                  <a:cubicBezTo>
                    <a:pt x="16800" y="15717"/>
                    <a:pt x="14400" y="18117"/>
                    <a:pt x="14400" y="18117"/>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699" name="Shape 1313"/>
            <p:cNvSpPr/>
            <p:nvPr/>
          </p:nvSpPr>
          <p:spPr>
            <a:xfrm>
              <a:off x="8662320" y="3397320"/>
              <a:ext cx="43200" cy="34920"/>
            </a:xfrm>
            <a:custGeom>
              <a:avLst/>
              <a:gdLst/>
              <a:ahLst/>
              <a:rect l="l" t="t" r="r" b="b"/>
              <a:pathLst>
                <a:path w="18355" h="21600">
                  <a:moveTo>
                    <a:pt x="17270" y="0"/>
                  </a:moveTo>
                  <a:cubicBezTo>
                    <a:pt x="13947" y="0"/>
                    <a:pt x="2316" y="0"/>
                    <a:pt x="2316" y="4800"/>
                  </a:cubicBezTo>
                  <a:cubicBezTo>
                    <a:pt x="-1007" y="9600"/>
                    <a:pt x="-1007" y="19200"/>
                    <a:pt x="3978" y="21600"/>
                  </a:cubicBezTo>
                  <a:cubicBezTo>
                    <a:pt x="5639" y="19200"/>
                    <a:pt x="8962" y="21600"/>
                    <a:pt x="10624" y="19200"/>
                  </a:cubicBezTo>
                  <a:cubicBezTo>
                    <a:pt x="12285" y="19200"/>
                    <a:pt x="13947" y="14400"/>
                    <a:pt x="15608" y="16800"/>
                  </a:cubicBezTo>
                  <a:cubicBezTo>
                    <a:pt x="20593" y="21600"/>
                    <a:pt x="17270" y="2400"/>
                    <a:pt x="17270" y="0"/>
                  </a:cubicBezTo>
                  <a:close/>
                </a:path>
              </a:pathLst>
            </a:custGeom>
            <a:solidFill>
              <a:srgbClr val="dadbdf"/>
            </a:solidFill>
            <a:ln w="4680">
              <a:solidFill>
                <a:srgbClr val="ffffff"/>
              </a:solidFill>
              <a:round/>
            </a:ln>
          </p:spPr>
          <p:style>
            <a:lnRef idx="0"/>
            <a:fillRef idx="0"/>
            <a:effectRef idx="0"/>
            <a:fontRef idx="minor"/>
          </p:style>
          <p:txBody>
            <a:bodyPr lIns="45360" rIns="45360" tIns="-11880" bIns="-11880" anchor="t">
              <a:noAutofit/>
            </a:bodyPr>
            <a:p>
              <a:endParaRPr b="0" lang="en-US" sz="1800" spc="-1" strike="noStrike">
                <a:solidFill>
                  <a:srgbClr val="000000"/>
                </a:solidFill>
                <a:latin typeface="Calibri"/>
              </a:endParaRPr>
            </a:p>
          </p:txBody>
        </p:sp>
        <p:sp>
          <p:nvSpPr>
            <p:cNvPr id="700" name="Shape 1314"/>
            <p:cNvSpPr/>
            <p:nvPr/>
          </p:nvSpPr>
          <p:spPr>
            <a:xfrm>
              <a:off x="9110160" y="3420360"/>
              <a:ext cx="59400" cy="58680"/>
            </a:xfrm>
            <a:custGeom>
              <a:avLst/>
              <a:gdLst/>
              <a:ahLst/>
              <a:rect l="l" t="t" r="r" b="b"/>
              <a:pathLst>
                <a:path w="17073" h="20055">
                  <a:moveTo>
                    <a:pt x="17073" y="18900"/>
                  </a:moveTo>
                  <a:cubicBezTo>
                    <a:pt x="17073" y="16200"/>
                    <a:pt x="17073" y="14850"/>
                    <a:pt x="14799" y="13500"/>
                  </a:cubicBezTo>
                  <a:cubicBezTo>
                    <a:pt x="12526" y="12150"/>
                    <a:pt x="14799" y="10800"/>
                    <a:pt x="13662" y="9450"/>
                  </a:cubicBezTo>
                  <a:cubicBezTo>
                    <a:pt x="12526" y="6750"/>
                    <a:pt x="11389" y="8100"/>
                    <a:pt x="11389" y="4050"/>
                  </a:cubicBezTo>
                  <a:cubicBezTo>
                    <a:pt x="11389" y="4050"/>
                    <a:pt x="7978" y="1350"/>
                    <a:pt x="9115" y="0"/>
                  </a:cubicBezTo>
                  <a:cubicBezTo>
                    <a:pt x="5705" y="0"/>
                    <a:pt x="-4527" y="1350"/>
                    <a:pt x="2294" y="8100"/>
                  </a:cubicBezTo>
                  <a:cubicBezTo>
                    <a:pt x="3431" y="9450"/>
                    <a:pt x="4568" y="10800"/>
                    <a:pt x="5705" y="12150"/>
                  </a:cubicBezTo>
                  <a:cubicBezTo>
                    <a:pt x="6841" y="13500"/>
                    <a:pt x="7978" y="13500"/>
                    <a:pt x="9115" y="14850"/>
                  </a:cubicBezTo>
                  <a:cubicBezTo>
                    <a:pt x="11389" y="14850"/>
                    <a:pt x="13662" y="14850"/>
                    <a:pt x="13662" y="17550"/>
                  </a:cubicBezTo>
                  <a:cubicBezTo>
                    <a:pt x="14799" y="18900"/>
                    <a:pt x="15936" y="21600"/>
                    <a:pt x="17073" y="18900"/>
                  </a:cubicBezTo>
                  <a:cubicBezTo>
                    <a:pt x="17073" y="17550"/>
                    <a:pt x="15936" y="20250"/>
                    <a:pt x="17073" y="18900"/>
                  </a:cubicBezTo>
                  <a:close/>
                </a:path>
              </a:pathLst>
            </a:custGeom>
            <a:solidFill>
              <a:srgbClr val="dadbdf"/>
            </a:solidFill>
            <a:ln w="4680">
              <a:solidFill>
                <a:srgbClr val="ffffff"/>
              </a:solidFill>
              <a:round/>
            </a:ln>
          </p:spPr>
          <p:style>
            <a:lnRef idx="0"/>
            <a:fillRef idx="0"/>
            <a:effectRef idx="0"/>
            <a:fontRef idx="minor"/>
          </p:style>
          <p:txBody>
            <a:bodyPr lIns="45360" rIns="45360" tIns="11880" bIns="11880" anchor="t">
              <a:noAutofit/>
            </a:bodyPr>
            <a:p>
              <a:endParaRPr b="0" lang="en-US" sz="1800" spc="-1" strike="noStrike">
                <a:solidFill>
                  <a:srgbClr val="000000"/>
                </a:solidFill>
                <a:latin typeface="Calibri"/>
              </a:endParaRPr>
            </a:p>
          </p:txBody>
        </p:sp>
        <p:sp>
          <p:nvSpPr>
            <p:cNvPr id="701" name="Shape 1315"/>
            <p:cNvSpPr/>
            <p:nvPr/>
          </p:nvSpPr>
          <p:spPr>
            <a:xfrm>
              <a:off x="9122400" y="3460320"/>
              <a:ext cx="380880" cy="324000"/>
            </a:xfrm>
            <a:custGeom>
              <a:avLst/>
              <a:gdLst/>
              <a:ahLst/>
              <a:rect l="l" t="t" r="r" b="b"/>
              <a:pathLst>
                <a:path w="21056" h="21109">
                  <a:moveTo>
                    <a:pt x="20727" y="18280"/>
                  </a:moveTo>
                  <a:cubicBezTo>
                    <a:pt x="20291" y="18023"/>
                    <a:pt x="20509" y="17509"/>
                    <a:pt x="20291" y="16995"/>
                  </a:cubicBezTo>
                  <a:cubicBezTo>
                    <a:pt x="20291" y="16738"/>
                    <a:pt x="19855" y="16480"/>
                    <a:pt x="19636" y="16223"/>
                  </a:cubicBezTo>
                  <a:cubicBezTo>
                    <a:pt x="19200" y="15966"/>
                    <a:pt x="18982" y="15452"/>
                    <a:pt x="18764" y="14938"/>
                  </a:cubicBezTo>
                  <a:cubicBezTo>
                    <a:pt x="18327" y="14423"/>
                    <a:pt x="18545" y="14423"/>
                    <a:pt x="18982" y="13652"/>
                  </a:cubicBezTo>
                  <a:cubicBezTo>
                    <a:pt x="19200" y="13395"/>
                    <a:pt x="19636" y="12880"/>
                    <a:pt x="19418" y="12366"/>
                  </a:cubicBezTo>
                  <a:cubicBezTo>
                    <a:pt x="19200" y="12109"/>
                    <a:pt x="18545" y="12109"/>
                    <a:pt x="18327" y="12109"/>
                  </a:cubicBezTo>
                  <a:cubicBezTo>
                    <a:pt x="18109" y="11852"/>
                    <a:pt x="18327" y="11338"/>
                    <a:pt x="18327" y="11338"/>
                  </a:cubicBezTo>
                  <a:cubicBezTo>
                    <a:pt x="18109" y="10823"/>
                    <a:pt x="18109" y="10052"/>
                    <a:pt x="18327" y="9795"/>
                  </a:cubicBezTo>
                  <a:cubicBezTo>
                    <a:pt x="18764" y="9280"/>
                    <a:pt x="18109" y="9023"/>
                    <a:pt x="17891" y="8766"/>
                  </a:cubicBezTo>
                  <a:cubicBezTo>
                    <a:pt x="17891" y="8509"/>
                    <a:pt x="18327" y="7738"/>
                    <a:pt x="18545" y="7480"/>
                  </a:cubicBezTo>
                  <a:cubicBezTo>
                    <a:pt x="18545" y="7223"/>
                    <a:pt x="18982" y="4652"/>
                    <a:pt x="18764" y="4652"/>
                  </a:cubicBezTo>
                  <a:cubicBezTo>
                    <a:pt x="18109" y="4652"/>
                    <a:pt x="17891" y="4652"/>
                    <a:pt x="17236" y="4138"/>
                  </a:cubicBezTo>
                  <a:cubicBezTo>
                    <a:pt x="17018" y="3880"/>
                    <a:pt x="16800" y="3623"/>
                    <a:pt x="16582" y="3366"/>
                  </a:cubicBezTo>
                  <a:cubicBezTo>
                    <a:pt x="16364" y="3109"/>
                    <a:pt x="15709" y="3109"/>
                    <a:pt x="15491" y="2852"/>
                  </a:cubicBezTo>
                  <a:cubicBezTo>
                    <a:pt x="15055" y="2852"/>
                    <a:pt x="14836" y="2852"/>
                    <a:pt x="14400" y="2595"/>
                  </a:cubicBezTo>
                  <a:cubicBezTo>
                    <a:pt x="14182" y="2080"/>
                    <a:pt x="13745" y="2338"/>
                    <a:pt x="13309" y="2338"/>
                  </a:cubicBezTo>
                  <a:cubicBezTo>
                    <a:pt x="13091" y="2595"/>
                    <a:pt x="12655" y="2338"/>
                    <a:pt x="12436" y="2595"/>
                  </a:cubicBezTo>
                  <a:cubicBezTo>
                    <a:pt x="12000" y="2595"/>
                    <a:pt x="11782" y="3109"/>
                    <a:pt x="11564" y="3366"/>
                  </a:cubicBezTo>
                  <a:cubicBezTo>
                    <a:pt x="11345" y="3623"/>
                    <a:pt x="10691" y="3366"/>
                    <a:pt x="10691" y="3880"/>
                  </a:cubicBezTo>
                  <a:cubicBezTo>
                    <a:pt x="10691" y="4395"/>
                    <a:pt x="10473" y="4395"/>
                    <a:pt x="10036" y="4652"/>
                  </a:cubicBezTo>
                  <a:cubicBezTo>
                    <a:pt x="8945" y="4909"/>
                    <a:pt x="8073" y="4909"/>
                    <a:pt x="7200" y="4138"/>
                  </a:cubicBezTo>
                  <a:cubicBezTo>
                    <a:pt x="6982" y="3880"/>
                    <a:pt x="6764" y="3623"/>
                    <a:pt x="6545" y="3623"/>
                  </a:cubicBezTo>
                  <a:cubicBezTo>
                    <a:pt x="6109" y="3109"/>
                    <a:pt x="5891" y="3366"/>
                    <a:pt x="5455" y="3366"/>
                  </a:cubicBezTo>
                  <a:cubicBezTo>
                    <a:pt x="5236" y="3109"/>
                    <a:pt x="5236" y="2338"/>
                    <a:pt x="5236" y="2080"/>
                  </a:cubicBezTo>
                  <a:cubicBezTo>
                    <a:pt x="4582" y="1823"/>
                    <a:pt x="4364" y="1566"/>
                    <a:pt x="4364" y="795"/>
                  </a:cubicBezTo>
                  <a:cubicBezTo>
                    <a:pt x="4364" y="-491"/>
                    <a:pt x="3491" y="280"/>
                    <a:pt x="3055" y="795"/>
                  </a:cubicBezTo>
                  <a:cubicBezTo>
                    <a:pt x="2836" y="1052"/>
                    <a:pt x="2618" y="1309"/>
                    <a:pt x="2400" y="1309"/>
                  </a:cubicBezTo>
                  <a:cubicBezTo>
                    <a:pt x="1964" y="1052"/>
                    <a:pt x="1309" y="1052"/>
                    <a:pt x="1091" y="538"/>
                  </a:cubicBezTo>
                  <a:cubicBezTo>
                    <a:pt x="655" y="23"/>
                    <a:pt x="655" y="-234"/>
                    <a:pt x="218" y="280"/>
                  </a:cubicBezTo>
                  <a:cubicBezTo>
                    <a:pt x="218" y="538"/>
                    <a:pt x="0" y="538"/>
                    <a:pt x="0" y="795"/>
                  </a:cubicBezTo>
                  <a:cubicBezTo>
                    <a:pt x="0" y="1052"/>
                    <a:pt x="0" y="1309"/>
                    <a:pt x="218" y="1566"/>
                  </a:cubicBezTo>
                  <a:cubicBezTo>
                    <a:pt x="218" y="1566"/>
                    <a:pt x="436" y="2080"/>
                    <a:pt x="218" y="2080"/>
                  </a:cubicBezTo>
                  <a:cubicBezTo>
                    <a:pt x="218" y="2338"/>
                    <a:pt x="0" y="2338"/>
                    <a:pt x="218" y="2595"/>
                  </a:cubicBezTo>
                  <a:cubicBezTo>
                    <a:pt x="218" y="2852"/>
                    <a:pt x="655" y="2852"/>
                    <a:pt x="655" y="3109"/>
                  </a:cubicBezTo>
                  <a:cubicBezTo>
                    <a:pt x="655" y="3366"/>
                    <a:pt x="436" y="3623"/>
                    <a:pt x="655" y="3623"/>
                  </a:cubicBezTo>
                  <a:cubicBezTo>
                    <a:pt x="873" y="4138"/>
                    <a:pt x="873" y="4395"/>
                    <a:pt x="1091" y="4909"/>
                  </a:cubicBezTo>
                  <a:cubicBezTo>
                    <a:pt x="1309" y="5166"/>
                    <a:pt x="1309" y="5423"/>
                    <a:pt x="1745" y="5680"/>
                  </a:cubicBezTo>
                  <a:cubicBezTo>
                    <a:pt x="1745" y="5680"/>
                    <a:pt x="2182" y="5938"/>
                    <a:pt x="2182" y="5938"/>
                  </a:cubicBezTo>
                  <a:cubicBezTo>
                    <a:pt x="2400" y="6966"/>
                    <a:pt x="436" y="7995"/>
                    <a:pt x="1745" y="9023"/>
                  </a:cubicBezTo>
                  <a:cubicBezTo>
                    <a:pt x="2182" y="9280"/>
                    <a:pt x="2182" y="9795"/>
                    <a:pt x="2618" y="10052"/>
                  </a:cubicBezTo>
                  <a:cubicBezTo>
                    <a:pt x="3055" y="10566"/>
                    <a:pt x="3491" y="10823"/>
                    <a:pt x="3927" y="11595"/>
                  </a:cubicBezTo>
                  <a:cubicBezTo>
                    <a:pt x="3927" y="11852"/>
                    <a:pt x="3709" y="12109"/>
                    <a:pt x="3709" y="12366"/>
                  </a:cubicBezTo>
                  <a:cubicBezTo>
                    <a:pt x="3927" y="12623"/>
                    <a:pt x="4364" y="12623"/>
                    <a:pt x="4145" y="12880"/>
                  </a:cubicBezTo>
                  <a:cubicBezTo>
                    <a:pt x="4145" y="13652"/>
                    <a:pt x="4582" y="13909"/>
                    <a:pt x="4800" y="14423"/>
                  </a:cubicBezTo>
                  <a:cubicBezTo>
                    <a:pt x="5236" y="14166"/>
                    <a:pt x="5018" y="13909"/>
                    <a:pt x="5236" y="13652"/>
                  </a:cubicBezTo>
                  <a:cubicBezTo>
                    <a:pt x="5236" y="13652"/>
                    <a:pt x="5455" y="13909"/>
                    <a:pt x="5455" y="13909"/>
                  </a:cubicBezTo>
                  <a:cubicBezTo>
                    <a:pt x="5891" y="13909"/>
                    <a:pt x="5455" y="13909"/>
                    <a:pt x="5673" y="14166"/>
                  </a:cubicBezTo>
                  <a:cubicBezTo>
                    <a:pt x="5891" y="14423"/>
                    <a:pt x="6109" y="13652"/>
                    <a:pt x="6545" y="14166"/>
                  </a:cubicBezTo>
                  <a:cubicBezTo>
                    <a:pt x="6982" y="14938"/>
                    <a:pt x="7200" y="15709"/>
                    <a:pt x="7636" y="16480"/>
                  </a:cubicBezTo>
                  <a:cubicBezTo>
                    <a:pt x="8073" y="17252"/>
                    <a:pt x="9164" y="18023"/>
                    <a:pt x="10036" y="18538"/>
                  </a:cubicBezTo>
                  <a:cubicBezTo>
                    <a:pt x="10473" y="18795"/>
                    <a:pt x="10909" y="18795"/>
                    <a:pt x="11345" y="19052"/>
                  </a:cubicBezTo>
                  <a:cubicBezTo>
                    <a:pt x="11564" y="19052"/>
                    <a:pt x="12218" y="18795"/>
                    <a:pt x="12218" y="18795"/>
                  </a:cubicBezTo>
                  <a:cubicBezTo>
                    <a:pt x="12218" y="18795"/>
                    <a:pt x="12218" y="19052"/>
                    <a:pt x="12218" y="19052"/>
                  </a:cubicBezTo>
                  <a:cubicBezTo>
                    <a:pt x="12436" y="19052"/>
                    <a:pt x="13091" y="18538"/>
                    <a:pt x="13309" y="18280"/>
                  </a:cubicBezTo>
                  <a:cubicBezTo>
                    <a:pt x="13309" y="18280"/>
                    <a:pt x="13091" y="18280"/>
                    <a:pt x="13091" y="18280"/>
                  </a:cubicBezTo>
                  <a:cubicBezTo>
                    <a:pt x="13091" y="18023"/>
                    <a:pt x="13527" y="18280"/>
                    <a:pt x="13527" y="18280"/>
                  </a:cubicBezTo>
                  <a:cubicBezTo>
                    <a:pt x="13964" y="18538"/>
                    <a:pt x="13964" y="18795"/>
                    <a:pt x="14182" y="19309"/>
                  </a:cubicBezTo>
                  <a:cubicBezTo>
                    <a:pt x="14400" y="20080"/>
                    <a:pt x="14618" y="20080"/>
                    <a:pt x="15055" y="20338"/>
                  </a:cubicBezTo>
                  <a:cubicBezTo>
                    <a:pt x="16364" y="20595"/>
                    <a:pt x="17891" y="20852"/>
                    <a:pt x="19200" y="21109"/>
                  </a:cubicBezTo>
                  <a:cubicBezTo>
                    <a:pt x="19200" y="20080"/>
                    <a:pt x="19418" y="19823"/>
                    <a:pt x="20073" y="19309"/>
                  </a:cubicBezTo>
                  <a:cubicBezTo>
                    <a:pt x="20509" y="19052"/>
                    <a:pt x="21600" y="18795"/>
                    <a:pt x="20727" y="18280"/>
                  </a:cubicBezTo>
                  <a:cubicBezTo>
                    <a:pt x="20509" y="18023"/>
                    <a:pt x="21164" y="18538"/>
                    <a:pt x="20727" y="1828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02" name="Shape 1316"/>
            <p:cNvSpPr/>
            <p:nvPr/>
          </p:nvSpPr>
          <p:spPr>
            <a:xfrm>
              <a:off x="9130680" y="3456720"/>
              <a:ext cx="30960" cy="22680"/>
            </a:xfrm>
            <a:custGeom>
              <a:avLst/>
              <a:gdLst/>
              <a:ahLst/>
              <a:rect l="l" t="t" r="r" b="b"/>
              <a:pathLst>
                <a:path w="21600" h="21600">
                  <a:moveTo>
                    <a:pt x="2700" y="3600"/>
                  </a:moveTo>
                  <a:cubicBezTo>
                    <a:pt x="5400" y="3600"/>
                    <a:pt x="5400" y="10800"/>
                    <a:pt x="8100" y="14400"/>
                  </a:cubicBezTo>
                  <a:cubicBezTo>
                    <a:pt x="13500" y="14400"/>
                    <a:pt x="16200" y="18000"/>
                    <a:pt x="21600" y="21600"/>
                  </a:cubicBezTo>
                  <a:cubicBezTo>
                    <a:pt x="18900" y="7200"/>
                    <a:pt x="8100" y="3600"/>
                    <a:pt x="0" y="0"/>
                  </a:cubicBezTo>
                  <a:cubicBezTo>
                    <a:pt x="0" y="3600"/>
                    <a:pt x="0" y="3600"/>
                    <a:pt x="2700" y="3600"/>
                  </a:cubicBezTo>
                  <a:cubicBezTo>
                    <a:pt x="5400" y="3600"/>
                    <a:pt x="0" y="3600"/>
                    <a:pt x="2700" y="3600"/>
                  </a:cubicBezTo>
                  <a:close/>
                </a:path>
              </a:pathLst>
            </a:custGeom>
            <a:solidFill>
              <a:srgbClr val="dadbdf"/>
            </a:solidFill>
            <a:ln w="4680">
              <a:solidFill>
                <a:srgbClr val="ffffff"/>
              </a:solidFill>
              <a:round/>
            </a:ln>
          </p:spPr>
          <p:style>
            <a:lnRef idx="0"/>
            <a:fillRef idx="0"/>
            <a:effectRef idx="0"/>
            <a:fontRef idx="minor"/>
          </p:style>
          <p:txBody>
            <a:bodyPr lIns="45360" rIns="45360" tIns="-24120" bIns="-24120" anchor="t">
              <a:noAutofit/>
            </a:bodyPr>
            <a:p>
              <a:endParaRPr b="0" lang="en-US" sz="1800" spc="-1" strike="noStrike">
                <a:solidFill>
                  <a:srgbClr val="000000"/>
                </a:solidFill>
                <a:latin typeface="Calibri"/>
              </a:endParaRPr>
            </a:p>
          </p:txBody>
        </p:sp>
        <p:sp>
          <p:nvSpPr>
            <p:cNvPr id="703" name="Shape 1317"/>
            <p:cNvSpPr/>
            <p:nvPr/>
          </p:nvSpPr>
          <p:spPr>
            <a:xfrm>
              <a:off x="9038880" y="3366360"/>
              <a:ext cx="135360" cy="65880"/>
            </a:xfrm>
            <a:custGeom>
              <a:avLst/>
              <a:gdLst/>
              <a:ahLst/>
              <a:rect l="l" t="t" r="r" b="b"/>
              <a:pathLst>
                <a:path w="21066" h="20007">
                  <a:moveTo>
                    <a:pt x="16046" y="16407"/>
                  </a:moveTo>
                  <a:cubicBezTo>
                    <a:pt x="16663" y="15207"/>
                    <a:pt x="17897" y="17607"/>
                    <a:pt x="18514" y="18807"/>
                  </a:cubicBezTo>
                  <a:cubicBezTo>
                    <a:pt x="18514" y="18807"/>
                    <a:pt x="20983" y="18807"/>
                    <a:pt x="20983" y="18807"/>
                  </a:cubicBezTo>
                  <a:cubicBezTo>
                    <a:pt x="21600" y="17607"/>
                    <a:pt x="18514" y="12807"/>
                    <a:pt x="20366" y="12807"/>
                  </a:cubicBezTo>
                  <a:cubicBezTo>
                    <a:pt x="19749" y="11607"/>
                    <a:pt x="18514" y="11607"/>
                    <a:pt x="18514" y="10407"/>
                  </a:cubicBezTo>
                  <a:cubicBezTo>
                    <a:pt x="18514" y="8007"/>
                    <a:pt x="17897" y="6807"/>
                    <a:pt x="16663" y="6807"/>
                  </a:cubicBezTo>
                  <a:cubicBezTo>
                    <a:pt x="14811" y="6807"/>
                    <a:pt x="13577" y="8007"/>
                    <a:pt x="11726" y="5607"/>
                  </a:cubicBezTo>
                  <a:cubicBezTo>
                    <a:pt x="9874" y="4407"/>
                    <a:pt x="8023" y="4407"/>
                    <a:pt x="5554" y="3207"/>
                  </a:cubicBezTo>
                  <a:cubicBezTo>
                    <a:pt x="3703" y="2007"/>
                    <a:pt x="2469" y="-1593"/>
                    <a:pt x="0" y="807"/>
                  </a:cubicBezTo>
                  <a:cubicBezTo>
                    <a:pt x="1851" y="5607"/>
                    <a:pt x="6789" y="6807"/>
                    <a:pt x="4937" y="15207"/>
                  </a:cubicBezTo>
                  <a:cubicBezTo>
                    <a:pt x="6789" y="15207"/>
                    <a:pt x="11109" y="15207"/>
                    <a:pt x="11109" y="20007"/>
                  </a:cubicBezTo>
                  <a:cubicBezTo>
                    <a:pt x="11109" y="16407"/>
                    <a:pt x="14811" y="16407"/>
                    <a:pt x="16046" y="16407"/>
                  </a:cubicBezTo>
                  <a:cubicBezTo>
                    <a:pt x="16663" y="15207"/>
                    <a:pt x="11726" y="16407"/>
                    <a:pt x="16046" y="16407"/>
                  </a:cubicBezTo>
                  <a:close/>
                </a:path>
              </a:pathLst>
            </a:custGeom>
            <a:solidFill>
              <a:srgbClr val="dadbdf"/>
            </a:solidFill>
            <a:ln w="4680">
              <a:solidFill>
                <a:srgbClr val="ffffff"/>
              </a:solidFill>
              <a:round/>
            </a:ln>
          </p:spPr>
          <p:style>
            <a:lnRef idx="0"/>
            <a:fillRef idx="0"/>
            <a:effectRef idx="0"/>
            <a:fontRef idx="minor"/>
          </p:style>
          <p:txBody>
            <a:bodyPr lIns="45360" rIns="45360" tIns="19080" bIns="19080" anchor="t">
              <a:noAutofit/>
            </a:bodyPr>
            <a:p>
              <a:endParaRPr b="0" lang="en-US" sz="1800" spc="-1" strike="noStrike">
                <a:solidFill>
                  <a:srgbClr val="000000"/>
                </a:solidFill>
                <a:latin typeface="Calibri"/>
              </a:endParaRPr>
            </a:p>
          </p:txBody>
        </p:sp>
        <p:sp>
          <p:nvSpPr>
            <p:cNvPr id="704" name="Shape 1318"/>
            <p:cNvSpPr/>
            <p:nvPr/>
          </p:nvSpPr>
          <p:spPr>
            <a:xfrm>
              <a:off x="9143280" y="3408120"/>
              <a:ext cx="91440" cy="83520"/>
            </a:xfrm>
            <a:custGeom>
              <a:avLst/>
              <a:gdLst/>
              <a:ahLst/>
              <a:rect l="l" t="t" r="r" b="b"/>
              <a:pathLst>
                <a:path w="18544" h="21600">
                  <a:moveTo>
                    <a:pt x="4622" y="2057"/>
                  </a:moveTo>
                  <a:cubicBezTo>
                    <a:pt x="4622" y="2057"/>
                    <a:pt x="7022" y="4114"/>
                    <a:pt x="6222" y="5143"/>
                  </a:cubicBezTo>
                  <a:cubicBezTo>
                    <a:pt x="6222" y="5143"/>
                    <a:pt x="3822" y="5143"/>
                    <a:pt x="3822" y="5143"/>
                  </a:cubicBezTo>
                  <a:cubicBezTo>
                    <a:pt x="2222" y="5143"/>
                    <a:pt x="2222" y="3086"/>
                    <a:pt x="1422" y="3086"/>
                  </a:cubicBezTo>
                  <a:cubicBezTo>
                    <a:pt x="-1778" y="2057"/>
                    <a:pt x="1422" y="6171"/>
                    <a:pt x="1422" y="7200"/>
                  </a:cubicBezTo>
                  <a:cubicBezTo>
                    <a:pt x="1422" y="10286"/>
                    <a:pt x="3822" y="8229"/>
                    <a:pt x="3022" y="11314"/>
                  </a:cubicBezTo>
                  <a:cubicBezTo>
                    <a:pt x="2222" y="13371"/>
                    <a:pt x="3822" y="13371"/>
                    <a:pt x="4622" y="14400"/>
                  </a:cubicBezTo>
                  <a:cubicBezTo>
                    <a:pt x="5422" y="14400"/>
                    <a:pt x="5422" y="16457"/>
                    <a:pt x="5422" y="17486"/>
                  </a:cubicBezTo>
                  <a:cubicBezTo>
                    <a:pt x="6222" y="16457"/>
                    <a:pt x="9422" y="14400"/>
                    <a:pt x="11022" y="13371"/>
                  </a:cubicBezTo>
                  <a:cubicBezTo>
                    <a:pt x="11822" y="13371"/>
                    <a:pt x="11822" y="15429"/>
                    <a:pt x="11822" y="16457"/>
                  </a:cubicBezTo>
                  <a:cubicBezTo>
                    <a:pt x="11822" y="19543"/>
                    <a:pt x="12622" y="20571"/>
                    <a:pt x="15022" y="21600"/>
                  </a:cubicBezTo>
                  <a:cubicBezTo>
                    <a:pt x="15022" y="20571"/>
                    <a:pt x="15022" y="18514"/>
                    <a:pt x="15022" y="18514"/>
                  </a:cubicBezTo>
                  <a:cubicBezTo>
                    <a:pt x="15822" y="17486"/>
                    <a:pt x="16622" y="17486"/>
                    <a:pt x="16622" y="16457"/>
                  </a:cubicBezTo>
                  <a:cubicBezTo>
                    <a:pt x="17422" y="14400"/>
                    <a:pt x="17422" y="12343"/>
                    <a:pt x="18222" y="11314"/>
                  </a:cubicBezTo>
                  <a:cubicBezTo>
                    <a:pt x="19822" y="8229"/>
                    <a:pt x="15022" y="2057"/>
                    <a:pt x="13422" y="1029"/>
                  </a:cubicBezTo>
                  <a:cubicBezTo>
                    <a:pt x="11822" y="4114"/>
                    <a:pt x="10222" y="4114"/>
                    <a:pt x="7822" y="2057"/>
                  </a:cubicBezTo>
                  <a:cubicBezTo>
                    <a:pt x="7822" y="1029"/>
                    <a:pt x="6222" y="0"/>
                    <a:pt x="5422" y="0"/>
                  </a:cubicBezTo>
                  <a:cubicBezTo>
                    <a:pt x="4622" y="0"/>
                    <a:pt x="4622" y="1029"/>
                    <a:pt x="4622" y="2057"/>
                  </a:cubicBezTo>
                  <a:cubicBezTo>
                    <a:pt x="5422" y="3086"/>
                    <a:pt x="3822" y="0"/>
                    <a:pt x="4622" y="2057"/>
                  </a:cubicBezTo>
                  <a:close/>
                </a:path>
              </a:pathLst>
            </a:custGeom>
            <a:solidFill>
              <a:srgbClr val="dadbdf"/>
            </a:solidFill>
            <a:ln w="4680">
              <a:solidFill>
                <a:srgbClr val="ffffff"/>
              </a:solidFill>
              <a:round/>
            </a:ln>
          </p:spPr>
          <p:style>
            <a:lnRef idx="0"/>
            <a:fillRef idx="0"/>
            <a:effectRef idx="0"/>
            <a:fontRef idx="minor"/>
          </p:style>
          <p:txBody>
            <a:bodyPr lIns="45360" rIns="45360" tIns="36720" bIns="36720" anchor="t">
              <a:noAutofit/>
            </a:bodyPr>
            <a:p>
              <a:endParaRPr b="0" lang="en-US" sz="1800" spc="-1" strike="noStrike">
                <a:solidFill>
                  <a:srgbClr val="000000"/>
                </a:solidFill>
                <a:latin typeface="Calibri"/>
              </a:endParaRPr>
            </a:p>
          </p:txBody>
        </p:sp>
        <p:sp>
          <p:nvSpPr>
            <p:cNvPr id="705" name="Shape 1319"/>
            <p:cNvSpPr/>
            <p:nvPr/>
          </p:nvSpPr>
          <p:spPr>
            <a:xfrm>
              <a:off x="9169560" y="3674520"/>
              <a:ext cx="34920" cy="35640"/>
            </a:xfrm>
            <a:custGeom>
              <a:avLst/>
              <a:gdLst/>
              <a:ahLst/>
              <a:rect l="l" t="t" r="r" b="b"/>
              <a:pathLst>
                <a:path w="21600" h="19128">
                  <a:moveTo>
                    <a:pt x="7200" y="1848"/>
                  </a:moveTo>
                  <a:cubicBezTo>
                    <a:pt x="2400" y="4008"/>
                    <a:pt x="0" y="8328"/>
                    <a:pt x="0" y="12648"/>
                  </a:cubicBezTo>
                  <a:cubicBezTo>
                    <a:pt x="2400" y="12648"/>
                    <a:pt x="9600" y="12648"/>
                    <a:pt x="9600" y="14808"/>
                  </a:cubicBezTo>
                  <a:cubicBezTo>
                    <a:pt x="14400" y="19128"/>
                    <a:pt x="16800" y="19128"/>
                    <a:pt x="21600" y="19128"/>
                  </a:cubicBezTo>
                  <a:cubicBezTo>
                    <a:pt x="21600" y="19128"/>
                    <a:pt x="16800" y="8328"/>
                    <a:pt x="16800" y="8328"/>
                  </a:cubicBezTo>
                  <a:cubicBezTo>
                    <a:pt x="19200" y="8328"/>
                    <a:pt x="21600" y="8328"/>
                    <a:pt x="19200" y="4008"/>
                  </a:cubicBezTo>
                  <a:cubicBezTo>
                    <a:pt x="14400" y="1848"/>
                    <a:pt x="12000" y="-2472"/>
                    <a:pt x="7200" y="1848"/>
                  </a:cubicBezTo>
                  <a:cubicBezTo>
                    <a:pt x="2400" y="6168"/>
                    <a:pt x="9600" y="-312"/>
                    <a:pt x="7200" y="1848"/>
                  </a:cubicBezTo>
                  <a:close/>
                </a:path>
              </a:pathLst>
            </a:custGeom>
            <a:solidFill>
              <a:srgbClr val="dadbdf"/>
            </a:solidFill>
            <a:ln w="4680">
              <a:solidFill>
                <a:srgbClr val="ffffff"/>
              </a:solidFill>
              <a:round/>
            </a:ln>
          </p:spPr>
          <p:style>
            <a:lnRef idx="0"/>
            <a:fillRef idx="0"/>
            <a:effectRef idx="0"/>
            <a:fontRef idx="minor"/>
          </p:style>
          <p:txBody>
            <a:bodyPr lIns="45360" rIns="45360" tIns="-11160" bIns="-11160" anchor="t">
              <a:noAutofit/>
            </a:bodyPr>
            <a:p>
              <a:endParaRPr b="0" lang="en-US" sz="1800" spc="-1" strike="noStrike">
                <a:solidFill>
                  <a:srgbClr val="000000"/>
                </a:solidFill>
                <a:latin typeface="Calibri"/>
              </a:endParaRPr>
            </a:p>
          </p:txBody>
        </p:sp>
        <p:sp>
          <p:nvSpPr>
            <p:cNvPr id="706" name="Shape 1320"/>
            <p:cNvSpPr/>
            <p:nvPr/>
          </p:nvSpPr>
          <p:spPr>
            <a:xfrm>
              <a:off x="8954640" y="3520080"/>
              <a:ext cx="131400" cy="106200"/>
            </a:xfrm>
            <a:custGeom>
              <a:avLst/>
              <a:gdLst/>
              <a:ahLst/>
              <a:rect l="l" t="t" r="r" b="b"/>
              <a:pathLst>
                <a:path w="20652" h="21600">
                  <a:moveTo>
                    <a:pt x="16949" y="8000"/>
                  </a:moveTo>
                  <a:cubicBezTo>
                    <a:pt x="17566" y="7200"/>
                    <a:pt x="18183" y="6400"/>
                    <a:pt x="17566" y="5600"/>
                  </a:cubicBezTo>
                  <a:cubicBezTo>
                    <a:pt x="16949" y="4800"/>
                    <a:pt x="16332" y="4800"/>
                    <a:pt x="16949" y="4000"/>
                  </a:cubicBezTo>
                  <a:cubicBezTo>
                    <a:pt x="18183" y="2400"/>
                    <a:pt x="20652" y="2400"/>
                    <a:pt x="20652" y="0"/>
                  </a:cubicBezTo>
                  <a:cubicBezTo>
                    <a:pt x="18801" y="0"/>
                    <a:pt x="16332" y="0"/>
                    <a:pt x="14481" y="800"/>
                  </a:cubicBezTo>
                  <a:cubicBezTo>
                    <a:pt x="13246" y="800"/>
                    <a:pt x="12012" y="1600"/>
                    <a:pt x="10778" y="1600"/>
                  </a:cubicBezTo>
                  <a:cubicBezTo>
                    <a:pt x="8926" y="1600"/>
                    <a:pt x="8309" y="800"/>
                    <a:pt x="7075" y="1600"/>
                  </a:cubicBezTo>
                  <a:cubicBezTo>
                    <a:pt x="5841" y="2400"/>
                    <a:pt x="5223" y="2400"/>
                    <a:pt x="3989" y="1600"/>
                  </a:cubicBezTo>
                  <a:cubicBezTo>
                    <a:pt x="2755" y="0"/>
                    <a:pt x="3372" y="3200"/>
                    <a:pt x="3372" y="3200"/>
                  </a:cubicBezTo>
                  <a:cubicBezTo>
                    <a:pt x="2755" y="4000"/>
                    <a:pt x="2755" y="4800"/>
                    <a:pt x="2755" y="4800"/>
                  </a:cubicBezTo>
                  <a:cubicBezTo>
                    <a:pt x="2138" y="6400"/>
                    <a:pt x="1521" y="4800"/>
                    <a:pt x="903" y="4800"/>
                  </a:cubicBezTo>
                  <a:cubicBezTo>
                    <a:pt x="286" y="5600"/>
                    <a:pt x="903" y="7200"/>
                    <a:pt x="903" y="8000"/>
                  </a:cubicBezTo>
                  <a:cubicBezTo>
                    <a:pt x="903" y="8800"/>
                    <a:pt x="286" y="10400"/>
                    <a:pt x="1521" y="11200"/>
                  </a:cubicBezTo>
                  <a:cubicBezTo>
                    <a:pt x="4606" y="13600"/>
                    <a:pt x="2138" y="15200"/>
                    <a:pt x="286" y="17600"/>
                  </a:cubicBezTo>
                  <a:cubicBezTo>
                    <a:pt x="-948" y="19200"/>
                    <a:pt x="2138" y="21600"/>
                    <a:pt x="3372" y="21600"/>
                  </a:cubicBezTo>
                  <a:cubicBezTo>
                    <a:pt x="4606" y="21600"/>
                    <a:pt x="5841" y="20000"/>
                    <a:pt x="7075" y="19200"/>
                  </a:cubicBezTo>
                  <a:cubicBezTo>
                    <a:pt x="8926" y="17600"/>
                    <a:pt x="10778" y="16800"/>
                    <a:pt x="12629" y="15200"/>
                  </a:cubicBezTo>
                  <a:cubicBezTo>
                    <a:pt x="13863" y="14400"/>
                    <a:pt x="15098" y="13600"/>
                    <a:pt x="16332" y="12000"/>
                  </a:cubicBezTo>
                  <a:cubicBezTo>
                    <a:pt x="16949" y="10400"/>
                    <a:pt x="16332" y="8800"/>
                    <a:pt x="16949" y="8000"/>
                  </a:cubicBezTo>
                  <a:cubicBezTo>
                    <a:pt x="17566" y="6400"/>
                    <a:pt x="16949" y="8800"/>
                    <a:pt x="16949" y="80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07" name="Shape 1321"/>
            <p:cNvSpPr/>
            <p:nvPr/>
          </p:nvSpPr>
          <p:spPr>
            <a:xfrm>
              <a:off x="9015480" y="3515040"/>
              <a:ext cx="193320" cy="182880"/>
            </a:xfrm>
            <a:custGeom>
              <a:avLst/>
              <a:gdLst/>
              <a:ahLst/>
              <a:rect l="l" t="t" r="r" b="b"/>
              <a:pathLst>
                <a:path w="21210" h="21255">
                  <a:moveTo>
                    <a:pt x="19914" y="16200"/>
                  </a:moveTo>
                  <a:cubicBezTo>
                    <a:pt x="19914" y="16200"/>
                    <a:pt x="19050" y="15740"/>
                    <a:pt x="19050" y="15281"/>
                  </a:cubicBezTo>
                  <a:cubicBezTo>
                    <a:pt x="19050" y="14821"/>
                    <a:pt x="19482" y="14821"/>
                    <a:pt x="19482" y="14361"/>
                  </a:cubicBezTo>
                  <a:cubicBezTo>
                    <a:pt x="19050" y="13442"/>
                    <a:pt x="18186" y="12983"/>
                    <a:pt x="17322" y="12064"/>
                  </a:cubicBezTo>
                  <a:cubicBezTo>
                    <a:pt x="16890" y="12064"/>
                    <a:pt x="16026" y="11604"/>
                    <a:pt x="16026" y="11144"/>
                  </a:cubicBezTo>
                  <a:cubicBezTo>
                    <a:pt x="15594" y="10225"/>
                    <a:pt x="14730" y="9306"/>
                    <a:pt x="14730" y="7927"/>
                  </a:cubicBezTo>
                  <a:cubicBezTo>
                    <a:pt x="14298" y="7008"/>
                    <a:pt x="16890" y="5170"/>
                    <a:pt x="16026" y="4251"/>
                  </a:cubicBezTo>
                  <a:cubicBezTo>
                    <a:pt x="15162" y="3791"/>
                    <a:pt x="14730" y="3332"/>
                    <a:pt x="14298" y="2412"/>
                  </a:cubicBezTo>
                  <a:cubicBezTo>
                    <a:pt x="13866" y="1953"/>
                    <a:pt x="13866" y="1034"/>
                    <a:pt x="13434" y="574"/>
                  </a:cubicBezTo>
                  <a:cubicBezTo>
                    <a:pt x="13002" y="574"/>
                    <a:pt x="13002" y="1034"/>
                    <a:pt x="12570" y="1034"/>
                  </a:cubicBezTo>
                  <a:cubicBezTo>
                    <a:pt x="11706" y="1034"/>
                    <a:pt x="12138" y="115"/>
                    <a:pt x="11706" y="115"/>
                  </a:cubicBezTo>
                  <a:cubicBezTo>
                    <a:pt x="11274" y="115"/>
                    <a:pt x="10410" y="574"/>
                    <a:pt x="10410" y="574"/>
                  </a:cubicBezTo>
                  <a:cubicBezTo>
                    <a:pt x="9546" y="-345"/>
                    <a:pt x="9114" y="115"/>
                    <a:pt x="8250" y="115"/>
                  </a:cubicBezTo>
                  <a:cubicBezTo>
                    <a:pt x="7386" y="574"/>
                    <a:pt x="7818" y="1034"/>
                    <a:pt x="7386" y="1493"/>
                  </a:cubicBezTo>
                  <a:cubicBezTo>
                    <a:pt x="6522" y="1953"/>
                    <a:pt x="5658" y="1953"/>
                    <a:pt x="5226" y="2872"/>
                  </a:cubicBezTo>
                  <a:cubicBezTo>
                    <a:pt x="4794" y="3791"/>
                    <a:pt x="5658" y="3332"/>
                    <a:pt x="5658" y="4251"/>
                  </a:cubicBezTo>
                  <a:cubicBezTo>
                    <a:pt x="5658" y="4710"/>
                    <a:pt x="5226" y="4710"/>
                    <a:pt x="5226" y="5629"/>
                  </a:cubicBezTo>
                  <a:cubicBezTo>
                    <a:pt x="5226" y="7008"/>
                    <a:pt x="4794" y="7468"/>
                    <a:pt x="3498" y="8387"/>
                  </a:cubicBezTo>
                  <a:cubicBezTo>
                    <a:pt x="2634" y="8846"/>
                    <a:pt x="-390" y="10225"/>
                    <a:pt x="42" y="11144"/>
                  </a:cubicBezTo>
                  <a:cubicBezTo>
                    <a:pt x="474" y="11604"/>
                    <a:pt x="474" y="12983"/>
                    <a:pt x="906" y="13442"/>
                  </a:cubicBezTo>
                  <a:cubicBezTo>
                    <a:pt x="1338" y="13902"/>
                    <a:pt x="3066" y="13902"/>
                    <a:pt x="3498" y="13902"/>
                  </a:cubicBezTo>
                  <a:cubicBezTo>
                    <a:pt x="4794" y="14361"/>
                    <a:pt x="6090" y="15281"/>
                    <a:pt x="7386" y="16200"/>
                  </a:cubicBezTo>
                  <a:cubicBezTo>
                    <a:pt x="9114" y="17578"/>
                    <a:pt x="10410" y="18957"/>
                    <a:pt x="12138" y="20336"/>
                  </a:cubicBezTo>
                  <a:cubicBezTo>
                    <a:pt x="13434" y="21255"/>
                    <a:pt x="14730" y="21255"/>
                    <a:pt x="16026" y="21255"/>
                  </a:cubicBezTo>
                  <a:cubicBezTo>
                    <a:pt x="17322" y="21255"/>
                    <a:pt x="17322" y="19876"/>
                    <a:pt x="18186" y="18957"/>
                  </a:cubicBezTo>
                  <a:cubicBezTo>
                    <a:pt x="19050" y="18038"/>
                    <a:pt x="20778" y="19876"/>
                    <a:pt x="21210" y="19417"/>
                  </a:cubicBezTo>
                  <a:cubicBezTo>
                    <a:pt x="20778" y="18957"/>
                    <a:pt x="20346" y="18498"/>
                    <a:pt x="19914" y="17578"/>
                  </a:cubicBezTo>
                  <a:cubicBezTo>
                    <a:pt x="19914" y="17119"/>
                    <a:pt x="20346" y="16659"/>
                    <a:pt x="19914" y="16200"/>
                  </a:cubicBezTo>
                  <a:cubicBezTo>
                    <a:pt x="19482" y="15740"/>
                    <a:pt x="20346" y="16659"/>
                    <a:pt x="19914" y="162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08" name="Shape 1322"/>
            <p:cNvSpPr/>
            <p:nvPr/>
          </p:nvSpPr>
          <p:spPr>
            <a:xfrm>
              <a:off x="8768160" y="3404160"/>
              <a:ext cx="366120" cy="142920"/>
            </a:xfrm>
            <a:custGeom>
              <a:avLst/>
              <a:gdLst/>
              <a:ahLst/>
              <a:rect l="l" t="t" r="r" b="b"/>
              <a:pathLst>
                <a:path w="21113" h="21600">
                  <a:moveTo>
                    <a:pt x="11501" y="21600"/>
                  </a:moveTo>
                  <a:cubicBezTo>
                    <a:pt x="11729" y="21000"/>
                    <a:pt x="11956" y="19800"/>
                    <a:pt x="11956" y="19800"/>
                  </a:cubicBezTo>
                  <a:cubicBezTo>
                    <a:pt x="11729" y="18600"/>
                    <a:pt x="11956" y="18000"/>
                    <a:pt x="12183" y="18600"/>
                  </a:cubicBezTo>
                  <a:cubicBezTo>
                    <a:pt x="12638" y="19200"/>
                    <a:pt x="12865" y="18600"/>
                    <a:pt x="13320" y="18600"/>
                  </a:cubicBezTo>
                  <a:cubicBezTo>
                    <a:pt x="13775" y="18000"/>
                    <a:pt x="13775" y="18000"/>
                    <a:pt x="14230" y="18600"/>
                  </a:cubicBezTo>
                  <a:cubicBezTo>
                    <a:pt x="15139" y="18600"/>
                    <a:pt x="15821" y="17400"/>
                    <a:pt x="16731" y="17400"/>
                  </a:cubicBezTo>
                  <a:cubicBezTo>
                    <a:pt x="17413" y="17400"/>
                    <a:pt x="18322" y="17400"/>
                    <a:pt x="19004" y="16800"/>
                  </a:cubicBezTo>
                  <a:cubicBezTo>
                    <a:pt x="19459" y="16200"/>
                    <a:pt x="19459" y="17400"/>
                    <a:pt x="20141" y="16800"/>
                  </a:cubicBezTo>
                  <a:cubicBezTo>
                    <a:pt x="20596" y="16200"/>
                    <a:pt x="20369" y="17400"/>
                    <a:pt x="20596" y="18000"/>
                  </a:cubicBezTo>
                  <a:cubicBezTo>
                    <a:pt x="20823" y="18600"/>
                    <a:pt x="21278" y="17400"/>
                    <a:pt x="21051" y="16800"/>
                  </a:cubicBezTo>
                  <a:cubicBezTo>
                    <a:pt x="20823" y="16200"/>
                    <a:pt x="21278" y="15000"/>
                    <a:pt x="20596" y="14400"/>
                  </a:cubicBezTo>
                  <a:cubicBezTo>
                    <a:pt x="20369" y="13800"/>
                    <a:pt x="20823" y="13800"/>
                    <a:pt x="20596" y="13200"/>
                  </a:cubicBezTo>
                  <a:cubicBezTo>
                    <a:pt x="20596" y="12000"/>
                    <a:pt x="20369" y="11400"/>
                    <a:pt x="20369" y="10200"/>
                  </a:cubicBezTo>
                  <a:cubicBezTo>
                    <a:pt x="20369" y="9600"/>
                    <a:pt x="20823" y="8400"/>
                    <a:pt x="20823" y="8400"/>
                  </a:cubicBezTo>
                  <a:cubicBezTo>
                    <a:pt x="20596" y="7200"/>
                    <a:pt x="20141" y="6600"/>
                    <a:pt x="19914" y="4800"/>
                  </a:cubicBezTo>
                  <a:cubicBezTo>
                    <a:pt x="19459" y="3000"/>
                    <a:pt x="19459" y="2400"/>
                    <a:pt x="18550" y="1800"/>
                  </a:cubicBezTo>
                  <a:cubicBezTo>
                    <a:pt x="18322" y="1800"/>
                    <a:pt x="18095" y="1800"/>
                    <a:pt x="17867" y="1800"/>
                  </a:cubicBezTo>
                  <a:cubicBezTo>
                    <a:pt x="17413" y="1200"/>
                    <a:pt x="17640" y="1800"/>
                    <a:pt x="17413" y="1800"/>
                  </a:cubicBezTo>
                  <a:cubicBezTo>
                    <a:pt x="16958" y="3000"/>
                    <a:pt x="16503" y="3000"/>
                    <a:pt x="16276" y="3600"/>
                  </a:cubicBezTo>
                  <a:cubicBezTo>
                    <a:pt x="15594" y="4200"/>
                    <a:pt x="14684" y="3600"/>
                    <a:pt x="14002" y="3600"/>
                  </a:cubicBezTo>
                  <a:cubicBezTo>
                    <a:pt x="13547" y="3600"/>
                    <a:pt x="13093" y="3600"/>
                    <a:pt x="12865" y="3600"/>
                  </a:cubicBezTo>
                  <a:cubicBezTo>
                    <a:pt x="12411" y="3000"/>
                    <a:pt x="12411" y="2400"/>
                    <a:pt x="11956" y="2400"/>
                  </a:cubicBezTo>
                  <a:cubicBezTo>
                    <a:pt x="11501" y="2400"/>
                    <a:pt x="11274" y="1800"/>
                    <a:pt x="11046" y="1200"/>
                  </a:cubicBezTo>
                  <a:cubicBezTo>
                    <a:pt x="10819" y="1200"/>
                    <a:pt x="9910" y="0"/>
                    <a:pt x="10137" y="0"/>
                  </a:cubicBezTo>
                  <a:cubicBezTo>
                    <a:pt x="9682" y="600"/>
                    <a:pt x="8545" y="0"/>
                    <a:pt x="8091" y="0"/>
                  </a:cubicBezTo>
                  <a:cubicBezTo>
                    <a:pt x="7409" y="0"/>
                    <a:pt x="6726" y="1800"/>
                    <a:pt x="6272" y="2400"/>
                  </a:cubicBezTo>
                  <a:cubicBezTo>
                    <a:pt x="5590" y="3600"/>
                    <a:pt x="4453" y="2400"/>
                    <a:pt x="3771" y="3000"/>
                  </a:cubicBezTo>
                  <a:cubicBezTo>
                    <a:pt x="3543" y="3000"/>
                    <a:pt x="3316" y="3000"/>
                    <a:pt x="3316" y="3600"/>
                  </a:cubicBezTo>
                  <a:cubicBezTo>
                    <a:pt x="3316" y="3600"/>
                    <a:pt x="3771" y="3600"/>
                    <a:pt x="3771" y="4200"/>
                  </a:cubicBezTo>
                  <a:cubicBezTo>
                    <a:pt x="3771" y="4200"/>
                    <a:pt x="3089" y="4200"/>
                    <a:pt x="3089" y="4800"/>
                  </a:cubicBezTo>
                  <a:cubicBezTo>
                    <a:pt x="3089" y="5400"/>
                    <a:pt x="3089" y="5400"/>
                    <a:pt x="2634" y="5400"/>
                  </a:cubicBezTo>
                  <a:cubicBezTo>
                    <a:pt x="1952" y="5400"/>
                    <a:pt x="1270" y="5400"/>
                    <a:pt x="587" y="5400"/>
                  </a:cubicBezTo>
                  <a:cubicBezTo>
                    <a:pt x="133" y="5400"/>
                    <a:pt x="360" y="6000"/>
                    <a:pt x="360" y="6600"/>
                  </a:cubicBezTo>
                  <a:cubicBezTo>
                    <a:pt x="133" y="7800"/>
                    <a:pt x="-322" y="8400"/>
                    <a:pt x="360" y="9000"/>
                  </a:cubicBezTo>
                  <a:cubicBezTo>
                    <a:pt x="360" y="9000"/>
                    <a:pt x="815" y="8400"/>
                    <a:pt x="815" y="8400"/>
                  </a:cubicBezTo>
                  <a:cubicBezTo>
                    <a:pt x="815" y="9000"/>
                    <a:pt x="360" y="10200"/>
                    <a:pt x="360" y="10200"/>
                  </a:cubicBezTo>
                  <a:cubicBezTo>
                    <a:pt x="587" y="10800"/>
                    <a:pt x="587" y="10200"/>
                    <a:pt x="815" y="10200"/>
                  </a:cubicBezTo>
                  <a:cubicBezTo>
                    <a:pt x="815" y="10200"/>
                    <a:pt x="815" y="11400"/>
                    <a:pt x="815" y="11400"/>
                  </a:cubicBezTo>
                  <a:cubicBezTo>
                    <a:pt x="1270" y="13200"/>
                    <a:pt x="587" y="12000"/>
                    <a:pt x="360" y="12000"/>
                  </a:cubicBezTo>
                  <a:cubicBezTo>
                    <a:pt x="360" y="12000"/>
                    <a:pt x="133" y="13800"/>
                    <a:pt x="587" y="13200"/>
                  </a:cubicBezTo>
                  <a:cubicBezTo>
                    <a:pt x="1042" y="13200"/>
                    <a:pt x="587" y="14400"/>
                    <a:pt x="587" y="15000"/>
                  </a:cubicBezTo>
                  <a:cubicBezTo>
                    <a:pt x="587" y="15600"/>
                    <a:pt x="1270" y="15600"/>
                    <a:pt x="1497" y="16200"/>
                  </a:cubicBezTo>
                  <a:cubicBezTo>
                    <a:pt x="1724" y="16800"/>
                    <a:pt x="1270" y="18000"/>
                    <a:pt x="1270" y="18000"/>
                  </a:cubicBezTo>
                  <a:cubicBezTo>
                    <a:pt x="1497" y="18000"/>
                    <a:pt x="1724" y="16800"/>
                    <a:pt x="1952" y="18000"/>
                  </a:cubicBezTo>
                  <a:cubicBezTo>
                    <a:pt x="1952" y="18600"/>
                    <a:pt x="1497" y="18600"/>
                    <a:pt x="1497" y="18600"/>
                  </a:cubicBezTo>
                  <a:cubicBezTo>
                    <a:pt x="1497" y="18600"/>
                    <a:pt x="1952" y="18600"/>
                    <a:pt x="1952" y="18600"/>
                  </a:cubicBezTo>
                  <a:cubicBezTo>
                    <a:pt x="2179" y="19200"/>
                    <a:pt x="1952" y="19800"/>
                    <a:pt x="1724" y="20400"/>
                  </a:cubicBezTo>
                  <a:cubicBezTo>
                    <a:pt x="1724" y="21000"/>
                    <a:pt x="2179" y="21600"/>
                    <a:pt x="2179" y="21000"/>
                  </a:cubicBezTo>
                  <a:cubicBezTo>
                    <a:pt x="2406" y="20400"/>
                    <a:pt x="2179" y="19200"/>
                    <a:pt x="2406" y="18600"/>
                  </a:cubicBezTo>
                  <a:cubicBezTo>
                    <a:pt x="2634" y="18000"/>
                    <a:pt x="3089" y="19200"/>
                    <a:pt x="3316" y="19200"/>
                  </a:cubicBezTo>
                  <a:cubicBezTo>
                    <a:pt x="3771" y="19800"/>
                    <a:pt x="4225" y="21000"/>
                    <a:pt x="4680" y="19800"/>
                  </a:cubicBezTo>
                  <a:cubicBezTo>
                    <a:pt x="5362" y="19200"/>
                    <a:pt x="4907" y="17400"/>
                    <a:pt x="5817" y="18600"/>
                  </a:cubicBezTo>
                  <a:cubicBezTo>
                    <a:pt x="6272" y="19800"/>
                    <a:pt x="6954" y="21000"/>
                    <a:pt x="7636" y="21000"/>
                  </a:cubicBezTo>
                  <a:cubicBezTo>
                    <a:pt x="8091" y="20400"/>
                    <a:pt x="8773" y="19800"/>
                    <a:pt x="9227" y="19200"/>
                  </a:cubicBezTo>
                  <a:cubicBezTo>
                    <a:pt x="9455" y="18600"/>
                    <a:pt x="9455" y="18000"/>
                    <a:pt x="9682" y="18000"/>
                  </a:cubicBezTo>
                  <a:cubicBezTo>
                    <a:pt x="10137" y="18600"/>
                    <a:pt x="10364" y="19200"/>
                    <a:pt x="10592" y="18600"/>
                  </a:cubicBezTo>
                  <a:cubicBezTo>
                    <a:pt x="11274" y="18000"/>
                    <a:pt x="11274" y="18600"/>
                    <a:pt x="11046" y="19800"/>
                  </a:cubicBezTo>
                  <a:cubicBezTo>
                    <a:pt x="11046" y="20400"/>
                    <a:pt x="11501" y="20400"/>
                    <a:pt x="11046" y="21000"/>
                  </a:cubicBezTo>
                  <a:cubicBezTo>
                    <a:pt x="11274" y="21600"/>
                    <a:pt x="11274" y="21600"/>
                    <a:pt x="11501" y="21600"/>
                  </a:cubicBezTo>
                  <a:cubicBezTo>
                    <a:pt x="11729" y="21000"/>
                    <a:pt x="11274" y="21600"/>
                    <a:pt x="11501" y="21600"/>
                  </a:cubicBezTo>
                  <a:close/>
                </a:path>
              </a:pathLst>
            </a:custGeom>
            <a:solidFill>
              <a:srgbClr val="dadbd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09" name="Shape 1323"/>
            <p:cNvSpPr/>
            <p:nvPr/>
          </p:nvSpPr>
          <p:spPr>
            <a:xfrm>
              <a:off x="8934840" y="3631680"/>
              <a:ext cx="412920" cy="331920"/>
            </a:xfrm>
            <a:custGeom>
              <a:avLst/>
              <a:gdLst/>
              <a:ahLst/>
              <a:rect l="l" t="t" r="r" b="b"/>
              <a:pathLst>
                <a:path w="21475" h="21536">
                  <a:moveTo>
                    <a:pt x="13246" y="5079"/>
                  </a:moveTo>
                  <a:cubicBezTo>
                    <a:pt x="13041" y="4307"/>
                    <a:pt x="13041" y="4307"/>
                    <a:pt x="12424" y="4307"/>
                  </a:cubicBezTo>
                  <a:cubicBezTo>
                    <a:pt x="11806" y="4307"/>
                    <a:pt x="11189" y="4307"/>
                    <a:pt x="10572" y="4307"/>
                  </a:cubicBezTo>
                  <a:cubicBezTo>
                    <a:pt x="10161" y="4307"/>
                    <a:pt x="9955" y="3793"/>
                    <a:pt x="9749" y="3793"/>
                  </a:cubicBezTo>
                  <a:cubicBezTo>
                    <a:pt x="9132" y="3022"/>
                    <a:pt x="8515" y="2507"/>
                    <a:pt x="8104" y="1993"/>
                  </a:cubicBezTo>
                  <a:cubicBezTo>
                    <a:pt x="7281" y="1222"/>
                    <a:pt x="6458" y="450"/>
                    <a:pt x="5429" y="193"/>
                  </a:cubicBezTo>
                  <a:cubicBezTo>
                    <a:pt x="5018" y="-64"/>
                    <a:pt x="4812" y="-64"/>
                    <a:pt x="4195" y="193"/>
                  </a:cubicBezTo>
                  <a:cubicBezTo>
                    <a:pt x="3784" y="193"/>
                    <a:pt x="3166" y="450"/>
                    <a:pt x="2549" y="707"/>
                  </a:cubicBezTo>
                  <a:cubicBezTo>
                    <a:pt x="2755" y="1222"/>
                    <a:pt x="3372" y="1736"/>
                    <a:pt x="3372" y="2250"/>
                  </a:cubicBezTo>
                  <a:cubicBezTo>
                    <a:pt x="3372" y="2765"/>
                    <a:pt x="2755" y="3022"/>
                    <a:pt x="2549" y="3022"/>
                  </a:cubicBezTo>
                  <a:cubicBezTo>
                    <a:pt x="2344" y="3279"/>
                    <a:pt x="2138" y="3022"/>
                    <a:pt x="1932" y="3022"/>
                  </a:cubicBezTo>
                  <a:cubicBezTo>
                    <a:pt x="1726" y="3279"/>
                    <a:pt x="1726" y="3536"/>
                    <a:pt x="1726" y="3536"/>
                  </a:cubicBezTo>
                  <a:cubicBezTo>
                    <a:pt x="1315" y="4307"/>
                    <a:pt x="492" y="3793"/>
                    <a:pt x="286" y="3536"/>
                  </a:cubicBezTo>
                  <a:cubicBezTo>
                    <a:pt x="81" y="4050"/>
                    <a:pt x="81" y="4307"/>
                    <a:pt x="81" y="4822"/>
                  </a:cubicBezTo>
                  <a:cubicBezTo>
                    <a:pt x="-125" y="5593"/>
                    <a:pt x="81" y="5336"/>
                    <a:pt x="492" y="5593"/>
                  </a:cubicBezTo>
                  <a:cubicBezTo>
                    <a:pt x="904" y="6107"/>
                    <a:pt x="1315" y="7136"/>
                    <a:pt x="1521" y="7907"/>
                  </a:cubicBezTo>
                  <a:cubicBezTo>
                    <a:pt x="1932" y="8422"/>
                    <a:pt x="2138" y="8936"/>
                    <a:pt x="2344" y="9707"/>
                  </a:cubicBezTo>
                  <a:cubicBezTo>
                    <a:pt x="2549" y="10222"/>
                    <a:pt x="2755" y="10479"/>
                    <a:pt x="2961" y="10736"/>
                  </a:cubicBezTo>
                  <a:cubicBezTo>
                    <a:pt x="3372" y="11250"/>
                    <a:pt x="3784" y="11250"/>
                    <a:pt x="3989" y="11765"/>
                  </a:cubicBezTo>
                  <a:cubicBezTo>
                    <a:pt x="4195" y="12279"/>
                    <a:pt x="4401" y="12793"/>
                    <a:pt x="4401" y="13565"/>
                  </a:cubicBezTo>
                  <a:cubicBezTo>
                    <a:pt x="4606" y="14079"/>
                    <a:pt x="4401" y="14593"/>
                    <a:pt x="4606" y="15107"/>
                  </a:cubicBezTo>
                  <a:cubicBezTo>
                    <a:pt x="5018" y="16136"/>
                    <a:pt x="5841" y="16393"/>
                    <a:pt x="6252" y="17165"/>
                  </a:cubicBezTo>
                  <a:cubicBezTo>
                    <a:pt x="6664" y="17936"/>
                    <a:pt x="6869" y="18965"/>
                    <a:pt x="7281" y="19479"/>
                  </a:cubicBezTo>
                  <a:cubicBezTo>
                    <a:pt x="7486" y="19993"/>
                    <a:pt x="7898" y="20507"/>
                    <a:pt x="8104" y="20765"/>
                  </a:cubicBezTo>
                  <a:cubicBezTo>
                    <a:pt x="8104" y="21022"/>
                    <a:pt x="8104" y="21536"/>
                    <a:pt x="8309" y="21536"/>
                  </a:cubicBezTo>
                  <a:cubicBezTo>
                    <a:pt x="8721" y="21536"/>
                    <a:pt x="8515" y="21022"/>
                    <a:pt x="8721" y="20765"/>
                  </a:cubicBezTo>
                  <a:cubicBezTo>
                    <a:pt x="8721" y="19993"/>
                    <a:pt x="9749" y="20250"/>
                    <a:pt x="10161" y="20250"/>
                  </a:cubicBezTo>
                  <a:cubicBezTo>
                    <a:pt x="10778" y="20250"/>
                    <a:pt x="11806" y="19993"/>
                    <a:pt x="12218" y="20507"/>
                  </a:cubicBezTo>
                  <a:cubicBezTo>
                    <a:pt x="12835" y="20765"/>
                    <a:pt x="13041" y="20250"/>
                    <a:pt x="13452" y="19736"/>
                  </a:cubicBezTo>
                  <a:cubicBezTo>
                    <a:pt x="14069" y="18707"/>
                    <a:pt x="14686" y="18707"/>
                    <a:pt x="15509" y="18450"/>
                  </a:cubicBezTo>
                  <a:cubicBezTo>
                    <a:pt x="16744" y="18450"/>
                    <a:pt x="17978" y="17936"/>
                    <a:pt x="19212" y="17422"/>
                  </a:cubicBezTo>
                  <a:cubicBezTo>
                    <a:pt x="19624" y="17165"/>
                    <a:pt x="20241" y="16907"/>
                    <a:pt x="20858" y="16907"/>
                  </a:cubicBezTo>
                  <a:cubicBezTo>
                    <a:pt x="21064" y="16650"/>
                    <a:pt x="21064" y="16136"/>
                    <a:pt x="21269" y="15622"/>
                  </a:cubicBezTo>
                  <a:cubicBezTo>
                    <a:pt x="21269" y="15365"/>
                    <a:pt x="21475" y="14850"/>
                    <a:pt x="21475" y="14336"/>
                  </a:cubicBezTo>
                  <a:cubicBezTo>
                    <a:pt x="21475" y="14079"/>
                    <a:pt x="21269" y="13307"/>
                    <a:pt x="21064" y="13050"/>
                  </a:cubicBezTo>
                  <a:cubicBezTo>
                    <a:pt x="20446" y="13050"/>
                    <a:pt x="19624" y="13050"/>
                    <a:pt x="19006" y="12793"/>
                  </a:cubicBezTo>
                  <a:cubicBezTo>
                    <a:pt x="18389" y="12793"/>
                    <a:pt x="18389" y="12536"/>
                    <a:pt x="17978" y="12022"/>
                  </a:cubicBezTo>
                  <a:cubicBezTo>
                    <a:pt x="17566" y="10993"/>
                    <a:pt x="16949" y="10736"/>
                    <a:pt x="16538" y="9965"/>
                  </a:cubicBezTo>
                  <a:cubicBezTo>
                    <a:pt x="16332" y="9965"/>
                    <a:pt x="15921" y="8936"/>
                    <a:pt x="15715" y="8679"/>
                  </a:cubicBezTo>
                  <a:cubicBezTo>
                    <a:pt x="15509" y="8165"/>
                    <a:pt x="16538" y="7907"/>
                    <a:pt x="15715" y="7393"/>
                  </a:cubicBezTo>
                  <a:cubicBezTo>
                    <a:pt x="15509" y="7393"/>
                    <a:pt x="15304" y="6879"/>
                    <a:pt x="15098" y="6879"/>
                  </a:cubicBezTo>
                  <a:cubicBezTo>
                    <a:pt x="14686" y="6879"/>
                    <a:pt x="14481" y="6107"/>
                    <a:pt x="14275" y="5593"/>
                  </a:cubicBezTo>
                  <a:cubicBezTo>
                    <a:pt x="14069" y="4822"/>
                    <a:pt x="14069" y="5079"/>
                    <a:pt x="13246" y="507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0" name="Shape 1324"/>
            <p:cNvSpPr/>
            <p:nvPr/>
          </p:nvSpPr>
          <p:spPr>
            <a:xfrm>
              <a:off x="8940600" y="3606480"/>
              <a:ext cx="82080" cy="87480"/>
            </a:xfrm>
            <a:custGeom>
              <a:avLst/>
              <a:gdLst/>
              <a:ahLst/>
              <a:rect l="l" t="t" r="r" b="b"/>
              <a:pathLst>
                <a:path w="21600" h="21600">
                  <a:moveTo>
                    <a:pt x="5143" y="21600"/>
                  </a:moveTo>
                  <a:cubicBezTo>
                    <a:pt x="7200" y="21600"/>
                    <a:pt x="7200" y="18655"/>
                    <a:pt x="8229" y="18655"/>
                  </a:cubicBezTo>
                  <a:cubicBezTo>
                    <a:pt x="9257" y="16691"/>
                    <a:pt x="11314" y="17673"/>
                    <a:pt x="12343" y="17673"/>
                  </a:cubicBezTo>
                  <a:cubicBezTo>
                    <a:pt x="13371" y="16691"/>
                    <a:pt x="16457" y="15709"/>
                    <a:pt x="15429" y="14727"/>
                  </a:cubicBezTo>
                  <a:cubicBezTo>
                    <a:pt x="14400" y="12764"/>
                    <a:pt x="13371" y="10800"/>
                    <a:pt x="11314" y="8836"/>
                  </a:cubicBezTo>
                  <a:cubicBezTo>
                    <a:pt x="15429" y="7855"/>
                    <a:pt x="18514" y="6873"/>
                    <a:pt x="21600" y="5891"/>
                  </a:cubicBezTo>
                  <a:cubicBezTo>
                    <a:pt x="21600" y="3927"/>
                    <a:pt x="20571" y="1964"/>
                    <a:pt x="19543" y="0"/>
                  </a:cubicBezTo>
                  <a:cubicBezTo>
                    <a:pt x="16457" y="982"/>
                    <a:pt x="12343" y="4909"/>
                    <a:pt x="9257" y="4909"/>
                  </a:cubicBezTo>
                  <a:cubicBezTo>
                    <a:pt x="7200" y="4909"/>
                    <a:pt x="4114" y="2945"/>
                    <a:pt x="4114" y="982"/>
                  </a:cubicBezTo>
                  <a:cubicBezTo>
                    <a:pt x="3086" y="4909"/>
                    <a:pt x="3086" y="7855"/>
                    <a:pt x="3086" y="10800"/>
                  </a:cubicBezTo>
                  <a:cubicBezTo>
                    <a:pt x="2057" y="12764"/>
                    <a:pt x="0" y="15709"/>
                    <a:pt x="0" y="17673"/>
                  </a:cubicBezTo>
                  <a:cubicBezTo>
                    <a:pt x="0" y="19636"/>
                    <a:pt x="0" y="19636"/>
                    <a:pt x="1029" y="20618"/>
                  </a:cubicBezTo>
                  <a:cubicBezTo>
                    <a:pt x="3086" y="20618"/>
                    <a:pt x="4114" y="21600"/>
                    <a:pt x="5143" y="21600"/>
                  </a:cubicBezTo>
                  <a:close/>
                </a:path>
              </a:pathLst>
            </a:custGeom>
            <a:solidFill>
              <a:srgbClr val="dadbdf"/>
            </a:solidFill>
            <a:ln w="4680">
              <a:solidFill>
                <a:srgbClr val="ffffff"/>
              </a:solidFill>
              <a:round/>
            </a:ln>
          </p:spPr>
          <p:style>
            <a:lnRef idx="0"/>
            <a:fillRef idx="0"/>
            <a:effectRef idx="0"/>
            <a:fontRef idx="minor"/>
          </p:style>
          <p:txBody>
            <a:bodyPr lIns="45360" rIns="45360" tIns="40680" bIns="40680" anchor="t">
              <a:noAutofit/>
            </a:bodyPr>
            <a:p>
              <a:endParaRPr b="0" lang="en-US" sz="1800" spc="-1" strike="noStrike">
                <a:solidFill>
                  <a:srgbClr val="000000"/>
                </a:solidFill>
                <a:latin typeface="Calibri"/>
              </a:endParaRPr>
            </a:p>
          </p:txBody>
        </p:sp>
        <p:sp>
          <p:nvSpPr>
            <p:cNvPr id="711" name="Shape 1325"/>
            <p:cNvSpPr/>
            <p:nvPr/>
          </p:nvSpPr>
          <p:spPr>
            <a:xfrm>
              <a:off x="8944560" y="3575520"/>
              <a:ext cx="27720" cy="32760"/>
            </a:xfrm>
            <a:custGeom>
              <a:avLst/>
              <a:gdLst/>
              <a:ahLst/>
              <a:rect l="l" t="t" r="r" b="b"/>
              <a:pathLst>
                <a:path w="19443" h="20267">
                  <a:moveTo>
                    <a:pt x="18900" y="4800"/>
                  </a:moveTo>
                  <a:cubicBezTo>
                    <a:pt x="18900" y="2400"/>
                    <a:pt x="13500" y="0"/>
                    <a:pt x="10800" y="0"/>
                  </a:cubicBezTo>
                  <a:cubicBezTo>
                    <a:pt x="8100" y="2400"/>
                    <a:pt x="8100" y="2400"/>
                    <a:pt x="5400" y="4800"/>
                  </a:cubicBezTo>
                  <a:cubicBezTo>
                    <a:pt x="5400" y="9600"/>
                    <a:pt x="2700" y="14400"/>
                    <a:pt x="0" y="19200"/>
                  </a:cubicBezTo>
                  <a:cubicBezTo>
                    <a:pt x="5400" y="19200"/>
                    <a:pt x="5400" y="21600"/>
                    <a:pt x="10800" y="19200"/>
                  </a:cubicBezTo>
                  <a:cubicBezTo>
                    <a:pt x="13500" y="16800"/>
                    <a:pt x="21600" y="9600"/>
                    <a:pt x="18900" y="48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712" name="Shape 1326"/>
            <p:cNvSpPr/>
            <p:nvPr/>
          </p:nvSpPr>
          <p:spPr>
            <a:xfrm>
              <a:off x="8940600" y="3622680"/>
              <a:ext cx="11880" cy="28080"/>
            </a:xfrm>
            <a:custGeom>
              <a:avLst/>
              <a:gdLst/>
              <a:ahLst/>
              <a:rect l="l" t="t" r="r" b="b"/>
              <a:pathLst>
                <a:path w="21600" h="21600">
                  <a:moveTo>
                    <a:pt x="0" y="9257"/>
                  </a:moveTo>
                  <a:cubicBezTo>
                    <a:pt x="0" y="15429"/>
                    <a:pt x="7200" y="18514"/>
                    <a:pt x="21600" y="21600"/>
                  </a:cubicBezTo>
                  <a:cubicBezTo>
                    <a:pt x="21600" y="15429"/>
                    <a:pt x="21600" y="9257"/>
                    <a:pt x="21600" y="3086"/>
                  </a:cubicBezTo>
                  <a:cubicBezTo>
                    <a:pt x="21600" y="0"/>
                    <a:pt x="21600" y="0"/>
                    <a:pt x="14400" y="0"/>
                  </a:cubicBezTo>
                  <a:cubicBezTo>
                    <a:pt x="0" y="0"/>
                    <a:pt x="0" y="6171"/>
                    <a:pt x="0" y="9257"/>
                  </a:cubicBez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713" name="Shape 1327"/>
            <p:cNvSpPr/>
            <p:nvPr/>
          </p:nvSpPr>
          <p:spPr>
            <a:xfrm>
              <a:off x="8924400" y="3606480"/>
              <a:ext cx="30960" cy="103680"/>
            </a:xfrm>
            <a:custGeom>
              <a:avLst/>
              <a:gdLst/>
              <a:ahLst/>
              <a:rect l="l" t="t" r="r" b="b"/>
              <a:pathLst>
                <a:path w="20674" h="21600">
                  <a:moveTo>
                    <a:pt x="10800" y="14123"/>
                  </a:moveTo>
                  <a:cubicBezTo>
                    <a:pt x="10800" y="13292"/>
                    <a:pt x="13500" y="12462"/>
                    <a:pt x="16200" y="10800"/>
                  </a:cubicBezTo>
                  <a:cubicBezTo>
                    <a:pt x="18900" y="9138"/>
                    <a:pt x="16200" y="9969"/>
                    <a:pt x="13500" y="8308"/>
                  </a:cubicBezTo>
                  <a:cubicBezTo>
                    <a:pt x="8100" y="6646"/>
                    <a:pt x="10800" y="2492"/>
                    <a:pt x="18900" y="3323"/>
                  </a:cubicBezTo>
                  <a:cubicBezTo>
                    <a:pt x="21600" y="831"/>
                    <a:pt x="21600" y="831"/>
                    <a:pt x="16200" y="0"/>
                  </a:cubicBezTo>
                  <a:cubicBezTo>
                    <a:pt x="10800" y="0"/>
                    <a:pt x="8100" y="4154"/>
                    <a:pt x="5400" y="5815"/>
                  </a:cubicBezTo>
                  <a:cubicBezTo>
                    <a:pt x="2700" y="6646"/>
                    <a:pt x="0" y="7477"/>
                    <a:pt x="0" y="9138"/>
                  </a:cubicBezTo>
                  <a:cubicBezTo>
                    <a:pt x="0" y="9969"/>
                    <a:pt x="2700" y="11631"/>
                    <a:pt x="2700" y="13292"/>
                  </a:cubicBezTo>
                  <a:cubicBezTo>
                    <a:pt x="2700" y="15785"/>
                    <a:pt x="5400" y="18277"/>
                    <a:pt x="5400" y="21600"/>
                  </a:cubicBezTo>
                  <a:cubicBezTo>
                    <a:pt x="5400" y="20769"/>
                    <a:pt x="5400" y="20769"/>
                    <a:pt x="5400" y="20769"/>
                  </a:cubicBezTo>
                  <a:cubicBezTo>
                    <a:pt x="8100" y="19108"/>
                    <a:pt x="8100" y="16615"/>
                    <a:pt x="10800" y="14123"/>
                  </a:cubicBezTo>
                  <a:cubicBezTo>
                    <a:pt x="10800" y="13292"/>
                    <a:pt x="10800" y="14954"/>
                    <a:pt x="10800" y="1412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4" name="Shape 1328"/>
            <p:cNvSpPr/>
            <p:nvPr/>
          </p:nvSpPr>
          <p:spPr>
            <a:xfrm>
              <a:off x="9252000" y="3761640"/>
              <a:ext cx="14760" cy="30960"/>
            </a:xfrm>
            <a:custGeom>
              <a:avLst/>
              <a:gdLst/>
              <a:ahLst/>
              <a:rect l="l" t="t" r="r" b="b"/>
              <a:pathLst>
                <a:path w="15781" h="21600">
                  <a:moveTo>
                    <a:pt x="12960" y="21600"/>
                  </a:moveTo>
                  <a:cubicBezTo>
                    <a:pt x="12960" y="18900"/>
                    <a:pt x="21600" y="0"/>
                    <a:pt x="8640" y="0"/>
                  </a:cubicBezTo>
                  <a:cubicBezTo>
                    <a:pt x="4320" y="2700"/>
                    <a:pt x="0" y="8100"/>
                    <a:pt x="0" y="10800"/>
                  </a:cubicBezTo>
                  <a:cubicBezTo>
                    <a:pt x="0" y="16200"/>
                    <a:pt x="4320" y="18900"/>
                    <a:pt x="12960" y="21600"/>
                  </a:cubicBezTo>
                  <a:cubicBezTo>
                    <a:pt x="12960" y="21600"/>
                    <a:pt x="8640" y="21600"/>
                    <a:pt x="12960" y="21600"/>
                  </a:cubicBezTo>
                  <a:close/>
                </a:path>
              </a:pathLst>
            </a:custGeom>
            <a:solidFill>
              <a:srgbClr val="dadbdf"/>
            </a:solidFill>
            <a:ln w="4680">
              <a:solidFill>
                <a:srgbClr val="ffffff"/>
              </a:solidFill>
              <a:round/>
            </a:ln>
          </p:spPr>
          <p:style>
            <a:lnRef idx="0"/>
            <a:fillRef idx="0"/>
            <a:effectRef idx="0"/>
            <a:fontRef idx="minor"/>
          </p:style>
          <p:txBody>
            <a:bodyPr lIns="45360" rIns="45360" tIns="-15840" bIns="-15840" anchor="t">
              <a:noAutofit/>
            </a:bodyPr>
            <a:p>
              <a:endParaRPr b="0" lang="en-US" sz="1800" spc="-1" strike="noStrike">
                <a:solidFill>
                  <a:srgbClr val="000000"/>
                </a:solidFill>
                <a:latin typeface="Calibri"/>
              </a:endParaRPr>
            </a:p>
          </p:txBody>
        </p:sp>
        <p:sp>
          <p:nvSpPr>
            <p:cNvPr id="715" name="Shape 1329"/>
            <p:cNvSpPr/>
            <p:nvPr/>
          </p:nvSpPr>
          <p:spPr>
            <a:xfrm>
              <a:off x="9091080" y="3908520"/>
              <a:ext cx="205920" cy="129960"/>
            </a:xfrm>
            <a:custGeom>
              <a:avLst/>
              <a:gdLst/>
              <a:ahLst/>
              <a:rect l="l" t="t" r="r" b="b"/>
              <a:pathLst>
                <a:path w="21144" h="21063">
                  <a:moveTo>
                    <a:pt x="19053" y="0"/>
                  </a:moveTo>
                  <a:cubicBezTo>
                    <a:pt x="17830" y="635"/>
                    <a:pt x="16607" y="1271"/>
                    <a:pt x="15385" y="1271"/>
                  </a:cubicBezTo>
                  <a:cubicBezTo>
                    <a:pt x="14162" y="1906"/>
                    <a:pt x="12532" y="1271"/>
                    <a:pt x="11309" y="2541"/>
                  </a:cubicBezTo>
                  <a:cubicBezTo>
                    <a:pt x="10494" y="3812"/>
                    <a:pt x="10087" y="5082"/>
                    <a:pt x="9272" y="6353"/>
                  </a:cubicBezTo>
                  <a:cubicBezTo>
                    <a:pt x="8864" y="6988"/>
                    <a:pt x="7641" y="5718"/>
                    <a:pt x="6826" y="5718"/>
                  </a:cubicBezTo>
                  <a:cubicBezTo>
                    <a:pt x="5604" y="5718"/>
                    <a:pt x="4789" y="5718"/>
                    <a:pt x="3566" y="5718"/>
                  </a:cubicBezTo>
                  <a:cubicBezTo>
                    <a:pt x="2343" y="5718"/>
                    <a:pt x="1121" y="5082"/>
                    <a:pt x="1121" y="7624"/>
                  </a:cubicBezTo>
                  <a:cubicBezTo>
                    <a:pt x="713" y="8894"/>
                    <a:pt x="306" y="8259"/>
                    <a:pt x="306" y="9529"/>
                  </a:cubicBezTo>
                  <a:cubicBezTo>
                    <a:pt x="-102" y="10800"/>
                    <a:pt x="-102" y="12071"/>
                    <a:pt x="306" y="13341"/>
                  </a:cubicBezTo>
                  <a:cubicBezTo>
                    <a:pt x="306" y="14612"/>
                    <a:pt x="713" y="16518"/>
                    <a:pt x="1121" y="17788"/>
                  </a:cubicBezTo>
                  <a:cubicBezTo>
                    <a:pt x="1121" y="18424"/>
                    <a:pt x="1121" y="19694"/>
                    <a:pt x="1528" y="20329"/>
                  </a:cubicBezTo>
                  <a:cubicBezTo>
                    <a:pt x="1936" y="21600"/>
                    <a:pt x="3973" y="20965"/>
                    <a:pt x="4789" y="20329"/>
                  </a:cubicBezTo>
                  <a:cubicBezTo>
                    <a:pt x="5196" y="19694"/>
                    <a:pt x="5604" y="19059"/>
                    <a:pt x="6419" y="18424"/>
                  </a:cubicBezTo>
                  <a:cubicBezTo>
                    <a:pt x="6826" y="18424"/>
                    <a:pt x="7641" y="18424"/>
                    <a:pt x="8456" y="18424"/>
                  </a:cubicBezTo>
                  <a:cubicBezTo>
                    <a:pt x="8864" y="17788"/>
                    <a:pt x="9272" y="17153"/>
                    <a:pt x="9679" y="16518"/>
                  </a:cubicBezTo>
                  <a:cubicBezTo>
                    <a:pt x="10902" y="15882"/>
                    <a:pt x="11717" y="15882"/>
                    <a:pt x="12940" y="15247"/>
                  </a:cubicBezTo>
                  <a:cubicBezTo>
                    <a:pt x="14162" y="14612"/>
                    <a:pt x="15385" y="13976"/>
                    <a:pt x="16607" y="13341"/>
                  </a:cubicBezTo>
                  <a:cubicBezTo>
                    <a:pt x="17423" y="12706"/>
                    <a:pt x="19053" y="12071"/>
                    <a:pt x="19053" y="10800"/>
                  </a:cubicBezTo>
                  <a:cubicBezTo>
                    <a:pt x="19460" y="8894"/>
                    <a:pt x="21498" y="8894"/>
                    <a:pt x="21090" y="7624"/>
                  </a:cubicBezTo>
                  <a:cubicBezTo>
                    <a:pt x="20275" y="5082"/>
                    <a:pt x="19868" y="2541"/>
                    <a:pt x="19053"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6" name="Shape 1330"/>
            <p:cNvSpPr/>
            <p:nvPr/>
          </p:nvSpPr>
          <p:spPr>
            <a:xfrm>
              <a:off x="9276120" y="3761640"/>
              <a:ext cx="156240" cy="194040"/>
            </a:xfrm>
            <a:custGeom>
              <a:avLst/>
              <a:gdLst/>
              <a:ahLst/>
              <a:rect l="l" t="t" r="r" b="b"/>
              <a:pathLst>
                <a:path w="20901" h="21600">
                  <a:moveTo>
                    <a:pt x="20546" y="8376"/>
                  </a:moveTo>
                  <a:cubicBezTo>
                    <a:pt x="18966" y="8376"/>
                    <a:pt x="18439" y="7053"/>
                    <a:pt x="17912" y="6171"/>
                  </a:cubicBezTo>
                  <a:cubicBezTo>
                    <a:pt x="17385" y="5731"/>
                    <a:pt x="15278" y="5731"/>
                    <a:pt x="14751" y="5290"/>
                  </a:cubicBezTo>
                  <a:cubicBezTo>
                    <a:pt x="13171" y="4849"/>
                    <a:pt x="12644" y="3967"/>
                    <a:pt x="11590" y="2645"/>
                  </a:cubicBezTo>
                  <a:cubicBezTo>
                    <a:pt x="11590" y="2204"/>
                    <a:pt x="11063" y="1763"/>
                    <a:pt x="11063" y="1322"/>
                  </a:cubicBezTo>
                  <a:cubicBezTo>
                    <a:pt x="11063" y="1322"/>
                    <a:pt x="11590" y="0"/>
                    <a:pt x="11590" y="0"/>
                  </a:cubicBezTo>
                  <a:cubicBezTo>
                    <a:pt x="11063" y="0"/>
                    <a:pt x="9483" y="1763"/>
                    <a:pt x="8956" y="2204"/>
                  </a:cubicBezTo>
                  <a:cubicBezTo>
                    <a:pt x="7902" y="3086"/>
                    <a:pt x="6849" y="4408"/>
                    <a:pt x="5268" y="4408"/>
                  </a:cubicBezTo>
                  <a:cubicBezTo>
                    <a:pt x="4215" y="4849"/>
                    <a:pt x="3688" y="4408"/>
                    <a:pt x="2634" y="4408"/>
                  </a:cubicBezTo>
                  <a:cubicBezTo>
                    <a:pt x="1580" y="4849"/>
                    <a:pt x="527" y="5731"/>
                    <a:pt x="0" y="4849"/>
                  </a:cubicBezTo>
                  <a:cubicBezTo>
                    <a:pt x="527" y="6171"/>
                    <a:pt x="1054" y="7494"/>
                    <a:pt x="2634" y="7494"/>
                  </a:cubicBezTo>
                  <a:cubicBezTo>
                    <a:pt x="3688" y="7494"/>
                    <a:pt x="7902" y="7494"/>
                    <a:pt x="8429" y="8376"/>
                  </a:cubicBezTo>
                  <a:cubicBezTo>
                    <a:pt x="10010" y="10139"/>
                    <a:pt x="8956" y="11902"/>
                    <a:pt x="8429" y="14106"/>
                  </a:cubicBezTo>
                  <a:cubicBezTo>
                    <a:pt x="7902" y="14547"/>
                    <a:pt x="5795" y="14988"/>
                    <a:pt x="5795" y="14988"/>
                  </a:cubicBezTo>
                  <a:cubicBezTo>
                    <a:pt x="3688" y="15429"/>
                    <a:pt x="1580" y="15869"/>
                    <a:pt x="0" y="16310"/>
                  </a:cubicBezTo>
                  <a:cubicBezTo>
                    <a:pt x="1054" y="18073"/>
                    <a:pt x="2107" y="19837"/>
                    <a:pt x="2634" y="21600"/>
                  </a:cubicBezTo>
                  <a:cubicBezTo>
                    <a:pt x="4215" y="21159"/>
                    <a:pt x="5795" y="21159"/>
                    <a:pt x="7376" y="21159"/>
                  </a:cubicBezTo>
                  <a:cubicBezTo>
                    <a:pt x="9483" y="20718"/>
                    <a:pt x="7902" y="20278"/>
                    <a:pt x="8956" y="19396"/>
                  </a:cubicBezTo>
                  <a:cubicBezTo>
                    <a:pt x="10010" y="18955"/>
                    <a:pt x="11590" y="19396"/>
                    <a:pt x="12117" y="18514"/>
                  </a:cubicBezTo>
                  <a:cubicBezTo>
                    <a:pt x="13171" y="17633"/>
                    <a:pt x="13171" y="17192"/>
                    <a:pt x="14751" y="16751"/>
                  </a:cubicBezTo>
                  <a:cubicBezTo>
                    <a:pt x="15805" y="16310"/>
                    <a:pt x="15278" y="14988"/>
                    <a:pt x="15278" y="14106"/>
                  </a:cubicBezTo>
                  <a:cubicBezTo>
                    <a:pt x="14751" y="13224"/>
                    <a:pt x="15805" y="13224"/>
                    <a:pt x="16859" y="13224"/>
                  </a:cubicBezTo>
                  <a:cubicBezTo>
                    <a:pt x="18439" y="12784"/>
                    <a:pt x="18439" y="11461"/>
                    <a:pt x="19493" y="10580"/>
                  </a:cubicBezTo>
                  <a:cubicBezTo>
                    <a:pt x="20020" y="10139"/>
                    <a:pt x="21600" y="8816"/>
                    <a:pt x="20546" y="8376"/>
                  </a:cubicBezTo>
                  <a:cubicBezTo>
                    <a:pt x="20020" y="8376"/>
                    <a:pt x="21073" y="8816"/>
                    <a:pt x="20546" y="837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7" name="Shape 1331"/>
            <p:cNvSpPr/>
            <p:nvPr/>
          </p:nvSpPr>
          <p:spPr>
            <a:xfrm>
              <a:off x="9623880" y="3381120"/>
              <a:ext cx="213120" cy="92160"/>
            </a:xfrm>
            <a:custGeom>
              <a:avLst/>
              <a:gdLst/>
              <a:ahLst/>
              <a:rect l="l" t="t" r="r" b="b"/>
              <a:pathLst>
                <a:path w="21235" h="21100">
                  <a:moveTo>
                    <a:pt x="21235" y="4500"/>
                  </a:moveTo>
                  <a:cubicBezTo>
                    <a:pt x="20057" y="4500"/>
                    <a:pt x="19271" y="2700"/>
                    <a:pt x="18093" y="2700"/>
                  </a:cubicBezTo>
                  <a:cubicBezTo>
                    <a:pt x="16915" y="1800"/>
                    <a:pt x="15344" y="1800"/>
                    <a:pt x="13773" y="1800"/>
                  </a:cubicBezTo>
                  <a:cubicBezTo>
                    <a:pt x="12595" y="1800"/>
                    <a:pt x="11417" y="1800"/>
                    <a:pt x="10239" y="0"/>
                  </a:cubicBezTo>
                  <a:cubicBezTo>
                    <a:pt x="9453" y="0"/>
                    <a:pt x="8668" y="0"/>
                    <a:pt x="8275" y="1800"/>
                  </a:cubicBezTo>
                  <a:cubicBezTo>
                    <a:pt x="8275" y="3600"/>
                    <a:pt x="7882" y="4500"/>
                    <a:pt x="7097" y="3600"/>
                  </a:cubicBezTo>
                  <a:cubicBezTo>
                    <a:pt x="6311" y="2700"/>
                    <a:pt x="4348" y="900"/>
                    <a:pt x="3955" y="4500"/>
                  </a:cubicBezTo>
                  <a:cubicBezTo>
                    <a:pt x="3562" y="5400"/>
                    <a:pt x="3955" y="5400"/>
                    <a:pt x="3170" y="6300"/>
                  </a:cubicBezTo>
                  <a:cubicBezTo>
                    <a:pt x="2777" y="7200"/>
                    <a:pt x="1991" y="9000"/>
                    <a:pt x="2777" y="9900"/>
                  </a:cubicBezTo>
                  <a:cubicBezTo>
                    <a:pt x="3170" y="10800"/>
                    <a:pt x="4348" y="11700"/>
                    <a:pt x="4348" y="10800"/>
                  </a:cubicBezTo>
                  <a:cubicBezTo>
                    <a:pt x="4740" y="9000"/>
                    <a:pt x="5133" y="9900"/>
                    <a:pt x="5526" y="10800"/>
                  </a:cubicBezTo>
                  <a:cubicBezTo>
                    <a:pt x="5919" y="11700"/>
                    <a:pt x="7490" y="12600"/>
                    <a:pt x="7097" y="13500"/>
                  </a:cubicBezTo>
                  <a:cubicBezTo>
                    <a:pt x="7097" y="14400"/>
                    <a:pt x="5919" y="14400"/>
                    <a:pt x="5526" y="15300"/>
                  </a:cubicBezTo>
                  <a:cubicBezTo>
                    <a:pt x="5133" y="16200"/>
                    <a:pt x="4740" y="17100"/>
                    <a:pt x="3955" y="15300"/>
                  </a:cubicBezTo>
                  <a:cubicBezTo>
                    <a:pt x="3562" y="14400"/>
                    <a:pt x="3562" y="17100"/>
                    <a:pt x="3562" y="18000"/>
                  </a:cubicBezTo>
                  <a:cubicBezTo>
                    <a:pt x="1991" y="19800"/>
                    <a:pt x="1206" y="13500"/>
                    <a:pt x="28" y="18000"/>
                  </a:cubicBezTo>
                  <a:cubicBezTo>
                    <a:pt x="-365" y="18900"/>
                    <a:pt x="3562" y="20700"/>
                    <a:pt x="3955" y="19800"/>
                  </a:cubicBezTo>
                  <a:cubicBezTo>
                    <a:pt x="4348" y="18900"/>
                    <a:pt x="5133" y="19800"/>
                    <a:pt x="5526" y="20700"/>
                  </a:cubicBezTo>
                  <a:cubicBezTo>
                    <a:pt x="5919" y="20700"/>
                    <a:pt x="7097" y="21600"/>
                    <a:pt x="7882" y="20700"/>
                  </a:cubicBezTo>
                  <a:cubicBezTo>
                    <a:pt x="8275" y="19800"/>
                    <a:pt x="9060" y="20700"/>
                    <a:pt x="9453" y="18000"/>
                  </a:cubicBezTo>
                  <a:cubicBezTo>
                    <a:pt x="9453" y="17100"/>
                    <a:pt x="10239" y="16200"/>
                    <a:pt x="10631" y="15300"/>
                  </a:cubicBezTo>
                  <a:cubicBezTo>
                    <a:pt x="11024" y="14400"/>
                    <a:pt x="12595" y="14400"/>
                    <a:pt x="12595" y="14400"/>
                  </a:cubicBezTo>
                  <a:cubicBezTo>
                    <a:pt x="12988" y="16200"/>
                    <a:pt x="13380" y="14400"/>
                    <a:pt x="14166" y="14400"/>
                  </a:cubicBezTo>
                  <a:cubicBezTo>
                    <a:pt x="14559" y="14400"/>
                    <a:pt x="14951" y="11700"/>
                    <a:pt x="15344" y="11700"/>
                  </a:cubicBezTo>
                  <a:cubicBezTo>
                    <a:pt x="15737" y="10800"/>
                    <a:pt x="16522" y="11700"/>
                    <a:pt x="16915" y="10800"/>
                  </a:cubicBezTo>
                  <a:cubicBezTo>
                    <a:pt x="18486" y="9900"/>
                    <a:pt x="19271" y="8100"/>
                    <a:pt x="20842" y="6300"/>
                  </a:cubicBezTo>
                  <a:cubicBezTo>
                    <a:pt x="21235" y="6300"/>
                    <a:pt x="21235" y="6300"/>
                    <a:pt x="21235" y="4500"/>
                  </a:cubicBezTo>
                  <a:close/>
                </a:path>
              </a:pathLst>
            </a:custGeom>
            <a:solidFill>
              <a:srgbClr val="dadbdf"/>
            </a:solidFill>
            <a:ln w="4680">
              <a:solidFill>
                <a:srgbClr val="ffffff"/>
              </a:solidFill>
              <a:round/>
            </a:ln>
          </p:spPr>
          <p:style>
            <a:lnRef idx="0"/>
            <a:fillRef idx="0"/>
            <a:effectRef idx="0"/>
            <a:fontRef idx="minor"/>
          </p:style>
          <p:txBody>
            <a:bodyPr lIns="45360" rIns="45360" tIns="45360" bIns="45360" anchor="t">
              <a:noAutofit/>
            </a:bodyPr>
            <a:p>
              <a:endParaRPr b="0" lang="en-US" sz="1800" spc="-1" strike="noStrike">
                <a:solidFill>
                  <a:srgbClr val="000000"/>
                </a:solidFill>
                <a:latin typeface="Calibri"/>
              </a:endParaRPr>
            </a:p>
          </p:txBody>
        </p:sp>
        <p:sp>
          <p:nvSpPr>
            <p:cNvPr id="718" name="Shape 1332"/>
            <p:cNvSpPr/>
            <p:nvPr/>
          </p:nvSpPr>
          <p:spPr>
            <a:xfrm>
              <a:off x="9357840" y="3321720"/>
              <a:ext cx="337320" cy="206280"/>
            </a:xfrm>
            <a:custGeom>
              <a:avLst/>
              <a:gdLst/>
              <a:ahLst/>
              <a:rect l="l" t="t" r="r" b="b"/>
              <a:pathLst>
                <a:path w="20723" h="21600">
                  <a:moveTo>
                    <a:pt x="18795" y="13292"/>
                  </a:moveTo>
                  <a:cubicBezTo>
                    <a:pt x="19038" y="13708"/>
                    <a:pt x="19038" y="14123"/>
                    <a:pt x="19523" y="13708"/>
                  </a:cubicBezTo>
                  <a:cubicBezTo>
                    <a:pt x="19766" y="13708"/>
                    <a:pt x="20009" y="12877"/>
                    <a:pt x="20252" y="12877"/>
                  </a:cubicBezTo>
                  <a:cubicBezTo>
                    <a:pt x="21465" y="12462"/>
                    <a:pt x="20009" y="11631"/>
                    <a:pt x="19523" y="10800"/>
                  </a:cubicBezTo>
                  <a:cubicBezTo>
                    <a:pt x="19281" y="10385"/>
                    <a:pt x="19281" y="10800"/>
                    <a:pt x="19038" y="11215"/>
                  </a:cubicBezTo>
                  <a:cubicBezTo>
                    <a:pt x="19038" y="11631"/>
                    <a:pt x="18310" y="11215"/>
                    <a:pt x="18067" y="11215"/>
                  </a:cubicBezTo>
                  <a:cubicBezTo>
                    <a:pt x="17096" y="10385"/>
                    <a:pt x="18553" y="9138"/>
                    <a:pt x="18795" y="8723"/>
                  </a:cubicBezTo>
                  <a:cubicBezTo>
                    <a:pt x="18795" y="8723"/>
                    <a:pt x="17825" y="9138"/>
                    <a:pt x="17825" y="9138"/>
                  </a:cubicBezTo>
                  <a:cubicBezTo>
                    <a:pt x="17339" y="9554"/>
                    <a:pt x="16854" y="9554"/>
                    <a:pt x="16368" y="10385"/>
                  </a:cubicBezTo>
                  <a:cubicBezTo>
                    <a:pt x="16126" y="10800"/>
                    <a:pt x="15883" y="11631"/>
                    <a:pt x="15640" y="12046"/>
                  </a:cubicBezTo>
                  <a:cubicBezTo>
                    <a:pt x="15398" y="13292"/>
                    <a:pt x="15155" y="12462"/>
                    <a:pt x="14912" y="11631"/>
                  </a:cubicBezTo>
                  <a:cubicBezTo>
                    <a:pt x="14669" y="10800"/>
                    <a:pt x="14184" y="11215"/>
                    <a:pt x="13699" y="11215"/>
                  </a:cubicBezTo>
                  <a:cubicBezTo>
                    <a:pt x="13213" y="11215"/>
                    <a:pt x="12971" y="9969"/>
                    <a:pt x="12728" y="9554"/>
                  </a:cubicBezTo>
                  <a:cubicBezTo>
                    <a:pt x="12243" y="8723"/>
                    <a:pt x="12971" y="7892"/>
                    <a:pt x="12485" y="7062"/>
                  </a:cubicBezTo>
                  <a:cubicBezTo>
                    <a:pt x="12243" y="6646"/>
                    <a:pt x="12000" y="5815"/>
                    <a:pt x="11757" y="5400"/>
                  </a:cubicBezTo>
                  <a:cubicBezTo>
                    <a:pt x="11514" y="4985"/>
                    <a:pt x="11029" y="4569"/>
                    <a:pt x="10786" y="4985"/>
                  </a:cubicBezTo>
                  <a:cubicBezTo>
                    <a:pt x="10301" y="5400"/>
                    <a:pt x="9816" y="4985"/>
                    <a:pt x="9087" y="4985"/>
                  </a:cubicBezTo>
                  <a:cubicBezTo>
                    <a:pt x="8602" y="4985"/>
                    <a:pt x="7874" y="5400"/>
                    <a:pt x="7389" y="4985"/>
                  </a:cubicBezTo>
                  <a:cubicBezTo>
                    <a:pt x="7146" y="4569"/>
                    <a:pt x="6661" y="3738"/>
                    <a:pt x="6418" y="3323"/>
                  </a:cubicBezTo>
                  <a:cubicBezTo>
                    <a:pt x="5932" y="2492"/>
                    <a:pt x="5690" y="2492"/>
                    <a:pt x="5447" y="3323"/>
                  </a:cubicBezTo>
                  <a:cubicBezTo>
                    <a:pt x="5204" y="3738"/>
                    <a:pt x="4962" y="4154"/>
                    <a:pt x="4476" y="4154"/>
                  </a:cubicBezTo>
                  <a:cubicBezTo>
                    <a:pt x="3748" y="4154"/>
                    <a:pt x="3748" y="3323"/>
                    <a:pt x="3991" y="2492"/>
                  </a:cubicBezTo>
                  <a:cubicBezTo>
                    <a:pt x="4234" y="1246"/>
                    <a:pt x="4234" y="1246"/>
                    <a:pt x="3505" y="415"/>
                  </a:cubicBezTo>
                  <a:cubicBezTo>
                    <a:pt x="3505" y="831"/>
                    <a:pt x="3505" y="1662"/>
                    <a:pt x="3505" y="2077"/>
                  </a:cubicBezTo>
                  <a:cubicBezTo>
                    <a:pt x="3505" y="2908"/>
                    <a:pt x="3748" y="3323"/>
                    <a:pt x="3263" y="3323"/>
                  </a:cubicBezTo>
                  <a:cubicBezTo>
                    <a:pt x="2777" y="2908"/>
                    <a:pt x="2777" y="1662"/>
                    <a:pt x="3020" y="1246"/>
                  </a:cubicBezTo>
                  <a:cubicBezTo>
                    <a:pt x="3020" y="1246"/>
                    <a:pt x="3505" y="0"/>
                    <a:pt x="3263" y="0"/>
                  </a:cubicBezTo>
                  <a:cubicBezTo>
                    <a:pt x="2049" y="415"/>
                    <a:pt x="1078" y="831"/>
                    <a:pt x="108" y="1662"/>
                  </a:cubicBezTo>
                  <a:cubicBezTo>
                    <a:pt x="-135" y="1662"/>
                    <a:pt x="108" y="5815"/>
                    <a:pt x="108" y="6231"/>
                  </a:cubicBezTo>
                  <a:cubicBezTo>
                    <a:pt x="108" y="7477"/>
                    <a:pt x="108" y="8723"/>
                    <a:pt x="108" y="9554"/>
                  </a:cubicBezTo>
                  <a:cubicBezTo>
                    <a:pt x="108" y="10385"/>
                    <a:pt x="-135" y="10800"/>
                    <a:pt x="350" y="10800"/>
                  </a:cubicBezTo>
                  <a:cubicBezTo>
                    <a:pt x="593" y="10800"/>
                    <a:pt x="836" y="10800"/>
                    <a:pt x="1321" y="10800"/>
                  </a:cubicBezTo>
                  <a:cubicBezTo>
                    <a:pt x="1807" y="10800"/>
                    <a:pt x="1078" y="9969"/>
                    <a:pt x="1321" y="9554"/>
                  </a:cubicBezTo>
                  <a:cubicBezTo>
                    <a:pt x="1564" y="8723"/>
                    <a:pt x="2049" y="9138"/>
                    <a:pt x="2292" y="8308"/>
                  </a:cubicBezTo>
                  <a:cubicBezTo>
                    <a:pt x="2777" y="7892"/>
                    <a:pt x="2777" y="7892"/>
                    <a:pt x="3020" y="7477"/>
                  </a:cubicBezTo>
                  <a:cubicBezTo>
                    <a:pt x="3505" y="7062"/>
                    <a:pt x="3748" y="7477"/>
                    <a:pt x="3991" y="7892"/>
                  </a:cubicBezTo>
                  <a:cubicBezTo>
                    <a:pt x="4234" y="8308"/>
                    <a:pt x="4962" y="8308"/>
                    <a:pt x="4962" y="8308"/>
                  </a:cubicBezTo>
                  <a:cubicBezTo>
                    <a:pt x="5204" y="9138"/>
                    <a:pt x="4962" y="9554"/>
                    <a:pt x="4962" y="9969"/>
                  </a:cubicBezTo>
                  <a:cubicBezTo>
                    <a:pt x="5204" y="11215"/>
                    <a:pt x="5932" y="11215"/>
                    <a:pt x="6175" y="11215"/>
                  </a:cubicBezTo>
                  <a:cubicBezTo>
                    <a:pt x="7389" y="11215"/>
                    <a:pt x="7389" y="12462"/>
                    <a:pt x="7874" y="14123"/>
                  </a:cubicBezTo>
                  <a:cubicBezTo>
                    <a:pt x="8117" y="14538"/>
                    <a:pt x="8602" y="14954"/>
                    <a:pt x="9087" y="15369"/>
                  </a:cubicBezTo>
                  <a:cubicBezTo>
                    <a:pt x="9330" y="15369"/>
                    <a:pt x="9573" y="15785"/>
                    <a:pt x="9816" y="16200"/>
                  </a:cubicBezTo>
                  <a:cubicBezTo>
                    <a:pt x="10544" y="17031"/>
                    <a:pt x="11272" y="18277"/>
                    <a:pt x="12000" y="18692"/>
                  </a:cubicBezTo>
                  <a:cubicBezTo>
                    <a:pt x="12971" y="19108"/>
                    <a:pt x="12971" y="19108"/>
                    <a:pt x="12971" y="20354"/>
                  </a:cubicBezTo>
                  <a:cubicBezTo>
                    <a:pt x="13456" y="20354"/>
                    <a:pt x="14184" y="21185"/>
                    <a:pt x="14669" y="21600"/>
                  </a:cubicBezTo>
                  <a:cubicBezTo>
                    <a:pt x="14669" y="20354"/>
                    <a:pt x="14427" y="20354"/>
                    <a:pt x="15155" y="19523"/>
                  </a:cubicBezTo>
                  <a:cubicBezTo>
                    <a:pt x="15398" y="18692"/>
                    <a:pt x="14912" y="18277"/>
                    <a:pt x="14912" y="17446"/>
                  </a:cubicBezTo>
                  <a:cubicBezTo>
                    <a:pt x="15155" y="16200"/>
                    <a:pt x="14427" y="16615"/>
                    <a:pt x="14184" y="15785"/>
                  </a:cubicBezTo>
                  <a:cubicBezTo>
                    <a:pt x="13941" y="14954"/>
                    <a:pt x="15155" y="15369"/>
                    <a:pt x="15398" y="14954"/>
                  </a:cubicBezTo>
                  <a:cubicBezTo>
                    <a:pt x="16126" y="14538"/>
                    <a:pt x="15398" y="13292"/>
                    <a:pt x="15883" y="13708"/>
                  </a:cubicBezTo>
                  <a:cubicBezTo>
                    <a:pt x="16854" y="13708"/>
                    <a:pt x="15883" y="12462"/>
                    <a:pt x="16368" y="12462"/>
                  </a:cubicBezTo>
                  <a:cubicBezTo>
                    <a:pt x="16611" y="12046"/>
                    <a:pt x="16854" y="12877"/>
                    <a:pt x="17096" y="12462"/>
                  </a:cubicBezTo>
                  <a:cubicBezTo>
                    <a:pt x="17339" y="12462"/>
                    <a:pt x="17582" y="12046"/>
                    <a:pt x="17825" y="12046"/>
                  </a:cubicBezTo>
                  <a:cubicBezTo>
                    <a:pt x="18310" y="12046"/>
                    <a:pt x="17825" y="13708"/>
                    <a:pt x="17825" y="14123"/>
                  </a:cubicBezTo>
                  <a:cubicBezTo>
                    <a:pt x="18067" y="14123"/>
                    <a:pt x="18553" y="12877"/>
                    <a:pt x="18553" y="14123"/>
                  </a:cubicBezTo>
                  <a:cubicBezTo>
                    <a:pt x="18553" y="14123"/>
                    <a:pt x="18553" y="13292"/>
                    <a:pt x="18795" y="13292"/>
                  </a:cubicBezTo>
                  <a:cubicBezTo>
                    <a:pt x="19038" y="13292"/>
                    <a:pt x="18553" y="13292"/>
                    <a:pt x="18795" y="1329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9" name="Shape 1333"/>
            <p:cNvSpPr/>
            <p:nvPr/>
          </p:nvSpPr>
          <p:spPr>
            <a:xfrm>
              <a:off x="9461520" y="3551040"/>
              <a:ext cx="360" cy="3960"/>
            </a:xfrm>
            <a:prstGeom prst="ellipse">
              <a:avLst/>
            </a:prstGeom>
            <a:solidFill>
              <a:srgbClr val="dadbdf"/>
            </a:solidFill>
            <a:ln w="4680">
              <a:solidFill>
                <a:srgbClr val="ffffff"/>
              </a:solidFill>
              <a:miter/>
            </a:ln>
          </p:spPr>
          <p:style>
            <a:lnRef idx="0"/>
            <a:fillRef idx="0"/>
            <a:effectRef idx="0"/>
            <a:fontRef idx="minor"/>
          </p:style>
          <p:txBody>
            <a:bodyPr lIns="45720" rIns="45720" tIns="-43560" bIns="-4356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720" name="Shape 1334"/>
            <p:cNvSpPr/>
            <p:nvPr/>
          </p:nvSpPr>
          <p:spPr>
            <a:xfrm>
              <a:off x="9288360" y="3393360"/>
              <a:ext cx="280440" cy="169560"/>
            </a:xfrm>
            <a:custGeom>
              <a:avLst/>
              <a:gdLst/>
              <a:ahLst/>
              <a:rect l="l" t="t" r="r" b="b"/>
              <a:pathLst>
                <a:path w="21008" h="21600">
                  <a:moveTo>
                    <a:pt x="21008" y="14065"/>
                  </a:moveTo>
                  <a:cubicBezTo>
                    <a:pt x="20712" y="13563"/>
                    <a:pt x="20416" y="13563"/>
                    <a:pt x="19824" y="13563"/>
                  </a:cubicBezTo>
                  <a:cubicBezTo>
                    <a:pt x="19529" y="13060"/>
                    <a:pt x="18937" y="12558"/>
                    <a:pt x="18641" y="12056"/>
                  </a:cubicBezTo>
                  <a:cubicBezTo>
                    <a:pt x="18049" y="11553"/>
                    <a:pt x="17161" y="11051"/>
                    <a:pt x="16570" y="10047"/>
                  </a:cubicBezTo>
                  <a:cubicBezTo>
                    <a:pt x="16274" y="9042"/>
                    <a:pt x="15386" y="9042"/>
                    <a:pt x="14794" y="8037"/>
                  </a:cubicBezTo>
                  <a:cubicBezTo>
                    <a:pt x="14498" y="6530"/>
                    <a:pt x="14203" y="4521"/>
                    <a:pt x="13315" y="4521"/>
                  </a:cubicBezTo>
                  <a:cubicBezTo>
                    <a:pt x="12427" y="4521"/>
                    <a:pt x="11244" y="4521"/>
                    <a:pt x="11244" y="2512"/>
                  </a:cubicBezTo>
                  <a:cubicBezTo>
                    <a:pt x="11244" y="2009"/>
                    <a:pt x="11540" y="1005"/>
                    <a:pt x="11244" y="1005"/>
                  </a:cubicBezTo>
                  <a:cubicBezTo>
                    <a:pt x="10948" y="502"/>
                    <a:pt x="10652" y="1005"/>
                    <a:pt x="10060" y="502"/>
                  </a:cubicBezTo>
                  <a:cubicBezTo>
                    <a:pt x="10060" y="502"/>
                    <a:pt x="9764" y="0"/>
                    <a:pt x="9468" y="0"/>
                  </a:cubicBezTo>
                  <a:cubicBezTo>
                    <a:pt x="9172" y="0"/>
                    <a:pt x="8876" y="502"/>
                    <a:pt x="8581" y="502"/>
                  </a:cubicBezTo>
                  <a:cubicBezTo>
                    <a:pt x="8285" y="0"/>
                    <a:pt x="7989" y="1507"/>
                    <a:pt x="7693" y="1507"/>
                  </a:cubicBezTo>
                  <a:cubicBezTo>
                    <a:pt x="7397" y="1507"/>
                    <a:pt x="6509" y="2009"/>
                    <a:pt x="6805" y="3014"/>
                  </a:cubicBezTo>
                  <a:cubicBezTo>
                    <a:pt x="7101" y="4521"/>
                    <a:pt x="6805" y="4019"/>
                    <a:pt x="5918" y="4019"/>
                  </a:cubicBezTo>
                  <a:cubicBezTo>
                    <a:pt x="5622" y="4019"/>
                    <a:pt x="4734" y="4019"/>
                    <a:pt x="4438" y="4019"/>
                  </a:cubicBezTo>
                  <a:cubicBezTo>
                    <a:pt x="3846" y="3014"/>
                    <a:pt x="3550" y="2009"/>
                    <a:pt x="2959" y="1005"/>
                  </a:cubicBezTo>
                  <a:cubicBezTo>
                    <a:pt x="2071" y="0"/>
                    <a:pt x="887" y="1507"/>
                    <a:pt x="0" y="2512"/>
                  </a:cubicBezTo>
                  <a:cubicBezTo>
                    <a:pt x="296" y="3014"/>
                    <a:pt x="1183" y="5023"/>
                    <a:pt x="887" y="6028"/>
                  </a:cubicBezTo>
                  <a:cubicBezTo>
                    <a:pt x="-592" y="7535"/>
                    <a:pt x="1183" y="7535"/>
                    <a:pt x="1775" y="8540"/>
                  </a:cubicBezTo>
                  <a:cubicBezTo>
                    <a:pt x="1775" y="8540"/>
                    <a:pt x="1775" y="9544"/>
                    <a:pt x="1775" y="9544"/>
                  </a:cubicBezTo>
                  <a:cubicBezTo>
                    <a:pt x="1479" y="10047"/>
                    <a:pt x="2071" y="11051"/>
                    <a:pt x="2367" y="11051"/>
                  </a:cubicBezTo>
                  <a:cubicBezTo>
                    <a:pt x="2367" y="11553"/>
                    <a:pt x="2071" y="12056"/>
                    <a:pt x="2071" y="13060"/>
                  </a:cubicBezTo>
                  <a:cubicBezTo>
                    <a:pt x="2071" y="13563"/>
                    <a:pt x="2071" y="14567"/>
                    <a:pt x="2071" y="15572"/>
                  </a:cubicBezTo>
                  <a:cubicBezTo>
                    <a:pt x="2663" y="15572"/>
                    <a:pt x="2959" y="15572"/>
                    <a:pt x="3550" y="14567"/>
                  </a:cubicBezTo>
                  <a:cubicBezTo>
                    <a:pt x="3846" y="14065"/>
                    <a:pt x="4142" y="13563"/>
                    <a:pt x="4438" y="13060"/>
                  </a:cubicBezTo>
                  <a:cubicBezTo>
                    <a:pt x="5622" y="13060"/>
                    <a:pt x="6509" y="12558"/>
                    <a:pt x="7397" y="13563"/>
                  </a:cubicBezTo>
                  <a:cubicBezTo>
                    <a:pt x="7989" y="15070"/>
                    <a:pt x="9764" y="14065"/>
                    <a:pt x="10356" y="15572"/>
                  </a:cubicBezTo>
                  <a:cubicBezTo>
                    <a:pt x="10948" y="17079"/>
                    <a:pt x="11540" y="17581"/>
                    <a:pt x="12723" y="17581"/>
                  </a:cubicBezTo>
                  <a:cubicBezTo>
                    <a:pt x="13019" y="17581"/>
                    <a:pt x="13019" y="17581"/>
                    <a:pt x="13019" y="18586"/>
                  </a:cubicBezTo>
                  <a:cubicBezTo>
                    <a:pt x="13019" y="20093"/>
                    <a:pt x="13019" y="20093"/>
                    <a:pt x="13611" y="21098"/>
                  </a:cubicBezTo>
                  <a:cubicBezTo>
                    <a:pt x="14203" y="21098"/>
                    <a:pt x="14498" y="21600"/>
                    <a:pt x="15090" y="21600"/>
                  </a:cubicBezTo>
                  <a:cubicBezTo>
                    <a:pt x="15978" y="21600"/>
                    <a:pt x="15978" y="21098"/>
                    <a:pt x="16274" y="20093"/>
                  </a:cubicBezTo>
                  <a:cubicBezTo>
                    <a:pt x="16570" y="19088"/>
                    <a:pt x="17161" y="19591"/>
                    <a:pt x="17753" y="19088"/>
                  </a:cubicBezTo>
                  <a:cubicBezTo>
                    <a:pt x="18345" y="18586"/>
                    <a:pt x="18345" y="17581"/>
                    <a:pt x="18641" y="16577"/>
                  </a:cubicBezTo>
                  <a:cubicBezTo>
                    <a:pt x="18641" y="15572"/>
                    <a:pt x="19529" y="16577"/>
                    <a:pt x="19824" y="15572"/>
                  </a:cubicBezTo>
                  <a:cubicBezTo>
                    <a:pt x="19824" y="14567"/>
                    <a:pt x="20712" y="15572"/>
                    <a:pt x="21008" y="15572"/>
                  </a:cubicBezTo>
                  <a:cubicBezTo>
                    <a:pt x="21008" y="15070"/>
                    <a:pt x="21008" y="14567"/>
                    <a:pt x="21008" y="1406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1" name="Shape 1335"/>
            <p:cNvSpPr/>
            <p:nvPr/>
          </p:nvSpPr>
          <p:spPr>
            <a:xfrm>
              <a:off x="9588600" y="3435120"/>
              <a:ext cx="151200" cy="96840"/>
            </a:xfrm>
            <a:custGeom>
              <a:avLst/>
              <a:gdLst/>
              <a:ahLst/>
              <a:rect l="l" t="t" r="r" b="b"/>
              <a:pathLst>
                <a:path w="20742" h="19663">
                  <a:moveTo>
                    <a:pt x="15731" y="7424"/>
                  </a:moveTo>
                  <a:cubicBezTo>
                    <a:pt x="14651" y="8224"/>
                    <a:pt x="14111" y="7424"/>
                    <a:pt x="13031" y="7424"/>
                  </a:cubicBezTo>
                  <a:cubicBezTo>
                    <a:pt x="11951" y="7424"/>
                    <a:pt x="11411" y="5824"/>
                    <a:pt x="10871" y="5824"/>
                  </a:cubicBezTo>
                  <a:cubicBezTo>
                    <a:pt x="10331" y="5824"/>
                    <a:pt x="10331" y="6624"/>
                    <a:pt x="9791" y="6624"/>
                  </a:cubicBezTo>
                  <a:cubicBezTo>
                    <a:pt x="9791" y="7424"/>
                    <a:pt x="9251" y="6624"/>
                    <a:pt x="8711" y="6624"/>
                  </a:cubicBezTo>
                  <a:cubicBezTo>
                    <a:pt x="7631" y="6624"/>
                    <a:pt x="6011" y="6624"/>
                    <a:pt x="4931" y="5824"/>
                  </a:cubicBezTo>
                  <a:cubicBezTo>
                    <a:pt x="4391" y="5024"/>
                    <a:pt x="6011" y="3424"/>
                    <a:pt x="6011" y="3424"/>
                  </a:cubicBezTo>
                  <a:cubicBezTo>
                    <a:pt x="7091" y="2624"/>
                    <a:pt x="7631" y="5024"/>
                    <a:pt x="8171" y="5024"/>
                  </a:cubicBezTo>
                  <a:cubicBezTo>
                    <a:pt x="9251" y="5024"/>
                    <a:pt x="9791" y="4224"/>
                    <a:pt x="9791" y="3424"/>
                  </a:cubicBezTo>
                  <a:cubicBezTo>
                    <a:pt x="9251" y="2624"/>
                    <a:pt x="8711" y="4224"/>
                    <a:pt x="8171" y="4224"/>
                  </a:cubicBezTo>
                  <a:cubicBezTo>
                    <a:pt x="7631" y="3424"/>
                    <a:pt x="8711" y="1024"/>
                    <a:pt x="8171" y="224"/>
                  </a:cubicBezTo>
                  <a:cubicBezTo>
                    <a:pt x="8171" y="-576"/>
                    <a:pt x="7091" y="1024"/>
                    <a:pt x="7091" y="1024"/>
                  </a:cubicBezTo>
                  <a:cubicBezTo>
                    <a:pt x="6011" y="1824"/>
                    <a:pt x="5471" y="224"/>
                    <a:pt x="4931" y="1024"/>
                  </a:cubicBezTo>
                  <a:cubicBezTo>
                    <a:pt x="3851" y="1024"/>
                    <a:pt x="6011" y="3424"/>
                    <a:pt x="3851" y="3424"/>
                  </a:cubicBezTo>
                  <a:cubicBezTo>
                    <a:pt x="2771" y="2624"/>
                    <a:pt x="4391" y="5824"/>
                    <a:pt x="2771" y="5824"/>
                  </a:cubicBezTo>
                  <a:cubicBezTo>
                    <a:pt x="2231" y="6624"/>
                    <a:pt x="-469" y="5824"/>
                    <a:pt x="71" y="7424"/>
                  </a:cubicBezTo>
                  <a:cubicBezTo>
                    <a:pt x="611" y="9824"/>
                    <a:pt x="2231" y="8224"/>
                    <a:pt x="1691" y="10624"/>
                  </a:cubicBezTo>
                  <a:cubicBezTo>
                    <a:pt x="1691" y="13024"/>
                    <a:pt x="3311" y="13024"/>
                    <a:pt x="1691" y="14624"/>
                  </a:cubicBezTo>
                  <a:cubicBezTo>
                    <a:pt x="1151" y="15424"/>
                    <a:pt x="71" y="18624"/>
                    <a:pt x="1691" y="18624"/>
                  </a:cubicBezTo>
                  <a:cubicBezTo>
                    <a:pt x="2771" y="18624"/>
                    <a:pt x="3851" y="16224"/>
                    <a:pt x="4391" y="17024"/>
                  </a:cubicBezTo>
                  <a:cubicBezTo>
                    <a:pt x="6011" y="19424"/>
                    <a:pt x="4391" y="15424"/>
                    <a:pt x="6011" y="15424"/>
                  </a:cubicBezTo>
                  <a:cubicBezTo>
                    <a:pt x="7091" y="15424"/>
                    <a:pt x="7631" y="14624"/>
                    <a:pt x="8711" y="13024"/>
                  </a:cubicBezTo>
                  <a:cubicBezTo>
                    <a:pt x="9251" y="10624"/>
                    <a:pt x="9791" y="11424"/>
                    <a:pt x="10331" y="13024"/>
                  </a:cubicBezTo>
                  <a:cubicBezTo>
                    <a:pt x="10871" y="13824"/>
                    <a:pt x="11411" y="14624"/>
                    <a:pt x="11411" y="16224"/>
                  </a:cubicBezTo>
                  <a:cubicBezTo>
                    <a:pt x="11411" y="17024"/>
                    <a:pt x="10871" y="17824"/>
                    <a:pt x="10871" y="18624"/>
                  </a:cubicBezTo>
                  <a:cubicBezTo>
                    <a:pt x="11411" y="21024"/>
                    <a:pt x="13571" y="18624"/>
                    <a:pt x="14111" y="17824"/>
                  </a:cubicBezTo>
                  <a:cubicBezTo>
                    <a:pt x="14651" y="17024"/>
                    <a:pt x="16271" y="15424"/>
                    <a:pt x="16811" y="16224"/>
                  </a:cubicBezTo>
                  <a:cubicBezTo>
                    <a:pt x="17891" y="17824"/>
                    <a:pt x="18971" y="15424"/>
                    <a:pt x="20591" y="16224"/>
                  </a:cubicBezTo>
                  <a:cubicBezTo>
                    <a:pt x="21131" y="15424"/>
                    <a:pt x="20051" y="13824"/>
                    <a:pt x="20051" y="13824"/>
                  </a:cubicBezTo>
                  <a:cubicBezTo>
                    <a:pt x="19511" y="12224"/>
                    <a:pt x="20051" y="10624"/>
                    <a:pt x="18971" y="10624"/>
                  </a:cubicBezTo>
                  <a:cubicBezTo>
                    <a:pt x="17351" y="11424"/>
                    <a:pt x="16271" y="9024"/>
                    <a:pt x="16811" y="6624"/>
                  </a:cubicBezTo>
                  <a:cubicBezTo>
                    <a:pt x="16811" y="6624"/>
                    <a:pt x="16271" y="6624"/>
                    <a:pt x="15731" y="7424"/>
                  </a:cubicBezTo>
                  <a:cubicBezTo>
                    <a:pt x="15191" y="7424"/>
                    <a:pt x="16271" y="6624"/>
                    <a:pt x="15731" y="742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2" name="Shape 1336"/>
            <p:cNvSpPr/>
            <p:nvPr/>
          </p:nvSpPr>
          <p:spPr>
            <a:xfrm>
              <a:off x="9458280" y="3524040"/>
              <a:ext cx="327600" cy="289440"/>
            </a:xfrm>
            <a:custGeom>
              <a:avLst/>
              <a:gdLst/>
              <a:ahLst/>
              <a:rect l="l" t="t" r="r" b="b"/>
              <a:pathLst>
                <a:path w="21600" h="21388">
                  <a:moveTo>
                    <a:pt x="2082" y="14886"/>
                  </a:moveTo>
                  <a:cubicBezTo>
                    <a:pt x="2082" y="15178"/>
                    <a:pt x="2082" y="15470"/>
                    <a:pt x="2342" y="15762"/>
                  </a:cubicBezTo>
                  <a:cubicBezTo>
                    <a:pt x="2602" y="16054"/>
                    <a:pt x="2863" y="16346"/>
                    <a:pt x="2863" y="16638"/>
                  </a:cubicBezTo>
                  <a:cubicBezTo>
                    <a:pt x="2863" y="16930"/>
                    <a:pt x="1561" y="17514"/>
                    <a:pt x="1301" y="17805"/>
                  </a:cubicBezTo>
                  <a:cubicBezTo>
                    <a:pt x="1041" y="17805"/>
                    <a:pt x="781" y="18097"/>
                    <a:pt x="781" y="18681"/>
                  </a:cubicBezTo>
                  <a:cubicBezTo>
                    <a:pt x="781" y="19265"/>
                    <a:pt x="781" y="19265"/>
                    <a:pt x="1561" y="19265"/>
                  </a:cubicBezTo>
                  <a:cubicBezTo>
                    <a:pt x="2082" y="18973"/>
                    <a:pt x="2863" y="18973"/>
                    <a:pt x="3383" y="18681"/>
                  </a:cubicBezTo>
                  <a:cubicBezTo>
                    <a:pt x="3904" y="18681"/>
                    <a:pt x="4424" y="18681"/>
                    <a:pt x="4945" y="18973"/>
                  </a:cubicBezTo>
                  <a:cubicBezTo>
                    <a:pt x="5205" y="18973"/>
                    <a:pt x="5725" y="18973"/>
                    <a:pt x="5986" y="18973"/>
                  </a:cubicBezTo>
                  <a:cubicBezTo>
                    <a:pt x="6506" y="18973"/>
                    <a:pt x="6766" y="18681"/>
                    <a:pt x="7287" y="18681"/>
                  </a:cubicBezTo>
                  <a:cubicBezTo>
                    <a:pt x="7547" y="18681"/>
                    <a:pt x="7547" y="19265"/>
                    <a:pt x="7547" y="19557"/>
                  </a:cubicBezTo>
                  <a:cubicBezTo>
                    <a:pt x="7807" y="19849"/>
                    <a:pt x="8067" y="19849"/>
                    <a:pt x="8328" y="20141"/>
                  </a:cubicBezTo>
                  <a:cubicBezTo>
                    <a:pt x="8328" y="20432"/>
                    <a:pt x="8588" y="21016"/>
                    <a:pt x="8588" y="21308"/>
                  </a:cubicBezTo>
                  <a:cubicBezTo>
                    <a:pt x="9108" y="21600"/>
                    <a:pt x="8848" y="21016"/>
                    <a:pt x="8848" y="20724"/>
                  </a:cubicBezTo>
                  <a:cubicBezTo>
                    <a:pt x="9108" y="20724"/>
                    <a:pt x="9369" y="21308"/>
                    <a:pt x="9369" y="21308"/>
                  </a:cubicBezTo>
                  <a:cubicBezTo>
                    <a:pt x="9889" y="21016"/>
                    <a:pt x="10410" y="20432"/>
                    <a:pt x="11190" y="20724"/>
                  </a:cubicBezTo>
                  <a:cubicBezTo>
                    <a:pt x="11451" y="20724"/>
                    <a:pt x="11711" y="20724"/>
                    <a:pt x="11971" y="20432"/>
                  </a:cubicBezTo>
                  <a:cubicBezTo>
                    <a:pt x="12231" y="20432"/>
                    <a:pt x="12752" y="20432"/>
                    <a:pt x="13012" y="20432"/>
                  </a:cubicBezTo>
                  <a:cubicBezTo>
                    <a:pt x="13272" y="20141"/>
                    <a:pt x="12752" y="18681"/>
                    <a:pt x="12492" y="18681"/>
                  </a:cubicBezTo>
                  <a:cubicBezTo>
                    <a:pt x="12231" y="18389"/>
                    <a:pt x="11971" y="18389"/>
                    <a:pt x="11971" y="17805"/>
                  </a:cubicBezTo>
                  <a:cubicBezTo>
                    <a:pt x="11971" y="17222"/>
                    <a:pt x="11711" y="16930"/>
                    <a:pt x="11451" y="16638"/>
                  </a:cubicBezTo>
                  <a:cubicBezTo>
                    <a:pt x="10670" y="16346"/>
                    <a:pt x="11711" y="15762"/>
                    <a:pt x="11971" y="15178"/>
                  </a:cubicBezTo>
                  <a:cubicBezTo>
                    <a:pt x="12231" y="15178"/>
                    <a:pt x="12231" y="14886"/>
                    <a:pt x="12752" y="15178"/>
                  </a:cubicBezTo>
                  <a:cubicBezTo>
                    <a:pt x="13272" y="15762"/>
                    <a:pt x="13012" y="15178"/>
                    <a:pt x="13533" y="15178"/>
                  </a:cubicBezTo>
                  <a:cubicBezTo>
                    <a:pt x="14573" y="14886"/>
                    <a:pt x="14313" y="14011"/>
                    <a:pt x="14834" y="13427"/>
                  </a:cubicBezTo>
                  <a:cubicBezTo>
                    <a:pt x="15094" y="13135"/>
                    <a:pt x="15614" y="13135"/>
                    <a:pt x="15614" y="12843"/>
                  </a:cubicBezTo>
                  <a:cubicBezTo>
                    <a:pt x="15875" y="12551"/>
                    <a:pt x="16135" y="12259"/>
                    <a:pt x="16135" y="11968"/>
                  </a:cubicBezTo>
                  <a:cubicBezTo>
                    <a:pt x="16135" y="11676"/>
                    <a:pt x="16655" y="11384"/>
                    <a:pt x="16916" y="11384"/>
                  </a:cubicBezTo>
                  <a:cubicBezTo>
                    <a:pt x="17176" y="11384"/>
                    <a:pt x="17176" y="10800"/>
                    <a:pt x="17176" y="10800"/>
                  </a:cubicBezTo>
                  <a:cubicBezTo>
                    <a:pt x="17176" y="9924"/>
                    <a:pt x="18217" y="10508"/>
                    <a:pt x="17957" y="9632"/>
                  </a:cubicBezTo>
                  <a:cubicBezTo>
                    <a:pt x="17957" y="8757"/>
                    <a:pt x="17696" y="8465"/>
                    <a:pt x="18477" y="7881"/>
                  </a:cubicBezTo>
                  <a:cubicBezTo>
                    <a:pt x="18737" y="7881"/>
                    <a:pt x="17436" y="7005"/>
                    <a:pt x="17176" y="6714"/>
                  </a:cubicBezTo>
                  <a:cubicBezTo>
                    <a:pt x="16916" y="6130"/>
                    <a:pt x="17176" y="5254"/>
                    <a:pt x="16916" y="4670"/>
                  </a:cubicBezTo>
                  <a:cubicBezTo>
                    <a:pt x="16916" y="3795"/>
                    <a:pt x="17696" y="3795"/>
                    <a:pt x="18217" y="4086"/>
                  </a:cubicBezTo>
                  <a:cubicBezTo>
                    <a:pt x="18477" y="4086"/>
                    <a:pt x="18998" y="4378"/>
                    <a:pt x="19258" y="4378"/>
                  </a:cubicBezTo>
                  <a:cubicBezTo>
                    <a:pt x="19778" y="4378"/>
                    <a:pt x="19778" y="4086"/>
                    <a:pt x="20039" y="3795"/>
                  </a:cubicBezTo>
                  <a:cubicBezTo>
                    <a:pt x="20819" y="3795"/>
                    <a:pt x="21080" y="3795"/>
                    <a:pt x="21600" y="2919"/>
                  </a:cubicBezTo>
                  <a:cubicBezTo>
                    <a:pt x="20819" y="2627"/>
                    <a:pt x="20039" y="2335"/>
                    <a:pt x="19778" y="1751"/>
                  </a:cubicBezTo>
                  <a:cubicBezTo>
                    <a:pt x="19518" y="1459"/>
                    <a:pt x="19518" y="876"/>
                    <a:pt x="19258" y="584"/>
                  </a:cubicBezTo>
                  <a:cubicBezTo>
                    <a:pt x="18998" y="292"/>
                    <a:pt x="18737" y="292"/>
                    <a:pt x="18477" y="0"/>
                  </a:cubicBezTo>
                  <a:cubicBezTo>
                    <a:pt x="17957" y="0"/>
                    <a:pt x="17176" y="292"/>
                    <a:pt x="16916" y="292"/>
                  </a:cubicBezTo>
                  <a:cubicBezTo>
                    <a:pt x="15875" y="0"/>
                    <a:pt x="15354" y="584"/>
                    <a:pt x="14573" y="1168"/>
                  </a:cubicBezTo>
                  <a:cubicBezTo>
                    <a:pt x="13793" y="1459"/>
                    <a:pt x="13272" y="1459"/>
                    <a:pt x="13793" y="2335"/>
                  </a:cubicBezTo>
                  <a:cubicBezTo>
                    <a:pt x="14313" y="2919"/>
                    <a:pt x="13793" y="3503"/>
                    <a:pt x="13272" y="3795"/>
                  </a:cubicBezTo>
                  <a:cubicBezTo>
                    <a:pt x="12752" y="4378"/>
                    <a:pt x="13533" y="5546"/>
                    <a:pt x="12492" y="5254"/>
                  </a:cubicBezTo>
                  <a:cubicBezTo>
                    <a:pt x="11190" y="5254"/>
                    <a:pt x="12231" y="5546"/>
                    <a:pt x="12231" y="6130"/>
                  </a:cubicBezTo>
                  <a:cubicBezTo>
                    <a:pt x="12492" y="6422"/>
                    <a:pt x="11451" y="6714"/>
                    <a:pt x="11190" y="7005"/>
                  </a:cubicBezTo>
                  <a:cubicBezTo>
                    <a:pt x="10930" y="7589"/>
                    <a:pt x="10930" y="8757"/>
                    <a:pt x="10670" y="8757"/>
                  </a:cubicBezTo>
                  <a:cubicBezTo>
                    <a:pt x="10410" y="9049"/>
                    <a:pt x="10149" y="8757"/>
                    <a:pt x="9889" y="8757"/>
                  </a:cubicBezTo>
                  <a:cubicBezTo>
                    <a:pt x="9369" y="8757"/>
                    <a:pt x="9108" y="9049"/>
                    <a:pt x="8848" y="9341"/>
                  </a:cubicBezTo>
                  <a:cubicBezTo>
                    <a:pt x="8328" y="9632"/>
                    <a:pt x="8067" y="9341"/>
                    <a:pt x="7807" y="9632"/>
                  </a:cubicBezTo>
                  <a:cubicBezTo>
                    <a:pt x="7287" y="9924"/>
                    <a:pt x="7287" y="10216"/>
                    <a:pt x="7027" y="10800"/>
                  </a:cubicBezTo>
                  <a:cubicBezTo>
                    <a:pt x="7027" y="11676"/>
                    <a:pt x="6506" y="11968"/>
                    <a:pt x="5725" y="12259"/>
                  </a:cubicBezTo>
                  <a:cubicBezTo>
                    <a:pt x="4945" y="12551"/>
                    <a:pt x="4164" y="12551"/>
                    <a:pt x="3383" y="12551"/>
                  </a:cubicBezTo>
                  <a:cubicBezTo>
                    <a:pt x="2082" y="12551"/>
                    <a:pt x="1041" y="12259"/>
                    <a:pt x="0" y="11676"/>
                  </a:cubicBezTo>
                  <a:cubicBezTo>
                    <a:pt x="260" y="12259"/>
                    <a:pt x="520" y="12843"/>
                    <a:pt x="781" y="13427"/>
                  </a:cubicBezTo>
                  <a:cubicBezTo>
                    <a:pt x="1041" y="13719"/>
                    <a:pt x="2082" y="14011"/>
                    <a:pt x="2082" y="1488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3" name="Shape 1337"/>
            <p:cNvSpPr/>
            <p:nvPr/>
          </p:nvSpPr>
          <p:spPr>
            <a:xfrm>
              <a:off x="9447840" y="3490920"/>
              <a:ext cx="290520" cy="201960"/>
            </a:xfrm>
            <a:custGeom>
              <a:avLst/>
              <a:gdLst/>
              <a:ahLst/>
              <a:rect l="l" t="t" r="r" b="b"/>
              <a:pathLst>
                <a:path w="21177" h="20748">
                  <a:moveTo>
                    <a:pt x="20313" y="2511"/>
                  </a:moveTo>
                  <a:cubicBezTo>
                    <a:pt x="20025" y="2511"/>
                    <a:pt x="19737" y="3326"/>
                    <a:pt x="19449" y="2918"/>
                  </a:cubicBezTo>
                  <a:cubicBezTo>
                    <a:pt x="19161" y="2918"/>
                    <a:pt x="19161" y="2103"/>
                    <a:pt x="18873" y="2511"/>
                  </a:cubicBezTo>
                  <a:cubicBezTo>
                    <a:pt x="18297" y="2511"/>
                    <a:pt x="17721" y="3326"/>
                    <a:pt x="17433" y="3733"/>
                  </a:cubicBezTo>
                  <a:cubicBezTo>
                    <a:pt x="17145" y="3733"/>
                    <a:pt x="16569" y="4549"/>
                    <a:pt x="15993" y="4141"/>
                  </a:cubicBezTo>
                  <a:cubicBezTo>
                    <a:pt x="15705" y="3733"/>
                    <a:pt x="16569" y="2103"/>
                    <a:pt x="15993" y="1288"/>
                  </a:cubicBezTo>
                  <a:cubicBezTo>
                    <a:pt x="15993" y="1288"/>
                    <a:pt x="15417" y="-342"/>
                    <a:pt x="15129" y="66"/>
                  </a:cubicBezTo>
                  <a:cubicBezTo>
                    <a:pt x="14841" y="881"/>
                    <a:pt x="14553" y="1696"/>
                    <a:pt x="13977" y="2103"/>
                  </a:cubicBezTo>
                  <a:cubicBezTo>
                    <a:pt x="13401" y="2511"/>
                    <a:pt x="13113" y="2103"/>
                    <a:pt x="13113" y="2918"/>
                  </a:cubicBezTo>
                  <a:cubicBezTo>
                    <a:pt x="12825" y="4141"/>
                    <a:pt x="12537" y="2511"/>
                    <a:pt x="12249" y="2918"/>
                  </a:cubicBezTo>
                  <a:cubicBezTo>
                    <a:pt x="11673" y="3326"/>
                    <a:pt x="11385" y="3733"/>
                    <a:pt x="10809" y="3733"/>
                  </a:cubicBezTo>
                  <a:cubicBezTo>
                    <a:pt x="10233" y="3326"/>
                    <a:pt x="9657" y="2918"/>
                    <a:pt x="9369" y="2511"/>
                  </a:cubicBezTo>
                  <a:cubicBezTo>
                    <a:pt x="9081" y="2511"/>
                    <a:pt x="7641" y="2103"/>
                    <a:pt x="7641" y="2103"/>
                  </a:cubicBezTo>
                  <a:cubicBezTo>
                    <a:pt x="7353" y="2511"/>
                    <a:pt x="7641" y="2918"/>
                    <a:pt x="7353" y="2918"/>
                  </a:cubicBezTo>
                  <a:cubicBezTo>
                    <a:pt x="7065" y="2918"/>
                    <a:pt x="6489" y="2918"/>
                    <a:pt x="6489" y="3326"/>
                  </a:cubicBezTo>
                  <a:cubicBezTo>
                    <a:pt x="6201" y="4141"/>
                    <a:pt x="6201" y="4956"/>
                    <a:pt x="5625" y="5364"/>
                  </a:cubicBezTo>
                  <a:cubicBezTo>
                    <a:pt x="4761" y="6179"/>
                    <a:pt x="4473" y="5771"/>
                    <a:pt x="3897" y="6586"/>
                  </a:cubicBezTo>
                  <a:cubicBezTo>
                    <a:pt x="3609" y="7401"/>
                    <a:pt x="3033" y="7401"/>
                    <a:pt x="2745" y="7401"/>
                  </a:cubicBezTo>
                  <a:cubicBezTo>
                    <a:pt x="2457" y="6994"/>
                    <a:pt x="1017" y="6586"/>
                    <a:pt x="1017" y="6179"/>
                  </a:cubicBezTo>
                  <a:cubicBezTo>
                    <a:pt x="1017" y="7401"/>
                    <a:pt x="1017" y="8216"/>
                    <a:pt x="729" y="9032"/>
                  </a:cubicBezTo>
                  <a:cubicBezTo>
                    <a:pt x="153" y="9847"/>
                    <a:pt x="-423" y="10662"/>
                    <a:pt x="441" y="11477"/>
                  </a:cubicBezTo>
                  <a:cubicBezTo>
                    <a:pt x="729" y="11884"/>
                    <a:pt x="153" y="12292"/>
                    <a:pt x="153" y="13107"/>
                  </a:cubicBezTo>
                  <a:cubicBezTo>
                    <a:pt x="153" y="13515"/>
                    <a:pt x="153" y="14330"/>
                    <a:pt x="441" y="14737"/>
                  </a:cubicBezTo>
                  <a:cubicBezTo>
                    <a:pt x="441" y="15552"/>
                    <a:pt x="153" y="15960"/>
                    <a:pt x="729" y="15960"/>
                  </a:cubicBezTo>
                  <a:cubicBezTo>
                    <a:pt x="1593" y="16367"/>
                    <a:pt x="1881" y="15960"/>
                    <a:pt x="1881" y="17183"/>
                  </a:cubicBezTo>
                  <a:cubicBezTo>
                    <a:pt x="1881" y="17998"/>
                    <a:pt x="1017" y="19220"/>
                    <a:pt x="729" y="19628"/>
                  </a:cubicBezTo>
                  <a:cubicBezTo>
                    <a:pt x="3033" y="21258"/>
                    <a:pt x="5625" y="20850"/>
                    <a:pt x="7929" y="20035"/>
                  </a:cubicBezTo>
                  <a:cubicBezTo>
                    <a:pt x="8793" y="19628"/>
                    <a:pt x="8505" y="17998"/>
                    <a:pt x="8793" y="17183"/>
                  </a:cubicBezTo>
                  <a:cubicBezTo>
                    <a:pt x="9081" y="16367"/>
                    <a:pt x="10233" y="16775"/>
                    <a:pt x="10809" y="15960"/>
                  </a:cubicBezTo>
                  <a:cubicBezTo>
                    <a:pt x="11097" y="15960"/>
                    <a:pt x="11385" y="15552"/>
                    <a:pt x="11961" y="15552"/>
                  </a:cubicBezTo>
                  <a:cubicBezTo>
                    <a:pt x="11961" y="15552"/>
                    <a:pt x="12537" y="15960"/>
                    <a:pt x="12537" y="15552"/>
                  </a:cubicBezTo>
                  <a:cubicBezTo>
                    <a:pt x="12825" y="14737"/>
                    <a:pt x="12825" y="13922"/>
                    <a:pt x="13113" y="13107"/>
                  </a:cubicBezTo>
                  <a:cubicBezTo>
                    <a:pt x="13401" y="12700"/>
                    <a:pt x="14553" y="12292"/>
                    <a:pt x="14265" y="11884"/>
                  </a:cubicBezTo>
                  <a:cubicBezTo>
                    <a:pt x="14265" y="11477"/>
                    <a:pt x="13113" y="10662"/>
                    <a:pt x="14265" y="10662"/>
                  </a:cubicBezTo>
                  <a:cubicBezTo>
                    <a:pt x="14553" y="10662"/>
                    <a:pt x="15129" y="11069"/>
                    <a:pt x="15417" y="10254"/>
                  </a:cubicBezTo>
                  <a:cubicBezTo>
                    <a:pt x="15417" y="9847"/>
                    <a:pt x="15129" y="9439"/>
                    <a:pt x="15417" y="9032"/>
                  </a:cubicBezTo>
                  <a:cubicBezTo>
                    <a:pt x="15417" y="8216"/>
                    <a:pt x="16281" y="8216"/>
                    <a:pt x="16281" y="7401"/>
                  </a:cubicBezTo>
                  <a:cubicBezTo>
                    <a:pt x="16281" y="6586"/>
                    <a:pt x="15417" y="6179"/>
                    <a:pt x="15705" y="5364"/>
                  </a:cubicBezTo>
                  <a:cubicBezTo>
                    <a:pt x="16281" y="4956"/>
                    <a:pt x="17145" y="4549"/>
                    <a:pt x="17721" y="4141"/>
                  </a:cubicBezTo>
                  <a:cubicBezTo>
                    <a:pt x="18297" y="3326"/>
                    <a:pt x="19161" y="3733"/>
                    <a:pt x="19737" y="3733"/>
                  </a:cubicBezTo>
                  <a:cubicBezTo>
                    <a:pt x="20025" y="3733"/>
                    <a:pt x="20601" y="3733"/>
                    <a:pt x="20889" y="3326"/>
                  </a:cubicBezTo>
                  <a:cubicBezTo>
                    <a:pt x="20889" y="3326"/>
                    <a:pt x="21177" y="2918"/>
                    <a:pt x="21177" y="2511"/>
                  </a:cubicBezTo>
                  <a:cubicBezTo>
                    <a:pt x="20889" y="2511"/>
                    <a:pt x="20601" y="2511"/>
                    <a:pt x="20313" y="2511"/>
                  </a:cubicBezTo>
                  <a:cubicBezTo>
                    <a:pt x="20025" y="2918"/>
                    <a:pt x="20601" y="2511"/>
                    <a:pt x="20313" y="251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4" name="Shape 1338"/>
            <p:cNvSpPr/>
            <p:nvPr/>
          </p:nvSpPr>
          <p:spPr>
            <a:xfrm>
              <a:off x="9417600" y="3320640"/>
              <a:ext cx="7920" cy="12960"/>
            </a:xfrm>
            <a:custGeom>
              <a:avLst/>
              <a:gdLst/>
              <a:ahLst/>
              <a:rect l="l" t="t" r="r" b="b"/>
              <a:pathLst>
                <a:path w="16362" h="17712">
                  <a:moveTo>
                    <a:pt x="16362" y="6912"/>
                  </a:moveTo>
                  <a:cubicBezTo>
                    <a:pt x="9162" y="6912"/>
                    <a:pt x="1962" y="-3888"/>
                    <a:pt x="1962" y="1512"/>
                  </a:cubicBezTo>
                  <a:cubicBezTo>
                    <a:pt x="-5238" y="6912"/>
                    <a:pt x="9162" y="12312"/>
                    <a:pt x="16362" y="17712"/>
                  </a:cubicBezTo>
                  <a:cubicBezTo>
                    <a:pt x="16362" y="12312"/>
                    <a:pt x="16362" y="6912"/>
                    <a:pt x="16362" y="6912"/>
                  </a:cubicBezTo>
                  <a:cubicBezTo>
                    <a:pt x="9162" y="1512"/>
                    <a:pt x="16362" y="6912"/>
                    <a:pt x="16362" y="6912"/>
                  </a:cubicBezTo>
                  <a:close/>
                </a:path>
              </a:pathLst>
            </a:custGeom>
            <a:solidFill>
              <a:srgbClr val="dadbdf"/>
            </a:solidFill>
            <a:ln w="4680">
              <a:solidFill>
                <a:srgbClr val="ffffff"/>
              </a:solidFill>
              <a:round/>
            </a:ln>
          </p:spPr>
          <p:style>
            <a:lnRef idx="0"/>
            <a:fillRef idx="0"/>
            <a:effectRef idx="0"/>
            <a:fontRef idx="minor"/>
          </p:style>
          <p:txBody>
            <a:bodyPr lIns="45360" rIns="45360" tIns="-33840" bIns="-33840" anchor="t">
              <a:noAutofit/>
            </a:bodyPr>
            <a:p>
              <a:endParaRPr b="0" lang="en-US" sz="1800" spc="-1" strike="noStrike">
                <a:solidFill>
                  <a:srgbClr val="000000"/>
                </a:solidFill>
                <a:latin typeface="Calibri"/>
              </a:endParaRPr>
            </a:p>
          </p:txBody>
        </p:sp>
        <p:sp>
          <p:nvSpPr>
            <p:cNvPr id="725" name="Shape 1339"/>
            <p:cNvSpPr/>
            <p:nvPr/>
          </p:nvSpPr>
          <p:spPr>
            <a:xfrm>
              <a:off x="9171000" y="3068280"/>
              <a:ext cx="797040" cy="374400"/>
            </a:xfrm>
            <a:custGeom>
              <a:avLst/>
              <a:gdLst/>
              <a:ahLst/>
              <a:rect l="l" t="t" r="r" b="b"/>
              <a:pathLst>
                <a:path w="21459" h="21045">
                  <a:moveTo>
                    <a:pt x="21246" y="8685"/>
                  </a:moveTo>
                  <a:cubicBezTo>
                    <a:pt x="21246" y="8462"/>
                    <a:pt x="20821" y="8685"/>
                    <a:pt x="20821" y="8685"/>
                  </a:cubicBezTo>
                  <a:cubicBezTo>
                    <a:pt x="20608" y="8685"/>
                    <a:pt x="20501" y="8462"/>
                    <a:pt x="20501" y="8239"/>
                  </a:cubicBezTo>
                  <a:cubicBezTo>
                    <a:pt x="20395" y="7794"/>
                    <a:pt x="20182" y="7794"/>
                    <a:pt x="20182" y="7571"/>
                  </a:cubicBezTo>
                  <a:cubicBezTo>
                    <a:pt x="20076" y="7348"/>
                    <a:pt x="19969" y="6680"/>
                    <a:pt x="19650" y="6680"/>
                  </a:cubicBezTo>
                  <a:cubicBezTo>
                    <a:pt x="19331" y="6680"/>
                    <a:pt x="19012" y="7348"/>
                    <a:pt x="18692" y="6903"/>
                  </a:cubicBezTo>
                  <a:cubicBezTo>
                    <a:pt x="18586" y="6680"/>
                    <a:pt x="18480" y="6458"/>
                    <a:pt x="18373" y="6235"/>
                  </a:cubicBezTo>
                  <a:cubicBezTo>
                    <a:pt x="18267" y="6235"/>
                    <a:pt x="18054" y="6903"/>
                    <a:pt x="17948" y="6903"/>
                  </a:cubicBezTo>
                  <a:cubicBezTo>
                    <a:pt x="17841" y="7126"/>
                    <a:pt x="17203" y="4676"/>
                    <a:pt x="17203" y="4231"/>
                  </a:cubicBezTo>
                  <a:cubicBezTo>
                    <a:pt x="16990" y="3786"/>
                    <a:pt x="16884" y="3118"/>
                    <a:pt x="16564" y="2895"/>
                  </a:cubicBezTo>
                  <a:cubicBezTo>
                    <a:pt x="16458" y="2672"/>
                    <a:pt x="16352" y="2449"/>
                    <a:pt x="16245" y="2449"/>
                  </a:cubicBezTo>
                  <a:cubicBezTo>
                    <a:pt x="16032" y="2227"/>
                    <a:pt x="16245" y="1781"/>
                    <a:pt x="16245" y="1559"/>
                  </a:cubicBezTo>
                  <a:cubicBezTo>
                    <a:pt x="16245" y="1336"/>
                    <a:pt x="15500" y="2227"/>
                    <a:pt x="15394" y="2449"/>
                  </a:cubicBezTo>
                  <a:cubicBezTo>
                    <a:pt x="15288" y="2449"/>
                    <a:pt x="14436" y="3118"/>
                    <a:pt x="14436" y="2895"/>
                  </a:cubicBezTo>
                  <a:cubicBezTo>
                    <a:pt x="14436" y="2449"/>
                    <a:pt x="14649" y="2227"/>
                    <a:pt x="14436" y="2227"/>
                  </a:cubicBezTo>
                  <a:cubicBezTo>
                    <a:pt x="14330" y="2004"/>
                    <a:pt x="14224" y="1781"/>
                    <a:pt x="14117" y="2004"/>
                  </a:cubicBezTo>
                  <a:cubicBezTo>
                    <a:pt x="14117" y="2004"/>
                    <a:pt x="14117" y="2227"/>
                    <a:pt x="14011" y="2004"/>
                  </a:cubicBezTo>
                  <a:cubicBezTo>
                    <a:pt x="13798" y="1781"/>
                    <a:pt x="13904" y="1559"/>
                    <a:pt x="13585" y="1781"/>
                  </a:cubicBezTo>
                  <a:cubicBezTo>
                    <a:pt x="13266" y="2227"/>
                    <a:pt x="13266" y="1559"/>
                    <a:pt x="13266" y="1113"/>
                  </a:cubicBezTo>
                  <a:cubicBezTo>
                    <a:pt x="13372" y="223"/>
                    <a:pt x="12734" y="0"/>
                    <a:pt x="12415" y="0"/>
                  </a:cubicBezTo>
                  <a:cubicBezTo>
                    <a:pt x="12202" y="0"/>
                    <a:pt x="11989" y="223"/>
                    <a:pt x="11776" y="445"/>
                  </a:cubicBezTo>
                  <a:cubicBezTo>
                    <a:pt x="11563" y="668"/>
                    <a:pt x="11351" y="891"/>
                    <a:pt x="11031" y="891"/>
                  </a:cubicBezTo>
                  <a:cubicBezTo>
                    <a:pt x="10180" y="1336"/>
                    <a:pt x="9329" y="2004"/>
                    <a:pt x="8478" y="2004"/>
                  </a:cubicBezTo>
                  <a:cubicBezTo>
                    <a:pt x="8265" y="2004"/>
                    <a:pt x="8052" y="2004"/>
                    <a:pt x="7946" y="2227"/>
                  </a:cubicBezTo>
                  <a:cubicBezTo>
                    <a:pt x="7839" y="2449"/>
                    <a:pt x="8052" y="3118"/>
                    <a:pt x="8265" y="3118"/>
                  </a:cubicBezTo>
                  <a:cubicBezTo>
                    <a:pt x="8691" y="3786"/>
                    <a:pt x="7946" y="3563"/>
                    <a:pt x="7733" y="3786"/>
                  </a:cubicBezTo>
                  <a:cubicBezTo>
                    <a:pt x="7520" y="4008"/>
                    <a:pt x="7839" y="4231"/>
                    <a:pt x="7839" y="4454"/>
                  </a:cubicBezTo>
                  <a:cubicBezTo>
                    <a:pt x="7839" y="4899"/>
                    <a:pt x="7414" y="4899"/>
                    <a:pt x="7414" y="5122"/>
                  </a:cubicBezTo>
                  <a:cubicBezTo>
                    <a:pt x="7414" y="5790"/>
                    <a:pt x="8265" y="5567"/>
                    <a:pt x="8159" y="6458"/>
                  </a:cubicBezTo>
                  <a:cubicBezTo>
                    <a:pt x="8052" y="6680"/>
                    <a:pt x="7946" y="6903"/>
                    <a:pt x="7733" y="6903"/>
                  </a:cubicBezTo>
                  <a:cubicBezTo>
                    <a:pt x="7626" y="6903"/>
                    <a:pt x="7307" y="6903"/>
                    <a:pt x="7201" y="6903"/>
                  </a:cubicBezTo>
                  <a:cubicBezTo>
                    <a:pt x="6988" y="7126"/>
                    <a:pt x="7094" y="7348"/>
                    <a:pt x="6882" y="7126"/>
                  </a:cubicBezTo>
                  <a:cubicBezTo>
                    <a:pt x="6669" y="6903"/>
                    <a:pt x="6456" y="6458"/>
                    <a:pt x="6243" y="6458"/>
                  </a:cubicBezTo>
                  <a:cubicBezTo>
                    <a:pt x="6137" y="6235"/>
                    <a:pt x="5924" y="6680"/>
                    <a:pt x="5818" y="6680"/>
                  </a:cubicBezTo>
                  <a:cubicBezTo>
                    <a:pt x="5605" y="6458"/>
                    <a:pt x="5498" y="6458"/>
                    <a:pt x="5286" y="6680"/>
                  </a:cubicBezTo>
                  <a:cubicBezTo>
                    <a:pt x="5179" y="6903"/>
                    <a:pt x="5073" y="7348"/>
                    <a:pt x="4966" y="7126"/>
                  </a:cubicBezTo>
                  <a:cubicBezTo>
                    <a:pt x="4860" y="7126"/>
                    <a:pt x="4541" y="6458"/>
                    <a:pt x="4434" y="6680"/>
                  </a:cubicBezTo>
                  <a:cubicBezTo>
                    <a:pt x="4328" y="6680"/>
                    <a:pt x="4328" y="7348"/>
                    <a:pt x="4222" y="6903"/>
                  </a:cubicBezTo>
                  <a:cubicBezTo>
                    <a:pt x="4115" y="6458"/>
                    <a:pt x="4009" y="6235"/>
                    <a:pt x="3796" y="6012"/>
                  </a:cubicBezTo>
                  <a:cubicBezTo>
                    <a:pt x="3583" y="5790"/>
                    <a:pt x="3370" y="5790"/>
                    <a:pt x="3264" y="5567"/>
                  </a:cubicBezTo>
                  <a:cubicBezTo>
                    <a:pt x="2945" y="5344"/>
                    <a:pt x="2945" y="5790"/>
                    <a:pt x="2732" y="5790"/>
                  </a:cubicBezTo>
                  <a:cubicBezTo>
                    <a:pt x="2519" y="6012"/>
                    <a:pt x="2413" y="5344"/>
                    <a:pt x="2200" y="5567"/>
                  </a:cubicBezTo>
                  <a:cubicBezTo>
                    <a:pt x="2093" y="5790"/>
                    <a:pt x="2093" y="6012"/>
                    <a:pt x="1987" y="6012"/>
                  </a:cubicBezTo>
                  <a:cubicBezTo>
                    <a:pt x="1881" y="6235"/>
                    <a:pt x="1668" y="6235"/>
                    <a:pt x="1561" y="6235"/>
                  </a:cubicBezTo>
                  <a:cubicBezTo>
                    <a:pt x="1455" y="6458"/>
                    <a:pt x="1242" y="6903"/>
                    <a:pt x="1242" y="7126"/>
                  </a:cubicBezTo>
                  <a:cubicBezTo>
                    <a:pt x="1136" y="7348"/>
                    <a:pt x="1349" y="8016"/>
                    <a:pt x="1136" y="8016"/>
                  </a:cubicBezTo>
                  <a:cubicBezTo>
                    <a:pt x="923" y="8239"/>
                    <a:pt x="604" y="6903"/>
                    <a:pt x="497" y="7571"/>
                  </a:cubicBezTo>
                  <a:cubicBezTo>
                    <a:pt x="391" y="8016"/>
                    <a:pt x="285" y="8016"/>
                    <a:pt x="178" y="8462"/>
                  </a:cubicBezTo>
                  <a:cubicBezTo>
                    <a:pt x="72" y="8907"/>
                    <a:pt x="497" y="8907"/>
                    <a:pt x="285" y="9353"/>
                  </a:cubicBezTo>
                  <a:cubicBezTo>
                    <a:pt x="178" y="9575"/>
                    <a:pt x="-141" y="10021"/>
                    <a:pt x="72" y="10243"/>
                  </a:cubicBezTo>
                  <a:cubicBezTo>
                    <a:pt x="178" y="10243"/>
                    <a:pt x="285" y="10466"/>
                    <a:pt x="285" y="10466"/>
                  </a:cubicBezTo>
                  <a:cubicBezTo>
                    <a:pt x="391" y="10689"/>
                    <a:pt x="285" y="10911"/>
                    <a:pt x="391" y="11134"/>
                  </a:cubicBezTo>
                  <a:cubicBezTo>
                    <a:pt x="604" y="11357"/>
                    <a:pt x="817" y="10911"/>
                    <a:pt x="1029" y="11357"/>
                  </a:cubicBezTo>
                  <a:cubicBezTo>
                    <a:pt x="1136" y="11579"/>
                    <a:pt x="1349" y="12247"/>
                    <a:pt x="1349" y="12693"/>
                  </a:cubicBezTo>
                  <a:cubicBezTo>
                    <a:pt x="1242" y="12693"/>
                    <a:pt x="923" y="12470"/>
                    <a:pt x="1242" y="12915"/>
                  </a:cubicBezTo>
                  <a:cubicBezTo>
                    <a:pt x="1349" y="13138"/>
                    <a:pt x="1349" y="13361"/>
                    <a:pt x="1561" y="12915"/>
                  </a:cubicBezTo>
                  <a:cubicBezTo>
                    <a:pt x="1561" y="12693"/>
                    <a:pt x="1561" y="12693"/>
                    <a:pt x="1668" y="12693"/>
                  </a:cubicBezTo>
                  <a:cubicBezTo>
                    <a:pt x="2200" y="12693"/>
                    <a:pt x="2413" y="12025"/>
                    <a:pt x="2945" y="12470"/>
                  </a:cubicBezTo>
                  <a:cubicBezTo>
                    <a:pt x="3158" y="12693"/>
                    <a:pt x="3370" y="12025"/>
                    <a:pt x="3477" y="12470"/>
                  </a:cubicBezTo>
                  <a:cubicBezTo>
                    <a:pt x="3583" y="12693"/>
                    <a:pt x="3796" y="13584"/>
                    <a:pt x="3690" y="14029"/>
                  </a:cubicBezTo>
                  <a:cubicBezTo>
                    <a:pt x="3583" y="14029"/>
                    <a:pt x="3370" y="14252"/>
                    <a:pt x="3583" y="14252"/>
                  </a:cubicBezTo>
                  <a:cubicBezTo>
                    <a:pt x="3583" y="14474"/>
                    <a:pt x="3583" y="14474"/>
                    <a:pt x="3583" y="14474"/>
                  </a:cubicBezTo>
                  <a:cubicBezTo>
                    <a:pt x="3477" y="14697"/>
                    <a:pt x="3370" y="14697"/>
                    <a:pt x="3370" y="14697"/>
                  </a:cubicBezTo>
                  <a:cubicBezTo>
                    <a:pt x="3051" y="14697"/>
                    <a:pt x="2200" y="14252"/>
                    <a:pt x="2413" y="15365"/>
                  </a:cubicBezTo>
                  <a:cubicBezTo>
                    <a:pt x="2519" y="15810"/>
                    <a:pt x="2413" y="15810"/>
                    <a:pt x="2200" y="15588"/>
                  </a:cubicBezTo>
                  <a:cubicBezTo>
                    <a:pt x="1987" y="15365"/>
                    <a:pt x="2093" y="15810"/>
                    <a:pt x="2200" y="16033"/>
                  </a:cubicBezTo>
                  <a:cubicBezTo>
                    <a:pt x="2413" y="16033"/>
                    <a:pt x="2413" y="16701"/>
                    <a:pt x="2519" y="16924"/>
                  </a:cubicBezTo>
                  <a:cubicBezTo>
                    <a:pt x="2732" y="17146"/>
                    <a:pt x="2413" y="17592"/>
                    <a:pt x="2732" y="17592"/>
                  </a:cubicBezTo>
                  <a:cubicBezTo>
                    <a:pt x="2838" y="17592"/>
                    <a:pt x="3051" y="18037"/>
                    <a:pt x="3158" y="18260"/>
                  </a:cubicBezTo>
                  <a:cubicBezTo>
                    <a:pt x="3477" y="18260"/>
                    <a:pt x="3158" y="18928"/>
                    <a:pt x="3158" y="19373"/>
                  </a:cubicBezTo>
                  <a:cubicBezTo>
                    <a:pt x="3477" y="18928"/>
                    <a:pt x="3902" y="18260"/>
                    <a:pt x="4328" y="18928"/>
                  </a:cubicBezTo>
                  <a:cubicBezTo>
                    <a:pt x="4541" y="19373"/>
                    <a:pt x="4647" y="20041"/>
                    <a:pt x="4966" y="20041"/>
                  </a:cubicBezTo>
                  <a:cubicBezTo>
                    <a:pt x="5179" y="20041"/>
                    <a:pt x="5073" y="19596"/>
                    <a:pt x="5073" y="19373"/>
                  </a:cubicBezTo>
                  <a:cubicBezTo>
                    <a:pt x="5073" y="18705"/>
                    <a:pt x="5073" y="18037"/>
                    <a:pt x="5073" y="17369"/>
                  </a:cubicBezTo>
                  <a:cubicBezTo>
                    <a:pt x="5073" y="16924"/>
                    <a:pt x="4966" y="15142"/>
                    <a:pt x="5179" y="15142"/>
                  </a:cubicBezTo>
                  <a:cubicBezTo>
                    <a:pt x="5392" y="14920"/>
                    <a:pt x="5711" y="14697"/>
                    <a:pt x="5924" y="14474"/>
                  </a:cubicBezTo>
                  <a:cubicBezTo>
                    <a:pt x="6137" y="14474"/>
                    <a:pt x="6350" y="14252"/>
                    <a:pt x="6456" y="14252"/>
                  </a:cubicBezTo>
                  <a:cubicBezTo>
                    <a:pt x="6562" y="14029"/>
                    <a:pt x="6456" y="13584"/>
                    <a:pt x="6669" y="13806"/>
                  </a:cubicBezTo>
                  <a:cubicBezTo>
                    <a:pt x="6775" y="13806"/>
                    <a:pt x="7094" y="14252"/>
                    <a:pt x="7094" y="13806"/>
                  </a:cubicBezTo>
                  <a:cubicBezTo>
                    <a:pt x="7094" y="13584"/>
                    <a:pt x="7307" y="13361"/>
                    <a:pt x="7414" y="13806"/>
                  </a:cubicBezTo>
                  <a:cubicBezTo>
                    <a:pt x="7520" y="14029"/>
                    <a:pt x="7414" y="14252"/>
                    <a:pt x="7520" y="14697"/>
                  </a:cubicBezTo>
                  <a:cubicBezTo>
                    <a:pt x="7520" y="14920"/>
                    <a:pt x="7626" y="15365"/>
                    <a:pt x="7520" y="15588"/>
                  </a:cubicBezTo>
                  <a:cubicBezTo>
                    <a:pt x="7626" y="15810"/>
                    <a:pt x="7733" y="15810"/>
                    <a:pt x="7839" y="16033"/>
                  </a:cubicBezTo>
                  <a:cubicBezTo>
                    <a:pt x="8159" y="16701"/>
                    <a:pt x="8371" y="17146"/>
                    <a:pt x="8797" y="16924"/>
                  </a:cubicBezTo>
                  <a:cubicBezTo>
                    <a:pt x="9010" y="16924"/>
                    <a:pt x="9223" y="17146"/>
                    <a:pt x="9435" y="17146"/>
                  </a:cubicBezTo>
                  <a:cubicBezTo>
                    <a:pt x="9648" y="17146"/>
                    <a:pt x="9755" y="16701"/>
                    <a:pt x="9967" y="16701"/>
                  </a:cubicBezTo>
                  <a:cubicBezTo>
                    <a:pt x="10180" y="16924"/>
                    <a:pt x="10393" y="17592"/>
                    <a:pt x="10499" y="18037"/>
                  </a:cubicBezTo>
                  <a:cubicBezTo>
                    <a:pt x="10606" y="18260"/>
                    <a:pt x="10499" y="18482"/>
                    <a:pt x="10499" y="18928"/>
                  </a:cubicBezTo>
                  <a:cubicBezTo>
                    <a:pt x="10499" y="19373"/>
                    <a:pt x="10819" y="19596"/>
                    <a:pt x="10819" y="20041"/>
                  </a:cubicBezTo>
                  <a:cubicBezTo>
                    <a:pt x="10819" y="20264"/>
                    <a:pt x="11138" y="20264"/>
                    <a:pt x="11244" y="20264"/>
                  </a:cubicBezTo>
                  <a:cubicBezTo>
                    <a:pt x="11457" y="20264"/>
                    <a:pt x="11457" y="20264"/>
                    <a:pt x="11563" y="20709"/>
                  </a:cubicBezTo>
                  <a:cubicBezTo>
                    <a:pt x="11776" y="21600"/>
                    <a:pt x="11989" y="20487"/>
                    <a:pt x="12202" y="20041"/>
                  </a:cubicBezTo>
                  <a:cubicBezTo>
                    <a:pt x="12308" y="19373"/>
                    <a:pt x="12734" y="19373"/>
                    <a:pt x="12947" y="18928"/>
                  </a:cubicBezTo>
                  <a:cubicBezTo>
                    <a:pt x="13159" y="18928"/>
                    <a:pt x="13159" y="18928"/>
                    <a:pt x="13266" y="18705"/>
                  </a:cubicBezTo>
                  <a:cubicBezTo>
                    <a:pt x="13372" y="18037"/>
                    <a:pt x="13479" y="18260"/>
                    <a:pt x="13692" y="18260"/>
                  </a:cubicBezTo>
                  <a:cubicBezTo>
                    <a:pt x="13904" y="18260"/>
                    <a:pt x="14330" y="18928"/>
                    <a:pt x="14436" y="18482"/>
                  </a:cubicBezTo>
                  <a:cubicBezTo>
                    <a:pt x="14436" y="18037"/>
                    <a:pt x="14436" y="17814"/>
                    <a:pt x="14649" y="17592"/>
                  </a:cubicBezTo>
                  <a:cubicBezTo>
                    <a:pt x="14862" y="17369"/>
                    <a:pt x="15075" y="17814"/>
                    <a:pt x="15288" y="17814"/>
                  </a:cubicBezTo>
                  <a:cubicBezTo>
                    <a:pt x="15500" y="18037"/>
                    <a:pt x="15926" y="18037"/>
                    <a:pt x="16139" y="18037"/>
                  </a:cubicBezTo>
                  <a:cubicBezTo>
                    <a:pt x="16777" y="18037"/>
                    <a:pt x="17309" y="18482"/>
                    <a:pt x="17948" y="18705"/>
                  </a:cubicBezTo>
                  <a:cubicBezTo>
                    <a:pt x="17841" y="18260"/>
                    <a:pt x="18054" y="18037"/>
                    <a:pt x="18267" y="17592"/>
                  </a:cubicBezTo>
                  <a:cubicBezTo>
                    <a:pt x="18373" y="17369"/>
                    <a:pt x="18267" y="17369"/>
                    <a:pt x="18160" y="16924"/>
                  </a:cubicBezTo>
                  <a:cubicBezTo>
                    <a:pt x="18054" y="16701"/>
                    <a:pt x="18054" y="16256"/>
                    <a:pt x="18054" y="15810"/>
                  </a:cubicBezTo>
                  <a:cubicBezTo>
                    <a:pt x="17948" y="15810"/>
                    <a:pt x="17948" y="14920"/>
                    <a:pt x="17841" y="15142"/>
                  </a:cubicBezTo>
                  <a:cubicBezTo>
                    <a:pt x="17948" y="14920"/>
                    <a:pt x="18267" y="14920"/>
                    <a:pt x="18480" y="14697"/>
                  </a:cubicBezTo>
                  <a:cubicBezTo>
                    <a:pt x="18799" y="14697"/>
                    <a:pt x="19012" y="15142"/>
                    <a:pt x="19225" y="14697"/>
                  </a:cubicBezTo>
                  <a:cubicBezTo>
                    <a:pt x="19331" y="14697"/>
                    <a:pt x="19118" y="14474"/>
                    <a:pt x="19118" y="14252"/>
                  </a:cubicBezTo>
                  <a:cubicBezTo>
                    <a:pt x="19012" y="14029"/>
                    <a:pt x="19118" y="13584"/>
                    <a:pt x="19225" y="13361"/>
                  </a:cubicBezTo>
                  <a:cubicBezTo>
                    <a:pt x="19331" y="13138"/>
                    <a:pt x="19437" y="11802"/>
                    <a:pt x="19544" y="12025"/>
                  </a:cubicBezTo>
                  <a:cubicBezTo>
                    <a:pt x="19757" y="12247"/>
                    <a:pt x="19863" y="12470"/>
                    <a:pt x="20076" y="12470"/>
                  </a:cubicBezTo>
                  <a:cubicBezTo>
                    <a:pt x="20182" y="12247"/>
                    <a:pt x="20289" y="12693"/>
                    <a:pt x="20395" y="12470"/>
                  </a:cubicBezTo>
                  <a:cubicBezTo>
                    <a:pt x="20501" y="12470"/>
                    <a:pt x="20714" y="12247"/>
                    <a:pt x="20821" y="12025"/>
                  </a:cubicBezTo>
                  <a:cubicBezTo>
                    <a:pt x="20927" y="11802"/>
                    <a:pt x="20714" y="11357"/>
                    <a:pt x="20714" y="10911"/>
                  </a:cubicBezTo>
                  <a:cubicBezTo>
                    <a:pt x="20821" y="10243"/>
                    <a:pt x="21140" y="10466"/>
                    <a:pt x="21353" y="9798"/>
                  </a:cubicBezTo>
                  <a:cubicBezTo>
                    <a:pt x="21353" y="9575"/>
                    <a:pt x="21353" y="9575"/>
                    <a:pt x="21459" y="9353"/>
                  </a:cubicBezTo>
                  <a:cubicBezTo>
                    <a:pt x="21459" y="9130"/>
                    <a:pt x="21353" y="8907"/>
                    <a:pt x="21246" y="8685"/>
                  </a:cubicBezTo>
                  <a:cubicBezTo>
                    <a:pt x="21246" y="8462"/>
                    <a:pt x="21353" y="8685"/>
                    <a:pt x="21246" y="8685"/>
                  </a:cubicBezTo>
                  <a:close/>
                  <a:moveTo>
                    <a:pt x="15607" y="12915"/>
                  </a:moveTo>
                  <a:cubicBezTo>
                    <a:pt x="15394" y="12915"/>
                    <a:pt x="15075" y="13584"/>
                    <a:pt x="14968" y="13806"/>
                  </a:cubicBezTo>
                  <a:cubicBezTo>
                    <a:pt x="14862" y="13806"/>
                    <a:pt x="14756" y="14252"/>
                    <a:pt x="14756" y="14474"/>
                  </a:cubicBezTo>
                  <a:cubicBezTo>
                    <a:pt x="14756" y="14697"/>
                    <a:pt x="14862" y="14920"/>
                    <a:pt x="14862" y="14920"/>
                  </a:cubicBezTo>
                  <a:cubicBezTo>
                    <a:pt x="14756" y="15142"/>
                    <a:pt x="14543" y="14252"/>
                    <a:pt x="14543" y="14029"/>
                  </a:cubicBezTo>
                  <a:cubicBezTo>
                    <a:pt x="14543" y="13584"/>
                    <a:pt x="14649" y="13361"/>
                    <a:pt x="14862" y="13138"/>
                  </a:cubicBezTo>
                  <a:cubicBezTo>
                    <a:pt x="15075" y="12915"/>
                    <a:pt x="15288" y="12693"/>
                    <a:pt x="15500" y="12693"/>
                  </a:cubicBezTo>
                  <a:cubicBezTo>
                    <a:pt x="15500" y="12693"/>
                    <a:pt x="16032" y="12915"/>
                    <a:pt x="16032" y="12915"/>
                  </a:cubicBezTo>
                  <a:cubicBezTo>
                    <a:pt x="15926" y="13138"/>
                    <a:pt x="15607" y="12915"/>
                    <a:pt x="15607" y="12915"/>
                  </a:cubicBezTo>
                  <a:cubicBezTo>
                    <a:pt x="15394" y="12915"/>
                    <a:pt x="15713" y="12915"/>
                    <a:pt x="15607" y="12915"/>
                  </a:cubicBezTo>
                  <a:close/>
                  <a:moveTo>
                    <a:pt x="17416" y="13138"/>
                  </a:moveTo>
                  <a:cubicBezTo>
                    <a:pt x="17309" y="13584"/>
                    <a:pt x="16564" y="13361"/>
                    <a:pt x="16458" y="12915"/>
                  </a:cubicBezTo>
                  <a:cubicBezTo>
                    <a:pt x="16458" y="12915"/>
                    <a:pt x="16884" y="12915"/>
                    <a:pt x="16884" y="12915"/>
                  </a:cubicBezTo>
                  <a:cubicBezTo>
                    <a:pt x="17096" y="12915"/>
                    <a:pt x="17203" y="12915"/>
                    <a:pt x="17416" y="12693"/>
                  </a:cubicBezTo>
                  <a:cubicBezTo>
                    <a:pt x="17416" y="12693"/>
                    <a:pt x="17416" y="13138"/>
                    <a:pt x="17416" y="13138"/>
                  </a:cubicBezTo>
                  <a:cubicBezTo>
                    <a:pt x="17309" y="13361"/>
                    <a:pt x="17416" y="12915"/>
                    <a:pt x="17416" y="1313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6" name="Shape 1340"/>
            <p:cNvSpPr/>
            <p:nvPr/>
          </p:nvSpPr>
          <p:spPr>
            <a:xfrm>
              <a:off x="9599760" y="3551040"/>
              <a:ext cx="549000" cy="579600"/>
            </a:xfrm>
            <a:custGeom>
              <a:avLst/>
              <a:gdLst/>
              <a:ahLst/>
              <a:rect l="l" t="t" r="r" b="b"/>
              <a:pathLst>
                <a:path w="21397" h="21206">
                  <a:moveTo>
                    <a:pt x="18051" y="10878"/>
                  </a:moveTo>
                  <a:cubicBezTo>
                    <a:pt x="18669" y="11023"/>
                    <a:pt x="18360" y="10444"/>
                    <a:pt x="18514" y="10154"/>
                  </a:cubicBezTo>
                  <a:cubicBezTo>
                    <a:pt x="18514" y="9864"/>
                    <a:pt x="18669" y="9574"/>
                    <a:pt x="18669" y="9429"/>
                  </a:cubicBezTo>
                  <a:cubicBezTo>
                    <a:pt x="18823" y="9284"/>
                    <a:pt x="19131" y="9574"/>
                    <a:pt x="19286" y="9284"/>
                  </a:cubicBezTo>
                  <a:cubicBezTo>
                    <a:pt x="19440" y="8994"/>
                    <a:pt x="19440" y="8704"/>
                    <a:pt x="19440" y="8414"/>
                  </a:cubicBezTo>
                  <a:cubicBezTo>
                    <a:pt x="19594" y="8124"/>
                    <a:pt x="19903" y="7979"/>
                    <a:pt x="19903" y="7689"/>
                  </a:cubicBezTo>
                  <a:cubicBezTo>
                    <a:pt x="19903" y="7399"/>
                    <a:pt x="20366" y="7109"/>
                    <a:pt x="20520" y="6964"/>
                  </a:cubicBezTo>
                  <a:cubicBezTo>
                    <a:pt x="20983" y="6529"/>
                    <a:pt x="20829" y="6964"/>
                    <a:pt x="21137" y="7109"/>
                  </a:cubicBezTo>
                  <a:cubicBezTo>
                    <a:pt x="21137" y="7109"/>
                    <a:pt x="21137" y="6529"/>
                    <a:pt x="21137" y="6529"/>
                  </a:cubicBezTo>
                  <a:cubicBezTo>
                    <a:pt x="21137" y="6384"/>
                    <a:pt x="21600" y="6384"/>
                    <a:pt x="21291" y="6095"/>
                  </a:cubicBezTo>
                  <a:cubicBezTo>
                    <a:pt x="21137" y="6095"/>
                    <a:pt x="20829" y="6095"/>
                    <a:pt x="20674" y="6095"/>
                  </a:cubicBezTo>
                  <a:cubicBezTo>
                    <a:pt x="20674" y="5950"/>
                    <a:pt x="20829" y="5805"/>
                    <a:pt x="20829" y="5805"/>
                  </a:cubicBezTo>
                  <a:cubicBezTo>
                    <a:pt x="20983" y="5660"/>
                    <a:pt x="20829" y="5515"/>
                    <a:pt x="20674" y="5370"/>
                  </a:cubicBezTo>
                  <a:cubicBezTo>
                    <a:pt x="20520" y="5225"/>
                    <a:pt x="20520" y="5225"/>
                    <a:pt x="20366" y="5370"/>
                  </a:cubicBezTo>
                  <a:cubicBezTo>
                    <a:pt x="20057" y="5515"/>
                    <a:pt x="19903" y="5370"/>
                    <a:pt x="19594" y="5225"/>
                  </a:cubicBezTo>
                  <a:cubicBezTo>
                    <a:pt x="19440" y="5225"/>
                    <a:pt x="19131" y="5515"/>
                    <a:pt x="19131" y="5660"/>
                  </a:cubicBezTo>
                  <a:cubicBezTo>
                    <a:pt x="18977" y="5805"/>
                    <a:pt x="18823" y="5660"/>
                    <a:pt x="18669" y="5805"/>
                  </a:cubicBezTo>
                  <a:cubicBezTo>
                    <a:pt x="18514" y="5805"/>
                    <a:pt x="18360" y="5950"/>
                    <a:pt x="18360" y="6095"/>
                  </a:cubicBezTo>
                  <a:cubicBezTo>
                    <a:pt x="18051" y="6384"/>
                    <a:pt x="17897" y="6529"/>
                    <a:pt x="17589" y="6384"/>
                  </a:cubicBezTo>
                  <a:cubicBezTo>
                    <a:pt x="17434" y="6529"/>
                    <a:pt x="17589" y="6819"/>
                    <a:pt x="17743" y="6964"/>
                  </a:cubicBezTo>
                  <a:cubicBezTo>
                    <a:pt x="18051" y="7544"/>
                    <a:pt x="16663" y="7109"/>
                    <a:pt x="16354" y="7254"/>
                  </a:cubicBezTo>
                  <a:cubicBezTo>
                    <a:pt x="16200" y="7399"/>
                    <a:pt x="15737" y="7254"/>
                    <a:pt x="15583" y="7109"/>
                  </a:cubicBezTo>
                  <a:cubicBezTo>
                    <a:pt x="15429" y="6964"/>
                    <a:pt x="15583" y="6674"/>
                    <a:pt x="15583" y="6674"/>
                  </a:cubicBezTo>
                  <a:cubicBezTo>
                    <a:pt x="15583" y="6674"/>
                    <a:pt x="15583" y="6240"/>
                    <a:pt x="15429" y="6384"/>
                  </a:cubicBezTo>
                  <a:cubicBezTo>
                    <a:pt x="15120" y="6384"/>
                    <a:pt x="14811" y="6384"/>
                    <a:pt x="14811" y="6819"/>
                  </a:cubicBezTo>
                  <a:cubicBezTo>
                    <a:pt x="14966" y="6964"/>
                    <a:pt x="15120" y="7399"/>
                    <a:pt x="14966" y="7399"/>
                  </a:cubicBezTo>
                  <a:cubicBezTo>
                    <a:pt x="14657" y="7399"/>
                    <a:pt x="14503" y="7689"/>
                    <a:pt x="14194" y="7399"/>
                  </a:cubicBezTo>
                  <a:cubicBezTo>
                    <a:pt x="14040" y="7109"/>
                    <a:pt x="13886" y="7544"/>
                    <a:pt x="13731" y="7399"/>
                  </a:cubicBezTo>
                  <a:cubicBezTo>
                    <a:pt x="13269" y="7254"/>
                    <a:pt x="13114" y="7254"/>
                    <a:pt x="12651" y="7109"/>
                  </a:cubicBezTo>
                  <a:cubicBezTo>
                    <a:pt x="12343" y="6964"/>
                    <a:pt x="12189" y="6674"/>
                    <a:pt x="11880" y="6674"/>
                  </a:cubicBezTo>
                  <a:cubicBezTo>
                    <a:pt x="11417" y="6819"/>
                    <a:pt x="11417" y="6674"/>
                    <a:pt x="11109" y="6529"/>
                  </a:cubicBezTo>
                  <a:cubicBezTo>
                    <a:pt x="10800" y="6384"/>
                    <a:pt x="10491" y="6529"/>
                    <a:pt x="10337" y="6384"/>
                  </a:cubicBezTo>
                  <a:cubicBezTo>
                    <a:pt x="10029" y="6095"/>
                    <a:pt x="9720" y="5950"/>
                    <a:pt x="9566" y="5805"/>
                  </a:cubicBezTo>
                  <a:cubicBezTo>
                    <a:pt x="9257" y="5660"/>
                    <a:pt x="9103" y="5660"/>
                    <a:pt x="9257" y="5370"/>
                  </a:cubicBezTo>
                  <a:cubicBezTo>
                    <a:pt x="9411" y="5225"/>
                    <a:pt x="9257" y="4935"/>
                    <a:pt x="9566" y="4790"/>
                  </a:cubicBezTo>
                  <a:cubicBezTo>
                    <a:pt x="9874" y="4645"/>
                    <a:pt x="10029" y="4790"/>
                    <a:pt x="9720" y="4500"/>
                  </a:cubicBezTo>
                  <a:cubicBezTo>
                    <a:pt x="9411" y="4355"/>
                    <a:pt x="9103" y="4065"/>
                    <a:pt x="8794" y="3920"/>
                  </a:cubicBezTo>
                  <a:cubicBezTo>
                    <a:pt x="8640" y="3920"/>
                    <a:pt x="8486" y="3630"/>
                    <a:pt x="8177" y="3630"/>
                  </a:cubicBezTo>
                  <a:cubicBezTo>
                    <a:pt x="8177" y="3630"/>
                    <a:pt x="8177" y="3195"/>
                    <a:pt x="8023" y="3050"/>
                  </a:cubicBezTo>
                  <a:cubicBezTo>
                    <a:pt x="7251" y="2325"/>
                    <a:pt x="8794" y="3195"/>
                    <a:pt x="8794" y="2615"/>
                  </a:cubicBezTo>
                  <a:cubicBezTo>
                    <a:pt x="8794" y="2325"/>
                    <a:pt x="8640" y="2325"/>
                    <a:pt x="8331" y="2035"/>
                  </a:cubicBezTo>
                  <a:cubicBezTo>
                    <a:pt x="8177" y="1891"/>
                    <a:pt x="8177" y="1746"/>
                    <a:pt x="8486" y="1601"/>
                  </a:cubicBezTo>
                  <a:cubicBezTo>
                    <a:pt x="8794" y="1601"/>
                    <a:pt x="8640" y="1166"/>
                    <a:pt x="8949" y="1021"/>
                  </a:cubicBezTo>
                  <a:cubicBezTo>
                    <a:pt x="9103" y="876"/>
                    <a:pt x="9411" y="731"/>
                    <a:pt x="9257" y="441"/>
                  </a:cubicBezTo>
                  <a:cubicBezTo>
                    <a:pt x="8949" y="6"/>
                    <a:pt x="8177" y="-139"/>
                    <a:pt x="7714" y="151"/>
                  </a:cubicBezTo>
                  <a:cubicBezTo>
                    <a:pt x="7560" y="296"/>
                    <a:pt x="7560" y="296"/>
                    <a:pt x="7251" y="441"/>
                  </a:cubicBezTo>
                  <a:cubicBezTo>
                    <a:pt x="7097" y="441"/>
                    <a:pt x="7097" y="731"/>
                    <a:pt x="6943" y="876"/>
                  </a:cubicBezTo>
                  <a:cubicBezTo>
                    <a:pt x="6634" y="1021"/>
                    <a:pt x="6326" y="876"/>
                    <a:pt x="6171" y="1021"/>
                  </a:cubicBezTo>
                  <a:cubicBezTo>
                    <a:pt x="6017" y="1166"/>
                    <a:pt x="5709" y="1166"/>
                    <a:pt x="5400" y="1021"/>
                  </a:cubicBezTo>
                  <a:cubicBezTo>
                    <a:pt x="5091" y="1021"/>
                    <a:pt x="4937" y="876"/>
                    <a:pt x="4629" y="1021"/>
                  </a:cubicBezTo>
                  <a:cubicBezTo>
                    <a:pt x="4320" y="1021"/>
                    <a:pt x="4474" y="1456"/>
                    <a:pt x="4629" y="1601"/>
                  </a:cubicBezTo>
                  <a:cubicBezTo>
                    <a:pt x="4629" y="1891"/>
                    <a:pt x="4629" y="2180"/>
                    <a:pt x="4629" y="2325"/>
                  </a:cubicBezTo>
                  <a:cubicBezTo>
                    <a:pt x="4783" y="2615"/>
                    <a:pt x="5091" y="2615"/>
                    <a:pt x="5400" y="2760"/>
                  </a:cubicBezTo>
                  <a:cubicBezTo>
                    <a:pt x="5554" y="3050"/>
                    <a:pt x="5246" y="3050"/>
                    <a:pt x="5091" y="3050"/>
                  </a:cubicBezTo>
                  <a:cubicBezTo>
                    <a:pt x="4937" y="3340"/>
                    <a:pt x="5091" y="3630"/>
                    <a:pt x="5091" y="3920"/>
                  </a:cubicBezTo>
                  <a:cubicBezTo>
                    <a:pt x="5091" y="4065"/>
                    <a:pt x="4783" y="4065"/>
                    <a:pt x="4783" y="4065"/>
                  </a:cubicBezTo>
                  <a:cubicBezTo>
                    <a:pt x="4474" y="4210"/>
                    <a:pt x="4783" y="4645"/>
                    <a:pt x="4474" y="4645"/>
                  </a:cubicBezTo>
                  <a:cubicBezTo>
                    <a:pt x="4166" y="4790"/>
                    <a:pt x="4011" y="4935"/>
                    <a:pt x="4011" y="5080"/>
                  </a:cubicBezTo>
                  <a:cubicBezTo>
                    <a:pt x="3857" y="5370"/>
                    <a:pt x="3703" y="5370"/>
                    <a:pt x="3394" y="5515"/>
                  </a:cubicBezTo>
                  <a:cubicBezTo>
                    <a:pt x="3086" y="5660"/>
                    <a:pt x="3086" y="6095"/>
                    <a:pt x="2931" y="6240"/>
                  </a:cubicBezTo>
                  <a:cubicBezTo>
                    <a:pt x="2777" y="6529"/>
                    <a:pt x="2469" y="6384"/>
                    <a:pt x="2314" y="6674"/>
                  </a:cubicBezTo>
                  <a:cubicBezTo>
                    <a:pt x="2006" y="6819"/>
                    <a:pt x="1851" y="6240"/>
                    <a:pt x="1697" y="6529"/>
                  </a:cubicBezTo>
                  <a:cubicBezTo>
                    <a:pt x="1543" y="6674"/>
                    <a:pt x="926" y="6964"/>
                    <a:pt x="1080" y="7109"/>
                  </a:cubicBezTo>
                  <a:cubicBezTo>
                    <a:pt x="1080" y="7399"/>
                    <a:pt x="1543" y="7399"/>
                    <a:pt x="1543" y="7689"/>
                  </a:cubicBezTo>
                  <a:cubicBezTo>
                    <a:pt x="1389" y="8124"/>
                    <a:pt x="1697" y="8124"/>
                    <a:pt x="2006" y="8269"/>
                  </a:cubicBezTo>
                  <a:cubicBezTo>
                    <a:pt x="2006" y="8559"/>
                    <a:pt x="2160" y="8849"/>
                    <a:pt x="2160" y="9139"/>
                  </a:cubicBezTo>
                  <a:cubicBezTo>
                    <a:pt x="2160" y="9139"/>
                    <a:pt x="1697" y="9139"/>
                    <a:pt x="1543" y="9139"/>
                  </a:cubicBezTo>
                  <a:cubicBezTo>
                    <a:pt x="1389" y="9139"/>
                    <a:pt x="1234" y="9284"/>
                    <a:pt x="1080" y="9284"/>
                  </a:cubicBezTo>
                  <a:cubicBezTo>
                    <a:pt x="1080" y="9284"/>
                    <a:pt x="926" y="9139"/>
                    <a:pt x="771" y="9139"/>
                  </a:cubicBezTo>
                  <a:cubicBezTo>
                    <a:pt x="617" y="9139"/>
                    <a:pt x="0" y="9429"/>
                    <a:pt x="0" y="9574"/>
                  </a:cubicBezTo>
                  <a:cubicBezTo>
                    <a:pt x="309" y="9864"/>
                    <a:pt x="463" y="10009"/>
                    <a:pt x="771" y="10299"/>
                  </a:cubicBezTo>
                  <a:cubicBezTo>
                    <a:pt x="771" y="10299"/>
                    <a:pt x="1697" y="10299"/>
                    <a:pt x="1697" y="10299"/>
                  </a:cubicBezTo>
                  <a:cubicBezTo>
                    <a:pt x="1697" y="10444"/>
                    <a:pt x="1389" y="10589"/>
                    <a:pt x="1234" y="10589"/>
                  </a:cubicBezTo>
                  <a:cubicBezTo>
                    <a:pt x="1080" y="10733"/>
                    <a:pt x="617" y="10444"/>
                    <a:pt x="617" y="10733"/>
                  </a:cubicBezTo>
                  <a:cubicBezTo>
                    <a:pt x="617" y="11023"/>
                    <a:pt x="1389" y="11458"/>
                    <a:pt x="1697" y="11748"/>
                  </a:cubicBezTo>
                  <a:cubicBezTo>
                    <a:pt x="1851" y="11893"/>
                    <a:pt x="2006" y="11893"/>
                    <a:pt x="2314" y="11893"/>
                  </a:cubicBezTo>
                  <a:cubicBezTo>
                    <a:pt x="2623" y="11748"/>
                    <a:pt x="3086" y="11603"/>
                    <a:pt x="3240" y="11313"/>
                  </a:cubicBezTo>
                  <a:cubicBezTo>
                    <a:pt x="3240" y="11313"/>
                    <a:pt x="3086" y="11168"/>
                    <a:pt x="2931" y="11168"/>
                  </a:cubicBezTo>
                  <a:cubicBezTo>
                    <a:pt x="2931" y="11023"/>
                    <a:pt x="3086" y="11023"/>
                    <a:pt x="3086" y="11023"/>
                  </a:cubicBezTo>
                  <a:cubicBezTo>
                    <a:pt x="3240" y="10878"/>
                    <a:pt x="3086" y="10733"/>
                    <a:pt x="3240" y="10733"/>
                  </a:cubicBezTo>
                  <a:cubicBezTo>
                    <a:pt x="3240" y="10733"/>
                    <a:pt x="3549" y="10733"/>
                    <a:pt x="3549" y="10733"/>
                  </a:cubicBezTo>
                  <a:cubicBezTo>
                    <a:pt x="3549" y="10878"/>
                    <a:pt x="3240" y="10878"/>
                    <a:pt x="3394" y="11023"/>
                  </a:cubicBezTo>
                  <a:cubicBezTo>
                    <a:pt x="3394" y="11023"/>
                    <a:pt x="3549" y="11023"/>
                    <a:pt x="3549" y="11023"/>
                  </a:cubicBezTo>
                  <a:cubicBezTo>
                    <a:pt x="3549" y="11168"/>
                    <a:pt x="3394" y="11168"/>
                    <a:pt x="3394" y="11168"/>
                  </a:cubicBezTo>
                  <a:cubicBezTo>
                    <a:pt x="3240" y="11168"/>
                    <a:pt x="3549" y="11168"/>
                    <a:pt x="3549" y="11168"/>
                  </a:cubicBezTo>
                  <a:cubicBezTo>
                    <a:pt x="3549" y="11313"/>
                    <a:pt x="3394" y="11313"/>
                    <a:pt x="3394" y="11458"/>
                  </a:cubicBezTo>
                  <a:cubicBezTo>
                    <a:pt x="3240" y="11458"/>
                    <a:pt x="3549" y="11603"/>
                    <a:pt x="3703" y="11748"/>
                  </a:cubicBezTo>
                  <a:cubicBezTo>
                    <a:pt x="3857" y="11893"/>
                    <a:pt x="3549" y="12183"/>
                    <a:pt x="3394" y="12473"/>
                  </a:cubicBezTo>
                  <a:cubicBezTo>
                    <a:pt x="3394" y="12618"/>
                    <a:pt x="3549" y="12763"/>
                    <a:pt x="3703" y="12908"/>
                  </a:cubicBezTo>
                  <a:cubicBezTo>
                    <a:pt x="3703" y="13198"/>
                    <a:pt x="3703" y="13343"/>
                    <a:pt x="3703" y="13633"/>
                  </a:cubicBezTo>
                  <a:cubicBezTo>
                    <a:pt x="3703" y="13923"/>
                    <a:pt x="3549" y="14358"/>
                    <a:pt x="3549" y="14503"/>
                  </a:cubicBezTo>
                  <a:cubicBezTo>
                    <a:pt x="3549" y="14503"/>
                    <a:pt x="3703" y="14213"/>
                    <a:pt x="3703" y="14213"/>
                  </a:cubicBezTo>
                  <a:cubicBezTo>
                    <a:pt x="3857" y="14358"/>
                    <a:pt x="4011" y="15227"/>
                    <a:pt x="4011" y="15372"/>
                  </a:cubicBezTo>
                  <a:cubicBezTo>
                    <a:pt x="4166" y="15662"/>
                    <a:pt x="4474" y="16097"/>
                    <a:pt x="4629" y="16532"/>
                  </a:cubicBezTo>
                  <a:cubicBezTo>
                    <a:pt x="4783" y="16967"/>
                    <a:pt x="4783" y="17402"/>
                    <a:pt x="4937" y="17837"/>
                  </a:cubicBezTo>
                  <a:cubicBezTo>
                    <a:pt x="5246" y="18417"/>
                    <a:pt x="5709" y="18852"/>
                    <a:pt x="6017" y="19287"/>
                  </a:cubicBezTo>
                  <a:cubicBezTo>
                    <a:pt x="6171" y="19721"/>
                    <a:pt x="6171" y="20156"/>
                    <a:pt x="6326" y="20591"/>
                  </a:cubicBezTo>
                  <a:cubicBezTo>
                    <a:pt x="6634" y="21026"/>
                    <a:pt x="6943" y="21461"/>
                    <a:pt x="7406" y="21026"/>
                  </a:cubicBezTo>
                  <a:cubicBezTo>
                    <a:pt x="7714" y="20881"/>
                    <a:pt x="7714" y="20736"/>
                    <a:pt x="7714" y="20591"/>
                  </a:cubicBezTo>
                  <a:cubicBezTo>
                    <a:pt x="7714" y="20301"/>
                    <a:pt x="8023" y="20156"/>
                    <a:pt x="8177" y="20011"/>
                  </a:cubicBezTo>
                  <a:cubicBezTo>
                    <a:pt x="8331" y="19866"/>
                    <a:pt x="8640" y="19866"/>
                    <a:pt x="8794" y="19721"/>
                  </a:cubicBezTo>
                  <a:cubicBezTo>
                    <a:pt x="8949" y="19576"/>
                    <a:pt x="8794" y="19142"/>
                    <a:pt x="8794" y="18997"/>
                  </a:cubicBezTo>
                  <a:cubicBezTo>
                    <a:pt x="8640" y="18417"/>
                    <a:pt x="9411" y="17982"/>
                    <a:pt x="9257" y="17547"/>
                  </a:cubicBezTo>
                  <a:cubicBezTo>
                    <a:pt x="9103" y="17112"/>
                    <a:pt x="8949" y="16677"/>
                    <a:pt x="8949" y="16242"/>
                  </a:cubicBezTo>
                  <a:cubicBezTo>
                    <a:pt x="8949" y="15662"/>
                    <a:pt x="9566" y="15517"/>
                    <a:pt x="10029" y="15372"/>
                  </a:cubicBezTo>
                  <a:cubicBezTo>
                    <a:pt x="10183" y="15227"/>
                    <a:pt x="10646" y="15227"/>
                    <a:pt x="10646" y="15082"/>
                  </a:cubicBezTo>
                  <a:cubicBezTo>
                    <a:pt x="10800" y="14793"/>
                    <a:pt x="10954" y="14648"/>
                    <a:pt x="11109" y="14503"/>
                  </a:cubicBezTo>
                  <a:cubicBezTo>
                    <a:pt x="11571" y="14068"/>
                    <a:pt x="12034" y="13633"/>
                    <a:pt x="12497" y="13343"/>
                  </a:cubicBezTo>
                  <a:cubicBezTo>
                    <a:pt x="12651" y="13198"/>
                    <a:pt x="12806" y="12908"/>
                    <a:pt x="12960" y="12763"/>
                  </a:cubicBezTo>
                  <a:cubicBezTo>
                    <a:pt x="13114" y="12618"/>
                    <a:pt x="13423" y="12618"/>
                    <a:pt x="13577" y="12473"/>
                  </a:cubicBezTo>
                  <a:cubicBezTo>
                    <a:pt x="13731" y="12328"/>
                    <a:pt x="13886" y="12183"/>
                    <a:pt x="14040" y="12038"/>
                  </a:cubicBezTo>
                  <a:cubicBezTo>
                    <a:pt x="14194" y="11893"/>
                    <a:pt x="13886" y="11748"/>
                    <a:pt x="13886" y="11603"/>
                  </a:cubicBezTo>
                  <a:cubicBezTo>
                    <a:pt x="14040" y="11313"/>
                    <a:pt x="14503" y="11313"/>
                    <a:pt x="14657" y="11168"/>
                  </a:cubicBezTo>
                  <a:cubicBezTo>
                    <a:pt x="14811" y="11168"/>
                    <a:pt x="15120" y="10733"/>
                    <a:pt x="15120" y="10589"/>
                  </a:cubicBezTo>
                  <a:cubicBezTo>
                    <a:pt x="15120" y="10878"/>
                    <a:pt x="14811" y="10878"/>
                    <a:pt x="14966" y="11168"/>
                  </a:cubicBezTo>
                  <a:cubicBezTo>
                    <a:pt x="15274" y="11313"/>
                    <a:pt x="15429" y="10878"/>
                    <a:pt x="15429" y="10878"/>
                  </a:cubicBezTo>
                  <a:cubicBezTo>
                    <a:pt x="15583" y="11023"/>
                    <a:pt x="15429" y="11168"/>
                    <a:pt x="15583" y="11168"/>
                  </a:cubicBezTo>
                  <a:cubicBezTo>
                    <a:pt x="15737" y="10733"/>
                    <a:pt x="15583" y="10299"/>
                    <a:pt x="15274" y="9864"/>
                  </a:cubicBezTo>
                  <a:cubicBezTo>
                    <a:pt x="15120" y="9574"/>
                    <a:pt x="14811" y="9284"/>
                    <a:pt x="14966" y="8849"/>
                  </a:cubicBezTo>
                  <a:cubicBezTo>
                    <a:pt x="15120" y="8414"/>
                    <a:pt x="15891" y="8704"/>
                    <a:pt x="15429" y="8269"/>
                  </a:cubicBezTo>
                  <a:cubicBezTo>
                    <a:pt x="15274" y="8124"/>
                    <a:pt x="14966" y="7979"/>
                    <a:pt x="15120" y="7689"/>
                  </a:cubicBezTo>
                  <a:cubicBezTo>
                    <a:pt x="15274" y="7544"/>
                    <a:pt x="15429" y="7689"/>
                    <a:pt x="15737" y="7834"/>
                  </a:cubicBezTo>
                  <a:cubicBezTo>
                    <a:pt x="15891" y="7979"/>
                    <a:pt x="16046" y="7834"/>
                    <a:pt x="16046" y="8124"/>
                  </a:cubicBezTo>
                  <a:cubicBezTo>
                    <a:pt x="16046" y="8269"/>
                    <a:pt x="16046" y="8414"/>
                    <a:pt x="16354" y="8559"/>
                  </a:cubicBezTo>
                  <a:cubicBezTo>
                    <a:pt x="16509" y="8559"/>
                    <a:pt x="16817" y="8559"/>
                    <a:pt x="16971" y="8559"/>
                  </a:cubicBezTo>
                  <a:cubicBezTo>
                    <a:pt x="17126" y="8559"/>
                    <a:pt x="17434" y="8704"/>
                    <a:pt x="17589" y="8559"/>
                  </a:cubicBezTo>
                  <a:cubicBezTo>
                    <a:pt x="18360" y="8414"/>
                    <a:pt x="17743" y="9284"/>
                    <a:pt x="17434" y="9429"/>
                  </a:cubicBezTo>
                  <a:cubicBezTo>
                    <a:pt x="16971" y="9429"/>
                    <a:pt x="17280" y="10009"/>
                    <a:pt x="17280" y="10154"/>
                  </a:cubicBezTo>
                  <a:cubicBezTo>
                    <a:pt x="17434" y="10154"/>
                    <a:pt x="17743" y="9574"/>
                    <a:pt x="17743" y="9719"/>
                  </a:cubicBezTo>
                  <a:cubicBezTo>
                    <a:pt x="17743" y="10154"/>
                    <a:pt x="18051" y="10589"/>
                    <a:pt x="18051" y="1087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7" name="Shape 1341"/>
            <p:cNvSpPr/>
            <p:nvPr/>
          </p:nvSpPr>
          <p:spPr>
            <a:xfrm>
              <a:off x="10055520" y="3715200"/>
              <a:ext cx="161640" cy="383040"/>
            </a:xfrm>
            <a:custGeom>
              <a:avLst/>
              <a:gdLst/>
              <a:ahLst/>
              <a:rect l="l" t="t" r="r" b="b"/>
              <a:pathLst>
                <a:path w="21600" h="21314">
                  <a:moveTo>
                    <a:pt x="20546" y="8090"/>
                  </a:moveTo>
                  <a:cubicBezTo>
                    <a:pt x="20020" y="8090"/>
                    <a:pt x="19493" y="8310"/>
                    <a:pt x="19493" y="7869"/>
                  </a:cubicBezTo>
                  <a:cubicBezTo>
                    <a:pt x="19493" y="7869"/>
                    <a:pt x="19493" y="7649"/>
                    <a:pt x="19493" y="7649"/>
                  </a:cubicBezTo>
                  <a:cubicBezTo>
                    <a:pt x="19493" y="7428"/>
                    <a:pt x="17912" y="7428"/>
                    <a:pt x="17912" y="7428"/>
                  </a:cubicBezTo>
                  <a:cubicBezTo>
                    <a:pt x="17385" y="7208"/>
                    <a:pt x="17912" y="6767"/>
                    <a:pt x="17912" y="6547"/>
                  </a:cubicBezTo>
                  <a:cubicBezTo>
                    <a:pt x="18439" y="6106"/>
                    <a:pt x="16859" y="6326"/>
                    <a:pt x="16332" y="6106"/>
                  </a:cubicBezTo>
                  <a:cubicBezTo>
                    <a:pt x="16332" y="5885"/>
                    <a:pt x="15805" y="5885"/>
                    <a:pt x="15805" y="5665"/>
                  </a:cubicBezTo>
                  <a:cubicBezTo>
                    <a:pt x="15805" y="5445"/>
                    <a:pt x="16859" y="5224"/>
                    <a:pt x="16859" y="5224"/>
                  </a:cubicBezTo>
                  <a:cubicBezTo>
                    <a:pt x="16332" y="4783"/>
                    <a:pt x="13171" y="5445"/>
                    <a:pt x="12644" y="5224"/>
                  </a:cubicBezTo>
                  <a:cubicBezTo>
                    <a:pt x="12644" y="5224"/>
                    <a:pt x="13171" y="4783"/>
                    <a:pt x="13171" y="4563"/>
                  </a:cubicBezTo>
                  <a:cubicBezTo>
                    <a:pt x="12644" y="4343"/>
                    <a:pt x="14224" y="3902"/>
                    <a:pt x="14224" y="3681"/>
                  </a:cubicBezTo>
                  <a:cubicBezTo>
                    <a:pt x="15278" y="3020"/>
                    <a:pt x="16332" y="2579"/>
                    <a:pt x="15805" y="1918"/>
                  </a:cubicBezTo>
                  <a:cubicBezTo>
                    <a:pt x="15805" y="1698"/>
                    <a:pt x="16332" y="1477"/>
                    <a:pt x="16332" y="1257"/>
                  </a:cubicBezTo>
                  <a:cubicBezTo>
                    <a:pt x="16332" y="816"/>
                    <a:pt x="15278" y="1257"/>
                    <a:pt x="14751" y="1036"/>
                  </a:cubicBezTo>
                  <a:cubicBezTo>
                    <a:pt x="14751" y="596"/>
                    <a:pt x="14224" y="375"/>
                    <a:pt x="14224" y="155"/>
                  </a:cubicBezTo>
                  <a:cubicBezTo>
                    <a:pt x="13171" y="-286"/>
                    <a:pt x="13171" y="375"/>
                    <a:pt x="12117" y="155"/>
                  </a:cubicBezTo>
                  <a:cubicBezTo>
                    <a:pt x="12644" y="596"/>
                    <a:pt x="11590" y="596"/>
                    <a:pt x="11590" y="816"/>
                  </a:cubicBezTo>
                  <a:cubicBezTo>
                    <a:pt x="11590" y="816"/>
                    <a:pt x="11590" y="1698"/>
                    <a:pt x="11590" y="1698"/>
                  </a:cubicBezTo>
                  <a:cubicBezTo>
                    <a:pt x="11063" y="1698"/>
                    <a:pt x="11063" y="1257"/>
                    <a:pt x="11063" y="1257"/>
                  </a:cubicBezTo>
                  <a:cubicBezTo>
                    <a:pt x="10010" y="1257"/>
                    <a:pt x="9483" y="1477"/>
                    <a:pt x="9483" y="1698"/>
                  </a:cubicBezTo>
                  <a:cubicBezTo>
                    <a:pt x="8956" y="1918"/>
                    <a:pt x="7902" y="1918"/>
                    <a:pt x="7376" y="2138"/>
                  </a:cubicBezTo>
                  <a:cubicBezTo>
                    <a:pt x="6849" y="2359"/>
                    <a:pt x="7376" y="2800"/>
                    <a:pt x="6849" y="3020"/>
                  </a:cubicBezTo>
                  <a:cubicBezTo>
                    <a:pt x="6849" y="3241"/>
                    <a:pt x="6322" y="3461"/>
                    <a:pt x="5795" y="3681"/>
                  </a:cubicBezTo>
                  <a:cubicBezTo>
                    <a:pt x="5795" y="3902"/>
                    <a:pt x="5795" y="4122"/>
                    <a:pt x="5795" y="4343"/>
                  </a:cubicBezTo>
                  <a:cubicBezTo>
                    <a:pt x="5795" y="4783"/>
                    <a:pt x="5268" y="5224"/>
                    <a:pt x="4741" y="5224"/>
                  </a:cubicBezTo>
                  <a:cubicBezTo>
                    <a:pt x="4215" y="5224"/>
                    <a:pt x="3688" y="5224"/>
                    <a:pt x="3161" y="5224"/>
                  </a:cubicBezTo>
                  <a:cubicBezTo>
                    <a:pt x="2634" y="5665"/>
                    <a:pt x="3161" y="7428"/>
                    <a:pt x="2107" y="7428"/>
                  </a:cubicBezTo>
                  <a:cubicBezTo>
                    <a:pt x="2107" y="7428"/>
                    <a:pt x="1054" y="7428"/>
                    <a:pt x="1054" y="7428"/>
                  </a:cubicBezTo>
                  <a:cubicBezTo>
                    <a:pt x="1054" y="7649"/>
                    <a:pt x="1054" y="7869"/>
                    <a:pt x="1054" y="7869"/>
                  </a:cubicBezTo>
                  <a:cubicBezTo>
                    <a:pt x="1054" y="8090"/>
                    <a:pt x="527" y="8310"/>
                    <a:pt x="0" y="8530"/>
                  </a:cubicBezTo>
                  <a:cubicBezTo>
                    <a:pt x="0" y="8751"/>
                    <a:pt x="2107" y="9853"/>
                    <a:pt x="2634" y="10073"/>
                  </a:cubicBezTo>
                  <a:cubicBezTo>
                    <a:pt x="2634" y="10073"/>
                    <a:pt x="2107" y="9412"/>
                    <a:pt x="2107" y="9412"/>
                  </a:cubicBezTo>
                  <a:cubicBezTo>
                    <a:pt x="2107" y="9412"/>
                    <a:pt x="3688" y="10294"/>
                    <a:pt x="3688" y="10294"/>
                  </a:cubicBezTo>
                  <a:cubicBezTo>
                    <a:pt x="4215" y="10734"/>
                    <a:pt x="3161" y="10734"/>
                    <a:pt x="3688" y="11175"/>
                  </a:cubicBezTo>
                  <a:cubicBezTo>
                    <a:pt x="3161" y="10955"/>
                    <a:pt x="4215" y="10955"/>
                    <a:pt x="4741" y="11175"/>
                  </a:cubicBezTo>
                  <a:cubicBezTo>
                    <a:pt x="5268" y="11616"/>
                    <a:pt x="5795" y="12057"/>
                    <a:pt x="5795" y="12498"/>
                  </a:cubicBezTo>
                  <a:cubicBezTo>
                    <a:pt x="5795" y="12498"/>
                    <a:pt x="5268" y="14481"/>
                    <a:pt x="5268" y="14481"/>
                  </a:cubicBezTo>
                  <a:cubicBezTo>
                    <a:pt x="5795" y="14481"/>
                    <a:pt x="5795" y="13820"/>
                    <a:pt x="5795" y="13820"/>
                  </a:cubicBezTo>
                  <a:cubicBezTo>
                    <a:pt x="5795" y="13820"/>
                    <a:pt x="5795" y="14481"/>
                    <a:pt x="5795" y="14481"/>
                  </a:cubicBezTo>
                  <a:cubicBezTo>
                    <a:pt x="5795" y="14481"/>
                    <a:pt x="6322" y="14261"/>
                    <a:pt x="6322" y="14261"/>
                  </a:cubicBezTo>
                  <a:cubicBezTo>
                    <a:pt x="6322" y="14261"/>
                    <a:pt x="6322" y="14702"/>
                    <a:pt x="6322" y="14702"/>
                  </a:cubicBezTo>
                  <a:cubicBezTo>
                    <a:pt x="6849" y="14702"/>
                    <a:pt x="6849" y="14261"/>
                    <a:pt x="7376" y="14261"/>
                  </a:cubicBezTo>
                  <a:cubicBezTo>
                    <a:pt x="7376" y="14261"/>
                    <a:pt x="7376" y="14481"/>
                    <a:pt x="7376" y="14481"/>
                  </a:cubicBezTo>
                  <a:cubicBezTo>
                    <a:pt x="7376" y="14481"/>
                    <a:pt x="8956" y="14261"/>
                    <a:pt x="8956" y="14041"/>
                  </a:cubicBezTo>
                  <a:cubicBezTo>
                    <a:pt x="9483" y="14041"/>
                    <a:pt x="12117" y="13379"/>
                    <a:pt x="11063" y="13159"/>
                  </a:cubicBezTo>
                  <a:cubicBezTo>
                    <a:pt x="11590" y="13159"/>
                    <a:pt x="11063" y="13600"/>
                    <a:pt x="11590" y="13820"/>
                  </a:cubicBezTo>
                  <a:cubicBezTo>
                    <a:pt x="12117" y="13820"/>
                    <a:pt x="12644" y="13820"/>
                    <a:pt x="12644" y="14041"/>
                  </a:cubicBezTo>
                  <a:cubicBezTo>
                    <a:pt x="13171" y="14481"/>
                    <a:pt x="13171" y="15143"/>
                    <a:pt x="13171" y="15583"/>
                  </a:cubicBezTo>
                  <a:cubicBezTo>
                    <a:pt x="13698" y="16245"/>
                    <a:pt x="13698" y="16685"/>
                    <a:pt x="14751" y="17126"/>
                  </a:cubicBezTo>
                  <a:cubicBezTo>
                    <a:pt x="14751" y="17126"/>
                    <a:pt x="15278" y="17347"/>
                    <a:pt x="15278" y="17347"/>
                  </a:cubicBezTo>
                  <a:cubicBezTo>
                    <a:pt x="15278" y="17787"/>
                    <a:pt x="15805" y="17787"/>
                    <a:pt x="15805" y="17787"/>
                  </a:cubicBezTo>
                  <a:cubicBezTo>
                    <a:pt x="16332" y="18008"/>
                    <a:pt x="15278" y="18449"/>
                    <a:pt x="15805" y="18449"/>
                  </a:cubicBezTo>
                  <a:cubicBezTo>
                    <a:pt x="15805" y="18449"/>
                    <a:pt x="15805" y="18449"/>
                    <a:pt x="16332" y="18449"/>
                  </a:cubicBezTo>
                  <a:cubicBezTo>
                    <a:pt x="16332" y="18669"/>
                    <a:pt x="15278" y="18890"/>
                    <a:pt x="15278" y="19110"/>
                  </a:cubicBezTo>
                  <a:cubicBezTo>
                    <a:pt x="15278" y="19551"/>
                    <a:pt x="15805" y="19110"/>
                    <a:pt x="16332" y="19330"/>
                  </a:cubicBezTo>
                  <a:cubicBezTo>
                    <a:pt x="16332" y="19330"/>
                    <a:pt x="15278" y="21094"/>
                    <a:pt x="15278" y="21314"/>
                  </a:cubicBezTo>
                  <a:cubicBezTo>
                    <a:pt x="16332" y="20873"/>
                    <a:pt x="16859" y="19992"/>
                    <a:pt x="17385" y="19551"/>
                  </a:cubicBezTo>
                  <a:cubicBezTo>
                    <a:pt x="17912" y="19110"/>
                    <a:pt x="18439" y="18890"/>
                    <a:pt x="17912" y="18449"/>
                  </a:cubicBezTo>
                  <a:cubicBezTo>
                    <a:pt x="17385" y="18008"/>
                    <a:pt x="17385" y="17787"/>
                    <a:pt x="17385" y="17347"/>
                  </a:cubicBezTo>
                  <a:cubicBezTo>
                    <a:pt x="16859" y="16906"/>
                    <a:pt x="14224" y="16024"/>
                    <a:pt x="14751" y="15363"/>
                  </a:cubicBezTo>
                  <a:cubicBezTo>
                    <a:pt x="14751" y="15363"/>
                    <a:pt x="15805" y="15143"/>
                    <a:pt x="15805" y="14922"/>
                  </a:cubicBezTo>
                  <a:cubicBezTo>
                    <a:pt x="15278" y="14481"/>
                    <a:pt x="15805" y="14481"/>
                    <a:pt x="15805" y="14041"/>
                  </a:cubicBezTo>
                  <a:cubicBezTo>
                    <a:pt x="16332" y="13379"/>
                    <a:pt x="14224" y="12938"/>
                    <a:pt x="13698" y="12498"/>
                  </a:cubicBezTo>
                  <a:cubicBezTo>
                    <a:pt x="12117" y="12057"/>
                    <a:pt x="13171" y="11175"/>
                    <a:pt x="13698" y="10514"/>
                  </a:cubicBezTo>
                  <a:cubicBezTo>
                    <a:pt x="13698" y="10073"/>
                    <a:pt x="14224" y="10073"/>
                    <a:pt x="15278" y="10073"/>
                  </a:cubicBezTo>
                  <a:cubicBezTo>
                    <a:pt x="16332" y="10073"/>
                    <a:pt x="17385" y="9632"/>
                    <a:pt x="17912" y="9412"/>
                  </a:cubicBezTo>
                  <a:cubicBezTo>
                    <a:pt x="18966" y="9192"/>
                    <a:pt x="19493" y="9412"/>
                    <a:pt x="20546" y="8971"/>
                  </a:cubicBezTo>
                  <a:cubicBezTo>
                    <a:pt x="21073" y="8530"/>
                    <a:pt x="21600" y="8310"/>
                    <a:pt x="21600" y="8090"/>
                  </a:cubicBezTo>
                  <a:cubicBezTo>
                    <a:pt x="21600" y="8090"/>
                    <a:pt x="21073" y="8090"/>
                    <a:pt x="20546" y="809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8" name="Shape 1342"/>
            <p:cNvSpPr/>
            <p:nvPr/>
          </p:nvSpPr>
          <p:spPr>
            <a:xfrm>
              <a:off x="9983160" y="3759840"/>
              <a:ext cx="80640" cy="108000"/>
            </a:xfrm>
            <a:custGeom>
              <a:avLst/>
              <a:gdLst/>
              <a:ahLst/>
              <a:rect l="l" t="t" r="r" b="b"/>
              <a:pathLst>
                <a:path w="19310" h="21148">
                  <a:moveTo>
                    <a:pt x="19039" y="19605"/>
                  </a:moveTo>
                  <a:cubicBezTo>
                    <a:pt x="19978" y="18062"/>
                    <a:pt x="18100" y="14205"/>
                    <a:pt x="18100" y="12662"/>
                  </a:cubicBezTo>
                  <a:cubicBezTo>
                    <a:pt x="18100" y="12662"/>
                    <a:pt x="17160" y="9577"/>
                    <a:pt x="16221" y="11891"/>
                  </a:cubicBezTo>
                  <a:cubicBezTo>
                    <a:pt x="16221" y="11891"/>
                    <a:pt x="15282" y="12662"/>
                    <a:pt x="14343" y="13434"/>
                  </a:cubicBezTo>
                  <a:cubicBezTo>
                    <a:pt x="14343" y="12662"/>
                    <a:pt x="12465" y="9577"/>
                    <a:pt x="15282" y="9577"/>
                  </a:cubicBezTo>
                  <a:cubicBezTo>
                    <a:pt x="17160" y="8805"/>
                    <a:pt x="20917" y="4177"/>
                    <a:pt x="16221" y="4948"/>
                  </a:cubicBezTo>
                  <a:cubicBezTo>
                    <a:pt x="15282" y="5719"/>
                    <a:pt x="13404" y="4948"/>
                    <a:pt x="12465" y="4948"/>
                  </a:cubicBezTo>
                  <a:cubicBezTo>
                    <a:pt x="11526" y="4948"/>
                    <a:pt x="9647" y="4948"/>
                    <a:pt x="8708" y="4948"/>
                  </a:cubicBezTo>
                  <a:cubicBezTo>
                    <a:pt x="6830" y="4177"/>
                    <a:pt x="6830" y="3405"/>
                    <a:pt x="6830" y="2634"/>
                  </a:cubicBezTo>
                  <a:cubicBezTo>
                    <a:pt x="6830" y="1091"/>
                    <a:pt x="5891" y="1862"/>
                    <a:pt x="4952" y="1091"/>
                  </a:cubicBezTo>
                  <a:cubicBezTo>
                    <a:pt x="3074" y="319"/>
                    <a:pt x="2134" y="-452"/>
                    <a:pt x="1195" y="319"/>
                  </a:cubicBezTo>
                  <a:cubicBezTo>
                    <a:pt x="256" y="1862"/>
                    <a:pt x="2134" y="2634"/>
                    <a:pt x="3074" y="3405"/>
                  </a:cubicBezTo>
                  <a:cubicBezTo>
                    <a:pt x="5891" y="5719"/>
                    <a:pt x="1195" y="4177"/>
                    <a:pt x="256" y="6491"/>
                  </a:cubicBezTo>
                  <a:cubicBezTo>
                    <a:pt x="-683" y="8805"/>
                    <a:pt x="1195" y="10348"/>
                    <a:pt x="2134" y="11891"/>
                  </a:cubicBezTo>
                  <a:cubicBezTo>
                    <a:pt x="4013" y="14205"/>
                    <a:pt x="4952" y="16519"/>
                    <a:pt x="4013" y="18834"/>
                  </a:cubicBezTo>
                  <a:cubicBezTo>
                    <a:pt x="4952" y="19605"/>
                    <a:pt x="4952" y="17291"/>
                    <a:pt x="4952" y="16519"/>
                  </a:cubicBezTo>
                  <a:cubicBezTo>
                    <a:pt x="4952" y="17291"/>
                    <a:pt x="4952" y="18062"/>
                    <a:pt x="5891" y="18062"/>
                  </a:cubicBezTo>
                  <a:cubicBezTo>
                    <a:pt x="5891" y="18062"/>
                    <a:pt x="5891" y="17291"/>
                    <a:pt x="5891" y="17291"/>
                  </a:cubicBezTo>
                  <a:cubicBezTo>
                    <a:pt x="6830" y="19605"/>
                    <a:pt x="6830" y="17291"/>
                    <a:pt x="6830" y="15748"/>
                  </a:cubicBezTo>
                  <a:cubicBezTo>
                    <a:pt x="6830" y="16519"/>
                    <a:pt x="10587" y="18834"/>
                    <a:pt x="11526" y="16519"/>
                  </a:cubicBezTo>
                  <a:cubicBezTo>
                    <a:pt x="11526" y="15748"/>
                    <a:pt x="10587" y="11891"/>
                    <a:pt x="9647" y="11891"/>
                  </a:cubicBezTo>
                  <a:cubicBezTo>
                    <a:pt x="10587" y="11891"/>
                    <a:pt x="11526" y="13434"/>
                    <a:pt x="11526" y="14205"/>
                  </a:cubicBezTo>
                  <a:cubicBezTo>
                    <a:pt x="12465" y="14977"/>
                    <a:pt x="15282" y="13434"/>
                    <a:pt x="15282" y="14977"/>
                  </a:cubicBezTo>
                  <a:cubicBezTo>
                    <a:pt x="15282" y="15748"/>
                    <a:pt x="16221" y="14977"/>
                    <a:pt x="16221" y="16519"/>
                  </a:cubicBezTo>
                  <a:cubicBezTo>
                    <a:pt x="16221" y="18062"/>
                    <a:pt x="16221" y="19605"/>
                    <a:pt x="17160" y="21148"/>
                  </a:cubicBezTo>
                  <a:cubicBezTo>
                    <a:pt x="18100" y="20377"/>
                    <a:pt x="18100" y="20377"/>
                    <a:pt x="19039" y="19605"/>
                  </a:cubicBezTo>
                  <a:cubicBezTo>
                    <a:pt x="19978" y="18834"/>
                    <a:pt x="18100" y="20377"/>
                    <a:pt x="19039" y="1960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9" name="Shape 1343"/>
            <p:cNvSpPr/>
            <p:nvPr/>
          </p:nvSpPr>
          <p:spPr>
            <a:xfrm>
              <a:off x="10150200" y="3881880"/>
              <a:ext cx="162720" cy="300600"/>
            </a:xfrm>
            <a:custGeom>
              <a:avLst/>
              <a:gdLst/>
              <a:ahLst/>
              <a:rect l="l" t="t" r="r" b="b"/>
              <a:pathLst>
                <a:path w="21226" h="21319">
                  <a:moveTo>
                    <a:pt x="20571" y="8291"/>
                  </a:moveTo>
                  <a:cubicBezTo>
                    <a:pt x="21086" y="8291"/>
                    <a:pt x="20571" y="7730"/>
                    <a:pt x="21086" y="7449"/>
                  </a:cubicBezTo>
                  <a:cubicBezTo>
                    <a:pt x="21600" y="7169"/>
                    <a:pt x="20571" y="6607"/>
                    <a:pt x="20057" y="6607"/>
                  </a:cubicBezTo>
                  <a:cubicBezTo>
                    <a:pt x="19543" y="6327"/>
                    <a:pt x="18514" y="6046"/>
                    <a:pt x="18514" y="5485"/>
                  </a:cubicBezTo>
                  <a:cubicBezTo>
                    <a:pt x="18514" y="4924"/>
                    <a:pt x="19029" y="4644"/>
                    <a:pt x="18000" y="4083"/>
                  </a:cubicBezTo>
                  <a:cubicBezTo>
                    <a:pt x="17486" y="3802"/>
                    <a:pt x="16457" y="3241"/>
                    <a:pt x="15429" y="3241"/>
                  </a:cubicBezTo>
                  <a:cubicBezTo>
                    <a:pt x="14400" y="3241"/>
                    <a:pt x="13886" y="3802"/>
                    <a:pt x="12857" y="3802"/>
                  </a:cubicBezTo>
                  <a:cubicBezTo>
                    <a:pt x="11829" y="3522"/>
                    <a:pt x="11829" y="3522"/>
                    <a:pt x="10800" y="3802"/>
                  </a:cubicBezTo>
                  <a:cubicBezTo>
                    <a:pt x="10800" y="3802"/>
                    <a:pt x="9257" y="4644"/>
                    <a:pt x="8743" y="4363"/>
                  </a:cubicBezTo>
                  <a:cubicBezTo>
                    <a:pt x="8743" y="4083"/>
                    <a:pt x="10286" y="3522"/>
                    <a:pt x="9771" y="3241"/>
                  </a:cubicBezTo>
                  <a:cubicBezTo>
                    <a:pt x="8743" y="2961"/>
                    <a:pt x="9771" y="2680"/>
                    <a:pt x="9771" y="2400"/>
                  </a:cubicBezTo>
                  <a:cubicBezTo>
                    <a:pt x="9771" y="2119"/>
                    <a:pt x="9771" y="1278"/>
                    <a:pt x="9257" y="1278"/>
                  </a:cubicBezTo>
                  <a:cubicBezTo>
                    <a:pt x="8229" y="1558"/>
                    <a:pt x="7200" y="1558"/>
                    <a:pt x="7714" y="997"/>
                  </a:cubicBezTo>
                  <a:cubicBezTo>
                    <a:pt x="8229" y="-125"/>
                    <a:pt x="5657" y="-125"/>
                    <a:pt x="4629" y="156"/>
                  </a:cubicBezTo>
                  <a:cubicBezTo>
                    <a:pt x="4114" y="717"/>
                    <a:pt x="3086" y="997"/>
                    <a:pt x="2057" y="997"/>
                  </a:cubicBezTo>
                  <a:cubicBezTo>
                    <a:pt x="1029" y="997"/>
                    <a:pt x="514" y="1839"/>
                    <a:pt x="514" y="2119"/>
                  </a:cubicBezTo>
                  <a:cubicBezTo>
                    <a:pt x="514" y="2680"/>
                    <a:pt x="0" y="2961"/>
                    <a:pt x="0" y="3522"/>
                  </a:cubicBezTo>
                  <a:cubicBezTo>
                    <a:pt x="0" y="4083"/>
                    <a:pt x="514" y="4083"/>
                    <a:pt x="1543" y="4363"/>
                  </a:cubicBezTo>
                  <a:cubicBezTo>
                    <a:pt x="2057" y="4924"/>
                    <a:pt x="2571" y="5205"/>
                    <a:pt x="3086" y="5485"/>
                  </a:cubicBezTo>
                  <a:cubicBezTo>
                    <a:pt x="3600" y="6046"/>
                    <a:pt x="2571" y="6327"/>
                    <a:pt x="2571" y="6607"/>
                  </a:cubicBezTo>
                  <a:cubicBezTo>
                    <a:pt x="2571" y="6888"/>
                    <a:pt x="3086" y="7169"/>
                    <a:pt x="2571" y="7449"/>
                  </a:cubicBezTo>
                  <a:cubicBezTo>
                    <a:pt x="2571" y="7449"/>
                    <a:pt x="2057" y="7449"/>
                    <a:pt x="2057" y="7730"/>
                  </a:cubicBezTo>
                  <a:cubicBezTo>
                    <a:pt x="1543" y="8010"/>
                    <a:pt x="2571" y="8852"/>
                    <a:pt x="3086" y="9132"/>
                  </a:cubicBezTo>
                  <a:cubicBezTo>
                    <a:pt x="3600" y="9413"/>
                    <a:pt x="4114" y="9693"/>
                    <a:pt x="4629" y="10254"/>
                  </a:cubicBezTo>
                  <a:cubicBezTo>
                    <a:pt x="4629" y="10815"/>
                    <a:pt x="4629" y="11096"/>
                    <a:pt x="5143" y="11657"/>
                  </a:cubicBezTo>
                  <a:cubicBezTo>
                    <a:pt x="5657" y="12779"/>
                    <a:pt x="4114" y="13620"/>
                    <a:pt x="3086" y="14462"/>
                  </a:cubicBezTo>
                  <a:cubicBezTo>
                    <a:pt x="3086" y="14743"/>
                    <a:pt x="2571" y="15023"/>
                    <a:pt x="2571" y="15304"/>
                  </a:cubicBezTo>
                  <a:cubicBezTo>
                    <a:pt x="2057" y="15584"/>
                    <a:pt x="2057" y="15865"/>
                    <a:pt x="2057" y="16145"/>
                  </a:cubicBezTo>
                  <a:cubicBezTo>
                    <a:pt x="2057" y="16426"/>
                    <a:pt x="1543" y="17267"/>
                    <a:pt x="2571" y="17267"/>
                  </a:cubicBezTo>
                  <a:cubicBezTo>
                    <a:pt x="4114" y="17828"/>
                    <a:pt x="4629" y="18670"/>
                    <a:pt x="5657" y="19231"/>
                  </a:cubicBezTo>
                  <a:cubicBezTo>
                    <a:pt x="6171" y="19511"/>
                    <a:pt x="6171" y="19792"/>
                    <a:pt x="6686" y="20072"/>
                  </a:cubicBezTo>
                  <a:cubicBezTo>
                    <a:pt x="7200" y="20072"/>
                    <a:pt x="7714" y="20072"/>
                    <a:pt x="8229" y="20072"/>
                  </a:cubicBezTo>
                  <a:cubicBezTo>
                    <a:pt x="8743" y="20353"/>
                    <a:pt x="9257" y="20353"/>
                    <a:pt x="9257" y="20633"/>
                  </a:cubicBezTo>
                  <a:cubicBezTo>
                    <a:pt x="9257" y="20914"/>
                    <a:pt x="9257" y="21194"/>
                    <a:pt x="9771" y="21194"/>
                  </a:cubicBezTo>
                  <a:cubicBezTo>
                    <a:pt x="9771" y="21475"/>
                    <a:pt x="10286" y="21194"/>
                    <a:pt x="10800" y="21194"/>
                  </a:cubicBezTo>
                  <a:cubicBezTo>
                    <a:pt x="11314" y="21194"/>
                    <a:pt x="11829" y="20633"/>
                    <a:pt x="11829" y="20633"/>
                  </a:cubicBezTo>
                  <a:cubicBezTo>
                    <a:pt x="10800" y="19792"/>
                    <a:pt x="10286" y="19511"/>
                    <a:pt x="8229" y="19231"/>
                  </a:cubicBezTo>
                  <a:cubicBezTo>
                    <a:pt x="7714" y="19231"/>
                    <a:pt x="7200" y="18950"/>
                    <a:pt x="6686" y="18670"/>
                  </a:cubicBezTo>
                  <a:cubicBezTo>
                    <a:pt x="6686" y="18109"/>
                    <a:pt x="7200" y="18670"/>
                    <a:pt x="7714" y="18670"/>
                  </a:cubicBezTo>
                  <a:cubicBezTo>
                    <a:pt x="7200" y="18670"/>
                    <a:pt x="6171" y="16987"/>
                    <a:pt x="6171" y="16706"/>
                  </a:cubicBezTo>
                  <a:cubicBezTo>
                    <a:pt x="6171" y="16426"/>
                    <a:pt x="6171" y="16426"/>
                    <a:pt x="5657" y="16145"/>
                  </a:cubicBezTo>
                  <a:cubicBezTo>
                    <a:pt x="5143" y="16145"/>
                    <a:pt x="4629" y="15865"/>
                    <a:pt x="4629" y="15584"/>
                  </a:cubicBezTo>
                  <a:cubicBezTo>
                    <a:pt x="4114" y="14743"/>
                    <a:pt x="5143" y="13901"/>
                    <a:pt x="5657" y="13340"/>
                  </a:cubicBezTo>
                  <a:cubicBezTo>
                    <a:pt x="5657" y="12779"/>
                    <a:pt x="6686" y="12218"/>
                    <a:pt x="6686" y="11937"/>
                  </a:cubicBezTo>
                  <a:cubicBezTo>
                    <a:pt x="6686" y="11376"/>
                    <a:pt x="6171" y="10254"/>
                    <a:pt x="7200" y="9974"/>
                  </a:cubicBezTo>
                  <a:cubicBezTo>
                    <a:pt x="8743" y="9974"/>
                    <a:pt x="8743" y="10254"/>
                    <a:pt x="8743" y="11096"/>
                  </a:cubicBezTo>
                  <a:cubicBezTo>
                    <a:pt x="8229" y="11657"/>
                    <a:pt x="10286" y="11376"/>
                    <a:pt x="11314" y="11376"/>
                  </a:cubicBezTo>
                  <a:cubicBezTo>
                    <a:pt x="11829" y="11376"/>
                    <a:pt x="13371" y="11937"/>
                    <a:pt x="13886" y="12218"/>
                  </a:cubicBezTo>
                  <a:cubicBezTo>
                    <a:pt x="13886" y="11657"/>
                    <a:pt x="12857" y="11376"/>
                    <a:pt x="12343" y="10535"/>
                  </a:cubicBezTo>
                  <a:cubicBezTo>
                    <a:pt x="12343" y="9974"/>
                    <a:pt x="13371" y="9693"/>
                    <a:pt x="14400" y="9132"/>
                  </a:cubicBezTo>
                  <a:cubicBezTo>
                    <a:pt x="14914" y="8852"/>
                    <a:pt x="16457" y="8852"/>
                    <a:pt x="17486" y="8852"/>
                  </a:cubicBezTo>
                  <a:cubicBezTo>
                    <a:pt x="18514" y="8852"/>
                    <a:pt x="19029" y="8852"/>
                    <a:pt x="19543" y="9132"/>
                  </a:cubicBezTo>
                  <a:cubicBezTo>
                    <a:pt x="20571" y="9132"/>
                    <a:pt x="20057" y="8852"/>
                    <a:pt x="20571" y="8291"/>
                  </a:cubicBezTo>
                  <a:cubicBezTo>
                    <a:pt x="21086" y="8291"/>
                    <a:pt x="20571" y="8571"/>
                    <a:pt x="20571" y="829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0" name="Shape 1344"/>
            <p:cNvSpPr/>
            <p:nvPr/>
          </p:nvSpPr>
          <p:spPr>
            <a:xfrm>
              <a:off x="10240560" y="3822480"/>
              <a:ext cx="147960" cy="299520"/>
            </a:xfrm>
            <a:custGeom>
              <a:avLst/>
              <a:gdLst/>
              <a:ahLst/>
              <a:rect l="l" t="t" r="r" b="b"/>
              <a:pathLst>
                <a:path w="21196" h="20976">
                  <a:moveTo>
                    <a:pt x="21032" y="14839"/>
                  </a:moveTo>
                  <a:cubicBezTo>
                    <a:pt x="20463" y="14562"/>
                    <a:pt x="20463" y="14008"/>
                    <a:pt x="20463" y="13177"/>
                  </a:cubicBezTo>
                  <a:cubicBezTo>
                    <a:pt x="19895" y="12346"/>
                    <a:pt x="19326" y="11793"/>
                    <a:pt x="18189" y="10962"/>
                  </a:cubicBezTo>
                  <a:cubicBezTo>
                    <a:pt x="17621" y="10408"/>
                    <a:pt x="17053" y="10131"/>
                    <a:pt x="15916" y="9854"/>
                  </a:cubicBezTo>
                  <a:cubicBezTo>
                    <a:pt x="14779" y="9300"/>
                    <a:pt x="13074" y="9023"/>
                    <a:pt x="12505" y="8193"/>
                  </a:cubicBezTo>
                  <a:cubicBezTo>
                    <a:pt x="12505" y="7639"/>
                    <a:pt x="11368" y="7362"/>
                    <a:pt x="10232" y="6808"/>
                  </a:cubicBezTo>
                  <a:cubicBezTo>
                    <a:pt x="9663" y="6531"/>
                    <a:pt x="10232" y="5423"/>
                    <a:pt x="10800" y="5146"/>
                  </a:cubicBezTo>
                  <a:cubicBezTo>
                    <a:pt x="11937" y="4870"/>
                    <a:pt x="13074" y="4316"/>
                    <a:pt x="13074" y="3762"/>
                  </a:cubicBezTo>
                  <a:cubicBezTo>
                    <a:pt x="13642" y="3485"/>
                    <a:pt x="15916" y="2931"/>
                    <a:pt x="16484" y="2654"/>
                  </a:cubicBezTo>
                  <a:cubicBezTo>
                    <a:pt x="15347" y="2377"/>
                    <a:pt x="14211" y="2100"/>
                    <a:pt x="13074" y="1546"/>
                  </a:cubicBezTo>
                  <a:cubicBezTo>
                    <a:pt x="11937" y="1270"/>
                    <a:pt x="13642" y="1270"/>
                    <a:pt x="13642" y="716"/>
                  </a:cubicBezTo>
                  <a:cubicBezTo>
                    <a:pt x="13642" y="716"/>
                    <a:pt x="10800" y="439"/>
                    <a:pt x="10800" y="439"/>
                  </a:cubicBezTo>
                  <a:cubicBezTo>
                    <a:pt x="9663" y="162"/>
                    <a:pt x="8526" y="-392"/>
                    <a:pt x="7958" y="439"/>
                  </a:cubicBezTo>
                  <a:cubicBezTo>
                    <a:pt x="7389" y="716"/>
                    <a:pt x="6821" y="716"/>
                    <a:pt x="6253" y="993"/>
                  </a:cubicBezTo>
                  <a:cubicBezTo>
                    <a:pt x="5116" y="1823"/>
                    <a:pt x="5116" y="716"/>
                    <a:pt x="4547" y="993"/>
                  </a:cubicBezTo>
                  <a:cubicBezTo>
                    <a:pt x="3411" y="1270"/>
                    <a:pt x="3411" y="993"/>
                    <a:pt x="2842" y="993"/>
                  </a:cubicBezTo>
                  <a:cubicBezTo>
                    <a:pt x="2274" y="1270"/>
                    <a:pt x="1705" y="1270"/>
                    <a:pt x="1705" y="993"/>
                  </a:cubicBezTo>
                  <a:cubicBezTo>
                    <a:pt x="1705" y="716"/>
                    <a:pt x="568" y="1270"/>
                    <a:pt x="0" y="1270"/>
                  </a:cubicBezTo>
                  <a:cubicBezTo>
                    <a:pt x="0" y="1546"/>
                    <a:pt x="1705" y="2100"/>
                    <a:pt x="2274" y="2100"/>
                  </a:cubicBezTo>
                  <a:cubicBezTo>
                    <a:pt x="2842" y="2654"/>
                    <a:pt x="2274" y="2931"/>
                    <a:pt x="2842" y="3208"/>
                  </a:cubicBezTo>
                  <a:cubicBezTo>
                    <a:pt x="2842" y="3762"/>
                    <a:pt x="4547" y="3762"/>
                    <a:pt x="5116" y="3485"/>
                  </a:cubicBezTo>
                  <a:cubicBezTo>
                    <a:pt x="6253" y="3208"/>
                    <a:pt x="6821" y="4039"/>
                    <a:pt x="6821" y="4316"/>
                  </a:cubicBezTo>
                  <a:cubicBezTo>
                    <a:pt x="7389" y="4870"/>
                    <a:pt x="8526" y="4870"/>
                    <a:pt x="7389" y="5423"/>
                  </a:cubicBezTo>
                  <a:cubicBezTo>
                    <a:pt x="6253" y="5700"/>
                    <a:pt x="5684" y="4870"/>
                    <a:pt x="5684" y="5700"/>
                  </a:cubicBezTo>
                  <a:cubicBezTo>
                    <a:pt x="5684" y="6254"/>
                    <a:pt x="7389" y="6254"/>
                    <a:pt x="7958" y="6531"/>
                  </a:cubicBezTo>
                  <a:cubicBezTo>
                    <a:pt x="9095" y="7085"/>
                    <a:pt x="9663" y="7639"/>
                    <a:pt x="10800" y="8193"/>
                  </a:cubicBezTo>
                  <a:cubicBezTo>
                    <a:pt x="11368" y="8746"/>
                    <a:pt x="12505" y="8746"/>
                    <a:pt x="13074" y="9300"/>
                  </a:cubicBezTo>
                  <a:cubicBezTo>
                    <a:pt x="13642" y="9854"/>
                    <a:pt x="13642" y="10131"/>
                    <a:pt x="14779" y="10408"/>
                  </a:cubicBezTo>
                  <a:cubicBezTo>
                    <a:pt x="15347" y="10685"/>
                    <a:pt x="14779" y="11239"/>
                    <a:pt x="15916" y="11516"/>
                  </a:cubicBezTo>
                  <a:cubicBezTo>
                    <a:pt x="16484" y="11793"/>
                    <a:pt x="15916" y="12623"/>
                    <a:pt x="15347" y="12900"/>
                  </a:cubicBezTo>
                  <a:cubicBezTo>
                    <a:pt x="14779" y="13177"/>
                    <a:pt x="15347" y="13731"/>
                    <a:pt x="15916" y="14008"/>
                  </a:cubicBezTo>
                  <a:cubicBezTo>
                    <a:pt x="15916" y="14562"/>
                    <a:pt x="15916" y="14839"/>
                    <a:pt x="15916" y="15393"/>
                  </a:cubicBezTo>
                  <a:cubicBezTo>
                    <a:pt x="14779" y="15946"/>
                    <a:pt x="14779" y="15946"/>
                    <a:pt x="13074" y="16223"/>
                  </a:cubicBezTo>
                  <a:cubicBezTo>
                    <a:pt x="11937" y="16223"/>
                    <a:pt x="13642" y="17054"/>
                    <a:pt x="11368" y="16777"/>
                  </a:cubicBezTo>
                  <a:cubicBezTo>
                    <a:pt x="10232" y="16777"/>
                    <a:pt x="11368" y="17331"/>
                    <a:pt x="11368" y="17608"/>
                  </a:cubicBezTo>
                  <a:cubicBezTo>
                    <a:pt x="11937" y="18162"/>
                    <a:pt x="10800" y="17885"/>
                    <a:pt x="10232" y="17885"/>
                  </a:cubicBezTo>
                  <a:cubicBezTo>
                    <a:pt x="9095" y="17885"/>
                    <a:pt x="8526" y="17885"/>
                    <a:pt x="7958" y="18162"/>
                  </a:cubicBezTo>
                  <a:cubicBezTo>
                    <a:pt x="6253" y="18716"/>
                    <a:pt x="7389" y="18716"/>
                    <a:pt x="8526" y="18993"/>
                  </a:cubicBezTo>
                  <a:cubicBezTo>
                    <a:pt x="9095" y="18993"/>
                    <a:pt x="7958" y="19823"/>
                    <a:pt x="7958" y="20100"/>
                  </a:cubicBezTo>
                  <a:cubicBezTo>
                    <a:pt x="7389" y="20100"/>
                    <a:pt x="7389" y="21208"/>
                    <a:pt x="7958" y="20931"/>
                  </a:cubicBezTo>
                  <a:cubicBezTo>
                    <a:pt x="9095" y="20654"/>
                    <a:pt x="9663" y="20377"/>
                    <a:pt x="10232" y="20377"/>
                  </a:cubicBezTo>
                  <a:cubicBezTo>
                    <a:pt x="12505" y="20100"/>
                    <a:pt x="11368" y="19823"/>
                    <a:pt x="10800" y="19270"/>
                  </a:cubicBezTo>
                  <a:cubicBezTo>
                    <a:pt x="11368" y="19270"/>
                    <a:pt x="11937" y="19823"/>
                    <a:pt x="12505" y="19546"/>
                  </a:cubicBezTo>
                  <a:cubicBezTo>
                    <a:pt x="13074" y="19270"/>
                    <a:pt x="11937" y="18993"/>
                    <a:pt x="11937" y="18993"/>
                  </a:cubicBezTo>
                  <a:cubicBezTo>
                    <a:pt x="11937" y="18716"/>
                    <a:pt x="13074" y="19270"/>
                    <a:pt x="13074" y="19270"/>
                  </a:cubicBezTo>
                  <a:cubicBezTo>
                    <a:pt x="12505" y="19270"/>
                    <a:pt x="13074" y="18162"/>
                    <a:pt x="13642" y="18162"/>
                  </a:cubicBezTo>
                  <a:cubicBezTo>
                    <a:pt x="13642" y="17885"/>
                    <a:pt x="14779" y="18439"/>
                    <a:pt x="14779" y="18439"/>
                  </a:cubicBezTo>
                  <a:cubicBezTo>
                    <a:pt x="15916" y="18439"/>
                    <a:pt x="16484" y="18162"/>
                    <a:pt x="17053" y="17885"/>
                  </a:cubicBezTo>
                  <a:cubicBezTo>
                    <a:pt x="17621" y="17608"/>
                    <a:pt x="20463" y="17054"/>
                    <a:pt x="20463" y="16500"/>
                  </a:cubicBezTo>
                  <a:cubicBezTo>
                    <a:pt x="20463" y="16223"/>
                    <a:pt x="19895" y="15946"/>
                    <a:pt x="20463" y="15393"/>
                  </a:cubicBezTo>
                  <a:cubicBezTo>
                    <a:pt x="20463" y="15116"/>
                    <a:pt x="21600" y="15393"/>
                    <a:pt x="21032" y="14839"/>
                  </a:cubicBezTo>
                  <a:cubicBezTo>
                    <a:pt x="20463" y="14562"/>
                    <a:pt x="21600" y="15116"/>
                    <a:pt x="21032" y="1483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1" name="Shape 1345"/>
            <p:cNvSpPr/>
            <p:nvPr/>
          </p:nvSpPr>
          <p:spPr>
            <a:xfrm>
              <a:off x="10205280" y="3841200"/>
              <a:ext cx="145440" cy="173520"/>
            </a:xfrm>
            <a:custGeom>
              <a:avLst/>
              <a:gdLst/>
              <a:ahLst/>
              <a:rect l="l" t="t" r="r" b="b"/>
              <a:pathLst>
                <a:path w="21600" h="21067">
                  <a:moveTo>
                    <a:pt x="21600" y="18240"/>
                  </a:moveTo>
                  <a:cubicBezTo>
                    <a:pt x="21600" y="17760"/>
                    <a:pt x="21016" y="17760"/>
                    <a:pt x="20432" y="16800"/>
                  </a:cubicBezTo>
                  <a:cubicBezTo>
                    <a:pt x="20432" y="15840"/>
                    <a:pt x="19849" y="16320"/>
                    <a:pt x="19265" y="15360"/>
                  </a:cubicBezTo>
                  <a:cubicBezTo>
                    <a:pt x="18681" y="14400"/>
                    <a:pt x="18681" y="13920"/>
                    <a:pt x="17514" y="13440"/>
                  </a:cubicBezTo>
                  <a:cubicBezTo>
                    <a:pt x="16346" y="12480"/>
                    <a:pt x="15762" y="11520"/>
                    <a:pt x="15178" y="10560"/>
                  </a:cubicBezTo>
                  <a:cubicBezTo>
                    <a:pt x="14595" y="10080"/>
                    <a:pt x="13427" y="9120"/>
                    <a:pt x="12843" y="8640"/>
                  </a:cubicBezTo>
                  <a:cubicBezTo>
                    <a:pt x="11676" y="8160"/>
                    <a:pt x="11092" y="8640"/>
                    <a:pt x="11092" y="7200"/>
                  </a:cubicBezTo>
                  <a:cubicBezTo>
                    <a:pt x="11092" y="6720"/>
                    <a:pt x="12259" y="7680"/>
                    <a:pt x="12843" y="6720"/>
                  </a:cubicBezTo>
                  <a:cubicBezTo>
                    <a:pt x="14011" y="6240"/>
                    <a:pt x="12843" y="5760"/>
                    <a:pt x="12259" y="4800"/>
                  </a:cubicBezTo>
                  <a:cubicBezTo>
                    <a:pt x="11092" y="2400"/>
                    <a:pt x="9341" y="5280"/>
                    <a:pt x="8173" y="3840"/>
                  </a:cubicBezTo>
                  <a:cubicBezTo>
                    <a:pt x="7589" y="3360"/>
                    <a:pt x="8173" y="2400"/>
                    <a:pt x="7589" y="1920"/>
                  </a:cubicBezTo>
                  <a:cubicBezTo>
                    <a:pt x="7005" y="1440"/>
                    <a:pt x="5838" y="960"/>
                    <a:pt x="5254" y="0"/>
                  </a:cubicBezTo>
                  <a:cubicBezTo>
                    <a:pt x="5254" y="0"/>
                    <a:pt x="4086" y="0"/>
                    <a:pt x="4086" y="0"/>
                  </a:cubicBezTo>
                  <a:cubicBezTo>
                    <a:pt x="3503" y="480"/>
                    <a:pt x="4670" y="1440"/>
                    <a:pt x="4670" y="1920"/>
                  </a:cubicBezTo>
                  <a:cubicBezTo>
                    <a:pt x="4670" y="2400"/>
                    <a:pt x="5254" y="3360"/>
                    <a:pt x="4670" y="3360"/>
                  </a:cubicBezTo>
                  <a:cubicBezTo>
                    <a:pt x="3503" y="3360"/>
                    <a:pt x="3503" y="2400"/>
                    <a:pt x="2335" y="2400"/>
                  </a:cubicBezTo>
                  <a:cubicBezTo>
                    <a:pt x="1751" y="1920"/>
                    <a:pt x="0" y="4800"/>
                    <a:pt x="0" y="4800"/>
                  </a:cubicBezTo>
                  <a:cubicBezTo>
                    <a:pt x="584" y="6240"/>
                    <a:pt x="0" y="8160"/>
                    <a:pt x="2335" y="7200"/>
                  </a:cubicBezTo>
                  <a:cubicBezTo>
                    <a:pt x="3503" y="6720"/>
                    <a:pt x="2335" y="10560"/>
                    <a:pt x="2335" y="10560"/>
                  </a:cubicBezTo>
                  <a:cubicBezTo>
                    <a:pt x="3503" y="11040"/>
                    <a:pt x="2335" y="11520"/>
                    <a:pt x="1751" y="12480"/>
                  </a:cubicBezTo>
                  <a:cubicBezTo>
                    <a:pt x="1751" y="12960"/>
                    <a:pt x="3503" y="12000"/>
                    <a:pt x="4086" y="12000"/>
                  </a:cubicBezTo>
                  <a:cubicBezTo>
                    <a:pt x="4086" y="11520"/>
                    <a:pt x="5254" y="11040"/>
                    <a:pt x="5838" y="11040"/>
                  </a:cubicBezTo>
                  <a:cubicBezTo>
                    <a:pt x="7005" y="11520"/>
                    <a:pt x="7589" y="11520"/>
                    <a:pt x="8757" y="10560"/>
                  </a:cubicBezTo>
                  <a:cubicBezTo>
                    <a:pt x="9924" y="10080"/>
                    <a:pt x="14011" y="12000"/>
                    <a:pt x="13427" y="13440"/>
                  </a:cubicBezTo>
                  <a:cubicBezTo>
                    <a:pt x="12259" y="15360"/>
                    <a:pt x="14595" y="15840"/>
                    <a:pt x="15762" y="17280"/>
                  </a:cubicBezTo>
                  <a:cubicBezTo>
                    <a:pt x="15762" y="17760"/>
                    <a:pt x="15762" y="18240"/>
                    <a:pt x="15762" y="18720"/>
                  </a:cubicBezTo>
                  <a:cubicBezTo>
                    <a:pt x="15762" y="19200"/>
                    <a:pt x="15178" y="20160"/>
                    <a:pt x="14595" y="20640"/>
                  </a:cubicBezTo>
                  <a:cubicBezTo>
                    <a:pt x="15178" y="20640"/>
                    <a:pt x="16930" y="21600"/>
                    <a:pt x="16930" y="20640"/>
                  </a:cubicBezTo>
                  <a:cubicBezTo>
                    <a:pt x="16930" y="20160"/>
                    <a:pt x="18097" y="19680"/>
                    <a:pt x="18681" y="20160"/>
                  </a:cubicBezTo>
                  <a:cubicBezTo>
                    <a:pt x="19265" y="20640"/>
                    <a:pt x="19849" y="20640"/>
                    <a:pt x="20432" y="20160"/>
                  </a:cubicBezTo>
                  <a:cubicBezTo>
                    <a:pt x="21600" y="20160"/>
                    <a:pt x="21600" y="19200"/>
                    <a:pt x="21600" y="1824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2" name="Shape 1346"/>
            <p:cNvSpPr/>
            <p:nvPr/>
          </p:nvSpPr>
          <p:spPr>
            <a:xfrm>
              <a:off x="10829520" y="4323960"/>
              <a:ext cx="177840" cy="150840"/>
            </a:xfrm>
            <a:custGeom>
              <a:avLst/>
              <a:gdLst/>
              <a:ahLst/>
              <a:rect l="l" t="t" r="r" b="b"/>
              <a:pathLst>
                <a:path w="21600" h="21600">
                  <a:moveTo>
                    <a:pt x="21600" y="16484"/>
                  </a:moveTo>
                  <a:cubicBezTo>
                    <a:pt x="21600" y="15916"/>
                    <a:pt x="21120" y="15347"/>
                    <a:pt x="21600" y="14779"/>
                  </a:cubicBezTo>
                  <a:cubicBezTo>
                    <a:pt x="21600" y="14211"/>
                    <a:pt x="21600" y="14211"/>
                    <a:pt x="21600" y="13642"/>
                  </a:cubicBezTo>
                  <a:cubicBezTo>
                    <a:pt x="21600" y="11937"/>
                    <a:pt x="21600" y="10232"/>
                    <a:pt x="21600" y="8526"/>
                  </a:cubicBezTo>
                  <a:cubicBezTo>
                    <a:pt x="21600" y="6821"/>
                    <a:pt x="21600" y="5116"/>
                    <a:pt x="21600" y="3411"/>
                  </a:cubicBezTo>
                  <a:cubicBezTo>
                    <a:pt x="21600" y="3411"/>
                    <a:pt x="17280" y="1705"/>
                    <a:pt x="16800" y="1705"/>
                  </a:cubicBezTo>
                  <a:cubicBezTo>
                    <a:pt x="15840" y="1137"/>
                    <a:pt x="15360" y="568"/>
                    <a:pt x="14400" y="0"/>
                  </a:cubicBezTo>
                  <a:cubicBezTo>
                    <a:pt x="12960" y="0"/>
                    <a:pt x="12960" y="1137"/>
                    <a:pt x="12480" y="1705"/>
                  </a:cubicBezTo>
                  <a:cubicBezTo>
                    <a:pt x="12480" y="2274"/>
                    <a:pt x="11040" y="2274"/>
                    <a:pt x="10560" y="2842"/>
                  </a:cubicBezTo>
                  <a:cubicBezTo>
                    <a:pt x="10080" y="3979"/>
                    <a:pt x="9600" y="5116"/>
                    <a:pt x="8640" y="5684"/>
                  </a:cubicBezTo>
                  <a:cubicBezTo>
                    <a:pt x="7680" y="6253"/>
                    <a:pt x="6720" y="5684"/>
                    <a:pt x="6720" y="4547"/>
                  </a:cubicBezTo>
                  <a:cubicBezTo>
                    <a:pt x="6240" y="3411"/>
                    <a:pt x="5760" y="3411"/>
                    <a:pt x="5280" y="2842"/>
                  </a:cubicBezTo>
                  <a:cubicBezTo>
                    <a:pt x="5280" y="1705"/>
                    <a:pt x="4800" y="2842"/>
                    <a:pt x="4320" y="3411"/>
                  </a:cubicBezTo>
                  <a:cubicBezTo>
                    <a:pt x="3840" y="3411"/>
                    <a:pt x="3360" y="2842"/>
                    <a:pt x="3360" y="2842"/>
                  </a:cubicBezTo>
                  <a:cubicBezTo>
                    <a:pt x="2880" y="2842"/>
                    <a:pt x="2400" y="3411"/>
                    <a:pt x="1920" y="3411"/>
                  </a:cubicBezTo>
                  <a:cubicBezTo>
                    <a:pt x="1920" y="3979"/>
                    <a:pt x="0" y="3411"/>
                    <a:pt x="0" y="3979"/>
                  </a:cubicBezTo>
                  <a:cubicBezTo>
                    <a:pt x="0" y="4547"/>
                    <a:pt x="960" y="4547"/>
                    <a:pt x="1440" y="4547"/>
                  </a:cubicBezTo>
                  <a:cubicBezTo>
                    <a:pt x="1920" y="5116"/>
                    <a:pt x="1920" y="5684"/>
                    <a:pt x="1920" y="6253"/>
                  </a:cubicBezTo>
                  <a:cubicBezTo>
                    <a:pt x="1920" y="7389"/>
                    <a:pt x="3360" y="7389"/>
                    <a:pt x="3360" y="7958"/>
                  </a:cubicBezTo>
                  <a:cubicBezTo>
                    <a:pt x="3360" y="6821"/>
                    <a:pt x="3360" y="5116"/>
                    <a:pt x="4320" y="4547"/>
                  </a:cubicBezTo>
                  <a:cubicBezTo>
                    <a:pt x="3360" y="5116"/>
                    <a:pt x="3840" y="6253"/>
                    <a:pt x="4800" y="6821"/>
                  </a:cubicBezTo>
                  <a:cubicBezTo>
                    <a:pt x="5760" y="7389"/>
                    <a:pt x="6240" y="7389"/>
                    <a:pt x="7200" y="6821"/>
                  </a:cubicBezTo>
                  <a:cubicBezTo>
                    <a:pt x="5760" y="7389"/>
                    <a:pt x="8160" y="8526"/>
                    <a:pt x="8640" y="8526"/>
                  </a:cubicBezTo>
                  <a:cubicBezTo>
                    <a:pt x="10080" y="9095"/>
                    <a:pt x="11520" y="10232"/>
                    <a:pt x="12960" y="10800"/>
                  </a:cubicBezTo>
                  <a:cubicBezTo>
                    <a:pt x="13920" y="11368"/>
                    <a:pt x="14880" y="11937"/>
                    <a:pt x="15360" y="12505"/>
                  </a:cubicBezTo>
                  <a:cubicBezTo>
                    <a:pt x="15360" y="13642"/>
                    <a:pt x="15840" y="14211"/>
                    <a:pt x="16320" y="14779"/>
                  </a:cubicBezTo>
                  <a:cubicBezTo>
                    <a:pt x="16320" y="14779"/>
                    <a:pt x="17280" y="15347"/>
                    <a:pt x="17280" y="15347"/>
                  </a:cubicBezTo>
                  <a:cubicBezTo>
                    <a:pt x="17280" y="15347"/>
                    <a:pt x="16320" y="15916"/>
                    <a:pt x="16320" y="15916"/>
                  </a:cubicBezTo>
                  <a:cubicBezTo>
                    <a:pt x="16320" y="15916"/>
                    <a:pt x="17280" y="15916"/>
                    <a:pt x="17280" y="16484"/>
                  </a:cubicBezTo>
                  <a:cubicBezTo>
                    <a:pt x="17280" y="15916"/>
                    <a:pt x="16800" y="16484"/>
                    <a:pt x="16800" y="17053"/>
                  </a:cubicBezTo>
                  <a:cubicBezTo>
                    <a:pt x="16320" y="17621"/>
                    <a:pt x="15840" y="17053"/>
                    <a:pt x="15360" y="17621"/>
                  </a:cubicBezTo>
                  <a:cubicBezTo>
                    <a:pt x="14880" y="17621"/>
                    <a:pt x="13440" y="19326"/>
                    <a:pt x="13920" y="19326"/>
                  </a:cubicBezTo>
                  <a:cubicBezTo>
                    <a:pt x="14400" y="19895"/>
                    <a:pt x="15360" y="19895"/>
                    <a:pt x="16320" y="19895"/>
                  </a:cubicBezTo>
                  <a:cubicBezTo>
                    <a:pt x="16320" y="19326"/>
                    <a:pt x="16800" y="17053"/>
                    <a:pt x="17280" y="17621"/>
                  </a:cubicBezTo>
                  <a:cubicBezTo>
                    <a:pt x="17280" y="18189"/>
                    <a:pt x="15840" y="18758"/>
                    <a:pt x="17280" y="18758"/>
                  </a:cubicBezTo>
                  <a:cubicBezTo>
                    <a:pt x="18240" y="19326"/>
                    <a:pt x="18720" y="19326"/>
                    <a:pt x="19200" y="18189"/>
                  </a:cubicBezTo>
                  <a:cubicBezTo>
                    <a:pt x="18720" y="19326"/>
                    <a:pt x="21120" y="21032"/>
                    <a:pt x="21600" y="21600"/>
                  </a:cubicBezTo>
                  <a:cubicBezTo>
                    <a:pt x="21600" y="19895"/>
                    <a:pt x="21600" y="18189"/>
                    <a:pt x="21600" y="1648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3" name="Shape 1347"/>
            <p:cNvSpPr/>
            <p:nvPr/>
          </p:nvSpPr>
          <p:spPr>
            <a:xfrm>
              <a:off x="11005920" y="4348080"/>
              <a:ext cx="196920" cy="159480"/>
            </a:xfrm>
            <a:custGeom>
              <a:avLst/>
              <a:gdLst/>
              <a:ahLst/>
              <a:rect l="l" t="t" r="r" b="b"/>
              <a:pathLst>
                <a:path w="21063" h="21307">
                  <a:moveTo>
                    <a:pt x="20941" y="20546"/>
                  </a:moveTo>
                  <a:cubicBezTo>
                    <a:pt x="20094" y="20020"/>
                    <a:pt x="19247" y="20020"/>
                    <a:pt x="18824" y="19493"/>
                  </a:cubicBezTo>
                  <a:cubicBezTo>
                    <a:pt x="18400" y="18966"/>
                    <a:pt x="19247" y="18439"/>
                    <a:pt x="19671" y="18966"/>
                  </a:cubicBezTo>
                  <a:cubicBezTo>
                    <a:pt x="18824" y="18439"/>
                    <a:pt x="17553" y="18966"/>
                    <a:pt x="17553" y="17912"/>
                  </a:cubicBezTo>
                  <a:cubicBezTo>
                    <a:pt x="17553" y="16859"/>
                    <a:pt x="16283" y="16859"/>
                    <a:pt x="15859" y="15805"/>
                  </a:cubicBezTo>
                  <a:cubicBezTo>
                    <a:pt x="15436" y="15278"/>
                    <a:pt x="15859" y="15278"/>
                    <a:pt x="15436" y="14751"/>
                  </a:cubicBezTo>
                  <a:cubicBezTo>
                    <a:pt x="15012" y="14224"/>
                    <a:pt x="14589" y="14224"/>
                    <a:pt x="14165" y="13698"/>
                  </a:cubicBezTo>
                  <a:cubicBezTo>
                    <a:pt x="14165" y="13698"/>
                    <a:pt x="12471" y="11063"/>
                    <a:pt x="12047" y="11063"/>
                  </a:cubicBezTo>
                  <a:cubicBezTo>
                    <a:pt x="12471" y="10537"/>
                    <a:pt x="13741" y="11063"/>
                    <a:pt x="14165" y="11063"/>
                  </a:cubicBezTo>
                  <a:cubicBezTo>
                    <a:pt x="15012" y="11063"/>
                    <a:pt x="14589" y="10537"/>
                    <a:pt x="14165" y="9483"/>
                  </a:cubicBezTo>
                  <a:cubicBezTo>
                    <a:pt x="14165" y="8956"/>
                    <a:pt x="13318" y="8956"/>
                    <a:pt x="12894" y="8956"/>
                  </a:cubicBezTo>
                  <a:cubicBezTo>
                    <a:pt x="11624" y="7902"/>
                    <a:pt x="10777" y="7376"/>
                    <a:pt x="10353" y="6322"/>
                  </a:cubicBezTo>
                  <a:cubicBezTo>
                    <a:pt x="9930" y="5268"/>
                    <a:pt x="8659" y="4215"/>
                    <a:pt x="7812" y="3688"/>
                  </a:cubicBezTo>
                  <a:cubicBezTo>
                    <a:pt x="7389" y="3161"/>
                    <a:pt x="6965" y="3161"/>
                    <a:pt x="6541" y="3161"/>
                  </a:cubicBezTo>
                  <a:cubicBezTo>
                    <a:pt x="6118" y="3161"/>
                    <a:pt x="5694" y="2107"/>
                    <a:pt x="5271" y="2107"/>
                  </a:cubicBezTo>
                  <a:cubicBezTo>
                    <a:pt x="4847" y="1580"/>
                    <a:pt x="4000" y="1580"/>
                    <a:pt x="3153" y="1054"/>
                  </a:cubicBezTo>
                  <a:cubicBezTo>
                    <a:pt x="2306" y="1054"/>
                    <a:pt x="1459" y="0"/>
                    <a:pt x="189" y="0"/>
                  </a:cubicBezTo>
                  <a:cubicBezTo>
                    <a:pt x="189" y="1580"/>
                    <a:pt x="189" y="3688"/>
                    <a:pt x="189" y="5268"/>
                  </a:cubicBezTo>
                  <a:cubicBezTo>
                    <a:pt x="189" y="6849"/>
                    <a:pt x="612" y="8956"/>
                    <a:pt x="189" y="10537"/>
                  </a:cubicBezTo>
                  <a:cubicBezTo>
                    <a:pt x="-235" y="11063"/>
                    <a:pt x="189" y="12117"/>
                    <a:pt x="189" y="13171"/>
                  </a:cubicBezTo>
                  <a:cubicBezTo>
                    <a:pt x="189" y="14224"/>
                    <a:pt x="189" y="14751"/>
                    <a:pt x="189" y="15805"/>
                  </a:cubicBezTo>
                  <a:cubicBezTo>
                    <a:pt x="189" y="17385"/>
                    <a:pt x="612" y="17385"/>
                    <a:pt x="1459" y="17385"/>
                  </a:cubicBezTo>
                  <a:cubicBezTo>
                    <a:pt x="2730" y="17385"/>
                    <a:pt x="4000" y="17385"/>
                    <a:pt x="5271" y="16332"/>
                  </a:cubicBezTo>
                  <a:cubicBezTo>
                    <a:pt x="5694" y="16332"/>
                    <a:pt x="3577" y="14751"/>
                    <a:pt x="3577" y="14751"/>
                  </a:cubicBezTo>
                  <a:cubicBezTo>
                    <a:pt x="4000" y="14751"/>
                    <a:pt x="5694" y="16332"/>
                    <a:pt x="5694" y="15805"/>
                  </a:cubicBezTo>
                  <a:cubicBezTo>
                    <a:pt x="5694" y="15278"/>
                    <a:pt x="5271" y="14751"/>
                    <a:pt x="5271" y="13698"/>
                  </a:cubicBezTo>
                  <a:cubicBezTo>
                    <a:pt x="5271" y="13698"/>
                    <a:pt x="6541" y="14751"/>
                    <a:pt x="6118" y="14224"/>
                  </a:cubicBezTo>
                  <a:cubicBezTo>
                    <a:pt x="6118" y="13171"/>
                    <a:pt x="6965" y="13171"/>
                    <a:pt x="7389" y="13171"/>
                  </a:cubicBezTo>
                  <a:cubicBezTo>
                    <a:pt x="7812" y="13171"/>
                    <a:pt x="10777" y="14751"/>
                    <a:pt x="10777" y="14224"/>
                  </a:cubicBezTo>
                  <a:cubicBezTo>
                    <a:pt x="10777" y="15278"/>
                    <a:pt x="12471" y="16332"/>
                    <a:pt x="12894" y="17385"/>
                  </a:cubicBezTo>
                  <a:cubicBezTo>
                    <a:pt x="13318" y="18439"/>
                    <a:pt x="14165" y="20020"/>
                    <a:pt x="15012" y="20020"/>
                  </a:cubicBezTo>
                  <a:cubicBezTo>
                    <a:pt x="16283" y="20020"/>
                    <a:pt x="17553" y="20546"/>
                    <a:pt x="18824" y="21073"/>
                  </a:cubicBezTo>
                  <a:cubicBezTo>
                    <a:pt x="19247" y="21073"/>
                    <a:pt x="20094" y="21600"/>
                    <a:pt x="20094" y="21073"/>
                  </a:cubicBezTo>
                  <a:cubicBezTo>
                    <a:pt x="20094" y="20546"/>
                    <a:pt x="21365" y="20546"/>
                    <a:pt x="20941" y="20546"/>
                  </a:cubicBezTo>
                  <a:cubicBezTo>
                    <a:pt x="20518" y="20020"/>
                    <a:pt x="21365" y="20546"/>
                    <a:pt x="20941" y="2054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4" name="Shape 1348"/>
            <p:cNvSpPr/>
            <p:nvPr/>
          </p:nvSpPr>
          <p:spPr>
            <a:xfrm>
              <a:off x="10375200" y="4208040"/>
              <a:ext cx="196920" cy="166320"/>
            </a:xfrm>
            <a:custGeom>
              <a:avLst/>
              <a:gdLst/>
              <a:ahLst/>
              <a:rect l="l" t="t" r="r" b="b"/>
              <a:pathLst>
                <a:path w="21038" h="20186">
                  <a:moveTo>
                    <a:pt x="13976" y="1560"/>
                  </a:moveTo>
                  <a:cubicBezTo>
                    <a:pt x="13553" y="3000"/>
                    <a:pt x="13129" y="3960"/>
                    <a:pt x="12282" y="5400"/>
                  </a:cubicBezTo>
                  <a:cubicBezTo>
                    <a:pt x="11859" y="7320"/>
                    <a:pt x="9741" y="7320"/>
                    <a:pt x="8471" y="6840"/>
                  </a:cubicBezTo>
                  <a:cubicBezTo>
                    <a:pt x="7624" y="6360"/>
                    <a:pt x="6776" y="7320"/>
                    <a:pt x="6353" y="7800"/>
                  </a:cubicBezTo>
                  <a:cubicBezTo>
                    <a:pt x="5929" y="8280"/>
                    <a:pt x="4659" y="7800"/>
                    <a:pt x="4235" y="8280"/>
                  </a:cubicBezTo>
                  <a:cubicBezTo>
                    <a:pt x="3388" y="8760"/>
                    <a:pt x="3388" y="8760"/>
                    <a:pt x="2965" y="7800"/>
                  </a:cubicBezTo>
                  <a:cubicBezTo>
                    <a:pt x="2118" y="7320"/>
                    <a:pt x="1694" y="6840"/>
                    <a:pt x="1271" y="5880"/>
                  </a:cubicBezTo>
                  <a:cubicBezTo>
                    <a:pt x="847" y="5400"/>
                    <a:pt x="0" y="8280"/>
                    <a:pt x="0" y="8760"/>
                  </a:cubicBezTo>
                  <a:cubicBezTo>
                    <a:pt x="0" y="10200"/>
                    <a:pt x="1271" y="11640"/>
                    <a:pt x="1694" y="13080"/>
                  </a:cubicBezTo>
                  <a:cubicBezTo>
                    <a:pt x="2541" y="14520"/>
                    <a:pt x="2118" y="15960"/>
                    <a:pt x="3388" y="16920"/>
                  </a:cubicBezTo>
                  <a:cubicBezTo>
                    <a:pt x="4235" y="17400"/>
                    <a:pt x="5082" y="17880"/>
                    <a:pt x="5506" y="17880"/>
                  </a:cubicBezTo>
                  <a:cubicBezTo>
                    <a:pt x="6776" y="17400"/>
                    <a:pt x="5506" y="18360"/>
                    <a:pt x="5929" y="18840"/>
                  </a:cubicBezTo>
                  <a:cubicBezTo>
                    <a:pt x="6353" y="18840"/>
                    <a:pt x="7624" y="18840"/>
                    <a:pt x="8047" y="18840"/>
                  </a:cubicBezTo>
                  <a:cubicBezTo>
                    <a:pt x="8471" y="18360"/>
                    <a:pt x="8471" y="17400"/>
                    <a:pt x="8894" y="17880"/>
                  </a:cubicBezTo>
                  <a:cubicBezTo>
                    <a:pt x="9318" y="18360"/>
                    <a:pt x="10165" y="18840"/>
                    <a:pt x="10588" y="18360"/>
                  </a:cubicBezTo>
                  <a:cubicBezTo>
                    <a:pt x="11012" y="18360"/>
                    <a:pt x="11859" y="17880"/>
                    <a:pt x="11859" y="18360"/>
                  </a:cubicBezTo>
                  <a:cubicBezTo>
                    <a:pt x="12282" y="19800"/>
                    <a:pt x="11435" y="20760"/>
                    <a:pt x="13129" y="19800"/>
                  </a:cubicBezTo>
                  <a:cubicBezTo>
                    <a:pt x="13553" y="19800"/>
                    <a:pt x="13976" y="19320"/>
                    <a:pt x="14400" y="19320"/>
                  </a:cubicBezTo>
                  <a:cubicBezTo>
                    <a:pt x="14824" y="19320"/>
                    <a:pt x="15247" y="19800"/>
                    <a:pt x="15247" y="19800"/>
                  </a:cubicBezTo>
                  <a:cubicBezTo>
                    <a:pt x="15671" y="18840"/>
                    <a:pt x="14824" y="17880"/>
                    <a:pt x="15671" y="16920"/>
                  </a:cubicBezTo>
                  <a:cubicBezTo>
                    <a:pt x="16094" y="16440"/>
                    <a:pt x="15671" y="15960"/>
                    <a:pt x="15671" y="15000"/>
                  </a:cubicBezTo>
                  <a:cubicBezTo>
                    <a:pt x="15671" y="14520"/>
                    <a:pt x="16094" y="14040"/>
                    <a:pt x="16518" y="13560"/>
                  </a:cubicBezTo>
                  <a:cubicBezTo>
                    <a:pt x="17365" y="12600"/>
                    <a:pt x="18212" y="12120"/>
                    <a:pt x="17788" y="10680"/>
                  </a:cubicBezTo>
                  <a:cubicBezTo>
                    <a:pt x="17788" y="9720"/>
                    <a:pt x="19059" y="7800"/>
                    <a:pt x="19906" y="8280"/>
                  </a:cubicBezTo>
                  <a:cubicBezTo>
                    <a:pt x="20329" y="8760"/>
                    <a:pt x="21600" y="8280"/>
                    <a:pt x="20753" y="7800"/>
                  </a:cubicBezTo>
                  <a:cubicBezTo>
                    <a:pt x="20329" y="6840"/>
                    <a:pt x="19059" y="6360"/>
                    <a:pt x="19059" y="5400"/>
                  </a:cubicBezTo>
                  <a:cubicBezTo>
                    <a:pt x="19059" y="4440"/>
                    <a:pt x="18212" y="3480"/>
                    <a:pt x="17788" y="2520"/>
                  </a:cubicBezTo>
                  <a:cubicBezTo>
                    <a:pt x="17365" y="1080"/>
                    <a:pt x="18635" y="2520"/>
                    <a:pt x="18635" y="2040"/>
                  </a:cubicBezTo>
                  <a:cubicBezTo>
                    <a:pt x="19059" y="1560"/>
                    <a:pt x="17365" y="1080"/>
                    <a:pt x="18635" y="600"/>
                  </a:cubicBezTo>
                  <a:cubicBezTo>
                    <a:pt x="16941" y="120"/>
                    <a:pt x="14400" y="-840"/>
                    <a:pt x="13976" y="1560"/>
                  </a:cubicBezTo>
                  <a:cubicBezTo>
                    <a:pt x="13553" y="2520"/>
                    <a:pt x="14400" y="600"/>
                    <a:pt x="13976" y="15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5" name="Shape 1349"/>
            <p:cNvSpPr/>
            <p:nvPr/>
          </p:nvSpPr>
          <p:spPr>
            <a:xfrm>
              <a:off x="10387440" y="4157280"/>
              <a:ext cx="190080" cy="123120"/>
            </a:xfrm>
            <a:custGeom>
              <a:avLst/>
              <a:gdLst/>
              <a:ahLst/>
              <a:rect l="l" t="t" r="r" b="b"/>
              <a:pathLst>
                <a:path w="21177" h="21029">
                  <a:moveTo>
                    <a:pt x="19837" y="6179"/>
                  </a:moveTo>
                  <a:cubicBezTo>
                    <a:pt x="21159" y="6179"/>
                    <a:pt x="21600" y="5504"/>
                    <a:pt x="20718" y="4829"/>
                  </a:cubicBezTo>
                  <a:cubicBezTo>
                    <a:pt x="19837" y="4154"/>
                    <a:pt x="19837" y="3479"/>
                    <a:pt x="18955" y="4154"/>
                  </a:cubicBezTo>
                  <a:cubicBezTo>
                    <a:pt x="18514" y="4829"/>
                    <a:pt x="18955" y="4154"/>
                    <a:pt x="18514" y="3479"/>
                  </a:cubicBezTo>
                  <a:cubicBezTo>
                    <a:pt x="18514" y="3479"/>
                    <a:pt x="18073" y="3479"/>
                    <a:pt x="18073" y="3479"/>
                  </a:cubicBezTo>
                  <a:cubicBezTo>
                    <a:pt x="18073" y="3479"/>
                    <a:pt x="18073" y="2129"/>
                    <a:pt x="18073" y="2129"/>
                  </a:cubicBezTo>
                  <a:cubicBezTo>
                    <a:pt x="17633" y="1454"/>
                    <a:pt x="17192" y="779"/>
                    <a:pt x="17192" y="779"/>
                  </a:cubicBezTo>
                  <a:cubicBezTo>
                    <a:pt x="16310" y="-571"/>
                    <a:pt x="16751" y="104"/>
                    <a:pt x="16310" y="779"/>
                  </a:cubicBezTo>
                  <a:cubicBezTo>
                    <a:pt x="15869" y="1454"/>
                    <a:pt x="15869" y="104"/>
                    <a:pt x="15869" y="104"/>
                  </a:cubicBezTo>
                  <a:cubicBezTo>
                    <a:pt x="15429" y="104"/>
                    <a:pt x="14106" y="2804"/>
                    <a:pt x="14106" y="3479"/>
                  </a:cubicBezTo>
                  <a:cubicBezTo>
                    <a:pt x="13665" y="3479"/>
                    <a:pt x="13224" y="4154"/>
                    <a:pt x="13224" y="4829"/>
                  </a:cubicBezTo>
                  <a:cubicBezTo>
                    <a:pt x="12784" y="4829"/>
                    <a:pt x="12784" y="5504"/>
                    <a:pt x="12784" y="5504"/>
                  </a:cubicBezTo>
                  <a:cubicBezTo>
                    <a:pt x="12784" y="6179"/>
                    <a:pt x="12784" y="6179"/>
                    <a:pt x="12784" y="6179"/>
                  </a:cubicBezTo>
                  <a:cubicBezTo>
                    <a:pt x="12784" y="6854"/>
                    <a:pt x="11461" y="6854"/>
                    <a:pt x="11020" y="7529"/>
                  </a:cubicBezTo>
                  <a:cubicBezTo>
                    <a:pt x="9698" y="7529"/>
                    <a:pt x="10139" y="8879"/>
                    <a:pt x="11020" y="9554"/>
                  </a:cubicBezTo>
                  <a:cubicBezTo>
                    <a:pt x="11902" y="10904"/>
                    <a:pt x="11461" y="9554"/>
                    <a:pt x="11902" y="8879"/>
                  </a:cubicBezTo>
                  <a:cubicBezTo>
                    <a:pt x="11902" y="8204"/>
                    <a:pt x="12784" y="8204"/>
                    <a:pt x="12784" y="8204"/>
                  </a:cubicBezTo>
                  <a:cubicBezTo>
                    <a:pt x="12784" y="8204"/>
                    <a:pt x="12343" y="7529"/>
                    <a:pt x="12343" y="6854"/>
                  </a:cubicBezTo>
                  <a:cubicBezTo>
                    <a:pt x="12343" y="7529"/>
                    <a:pt x="12784" y="8204"/>
                    <a:pt x="12784" y="8204"/>
                  </a:cubicBezTo>
                  <a:cubicBezTo>
                    <a:pt x="12784" y="8204"/>
                    <a:pt x="11902" y="8204"/>
                    <a:pt x="11461" y="8879"/>
                  </a:cubicBezTo>
                  <a:cubicBezTo>
                    <a:pt x="11461" y="10904"/>
                    <a:pt x="10580" y="8879"/>
                    <a:pt x="10139" y="8204"/>
                  </a:cubicBezTo>
                  <a:cubicBezTo>
                    <a:pt x="8816" y="10229"/>
                    <a:pt x="7935" y="12254"/>
                    <a:pt x="6171" y="12929"/>
                  </a:cubicBezTo>
                  <a:cubicBezTo>
                    <a:pt x="5290" y="13604"/>
                    <a:pt x="4408" y="13604"/>
                    <a:pt x="3967" y="14954"/>
                  </a:cubicBezTo>
                  <a:cubicBezTo>
                    <a:pt x="3527" y="15629"/>
                    <a:pt x="3527" y="16304"/>
                    <a:pt x="3086" y="16979"/>
                  </a:cubicBezTo>
                  <a:cubicBezTo>
                    <a:pt x="3086" y="17654"/>
                    <a:pt x="3967" y="18329"/>
                    <a:pt x="3967" y="18329"/>
                  </a:cubicBezTo>
                  <a:cubicBezTo>
                    <a:pt x="3527" y="19004"/>
                    <a:pt x="441" y="16979"/>
                    <a:pt x="0" y="16979"/>
                  </a:cubicBezTo>
                  <a:cubicBezTo>
                    <a:pt x="441" y="18329"/>
                    <a:pt x="1322" y="20354"/>
                    <a:pt x="2204" y="21029"/>
                  </a:cubicBezTo>
                  <a:cubicBezTo>
                    <a:pt x="2645" y="21029"/>
                    <a:pt x="3086" y="20354"/>
                    <a:pt x="3086" y="20354"/>
                  </a:cubicBezTo>
                  <a:cubicBezTo>
                    <a:pt x="3967" y="19679"/>
                    <a:pt x="5290" y="20354"/>
                    <a:pt x="5290" y="19679"/>
                  </a:cubicBezTo>
                  <a:cubicBezTo>
                    <a:pt x="6612" y="17654"/>
                    <a:pt x="7494" y="18329"/>
                    <a:pt x="8816" y="19004"/>
                  </a:cubicBezTo>
                  <a:cubicBezTo>
                    <a:pt x="10139" y="19004"/>
                    <a:pt x="11461" y="17654"/>
                    <a:pt x="11902" y="15629"/>
                  </a:cubicBezTo>
                  <a:cubicBezTo>
                    <a:pt x="12343" y="14279"/>
                    <a:pt x="12784" y="12929"/>
                    <a:pt x="13224" y="11579"/>
                  </a:cubicBezTo>
                  <a:cubicBezTo>
                    <a:pt x="13224" y="9554"/>
                    <a:pt x="13665" y="8879"/>
                    <a:pt x="14988" y="8879"/>
                  </a:cubicBezTo>
                  <a:cubicBezTo>
                    <a:pt x="16310" y="8879"/>
                    <a:pt x="17633" y="9554"/>
                    <a:pt x="18955" y="8879"/>
                  </a:cubicBezTo>
                  <a:cubicBezTo>
                    <a:pt x="20718" y="8204"/>
                    <a:pt x="17633" y="6179"/>
                    <a:pt x="19837" y="617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6" name="Shape 1350"/>
            <p:cNvSpPr/>
            <p:nvPr/>
          </p:nvSpPr>
          <p:spPr>
            <a:xfrm>
              <a:off x="9997920" y="3717000"/>
              <a:ext cx="57960" cy="33840"/>
            </a:xfrm>
            <a:custGeom>
              <a:avLst/>
              <a:gdLst/>
              <a:ahLst/>
              <a:rect l="l" t="t" r="r" b="b"/>
              <a:pathLst>
                <a:path w="18683" h="18763">
                  <a:moveTo>
                    <a:pt x="692" y="15709"/>
                  </a:moveTo>
                  <a:cubicBezTo>
                    <a:pt x="1963" y="17869"/>
                    <a:pt x="5775" y="20029"/>
                    <a:pt x="7045" y="17869"/>
                  </a:cubicBezTo>
                  <a:cubicBezTo>
                    <a:pt x="9586" y="15709"/>
                    <a:pt x="10857" y="20029"/>
                    <a:pt x="13398" y="17869"/>
                  </a:cubicBezTo>
                  <a:cubicBezTo>
                    <a:pt x="14669" y="17869"/>
                    <a:pt x="19751" y="17869"/>
                    <a:pt x="18480" y="15709"/>
                  </a:cubicBezTo>
                  <a:cubicBezTo>
                    <a:pt x="17210" y="11389"/>
                    <a:pt x="15939" y="9229"/>
                    <a:pt x="17210" y="4909"/>
                  </a:cubicBezTo>
                  <a:cubicBezTo>
                    <a:pt x="14669" y="2749"/>
                    <a:pt x="12127" y="7069"/>
                    <a:pt x="10857" y="4909"/>
                  </a:cubicBezTo>
                  <a:cubicBezTo>
                    <a:pt x="9586" y="2749"/>
                    <a:pt x="7045" y="-1571"/>
                    <a:pt x="5775" y="589"/>
                  </a:cubicBezTo>
                  <a:cubicBezTo>
                    <a:pt x="3233" y="4909"/>
                    <a:pt x="-1849" y="11389"/>
                    <a:pt x="692" y="15709"/>
                  </a:cubicBezTo>
                  <a:cubicBezTo>
                    <a:pt x="1963" y="17869"/>
                    <a:pt x="-578" y="13549"/>
                    <a:pt x="692" y="15709"/>
                  </a:cubicBezTo>
                  <a:close/>
                </a:path>
              </a:pathLst>
            </a:custGeom>
            <a:solidFill>
              <a:srgbClr val="dadbdf"/>
            </a:solidFill>
            <a:ln w="4680">
              <a:solidFill>
                <a:srgbClr val="ffffff"/>
              </a:solidFill>
              <a:round/>
            </a:ln>
          </p:spPr>
          <p:style>
            <a:lnRef idx="0"/>
            <a:fillRef idx="0"/>
            <a:effectRef idx="0"/>
            <a:fontRef idx="minor"/>
          </p:style>
          <p:txBody>
            <a:bodyPr lIns="45360" rIns="45360" tIns="-12960" bIns="-12960" anchor="t">
              <a:noAutofit/>
            </a:bodyPr>
            <a:p>
              <a:endParaRPr b="0" lang="en-US" sz="1800" spc="-1" strike="noStrike">
                <a:solidFill>
                  <a:srgbClr val="000000"/>
                </a:solidFill>
                <a:latin typeface="Calibri"/>
              </a:endParaRPr>
            </a:p>
          </p:txBody>
        </p:sp>
        <p:sp>
          <p:nvSpPr>
            <p:cNvPr id="737" name="Shape 1351"/>
            <p:cNvSpPr/>
            <p:nvPr/>
          </p:nvSpPr>
          <p:spPr>
            <a:xfrm>
              <a:off x="9837360" y="3669840"/>
              <a:ext cx="146880" cy="88560"/>
            </a:xfrm>
            <a:custGeom>
              <a:avLst/>
              <a:gdLst/>
              <a:ahLst/>
              <a:rect l="l" t="t" r="r" b="b"/>
              <a:pathLst>
                <a:path w="21600" h="20917">
                  <a:moveTo>
                    <a:pt x="584" y="2817"/>
                  </a:moveTo>
                  <a:cubicBezTo>
                    <a:pt x="0" y="3757"/>
                    <a:pt x="0" y="7513"/>
                    <a:pt x="0" y="8452"/>
                  </a:cubicBezTo>
                  <a:cubicBezTo>
                    <a:pt x="584" y="9391"/>
                    <a:pt x="2335" y="10330"/>
                    <a:pt x="2919" y="12209"/>
                  </a:cubicBezTo>
                  <a:cubicBezTo>
                    <a:pt x="3503" y="12209"/>
                    <a:pt x="4086" y="13148"/>
                    <a:pt x="4086" y="13148"/>
                  </a:cubicBezTo>
                  <a:cubicBezTo>
                    <a:pt x="5254" y="14087"/>
                    <a:pt x="5838" y="13148"/>
                    <a:pt x="7005" y="14087"/>
                  </a:cubicBezTo>
                  <a:cubicBezTo>
                    <a:pt x="7589" y="14087"/>
                    <a:pt x="8173" y="15026"/>
                    <a:pt x="8757" y="15026"/>
                  </a:cubicBezTo>
                  <a:cubicBezTo>
                    <a:pt x="9341" y="15026"/>
                    <a:pt x="10508" y="15026"/>
                    <a:pt x="11092" y="15026"/>
                  </a:cubicBezTo>
                  <a:cubicBezTo>
                    <a:pt x="11676" y="15965"/>
                    <a:pt x="12259" y="16904"/>
                    <a:pt x="12843" y="17843"/>
                  </a:cubicBezTo>
                  <a:cubicBezTo>
                    <a:pt x="13427" y="17843"/>
                    <a:pt x="14595" y="17843"/>
                    <a:pt x="15178" y="18783"/>
                  </a:cubicBezTo>
                  <a:cubicBezTo>
                    <a:pt x="15762" y="18783"/>
                    <a:pt x="16346" y="20661"/>
                    <a:pt x="16930" y="20661"/>
                  </a:cubicBezTo>
                  <a:cubicBezTo>
                    <a:pt x="17514" y="20661"/>
                    <a:pt x="18097" y="18783"/>
                    <a:pt x="18681" y="18783"/>
                  </a:cubicBezTo>
                  <a:cubicBezTo>
                    <a:pt x="19265" y="19722"/>
                    <a:pt x="19265" y="21600"/>
                    <a:pt x="20432" y="20661"/>
                  </a:cubicBezTo>
                  <a:cubicBezTo>
                    <a:pt x="20432" y="20661"/>
                    <a:pt x="21600" y="19722"/>
                    <a:pt x="21600" y="19722"/>
                  </a:cubicBezTo>
                  <a:cubicBezTo>
                    <a:pt x="21600" y="18783"/>
                    <a:pt x="21600" y="17843"/>
                    <a:pt x="21600" y="16904"/>
                  </a:cubicBezTo>
                  <a:cubicBezTo>
                    <a:pt x="21016" y="15965"/>
                    <a:pt x="21600" y="15026"/>
                    <a:pt x="21600" y="13148"/>
                  </a:cubicBezTo>
                  <a:cubicBezTo>
                    <a:pt x="20432" y="13148"/>
                    <a:pt x="19849" y="14087"/>
                    <a:pt x="18681" y="13148"/>
                  </a:cubicBezTo>
                  <a:cubicBezTo>
                    <a:pt x="18681" y="13148"/>
                    <a:pt x="18097" y="12209"/>
                    <a:pt x="18097" y="12209"/>
                  </a:cubicBezTo>
                  <a:cubicBezTo>
                    <a:pt x="17514" y="12209"/>
                    <a:pt x="16930" y="13148"/>
                    <a:pt x="16346" y="12209"/>
                  </a:cubicBezTo>
                  <a:cubicBezTo>
                    <a:pt x="16346" y="12209"/>
                    <a:pt x="15762" y="11270"/>
                    <a:pt x="15178" y="11270"/>
                  </a:cubicBezTo>
                  <a:cubicBezTo>
                    <a:pt x="14595" y="11270"/>
                    <a:pt x="14011" y="13148"/>
                    <a:pt x="14011" y="11270"/>
                  </a:cubicBezTo>
                  <a:cubicBezTo>
                    <a:pt x="12843" y="9391"/>
                    <a:pt x="12259" y="10330"/>
                    <a:pt x="11676" y="9391"/>
                  </a:cubicBezTo>
                  <a:cubicBezTo>
                    <a:pt x="11092" y="8452"/>
                    <a:pt x="11092" y="7513"/>
                    <a:pt x="10508" y="7513"/>
                  </a:cubicBezTo>
                  <a:cubicBezTo>
                    <a:pt x="9924" y="6574"/>
                    <a:pt x="9341" y="6574"/>
                    <a:pt x="9341" y="6574"/>
                  </a:cubicBezTo>
                  <a:cubicBezTo>
                    <a:pt x="8173" y="5635"/>
                    <a:pt x="6422" y="3757"/>
                    <a:pt x="5838" y="1878"/>
                  </a:cubicBezTo>
                  <a:cubicBezTo>
                    <a:pt x="5838" y="939"/>
                    <a:pt x="5254" y="0"/>
                    <a:pt x="4670" y="0"/>
                  </a:cubicBezTo>
                  <a:cubicBezTo>
                    <a:pt x="3503" y="0"/>
                    <a:pt x="3503" y="939"/>
                    <a:pt x="2919" y="1878"/>
                  </a:cubicBezTo>
                  <a:cubicBezTo>
                    <a:pt x="2919" y="2817"/>
                    <a:pt x="2335" y="1878"/>
                    <a:pt x="2335" y="1878"/>
                  </a:cubicBezTo>
                  <a:cubicBezTo>
                    <a:pt x="1751" y="2817"/>
                    <a:pt x="1168" y="2817"/>
                    <a:pt x="584" y="2817"/>
                  </a:cubicBezTo>
                  <a:cubicBezTo>
                    <a:pt x="0" y="3757"/>
                    <a:pt x="1168" y="2817"/>
                    <a:pt x="584" y="2817"/>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738" name="Shape 1352"/>
            <p:cNvSpPr/>
            <p:nvPr/>
          </p:nvSpPr>
          <p:spPr>
            <a:xfrm>
              <a:off x="10244520" y="4005720"/>
              <a:ext cx="107280" cy="88560"/>
            </a:xfrm>
            <a:custGeom>
              <a:avLst/>
              <a:gdLst/>
              <a:ahLst/>
              <a:rect l="l" t="t" r="r" b="b"/>
              <a:pathLst>
                <a:path w="20988" h="20924">
                  <a:moveTo>
                    <a:pt x="10800" y="17167"/>
                  </a:moveTo>
                  <a:cubicBezTo>
                    <a:pt x="10800" y="16228"/>
                    <a:pt x="15429" y="18107"/>
                    <a:pt x="14657" y="16228"/>
                  </a:cubicBezTo>
                  <a:cubicBezTo>
                    <a:pt x="14657" y="16228"/>
                    <a:pt x="13886" y="13411"/>
                    <a:pt x="14657" y="13411"/>
                  </a:cubicBezTo>
                  <a:cubicBezTo>
                    <a:pt x="15429" y="13411"/>
                    <a:pt x="16200" y="14350"/>
                    <a:pt x="16200" y="12472"/>
                  </a:cubicBezTo>
                  <a:cubicBezTo>
                    <a:pt x="16200" y="10594"/>
                    <a:pt x="17743" y="11533"/>
                    <a:pt x="18514" y="10594"/>
                  </a:cubicBezTo>
                  <a:cubicBezTo>
                    <a:pt x="20057" y="10594"/>
                    <a:pt x="20057" y="8715"/>
                    <a:pt x="20829" y="7776"/>
                  </a:cubicBezTo>
                  <a:cubicBezTo>
                    <a:pt x="21600" y="5898"/>
                    <a:pt x="19286" y="1202"/>
                    <a:pt x="20057" y="263"/>
                  </a:cubicBezTo>
                  <a:cubicBezTo>
                    <a:pt x="18514" y="1202"/>
                    <a:pt x="18514" y="1202"/>
                    <a:pt x="16971" y="263"/>
                  </a:cubicBezTo>
                  <a:cubicBezTo>
                    <a:pt x="16200" y="-676"/>
                    <a:pt x="14657" y="1202"/>
                    <a:pt x="14657" y="1202"/>
                  </a:cubicBezTo>
                  <a:cubicBezTo>
                    <a:pt x="14657" y="3081"/>
                    <a:pt x="13114" y="1202"/>
                    <a:pt x="13114" y="1202"/>
                  </a:cubicBezTo>
                  <a:cubicBezTo>
                    <a:pt x="10029" y="263"/>
                    <a:pt x="4629" y="-676"/>
                    <a:pt x="2314" y="2141"/>
                  </a:cubicBezTo>
                  <a:cubicBezTo>
                    <a:pt x="1543" y="3081"/>
                    <a:pt x="0" y="4020"/>
                    <a:pt x="0" y="5898"/>
                  </a:cubicBezTo>
                  <a:cubicBezTo>
                    <a:pt x="0" y="6837"/>
                    <a:pt x="771" y="7776"/>
                    <a:pt x="771" y="8715"/>
                  </a:cubicBezTo>
                  <a:cubicBezTo>
                    <a:pt x="2314" y="9654"/>
                    <a:pt x="2314" y="11533"/>
                    <a:pt x="2314" y="12472"/>
                  </a:cubicBezTo>
                  <a:cubicBezTo>
                    <a:pt x="3086" y="14350"/>
                    <a:pt x="3086" y="15289"/>
                    <a:pt x="3857" y="16228"/>
                  </a:cubicBezTo>
                  <a:cubicBezTo>
                    <a:pt x="3857" y="17167"/>
                    <a:pt x="4629" y="16228"/>
                    <a:pt x="4629" y="17167"/>
                  </a:cubicBezTo>
                  <a:cubicBezTo>
                    <a:pt x="5400" y="17167"/>
                    <a:pt x="4629" y="18107"/>
                    <a:pt x="5400" y="19046"/>
                  </a:cubicBezTo>
                  <a:cubicBezTo>
                    <a:pt x="6943" y="19046"/>
                    <a:pt x="6171" y="19985"/>
                    <a:pt x="6171" y="20924"/>
                  </a:cubicBezTo>
                  <a:cubicBezTo>
                    <a:pt x="6171" y="19985"/>
                    <a:pt x="10800" y="18107"/>
                    <a:pt x="10800" y="17167"/>
                  </a:cubicBezTo>
                  <a:cubicBezTo>
                    <a:pt x="10800" y="17167"/>
                    <a:pt x="10800" y="18107"/>
                    <a:pt x="10800" y="17167"/>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739" name="Shape 1353"/>
            <p:cNvSpPr/>
            <p:nvPr/>
          </p:nvSpPr>
          <p:spPr>
            <a:xfrm>
              <a:off x="10201320" y="4164840"/>
              <a:ext cx="83520" cy="103680"/>
            </a:xfrm>
            <a:custGeom>
              <a:avLst/>
              <a:gdLst/>
              <a:ahLst/>
              <a:rect l="l" t="t" r="r" b="b"/>
              <a:pathLst>
                <a:path w="20618" h="21600">
                  <a:moveTo>
                    <a:pt x="9818" y="2492"/>
                  </a:moveTo>
                  <a:cubicBezTo>
                    <a:pt x="8836" y="2492"/>
                    <a:pt x="7855" y="3323"/>
                    <a:pt x="6873" y="3323"/>
                  </a:cubicBezTo>
                  <a:cubicBezTo>
                    <a:pt x="6873" y="2492"/>
                    <a:pt x="5891" y="3323"/>
                    <a:pt x="5891" y="3323"/>
                  </a:cubicBezTo>
                  <a:cubicBezTo>
                    <a:pt x="4909" y="3323"/>
                    <a:pt x="4909" y="1662"/>
                    <a:pt x="4909" y="831"/>
                  </a:cubicBezTo>
                  <a:cubicBezTo>
                    <a:pt x="3927" y="0"/>
                    <a:pt x="1964" y="0"/>
                    <a:pt x="0" y="0"/>
                  </a:cubicBezTo>
                  <a:cubicBezTo>
                    <a:pt x="982" y="831"/>
                    <a:pt x="982" y="3323"/>
                    <a:pt x="982" y="4985"/>
                  </a:cubicBezTo>
                  <a:cubicBezTo>
                    <a:pt x="1964" y="6646"/>
                    <a:pt x="2945" y="9138"/>
                    <a:pt x="3927" y="11631"/>
                  </a:cubicBezTo>
                  <a:cubicBezTo>
                    <a:pt x="5891" y="13292"/>
                    <a:pt x="6873" y="15785"/>
                    <a:pt x="8836" y="17446"/>
                  </a:cubicBezTo>
                  <a:cubicBezTo>
                    <a:pt x="11782" y="18277"/>
                    <a:pt x="14727" y="21600"/>
                    <a:pt x="18655" y="21600"/>
                  </a:cubicBezTo>
                  <a:cubicBezTo>
                    <a:pt x="21600" y="21600"/>
                    <a:pt x="20618" y="20769"/>
                    <a:pt x="19636" y="19108"/>
                  </a:cubicBezTo>
                  <a:cubicBezTo>
                    <a:pt x="17673" y="16615"/>
                    <a:pt x="15709" y="14954"/>
                    <a:pt x="15709" y="11631"/>
                  </a:cubicBezTo>
                  <a:cubicBezTo>
                    <a:pt x="15709" y="9138"/>
                    <a:pt x="17673" y="7477"/>
                    <a:pt x="15709" y="4985"/>
                  </a:cubicBezTo>
                  <a:cubicBezTo>
                    <a:pt x="14727" y="4154"/>
                    <a:pt x="10800" y="0"/>
                    <a:pt x="9818" y="2492"/>
                  </a:cubicBezTo>
                  <a:cubicBezTo>
                    <a:pt x="8836" y="3323"/>
                    <a:pt x="9818" y="1662"/>
                    <a:pt x="9818" y="249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0" name="Shape 1354"/>
            <p:cNvSpPr/>
            <p:nvPr/>
          </p:nvSpPr>
          <p:spPr>
            <a:xfrm>
              <a:off x="9711000" y="3117960"/>
              <a:ext cx="1177560" cy="770040"/>
            </a:xfrm>
            <a:custGeom>
              <a:avLst/>
              <a:gdLst/>
              <a:ahLst/>
              <a:rect l="l" t="t" r="r" b="b"/>
              <a:pathLst>
                <a:path w="21462" h="21533">
                  <a:moveTo>
                    <a:pt x="21398" y="4031"/>
                  </a:moveTo>
                  <a:cubicBezTo>
                    <a:pt x="21398" y="3810"/>
                    <a:pt x="21110" y="3921"/>
                    <a:pt x="21038" y="4031"/>
                  </a:cubicBezTo>
                  <a:cubicBezTo>
                    <a:pt x="20894" y="4031"/>
                    <a:pt x="20822" y="4142"/>
                    <a:pt x="20678" y="4253"/>
                  </a:cubicBezTo>
                  <a:cubicBezTo>
                    <a:pt x="20534" y="4364"/>
                    <a:pt x="20030" y="4364"/>
                    <a:pt x="20030" y="4031"/>
                  </a:cubicBezTo>
                  <a:cubicBezTo>
                    <a:pt x="19886" y="3588"/>
                    <a:pt x="19814" y="3367"/>
                    <a:pt x="19526" y="3145"/>
                  </a:cubicBezTo>
                  <a:cubicBezTo>
                    <a:pt x="19310" y="3035"/>
                    <a:pt x="18878" y="3035"/>
                    <a:pt x="18806" y="2591"/>
                  </a:cubicBezTo>
                  <a:cubicBezTo>
                    <a:pt x="18734" y="1927"/>
                    <a:pt x="18590" y="1151"/>
                    <a:pt x="18302" y="598"/>
                  </a:cubicBezTo>
                  <a:cubicBezTo>
                    <a:pt x="18086" y="265"/>
                    <a:pt x="17798" y="265"/>
                    <a:pt x="17510" y="44"/>
                  </a:cubicBezTo>
                  <a:cubicBezTo>
                    <a:pt x="17222" y="-67"/>
                    <a:pt x="16718" y="44"/>
                    <a:pt x="16430" y="265"/>
                  </a:cubicBezTo>
                  <a:cubicBezTo>
                    <a:pt x="16358" y="376"/>
                    <a:pt x="16214" y="487"/>
                    <a:pt x="16142" y="598"/>
                  </a:cubicBezTo>
                  <a:cubicBezTo>
                    <a:pt x="16142" y="708"/>
                    <a:pt x="16358" y="708"/>
                    <a:pt x="16358" y="819"/>
                  </a:cubicBezTo>
                  <a:cubicBezTo>
                    <a:pt x="16430" y="1262"/>
                    <a:pt x="16070" y="1595"/>
                    <a:pt x="15998" y="1927"/>
                  </a:cubicBezTo>
                  <a:cubicBezTo>
                    <a:pt x="15926" y="2038"/>
                    <a:pt x="15926" y="2148"/>
                    <a:pt x="15926" y="2259"/>
                  </a:cubicBezTo>
                  <a:cubicBezTo>
                    <a:pt x="15926" y="2370"/>
                    <a:pt x="15926" y="2370"/>
                    <a:pt x="15926" y="2481"/>
                  </a:cubicBezTo>
                  <a:cubicBezTo>
                    <a:pt x="15926" y="2702"/>
                    <a:pt x="15710" y="2702"/>
                    <a:pt x="15566" y="2813"/>
                  </a:cubicBezTo>
                  <a:cubicBezTo>
                    <a:pt x="15494" y="2813"/>
                    <a:pt x="15422" y="2924"/>
                    <a:pt x="15350" y="2924"/>
                  </a:cubicBezTo>
                  <a:cubicBezTo>
                    <a:pt x="15278" y="2924"/>
                    <a:pt x="14918" y="2702"/>
                    <a:pt x="14918" y="2702"/>
                  </a:cubicBezTo>
                  <a:cubicBezTo>
                    <a:pt x="14846" y="2924"/>
                    <a:pt x="14774" y="3256"/>
                    <a:pt x="14702" y="3478"/>
                  </a:cubicBezTo>
                  <a:cubicBezTo>
                    <a:pt x="14702" y="3588"/>
                    <a:pt x="14630" y="3699"/>
                    <a:pt x="14630" y="3810"/>
                  </a:cubicBezTo>
                  <a:cubicBezTo>
                    <a:pt x="14630" y="3810"/>
                    <a:pt x="14486" y="4475"/>
                    <a:pt x="14702" y="4253"/>
                  </a:cubicBezTo>
                  <a:cubicBezTo>
                    <a:pt x="14774" y="4142"/>
                    <a:pt x="14774" y="4142"/>
                    <a:pt x="14918" y="4142"/>
                  </a:cubicBezTo>
                  <a:cubicBezTo>
                    <a:pt x="14990" y="4142"/>
                    <a:pt x="15134" y="4364"/>
                    <a:pt x="15206" y="4253"/>
                  </a:cubicBezTo>
                  <a:cubicBezTo>
                    <a:pt x="15494" y="3921"/>
                    <a:pt x="15710" y="4142"/>
                    <a:pt x="15926" y="4585"/>
                  </a:cubicBezTo>
                  <a:cubicBezTo>
                    <a:pt x="15998" y="4696"/>
                    <a:pt x="16142" y="4918"/>
                    <a:pt x="16070" y="5028"/>
                  </a:cubicBezTo>
                  <a:cubicBezTo>
                    <a:pt x="16070" y="5028"/>
                    <a:pt x="15782" y="4918"/>
                    <a:pt x="15710" y="4918"/>
                  </a:cubicBezTo>
                  <a:cubicBezTo>
                    <a:pt x="15494" y="5028"/>
                    <a:pt x="15206" y="5028"/>
                    <a:pt x="14990" y="5139"/>
                  </a:cubicBezTo>
                  <a:cubicBezTo>
                    <a:pt x="14774" y="5250"/>
                    <a:pt x="14774" y="5915"/>
                    <a:pt x="14486" y="5915"/>
                  </a:cubicBezTo>
                  <a:cubicBezTo>
                    <a:pt x="14342" y="5915"/>
                    <a:pt x="14198" y="5804"/>
                    <a:pt x="14126" y="6025"/>
                  </a:cubicBezTo>
                  <a:cubicBezTo>
                    <a:pt x="14054" y="6136"/>
                    <a:pt x="13910" y="6358"/>
                    <a:pt x="13766" y="6358"/>
                  </a:cubicBezTo>
                  <a:cubicBezTo>
                    <a:pt x="13550" y="6247"/>
                    <a:pt x="13118" y="5804"/>
                    <a:pt x="13046" y="6468"/>
                  </a:cubicBezTo>
                  <a:cubicBezTo>
                    <a:pt x="13046" y="6690"/>
                    <a:pt x="13190" y="6801"/>
                    <a:pt x="13190" y="6911"/>
                  </a:cubicBezTo>
                  <a:cubicBezTo>
                    <a:pt x="13190" y="7133"/>
                    <a:pt x="12974" y="7133"/>
                    <a:pt x="12902" y="7244"/>
                  </a:cubicBezTo>
                  <a:cubicBezTo>
                    <a:pt x="12686" y="7576"/>
                    <a:pt x="12614" y="7908"/>
                    <a:pt x="12326" y="7908"/>
                  </a:cubicBezTo>
                  <a:cubicBezTo>
                    <a:pt x="11966" y="7908"/>
                    <a:pt x="11606" y="7908"/>
                    <a:pt x="11246" y="8019"/>
                  </a:cubicBezTo>
                  <a:cubicBezTo>
                    <a:pt x="11102" y="8130"/>
                    <a:pt x="10814" y="8573"/>
                    <a:pt x="10742" y="8462"/>
                  </a:cubicBezTo>
                  <a:cubicBezTo>
                    <a:pt x="10598" y="8462"/>
                    <a:pt x="10526" y="8241"/>
                    <a:pt x="10454" y="8241"/>
                  </a:cubicBezTo>
                  <a:cubicBezTo>
                    <a:pt x="10310" y="8241"/>
                    <a:pt x="10238" y="8241"/>
                    <a:pt x="10094" y="8241"/>
                  </a:cubicBezTo>
                  <a:cubicBezTo>
                    <a:pt x="9950" y="8130"/>
                    <a:pt x="9806" y="8130"/>
                    <a:pt x="9662" y="7908"/>
                  </a:cubicBezTo>
                  <a:cubicBezTo>
                    <a:pt x="9518" y="7798"/>
                    <a:pt x="9446" y="7798"/>
                    <a:pt x="9374" y="7687"/>
                  </a:cubicBezTo>
                  <a:cubicBezTo>
                    <a:pt x="9086" y="7687"/>
                    <a:pt x="8942" y="7687"/>
                    <a:pt x="8654" y="7687"/>
                  </a:cubicBezTo>
                  <a:cubicBezTo>
                    <a:pt x="8438" y="7687"/>
                    <a:pt x="8078" y="7798"/>
                    <a:pt x="7790" y="7687"/>
                  </a:cubicBezTo>
                  <a:cubicBezTo>
                    <a:pt x="7718" y="7687"/>
                    <a:pt x="7646" y="7465"/>
                    <a:pt x="7646" y="7355"/>
                  </a:cubicBezTo>
                  <a:cubicBezTo>
                    <a:pt x="7502" y="7133"/>
                    <a:pt x="7430" y="6911"/>
                    <a:pt x="7286" y="6690"/>
                  </a:cubicBezTo>
                  <a:cubicBezTo>
                    <a:pt x="7070" y="6468"/>
                    <a:pt x="6926" y="6136"/>
                    <a:pt x="6710" y="6136"/>
                  </a:cubicBezTo>
                  <a:cubicBezTo>
                    <a:pt x="6566" y="6136"/>
                    <a:pt x="5774" y="6136"/>
                    <a:pt x="5918" y="5693"/>
                  </a:cubicBezTo>
                  <a:cubicBezTo>
                    <a:pt x="6062" y="5250"/>
                    <a:pt x="5990" y="4475"/>
                    <a:pt x="5630" y="4142"/>
                  </a:cubicBezTo>
                  <a:cubicBezTo>
                    <a:pt x="5342" y="3810"/>
                    <a:pt x="4982" y="3810"/>
                    <a:pt x="4910" y="3145"/>
                  </a:cubicBezTo>
                  <a:cubicBezTo>
                    <a:pt x="4838" y="3256"/>
                    <a:pt x="4766" y="3145"/>
                    <a:pt x="4694" y="3256"/>
                  </a:cubicBezTo>
                  <a:cubicBezTo>
                    <a:pt x="4622" y="3367"/>
                    <a:pt x="4622" y="3367"/>
                    <a:pt x="4622" y="3478"/>
                  </a:cubicBezTo>
                  <a:cubicBezTo>
                    <a:pt x="4478" y="3810"/>
                    <a:pt x="4262" y="3699"/>
                    <a:pt x="4190" y="4031"/>
                  </a:cubicBezTo>
                  <a:cubicBezTo>
                    <a:pt x="4190" y="4253"/>
                    <a:pt x="4334" y="4475"/>
                    <a:pt x="4262" y="4585"/>
                  </a:cubicBezTo>
                  <a:cubicBezTo>
                    <a:pt x="4190" y="4696"/>
                    <a:pt x="4046" y="4807"/>
                    <a:pt x="3974" y="4807"/>
                  </a:cubicBezTo>
                  <a:cubicBezTo>
                    <a:pt x="3902" y="4918"/>
                    <a:pt x="3830" y="4696"/>
                    <a:pt x="3758" y="4807"/>
                  </a:cubicBezTo>
                  <a:cubicBezTo>
                    <a:pt x="3614" y="4807"/>
                    <a:pt x="3542" y="4696"/>
                    <a:pt x="3398" y="4585"/>
                  </a:cubicBezTo>
                  <a:cubicBezTo>
                    <a:pt x="3326" y="4475"/>
                    <a:pt x="3254" y="5028"/>
                    <a:pt x="3182" y="5139"/>
                  </a:cubicBezTo>
                  <a:cubicBezTo>
                    <a:pt x="3182" y="5250"/>
                    <a:pt x="3110" y="5471"/>
                    <a:pt x="3110" y="5582"/>
                  </a:cubicBezTo>
                  <a:cubicBezTo>
                    <a:pt x="3110" y="5804"/>
                    <a:pt x="3182" y="5804"/>
                    <a:pt x="3182" y="5915"/>
                  </a:cubicBezTo>
                  <a:cubicBezTo>
                    <a:pt x="3182" y="6136"/>
                    <a:pt x="2750" y="5915"/>
                    <a:pt x="2750" y="5915"/>
                  </a:cubicBezTo>
                  <a:cubicBezTo>
                    <a:pt x="2606" y="6025"/>
                    <a:pt x="2318" y="6025"/>
                    <a:pt x="2246" y="6136"/>
                  </a:cubicBezTo>
                  <a:cubicBezTo>
                    <a:pt x="2318" y="6025"/>
                    <a:pt x="2390" y="6801"/>
                    <a:pt x="2390" y="6911"/>
                  </a:cubicBezTo>
                  <a:cubicBezTo>
                    <a:pt x="2462" y="7022"/>
                    <a:pt x="2534" y="7133"/>
                    <a:pt x="2606" y="7244"/>
                  </a:cubicBezTo>
                  <a:cubicBezTo>
                    <a:pt x="2606" y="7355"/>
                    <a:pt x="2390" y="7576"/>
                    <a:pt x="2318" y="7687"/>
                  </a:cubicBezTo>
                  <a:cubicBezTo>
                    <a:pt x="2246" y="7798"/>
                    <a:pt x="2318" y="8130"/>
                    <a:pt x="2246" y="8130"/>
                  </a:cubicBezTo>
                  <a:cubicBezTo>
                    <a:pt x="2174" y="8241"/>
                    <a:pt x="2030" y="8241"/>
                    <a:pt x="1958" y="8351"/>
                  </a:cubicBezTo>
                  <a:cubicBezTo>
                    <a:pt x="1814" y="8462"/>
                    <a:pt x="1742" y="8573"/>
                    <a:pt x="1670" y="8684"/>
                  </a:cubicBezTo>
                  <a:cubicBezTo>
                    <a:pt x="1526" y="8684"/>
                    <a:pt x="1454" y="8684"/>
                    <a:pt x="1310" y="8795"/>
                  </a:cubicBezTo>
                  <a:cubicBezTo>
                    <a:pt x="1166" y="8795"/>
                    <a:pt x="1094" y="8905"/>
                    <a:pt x="1022" y="9127"/>
                  </a:cubicBezTo>
                  <a:cubicBezTo>
                    <a:pt x="1022" y="9127"/>
                    <a:pt x="734" y="9238"/>
                    <a:pt x="734" y="9238"/>
                  </a:cubicBezTo>
                  <a:cubicBezTo>
                    <a:pt x="734" y="9238"/>
                    <a:pt x="734" y="9127"/>
                    <a:pt x="734" y="9127"/>
                  </a:cubicBezTo>
                  <a:cubicBezTo>
                    <a:pt x="662" y="9127"/>
                    <a:pt x="590" y="9127"/>
                    <a:pt x="446" y="9127"/>
                  </a:cubicBezTo>
                  <a:cubicBezTo>
                    <a:pt x="374" y="9127"/>
                    <a:pt x="158" y="9348"/>
                    <a:pt x="158" y="9459"/>
                  </a:cubicBezTo>
                  <a:cubicBezTo>
                    <a:pt x="86" y="9681"/>
                    <a:pt x="14" y="9902"/>
                    <a:pt x="14" y="10013"/>
                  </a:cubicBezTo>
                  <a:cubicBezTo>
                    <a:pt x="-58" y="10235"/>
                    <a:pt x="158" y="10456"/>
                    <a:pt x="230" y="10456"/>
                  </a:cubicBezTo>
                  <a:cubicBezTo>
                    <a:pt x="446" y="10456"/>
                    <a:pt x="374" y="10456"/>
                    <a:pt x="446" y="10788"/>
                  </a:cubicBezTo>
                  <a:cubicBezTo>
                    <a:pt x="446" y="10899"/>
                    <a:pt x="518" y="10899"/>
                    <a:pt x="518" y="11121"/>
                  </a:cubicBezTo>
                  <a:cubicBezTo>
                    <a:pt x="518" y="11121"/>
                    <a:pt x="446" y="11342"/>
                    <a:pt x="446" y="11342"/>
                  </a:cubicBezTo>
                  <a:cubicBezTo>
                    <a:pt x="590" y="11453"/>
                    <a:pt x="662" y="11453"/>
                    <a:pt x="734" y="11564"/>
                  </a:cubicBezTo>
                  <a:cubicBezTo>
                    <a:pt x="878" y="11785"/>
                    <a:pt x="806" y="12007"/>
                    <a:pt x="950" y="12118"/>
                  </a:cubicBezTo>
                  <a:cubicBezTo>
                    <a:pt x="1094" y="12228"/>
                    <a:pt x="1238" y="12339"/>
                    <a:pt x="1382" y="12450"/>
                  </a:cubicBezTo>
                  <a:cubicBezTo>
                    <a:pt x="1454" y="12450"/>
                    <a:pt x="1526" y="12339"/>
                    <a:pt x="1598" y="12228"/>
                  </a:cubicBezTo>
                  <a:cubicBezTo>
                    <a:pt x="1814" y="12007"/>
                    <a:pt x="2174" y="12118"/>
                    <a:pt x="2318" y="12450"/>
                  </a:cubicBezTo>
                  <a:cubicBezTo>
                    <a:pt x="2390" y="12671"/>
                    <a:pt x="2246" y="12782"/>
                    <a:pt x="2174" y="12893"/>
                  </a:cubicBezTo>
                  <a:cubicBezTo>
                    <a:pt x="2102" y="13004"/>
                    <a:pt x="2102" y="13004"/>
                    <a:pt x="2102" y="13115"/>
                  </a:cubicBezTo>
                  <a:cubicBezTo>
                    <a:pt x="2030" y="13336"/>
                    <a:pt x="1958" y="13336"/>
                    <a:pt x="1886" y="13336"/>
                  </a:cubicBezTo>
                  <a:cubicBezTo>
                    <a:pt x="1670" y="13558"/>
                    <a:pt x="2246" y="13890"/>
                    <a:pt x="2030" y="14111"/>
                  </a:cubicBezTo>
                  <a:cubicBezTo>
                    <a:pt x="1958" y="14333"/>
                    <a:pt x="1886" y="14222"/>
                    <a:pt x="1742" y="14222"/>
                  </a:cubicBezTo>
                  <a:cubicBezTo>
                    <a:pt x="1454" y="14111"/>
                    <a:pt x="1814" y="14555"/>
                    <a:pt x="1814" y="14555"/>
                  </a:cubicBezTo>
                  <a:cubicBezTo>
                    <a:pt x="1814" y="14776"/>
                    <a:pt x="1742" y="14887"/>
                    <a:pt x="1886" y="14887"/>
                  </a:cubicBezTo>
                  <a:cubicBezTo>
                    <a:pt x="2030" y="14998"/>
                    <a:pt x="2030" y="15108"/>
                    <a:pt x="2174" y="15219"/>
                  </a:cubicBezTo>
                  <a:cubicBezTo>
                    <a:pt x="2318" y="15219"/>
                    <a:pt x="2390" y="15441"/>
                    <a:pt x="2534" y="15551"/>
                  </a:cubicBezTo>
                  <a:cubicBezTo>
                    <a:pt x="2534" y="15551"/>
                    <a:pt x="2606" y="15662"/>
                    <a:pt x="2678" y="15662"/>
                  </a:cubicBezTo>
                  <a:cubicBezTo>
                    <a:pt x="2750" y="15662"/>
                    <a:pt x="2678" y="15441"/>
                    <a:pt x="2822" y="15441"/>
                  </a:cubicBezTo>
                  <a:cubicBezTo>
                    <a:pt x="3110" y="15441"/>
                    <a:pt x="3254" y="16216"/>
                    <a:pt x="3542" y="16216"/>
                  </a:cubicBezTo>
                  <a:cubicBezTo>
                    <a:pt x="3686" y="16216"/>
                    <a:pt x="3686" y="16548"/>
                    <a:pt x="3830" y="16548"/>
                  </a:cubicBezTo>
                  <a:cubicBezTo>
                    <a:pt x="3974" y="16659"/>
                    <a:pt x="4046" y="16881"/>
                    <a:pt x="4118" y="16881"/>
                  </a:cubicBezTo>
                  <a:cubicBezTo>
                    <a:pt x="4262" y="16659"/>
                    <a:pt x="4262" y="16991"/>
                    <a:pt x="4406" y="16991"/>
                  </a:cubicBezTo>
                  <a:cubicBezTo>
                    <a:pt x="4478" y="16991"/>
                    <a:pt x="4478" y="16881"/>
                    <a:pt x="4550" y="16881"/>
                  </a:cubicBezTo>
                  <a:cubicBezTo>
                    <a:pt x="4622" y="16881"/>
                    <a:pt x="4622" y="16991"/>
                    <a:pt x="4694" y="17102"/>
                  </a:cubicBezTo>
                  <a:cubicBezTo>
                    <a:pt x="4838" y="17102"/>
                    <a:pt x="4982" y="17102"/>
                    <a:pt x="5126" y="16991"/>
                  </a:cubicBezTo>
                  <a:cubicBezTo>
                    <a:pt x="5342" y="16881"/>
                    <a:pt x="5198" y="17102"/>
                    <a:pt x="5270" y="17213"/>
                  </a:cubicBezTo>
                  <a:cubicBezTo>
                    <a:pt x="5270" y="17213"/>
                    <a:pt x="5414" y="16881"/>
                    <a:pt x="5486" y="16881"/>
                  </a:cubicBezTo>
                  <a:cubicBezTo>
                    <a:pt x="5558" y="16770"/>
                    <a:pt x="5702" y="16770"/>
                    <a:pt x="5774" y="16881"/>
                  </a:cubicBezTo>
                  <a:cubicBezTo>
                    <a:pt x="5918" y="17102"/>
                    <a:pt x="6062" y="16881"/>
                    <a:pt x="6206" y="16991"/>
                  </a:cubicBezTo>
                  <a:cubicBezTo>
                    <a:pt x="6350" y="17102"/>
                    <a:pt x="6494" y="16881"/>
                    <a:pt x="6566" y="16659"/>
                  </a:cubicBezTo>
                  <a:cubicBezTo>
                    <a:pt x="6638" y="16659"/>
                    <a:pt x="6638" y="16548"/>
                    <a:pt x="6710" y="16548"/>
                  </a:cubicBezTo>
                  <a:cubicBezTo>
                    <a:pt x="6782" y="16438"/>
                    <a:pt x="6854" y="16548"/>
                    <a:pt x="6926" y="16438"/>
                  </a:cubicBezTo>
                  <a:cubicBezTo>
                    <a:pt x="6998" y="16327"/>
                    <a:pt x="7070" y="16105"/>
                    <a:pt x="7214" y="16216"/>
                  </a:cubicBezTo>
                  <a:cubicBezTo>
                    <a:pt x="7358" y="16327"/>
                    <a:pt x="7358" y="16327"/>
                    <a:pt x="7574" y="16105"/>
                  </a:cubicBezTo>
                  <a:cubicBezTo>
                    <a:pt x="7646" y="15995"/>
                    <a:pt x="7790" y="16327"/>
                    <a:pt x="7790" y="16438"/>
                  </a:cubicBezTo>
                  <a:cubicBezTo>
                    <a:pt x="7718" y="16659"/>
                    <a:pt x="7574" y="16770"/>
                    <a:pt x="7718" y="16770"/>
                  </a:cubicBezTo>
                  <a:cubicBezTo>
                    <a:pt x="7934" y="16770"/>
                    <a:pt x="7934" y="16770"/>
                    <a:pt x="8150" y="16659"/>
                  </a:cubicBezTo>
                  <a:cubicBezTo>
                    <a:pt x="8222" y="16659"/>
                    <a:pt x="8294" y="16991"/>
                    <a:pt x="8294" y="17102"/>
                  </a:cubicBezTo>
                  <a:cubicBezTo>
                    <a:pt x="8294" y="17102"/>
                    <a:pt x="8294" y="17324"/>
                    <a:pt x="8366" y="17213"/>
                  </a:cubicBezTo>
                  <a:cubicBezTo>
                    <a:pt x="8366" y="17213"/>
                    <a:pt x="8510" y="17213"/>
                    <a:pt x="8510" y="17324"/>
                  </a:cubicBezTo>
                  <a:cubicBezTo>
                    <a:pt x="8510" y="17435"/>
                    <a:pt x="8366" y="17545"/>
                    <a:pt x="8438" y="17656"/>
                  </a:cubicBezTo>
                  <a:cubicBezTo>
                    <a:pt x="8510" y="17878"/>
                    <a:pt x="8438" y="18210"/>
                    <a:pt x="8366" y="18321"/>
                  </a:cubicBezTo>
                  <a:cubicBezTo>
                    <a:pt x="8294" y="18542"/>
                    <a:pt x="8150" y="18653"/>
                    <a:pt x="8078" y="18764"/>
                  </a:cubicBezTo>
                  <a:cubicBezTo>
                    <a:pt x="8078" y="18875"/>
                    <a:pt x="8078" y="19428"/>
                    <a:pt x="8006" y="19318"/>
                  </a:cubicBezTo>
                  <a:cubicBezTo>
                    <a:pt x="8078" y="19428"/>
                    <a:pt x="8510" y="19096"/>
                    <a:pt x="8582" y="19318"/>
                  </a:cubicBezTo>
                  <a:cubicBezTo>
                    <a:pt x="8582" y="19318"/>
                    <a:pt x="8438" y="19428"/>
                    <a:pt x="8510" y="19650"/>
                  </a:cubicBezTo>
                  <a:cubicBezTo>
                    <a:pt x="8582" y="19871"/>
                    <a:pt x="8798" y="19871"/>
                    <a:pt x="8726" y="19982"/>
                  </a:cubicBezTo>
                  <a:cubicBezTo>
                    <a:pt x="8726" y="20093"/>
                    <a:pt x="8654" y="20315"/>
                    <a:pt x="8654" y="20425"/>
                  </a:cubicBezTo>
                  <a:cubicBezTo>
                    <a:pt x="8726" y="20536"/>
                    <a:pt x="8942" y="20425"/>
                    <a:pt x="8942" y="20536"/>
                  </a:cubicBezTo>
                  <a:cubicBezTo>
                    <a:pt x="8942" y="20536"/>
                    <a:pt x="8942" y="20647"/>
                    <a:pt x="8942" y="20647"/>
                  </a:cubicBezTo>
                  <a:cubicBezTo>
                    <a:pt x="8942" y="20868"/>
                    <a:pt x="9014" y="20758"/>
                    <a:pt x="9086" y="20758"/>
                  </a:cubicBezTo>
                  <a:cubicBezTo>
                    <a:pt x="9158" y="20758"/>
                    <a:pt x="9230" y="20647"/>
                    <a:pt x="9302" y="20758"/>
                  </a:cubicBezTo>
                  <a:cubicBezTo>
                    <a:pt x="9374" y="20758"/>
                    <a:pt x="9446" y="20868"/>
                    <a:pt x="9518" y="20979"/>
                  </a:cubicBezTo>
                  <a:cubicBezTo>
                    <a:pt x="9662" y="21090"/>
                    <a:pt x="9590" y="20647"/>
                    <a:pt x="9590" y="20536"/>
                  </a:cubicBezTo>
                  <a:cubicBezTo>
                    <a:pt x="9446" y="20093"/>
                    <a:pt x="9590" y="20315"/>
                    <a:pt x="9734" y="20093"/>
                  </a:cubicBezTo>
                  <a:cubicBezTo>
                    <a:pt x="9878" y="19982"/>
                    <a:pt x="9806" y="20093"/>
                    <a:pt x="9950" y="20204"/>
                  </a:cubicBezTo>
                  <a:cubicBezTo>
                    <a:pt x="9950" y="20204"/>
                    <a:pt x="10094" y="20093"/>
                    <a:pt x="10094" y="20093"/>
                  </a:cubicBezTo>
                  <a:cubicBezTo>
                    <a:pt x="10094" y="20204"/>
                    <a:pt x="10238" y="19982"/>
                    <a:pt x="10238" y="20093"/>
                  </a:cubicBezTo>
                  <a:cubicBezTo>
                    <a:pt x="10310" y="20204"/>
                    <a:pt x="10310" y="20315"/>
                    <a:pt x="10454" y="20093"/>
                  </a:cubicBezTo>
                  <a:cubicBezTo>
                    <a:pt x="10526" y="19982"/>
                    <a:pt x="10526" y="20093"/>
                    <a:pt x="10598" y="19982"/>
                  </a:cubicBezTo>
                  <a:cubicBezTo>
                    <a:pt x="10670" y="19871"/>
                    <a:pt x="10670" y="19650"/>
                    <a:pt x="10814" y="19650"/>
                  </a:cubicBezTo>
                  <a:cubicBezTo>
                    <a:pt x="10886" y="19650"/>
                    <a:pt x="10958" y="19871"/>
                    <a:pt x="11102" y="19871"/>
                  </a:cubicBezTo>
                  <a:cubicBezTo>
                    <a:pt x="11102" y="19871"/>
                    <a:pt x="11390" y="19982"/>
                    <a:pt x="11390" y="19982"/>
                  </a:cubicBezTo>
                  <a:cubicBezTo>
                    <a:pt x="11390" y="20093"/>
                    <a:pt x="11246" y="20204"/>
                    <a:pt x="11246" y="20315"/>
                  </a:cubicBezTo>
                  <a:cubicBezTo>
                    <a:pt x="11318" y="20425"/>
                    <a:pt x="11462" y="20536"/>
                    <a:pt x="11534" y="20647"/>
                  </a:cubicBezTo>
                  <a:cubicBezTo>
                    <a:pt x="11678" y="20758"/>
                    <a:pt x="11966" y="20868"/>
                    <a:pt x="12038" y="20536"/>
                  </a:cubicBezTo>
                  <a:cubicBezTo>
                    <a:pt x="12038" y="20536"/>
                    <a:pt x="12182" y="20758"/>
                    <a:pt x="12182" y="20758"/>
                  </a:cubicBezTo>
                  <a:cubicBezTo>
                    <a:pt x="12254" y="20868"/>
                    <a:pt x="12326" y="20647"/>
                    <a:pt x="12470" y="20758"/>
                  </a:cubicBezTo>
                  <a:cubicBezTo>
                    <a:pt x="12542" y="20868"/>
                    <a:pt x="12398" y="20979"/>
                    <a:pt x="12398" y="21090"/>
                  </a:cubicBezTo>
                  <a:cubicBezTo>
                    <a:pt x="12398" y="21201"/>
                    <a:pt x="12542" y="21422"/>
                    <a:pt x="12542" y="21533"/>
                  </a:cubicBezTo>
                  <a:cubicBezTo>
                    <a:pt x="12614" y="21533"/>
                    <a:pt x="12686" y="21422"/>
                    <a:pt x="12758" y="21422"/>
                  </a:cubicBezTo>
                  <a:cubicBezTo>
                    <a:pt x="12758" y="21311"/>
                    <a:pt x="12542" y="21201"/>
                    <a:pt x="12614" y="21090"/>
                  </a:cubicBezTo>
                  <a:cubicBezTo>
                    <a:pt x="12758" y="20758"/>
                    <a:pt x="12902" y="20758"/>
                    <a:pt x="13118" y="20647"/>
                  </a:cubicBezTo>
                  <a:cubicBezTo>
                    <a:pt x="13262" y="20536"/>
                    <a:pt x="13406" y="20536"/>
                    <a:pt x="13550" y="20536"/>
                  </a:cubicBezTo>
                  <a:cubicBezTo>
                    <a:pt x="13622" y="20536"/>
                    <a:pt x="13622" y="20315"/>
                    <a:pt x="13694" y="20315"/>
                  </a:cubicBezTo>
                  <a:cubicBezTo>
                    <a:pt x="13838" y="20315"/>
                    <a:pt x="13766" y="20204"/>
                    <a:pt x="13766" y="20093"/>
                  </a:cubicBezTo>
                  <a:cubicBezTo>
                    <a:pt x="13766" y="20204"/>
                    <a:pt x="14054" y="20093"/>
                    <a:pt x="14054" y="20093"/>
                  </a:cubicBezTo>
                  <a:cubicBezTo>
                    <a:pt x="14198" y="19982"/>
                    <a:pt x="14342" y="20093"/>
                    <a:pt x="14486" y="20093"/>
                  </a:cubicBezTo>
                  <a:cubicBezTo>
                    <a:pt x="14630" y="20093"/>
                    <a:pt x="14702" y="19982"/>
                    <a:pt x="14846" y="19871"/>
                  </a:cubicBezTo>
                  <a:cubicBezTo>
                    <a:pt x="14918" y="19871"/>
                    <a:pt x="14918" y="19539"/>
                    <a:pt x="14990" y="19539"/>
                  </a:cubicBezTo>
                  <a:cubicBezTo>
                    <a:pt x="15134" y="19539"/>
                    <a:pt x="15206" y="19428"/>
                    <a:pt x="15278" y="19318"/>
                  </a:cubicBezTo>
                  <a:cubicBezTo>
                    <a:pt x="15350" y="19318"/>
                    <a:pt x="15422" y="19207"/>
                    <a:pt x="15422" y="19096"/>
                  </a:cubicBezTo>
                  <a:cubicBezTo>
                    <a:pt x="15350" y="19096"/>
                    <a:pt x="15638" y="18985"/>
                    <a:pt x="15638" y="18985"/>
                  </a:cubicBezTo>
                  <a:cubicBezTo>
                    <a:pt x="15710" y="18875"/>
                    <a:pt x="15782" y="18653"/>
                    <a:pt x="15854" y="18542"/>
                  </a:cubicBezTo>
                  <a:cubicBezTo>
                    <a:pt x="15926" y="18431"/>
                    <a:pt x="15926" y="18431"/>
                    <a:pt x="15926" y="18321"/>
                  </a:cubicBezTo>
                  <a:cubicBezTo>
                    <a:pt x="15998" y="18099"/>
                    <a:pt x="15854" y="18210"/>
                    <a:pt x="15854" y="18099"/>
                  </a:cubicBezTo>
                  <a:cubicBezTo>
                    <a:pt x="15854" y="18099"/>
                    <a:pt x="16214" y="18099"/>
                    <a:pt x="15998" y="17878"/>
                  </a:cubicBezTo>
                  <a:cubicBezTo>
                    <a:pt x="15926" y="17767"/>
                    <a:pt x="15998" y="17767"/>
                    <a:pt x="16070" y="17767"/>
                  </a:cubicBezTo>
                  <a:cubicBezTo>
                    <a:pt x="16142" y="17767"/>
                    <a:pt x="16142" y="17656"/>
                    <a:pt x="16214" y="17545"/>
                  </a:cubicBezTo>
                  <a:cubicBezTo>
                    <a:pt x="16286" y="17435"/>
                    <a:pt x="16286" y="17324"/>
                    <a:pt x="16358" y="17213"/>
                  </a:cubicBezTo>
                  <a:cubicBezTo>
                    <a:pt x="16358" y="17213"/>
                    <a:pt x="16358" y="16991"/>
                    <a:pt x="16358" y="16991"/>
                  </a:cubicBezTo>
                  <a:cubicBezTo>
                    <a:pt x="16430" y="16881"/>
                    <a:pt x="16502" y="16881"/>
                    <a:pt x="16574" y="16770"/>
                  </a:cubicBezTo>
                  <a:cubicBezTo>
                    <a:pt x="16646" y="16659"/>
                    <a:pt x="16574" y="16548"/>
                    <a:pt x="16574" y="16548"/>
                  </a:cubicBezTo>
                  <a:cubicBezTo>
                    <a:pt x="16574" y="16438"/>
                    <a:pt x="16646" y="16438"/>
                    <a:pt x="16646" y="16438"/>
                  </a:cubicBezTo>
                  <a:cubicBezTo>
                    <a:pt x="16718" y="16438"/>
                    <a:pt x="16646" y="16216"/>
                    <a:pt x="16646" y="16216"/>
                  </a:cubicBezTo>
                  <a:cubicBezTo>
                    <a:pt x="16646" y="16216"/>
                    <a:pt x="16790" y="16327"/>
                    <a:pt x="16790" y="16216"/>
                  </a:cubicBezTo>
                  <a:cubicBezTo>
                    <a:pt x="16934" y="16105"/>
                    <a:pt x="16790" y="16105"/>
                    <a:pt x="16718" y="15995"/>
                  </a:cubicBezTo>
                  <a:cubicBezTo>
                    <a:pt x="16718" y="15995"/>
                    <a:pt x="16934" y="15773"/>
                    <a:pt x="16934" y="15773"/>
                  </a:cubicBezTo>
                  <a:cubicBezTo>
                    <a:pt x="16862" y="15995"/>
                    <a:pt x="16646" y="15662"/>
                    <a:pt x="16574" y="15551"/>
                  </a:cubicBezTo>
                  <a:cubicBezTo>
                    <a:pt x="16574" y="15551"/>
                    <a:pt x="16502" y="15662"/>
                    <a:pt x="16430" y="15662"/>
                  </a:cubicBezTo>
                  <a:cubicBezTo>
                    <a:pt x="16358" y="15773"/>
                    <a:pt x="16286" y="15551"/>
                    <a:pt x="16214" y="15662"/>
                  </a:cubicBezTo>
                  <a:cubicBezTo>
                    <a:pt x="16358" y="15551"/>
                    <a:pt x="16502" y="15441"/>
                    <a:pt x="16574" y="15330"/>
                  </a:cubicBezTo>
                  <a:cubicBezTo>
                    <a:pt x="16646" y="15219"/>
                    <a:pt x="16862" y="15219"/>
                    <a:pt x="16718" y="14998"/>
                  </a:cubicBezTo>
                  <a:cubicBezTo>
                    <a:pt x="16574" y="14887"/>
                    <a:pt x="16502" y="14776"/>
                    <a:pt x="16358" y="14555"/>
                  </a:cubicBezTo>
                  <a:cubicBezTo>
                    <a:pt x="16358" y="14444"/>
                    <a:pt x="15998" y="14665"/>
                    <a:pt x="15998" y="14333"/>
                  </a:cubicBezTo>
                  <a:cubicBezTo>
                    <a:pt x="15998" y="14555"/>
                    <a:pt x="16358" y="14555"/>
                    <a:pt x="16430" y="14555"/>
                  </a:cubicBezTo>
                  <a:cubicBezTo>
                    <a:pt x="16502" y="14555"/>
                    <a:pt x="16718" y="14887"/>
                    <a:pt x="16790" y="14665"/>
                  </a:cubicBezTo>
                  <a:cubicBezTo>
                    <a:pt x="16862" y="14444"/>
                    <a:pt x="16430" y="14222"/>
                    <a:pt x="16430" y="14001"/>
                  </a:cubicBezTo>
                  <a:cubicBezTo>
                    <a:pt x="16358" y="13779"/>
                    <a:pt x="16358" y="13336"/>
                    <a:pt x="16214" y="13225"/>
                  </a:cubicBezTo>
                  <a:cubicBezTo>
                    <a:pt x="16142" y="13004"/>
                    <a:pt x="15710" y="13004"/>
                    <a:pt x="15854" y="12671"/>
                  </a:cubicBezTo>
                  <a:cubicBezTo>
                    <a:pt x="15926" y="12450"/>
                    <a:pt x="15998" y="12339"/>
                    <a:pt x="16070" y="12228"/>
                  </a:cubicBezTo>
                  <a:cubicBezTo>
                    <a:pt x="16214" y="12007"/>
                    <a:pt x="16070" y="12118"/>
                    <a:pt x="16142" y="12007"/>
                  </a:cubicBezTo>
                  <a:cubicBezTo>
                    <a:pt x="16142" y="11896"/>
                    <a:pt x="16358" y="12007"/>
                    <a:pt x="16358" y="12007"/>
                  </a:cubicBezTo>
                  <a:cubicBezTo>
                    <a:pt x="16430" y="11896"/>
                    <a:pt x="16286" y="11785"/>
                    <a:pt x="16430" y="11675"/>
                  </a:cubicBezTo>
                  <a:cubicBezTo>
                    <a:pt x="16574" y="11675"/>
                    <a:pt x="16646" y="11564"/>
                    <a:pt x="16718" y="11453"/>
                  </a:cubicBezTo>
                  <a:cubicBezTo>
                    <a:pt x="16790" y="11453"/>
                    <a:pt x="16862" y="11453"/>
                    <a:pt x="16862" y="11453"/>
                  </a:cubicBezTo>
                  <a:cubicBezTo>
                    <a:pt x="16934" y="11453"/>
                    <a:pt x="16862" y="11564"/>
                    <a:pt x="16934" y="11564"/>
                  </a:cubicBezTo>
                  <a:cubicBezTo>
                    <a:pt x="17006" y="11675"/>
                    <a:pt x="17078" y="11342"/>
                    <a:pt x="17078" y="11231"/>
                  </a:cubicBezTo>
                  <a:cubicBezTo>
                    <a:pt x="16934" y="11010"/>
                    <a:pt x="16790" y="11121"/>
                    <a:pt x="16718" y="11121"/>
                  </a:cubicBezTo>
                  <a:cubicBezTo>
                    <a:pt x="16574" y="11121"/>
                    <a:pt x="16502" y="10899"/>
                    <a:pt x="16358" y="11010"/>
                  </a:cubicBezTo>
                  <a:cubicBezTo>
                    <a:pt x="16286" y="11010"/>
                    <a:pt x="16214" y="11231"/>
                    <a:pt x="16070" y="11231"/>
                  </a:cubicBezTo>
                  <a:cubicBezTo>
                    <a:pt x="15998" y="11342"/>
                    <a:pt x="15854" y="11342"/>
                    <a:pt x="15782" y="11231"/>
                  </a:cubicBezTo>
                  <a:cubicBezTo>
                    <a:pt x="15710" y="11121"/>
                    <a:pt x="15854" y="10899"/>
                    <a:pt x="15782" y="10788"/>
                  </a:cubicBezTo>
                  <a:cubicBezTo>
                    <a:pt x="15638" y="10678"/>
                    <a:pt x="15062" y="10678"/>
                    <a:pt x="15278" y="10124"/>
                  </a:cubicBezTo>
                  <a:cubicBezTo>
                    <a:pt x="15350" y="10013"/>
                    <a:pt x="15422" y="10124"/>
                    <a:pt x="15566" y="10124"/>
                  </a:cubicBezTo>
                  <a:cubicBezTo>
                    <a:pt x="15638" y="10124"/>
                    <a:pt x="15782" y="10013"/>
                    <a:pt x="15854" y="9902"/>
                  </a:cubicBezTo>
                  <a:cubicBezTo>
                    <a:pt x="15998" y="9570"/>
                    <a:pt x="16214" y="9348"/>
                    <a:pt x="16430" y="9127"/>
                  </a:cubicBezTo>
                  <a:cubicBezTo>
                    <a:pt x="16502" y="8905"/>
                    <a:pt x="16574" y="8905"/>
                    <a:pt x="16718" y="8905"/>
                  </a:cubicBezTo>
                  <a:cubicBezTo>
                    <a:pt x="16718" y="9016"/>
                    <a:pt x="16934" y="9016"/>
                    <a:pt x="16934" y="9127"/>
                  </a:cubicBezTo>
                  <a:cubicBezTo>
                    <a:pt x="16862" y="9238"/>
                    <a:pt x="16862" y="9459"/>
                    <a:pt x="16790" y="9570"/>
                  </a:cubicBezTo>
                  <a:cubicBezTo>
                    <a:pt x="16718" y="9570"/>
                    <a:pt x="16574" y="9681"/>
                    <a:pt x="16574" y="9791"/>
                  </a:cubicBezTo>
                  <a:cubicBezTo>
                    <a:pt x="16574" y="9902"/>
                    <a:pt x="16790" y="9902"/>
                    <a:pt x="16790" y="9902"/>
                  </a:cubicBezTo>
                  <a:cubicBezTo>
                    <a:pt x="16790" y="9902"/>
                    <a:pt x="16502" y="10235"/>
                    <a:pt x="16574" y="10235"/>
                  </a:cubicBezTo>
                  <a:cubicBezTo>
                    <a:pt x="16646" y="10345"/>
                    <a:pt x="17006" y="9791"/>
                    <a:pt x="17078" y="9791"/>
                  </a:cubicBezTo>
                  <a:cubicBezTo>
                    <a:pt x="17222" y="9681"/>
                    <a:pt x="17366" y="9570"/>
                    <a:pt x="17510" y="9570"/>
                  </a:cubicBezTo>
                  <a:cubicBezTo>
                    <a:pt x="17654" y="9570"/>
                    <a:pt x="17654" y="9570"/>
                    <a:pt x="17726" y="9348"/>
                  </a:cubicBezTo>
                  <a:cubicBezTo>
                    <a:pt x="17870" y="9238"/>
                    <a:pt x="18086" y="9127"/>
                    <a:pt x="18230" y="8905"/>
                  </a:cubicBezTo>
                  <a:cubicBezTo>
                    <a:pt x="18302" y="8795"/>
                    <a:pt x="18446" y="8462"/>
                    <a:pt x="18590" y="8462"/>
                  </a:cubicBezTo>
                  <a:cubicBezTo>
                    <a:pt x="18662" y="8351"/>
                    <a:pt x="19094" y="8795"/>
                    <a:pt x="19094" y="8462"/>
                  </a:cubicBezTo>
                  <a:cubicBezTo>
                    <a:pt x="19094" y="8351"/>
                    <a:pt x="19022" y="8241"/>
                    <a:pt x="19094" y="8130"/>
                  </a:cubicBezTo>
                  <a:cubicBezTo>
                    <a:pt x="19166" y="8130"/>
                    <a:pt x="19238" y="8130"/>
                    <a:pt x="19310" y="8130"/>
                  </a:cubicBezTo>
                  <a:cubicBezTo>
                    <a:pt x="19454" y="8130"/>
                    <a:pt x="19382" y="8019"/>
                    <a:pt x="19454" y="7908"/>
                  </a:cubicBezTo>
                  <a:cubicBezTo>
                    <a:pt x="19598" y="7798"/>
                    <a:pt x="19670" y="7908"/>
                    <a:pt x="19670" y="7687"/>
                  </a:cubicBezTo>
                  <a:cubicBezTo>
                    <a:pt x="19670" y="7355"/>
                    <a:pt x="19886" y="7687"/>
                    <a:pt x="19958" y="7798"/>
                  </a:cubicBezTo>
                  <a:cubicBezTo>
                    <a:pt x="19958" y="7576"/>
                    <a:pt x="20174" y="7576"/>
                    <a:pt x="20174" y="7355"/>
                  </a:cubicBezTo>
                  <a:cubicBezTo>
                    <a:pt x="20174" y="7133"/>
                    <a:pt x="20246" y="6801"/>
                    <a:pt x="20174" y="6579"/>
                  </a:cubicBezTo>
                  <a:cubicBezTo>
                    <a:pt x="20030" y="6247"/>
                    <a:pt x="20102" y="6358"/>
                    <a:pt x="20246" y="6136"/>
                  </a:cubicBezTo>
                  <a:cubicBezTo>
                    <a:pt x="20390" y="6025"/>
                    <a:pt x="20462" y="5915"/>
                    <a:pt x="20606" y="6025"/>
                  </a:cubicBezTo>
                  <a:cubicBezTo>
                    <a:pt x="20822" y="6136"/>
                    <a:pt x="20822" y="6136"/>
                    <a:pt x="20894" y="5804"/>
                  </a:cubicBezTo>
                  <a:cubicBezTo>
                    <a:pt x="20966" y="5582"/>
                    <a:pt x="21110" y="5471"/>
                    <a:pt x="21182" y="5139"/>
                  </a:cubicBezTo>
                  <a:cubicBezTo>
                    <a:pt x="21182" y="4918"/>
                    <a:pt x="21254" y="4696"/>
                    <a:pt x="21398" y="4475"/>
                  </a:cubicBezTo>
                  <a:cubicBezTo>
                    <a:pt x="21542" y="4253"/>
                    <a:pt x="21398" y="4253"/>
                    <a:pt x="21398" y="4031"/>
                  </a:cubicBezTo>
                  <a:close/>
                </a:path>
              </a:pathLst>
            </a:custGeom>
            <a:solidFill>
              <a:srgbClr val="060ac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1" name="Shape 1355"/>
            <p:cNvSpPr/>
            <p:nvPr/>
          </p:nvSpPr>
          <p:spPr>
            <a:xfrm>
              <a:off x="9980280" y="3157920"/>
              <a:ext cx="611640" cy="263160"/>
            </a:xfrm>
            <a:custGeom>
              <a:avLst/>
              <a:gdLst/>
              <a:ahLst/>
              <a:rect l="l" t="t" r="r" b="b"/>
              <a:pathLst>
                <a:path w="21302" h="21095">
                  <a:moveTo>
                    <a:pt x="0" y="5782"/>
                  </a:moveTo>
                  <a:cubicBezTo>
                    <a:pt x="138" y="7053"/>
                    <a:pt x="413" y="7688"/>
                    <a:pt x="963" y="8006"/>
                  </a:cubicBezTo>
                  <a:cubicBezTo>
                    <a:pt x="1238" y="8323"/>
                    <a:pt x="1376" y="8641"/>
                    <a:pt x="1651" y="8959"/>
                  </a:cubicBezTo>
                  <a:cubicBezTo>
                    <a:pt x="1789" y="9594"/>
                    <a:pt x="1926" y="10547"/>
                    <a:pt x="2064" y="11182"/>
                  </a:cubicBezTo>
                  <a:cubicBezTo>
                    <a:pt x="2201" y="11500"/>
                    <a:pt x="2064" y="11500"/>
                    <a:pt x="2064" y="11818"/>
                  </a:cubicBezTo>
                  <a:cubicBezTo>
                    <a:pt x="1926" y="11818"/>
                    <a:pt x="2064" y="12135"/>
                    <a:pt x="2064" y="12453"/>
                  </a:cubicBezTo>
                  <a:cubicBezTo>
                    <a:pt x="1926" y="13406"/>
                    <a:pt x="1789" y="13406"/>
                    <a:pt x="2201" y="14041"/>
                  </a:cubicBezTo>
                  <a:cubicBezTo>
                    <a:pt x="2752" y="14359"/>
                    <a:pt x="3302" y="14041"/>
                    <a:pt x="3852" y="14676"/>
                  </a:cubicBezTo>
                  <a:cubicBezTo>
                    <a:pt x="4127" y="15312"/>
                    <a:pt x="4678" y="16265"/>
                    <a:pt x="4953" y="16900"/>
                  </a:cubicBezTo>
                  <a:cubicBezTo>
                    <a:pt x="5090" y="17218"/>
                    <a:pt x="5228" y="17853"/>
                    <a:pt x="5366" y="18488"/>
                  </a:cubicBezTo>
                  <a:cubicBezTo>
                    <a:pt x="5503" y="19123"/>
                    <a:pt x="5916" y="18806"/>
                    <a:pt x="6054" y="18806"/>
                  </a:cubicBezTo>
                  <a:cubicBezTo>
                    <a:pt x="6604" y="18806"/>
                    <a:pt x="7154" y="18806"/>
                    <a:pt x="7704" y="18806"/>
                  </a:cubicBezTo>
                  <a:cubicBezTo>
                    <a:pt x="7980" y="18806"/>
                    <a:pt x="8530" y="18806"/>
                    <a:pt x="8805" y="19123"/>
                  </a:cubicBezTo>
                  <a:cubicBezTo>
                    <a:pt x="9080" y="19441"/>
                    <a:pt x="9218" y="20076"/>
                    <a:pt x="9493" y="20076"/>
                  </a:cubicBezTo>
                  <a:cubicBezTo>
                    <a:pt x="9768" y="20394"/>
                    <a:pt x="10181" y="20712"/>
                    <a:pt x="10456" y="20712"/>
                  </a:cubicBezTo>
                  <a:cubicBezTo>
                    <a:pt x="10731" y="20394"/>
                    <a:pt x="11006" y="21347"/>
                    <a:pt x="11144" y="21029"/>
                  </a:cubicBezTo>
                  <a:cubicBezTo>
                    <a:pt x="11694" y="20394"/>
                    <a:pt x="12107" y="19759"/>
                    <a:pt x="12795" y="19441"/>
                  </a:cubicBezTo>
                  <a:cubicBezTo>
                    <a:pt x="13345" y="19441"/>
                    <a:pt x="14171" y="19759"/>
                    <a:pt x="14583" y="19123"/>
                  </a:cubicBezTo>
                  <a:cubicBezTo>
                    <a:pt x="14996" y="18488"/>
                    <a:pt x="15134" y="17535"/>
                    <a:pt x="15546" y="17218"/>
                  </a:cubicBezTo>
                  <a:cubicBezTo>
                    <a:pt x="15959" y="16900"/>
                    <a:pt x="15959" y="16582"/>
                    <a:pt x="15684" y="15947"/>
                  </a:cubicBezTo>
                  <a:cubicBezTo>
                    <a:pt x="15546" y="15629"/>
                    <a:pt x="15546" y="14994"/>
                    <a:pt x="15822" y="14676"/>
                  </a:cubicBezTo>
                  <a:cubicBezTo>
                    <a:pt x="16234" y="13723"/>
                    <a:pt x="16785" y="15629"/>
                    <a:pt x="17335" y="14359"/>
                  </a:cubicBezTo>
                  <a:cubicBezTo>
                    <a:pt x="17473" y="14041"/>
                    <a:pt x="17610" y="13723"/>
                    <a:pt x="17885" y="13723"/>
                  </a:cubicBezTo>
                  <a:cubicBezTo>
                    <a:pt x="18298" y="13406"/>
                    <a:pt x="18436" y="13723"/>
                    <a:pt x="18848" y="13088"/>
                  </a:cubicBezTo>
                  <a:cubicBezTo>
                    <a:pt x="18986" y="12771"/>
                    <a:pt x="18986" y="11818"/>
                    <a:pt x="19124" y="11818"/>
                  </a:cubicBezTo>
                  <a:cubicBezTo>
                    <a:pt x="19399" y="11500"/>
                    <a:pt x="19536" y="11500"/>
                    <a:pt x="19674" y="11500"/>
                  </a:cubicBezTo>
                  <a:cubicBezTo>
                    <a:pt x="20224" y="11182"/>
                    <a:pt x="20637" y="10865"/>
                    <a:pt x="21187" y="11182"/>
                  </a:cubicBezTo>
                  <a:cubicBezTo>
                    <a:pt x="21600" y="11182"/>
                    <a:pt x="20775" y="8959"/>
                    <a:pt x="20637" y="8959"/>
                  </a:cubicBezTo>
                  <a:cubicBezTo>
                    <a:pt x="20499" y="8641"/>
                    <a:pt x="20224" y="8323"/>
                    <a:pt x="19949" y="8641"/>
                  </a:cubicBezTo>
                  <a:cubicBezTo>
                    <a:pt x="19674" y="8641"/>
                    <a:pt x="19674" y="9276"/>
                    <a:pt x="19399" y="8959"/>
                  </a:cubicBezTo>
                  <a:cubicBezTo>
                    <a:pt x="19261" y="8641"/>
                    <a:pt x="18848" y="8323"/>
                    <a:pt x="18711" y="8641"/>
                  </a:cubicBezTo>
                  <a:cubicBezTo>
                    <a:pt x="18573" y="9276"/>
                    <a:pt x="18436" y="8959"/>
                    <a:pt x="18436" y="8323"/>
                  </a:cubicBezTo>
                  <a:cubicBezTo>
                    <a:pt x="18436" y="7688"/>
                    <a:pt x="18848" y="6418"/>
                    <a:pt x="18848" y="5782"/>
                  </a:cubicBezTo>
                  <a:cubicBezTo>
                    <a:pt x="18986" y="5147"/>
                    <a:pt x="19399" y="4194"/>
                    <a:pt x="18848" y="4194"/>
                  </a:cubicBezTo>
                  <a:cubicBezTo>
                    <a:pt x="18436" y="4194"/>
                    <a:pt x="18436" y="4512"/>
                    <a:pt x="18023" y="4194"/>
                  </a:cubicBezTo>
                  <a:cubicBezTo>
                    <a:pt x="17610" y="3876"/>
                    <a:pt x="17473" y="3876"/>
                    <a:pt x="17060" y="4512"/>
                  </a:cubicBezTo>
                  <a:cubicBezTo>
                    <a:pt x="16647" y="5147"/>
                    <a:pt x="16097" y="5465"/>
                    <a:pt x="15684" y="5782"/>
                  </a:cubicBezTo>
                  <a:cubicBezTo>
                    <a:pt x="14996" y="6100"/>
                    <a:pt x="14721" y="5782"/>
                    <a:pt x="14171" y="5782"/>
                  </a:cubicBezTo>
                  <a:cubicBezTo>
                    <a:pt x="13896" y="5465"/>
                    <a:pt x="13758" y="5465"/>
                    <a:pt x="13483" y="5147"/>
                  </a:cubicBezTo>
                  <a:cubicBezTo>
                    <a:pt x="13345" y="5147"/>
                    <a:pt x="13208" y="4512"/>
                    <a:pt x="12932" y="4512"/>
                  </a:cubicBezTo>
                  <a:cubicBezTo>
                    <a:pt x="12382" y="4194"/>
                    <a:pt x="12107" y="3559"/>
                    <a:pt x="11419" y="3241"/>
                  </a:cubicBezTo>
                  <a:cubicBezTo>
                    <a:pt x="11144" y="3241"/>
                    <a:pt x="10869" y="3559"/>
                    <a:pt x="10594" y="3876"/>
                  </a:cubicBezTo>
                  <a:cubicBezTo>
                    <a:pt x="10318" y="4194"/>
                    <a:pt x="10043" y="3876"/>
                    <a:pt x="9768" y="3559"/>
                  </a:cubicBezTo>
                  <a:cubicBezTo>
                    <a:pt x="9493" y="3241"/>
                    <a:pt x="9355" y="3241"/>
                    <a:pt x="9355" y="2288"/>
                  </a:cubicBezTo>
                  <a:cubicBezTo>
                    <a:pt x="9218" y="1653"/>
                    <a:pt x="9218" y="1653"/>
                    <a:pt x="8805" y="1335"/>
                  </a:cubicBezTo>
                  <a:cubicBezTo>
                    <a:pt x="8530" y="1018"/>
                    <a:pt x="8255" y="700"/>
                    <a:pt x="7980" y="700"/>
                  </a:cubicBezTo>
                  <a:cubicBezTo>
                    <a:pt x="7704" y="700"/>
                    <a:pt x="7292" y="-253"/>
                    <a:pt x="7154" y="65"/>
                  </a:cubicBezTo>
                  <a:cubicBezTo>
                    <a:pt x="6879" y="65"/>
                    <a:pt x="6329" y="1335"/>
                    <a:pt x="6191" y="1971"/>
                  </a:cubicBezTo>
                  <a:cubicBezTo>
                    <a:pt x="6191" y="2606"/>
                    <a:pt x="6604" y="3241"/>
                    <a:pt x="6466" y="3876"/>
                  </a:cubicBezTo>
                  <a:cubicBezTo>
                    <a:pt x="6329" y="4512"/>
                    <a:pt x="5916" y="5147"/>
                    <a:pt x="5641" y="4512"/>
                  </a:cubicBezTo>
                  <a:cubicBezTo>
                    <a:pt x="5366" y="4512"/>
                    <a:pt x="5228" y="4194"/>
                    <a:pt x="5090" y="4194"/>
                  </a:cubicBezTo>
                  <a:cubicBezTo>
                    <a:pt x="4953" y="4194"/>
                    <a:pt x="4815" y="4194"/>
                    <a:pt x="4678" y="4194"/>
                  </a:cubicBezTo>
                  <a:cubicBezTo>
                    <a:pt x="4265" y="3876"/>
                    <a:pt x="4265" y="3241"/>
                    <a:pt x="3852" y="2923"/>
                  </a:cubicBezTo>
                  <a:cubicBezTo>
                    <a:pt x="3577" y="2606"/>
                    <a:pt x="3164" y="2288"/>
                    <a:pt x="2889" y="2606"/>
                  </a:cubicBezTo>
                  <a:cubicBezTo>
                    <a:pt x="2476" y="2923"/>
                    <a:pt x="2201" y="3559"/>
                    <a:pt x="1789" y="3876"/>
                  </a:cubicBezTo>
                  <a:cubicBezTo>
                    <a:pt x="1513" y="4194"/>
                    <a:pt x="1238" y="4829"/>
                    <a:pt x="963" y="5147"/>
                  </a:cubicBezTo>
                  <a:cubicBezTo>
                    <a:pt x="550" y="5147"/>
                    <a:pt x="275" y="5782"/>
                    <a:pt x="0" y="578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2" name="Shape 1356"/>
            <p:cNvSpPr/>
            <p:nvPr/>
          </p:nvSpPr>
          <p:spPr>
            <a:xfrm>
              <a:off x="8485920" y="2639880"/>
              <a:ext cx="248040" cy="424080"/>
            </a:xfrm>
            <a:custGeom>
              <a:avLst/>
              <a:gdLst/>
              <a:ahLst/>
              <a:rect l="l" t="t" r="r" b="b"/>
              <a:pathLst>
                <a:path w="21600" h="21440">
                  <a:moveTo>
                    <a:pt x="20914" y="4840"/>
                  </a:moveTo>
                  <a:cubicBezTo>
                    <a:pt x="20571" y="4640"/>
                    <a:pt x="21257" y="4240"/>
                    <a:pt x="20914" y="3840"/>
                  </a:cubicBezTo>
                  <a:cubicBezTo>
                    <a:pt x="20571" y="3440"/>
                    <a:pt x="20914" y="3440"/>
                    <a:pt x="20914" y="3040"/>
                  </a:cubicBezTo>
                  <a:cubicBezTo>
                    <a:pt x="20914" y="2840"/>
                    <a:pt x="20571" y="2640"/>
                    <a:pt x="20571" y="2440"/>
                  </a:cubicBezTo>
                  <a:cubicBezTo>
                    <a:pt x="20229" y="2240"/>
                    <a:pt x="20571" y="2240"/>
                    <a:pt x="20571" y="2040"/>
                  </a:cubicBezTo>
                  <a:cubicBezTo>
                    <a:pt x="20229" y="1640"/>
                    <a:pt x="20229" y="1440"/>
                    <a:pt x="19543" y="1240"/>
                  </a:cubicBezTo>
                  <a:cubicBezTo>
                    <a:pt x="18857" y="1040"/>
                    <a:pt x="18171" y="1040"/>
                    <a:pt x="17486" y="840"/>
                  </a:cubicBezTo>
                  <a:cubicBezTo>
                    <a:pt x="16800" y="440"/>
                    <a:pt x="16114" y="-160"/>
                    <a:pt x="15086" y="40"/>
                  </a:cubicBezTo>
                  <a:cubicBezTo>
                    <a:pt x="14743" y="40"/>
                    <a:pt x="15086" y="640"/>
                    <a:pt x="15086" y="840"/>
                  </a:cubicBezTo>
                  <a:cubicBezTo>
                    <a:pt x="14743" y="1440"/>
                    <a:pt x="12686" y="1040"/>
                    <a:pt x="11657" y="840"/>
                  </a:cubicBezTo>
                  <a:cubicBezTo>
                    <a:pt x="11657" y="1240"/>
                    <a:pt x="11657" y="1440"/>
                    <a:pt x="11657" y="1840"/>
                  </a:cubicBezTo>
                  <a:cubicBezTo>
                    <a:pt x="11314" y="1840"/>
                    <a:pt x="10629" y="1640"/>
                    <a:pt x="9943" y="1840"/>
                  </a:cubicBezTo>
                  <a:cubicBezTo>
                    <a:pt x="9600" y="1840"/>
                    <a:pt x="9600" y="2040"/>
                    <a:pt x="9257" y="2240"/>
                  </a:cubicBezTo>
                  <a:cubicBezTo>
                    <a:pt x="9257" y="2440"/>
                    <a:pt x="8571" y="2640"/>
                    <a:pt x="8571" y="2840"/>
                  </a:cubicBezTo>
                  <a:cubicBezTo>
                    <a:pt x="8229" y="3040"/>
                    <a:pt x="8914" y="3440"/>
                    <a:pt x="8571" y="3440"/>
                  </a:cubicBezTo>
                  <a:cubicBezTo>
                    <a:pt x="8571" y="3640"/>
                    <a:pt x="8229" y="3640"/>
                    <a:pt x="8229" y="3840"/>
                  </a:cubicBezTo>
                  <a:cubicBezTo>
                    <a:pt x="7543" y="4040"/>
                    <a:pt x="6857" y="4440"/>
                    <a:pt x="6857" y="4840"/>
                  </a:cubicBezTo>
                  <a:cubicBezTo>
                    <a:pt x="6857" y="5240"/>
                    <a:pt x="6171" y="4840"/>
                    <a:pt x="5829" y="5240"/>
                  </a:cubicBezTo>
                  <a:cubicBezTo>
                    <a:pt x="5829" y="5640"/>
                    <a:pt x="5829" y="6040"/>
                    <a:pt x="5486" y="6440"/>
                  </a:cubicBezTo>
                  <a:cubicBezTo>
                    <a:pt x="5486" y="6840"/>
                    <a:pt x="4457" y="7040"/>
                    <a:pt x="4457" y="7440"/>
                  </a:cubicBezTo>
                  <a:cubicBezTo>
                    <a:pt x="4457" y="7640"/>
                    <a:pt x="5486" y="8040"/>
                    <a:pt x="5143" y="8240"/>
                  </a:cubicBezTo>
                  <a:cubicBezTo>
                    <a:pt x="4457" y="8640"/>
                    <a:pt x="3771" y="8440"/>
                    <a:pt x="3086" y="8640"/>
                  </a:cubicBezTo>
                  <a:cubicBezTo>
                    <a:pt x="2057" y="8840"/>
                    <a:pt x="1714" y="9440"/>
                    <a:pt x="1714" y="10040"/>
                  </a:cubicBezTo>
                  <a:cubicBezTo>
                    <a:pt x="2057" y="10440"/>
                    <a:pt x="2057" y="10840"/>
                    <a:pt x="2057" y="11240"/>
                  </a:cubicBezTo>
                  <a:cubicBezTo>
                    <a:pt x="2057" y="11840"/>
                    <a:pt x="1371" y="12040"/>
                    <a:pt x="2743" y="12440"/>
                  </a:cubicBezTo>
                  <a:cubicBezTo>
                    <a:pt x="3429" y="12840"/>
                    <a:pt x="3086" y="13040"/>
                    <a:pt x="2400" y="13240"/>
                  </a:cubicBezTo>
                  <a:cubicBezTo>
                    <a:pt x="2057" y="13440"/>
                    <a:pt x="2743" y="14240"/>
                    <a:pt x="2400" y="14640"/>
                  </a:cubicBezTo>
                  <a:cubicBezTo>
                    <a:pt x="2400" y="15040"/>
                    <a:pt x="1371" y="15040"/>
                    <a:pt x="1371" y="15440"/>
                  </a:cubicBezTo>
                  <a:cubicBezTo>
                    <a:pt x="1371" y="15640"/>
                    <a:pt x="1371" y="16440"/>
                    <a:pt x="1029" y="16440"/>
                  </a:cubicBezTo>
                  <a:cubicBezTo>
                    <a:pt x="1029" y="16440"/>
                    <a:pt x="343" y="16240"/>
                    <a:pt x="0" y="16240"/>
                  </a:cubicBezTo>
                  <a:cubicBezTo>
                    <a:pt x="0" y="17040"/>
                    <a:pt x="1371" y="17240"/>
                    <a:pt x="1371" y="17840"/>
                  </a:cubicBezTo>
                  <a:cubicBezTo>
                    <a:pt x="1029" y="18040"/>
                    <a:pt x="2057" y="19040"/>
                    <a:pt x="2400" y="19240"/>
                  </a:cubicBezTo>
                  <a:cubicBezTo>
                    <a:pt x="3086" y="19640"/>
                    <a:pt x="2743" y="19840"/>
                    <a:pt x="2743" y="20240"/>
                  </a:cubicBezTo>
                  <a:cubicBezTo>
                    <a:pt x="2743" y="20440"/>
                    <a:pt x="3429" y="20840"/>
                    <a:pt x="3429" y="21240"/>
                  </a:cubicBezTo>
                  <a:cubicBezTo>
                    <a:pt x="3086" y="21440"/>
                    <a:pt x="4457" y="21240"/>
                    <a:pt x="4800" y="21440"/>
                  </a:cubicBezTo>
                  <a:cubicBezTo>
                    <a:pt x="5486" y="21440"/>
                    <a:pt x="5143" y="21240"/>
                    <a:pt x="5143" y="20840"/>
                  </a:cubicBezTo>
                  <a:cubicBezTo>
                    <a:pt x="5143" y="19840"/>
                    <a:pt x="7886" y="20640"/>
                    <a:pt x="8229" y="20040"/>
                  </a:cubicBezTo>
                  <a:cubicBezTo>
                    <a:pt x="8571" y="19440"/>
                    <a:pt x="8914" y="18840"/>
                    <a:pt x="9257" y="18240"/>
                  </a:cubicBezTo>
                  <a:cubicBezTo>
                    <a:pt x="9257" y="17840"/>
                    <a:pt x="9257" y="17440"/>
                    <a:pt x="8914" y="17240"/>
                  </a:cubicBezTo>
                  <a:cubicBezTo>
                    <a:pt x="8571" y="16840"/>
                    <a:pt x="8914" y="16840"/>
                    <a:pt x="9600" y="16640"/>
                  </a:cubicBezTo>
                  <a:cubicBezTo>
                    <a:pt x="9943" y="16640"/>
                    <a:pt x="10971" y="16440"/>
                    <a:pt x="10971" y="16240"/>
                  </a:cubicBezTo>
                  <a:cubicBezTo>
                    <a:pt x="10971" y="16240"/>
                    <a:pt x="10971" y="16040"/>
                    <a:pt x="10971" y="16040"/>
                  </a:cubicBezTo>
                  <a:cubicBezTo>
                    <a:pt x="11314" y="16040"/>
                    <a:pt x="12000" y="16040"/>
                    <a:pt x="12000" y="15840"/>
                  </a:cubicBezTo>
                  <a:cubicBezTo>
                    <a:pt x="12000" y="15640"/>
                    <a:pt x="11657" y="15640"/>
                    <a:pt x="11657" y="15440"/>
                  </a:cubicBezTo>
                  <a:cubicBezTo>
                    <a:pt x="12000" y="15440"/>
                    <a:pt x="12343" y="15240"/>
                    <a:pt x="12343" y="15240"/>
                  </a:cubicBezTo>
                  <a:cubicBezTo>
                    <a:pt x="13029" y="14840"/>
                    <a:pt x="12686" y="14640"/>
                    <a:pt x="12000" y="14440"/>
                  </a:cubicBezTo>
                  <a:cubicBezTo>
                    <a:pt x="11314" y="14040"/>
                    <a:pt x="9943" y="13840"/>
                    <a:pt x="9943" y="13040"/>
                  </a:cubicBezTo>
                  <a:cubicBezTo>
                    <a:pt x="9943" y="12640"/>
                    <a:pt x="9943" y="12240"/>
                    <a:pt x="10286" y="11840"/>
                  </a:cubicBezTo>
                  <a:cubicBezTo>
                    <a:pt x="10629" y="11440"/>
                    <a:pt x="10629" y="11440"/>
                    <a:pt x="10286" y="11040"/>
                  </a:cubicBezTo>
                  <a:cubicBezTo>
                    <a:pt x="9943" y="11040"/>
                    <a:pt x="11314" y="10440"/>
                    <a:pt x="11314" y="10440"/>
                  </a:cubicBezTo>
                  <a:cubicBezTo>
                    <a:pt x="12000" y="10040"/>
                    <a:pt x="12343" y="9640"/>
                    <a:pt x="13371" y="9440"/>
                  </a:cubicBezTo>
                  <a:cubicBezTo>
                    <a:pt x="14400" y="9240"/>
                    <a:pt x="16114" y="8640"/>
                    <a:pt x="16800" y="8040"/>
                  </a:cubicBezTo>
                  <a:cubicBezTo>
                    <a:pt x="17486" y="7440"/>
                    <a:pt x="15771" y="7040"/>
                    <a:pt x="17143" y="6840"/>
                  </a:cubicBezTo>
                  <a:cubicBezTo>
                    <a:pt x="17829" y="6640"/>
                    <a:pt x="17486" y="6640"/>
                    <a:pt x="17143" y="6240"/>
                  </a:cubicBezTo>
                  <a:cubicBezTo>
                    <a:pt x="17143" y="6040"/>
                    <a:pt x="18171" y="5840"/>
                    <a:pt x="18514" y="5840"/>
                  </a:cubicBezTo>
                  <a:cubicBezTo>
                    <a:pt x="19200" y="5440"/>
                    <a:pt x="19543" y="5240"/>
                    <a:pt x="19886" y="5640"/>
                  </a:cubicBezTo>
                  <a:cubicBezTo>
                    <a:pt x="20229" y="5640"/>
                    <a:pt x="20571" y="5440"/>
                    <a:pt x="20571" y="5440"/>
                  </a:cubicBezTo>
                  <a:cubicBezTo>
                    <a:pt x="20914" y="5440"/>
                    <a:pt x="21257" y="5440"/>
                    <a:pt x="21600" y="5440"/>
                  </a:cubicBezTo>
                  <a:cubicBezTo>
                    <a:pt x="21600" y="5240"/>
                    <a:pt x="21257" y="5240"/>
                    <a:pt x="20914" y="4840"/>
                  </a:cubicBezTo>
                  <a:cubicBezTo>
                    <a:pt x="20571" y="4640"/>
                    <a:pt x="20914" y="5040"/>
                    <a:pt x="20914" y="484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3" name="Shape 1357"/>
            <p:cNvSpPr/>
            <p:nvPr/>
          </p:nvSpPr>
          <p:spPr>
            <a:xfrm>
              <a:off x="8668080" y="2604600"/>
              <a:ext cx="210240" cy="329760"/>
            </a:xfrm>
            <a:custGeom>
              <a:avLst/>
              <a:gdLst/>
              <a:ahLst/>
              <a:rect l="l" t="t" r="r" b="b"/>
              <a:pathLst>
                <a:path w="21315" h="21395">
                  <a:moveTo>
                    <a:pt x="21200" y="15171"/>
                  </a:moveTo>
                  <a:cubicBezTo>
                    <a:pt x="20800" y="14657"/>
                    <a:pt x="19600" y="14400"/>
                    <a:pt x="18800" y="14143"/>
                  </a:cubicBezTo>
                  <a:cubicBezTo>
                    <a:pt x="17600" y="13629"/>
                    <a:pt x="19200" y="13629"/>
                    <a:pt x="19600" y="13114"/>
                  </a:cubicBezTo>
                  <a:cubicBezTo>
                    <a:pt x="19600" y="13114"/>
                    <a:pt x="18000" y="11571"/>
                    <a:pt x="17600" y="11314"/>
                  </a:cubicBezTo>
                  <a:cubicBezTo>
                    <a:pt x="17600" y="11314"/>
                    <a:pt x="18400" y="11057"/>
                    <a:pt x="18400" y="11057"/>
                  </a:cubicBezTo>
                  <a:cubicBezTo>
                    <a:pt x="18400" y="10800"/>
                    <a:pt x="17600" y="10029"/>
                    <a:pt x="17600" y="9771"/>
                  </a:cubicBezTo>
                  <a:cubicBezTo>
                    <a:pt x="17600" y="9514"/>
                    <a:pt x="18000" y="9514"/>
                    <a:pt x="18000" y="9257"/>
                  </a:cubicBezTo>
                  <a:cubicBezTo>
                    <a:pt x="18400" y="9000"/>
                    <a:pt x="17600" y="8486"/>
                    <a:pt x="17600" y="8229"/>
                  </a:cubicBezTo>
                  <a:cubicBezTo>
                    <a:pt x="16800" y="7714"/>
                    <a:pt x="16000" y="7200"/>
                    <a:pt x="16800" y="6686"/>
                  </a:cubicBezTo>
                  <a:cubicBezTo>
                    <a:pt x="17200" y="6429"/>
                    <a:pt x="18000" y="6171"/>
                    <a:pt x="18000" y="5914"/>
                  </a:cubicBezTo>
                  <a:cubicBezTo>
                    <a:pt x="18400" y="5400"/>
                    <a:pt x="17600" y="5143"/>
                    <a:pt x="17600" y="4886"/>
                  </a:cubicBezTo>
                  <a:cubicBezTo>
                    <a:pt x="17200" y="4629"/>
                    <a:pt x="14400" y="3857"/>
                    <a:pt x="15200" y="3343"/>
                  </a:cubicBezTo>
                  <a:cubicBezTo>
                    <a:pt x="15200" y="3343"/>
                    <a:pt x="16000" y="3086"/>
                    <a:pt x="16000" y="3086"/>
                  </a:cubicBezTo>
                  <a:cubicBezTo>
                    <a:pt x="16000" y="3086"/>
                    <a:pt x="14800" y="2571"/>
                    <a:pt x="15600" y="2571"/>
                  </a:cubicBezTo>
                  <a:cubicBezTo>
                    <a:pt x="16800" y="2571"/>
                    <a:pt x="17600" y="1286"/>
                    <a:pt x="16400" y="771"/>
                  </a:cubicBezTo>
                  <a:cubicBezTo>
                    <a:pt x="16000" y="514"/>
                    <a:pt x="15200" y="514"/>
                    <a:pt x="14800" y="257"/>
                  </a:cubicBezTo>
                  <a:cubicBezTo>
                    <a:pt x="14400" y="0"/>
                    <a:pt x="14000" y="0"/>
                    <a:pt x="13600" y="0"/>
                  </a:cubicBezTo>
                  <a:cubicBezTo>
                    <a:pt x="12800" y="257"/>
                    <a:pt x="12400" y="0"/>
                    <a:pt x="11600" y="257"/>
                  </a:cubicBezTo>
                  <a:cubicBezTo>
                    <a:pt x="11200" y="514"/>
                    <a:pt x="10400" y="1029"/>
                    <a:pt x="10000" y="1286"/>
                  </a:cubicBezTo>
                  <a:cubicBezTo>
                    <a:pt x="10000" y="1543"/>
                    <a:pt x="10000" y="2571"/>
                    <a:pt x="9600" y="2571"/>
                  </a:cubicBezTo>
                  <a:cubicBezTo>
                    <a:pt x="9200" y="2829"/>
                    <a:pt x="8800" y="3086"/>
                    <a:pt x="8400" y="3343"/>
                  </a:cubicBezTo>
                  <a:cubicBezTo>
                    <a:pt x="8000" y="3343"/>
                    <a:pt x="7200" y="2829"/>
                    <a:pt x="6800" y="2829"/>
                  </a:cubicBezTo>
                  <a:cubicBezTo>
                    <a:pt x="6400" y="2829"/>
                    <a:pt x="6000" y="3086"/>
                    <a:pt x="5600" y="3086"/>
                  </a:cubicBezTo>
                  <a:cubicBezTo>
                    <a:pt x="4400" y="3343"/>
                    <a:pt x="3600" y="3086"/>
                    <a:pt x="2800" y="2571"/>
                  </a:cubicBezTo>
                  <a:cubicBezTo>
                    <a:pt x="2800" y="2314"/>
                    <a:pt x="2000" y="1800"/>
                    <a:pt x="1600" y="1800"/>
                  </a:cubicBezTo>
                  <a:cubicBezTo>
                    <a:pt x="1200" y="1800"/>
                    <a:pt x="400" y="2314"/>
                    <a:pt x="0" y="2314"/>
                  </a:cubicBezTo>
                  <a:cubicBezTo>
                    <a:pt x="800" y="2829"/>
                    <a:pt x="2000" y="3343"/>
                    <a:pt x="3200" y="3600"/>
                  </a:cubicBezTo>
                  <a:cubicBezTo>
                    <a:pt x="3600" y="3600"/>
                    <a:pt x="4400" y="3857"/>
                    <a:pt x="4800" y="4114"/>
                  </a:cubicBezTo>
                  <a:cubicBezTo>
                    <a:pt x="5200" y="4371"/>
                    <a:pt x="5200" y="4629"/>
                    <a:pt x="5600" y="4886"/>
                  </a:cubicBezTo>
                  <a:cubicBezTo>
                    <a:pt x="5600" y="5143"/>
                    <a:pt x="5200" y="5143"/>
                    <a:pt x="5600" y="5400"/>
                  </a:cubicBezTo>
                  <a:cubicBezTo>
                    <a:pt x="5600" y="5657"/>
                    <a:pt x="6400" y="5914"/>
                    <a:pt x="6000" y="6171"/>
                  </a:cubicBezTo>
                  <a:cubicBezTo>
                    <a:pt x="6000" y="6429"/>
                    <a:pt x="5600" y="6686"/>
                    <a:pt x="6000" y="6943"/>
                  </a:cubicBezTo>
                  <a:cubicBezTo>
                    <a:pt x="6000" y="6943"/>
                    <a:pt x="6400" y="7457"/>
                    <a:pt x="6400" y="7457"/>
                  </a:cubicBezTo>
                  <a:cubicBezTo>
                    <a:pt x="6000" y="7714"/>
                    <a:pt x="6000" y="8229"/>
                    <a:pt x="6000" y="8486"/>
                  </a:cubicBezTo>
                  <a:cubicBezTo>
                    <a:pt x="6000" y="8486"/>
                    <a:pt x="6800" y="9257"/>
                    <a:pt x="6800" y="9257"/>
                  </a:cubicBezTo>
                  <a:cubicBezTo>
                    <a:pt x="7200" y="9514"/>
                    <a:pt x="8000" y="9771"/>
                    <a:pt x="8400" y="9771"/>
                  </a:cubicBezTo>
                  <a:cubicBezTo>
                    <a:pt x="8800" y="10029"/>
                    <a:pt x="8800" y="10286"/>
                    <a:pt x="8800" y="10543"/>
                  </a:cubicBezTo>
                  <a:cubicBezTo>
                    <a:pt x="8800" y="10800"/>
                    <a:pt x="9200" y="11057"/>
                    <a:pt x="9200" y="11314"/>
                  </a:cubicBezTo>
                  <a:cubicBezTo>
                    <a:pt x="9200" y="11571"/>
                    <a:pt x="8400" y="11314"/>
                    <a:pt x="8000" y="11314"/>
                  </a:cubicBezTo>
                  <a:cubicBezTo>
                    <a:pt x="7600" y="11314"/>
                    <a:pt x="6400" y="12343"/>
                    <a:pt x="6400" y="12600"/>
                  </a:cubicBezTo>
                  <a:cubicBezTo>
                    <a:pt x="6000" y="12857"/>
                    <a:pt x="5600" y="12857"/>
                    <a:pt x="5200" y="13114"/>
                  </a:cubicBezTo>
                  <a:cubicBezTo>
                    <a:pt x="4800" y="13371"/>
                    <a:pt x="4400" y="13629"/>
                    <a:pt x="4000" y="13886"/>
                  </a:cubicBezTo>
                  <a:cubicBezTo>
                    <a:pt x="3600" y="13886"/>
                    <a:pt x="1600" y="14914"/>
                    <a:pt x="1600" y="14657"/>
                  </a:cubicBezTo>
                  <a:cubicBezTo>
                    <a:pt x="1600" y="15171"/>
                    <a:pt x="800" y="15429"/>
                    <a:pt x="800" y="15943"/>
                  </a:cubicBezTo>
                  <a:cubicBezTo>
                    <a:pt x="1200" y="16457"/>
                    <a:pt x="800" y="17229"/>
                    <a:pt x="1600" y="17229"/>
                  </a:cubicBezTo>
                  <a:cubicBezTo>
                    <a:pt x="2000" y="17229"/>
                    <a:pt x="1600" y="18514"/>
                    <a:pt x="1600" y="18771"/>
                  </a:cubicBezTo>
                  <a:cubicBezTo>
                    <a:pt x="1600" y="19286"/>
                    <a:pt x="800" y="19800"/>
                    <a:pt x="1600" y="20057"/>
                  </a:cubicBezTo>
                  <a:cubicBezTo>
                    <a:pt x="1600" y="20057"/>
                    <a:pt x="3200" y="20314"/>
                    <a:pt x="2800" y="20571"/>
                  </a:cubicBezTo>
                  <a:cubicBezTo>
                    <a:pt x="2800" y="20571"/>
                    <a:pt x="2000" y="20829"/>
                    <a:pt x="2000" y="20829"/>
                  </a:cubicBezTo>
                  <a:cubicBezTo>
                    <a:pt x="2800" y="20829"/>
                    <a:pt x="2800" y="20314"/>
                    <a:pt x="3200" y="20314"/>
                  </a:cubicBezTo>
                  <a:cubicBezTo>
                    <a:pt x="4000" y="20057"/>
                    <a:pt x="3200" y="21343"/>
                    <a:pt x="3200" y="21343"/>
                  </a:cubicBezTo>
                  <a:cubicBezTo>
                    <a:pt x="3200" y="21343"/>
                    <a:pt x="4400" y="20571"/>
                    <a:pt x="4400" y="20571"/>
                  </a:cubicBezTo>
                  <a:cubicBezTo>
                    <a:pt x="4800" y="20314"/>
                    <a:pt x="4400" y="21343"/>
                    <a:pt x="4400" y="21343"/>
                  </a:cubicBezTo>
                  <a:cubicBezTo>
                    <a:pt x="5600" y="21600"/>
                    <a:pt x="8000" y="20829"/>
                    <a:pt x="9200" y="20571"/>
                  </a:cubicBezTo>
                  <a:cubicBezTo>
                    <a:pt x="10800" y="20314"/>
                    <a:pt x="12400" y="20314"/>
                    <a:pt x="14400" y="20057"/>
                  </a:cubicBezTo>
                  <a:cubicBezTo>
                    <a:pt x="15600" y="19029"/>
                    <a:pt x="17200" y="18257"/>
                    <a:pt x="18400" y="17486"/>
                  </a:cubicBezTo>
                  <a:cubicBezTo>
                    <a:pt x="19200" y="16971"/>
                    <a:pt x="21600" y="15943"/>
                    <a:pt x="21200" y="15171"/>
                  </a:cubicBezTo>
                  <a:cubicBezTo>
                    <a:pt x="20800" y="14657"/>
                    <a:pt x="21600" y="15943"/>
                    <a:pt x="21200" y="1517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4" name="Shape 1358"/>
            <p:cNvSpPr/>
            <p:nvPr/>
          </p:nvSpPr>
          <p:spPr>
            <a:xfrm>
              <a:off x="8365680" y="2567880"/>
              <a:ext cx="500040" cy="420840"/>
            </a:xfrm>
            <a:custGeom>
              <a:avLst/>
              <a:gdLst/>
              <a:ahLst/>
              <a:rect l="l" t="t" r="r" b="b"/>
              <a:pathLst>
                <a:path w="21371" h="21482">
                  <a:moveTo>
                    <a:pt x="5643" y="20271"/>
                  </a:moveTo>
                  <a:cubicBezTo>
                    <a:pt x="5643" y="20271"/>
                    <a:pt x="5812" y="19665"/>
                    <a:pt x="5812" y="19463"/>
                  </a:cubicBezTo>
                  <a:cubicBezTo>
                    <a:pt x="5812" y="19060"/>
                    <a:pt x="5981" y="18858"/>
                    <a:pt x="6318" y="18656"/>
                  </a:cubicBezTo>
                  <a:cubicBezTo>
                    <a:pt x="6656" y="18252"/>
                    <a:pt x="6318" y="17646"/>
                    <a:pt x="6318" y="17445"/>
                  </a:cubicBezTo>
                  <a:cubicBezTo>
                    <a:pt x="6318" y="16839"/>
                    <a:pt x="6993" y="16839"/>
                    <a:pt x="6487" y="16435"/>
                  </a:cubicBezTo>
                  <a:cubicBezTo>
                    <a:pt x="6150" y="16032"/>
                    <a:pt x="5981" y="16032"/>
                    <a:pt x="6150" y="15426"/>
                  </a:cubicBezTo>
                  <a:cubicBezTo>
                    <a:pt x="6318" y="15022"/>
                    <a:pt x="6150" y="14618"/>
                    <a:pt x="6150" y="14215"/>
                  </a:cubicBezTo>
                  <a:cubicBezTo>
                    <a:pt x="5981" y="13609"/>
                    <a:pt x="5812" y="13003"/>
                    <a:pt x="6318" y="12600"/>
                  </a:cubicBezTo>
                  <a:cubicBezTo>
                    <a:pt x="6487" y="12398"/>
                    <a:pt x="6825" y="12398"/>
                    <a:pt x="6993" y="12196"/>
                  </a:cubicBezTo>
                  <a:cubicBezTo>
                    <a:pt x="7162" y="12196"/>
                    <a:pt x="7331" y="12398"/>
                    <a:pt x="7500" y="12196"/>
                  </a:cubicBezTo>
                  <a:cubicBezTo>
                    <a:pt x="7668" y="11792"/>
                    <a:pt x="7500" y="11590"/>
                    <a:pt x="7331" y="11389"/>
                  </a:cubicBezTo>
                  <a:cubicBezTo>
                    <a:pt x="7331" y="10985"/>
                    <a:pt x="7668" y="10783"/>
                    <a:pt x="7837" y="10379"/>
                  </a:cubicBezTo>
                  <a:cubicBezTo>
                    <a:pt x="7837" y="10177"/>
                    <a:pt x="8006" y="9572"/>
                    <a:pt x="8006" y="9168"/>
                  </a:cubicBezTo>
                  <a:cubicBezTo>
                    <a:pt x="8006" y="8764"/>
                    <a:pt x="8681" y="8764"/>
                    <a:pt x="8512" y="8562"/>
                  </a:cubicBezTo>
                  <a:cubicBezTo>
                    <a:pt x="8512" y="8159"/>
                    <a:pt x="8850" y="7957"/>
                    <a:pt x="9018" y="7553"/>
                  </a:cubicBezTo>
                  <a:cubicBezTo>
                    <a:pt x="9356" y="7149"/>
                    <a:pt x="9356" y="7351"/>
                    <a:pt x="9356" y="6746"/>
                  </a:cubicBezTo>
                  <a:cubicBezTo>
                    <a:pt x="9187" y="6544"/>
                    <a:pt x="9862" y="5534"/>
                    <a:pt x="10031" y="5534"/>
                  </a:cubicBezTo>
                  <a:cubicBezTo>
                    <a:pt x="10200" y="5332"/>
                    <a:pt x="10706" y="5534"/>
                    <a:pt x="10875" y="5534"/>
                  </a:cubicBezTo>
                  <a:cubicBezTo>
                    <a:pt x="10875" y="5131"/>
                    <a:pt x="10875" y="4929"/>
                    <a:pt x="10875" y="4525"/>
                  </a:cubicBezTo>
                  <a:cubicBezTo>
                    <a:pt x="11381" y="4727"/>
                    <a:pt x="11718" y="4727"/>
                    <a:pt x="12056" y="4929"/>
                  </a:cubicBezTo>
                  <a:cubicBezTo>
                    <a:pt x="12731" y="4929"/>
                    <a:pt x="12393" y="4121"/>
                    <a:pt x="12562" y="3718"/>
                  </a:cubicBezTo>
                  <a:cubicBezTo>
                    <a:pt x="12562" y="3718"/>
                    <a:pt x="12900" y="3718"/>
                    <a:pt x="13069" y="3718"/>
                  </a:cubicBezTo>
                  <a:cubicBezTo>
                    <a:pt x="13237" y="3516"/>
                    <a:pt x="13575" y="3112"/>
                    <a:pt x="13743" y="3516"/>
                  </a:cubicBezTo>
                  <a:cubicBezTo>
                    <a:pt x="14081" y="3718"/>
                    <a:pt x="14081" y="4121"/>
                    <a:pt x="14418" y="4323"/>
                  </a:cubicBezTo>
                  <a:cubicBezTo>
                    <a:pt x="14587" y="4323"/>
                    <a:pt x="14925" y="4323"/>
                    <a:pt x="15093" y="4323"/>
                  </a:cubicBezTo>
                  <a:cubicBezTo>
                    <a:pt x="15262" y="4323"/>
                    <a:pt x="15431" y="4121"/>
                    <a:pt x="15769" y="4121"/>
                  </a:cubicBezTo>
                  <a:cubicBezTo>
                    <a:pt x="15937" y="4121"/>
                    <a:pt x="16106" y="4525"/>
                    <a:pt x="16443" y="4525"/>
                  </a:cubicBezTo>
                  <a:cubicBezTo>
                    <a:pt x="16443" y="4323"/>
                    <a:pt x="17118" y="3919"/>
                    <a:pt x="17118" y="3919"/>
                  </a:cubicBezTo>
                  <a:cubicBezTo>
                    <a:pt x="17118" y="3314"/>
                    <a:pt x="17118" y="3112"/>
                    <a:pt x="17287" y="2708"/>
                  </a:cubicBezTo>
                  <a:cubicBezTo>
                    <a:pt x="17456" y="2506"/>
                    <a:pt x="17794" y="2103"/>
                    <a:pt x="17962" y="2103"/>
                  </a:cubicBezTo>
                  <a:cubicBezTo>
                    <a:pt x="18131" y="2103"/>
                    <a:pt x="18300" y="2103"/>
                    <a:pt x="18468" y="2103"/>
                  </a:cubicBezTo>
                  <a:cubicBezTo>
                    <a:pt x="18637" y="2103"/>
                    <a:pt x="18637" y="1901"/>
                    <a:pt x="18806" y="1901"/>
                  </a:cubicBezTo>
                  <a:cubicBezTo>
                    <a:pt x="18975" y="1901"/>
                    <a:pt x="19312" y="2304"/>
                    <a:pt x="19481" y="2304"/>
                  </a:cubicBezTo>
                  <a:cubicBezTo>
                    <a:pt x="19818" y="2506"/>
                    <a:pt x="19987" y="2708"/>
                    <a:pt x="19987" y="3314"/>
                  </a:cubicBezTo>
                  <a:cubicBezTo>
                    <a:pt x="20325" y="3314"/>
                    <a:pt x="21169" y="2708"/>
                    <a:pt x="20831" y="2304"/>
                  </a:cubicBezTo>
                  <a:cubicBezTo>
                    <a:pt x="21169" y="2506"/>
                    <a:pt x="20325" y="2506"/>
                    <a:pt x="20156" y="2506"/>
                  </a:cubicBezTo>
                  <a:cubicBezTo>
                    <a:pt x="21000" y="2304"/>
                    <a:pt x="19818" y="1699"/>
                    <a:pt x="19650" y="1901"/>
                  </a:cubicBezTo>
                  <a:cubicBezTo>
                    <a:pt x="19818" y="1699"/>
                    <a:pt x="19987" y="1901"/>
                    <a:pt x="19987" y="1901"/>
                  </a:cubicBezTo>
                  <a:cubicBezTo>
                    <a:pt x="20325" y="1901"/>
                    <a:pt x="20662" y="1901"/>
                    <a:pt x="20831" y="1699"/>
                  </a:cubicBezTo>
                  <a:cubicBezTo>
                    <a:pt x="21000" y="1699"/>
                    <a:pt x="21506" y="1295"/>
                    <a:pt x="21337" y="1093"/>
                  </a:cubicBezTo>
                  <a:cubicBezTo>
                    <a:pt x="21000" y="891"/>
                    <a:pt x="20494" y="689"/>
                    <a:pt x="19987" y="488"/>
                  </a:cubicBezTo>
                  <a:cubicBezTo>
                    <a:pt x="19818" y="286"/>
                    <a:pt x="19650" y="689"/>
                    <a:pt x="19481" y="891"/>
                  </a:cubicBezTo>
                  <a:cubicBezTo>
                    <a:pt x="19481" y="891"/>
                    <a:pt x="19143" y="1497"/>
                    <a:pt x="19143" y="1295"/>
                  </a:cubicBezTo>
                  <a:cubicBezTo>
                    <a:pt x="19143" y="1295"/>
                    <a:pt x="19143" y="1093"/>
                    <a:pt x="19143" y="891"/>
                  </a:cubicBezTo>
                  <a:cubicBezTo>
                    <a:pt x="19143" y="891"/>
                    <a:pt x="18806" y="891"/>
                    <a:pt x="18806" y="891"/>
                  </a:cubicBezTo>
                  <a:cubicBezTo>
                    <a:pt x="18975" y="689"/>
                    <a:pt x="19312" y="891"/>
                    <a:pt x="19312" y="689"/>
                  </a:cubicBezTo>
                  <a:cubicBezTo>
                    <a:pt x="19312" y="689"/>
                    <a:pt x="18806" y="689"/>
                    <a:pt x="18806" y="689"/>
                  </a:cubicBezTo>
                  <a:cubicBezTo>
                    <a:pt x="18806" y="488"/>
                    <a:pt x="19481" y="488"/>
                    <a:pt x="19481" y="286"/>
                  </a:cubicBezTo>
                  <a:cubicBezTo>
                    <a:pt x="19312" y="84"/>
                    <a:pt x="18300" y="-118"/>
                    <a:pt x="18468" y="286"/>
                  </a:cubicBezTo>
                  <a:cubicBezTo>
                    <a:pt x="18637" y="488"/>
                    <a:pt x="18637" y="488"/>
                    <a:pt x="18468" y="689"/>
                  </a:cubicBezTo>
                  <a:cubicBezTo>
                    <a:pt x="18300" y="891"/>
                    <a:pt x="17962" y="1295"/>
                    <a:pt x="17794" y="1295"/>
                  </a:cubicBezTo>
                  <a:cubicBezTo>
                    <a:pt x="17625" y="1295"/>
                    <a:pt x="17794" y="488"/>
                    <a:pt x="17794" y="488"/>
                  </a:cubicBezTo>
                  <a:cubicBezTo>
                    <a:pt x="17794" y="286"/>
                    <a:pt x="16950" y="1699"/>
                    <a:pt x="16781" y="1699"/>
                  </a:cubicBezTo>
                  <a:cubicBezTo>
                    <a:pt x="16275" y="1699"/>
                    <a:pt x="16781" y="891"/>
                    <a:pt x="16950" y="689"/>
                  </a:cubicBezTo>
                  <a:cubicBezTo>
                    <a:pt x="17118" y="689"/>
                    <a:pt x="17287" y="286"/>
                    <a:pt x="17287" y="286"/>
                  </a:cubicBezTo>
                  <a:cubicBezTo>
                    <a:pt x="17118" y="84"/>
                    <a:pt x="16781" y="-118"/>
                    <a:pt x="16781" y="84"/>
                  </a:cubicBezTo>
                  <a:cubicBezTo>
                    <a:pt x="16781" y="84"/>
                    <a:pt x="16950" y="286"/>
                    <a:pt x="16950" y="286"/>
                  </a:cubicBezTo>
                  <a:cubicBezTo>
                    <a:pt x="16950" y="286"/>
                    <a:pt x="16612" y="286"/>
                    <a:pt x="16443" y="286"/>
                  </a:cubicBezTo>
                  <a:cubicBezTo>
                    <a:pt x="16275" y="488"/>
                    <a:pt x="16443" y="286"/>
                    <a:pt x="16275" y="84"/>
                  </a:cubicBezTo>
                  <a:cubicBezTo>
                    <a:pt x="16275" y="84"/>
                    <a:pt x="15937" y="488"/>
                    <a:pt x="15937" y="488"/>
                  </a:cubicBezTo>
                  <a:cubicBezTo>
                    <a:pt x="15937" y="689"/>
                    <a:pt x="16275" y="891"/>
                    <a:pt x="16106" y="891"/>
                  </a:cubicBezTo>
                  <a:cubicBezTo>
                    <a:pt x="15937" y="891"/>
                    <a:pt x="15937" y="891"/>
                    <a:pt x="15937" y="891"/>
                  </a:cubicBezTo>
                  <a:cubicBezTo>
                    <a:pt x="15769" y="891"/>
                    <a:pt x="15769" y="1093"/>
                    <a:pt x="15769" y="1295"/>
                  </a:cubicBezTo>
                  <a:cubicBezTo>
                    <a:pt x="15937" y="891"/>
                    <a:pt x="15262" y="1093"/>
                    <a:pt x="15262" y="1093"/>
                  </a:cubicBezTo>
                  <a:cubicBezTo>
                    <a:pt x="15262" y="1093"/>
                    <a:pt x="15600" y="891"/>
                    <a:pt x="15600" y="689"/>
                  </a:cubicBezTo>
                  <a:cubicBezTo>
                    <a:pt x="15600" y="891"/>
                    <a:pt x="14925" y="1093"/>
                    <a:pt x="14756" y="1093"/>
                  </a:cubicBezTo>
                  <a:cubicBezTo>
                    <a:pt x="14587" y="1093"/>
                    <a:pt x="15262" y="1699"/>
                    <a:pt x="15262" y="1699"/>
                  </a:cubicBezTo>
                  <a:cubicBezTo>
                    <a:pt x="15262" y="1699"/>
                    <a:pt x="15093" y="2103"/>
                    <a:pt x="15093" y="2103"/>
                  </a:cubicBezTo>
                  <a:cubicBezTo>
                    <a:pt x="15093" y="2103"/>
                    <a:pt x="14587" y="1497"/>
                    <a:pt x="14587" y="1497"/>
                  </a:cubicBezTo>
                  <a:cubicBezTo>
                    <a:pt x="14587" y="1497"/>
                    <a:pt x="14250" y="2103"/>
                    <a:pt x="14250" y="1497"/>
                  </a:cubicBezTo>
                  <a:cubicBezTo>
                    <a:pt x="14081" y="1295"/>
                    <a:pt x="13575" y="1699"/>
                    <a:pt x="13406" y="1497"/>
                  </a:cubicBezTo>
                  <a:cubicBezTo>
                    <a:pt x="13575" y="1699"/>
                    <a:pt x="14081" y="1699"/>
                    <a:pt x="14081" y="1901"/>
                  </a:cubicBezTo>
                  <a:cubicBezTo>
                    <a:pt x="14081" y="1901"/>
                    <a:pt x="13912" y="1901"/>
                    <a:pt x="13912" y="2103"/>
                  </a:cubicBezTo>
                  <a:cubicBezTo>
                    <a:pt x="13912" y="2304"/>
                    <a:pt x="14081" y="2304"/>
                    <a:pt x="14081" y="2506"/>
                  </a:cubicBezTo>
                  <a:cubicBezTo>
                    <a:pt x="14081" y="2506"/>
                    <a:pt x="13575" y="2304"/>
                    <a:pt x="13575" y="2103"/>
                  </a:cubicBezTo>
                  <a:cubicBezTo>
                    <a:pt x="13406" y="2103"/>
                    <a:pt x="13406" y="2304"/>
                    <a:pt x="13406" y="2506"/>
                  </a:cubicBezTo>
                  <a:cubicBezTo>
                    <a:pt x="13237" y="2506"/>
                    <a:pt x="13237" y="2304"/>
                    <a:pt x="13237" y="2103"/>
                  </a:cubicBezTo>
                  <a:cubicBezTo>
                    <a:pt x="13237" y="2103"/>
                    <a:pt x="12900" y="2506"/>
                    <a:pt x="12900" y="2506"/>
                  </a:cubicBezTo>
                  <a:cubicBezTo>
                    <a:pt x="12731" y="2708"/>
                    <a:pt x="13069" y="2708"/>
                    <a:pt x="13069" y="2910"/>
                  </a:cubicBezTo>
                  <a:cubicBezTo>
                    <a:pt x="13069" y="2910"/>
                    <a:pt x="12731" y="2910"/>
                    <a:pt x="12731" y="2910"/>
                  </a:cubicBezTo>
                  <a:cubicBezTo>
                    <a:pt x="12562" y="2708"/>
                    <a:pt x="12731" y="2506"/>
                    <a:pt x="12731" y="2304"/>
                  </a:cubicBezTo>
                  <a:cubicBezTo>
                    <a:pt x="12731" y="2304"/>
                    <a:pt x="12225" y="2708"/>
                    <a:pt x="12225" y="2708"/>
                  </a:cubicBezTo>
                  <a:cubicBezTo>
                    <a:pt x="12225" y="2708"/>
                    <a:pt x="12225" y="2708"/>
                    <a:pt x="12393" y="2708"/>
                  </a:cubicBezTo>
                  <a:cubicBezTo>
                    <a:pt x="12225" y="2708"/>
                    <a:pt x="12056" y="3112"/>
                    <a:pt x="12056" y="3112"/>
                  </a:cubicBezTo>
                  <a:cubicBezTo>
                    <a:pt x="11887" y="2910"/>
                    <a:pt x="12225" y="2708"/>
                    <a:pt x="12056" y="2708"/>
                  </a:cubicBezTo>
                  <a:cubicBezTo>
                    <a:pt x="11887" y="2506"/>
                    <a:pt x="11718" y="2506"/>
                    <a:pt x="11718" y="2304"/>
                  </a:cubicBezTo>
                  <a:cubicBezTo>
                    <a:pt x="11718" y="2304"/>
                    <a:pt x="12056" y="2304"/>
                    <a:pt x="12056" y="2304"/>
                  </a:cubicBezTo>
                  <a:cubicBezTo>
                    <a:pt x="12056" y="2103"/>
                    <a:pt x="11550" y="1901"/>
                    <a:pt x="11381" y="1901"/>
                  </a:cubicBezTo>
                  <a:cubicBezTo>
                    <a:pt x="11381" y="2103"/>
                    <a:pt x="11550" y="2506"/>
                    <a:pt x="11550" y="2506"/>
                  </a:cubicBezTo>
                  <a:cubicBezTo>
                    <a:pt x="11550" y="2506"/>
                    <a:pt x="10875" y="2708"/>
                    <a:pt x="11044" y="2708"/>
                  </a:cubicBezTo>
                  <a:cubicBezTo>
                    <a:pt x="11044" y="2708"/>
                    <a:pt x="11381" y="2708"/>
                    <a:pt x="11381" y="2708"/>
                  </a:cubicBezTo>
                  <a:cubicBezTo>
                    <a:pt x="11381" y="2708"/>
                    <a:pt x="11212" y="2708"/>
                    <a:pt x="11212" y="2708"/>
                  </a:cubicBezTo>
                  <a:cubicBezTo>
                    <a:pt x="11381" y="3112"/>
                    <a:pt x="11718" y="2708"/>
                    <a:pt x="11550" y="2708"/>
                  </a:cubicBezTo>
                  <a:cubicBezTo>
                    <a:pt x="11718" y="2910"/>
                    <a:pt x="11550" y="3112"/>
                    <a:pt x="11550" y="3112"/>
                  </a:cubicBezTo>
                  <a:cubicBezTo>
                    <a:pt x="11550" y="3314"/>
                    <a:pt x="11212" y="2910"/>
                    <a:pt x="11212" y="2910"/>
                  </a:cubicBezTo>
                  <a:cubicBezTo>
                    <a:pt x="11044" y="2910"/>
                    <a:pt x="11044" y="2708"/>
                    <a:pt x="10875" y="2708"/>
                  </a:cubicBezTo>
                  <a:cubicBezTo>
                    <a:pt x="10875" y="2708"/>
                    <a:pt x="10706" y="3112"/>
                    <a:pt x="10537" y="2910"/>
                  </a:cubicBezTo>
                  <a:cubicBezTo>
                    <a:pt x="10537" y="2708"/>
                    <a:pt x="10031" y="3112"/>
                    <a:pt x="10031" y="3112"/>
                  </a:cubicBezTo>
                  <a:cubicBezTo>
                    <a:pt x="10031" y="3112"/>
                    <a:pt x="10031" y="3718"/>
                    <a:pt x="10031" y="3718"/>
                  </a:cubicBezTo>
                  <a:cubicBezTo>
                    <a:pt x="10031" y="3919"/>
                    <a:pt x="10200" y="3314"/>
                    <a:pt x="10368" y="3516"/>
                  </a:cubicBezTo>
                  <a:cubicBezTo>
                    <a:pt x="10368" y="3516"/>
                    <a:pt x="10706" y="3718"/>
                    <a:pt x="10706" y="3516"/>
                  </a:cubicBezTo>
                  <a:cubicBezTo>
                    <a:pt x="10706" y="3718"/>
                    <a:pt x="10537" y="3718"/>
                    <a:pt x="10537" y="3919"/>
                  </a:cubicBezTo>
                  <a:cubicBezTo>
                    <a:pt x="10368" y="3919"/>
                    <a:pt x="10537" y="4323"/>
                    <a:pt x="10368" y="4323"/>
                  </a:cubicBezTo>
                  <a:cubicBezTo>
                    <a:pt x="10368" y="4525"/>
                    <a:pt x="10200" y="4121"/>
                    <a:pt x="10200" y="4121"/>
                  </a:cubicBezTo>
                  <a:cubicBezTo>
                    <a:pt x="10031" y="4121"/>
                    <a:pt x="10031" y="4525"/>
                    <a:pt x="9862" y="4525"/>
                  </a:cubicBezTo>
                  <a:cubicBezTo>
                    <a:pt x="9862" y="4525"/>
                    <a:pt x="9862" y="4121"/>
                    <a:pt x="9862" y="4121"/>
                  </a:cubicBezTo>
                  <a:cubicBezTo>
                    <a:pt x="9693" y="4121"/>
                    <a:pt x="9693" y="4323"/>
                    <a:pt x="9525" y="4323"/>
                  </a:cubicBezTo>
                  <a:cubicBezTo>
                    <a:pt x="9525" y="4323"/>
                    <a:pt x="9525" y="3919"/>
                    <a:pt x="9525" y="3919"/>
                  </a:cubicBezTo>
                  <a:cubicBezTo>
                    <a:pt x="9525" y="3718"/>
                    <a:pt x="9356" y="4323"/>
                    <a:pt x="9187" y="4323"/>
                  </a:cubicBezTo>
                  <a:cubicBezTo>
                    <a:pt x="8850" y="4525"/>
                    <a:pt x="9356" y="3314"/>
                    <a:pt x="9356" y="3314"/>
                  </a:cubicBezTo>
                  <a:cubicBezTo>
                    <a:pt x="9187" y="3314"/>
                    <a:pt x="8850" y="3516"/>
                    <a:pt x="8850" y="3516"/>
                  </a:cubicBezTo>
                  <a:cubicBezTo>
                    <a:pt x="8681" y="3718"/>
                    <a:pt x="9018" y="3919"/>
                    <a:pt x="9018" y="3919"/>
                  </a:cubicBezTo>
                  <a:cubicBezTo>
                    <a:pt x="8850" y="3919"/>
                    <a:pt x="8850" y="3919"/>
                    <a:pt x="8681" y="3919"/>
                  </a:cubicBezTo>
                  <a:cubicBezTo>
                    <a:pt x="8681" y="3919"/>
                    <a:pt x="8681" y="4121"/>
                    <a:pt x="8512" y="4323"/>
                  </a:cubicBezTo>
                  <a:cubicBezTo>
                    <a:pt x="8681" y="4121"/>
                    <a:pt x="7837" y="4121"/>
                    <a:pt x="8175" y="4323"/>
                  </a:cubicBezTo>
                  <a:cubicBezTo>
                    <a:pt x="8175" y="4525"/>
                    <a:pt x="8512" y="4323"/>
                    <a:pt x="8512" y="4323"/>
                  </a:cubicBezTo>
                  <a:cubicBezTo>
                    <a:pt x="8512" y="4323"/>
                    <a:pt x="8343" y="4525"/>
                    <a:pt x="8512" y="4525"/>
                  </a:cubicBezTo>
                  <a:cubicBezTo>
                    <a:pt x="8512" y="4525"/>
                    <a:pt x="8681" y="4525"/>
                    <a:pt x="8681" y="4323"/>
                  </a:cubicBezTo>
                  <a:cubicBezTo>
                    <a:pt x="8681" y="4323"/>
                    <a:pt x="8681" y="4727"/>
                    <a:pt x="8512" y="4727"/>
                  </a:cubicBezTo>
                  <a:cubicBezTo>
                    <a:pt x="8343" y="4727"/>
                    <a:pt x="8343" y="4525"/>
                    <a:pt x="8175" y="4525"/>
                  </a:cubicBezTo>
                  <a:cubicBezTo>
                    <a:pt x="8006" y="4727"/>
                    <a:pt x="8006" y="5131"/>
                    <a:pt x="7837" y="5131"/>
                  </a:cubicBezTo>
                  <a:cubicBezTo>
                    <a:pt x="7837" y="5131"/>
                    <a:pt x="7331" y="5131"/>
                    <a:pt x="7331" y="5131"/>
                  </a:cubicBezTo>
                  <a:cubicBezTo>
                    <a:pt x="7331" y="5736"/>
                    <a:pt x="8512" y="4929"/>
                    <a:pt x="8512" y="4929"/>
                  </a:cubicBezTo>
                  <a:cubicBezTo>
                    <a:pt x="8681" y="4929"/>
                    <a:pt x="8850" y="4727"/>
                    <a:pt x="9018" y="4929"/>
                  </a:cubicBezTo>
                  <a:cubicBezTo>
                    <a:pt x="9356" y="4929"/>
                    <a:pt x="9187" y="4525"/>
                    <a:pt x="9018" y="4525"/>
                  </a:cubicBezTo>
                  <a:cubicBezTo>
                    <a:pt x="9187" y="4525"/>
                    <a:pt x="9187" y="4525"/>
                    <a:pt x="9187" y="4525"/>
                  </a:cubicBezTo>
                  <a:cubicBezTo>
                    <a:pt x="9356" y="4929"/>
                    <a:pt x="9525" y="4525"/>
                    <a:pt x="9693" y="4525"/>
                  </a:cubicBezTo>
                  <a:cubicBezTo>
                    <a:pt x="9525" y="4525"/>
                    <a:pt x="9525" y="4929"/>
                    <a:pt x="9356" y="4929"/>
                  </a:cubicBezTo>
                  <a:cubicBezTo>
                    <a:pt x="9525" y="4929"/>
                    <a:pt x="9693" y="4929"/>
                    <a:pt x="9693" y="4929"/>
                  </a:cubicBezTo>
                  <a:cubicBezTo>
                    <a:pt x="9693" y="4929"/>
                    <a:pt x="9356" y="5131"/>
                    <a:pt x="9356" y="5332"/>
                  </a:cubicBezTo>
                  <a:cubicBezTo>
                    <a:pt x="9356" y="5332"/>
                    <a:pt x="10200" y="4929"/>
                    <a:pt x="10200" y="5131"/>
                  </a:cubicBezTo>
                  <a:cubicBezTo>
                    <a:pt x="10031" y="5332"/>
                    <a:pt x="9525" y="5131"/>
                    <a:pt x="9525" y="5534"/>
                  </a:cubicBezTo>
                  <a:cubicBezTo>
                    <a:pt x="9356" y="6140"/>
                    <a:pt x="9018" y="5332"/>
                    <a:pt x="9018" y="5332"/>
                  </a:cubicBezTo>
                  <a:cubicBezTo>
                    <a:pt x="9018" y="5131"/>
                    <a:pt x="9018" y="5736"/>
                    <a:pt x="9018" y="5736"/>
                  </a:cubicBezTo>
                  <a:cubicBezTo>
                    <a:pt x="9018" y="5736"/>
                    <a:pt x="8850" y="5332"/>
                    <a:pt x="8681" y="5332"/>
                  </a:cubicBezTo>
                  <a:cubicBezTo>
                    <a:pt x="8512" y="5534"/>
                    <a:pt x="8175" y="5938"/>
                    <a:pt x="8175" y="6140"/>
                  </a:cubicBezTo>
                  <a:cubicBezTo>
                    <a:pt x="8175" y="6140"/>
                    <a:pt x="8512" y="5938"/>
                    <a:pt x="8512" y="5938"/>
                  </a:cubicBezTo>
                  <a:cubicBezTo>
                    <a:pt x="8512" y="6140"/>
                    <a:pt x="8850" y="5938"/>
                    <a:pt x="8850" y="6140"/>
                  </a:cubicBezTo>
                  <a:cubicBezTo>
                    <a:pt x="8850" y="5938"/>
                    <a:pt x="8343" y="6140"/>
                    <a:pt x="8343" y="6342"/>
                  </a:cubicBezTo>
                  <a:cubicBezTo>
                    <a:pt x="8512" y="6544"/>
                    <a:pt x="9018" y="6140"/>
                    <a:pt x="8850" y="6544"/>
                  </a:cubicBezTo>
                  <a:cubicBezTo>
                    <a:pt x="9018" y="6140"/>
                    <a:pt x="7837" y="6746"/>
                    <a:pt x="7837" y="6746"/>
                  </a:cubicBezTo>
                  <a:cubicBezTo>
                    <a:pt x="7837" y="6544"/>
                    <a:pt x="8850" y="6947"/>
                    <a:pt x="8681" y="6947"/>
                  </a:cubicBezTo>
                  <a:cubicBezTo>
                    <a:pt x="8512" y="7149"/>
                    <a:pt x="8343" y="6746"/>
                    <a:pt x="8175" y="6947"/>
                  </a:cubicBezTo>
                  <a:cubicBezTo>
                    <a:pt x="8175" y="6947"/>
                    <a:pt x="8175" y="6947"/>
                    <a:pt x="8175" y="6947"/>
                  </a:cubicBezTo>
                  <a:cubicBezTo>
                    <a:pt x="8175" y="7149"/>
                    <a:pt x="7668" y="6746"/>
                    <a:pt x="7500" y="7149"/>
                  </a:cubicBezTo>
                  <a:cubicBezTo>
                    <a:pt x="7500" y="7149"/>
                    <a:pt x="8006" y="7149"/>
                    <a:pt x="8006" y="7149"/>
                  </a:cubicBezTo>
                  <a:cubicBezTo>
                    <a:pt x="7668" y="7553"/>
                    <a:pt x="7331" y="7149"/>
                    <a:pt x="7500" y="7755"/>
                  </a:cubicBezTo>
                  <a:cubicBezTo>
                    <a:pt x="7500" y="7755"/>
                    <a:pt x="7162" y="7957"/>
                    <a:pt x="7162" y="7957"/>
                  </a:cubicBezTo>
                  <a:cubicBezTo>
                    <a:pt x="6993" y="8159"/>
                    <a:pt x="6993" y="8159"/>
                    <a:pt x="6993" y="8159"/>
                  </a:cubicBezTo>
                  <a:cubicBezTo>
                    <a:pt x="6993" y="8361"/>
                    <a:pt x="6825" y="8361"/>
                    <a:pt x="6825" y="8361"/>
                  </a:cubicBezTo>
                  <a:cubicBezTo>
                    <a:pt x="6825" y="8562"/>
                    <a:pt x="6993" y="8361"/>
                    <a:pt x="6993" y="8361"/>
                  </a:cubicBezTo>
                  <a:cubicBezTo>
                    <a:pt x="7162" y="8361"/>
                    <a:pt x="6993" y="8562"/>
                    <a:pt x="6993" y="8562"/>
                  </a:cubicBezTo>
                  <a:cubicBezTo>
                    <a:pt x="7162" y="8562"/>
                    <a:pt x="7500" y="8764"/>
                    <a:pt x="7668" y="8562"/>
                  </a:cubicBezTo>
                  <a:cubicBezTo>
                    <a:pt x="7331" y="8764"/>
                    <a:pt x="7331" y="8764"/>
                    <a:pt x="6993" y="8764"/>
                  </a:cubicBezTo>
                  <a:cubicBezTo>
                    <a:pt x="6825" y="8764"/>
                    <a:pt x="6318" y="8764"/>
                    <a:pt x="6318" y="8966"/>
                  </a:cubicBezTo>
                  <a:cubicBezTo>
                    <a:pt x="6318" y="8966"/>
                    <a:pt x="6487" y="8966"/>
                    <a:pt x="6487" y="8966"/>
                  </a:cubicBezTo>
                  <a:cubicBezTo>
                    <a:pt x="6487" y="8966"/>
                    <a:pt x="6318" y="9168"/>
                    <a:pt x="6318" y="9168"/>
                  </a:cubicBezTo>
                  <a:cubicBezTo>
                    <a:pt x="6318" y="9168"/>
                    <a:pt x="6656" y="8966"/>
                    <a:pt x="6656" y="9168"/>
                  </a:cubicBezTo>
                  <a:cubicBezTo>
                    <a:pt x="6656" y="9168"/>
                    <a:pt x="6318" y="9572"/>
                    <a:pt x="6318" y="9572"/>
                  </a:cubicBezTo>
                  <a:cubicBezTo>
                    <a:pt x="6318" y="9572"/>
                    <a:pt x="6487" y="9572"/>
                    <a:pt x="6487" y="9774"/>
                  </a:cubicBezTo>
                  <a:cubicBezTo>
                    <a:pt x="6487" y="9774"/>
                    <a:pt x="6150" y="9774"/>
                    <a:pt x="6150" y="9774"/>
                  </a:cubicBezTo>
                  <a:cubicBezTo>
                    <a:pt x="6150" y="9774"/>
                    <a:pt x="6487" y="9975"/>
                    <a:pt x="6487" y="9975"/>
                  </a:cubicBezTo>
                  <a:cubicBezTo>
                    <a:pt x="6318" y="9975"/>
                    <a:pt x="6150" y="9975"/>
                    <a:pt x="6150" y="9975"/>
                  </a:cubicBezTo>
                  <a:cubicBezTo>
                    <a:pt x="6150" y="10177"/>
                    <a:pt x="6318" y="10379"/>
                    <a:pt x="6487" y="10379"/>
                  </a:cubicBezTo>
                  <a:cubicBezTo>
                    <a:pt x="6150" y="10379"/>
                    <a:pt x="5812" y="10379"/>
                    <a:pt x="5643" y="10783"/>
                  </a:cubicBezTo>
                  <a:cubicBezTo>
                    <a:pt x="5643" y="10985"/>
                    <a:pt x="4968" y="10783"/>
                    <a:pt x="4968" y="10783"/>
                  </a:cubicBezTo>
                  <a:cubicBezTo>
                    <a:pt x="4968" y="11389"/>
                    <a:pt x="5981" y="10783"/>
                    <a:pt x="6150" y="10783"/>
                  </a:cubicBezTo>
                  <a:cubicBezTo>
                    <a:pt x="5981" y="10783"/>
                    <a:pt x="5812" y="11187"/>
                    <a:pt x="5812" y="11187"/>
                  </a:cubicBezTo>
                  <a:cubicBezTo>
                    <a:pt x="5306" y="11187"/>
                    <a:pt x="5643" y="11389"/>
                    <a:pt x="5475" y="11590"/>
                  </a:cubicBezTo>
                  <a:cubicBezTo>
                    <a:pt x="5306" y="11792"/>
                    <a:pt x="4968" y="11389"/>
                    <a:pt x="4800" y="11590"/>
                  </a:cubicBezTo>
                  <a:cubicBezTo>
                    <a:pt x="4800" y="11792"/>
                    <a:pt x="4293" y="12196"/>
                    <a:pt x="4293" y="12196"/>
                  </a:cubicBezTo>
                  <a:cubicBezTo>
                    <a:pt x="4293" y="12398"/>
                    <a:pt x="4462" y="12398"/>
                    <a:pt x="4462" y="12398"/>
                  </a:cubicBezTo>
                  <a:cubicBezTo>
                    <a:pt x="4462" y="12600"/>
                    <a:pt x="3956" y="12600"/>
                    <a:pt x="3956" y="12600"/>
                  </a:cubicBezTo>
                  <a:cubicBezTo>
                    <a:pt x="3956" y="12600"/>
                    <a:pt x="4125" y="12802"/>
                    <a:pt x="4125" y="13003"/>
                  </a:cubicBezTo>
                  <a:cubicBezTo>
                    <a:pt x="4125" y="13205"/>
                    <a:pt x="4462" y="13003"/>
                    <a:pt x="4631" y="13003"/>
                  </a:cubicBezTo>
                  <a:cubicBezTo>
                    <a:pt x="4800" y="12802"/>
                    <a:pt x="4968" y="13003"/>
                    <a:pt x="5137" y="12802"/>
                  </a:cubicBezTo>
                  <a:cubicBezTo>
                    <a:pt x="5137" y="12802"/>
                    <a:pt x="4968" y="12600"/>
                    <a:pt x="4968" y="12398"/>
                  </a:cubicBezTo>
                  <a:cubicBezTo>
                    <a:pt x="4968" y="12398"/>
                    <a:pt x="5306" y="12600"/>
                    <a:pt x="5475" y="12802"/>
                  </a:cubicBezTo>
                  <a:cubicBezTo>
                    <a:pt x="5475" y="12802"/>
                    <a:pt x="4968" y="13205"/>
                    <a:pt x="4968" y="13205"/>
                  </a:cubicBezTo>
                  <a:cubicBezTo>
                    <a:pt x="4800" y="13205"/>
                    <a:pt x="4631" y="13407"/>
                    <a:pt x="4631" y="13205"/>
                  </a:cubicBezTo>
                  <a:cubicBezTo>
                    <a:pt x="4462" y="13003"/>
                    <a:pt x="4293" y="13407"/>
                    <a:pt x="4125" y="13407"/>
                  </a:cubicBezTo>
                  <a:cubicBezTo>
                    <a:pt x="3956" y="13205"/>
                    <a:pt x="3956" y="12600"/>
                    <a:pt x="3787" y="13205"/>
                  </a:cubicBezTo>
                  <a:cubicBezTo>
                    <a:pt x="3450" y="14013"/>
                    <a:pt x="3281" y="13003"/>
                    <a:pt x="3450" y="13003"/>
                  </a:cubicBezTo>
                  <a:cubicBezTo>
                    <a:pt x="3112" y="13003"/>
                    <a:pt x="3450" y="13811"/>
                    <a:pt x="3112" y="13609"/>
                  </a:cubicBezTo>
                  <a:cubicBezTo>
                    <a:pt x="2437" y="13609"/>
                    <a:pt x="2943" y="14013"/>
                    <a:pt x="2775" y="14215"/>
                  </a:cubicBezTo>
                  <a:cubicBezTo>
                    <a:pt x="2606" y="14215"/>
                    <a:pt x="2606" y="13811"/>
                    <a:pt x="2606" y="13811"/>
                  </a:cubicBezTo>
                  <a:cubicBezTo>
                    <a:pt x="2268" y="13811"/>
                    <a:pt x="1931" y="14013"/>
                    <a:pt x="1762" y="14215"/>
                  </a:cubicBezTo>
                  <a:cubicBezTo>
                    <a:pt x="1762" y="14417"/>
                    <a:pt x="2437" y="14417"/>
                    <a:pt x="2606" y="14417"/>
                  </a:cubicBezTo>
                  <a:cubicBezTo>
                    <a:pt x="2606" y="14417"/>
                    <a:pt x="3112" y="14215"/>
                    <a:pt x="3112" y="14215"/>
                  </a:cubicBezTo>
                  <a:cubicBezTo>
                    <a:pt x="3281" y="14417"/>
                    <a:pt x="2437" y="14417"/>
                    <a:pt x="2437" y="14417"/>
                  </a:cubicBezTo>
                  <a:cubicBezTo>
                    <a:pt x="2268" y="14417"/>
                    <a:pt x="2268" y="14618"/>
                    <a:pt x="2100" y="14618"/>
                  </a:cubicBezTo>
                  <a:cubicBezTo>
                    <a:pt x="1931" y="14618"/>
                    <a:pt x="1762" y="14618"/>
                    <a:pt x="1593" y="14618"/>
                  </a:cubicBezTo>
                  <a:cubicBezTo>
                    <a:pt x="1256" y="14417"/>
                    <a:pt x="1087" y="14618"/>
                    <a:pt x="1425" y="14820"/>
                  </a:cubicBezTo>
                  <a:cubicBezTo>
                    <a:pt x="1593" y="14820"/>
                    <a:pt x="1931" y="14820"/>
                    <a:pt x="1931" y="15224"/>
                  </a:cubicBezTo>
                  <a:cubicBezTo>
                    <a:pt x="1931" y="15224"/>
                    <a:pt x="1762" y="15628"/>
                    <a:pt x="1762" y="15426"/>
                  </a:cubicBezTo>
                  <a:cubicBezTo>
                    <a:pt x="1593" y="15426"/>
                    <a:pt x="1931" y="15022"/>
                    <a:pt x="1593" y="14820"/>
                  </a:cubicBezTo>
                  <a:cubicBezTo>
                    <a:pt x="1087" y="14820"/>
                    <a:pt x="1425" y="15022"/>
                    <a:pt x="1256" y="15224"/>
                  </a:cubicBezTo>
                  <a:cubicBezTo>
                    <a:pt x="1256" y="15224"/>
                    <a:pt x="1256" y="14618"/>
                    <a:pt x="1087" y="14618"/>
                  </a:cubicBezTo>
                  <a:cubicBezTo>
                    <a:pt x="1087" y="14417"/>
                    <a:pt x="750" y="15628"/>
                    <a:pt x="918" y="15426"/>
                  </a:cubicBezTo>
                  <a:cubicBezTo>
                    <a:pt x="750" y="15426"/>
                    <a:pt x="750" y="15022"/>
                    <a:pt x="750" y="15022"/>
                  </a:cubicBezTo>
                  <a:cubicBezTo>
                    <a:pt x="581" y="15022"/>
                    <a:pt x="581" y="15426"/>
                    <a:pt x="581" y="15426"/>
                  </a:cubicBezTo>
                  <a:cubicBezTo>
                    <a:pt x="412" y="15628"/>
                    <a:pt x="75" y="15426"/>
                    <a:pt x="75" y="15628"/>
                  </a:cubicBezTo>
                  <a:cubicBezTo>
                    <a:pt x="75" y="15830"/>
                    <a:pt x="-94" y="16032"/>
                    <a:pt x="75" y="16032"/>
                  </a:cubicBezTo>
                  <a:cubicBezTo>
                    <a:pt x="243" y="16032"/>
                    <a:pt x="412" y="16032"/>
                    <a:pt x="581" y="16233"/>
                  </a:cubicBezTo>
                  <a:cubicBezTo>
                    <a:pt x="581" y="16233"/>
                    <a:pt x="-94" y="16435"/>
                    <a:pt x="75" y="16637"/>
                  </a:cubicBezTo>
                  <a:cubicBezTo>
                    <a:pt x="75" y="16839"/>
                    <a:pt x="412" y="16839"/>
                    <a:pt x="412" y="16839"/>
                  </a:cubicBezTo>
                  <a:cubicBezTo>
                    <a:pt x="412" y="16839"/>
                    <a:pt x="918" y="16637"/>
                    <a:pt x="918" y="16839"/>
                  </a:cubicBezTo>
                  <a:cubicBezTo>
                    <a:pt x="750" y="17041"/>
                    <a:pt x="243" y="16839"/>
                    <a:pt x="75" y="17243"/>
                  </a:cubicBezTo>
                  <a:cubicBezTo>
                    <a:pt x="-94" y="17445"/>
                    <a:pt x="918" y="17445"/>
                    <a:pt x="581" y="17848"/>
                  </a:cubicBezTo>
                  <a:cubicBezTo>
                    <a:pt x="581" y="17848"/>
                    <a:pt x="412" y="17445"/>
                    <a:pt x="243" y="17646"/>
                  </a:cubicBezTo>
                  <a:cubicBezTo>
                    <a:pt x="75" y="17848"/>
                    <a:pt x="75" y="18050"/>
                    <a:pt x="243" y="18252"/>
                  </a:cubicBezTo>
                  <a:cubicBezTo>
                    <a:pt x="412" y="18252"/>
                    <a:pt x="750" y="18454"/>
                    <a:pt x="918" y="18454"/>
                  </a:cubicBezTo>
                  <a:cubicBezTo>
                    <a:pt x="1087" y="18252"/>
                    <a:pt x="1256" y="17848"/>
                    <a:pt x="1425" y="18050"/>
                  </a:cubicBezTo>
                  <a:cubicBezTo>
                    <a:pt x="1256" y="18050"/>
                    <a:pt x="1087" y="18252"/>
                    <a:pt x="1087" y="18252"/>
                  </a:cubicBezTo>
                  <a:cubicBezTo>
                    <a:pt x="1087" y="18454"/>
                    <a:pt x="918" y="18454"/>
                    <a:pt x="750" y="18454"/>
                  </a:cubicBezTo>
                  <a:cubicBezTo>
                    <a:pt x="750" y="18454"/>
                    <a:pt x="1087" y="18656"/>
                    <a:pt x="1087" y="18858"/>
                  </a:cubicBezTo>
                  <a:cubicBezTo>
                    <a:pt x="1087" y="18858"/>
                    <a:pt x="581" y="18454"/>
                    <a:pt x="750" y="18858"/>
                  </a:cubicBezTo>
                  <a:cubicBezTo>
                    <a:pt x="750" y="19060"/>
                    <a:pt x="1256" y="19261"/>
                    <a:pt x="1256" y="19261"/>
                  </a:cubicBezTo>
                  <a:cubicBezTo>
                    <a:pt x="1256" y="19463"/>
                    <a:pt x="750" y="19060"/>
                    <a:pt x="581" y="19261"/>
                  </a:cubicBezTo>
                  <a:cubicBezTo>
                    <a:pt x="243" y="19261"/>
                    <a:pt x="581" y="18656"/>
                    <a:pt x="412" y="18656"/>
                  </a:cubicBezTo>
                  <a:cubicBezTo>
                    <a:pt x="412" y="18656"/>
                    <a:pt x="75" y="19060"/>
                    <a:pt x="243" y="19261"/>
                  </a:cubicBezTo>
                  <a:cubicBezTo>
                    <a:pt x="412" y="19261"/>
                    <a:pt x="243" y="19665"/>
                    <a:pt x="243" y="19665"/>
                  </a:cubicBezTo>
                  <a:cubicBezTo>
                    <a:pt x="412" y="19867"/>
                    <a:pt x="581" y="19463"/>
                    <a:pt x="750" y="19261"/>
                  </a:cubicBezTo>
                  <a:cubicBezTo>
                    <a:pt x="750" y="19261"/>
                    <a:pt x="750" y="19463"/>
                    <a:pt x="750" y="19463"/>
                  </a:cubicBezTo>
                  <a:cubicBezTo>
                    <a:pt x="918" y="19463"/>
                    <a:pt x="918" y="19261"/>
                    <a:pt x="1087" y="19261"/>
                  </a:cubicBezTo>
                  <a:cubicBezTo>
                    <a:pt x="1087" y="19261"/>
                    <a:pt x="1087" y="19665"/>
                    <a:pt x="918" y="19665"/>
                  </a:cubicBezTo>
                  <a:cubicBezTo>
                    <a:pt x="581" y="19867"/>
                    <a:pt x="1256" y="20271"/>
                    <a:pt x="1256" y="20069"/>
                  </a:cubicBezTo>
                  <a:cubicBezTo>
                    <a:pt x="1256" y="20473"/>
                    <a:pt x="75" y="20069"/>
                    <a:pt x="750" y="20675"/>
                  </a:cubicBezTo>
                  <a:cubicBezTo>
                    <a:pt x="1087" y="20876"/>
                    <a:pt x="1256" y="21078"/>
                    <a:pt x="1593" y="21078"/>
                  </a:cubicBezTo>
                  <a:cubicBezTo>
                    <a:pt x="1593" y="21078"/>
                    <a:pt x="2100" y="21482"/>
                    <a:pt x="2268" y="21482"/>
                  </a:cubicBezTo>
                  <a:cubicBezTo>
                    <a:pt x="2775" y="21482"/>
                    <a:pt x="3450" y="20876"/>
                    <a:pt x="3787" y="20473"/>
                  </a:cubicBezTo>
                  <a:cubicBezTo>
                    <a:pt x="3956" y="20069"/>
                    <a:pt x="4125" y="20069"/>
                    <a:pt x="4462" y="19867"/>
                  </a:cubicBezTo>
                  <a:cubicBezTo>
                    <a:pt x="4631" y="19665"/>
                    <a:pt x="4631" y="19060"/>
                    <a:pt x="4800" y="19060"/>
                  </a:cubicBezTo>
                  <a:cubicBezTo>
                    <a:pt x="4800" y="19060"/>
                    <a:pt x="4800" y="19665"/>
                    <a:pt x="4968" y="19665"/>
                  </a:cubicBezTo>
                  <a:cubicBezTo>
                    <a:pt x="5306" y="19867"/>
                    <a:pt x="5137" y="19867"/>
                    <a:pt x="5137" y="20069"/>
                  </a:cubicBezTo>
                  <a:cubicBezTo>
                    <a:pt x="5306" y="20069"/>
                    <a:pt x="5475" y="20069"/>
                    <a:pt x="5643" y="20271"/>
                  </a:cubicBezTo>
                  <a:cubicBezTo>
                    <a:pt x="5643" y="20473"/>
                    <a:pt x="5475" y="20069"/>
                    <a:pt x="5643" y="2027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5" name="Shape 1359"/>
            <p:cNvSpPr/>
            <p:nvPr/>
          </p:nvSpPr>
          <p:spPr>
            <a:xfrm>
              <a:off x="8795880" y="2314080"/>
              <a:ext cx="3196080" cy="1108080"/>
            </a:xfrm>
            <a:custGeom>
              <a:avLst/>
              <a:gdLst/>
              <a:ahLst/>
              <a:rect l="l" t="t" r="r" b="b"/>
              <a:pathLst>
                <a:path w="21558" h="21438">
                  <a:moveTo>
                    <a:pt x="21531" y="8457"/>
                  </a:moveTo>
                  <a:cubicBezTo>
                    <a:pt x="21477" y="8304"/>
                    <a:pt x="21397" y="8227"/>
                    <a:pt x="21344" y="8074"/>
                  </a:cubicBezTo>
                  <a:cubicBezTo>
                    <a:pt x="21317" y="7998"/>
                    <a:pt x="21291" y="7921"/>
                    <a:pt x="21237" y="7844"/>
                  </a:cubicBezTo>
                  <a:cubicBezTo>
                    <a:pt x="21211" y="7844"/>
                    <a:pt x="21157" y="7844"/>
                    <a:pt x="21131" y="7768"/>
                  </a:cubicBezTo>
                  <a:cubicBezTo>
                    <a:pt x="21131" y="7844"/>
                    <a:pt x="21157" y="7844"/>
                    <a:pt x="21157" y="7844"/>
                  </a:cubicBezTo>
                  <a:cubicBezTo>
                    <a:pt x="21184" y="7844"/>
                    <a:pt x="21104" y="7921"/>
                    <a:pt x="21077" y="7844"/>
                  </a:cubicBezTo>
                  <a:cubicBezTo>
                    <a:pt x="21077" y="7844"/>
                    <a:pt x="21104" y="7844"/>
                    <a:pt x="21104" y="7768"/>
                  </a:cubicBezTo>
                  <a:cubicBezTo>
                    <a:pt x="21077" y="7691"/>
                    <a:pt x="20944" y="7844"/>
                    <a:pt x="20917" y="7768"/>
                  </a:cubicBezTo>
                  <a:cubicBezTo>
                    <a:pt x="20971" y="7844"/>
                    <a:pt x="20971" y="7844"/>
                    <a:pt x="20971" y="8074"/>
                  </a:cubicBezTo>
                  <a:cubicBezTo>
                    <a:pt x="20944" y="8151"/>
                    <a:pt x="20997" y="8304"/>
                    <a:pt x="20997" y="8304"/>
                  </a:cubicBezTo>
                  <a:cubicBezTo>
                    <a:pt x="20971" y="8304"/>
                    <a:pt x="20971" y="8227"/>
                    <a:pt x="20971" y="8227"/>
                  </a:cubicBezTo>
                  <a:cubicBezTo>
                    <a:pt x="20944" y="8151"/>
                    <a:pt x="20944" y="8304"/>
                    <a:pt x="20917" y="8304"/>
                  </a:cubicBezTo>
                  <a:cubicBezTo>
                    <a:pt x="20917" y="8304"/>
                    <a:pt x="20864" y="7998"/>
                    <a:pt x="20864" y="7998"/>
                  </a:cubicBezTo>
                  <a:cubicBezTo>
                    <a:pt x="20864" y="7921"/>
                    <a:pt x="20864" y="7921"/>
                    <a:pt x="20864" y="7921"/>
                  </a:cubicBezTo>
                  <a:cubicBezTo>
                    <a:pt x="20864" y="7844"/>
                    <a:pt x="20837" y="7768"/>
                    <a:pt x="20864" y="7691"/>
                  </a:cubicBezTo>
                  <a:cubicBezTo>
                    <a:pt x="20891" y="7538"/>
                    <a:pt x="20837" y="7615"/>
                    <a:pt x="20811" y="7538"/>
                  </a:cubicBezTo>
                  <a:cubicBezTo>
                    <a:pt x="20811" y="7461"/>
                    <a:pt x="20757" y="7385"/>
                    <a:pt x="20731" y="7385"/>
                  </a:cubicBezTo>
                  <a:cubicBezTo>
                    <a:pt x="20544" y="7078"/>
                    <a:pt x="20384" y="6772"/>
                    <a:pt x="20197" y="6619"/>
                  </a:cubicBezTo>
                  <a:cubicBezTo>
                    <a:pt x="20144" y="6542"/>
                    <a:pt x="20117" y="6466"/>
                    <a:pt x="20091" y="6389"/>
                  </a:cubicBezTo>
                  <a:cubicBezTo>
                    <a:pt x="20064" y="6312"/>
                    <a:pt x="20011" y="6236"/>
                    <a:pt x="19957" y="6236"/>
                  </a:cubicBezTo>
                  <a:cubicBezTo>
                    <a:pt x="19877" y="6159"/>
                    <a:pt x="19797" y="6083"/>
                    <a:pt x="19691" y="5929"/>
                  </a:cubicBezTo>
                  <a:cubicBezTo>
                    <a:pt x="19611" y="5929"/>
                    <a:pt x="19504" y="5929"/>
                    <a:pt x="19451" y="5929"/>
                  </a:cubicBezTo>
                  <a:cubicBezTo>
                    <a:pt x="19397" y="5929"/>
                    <a:pt x="19371" y="5929"/>
                    <a:pt x="19344" y="5929"/>
                  </a:cubicBezTo>
                  <a:cubicBezTo>
                    <a:pt x="19344" y="5929"/>
                    <a:pt x="19317" y="5853"/>
                    <a:pt x="19317" y="5853"/>
                  </a:cubicBezTo>
                  <a:cubicBezTo>
                    <a:pt x="19291" y="5929"/>
                    <a:pt x="19291" y="6006"/>
                    <a:pt x="19264" y="5929"/>
                  </a:cubicBezTo>
                  <a:cubicBezTo>
                    <a:pt x="19184" y="5929"/>
                    <a:pt x="19104" y="5853"/>
                    <a:pt x="19024" y="5776"/>
                  </a:cubicBezTo>
                  <a:cubicBezTo>
                    <a:pt x="18997" y="5776"/>
                    <a:pt x="18917" y="5700"/>
                    <a:pt x="18917" y="5853"/>
                  </a:cubicBezTo>
                  <a:cubicBezTo>
                    <a:pt x="18891" y="6006"/>
                    <a:pt x="18864" y="6006"/>
                    <a:pt x="18917" y="6083"/>
                  </a:cubicBezTo>
                  <a:cubicBezTo>
                    <a:pt x="18971" y="6236"/>
                    <a:pt x="19024" y="6542"/>
                    <a:pt x="18891" y="6619"/>
                  </a:cubicBezTo>
                  <a:cubicBezTo>
                    <a:pt x="18864" y="6695"/>
                    <a:pt x="18784" y="6695"/>
                    <a:pt x="18757" y="6542"/>
                  </a:cubicBezTo>
                  <a:cubicBezTo>
                    <a:pt x="18731" y="6466"/>
                    <a:pt x="18731" y="6389"/>
                    <a:pt x="18651" y="6389"/>
                  </a:cubicBezTo>
                  <a:cubicBezTo>
                    <a:pt x="18571" y="6312"/>
                    <a:pt x="18624" y="6236"/>
                    <a:pt x="18597" y="6159"/>
                  </a:cubicBezTo>
                  <a:cubicBezTo>
                    <a:pt x="18597" y="6083"/>
                    <a:pt x="18517" y="6006"/>
                    <a:pt x="18491" y="6083"/>
                  </a:cubicBezTo>
                  <a:cubicBezTo>
                    <a:pt x="18411" y="6312"/>
                    <a:pt x="18277" y="6083"/>
                    <a:pt x="18171" y="6083"/>
                  </a:cubicBezTo>
                  <a:cubicBezTo>
                    <a:pt x="18064" y="6083"/>
                    <a:pt x="17957" y="6006"/>
                    <a:pt x="17851" y="6006"/>
                  </a:cubicBezTo>
                  <a:cubicBezTo>
                    <a:pt x="17797" y="6006"/>
                    <a:pt x="17771" y="6006"/>
                    <a:pt x="17717" y="6083"/>
                  </a:cubicBezTo>
                  <a:cubicBezTo>
                    <a:pt x="17664" y="6159"/>
                    <a:pt x="17691" y="6389"/>
                    <a:pt x="17691" y="6542"/>
                  </a:cubicBezTo>
                  <a:cubicBezTo>
                    <a:pt x="17691" y="6542"/>
                    <a:pt x="17691" y="6542"/>
                    <a:pt x="17691" y="6542"/>
                  </a:cubicBezTo>
                  <a:cubicBezTo>
                    <a:pt x="17664" y="6542"/>
                    <a:pt x="17637" y="6159"/>
                    <a:pt x="17611" y="6083"/>
                  </a:cubicBezTo>
                  <a:cubicBezTo>
                    <a:pt x="17584" y="6083"/>
                    <a:pt x="17477" y="6083"/>
                    <a:pt x="17451" y="5929"/>
                  </a:cubicBezTo>
                  <a:cubicBezTo>
                    <a:pt x="17451" y="5700"/>
                    <a:pt x="17557" y="5623"/>
                    <a:pt x="17451" y="5393"/>
                  </a:cubicBezTo>
                  <a:cubicBezTo>
                    <a:pt x="17397" y="5317"/>
                    <a:pt x="17344" y="5240"/>
                    <a:pt x="17264" y="5164"/>
                  </a:cubicBezTo>
                  <a:cubicBezTo>
                    <a:pt x="17104" y="5010"/>
                    <a:pt x="16917" y="5164"/>
                    <a:pt x="16757" y="5240"/>
                  </a:cubicBezTo>
                  <a:cubicBezTo>
                    <a:pt x="16677" y="5240"/>
                    <a:pt x="16597" y="5240"/>
                    <a:pt x="16491" y="5240"/>
                  </a:cubicBezTo>
                  <a:cubicBezTo>
                    <a:pt x="16464" y="5240"/>
                    <a:pt x="16464" y="5240"/>
                    <a:pt x="16437" y="5240"/>
                  </a:cubicBezTo>
                  <a:cubicBezTo>
                    <a:pt x="16384" y="5164"/>
                    <a:pt x="16437" y="5164"/>
                    <a:pt x="16464" y="5087"/>
                  </a:cubicBezTo>
                  <a:cubicBezTo>
                    <a:pt x="16464" y="5010"/>
                    <a:pt x="16331" y="4934"/>
                    <a:pt x="16331" y="4934"/>
                  </a:cubicBezTo>
                  <a:cubicBezTo>
                    <a:pt x="16304" y="4857"/>
                    <a:pt x="16197" y="4934"/>
                    <a:pt x="16171" y="4934"/>
                  </a:cubicBezTo>
                  <a:cubicBezTo>
                    <a:pt x="16171" y="4934"/>
                    <a:pt x="16277" y="4857"/>
                    <a:pt x="16251" y="4781"/>
                  </a:cubicBezTo>
                  <a:cubicBezTo>
                    <a:pt x="16224" y="4781"/>
                    <a:pt x="16197" y="4857"/>
                    <a:pt x="16171" y="4857"/>
                  </a:cubicBezTo>
                  <a:cubicBezTo>
                    <a:pt x="16144" y="4781"/>
                    <a:pt x="16091" y="4704"/>
                    <a:pt x="16091" y="4704"/>
                  </a:cubicBezTo>
                  <a:cubicBezTo>
                    <a:pt x="16064" y="4704"/>
                    <a:pt x="15984" y="4551"/>
                    <a:pt x="16037" y="4551"/>
                  </a:cubicBezTo>
                  <a:cubicBezTo>
                    <a:pt x="16064" y="4551"/>
                    <a:pt x="16117" y="4551"/>
                    <a:pt x="16144" y="4551"/>
                  </a:cubicBezTo>
                  <a:cubicBezTo>
                    <a:pt x="16224" y="4551"/>
                    <a:pt x="16117" y="4321"/>
                    <a:pt x="16091" y="4321"/>
                  </a:cubicBezTo>
                  <a:cubicBezTo>
                    <a:pt x="16037" y="4168"/>
                    <a:pt x="15904" y="4244"/>
                    <a:pt x="15824" y="4168"/>
                  </a:cubicBezTo>
                  <a:cubicBezTo>
                    <a:pt x="15771" y="4168"/>
                    <a:pt x="15744" y="4321"/>
                    <a:pt x="15691" y="4474"/>
                  </a:cubicBezTo>
                  <a:cubicBezTo>
                    <a:pt x="15691" y="4474"/>
                    <a:pt x="15504" y="4781"/>
                    <a:pt x="15504" y="4551"/>
                  </a:cubicBezTo>
                  <a:cubicBezTo>
                    <a:pt x="15531" y="4398"/>
                    <a:pt x="15557" y="4551"/>
                    <a:pt x="15611" y="4474"/>
                  </a:cubicBezTo>
                  <a:cubicBezTo>
                    <a:pt x="15611" y="4474"/>
                    <a:pt x="15584" y="4244"/>
                    <a:pt x="15557" y="4244"/>
                  </a:cubicBezTo>
                  <a:cubicBezTo>
                    <a:pt x="15557" y="4244"/>
                    <a:pt x="15397" y="4244"/>
                    <a:pt x="15397" y="4244"/>
                  </a:cubicBezTo>
                  <a:cubicBezTo>
                    <a:pt x="15424" y="4168"/>
                    <a:pt x="15477" y="4091"/>
                    <a:pt x="15531" y="4091"/>
                  </a:cubicBezTo>
                  <a:cubicBezTo>
                    <a:pt x="15557" y="4168"/>
                    <a:pt x="15744" y="4168"/>
                    <a:pt x="15744" y="4168"/>
                  </a:cubicBezTo>
                  <a:cubicBezTo>
                    <a:pt x="15744" y="4091"/>
                    <a:pt x="15584" y="4091"/>
                    <a:pt x="15557" y="4015"/>
                  </a:cubicBezTo>
                  <a:cubicBezTo>
                    <a:pt x="15504" y="4015"/>
                    <a:pt x="15451" y="4015"/>
                    <a:pt x="15397" y="4015"/>
                  </a:cubicBezTo>
                  <a:cubicBezTo>
                    <a:pt x="15291" y="3938"/>
                    <a:pt x="15184" y="3938"/>
                    <a:pt x="15077" y="3861"/>
                  </a:cubicBezTo>
                  <a:cubicBezTo>
                    <a:pt x="15051" y="3861"/>
                    <a:pt x="14944" y="3785"/>
                    <a:pt x="14944" y="3785"/>
                  </a:cubicBezTo>
                  <a:cubicBezTo>
                    <a:pt x="14944" y="3861"/>
                    <a:pt x="14971" y="3938"/>
                    <a:pt x="14944" y="3938"/>
                  </a:cubicBezTo>
                  <a:cubicBezTo>
                    <a:pt x="14917" y="4015"/>
                    <a:pt x="14891" y="4015"/>
                    <a:pt x="14864" y="4015"/>
                  </a:cubicBezTo>
                  <a:cubicBezTo>
                    <a:pt x="14837" y="4015"/>
                    <a:pt x="14704" y="4091"/>
                    <a:pt x="14731" y="4244"/>
                  </a:cubicBezTo>
                  <a:cubicBezTo>
                    <a:pt x="14757" y="4398"/>
                    <a:pt x="14811" y="4168"/>
                    <a:pt x="14837" y="4244"/>
                  </a:cubicBezTo>
                  <a:cubicBezTo>
                    <a:pt x="14837" y="4244"/>
                    <a:pt x="14757" y="4321"/>
                    <a:pt x="14784" y="4474"/>
                  </a:cubicBezTo>
                  <a:cubicBezTo>
                    <a:pt x="14811" y="4474"/>
                    <a:pt x="14784" y="4551"/>
                    <a:pt x="14784" y="4627"/>
                  </a:cubicBezTo>
                  <a:cubicBezTo>
                    <a:pt x="14811" y="4627"/>
                    <a:pt x="14837" y="4704"/>
                    <a:pt x="14837" y="4781"/>
                  </a:cubicBezTo>
                  <a:cubicBezTo>
                    <a:pt x="14837" y="4781"/>
                    <a:pt x="14731" y="4781"/>
                    <a:pt x="14704" y="4781"/>
                  </a:cubicBezTo>
                  <a:cubicBezTo>
                    <a:pt x="14651" y="4781"/>
                    <a:pt x="14704" y="4704"/>
                    <a:pt x="14704" y="4704"/>
                  </a:cubicBezTo>
                  <a:cubicBezTo>
                    <a:pt x="14677" y="4627"/>
                    <a:pt x="14597" y="4704"/>
                    <a:pt x="14597" y="4704"/>
                  </a:cubicBezTo>
                  <a:cubicBezTo>
                    <a:pt x="14544" y="4781"/>
                    <a:pt x="14491" y="4704"/>
                    <a:pt x="14464" y="4704"/>
                  </a:cubicBezTo>
                  <a:cubicBezTo>
                    <a:pt x="14437" y="4704"/>
                    <a:pt x="14544" y="4781"/>
                    <a:pt x="14544" y="4781"/>
                  </a:cubicBezTo>
                  <a:cubicBezTo>
                    <a:pt x="14624" y="4857"/>
                    <a:pt x="14544" y="5010"/>
                    <a:pt x="14517" y="4934"/>
                  </a:cubicBezTo>
                  <a:cubicBezTo>
                    <a:pt x="14491" y="4934"/>
                    <a:pt x="14491" y="4857"/>
                    <a:pt x="14491" y="4781"/>
                  </a:cubicBezTo>
                  <a:cubicBezTo>
                    <a:pt x="14464" y="4781"/>
                    <a:pt x="14437" y="4781"/>
                    <a:pt x="14411" y="4781"/>
                  </a:cubicBezTo>
                  <a:cubicBezTo>
                    <a:pt x="14357" y="4704"/>
                    <a:pt x="14304" y="4627"/>
                    <a:pt x="14224" y="4704"/>
                  </a:cubicBezTo>
                  <a:cubicBezTo>
                    <a:pt x="14144" y="4704"/>
                    <a:pt x="14091" y="4934"/>
                    <a:pt x="14011" y="4781"/>
                  </a:cubicBezTo>
                  <a:cubicBezTo>
                    <a:pt x="13957" y="4704"/>
                    <a:pt x="13904" y="4627"/>
                    <a:pt x="13877" y="4474"/>
                  </a:cubicBezTo>
                  <a:cubicBezTo>
                    <a:pt x="13851" y="4398"/>
                    <a:pt x="13797" y="4704"/>
                    <a:pt x="13771" y="4704"/>
                  </a:cubicBezTo>
                  <a:cubicBezTo>
                    <a:pt x="13744" y="4857"/>
                    <a:pt x="13717" y="5317"/>
                    <a:pt x="13637" y="5240"/>
                  </a:cubicBezTo>
                  <a:cubicBezTo>
                    <a:pt x="13584" y="5164"/>
                    <a:pt x="13531" y="5164"/>
                    <a:pt x="13477" y="5010"/>
                  </a:cubicBezTo>
                  <a:cubicBezTo>
                    <a:pt x="13451" y="4934"/>
                    <a:pt x="13397" y="4781"/>
                    <a:pt x="13371" y="4704"/>
                  </a:cubicBezTo>
                  <a:cubicBezTo>
                    <a:pt x="13344" y="4551"/>
                    <a:pt x="13291" y="4474"/>
                    <a:pt x="13264" y="4398"/>
                  </a:cubicBezTo>
                  <a:cubicBezTo>
                    <a:pt x="13211" y="4244"/>
                    <a:pt x="13317" y="4321"/>
                    <a:pt x="13344" y="4321"/>
                  </a:cubicBezTo>
                  <a:cubicBezTo>
                    <a:pt x="13371" y="4321"/>
                    <a:pt x="13424" y="4244"/>
                    <a:pt x="13424" y="4168"/>
                  </a:cubicBezTo>
                  <a:cubicBezTo>
                    <a:pt x="13424" y="4168"/>
                    <a:pt x="13291" y="3938"/>
                    <a:pt x="13291" y="3938"/>
                  </a:cubicBezTo>
                  <a:cubicBezTo>
                    <a:pt x="13291" y="3938"/>
                    <a:pt x="13371" y="3938"/>
                    <a:pt x="13371" y="3861"/>
                  </a:cubicBezTo>
                  <a:cubicBezTo>
                    <a:pt x="13344" y="3785"/>
                    <a:pt x="13291" y="3785"/>
                    <a:pt x="13291" y="3785"/>
                  </a:cubicBezTo>
                  <a:cubicBezTo>
                    <a:pt x="13291" y="3632"/>
                    <a:pt x="13424" y="3555"/>
                    <a:pt x="13291" y="3478"/>
                  </a:cubicBezTo>
                  <a:cubicBezTo>
                    <a:pt x="13264" y="3478"/>
                    <a:pt x="13237" y="3325"/>
                    <a:pt x="13184" y="3325"/>
                  </a:cubicBezTo>
                  <a:cubicBezTo>
                    <a:pt x="13157" y="3325"/>
                    <a:pt x="13104" y="3249"/>
                    <a:pt x="13077" y="3325"/>
                  </a:cubicBezTo>
                  <a:cubicBezTo>
                    <a:pt x="13051" y="3325"/>
                    <a:pt x="13051" y="3402"/>
                    <a:pt x="13024" y="3402"/>
                  </a:cubicBezTo>
                  <a:cubicBezTo>
                    <a:pt x="12997" y="3325"/>
                    <a:pt x="12997" y="3325"/>
                    <a:pt x="12971" y="3325"/>
                  </a:cubicBezTo>
                  <a:cubicBezTo>
                    <a:pt x="12944" y="3325"/>
                    <a:pt x="12891" y="3325"/>
                    <a:pt x="12864" y="3249"/>
                  </a:cubicBezTo>
                  <a:cubicBezTo>
                    <a:pt x="12837" y="3249"/>
                    <a:pt x="12811" y="3249"/>
                    <a:pt x="12784" y="3095"/>
                  </a:cubicBezTo>
                  <a:cubicBezTo>
                    <a:pt x="12757" y="3095"/>
                    <a:pt x="12784" y="3019"/>
                    <a:pt x="12731" y="3095"/>
                  </a:cubicBezTo>
                  <a:cubicBezTo>
                    <a:pt x="12731" y="3095"/>
                    <a:pt x="12704" y="3172"/>
                    <a:pt x="12677" y="3172"/>
                  </a:cubicBezTo>
                  <a:cubicBezTo>
                    <a:pt x="12651" y="3172"/>
                    <a:pt x="12651" y="3095"/>
                    <a:pt x="12624" y="3172"/>
                  </a:cubicBezTo>
                  <a:cubicBezTo>
                    <a:pt x="12624" y="3249"/>
                    <a:pt x="12597" y="3325"/>
                    <a:pt x="12597" y="3402"/>
                  </a:cubicBezTo>
                  <a:cubicBezTo>
                    <a:pt x="12597" y="3478"/>
                    <a:pt x="12651" y="3478"/>
                    <a:pt x="12624" y="3555"/>
                  </a:cubicBezTo>
                  <a:cubicBezTo>
                    <a:pt x="12597" y="3632"/>
                    <a:pt x="12624" y="3632"/>
                    <a:pt x="12597" y="3632"/>
                  </a:cubicBezTo>
                  <a:cubicBezTo>
                    <a:pt x="12571" y="3632"/>
                    <a:pt x="12517" y="3632"/>
                    <a:pt x="12491" y="3708"/>
                  </a:cubicBezTo>
                  <a:cubicBezTo>
                    <a:pt x="12517" y="3632"/>
                    <a:pt x="12597" y="3785"/>
                    <a:pt x="12597" y="3785"/>
                  </a:cubicBezTo>
                  <a:cubicBezTo>
                    <a:pt x="12571" y="3861"/>
                    <a:pt x="12491" y="3708"/>
                    <a:pt x="12437" y="3708"/>
                  </a:cubicBezTo>
                  <a:cubicBezTo>
                    <a:pt x="12384" y="3708"/>
                    <a:pt x="12304" y="3708"/>
                    <a:pt x="12224" y="3708"/>
                  </a:cubicBezTo>
                  <a:cubicBezTo>
                    <a:pt x="12197" y="3708"/>
                    <a:pt x="12197" y="3632"/>
                    <a:pt x="12171" y="3632"/>
                  </a:cubicBezTo>
                  <a:cubicBezTo>
                    <a:pt x="12144" y="3555"/>
                    <a:pt x="12064" y="3632"/>
                    <a:pt x="12037" y="3632"/>
                  </a:cubicBezTo>
                  <a:cubicBezTo>
                    <a:pt x="12011" y="3555"/>
                    <a:pt x="11957" y="3555"/>
                    <a:pt x="11931" y="3478"/>
                  </a:cubicBezTo>
                  <a:cubicBezTo>
                    <a:pt x="11931" y="3402"/>
                    <a:pt x="11984" y="3402"/>
                    <a:pt x="11984" y="3325"/>
                  </a:cubicBezTo>
                  <a:cubicBezTo>
                    <a:pt x="12011" y="3249"/>
                    <a:pt x="11771" y="3249"/>
                    <a:pt x="11744" y="3249"/>
                  </a:cubicBezTo>
                  <a:cubicBezTo>
                    <a:pt x="11611" y="3172"/>
                    <a:pt x="11504" y="3249"/>
                    <a:pt x="11371" y="3249"/>
                  </a:cubicBezTo>
                  <a:cubicBezTo>
                    <a:pt x="11291" y="3249"/>
                    <a:pt x="11317" y="3249"/>
                    <a:pt x="11344" y="3402"/>
                  </a:cubicBezTo>
                  <a:cubicBezTo>
                    <a:pt x="11344" y="3478"/>
                    <a:pt x="11291" y="3402"/>
                    <a:pt x="11291" y="3402"/>
                  </a:cubicBezTo>
                  <a:cubicBezTo>
                    <a:pt x="11237" y="3402"/>
                    <a:pt x="11264" y="3325"/>
                    <a:pt x="11264" y="3249"/>
                  </a:cubicBezTo>
                  <a:cubicBezTo>
                    <a:pt x="11264" y="3095"/>
                    <a:pt x="11237" y="2866"/>
                    <a:pt x="11184" y="3019"/>
                  </a:cubicBezTo>
                  <a:cubicBezTo>
                    <a:pt x="11184" y="3172"/>
                    <a:pt x="11077" y="3172"/>
                    <a:pt x="11024" y="3095"/>
                  </a:cubicBezTo>
                  <a:cubicBezTo>
                    <a:pt x="10997" y="3019"/>
                    <a:pt x="11051" y="2866"/>
                    <a:pt x="10944" y="2942"/>
                  </a:cubicBezTo>
                  <a:cubicBezTo>
                    <a:pt x="10917" y="2942"/>
                    <a:pt x="10891" y="2942"/>
                    <a:pt x="10864" y="2942"/>
                  </a:cubicBezTo>
                  <a:cubicBezTo>
                    <a:pt x="10837" y="2866"/>
                    <a:pt x="10811" y="2942"/>
                    <a:pt x="10757" y="3019"/>
                  </a:cubicBezTo>
                  <a:cubicBezTo>
                    <a:pt x="10704" y="3172"/>
                    <a:pt x="10837" y="3095"/>
                    <a:pt x="10837" y="3172"/>
                  </a:cubicBezTo>
                  <a:cubicBezTo>
                    <a:pt x="10837" y="3325"/>
                    <a:pt x="10731" y="3249"/>
                    <a:pt x="10704" y="3325"/>
                  </a:cubicBezTo>
                  <a:cubicBezTo>
                    <a:pt x="10677" y="3402"/>
                    <a:pt x="10624" y="3402"/>
                    <a:pt x="10571" y="3478"/>
                  </a:cubicBezTo>
                  <a:cubicBezTo>
                    <a:pt x="10517" y="3555"/>
                    <a:pt x="10464" y="3555"/>
                    <a:pt x="10384" y="3555"/>
                  </a:cubicBezTo>
                  <a:cubicBezTo>
                    <a:pt x="10331" y="3555"/>
                    <a:pt x="10331" y="3555"/>
                    <a:pt x="10304" y="3708"/>
                  </a:cubicBezTo>
                  <a:cubicBezTo>
                    <a:pt x="10277" y="3785"/>
                    <a:pt x="10171" y="3861"/>
                    <a:pt x="10144" y="3861"/>
                  </a:cubicBezTo>
                  <a:cubicBezTo>
                    <a:pt x="10144" y="3785"/>
                    <a:pt x="10197" y="3785"/>
                    <a:pt x="10197" y="3785"/>
                  </a:cubicBezTo>
                  <a:cubicBezTo>
                    <a:pt x="10251" y="3708"/>
                    <a:pt x="10251" y="3555"/>
                    <a:pt x="10277" y="3478"/>
                  </a:cubicBezTo>
                  <a:cubicBezTo>
                    <a:pt x="10304" y="3325"/>
                    <a:pt x="10331" y="3478"/>
                    <a:pt x="10357" y="3402"/>
                  </a:cubicBezTo>
                  <a:cubicBezTo>
                    <a:pt x="10384" y="3402"/>
                    <a:pt x="10384" y="3325"/>
                    <a:pt x="10411" y="3325"/>
                  </a:cubicBezTo>
                  <a:cubicBezTo>
                    <a:pt x="10491" y="3172"/>
                    <a:pt x="10597" y="3095"/>
                    <a:pt x="10677" y="2942"/>
                  </a:cubicBezTo>
                  <a:cubicBezTo>
                    <a:pt x="10731" y="2866"/>
                    <a:pt x="10784" y="2789"/>
                    <a:pt x="10837" y="2712"/>
                  </a:cubicBezTo>
                  <a:cubicBezTo>
                    <a:pt x="10944" y="2483"/>
                    <a:pt x="11077" y="2329"/>
                    <a:pt x="11184" y="2176"/>
                  </a:cubicBezTo>
                  <a:cubicBezTo>
                    <a:pt x="11264" y="2100"/>
                    <a:pt x="11344" y="1946"/>
                    <a:pt x="11264" y="1717"/>
                  </a:cubicBezTo>
                  <a:cubicBezTo>
                    <a:pt x="11237" y="1640"/>
                    <a:pt x="11237" y="1793"/>
                    <a:pt x="11211" y="1717"/>
                  </a:cubicBezTo>
                  <a:cubicBezTo>
                    <a:pt x="11184" y="1640"/>
                    <a:pt x="11157" y="1640"/>
                    <a:pt x="11131" y="1564"/>
                  </a:cubicBezTo>
                  <a:cubicBezTo>
                    <a:pt x="11131" y="1487"/>
                    <a:pt x="11264" y="1640"/>
                    <a:pt x="11264" y="1640"/>
                  </a:cubicBezTo>
                  <a:cubicBezTo>
                    <a:pt x="11291" y="1640"/>
                    <a:pt x="11371" y="1640"/>
                    <a:pt x="11317" y="1487"/>
                  </a:cubicBezTo>
                  <a:cubicBezTo>
                    <a:pt x="11291" y="1410"/>
                    <a:pt x="11291" y="1334"/>
                    <a:pt x="11264" y="1257"/>
                  </a:cubicBezTo>
                  <a:cubicBezTo>
                    <a:pt x="11237" y="1104"/>
                    <a:pt x="11211" y="1410"/>
                    <a:pt x="11184" y="1410"/>
                  </a:cubicBezTo>
                  <a:cubicBezTo>
                    <a:pt x="11184" y="1334"/>
                    <a:pt x="11184" y="1257"/>
                    <a:pt x="11184" y="1257"/>
                  </a:cubicBezTo>
                  <a:cubicBezTo>
                    <a:pt x="11184" y="1181"/>
                    <a:pt x="11184" y="1181"/>
                    <a:pt x="11157" y="1104"/>
                  </a:cubicBezTo>
                  <a:cubicBezTo>
                    <a:pt x="11157" y="1027"/>
                    <a:pt x="11104" y="951"/>
                    <a:pt x="11077" y="951"/>
                  </a:cubicBezTo>
                  <a:cubicBezTo>
                    <a:pt x="11024" y="874"/>
                    <a:pt x="10997" y="874"/>
                    <a:pt x="10944" y="798"/>
                  </a:cubicBezTo>
                  <a:cubicBezTo>
                    <a:pt x="10891" y="798"/>
                    <a:pt x="10891" y="798"/>
                    <a:pt x="10811" y="874"/>
                  </a:cubicBezTo>
                  <a:cubicBezTo>
                    <a:pt x="10757" y="874"/>
                    <a:pt x="10571" y="644"/>
                    <a:pt x="10544" y="874"/>
                  </a:cubicBezTo>
                  <a:cubicBezTo>
                    <a:pt x="10517" y="951"/>
                    <a:pt x="10357" y="1027"/>
                    <a:pt x="10331" y="951"/>
                  </a:cubicBezTo>
                  <a:cubicBezTo>
                    <a:pt x="10331" y="951"/>
                    <a:pt x="10491" y="644"/>
                    <a:pt x="10437" y="568"/>
                  </a:cubicBezTo>
                  <a:cubicBezTo>
                    <a:pt x="10437" y="568"/>
                    <a:pt x="10251" y="644"/>
                    <a:pt x="10224" y="568"/>
                  </a:cubicBezTo>
                  <a:cubicBezTo>
                    <a:pt x="10224" y="491"/>
                    <a:pt x="10277" y="491"/>
                    <a:pt x="10277" y="491"/>
                  </a:cubicBezTo>
                  <a:cubicBezTo>
                    <a:pt x="10277" y="415"/>
                    <a:pt x="10064" y="491"/>
                    <a:pt x="10064" y="491"/>
                  </a:cubicBezTo>
                  <a:cubicBezTo>
                    <a:pt x="10091" y="338"/>
                    <a:pt x="10197" y="415"/>
                    <a:pt x="10224" y="338"/>
                  </a:cubicBezTo>
                  <a:cubicBezTo>
                    <a:pt x="10251" y="261"/>
                    <a:pt x="10304" y="338"/>
                    <a:pt x="10277" y="261"/>
                  </a:cubicBezTo>
                  <a:cubicBezTo>
                    <a:pt x="10277" y="185"/>
                    <a:pt x="10277" y="108"/>
                    <a:pt x="10251" y="108"/>
                  </a:cubicBezTo>
                  <a:cubicBezTo>
                    <a:pt x="10171" y="108"/>
                    <a:pt x="10144" y="32"/>
                    <a:pt x="10064" y="32"/>
                  </a:cubicBezTo>
                  <a:cubicBezTo>
                    <a:pt x="10011" y="-45"/>
                    <a:pt x="9957" y="32"/>
                    <a:pt x="9904" y="108"/>
                  </a:cubicBezTo>
                  <a:cubicBezTo>
                    <a:pt x="9797" y="185"/>
                    <a:pt x="9691" y="415"/>
                    <a:pt x="9637" y="568"/>
                  </a:cubicBezTo>
                  <a:cubicBezTo>
                    <a:pt x="9611" y="644"/>
                    <a:pt x="9611" y="644"/>
                    <a:pt x="9637" y="721"/>
                  </a:cubicBezTo>
                  <a:cubicBezTo>
                    <a:pt x="9664" y="721"/>
                    <a:pt x="9637" y="798"/>
                    <a:pt x="9637" y="874"/>
                  </a:cubicBezTo>
                  <a:cubicBezTo>
                    <a:pt x="9637" y="1027"/>
                    <a:pt x="9744" y="951"/>
                    <a:pt x="9744" y="1027"/>
                  </a:cubicBezTo>
                  <a:cubicBezTo>
                    <a:pt x="9744" y="951"/>
                    <a:pt x="9611" y="1027"/>
                    <a:pt x="9584" y="1027"/>
                  </a:cubicBezTo>
                  <a:cubicBezTo>
                    <a:pt x="9557" y="1027"/>
                    <a:pt x="9397" y="951"/>
                    <a:pt x="9371" y="1027"/>
                  </a:cubicBezTo>
                  <a:cubicBezTo>
                    <a:pt x="9371" y="951"/>
                    <a:pt x="9451" y="1257"/>
                    <a:pt x="9451" y="1257"/>
                  </a:cubicBezTo>
                  <a:cubicBezTo>
                    <a:pt x="9477" y="1334"/>
                    <a:pt x="9344" y="1181"/>
                    <a:pt x="9317" y="1181"/>
                  </a:cubicBezTo>
                  <a:cubicBezTo>
                    <a:pt x="9291" y="1181"/>
                    <a:pt x="9237" y="1257"/>
                    <a:pt x="9184" y="1334"/>
                  </a:cubicBezTo>
                  <a:cubicBezTo>
                    <a:pt x="9184" y="1334"/>
                    <a:pt x="9184" y="1334"/>
                    <a:pt x="9157" y="1334"/>
                  </a:cubicBezTo>
                  <a:cubicBezTo>
                    <a:pt x="9104" y="1334"/>
                    <a:pt x="9157" y="1334"/>
                    <a:pt x="9131" y="1257"/>
                  </a:cubicBezTo>
                  <a:cubicBezTo>
                    <a:pt x="9131" y="1334"/>
                    <a:pt x="8997" y="1487"/>
                    <a:pt x="8997" y="1487"/>
                  </a:cubicBezTo>
                  <a:cubicBezTo>
                    <a:pt x="8997" y="1410"/>
                    <a:pt x="9051" y="1334"/>
                    <a:pt x="9051" y="1334"/>
                  </a:cubicBezTo>
                  <a:cubicBezTo>
                    <a:pt x="9051" y="1257"/>
                    <a:pt x="8917" y="1334"/>
                    <a:pt x="8891" y="1257"/>
                  </a:cubicBezTo>
                  <a:cubicBezTo>
                    <a:pt x="8891" y="1257"/>
                    <a:pt x="8944" y="1181"/>
                    <a:pt x="8944" y="1181"/>
                  </a:cubicBezTo>
                  <a:cubicBezTo>
                    <a:pt x="8917" y="1257"/>
                    <a:pt x="8784" y="1334"/>
                    <a:pt x="8731" y="1334"/>
                  </a:cubicBezTo>
                  <a:cubicBezTo>
                    <a:pt x="8597" y="1410"/>
                    <a:pt x="8757" y="1410"/>
                    <a:pt x="8784" y="1487"/>
                  </a:cubicBezTo>
                  <a:cubicBezTo>
                    <a:pt x="8757" y="1410"/>
                    <a:pt x="8624" y="1564"/>
                    <a:pt x="8597" y="1564"/>
                  </a:cubicBezTo>
                  <a:cubicBezTo>
                    <a:pt x="8571" y="1564"/>
                    <a:pt x="8544" y="1564"/>
                    <a:pt x="8517" y="1640"/>
                  </a:cubicBezTo>
                  <a:cubicBezTo>
                    <a:pt x="8491" y="1717"/>
                    <a:pt x="8437" y="1640"/>
                    <a:pt x="8384" y="1640"/>
                  </a:cubicBezTo>
                  <a:cubicBezTo>
                    <a:pt x="8357" y="1640"/>
                    <a:pt x="8331" y="1793"/>
                    <a:pt x="8277" y="1793"/>
                  </a:cubicBezTo>
                  <a:cubicBezTo>
                    <a:pt x="8224" y="1870"/>
                    <a:pt x="8197" y="1793"/>
                    <a:pt x="8171" y="1870"/>
                  </a:cubicBezTo>
                  <a:cubicBezTo>
                    <a:pt x="8144" y="1946"/>
                    <a:pt x="8117" y="2023"/>
                    <a:pt x="8091" y="2023"/>
                  </a:cubicBezTo>
                  <a:cubicBezTo>
                    <a:pt x="8037" y="2023"/>
                    <a:pt x="7984" y="2023"/>
                    <a:pt x="7957" y="2023"/>
                  </a:cubicBezTo>
                  <a:cubicBezTo>
                    <a:pt x="7957" y="2023"/>
                    <a:pt x="8037" y="2176"/>
                    <a:pt x="8037" y="2176"/>
                  </a:cubicBezTo>
                  <a:cubicBezTo>
                    <a:pt x="8011" y="2253"/>
                    <a:pt x="7851" y="2253"/>
                    <a:pt x="7851" y="2253"/>
                  </a:cubicBezTo>
                  <a:cubicBezTo>
                    <a:pt x="7851" y="2253"/>
                    <a:pt x="7957" y="2253"/>
                    <a:pt x="7957" y="2253"/>
                  </a:cubicBezTo>
                  <a:cubicBezTo>
                    <a:pt x="7957" y="2253"/>
                    <a:pt x="7904" y="2253"/>
                    <a:pt x="7877" y="2253"/>
                  </a:cubicBezTo>
                  <a:cubicBezTo>
                    <a:pt x="7904" y="2253"/>
                    <a:pt x="7957" y="2329"/>
                    <a:pt x="7957" y="2329"/>
                  </a:cubicBezTo>
                  <a:cubicBezTo>
                    <a:pt x="7931" y="2329"/>
                    <a:pt x="7931" y="2329"/>
                    <a:pt x="7904" y="2329"/>
                  </a:cubicBezTo>
                  <a:cubicBezTo>
                    <a:pt x="7931" y="2329"/>
                    <a:pt x="7904" y="2406"/>
                    <a:pt x="7904" y="2406"/>
                  </a:cubicBezTo>
                  <a:cubicBezTo>
                    <a:pt x="7904" y="2483"/>
                    <a:pt x="7824" y="2406"/>
                    <a:pt x="7824" y="2406"/>
                  </a:cubicBezTo>
                  <a:cubicBezTo>
                    <a:pt x="7824" y="2483"/>
                    <a:pt x="7877" y="2483"/>
                    <a:pt x="7877" y="2559"/>
                  </a:cubicBezTo>
                  <a:cubicBezTo>
                    <a:pt x="7904" y="2559"/>
                    <a:pt x="7851" y="2559"/>
                    <a:pt x="7851" y="2559"/>
                  </a:cubicBezTo>
                  <a:cubicBezTo>
                    <a:pt x="7851" y="2712"/>
                    <a:pt x="7957" y="2559"/>
                    <a:pt x="7931" y="2712"/>
                  </a:cubicBezTo>
                  <a:cubicBezTo>
                    <a:pt x="7877" y="2866"/>
                    <a:pt x="8011" y="2942"/>
                    <a:pt x="7931" y="3019"/>
                  </a:cubicBezTo>
                  <a:cubicBezTo>
                    <a:pt x="7877" y="3019"/>
                    <a:pt x="7824" y="3019"/>
                    <a:pt x="7771" y="3019"/>
                  </a:cubicBezTo>
                  <a:cubicBezTo>
                    <a:pt x="7744" y="3095"/>
                    <a:pt x="7744" y="3172"/>
                    <a:pt x="7691" y="3095"/>
                  </a:cubicBezTo>
                  <a:cubicBezTo>
                    <a:pt x="7664" y="3095"/>
                    <a:pt x="7637" y="3095"/>
                    <a:pt x="7611" y="3095"/>
                  </a:cubicBezTo>
                  <a:cubicBezTo>
                    <a:pt x="7504" y="3172"/>
                    <a:pt x="7397" y="3172"/>
                    <a:pt x="7291" y="3172"/>
                  </a:cubicBezTo>
                  <a:cubicBezTo>
                    <a:pt x="7237" y="3172"/>
                    <a:pt x="7184" y="3172"/>
                    <a:pt x="7157" y="3249"/>
                  </a:cubicBezTo>
                  <a:cubicBezTo>
                    <a:pt x="7131" y="3325"/>
                    <a:pt x="7104" y="3402"/>
                    <a:pt x="7104" y="3478"/>
                  </a:cubicBezTo>
                  <a:cubicBezTo>
                    <a:pt x="7104" y="3555"/>
                    <a:pt x="7157" y="3632"/>
                    <a:pt x="7157" y="3708"/>
                  </a:cubicBezTo>
                  <a:cubicBezTo>
                    <a:pt x="7131" y="3861"/>
                    <a:pt x="7131" y="3938"/>
                    <a:pt x="7157" y="4015"/>
                  </a:cubicBezTo>
                  <a:cubicBezTo>
                    <a:pt x="7211" y="4168"/>
                    <a:pt x="7291" y="4091"/>
                    <a:pt x="7344" y="4244"/>
                  </a:cubicBezTo>
                  <a:cubicBezTo>
                    <a:pt x="7344" y="4244"/>
                    <a:pt x="7397" y="4551"/>
                    <a:pt x="7397" y="4551"/>
                  </a:cubicBezTo>
                  <a:cubicBezTo>
                    <a:pt x="7291" y="4551"/>
                    <a:pt x="7264" y="4551"/>
                    <a:pt x="7184" y="4398"/>
                  </a:cubicBezTo>
                  <a:cubicBezTo>
                    <a:pt x="7104" y="4244"/>
                    <a:pt x="6971" y="4091"/>
                    <a:pt x="6864" y="4091"/>
                  </a:cubicBezTo>
                  <a:cubicBezTo>
                    <a:pt x="6811" y="4091"/>
                    <a:pt x="6837" y="4015"/>
                    <a:pt x="6784" y="3938"/>
                  </a:cubicBezTo>
                  <a:cubicBezTo>
                    <a:pt x="6757" y="3938"/>
                    <a:pt x="6651" y="3938"/>
                    <a:pt x="6651" y="4091"/>
                  </a:cubicBezTo>
                  <a:cubicBezTo>
                    <a:pt x="6651" y="4168"/>
                    <a:pt x="6757" y="4168"/>
                    <a:pt x="6757" y="4168"/>
                  </a:cubicBezTo>
                  <a:cubicBezTo>
                    <a:pt x="6757" y="4168"/>
                    <a:pt x="6677" y="4244"/>
                    <a:pt x="6704" y="4244"/>
                  </a:cubicBezTo>
                  <a:cubicBezTo>
                    <a:pt x="6757" y="4321"/>
                    <a:pt x="6784" y="4244"/>
                    <a:pt x="6811" y="4398"/>
                  </a:cubicBezTo>
                  <a:cubicBezTo>
                    <a:pt x="6811" y="4551"/>
                    <a:pt x="6731" y="4474"/>
                    <a:pt x="6704" y="4474"/>
                  </a:cubicBezTo>
                  <a:cubicBezTo>
                    <a:pt x="6651" y="4398"/>
                    <a:pt x="6624" y="4321"/>
                    <a:pt x="6571" y="4398"/>
                  </a:cubicBezTo>
                  <a:cubicBezTo>
                    <a:pt x="6517" y="4398"/>
                    <a:pt x="6544" y="4627"/>
                    <a:pt x="6571" y="4704"/>
                  </a:cubicBezTo>
                  <a:cubicBezTo>
                    <a:pt x="6597" y="4781"/>
                    <a:pt x="6651" y="4781"/>
                    <a:pt x="6677" y="4781"/>
                  </a:cubicBezTo>
                  <a:cubicBezTo>
                    <a:pt x="6731" y="4857"/>
                    <a:pt x="6784" y="4857"/>
                    <a:pt x="6811" y="4934"/>
                  </a:cubicBezTo>
                  <a:cubicBezTo>
                    <a:pt x="6837" y="5010"/>
                    <a:pt x="6837" y="5087"/>
                    <a:pt x="6837" y="5087"/>
                  </a:cubicBezTo>
                  <a:cubicBezTo>
                    <a:pt x="6864" y="5087"/>
                    <a:pt x="6891" y="5087"/>
                    <a:pt x="6917" y="5087"/>
                  </a:cubicBezTo>
                  <a:cubicBezTo>
                    <a:pt x="6917" y="5087"/>
                    <a:pt x="6837" y="5164"/>
                    <a:pt x="6837" y="5164"/>
                  </a:cubicBezTo>
                  <a:cubicBezTo>
                    <a:pt x="6784" y="5164"/>
                    <a:pt x="6784" y="5087"/>
                    <a:pt x="6757" y="5010"/>
                  </a:cubicBezTo>
                  <a:cubicBezTo>
                    <a:pt x="6704" y="4934"/>
                    <a:pt x="6624" y="4934"/>
                    <a:pt x="6544" y="4934"/>
                  </a:cubicBezTo>
                  <a:cubicBezTo>
                    <a:pt x="6517" y="4934"/>
                    <a:pt x="6384" y="4857"/>
                    <a:pt x="6437" y="4704"/>
                  </a:cubicBezTo>
                  <a:cubicBezTo>
                    <a:pt x="6464" y="4704"/>
                    <a:pt x="6437" y="4627"/>
                    <a:pt x="6437" y="4551"/>
                  </a:cubicBezTo>
                  <a:cubicBezTo>
                    <a:pt x="6411" y="4474"/>
                    <a:pt x="6437" y="4398"/>
                    <a:pt x="6437" y="4321"/>
                  </a:cubicBezTo>
                  <a:cubicBezTo>
                    <a:pt x="6464" y="4168"/>
                    <a:pt x="6491" y="3861"/>
                    <a:pt x="6437" y="3785"/>
                  </a:cubicBezTo>
                  <a:cubicBezTo>
                    <a:pt x="6331" y="3708"/>
                    <a:pt x="6411" y="4091"/>
                    <a:pt x="6384" y="4244"/>
                  </a:cubicBezTo>
                  <a:cubicBezTo>
                    <a:pt x="6331" y="4398"/>
                    <a:pt x="6251" y="4474"/>
                    <a:pt x="6197" y="4627"/>
                  </a:cubicBezTo>
                  <a:cubicBezTo>
                    <a:pt x="6117" y="4857"/>
                    <a:pt x="6144" y="4781"/>
                    <a:pt x="6197" y="4934"/>
                  </a:cubicBezTo>
                  <a:cubicBezTo>
                    <a:pt x="6224" y="5010"/>
                    <a:pt x="6304" y="5240"/>
                    <a:pt x="6304" y="5393"/>
                  </a:cubicBezTo>
                  <a:cubicBezTo>
                    <a:pt x="6304" y="5393"/>
                    <a:pt x="6277" y="5546"/>
                    <a:pt x="6251" y="5546"/>
                  </a:cubicBezTo>
                  <a:cubicBezTo>
                    <a:pt x="6224" y="5700"/>
                    <a:pt x="6197" y="5853"/>
                    <a:pt x="6197" y="6006"/>
                  </a:cubicBezTo>
                  <a:cubicBezTo>
                    <a:pt x="6197" y="6006"/>
                    <a:pt x="6224" y="6389"/>
                    <a:pt x="6251" y="6389"/>
                  </a:cubicBezTo>
                  <a:cubicBezTo>
                    <a:pt x="6304" y="6389"/>
                    <a:pt x="6357" y="6389"/>
                    <a:pt x="6411" y="6312"/>
                  </a:cubicBezTo>
                  <a:cubicBezTo>
                    <a:pt x="6464" y="6236"/>
                    <a:pt x="6544" y="6312"/>
                    <a:pt x="6597" y="6389"/>
                  </a:cubicBezTo>
                  <a:cubicBezTo>
                    <a:pt x="6677" y="6389"/>
                    <a:pt x="6731" y="6542"/>
                    <a:pt x="6757" y="6772"/>
                  </a:cubicBezTo>
                  <a:cubicBezTo>
                    <a:pt x="6784" y="6925"/>
                    <a:pt x="6677" y="7155"/>
                    <a:pt x="6731" y="7232"/>
                  </a:cubicBezTo>
                  <a:cubicBezTo>
                    <a:pt x="6731" y="7232"/>
                    <a:pt x="6891" y="7385"/>
                    <a:pt x="6891" y="7385"/>
                  </a:cubicBezTo>
                  <a:cubicBezTo>
                    <a:pt x="6891" y="7461"/>
                    <a:pt x="6704" y="7308"/>
                    <a:pt x="6677" y="7308"/>
                  </a:cubicBezTo>
                  <a:cubicBezTo>
                    <a:pt x="6677" y="7308"/>
                    <a:pt x="6651" y="7078"/>
                    <a:pt x="6651" y="7078"/>
                  </a:cubicBezTo>
                  <a:cubicBezTo>
                    <a:pt x="6677" y="6925"/>
                    <a:pt x="6704" y="6849"/>
                    <a:pt x="6651" y="6772"/>
                  </a:cubicBezTo>
                  <a:cubicBezTo>
                    <a:pt x="6597" y="6695"/>
                    <a:pt x="6624" y="6542"/>
                    <a:pt x="6571" y="6466"/>
                  </a:cubicBezTo>
                  <a:cubicBezTo>
                    <a:pt x="6517" y="6466"/>
                    <a:pt x="6464" y="6542"/>
                    <a:pt x="6411" y="6542"/>
                  </a:cubicBezTo>
                  <a:cubicBezTo>
                    <a:pt x="6411" y="6542"/>
                    <a:pt x="6304" y="6619"/>
                    <a:pt x="6304" y="6695"/>
                  </a:cubicBezTo>
                  <a:cubicBezTo>
                    <a:pt x="6331" y="6695"/>
                    <a:pt x="6357" y="6695"/>
                    <a:pt x="6331" y="6695"/>
                  </a:cubicBezTo>
                  <a:cubicBezTo>
                    <a:pt x="6331" y="6772"/>
                    <a:pt x="6277" y="6849"/>
                    <a:pt x="6304" y="6925"/>
                  </a:cubicBezTo>
                  <a:cubicBezTo>
                    <a:pt x="6411" y="7078"/>
                    <a:pt x="6331" y="7308"/>
                    <a:pt x="6277" y="7461"/>
                  </a:cubicBezTo>
                  <a:cubicBezTo>
                    <a:pt x="6251" y="7538"/>
                    <a:pt x="6224" y="7691"/>
                    <a:pt x="6224" y="7768"/>
                  </a:cubicBezTo>
                  <a:cubicBezTo>
                    <a:pt x="6197" y="7844"/>
                    <a:pt x="6144" y="7921"/>
                    <a:pt x="6091" y="7921"/>
                  </a:cubicBezTo>
                  <a:cubicBezTo>
                    <a:pt x="6064" y="7998"/>
                    <a:pt x="6037" y="7998"/>
                    <a:pt x="6037" y="8151"/>
                  </a:cubicBezTo>
                  <a:cubicBezTo>
                    <a:pt x="6011" y="8304"/>
                    <a:pt x="5957" y="8227"/>
                    <a:pt x="5931" y="8227"/>
                  </a:cubicBezTo>
                  <a:cubicBezTo>
                    <a:pt x="5851" y="8151"/>
                    <a:pt x="5797" y="8227"/>
                    <a:pt x="5744" y="8151"/>
                  </a:cubicBezTo>
                  <a:cubicBezTo>
                    <a:pt x="5717" y="8151"/>
                    <a:pt x="5691" y="8074"/>
                    <a:pt x="5664" y="8074"/>
                  </a:cubicBezTo>
                  <a:cubicBezTo>
                    <a:pt x="5611" y="8074"/>
                    <a:pt x="5611" y="7998"/>
                    <a:pt x="5584" y="7921"/>
                  </a:cubicBezTo>
                  <a:cubicBezTo>
                    <a:pt x="5584" y="7921"/>
                    <a:pt x="5637" y="7844"/>
                    <a:pt x="5637" y="7921"/>
                  </a:cubicBezTo>
                  <a:cubicBezTo>
                    <a:pt x="5664" y="8074"/>
                    <a:pt x="5717" y="8074"/>
                    <a:pt x="5717" y="7998"/>
                  </a:cubicBezTo>
                  <a:cubicBezTo>
                    <a:pt x="5744" y="7921"/>
                    <a:pt x="5877" y="8151"/>
                    <a:pt x="5931" y="7998"/>
                  </a:cubicBezTo>
                  <a:cubicBezTo>
                    <a:pt x="5931" y="7921"/>
                    <a:pt x="5877" y="7844"/>
                    <a:pt x="5931" y="7844"/>
                  </a:cubicBezTo>
                  <a:cubicBezTo>
                    <a:pt x="5957" y="7768"/>
                    <a:pt x="6011" y="7691"/>
                    <a:pt x="6037" y="7615"/>
                  </a:cubicBezTo>
                  <a:cubicBezTo>
                    <a:pt x="6064" y="7461"/>
                    <a:pt x="6037" y="7461"/>
                    <a:pt x="6117" y="7385"/>
                  </a:cubicBezTo>
                  <a:cubicBezTo>
                    <a:pt x="6197" y="7232"/>
                    <a:pt x="6091" y="7078"/>
                    <a:pt x="6144" y="6925"/>
                  </a:cubicBezTo>
                  <a:cubicBezTo>
                    <a:pt x="6197" y="6849"/>
                    <a:pt x="6197" y="6772"/>
                    <a:pt x="6144" y="6695"/>
                  </a:cubicBezTo>
                  <a:cubicBezTo>
                    <a:pt x="6117" y="6695"/>
                    <a:pt x="6091" y="6619"/>
                    <a:pt x="6064" y="6542"/>
                  </a:cubicBezTo>
                  <a:cubicBezTo>
                    <a:pt x="6037" y="6389"/>
                    <a:pt x="6064" y="6159"/>
                    <a:pt x="6064" y="6006"/>
                  </a:cubicBezTo>
                  <a:cubicBezTo>
                    <a:pt x="6064" y="5853"/>
                    <a:pt x="6037" y="5700"/>
                    <a:pt x="6064" y="5546"/>
                  </a:cubicBezTo>
                  <a:cubicBezTo>
                    <a:pt x="6064" y="5393"/>
                    <a:pt x="6117" y="5393"/>
                    <a:pt x="6117" y="5240"/>
                  </a:cubicBezTo>
                  <a:cubicBezTo>
                    <a:pt x="6091" y="5087"/>
                    <a:pt x="6037" y="5010"/>
                    <a:pt x="6011" y="4934"/>
                  </a:cubicBezTo>
                  <a:cubicBezTo>
                    <a:pt x="5984" y="4857"/>
                    <a:pt x="5957" y="4781"/>
                    <a:pt x="5984" y="4704"/>
                  </a:cubicBezTo>
                  <a:cubicBezTo>
                    <a:pt x="6037" y="4627"/>
                    <a:pt x="6037" y="4474"/>
                    <a:pt x="6064" y="4321"/>
                  </a:cubicBezTo>
                  <a:cubicBezTo>
                    <a:pt x="6091" y="4244"/>
                    <a:pt x="6117" y="4015"/>
                    <a:pt x="6091" y="3938"/>
                  </a:cubicBezTo>
                  <a:cubicBezTo>
                    <a:pt x="6091" y="3861"/>
                    <a:pt x="5984" y="3785"/>
                    <a:pt x="5931" y="3708"/>
                  </a:cubicBezTo>
                  <a:cubicBezTo>
                    <a:pt x="5877" y="3708"/>
                    <a:pt x="5824" y="3708"/>
                    <a:pt x="5771" y="3708"/>
                  </a:cubicBezTo>
                  <a:cubicBezTo>
                    <a:pt x="5744" y="3708"/>
                    <a:pt x="5664" y="3632"/>
                    <a:pt x="5637" y="3708"/>
                  </a:cubicBezTo>
                  <a:cubicBezTo>
                    <a:pt x="5557" y="3861"/>
                    <a:pt x="5557" y="4398"/>
                    <a:pt x="5477" y="4551"/>
                  </a:cubicBezTo>
                  <a:cubicBezTo>
                    <a:pt x="5424" y="4781"/>
                    <a:pt x="5264" y="4857"/>
                    <a:pt x="5264" y="5164"/>
                  </a:cubicBezTo>
                  <a:cubicBezTo>
                    <a:pt x="5264" y="5240"/>
                    <a:pt x="5344" y="5164"/>
                    <a:pt x="5344" y="5164"/>
                  </a:cubicBezTo>
                  <a:cubicBezTo>
                    <a:pt x="5371" y="5240"/>
                    <a:pt x="5344" y="5546"/>
                    <a:pt x="5344" y="5546"/>
                  </a:cubicBezTo>
                  <a:cubicBezTo>
                    <a:pt x="5317" y="5700"/>
                    <a:pt x="5371" y="5776"/>
                    <a:pt x="5291" y="5776"/>
                  </a:cubicBezTo>
                  <a:cubicBezTo>
                    <a:pt x="5291" y="5853"/>
                    <a:pt x="5264" y="5853"/>
                    <a:pt x="5264" y="5929"/>
                  </a:cubicBezTo>
                  <a:cubicBezTo>
                    <a:pt x="5291" y="6006"/>
                    <a:pt x="5317" y="6006"/>
                    <a:pt x="5344" y="6006"/>
                  </a:cubicBezTo>
                  <a:cubicBezTo>
                    <a:pt x="5371" y="6006"/>
                    <a:pt x="5477" y="6006"/>
                    <a:pt x="5477" y="6083"/>
                  </a:cubicBezTo>
                  <a:cubicBezTo>
                    <a:pt x="5477" y="6236"/>
                    <a:pt x="5477" y="6389"/>
                    <a:pt x="5531" y="6466"/>
                  </a:cubicBezTo>
                  <a:cubicBezTo>
                    <a:pt x="5584" y="6542"/>
                    <a:pt x="5637" y="6466"/>
                    <a:pt x="5584" y="6619"/>
                  </a:cubicBezTo>
                  <a:cubicBezTo>
                    <a:pt x="5557" y="6695"/>
                    <a:pt x="5557" y="6849"/>
                    <a:pt x="5531" y="6925"/>
                  </a:cubicBezTo>
                  <a:cubicBezTo>
                    <a:pt x="5504" y="7078"/>
                    <a:pt x="5371" y="6695"/>
                    <a:pt x="5344" y="6619"/>
                  </a:cubicBezTo>
                  <a:cubicBezTo>
                    <a:pt x="5264" y="6466"/>
                    <a:pt x="5157" y="6389"/>
                    <a:pt x="5077" y="6312"/>
                  </a:cubicBezTo>
                  <a:cubicBezTo>
                    <a:pt x="5024" y="6236"/>
                    <a:pt x="4997" y="6159"/>
                    <a:pt x="4944" y="6083"/>
                  </a:cubicBezTo>
                  <a:cubicBezTo>
                    <a:pt x="4917" y="6083"/>
                    <a:pt x="4864" y="6006"/>
                    <a:pt x="4837" y="6006"/>
                  </a:cubicBezTo>
                  <a:cubicBezTo>
                    <a:pt x="4757" y="6006"/>
                    <a:pt x="4677" y="5929"/>
                    <a:pt x="4597" y="5929"/>
                  </a:cubicBezTo>
                  <a:cubicBezTo>
                    <a:pt x="4491" y="5929"/>
                    <a:pt x="4384" y="5929"/>
                    <a:pt x="4464" y="6312"/>
                  </a:cubicBezTo>
                  <a:cubicBezTo>
                    <a:pt x="4517" y="6389"/>
                    <a:pt x="4491" y="6542"/>
                    <a:pt x="4437" y="6619"/>
                  </a:cubicBezTo>
                  <a:cubicBezTo>
                    <a:pt x="4411" y="6695"/>
                    <a:pt x="4331" y="6542"/>
                    <a:pt x="4357" y="6772"/>
                  </a:cubicBezTo>
                  <a:cubicBezTo>
                    <a:pt x="4384" y="6849"/>
                    <a:pt x="4171" y="6849"/>
                    <a:pt x="4277" y="6619"/>
                  </a:cubicBezTo>
                  <a:cubicBezTo>
                    <a:pt x="4304" y="6542"/>
                    <a:pt x="4224" y="6389"/>
                    <a:pt x="4197" y="6466"/>
                  </a:cubicBezTo>
                  <a:cubicBezTo>
                    <a:pt x="4144" y="6466"/>
                    <a:pt x="4091" y="6542"/>
                    <a:pt x="4064" y="6619"/>
                  </a:cubicBezTo>
                  <a:cubicBezTo>
                    <a:pt x="3984" y="6772"/>
                    <a:pt x="3904" y="6619"/>
                    <a:pt x="3824" y="6695"/>
                  </a:cubicBezTo>
                  <a:cubicBezTo>
                    <a:pt x="3744" y="6772"/>
                    <a:pt x="3691" y="6925"/>
                    <a:pt x="3637" y="6925"/>
                  </a:cubicBezTo>
                  <a:cubicBezTo>
                    <a:pt x="3611" y="6925"/>
                    <a:pt x="3451" y="6925"/>
                    <a:pt x="3477" y="6849"/>
                  </a:cubicBezTo>
                  <a:cubicBezTo>
                    <a:pt x="3531" y="6849"/>
                    <a:pt x="3531" y="6849"/>
                    <a:pt x="3531" y="6772"/>
                  </a:cubicBezTo>
                  <a:cubicBezTo>
                    <a:pt x="3531" y="6542"/>
                    <a:pt x="3584" y="6619"/>
                    <a:pt x="3584" y="6466"/>
                  </a:cubicBezTo>
                  <a:cubicBezTo>
                    <a:pt x="3611" y="6389"/>
                    <a:pt x="3424" y="6542"/>
                    <a:pt x="3424" y="6542"/>
                  </a:cubicBezTo>
                  <a:cubicBezTo>
                    <a:pt x="3397" y="6542"/>
                    <a:pt x="3371" y="6542"/>
                    <a:pt x="3371" y="6619"/>
                  </a:cubicBezTo>
                  <a:cubicBezTo>
                    <a:pt x="3371" y="6695"/>
                    <a:pt x="3371" y="6772"/>
                    <a:pt x="3371" y="6849"/>
                  </a:cubicBezTo>
                  <a:cubicBezTo>
                    <a:pt x="3344" y="6849"/>
                    <a:pt x="3291" y="6772"/>
                    <a:pt x="3264" y="6772"/>
                  </a:cubicBezTo>
                  <a:cubicBezTo>
                    <a:pt x="3211" y="6772"/>
                    <a:pt x="3131" y="6849"/>
                    <a:pt x="3077" y="6925"/>
                  </a:cubicBezTo>
                  <a:cubicBezTo>
                    <a:pt x="2997" y="7002"/>
                    <a:pt x="2917" y="7155"/>
                    <a:pt x="2837" y="7232"/>
                  </a:cubicBezTo>
                  <a:cubicBezTo>
                    <a:pt x="2784" y="7232"/>
                    <a:pt x="2757" y="7308"/>
                    <a:pt x="2731" y="7461"/>
                  </a:cubicBezTo>
                  <a:cubicBezTo>
                    <a:pt x="2731" y="7538"/>
                    <a:pt x="2731" y="7768"/>
                    <a:pt x="2677" y="7768"/>
                  </a:cubicBezTo>
                  <a:cubicBezTo>
                    <a:pt x="2624" y="7768"/>
                    <a:pt x="2571" y="7844"/>
                    <a:pt x="2517" y="7844"/>
                  </a:cubicBezTo>
                  <a:cubicBezTo>
                    <a:pt x="2491" y="7844"/>
                    <a:pt x="2464" y="7691"/>
                    <a:pt x="2437" y="7615"/>
                  </a:cubicBezTo>
                  <a:cubicBezTo>
                    <a:pt x="2384" y="7461"/>
                    <a:pt x="2304" y="7538"/>
                    <a:pt x="2357" y="7308"/>
                  </a:cubicBezTo>
                  <a:cubicBezTo>
                    <a:pt x="2384" y="7155"/>
                    <a:pt x="2464" y="7232"/>
                    <a:pt x="2491" y="7155"/>
                  </a:cubicBezTo>
                  <a:cubicBezTo>
                    <a:pt x="2544" y="7155"/>
                    <a:pt x="2597" y="7232"/>
                    <a:pt x="2571" y="7078"/>
                  </a:cubicBezTo>
                  <a:cubicBezTo>
                    <a:pt x="2544" y="7002"/>
                    <a:pt x="2517" y="6849"/>
                    <a:pt x="2491" y="6772"/>
                  </a:cubicBezTo>
                  <a:cubicBezTo>
                    <a:pt x="2437" y="6619"/>
                    <a:pt x="2357" y="6695"/>
                    <a:pt x="2304" y="6695"/>
                  </a:cubicBezTo>
                  <a:cubicBezTo>
                    <a:pt x="2277" y="6695"/>
                    <a:pt x="2117" y="6619"/>
                    <a:pt x="2117" y="6619"/>
                  </a:cubicBezTo>
                  <a:cubicBezTo>
                    <a:pt x="2117" y="6619"/>
                    <a:pt x="2197" y="6695"/>
                    <a:pt x="2197" y="6695"/>
                  </a:cubicBezTo>
                  <a:cubicBezTo>
                    <a:pt x="2224" y="6772"/>
                    <a:pt x="2224" y="6849"/>
                    <a:pt x="2224" y="6925"/>
                  </a:cubicBezTo>
                  <a:cubicBezTo>
                    <a:pt x="2224" y="7002"/>
                    <a:pt x="2224" y="7155"/>
                    <a:pt x="2224" y="7232"/>
                  </a:cubicBezTo>
                  <a:cubicBezTo>
                    <a:pt x="2197" y="7308"/>
                    <a:pt x="2171" y="7385"/>
                    <a:pt x="2171" y="7461"/>
                  </a:cubicBezTo>
                  <a:cubicBezTo>
                    <a:pt x="2197" y="7615"/>
                    <a:pt x="2304" y="7615"/>
                    <a:pt x="2277" y="7844"/>
                  </a:cubicBezTo>
                  <a:cubicBezTo>
                    <a:pt x="2251" y="7921"/>
                    <a:pt x="2224" y="8074"/>
                    <a:pt x="2224" y="8151"/>
                  </a:cubicBezTo>
                  <a:cubicBezTo>
                    <a:pt x="2224" y="8151"/>
                    <a:pt x="2224" y="8457"/>
                    <a:pt x="2224" y="8457"/>
                  </a:cubicBezTo>
                  <a:cubicBezTo>
                    <a:pt x="2224" y="8457"/>
                    <a:pt x="2197" y="8227"/>
                    <a:pt x="2197" y="8227"/>
                  </a:cubicBezTo>
                  <a:cubicBezTo>
                    <a:pt x="2171" y="8227"/>
                    <a:pt x="2144" y="8381"/>
                    <a:pt x="2117" y="8304"/>
                  </a:cubicBezTo>
                  <a:cubicBezTo>
                    <a:pt x="2117" y="8304"/>
                    <a:pt x="2171" y="8227"/>
                    <a:pt x="2171" y="8151"/>
                  </a:cubicBezTo>
                  <a:cubicBezTo>
                    <a:pt x="2144" y="8074"/>
                    <a:pt x="2091" y="8074"/>
                    <a:pt x="2064" y="8074"/>
                  </a:cubicBezTo>
                  <a:cubicBezTo>
                    <a:pt x="2037" y="8074"/>
                    <a:pt x="2011" y="7998"/>
                    <a:pt x="1984" y="8074"/>
                  </a:cubicBezTo>
                  <a:cubicBezTo>
                    <a:pt x="1931" y="8074"/>
                    <a:pt x="1904" y="8227"/>
                    <a:pt x="1851" y="8227"/>
                  </a:cubicBezTo>
                  <a:cubicBezTo>
                    <a:pt x="1797" y="8381"/>
                    <a:pt x="1771" y="8381"/>
                    <a:pt x="1717" y="8534"/>
                  </a:cubicBezTo>
                  <a:cubicBezTo>
                    <a:pt x="1664" y="8687"/>
                    <a:pt x="1611" y="8687"/>
                    <a:pt x="1691" y="8840"/>
                  </a:cubicBezTo>
                  <a:cubicBezTo>
                    <a:pt x="1717" y="8917"/>
                    <a:pt x="1771" y="9146"/>
                    <a:pt x="1744" y="9223"/>
                  </a:cubicBezTo>
                  <a:cubicBezTo>
                    <a:pt x="1717" y="9300"/>
                    <a:pt x="1557" y="9146"/>
                    <a:pt x="1531" y="9146"/>
                  </a:cubicBezTo>
                  <a:cubicBezTo>
                    <a:pt x="1504" y="9070"/>
                    <a:pt x="1424" y="9146"/>
                    <a:pt x="1397" y="9146"/>
                  </a:cubicBezTo>
                  <a:cubicBezTo>
                    <a:pt x="1424" y="9070"/>
                    <a:pt x="1291" y="8764"/>
                    <a:pt x="1264" y="8917"/>
                  </a:cubicBezTo>
                  <a:cubicBezTo>
                    <a:pt x="1131" y="9223"/>
                    <a:pt x="1424" y="9300"/>
                    <a:pt x="1424" y="9453"/>
                  </a:cubicBezTo>
                  <a:cubicBezTo>
                    <a:pt x="1397" y="9759"/>
                    <a:pt x="1317" y="9606"/>
                    <a:pt x="1237" y="9606"/>
                  </a:cubicBezTo>
                  <a:cubicBezTo>
                    <a:pt x="1157" y="9529"/>
                    <a:pt x="1131" y="9376"/>
                    <a:pt x="1051" y="9300"/>
                  </a:cubicBezTo>
                  <a:cubicBezTo>
                    <a:pt x="997" y="9223"/>
                    <a:pt x="997" y="9146"/>
                    <a:pt x="971" y="8993"/>
                  </a:cubicBezTo>
                  <a:cubicBezTo>
                    <a:pt x="971" y="8840"/>
                    <a:pt x="944" y="8840"/>
                    <a:pt x="917" y="8764"/>
                  </a:cubicBezTo>
                  <a:cubicBezTo>
                    <a:pt x="917" y="8687"/>
                    <a:pt x="997" y="8534"/>
                    <a:pt x="997" y="8534"/>
                  </a:cubicBezTo>
                  <a:cubicBezTo>
                    <a:pt x="1024" y="8304"/>
                    <a:pt x="891" y="8151"/>
                    <a:pt x="837" y="8151"/>
                  </a:cubicBezTo>
                  <a:cubicBezTo>
                    <a:pt x="784" y="8074"/>
                    <a:pt x="784" y="7921"/>
                    <a:pt x="731" y="7921"/>
                  </a:cubicBezTo>
                  <a:cubicBezTo>
                    <a:pt x="757" y="7844"/>
                    <a:pt x="624" y="7538"/>
                    <a:pt x="624" y="7538"/>
                  </a:cubicBezTo>
                  <a:cubicBezTo>
                    <a:pt x="677" y="7461"/>
                    <a:pt x="731" y="7691"/>
                    <a:pt x="757" y="7768"/>
                  </a:cubicBezTo>
                  <a:cubicBezTo>
                    <a:pt x="784" y="7844"/>
                    <a:pt x="811" y="7844"/>
                    <a:pt x="811" y="7768"/>
                  </a:cubicBezTo>
                  <a:cubicBezTo>
                    <a:pt x="837" y="7768"/>
                    <a:pt x="864" y="7844"/>
                    <a:pt x="864" y="7844"/>
                  </a:cubicBezTo>
                  <a:cubicBezTo>
                    <a:pt x="944" y="7921"/>
                    <a:pt x="997" y="7998"/>
                    <a:pt x="1077" y="7998"/>
                  </a:cubicBezTo>
                  <a:cubicBezTo>
                    <a:pt x="1131" y="8074"/>
                    <a:pt x="1211" y="8074"/>
                    <a:pt x="1291" y="8151"/>
                  </a:cubicBezTo>
                  <a:cubicBezTo>
                    <a:pt x="1424" y="8304"/>
                    <a:pt x="1531" y="8304"/>
                    <a:pt x="1664" y="8074"/>
                  </a:cubicBezTo>
                  <a:cubicBezTo>
                    <a:pt x="1717" y="7998"/>
                    <a:pt x="1744" y="7921"/>
                    <a:pt x="1797" y="7844"/>
                  </a:cubicBezTo>
                  <a:cubicBezTo>
                    <a:pt x="1877" y="7691"/>
                    <a:pt x="1824" y="7615"/>
                    <a:pt x="1824" y="7385"/>
                  </a:cubicBezTo>
                  <a:cubicBezTo>
                    <a:pt x="1824" y="7155"/>
                    <a:pt x="1637" y="7078"/>
                    <a:pt x="1584" y="6925"/>
                  </a:cubicBezTo>
                  <a:cubicBezTo>
                    <a:pt x="1504" y="6772"/>
                    <a:pt x="1397" y="6619"/>
                    <a:pt x="1317" y="6542"/>
                  </a:cubicBezTo>
                  <a:cubicBezTo>
                    <a:pt x="1237" y="6389"/>
                    <a:pt x="1131" y="6236"/>
                    <a:pt x="1051" y="6236"/>
                  </a:cubicBezTo>
                  <a:cubicBezTo>
                    <a:pt x="1024" y="6159"/>
                    <a:pt x="1024" y="6236"/>
                    <a:pt x="997" y="6236"/>
                  </a:cubicBezTo>
                  <a:cubicBezTo>
                    <a:pt x="971" y="6236"/>
                    <a:pt x="944" y="6159"/>
                    <a:pt x="917" y="6159"/>
                  </a:cubicBezTo>
                  <a:cubicBezTo>
                    <a:pt x="864" y="6083"/>
                    <a:pt x="811" y="6389"/>
                    <a:pt x="757" y="6389"/>
                  </a:cubicBezTo>
                  <a:cubicBezTo>
                    <a:pt x="757" y="6312"/>
                    <a:pt x="864" y="6083"/>
                    <a:pt x="757" y="6083"/>
                  </a:cubicBezTo>
                  <a:cubicBezTo>
                    <a:pt x="731" y="6083"/>
                    <a:pt x="624" y="5929"/>
                    <a:pt x="624" y="5929"/>
                  </a:cubicBezTo>
                  <a:cubicBezTo>
                    <a:pt x="651" y="5853"/>
                    <a:pt x="757" y="6083"/>
                    <a:pt x="757" y="5929"/>
                  </a:cubicBezTo>
                  <a:cubicBezTo>
                    <a:pt x="757" y="5853"/>
                    <a:pt x="651" y="5700"/>
                    <a:pt x="624" y="5700"/>
                  </a:cubicBezTo>
                  <a:cubicBezTo>
                    <a:pt x="597" y="5776"/>
                    <a:pt x="517" y="5929"/>
                    <a:pt x="517" y="5929"/>
                  </a:cubicBezTo>
                  <a:cubicBezTo>
                    <a:pt x="517" y="5853"/>
                    <a:pt x="517" y="5853"/>
                    <a:pt x="491" y="5776"/>
                  </a:cubicBezTo>
                  <a:cubicBezTo>
                    <a:pt x="437" y="5776"/>
                    <a:pt x="437" y="5853"/>
                    <a:pt x="411" y="5929"/>
                  </a:cubicBezTo>
                  <a:cubicBezTo>
                    <a:pt x="411" y="5929"/>
                    <a:pt x="411" y="5929"/>
                    <a:pt x="411" y="5853"/>
                  </a:cubicBezTo>
                  <a:cubicBezTo>
                    <a:pt x="384" y="5929"/>
                    <a:pt x="357" y="6083"/>
                    <a:pt x="331" y="6083"/>
                  </a:cubicBezTo>
                  <a:cubicBezTo>
                    <a:pt x="304" y="6159"/>
                    <a:pt x="251" y="6159"/>
                    <a:pt x="251" y="6159"/>
                  </a:cubicBezTo>
                  <a:cubicBezTo>
                    <a:pt x="224" y="6312"/>
                    <a:pt x="117" y="6312"/>
                    <a:pt x="144" y="6466"/>
                  </a:cubicBezTo>
                  <a:cubicBezTo>
                    <a:pt x="224" y="6619"/>
                    <a:pt x="117" y="6466"/>
                    <a:pt x="117" y="6695"/>
                  </a:cubicBezTo>
                  <a:cubicBezTo>
                    <a:pt x="117" y="6849"/>
                    <a:pt x="224" y="6925"/>
                    <a:pt x="251" y="7002"/>
                  </a:cubicBezTo>
                  <a:cubicBezTo>
                    <a:pt x="304" y="7078"/>
                    <a:pt x="357" y="7232"/>
                    <a:pt x="331" y="7385"/>
                  </a:cubicBezTo>
                  <a:cubicBezTo>
                    <a:pt x="304" y="7538"/>
                    <a:pt x="224" y="7615"/>
                    <a:pt x="224" y="7768"/>
                  </a:cubicBezTo>
                  <a:cubicBezTo>
                    <a:pt x="251" y="7921"/>
                    <a:pt x="304" y="8074"/>
                    <a:pt x="331" y="8227"/>
                  </a:cubicBezTo>
                  <a:cubicBezTo>
                    <a:pt x="357" y="8381"/>
                    <a:pt x="304" y="8381"/>
                    <a:pt x="304" y="8534"/>
                  </a:cubicBezTo>
                  <a:cubicBezTo>
                    <a:pt x="304" y="8687"/>
                    <a:pt x="384" y="8840"/>
                    <a:pt x="331" y="8917"/>
                  </a:cubicBezTo>
                  <a:cubicBezTo>
                    <a:pt x="277" y="8993"/>
                    <a:pt x="357" y="9223"/>
                    <a:pt x="357" y="9300"/>
                  </a:cubicBezTo>
                  <a:cubicBezTo>
                    <a:pt x="411" y="9453"/>
                    <a:pt x="464" y="9453"/>
                    <a:pt x="384" y="9606"/>
                  </a:cubicBezTo>
                  <a:cubicBezTo>
                    <a:pt x="331" y="9759"/>
                    <a:pt x="357" y="9759"/>
                    <a:pt x="384" y="9836"/>
                  </a:cubicBezTo>
                  <a:cubicBezTo>
                    <a:pt x="517" y="10066"/>
                    <a:pt x="597" y="10219"/>
                    <a:pt x="464" y="10525"/>
                  </a:cubicBezTo>
                  <a:cubicBezTo>
                    <a:pt x="331" y="10908"/>
                    <a:pt x="197" y="11215"/>
                    <a:pt x="91" y="11598"/>
                  </a:cubicBezTo>
                  <a:cubicBezTo>
                    <a:pt x="144" y="11598"/>
                    <a:pt x="144" y="11521"/>
                    <a:pt x="171" y="11598"/>
                  </a:cubicBezTo>
                  <a:cubicBezTo>
                    <a:pt x="197" y="11751"/>
                    <a:pt x="251" y="11751"/>
                    <a:pt x="277" y="11827"/>
                  </a:cubicBezTo>
                  <a:cubicBezTo>
                    <a:pt x="437" y="11981"/>
                    <a:pt x="224" y="11981"/>
                    <a:pt x="171" y="11981"/>
                  </a:cubicBezTo>
                  <a:cubicBezTo>
                    <a:pt x="117" y="11981"/>
                    <a:pt x="91" y="12057"/>
                    <a:pt x="91" y="12210"/>
                  </a:cubicBezTo>
                  <a:cubicBezTo>
                    <a:pt x="91" y="12364"/>
                    <a:pt x="37" y="12440"/>
                    <a:pt x="11" y="12593"/>
                  </a:cubicBezTo>
                  <a:cubicBezTo>
                    <a:pt x="-16" y="12670"/>
                    <a:pt x="11" y="12823"/>
                    <a:pt x="37" y="12976"/>
                  </a:cubicBezTo>
                  <a:cubicBezTo>
                    <a:pt x="37" y="13129"/>
                    <a:pt x="-16" y="13283"/>
                    <a:pt x="11" y="13359"/>
                  </a:cubicBezTo>
                  <a:cubicBezTo>
                    <a:pt x="64" y="13436"/>
                    <a:pt x="64" y="13436"/>
                    <a:pt x="64" y="13589"/>
                  </a:cubicBezTo>
                  <a:cubicBezTo>
                    <a:pt x="37" y="13742"/>
                    <a:pt x="91" y="13819"/>
                    <a:pt x="91" y="13972"/>
                  </a:cubicBezTo>
                  <a:cubicBezTo>
                    <a:pt x="91" y="14049"/>
                    <a:pt x="171" y="14202"/>
                    <a:pt x="197" y="14202"/>
                  </a:cubicBezTo>
                  <a:cubicBezTo>
                    <a:pt x="197" y="14202"/>
                    <a:pt x="224" y="14125"/>
                    <a:pt x="251" y="14125"/>
                  </a:cubicBezTo>
                  <a:cubicBezTo>
                    <a:pt x="277" y="14125"/>
                    <a:pt x="277" y="14278"/>
                    <a:pt x="304" y="14278"/>
                  </a:cubicBezTo>
                  <a:cubicBezTo>
                    <a:pt x="357" y="14202"/>
                    <a:pt x="357" y="14125"/>
                    <a:pt x="411" y="14278"/>
                  </a:cubicBezTo>
                  <a:cubicBezTo>
                    <a:pt x="464" y="14355"/>
                    <a:pt x="464" y="14355"/>
                    <a:pt x="464" y="14508"/>
                  </a:cubicBezTo>
                  <a:cubicBezTo>
                    <a:pt x="437" y="14891"/>
                    <a:pt x="544" y="15198"/>
                    <a:pt x="624" y="15351"/>
                  </a:cubicBezTo>
                  <a:cubicBezTo>
                    <a:pt x="677" y="15427"/>
                    <a:pt x="704" y="15504"/>
                    <a:pt x="651" y="15581"/>
                  </a:cubicBezTo>
                  <a:cubicBezTo>
                    <a:pt x="624" y="15734"/>
                    <a:pt x="597" y="15657"/>
                    <a:pt x="544" y="15657"/>
                  </a:cubicBezTo>
                  <a:cubicBezTo>
                    <a:pt x="491" y="15657"/>
                    <a:pt x="571" y="16346"/>
                    <a:pt x="624" y="16270"/>
                  </a:cubicBezTo>
                  <a:cubicBezTo>
                    <a:pt x="651" y="16193"/>
                    <a:pt x="677" y="15964"/>
                    <a:pt x="704" y="16040"/>
                  </a:cubicBezTo>
                  <a:cubicBezTo>
                    <a:pt x="731" y="16040"/>
                    <a:pt x="757" y="16117"/>
                    <a:pt x="811" y="16117"/>
                  </a:cubicBezTo>
                  <a:cubicBezTo>
                    <a:pt x="864" y="16117"/>
                    <a:pt x="917" y="16193"/>
                    <a:pt x="917" y="16346"/>
                  </a:cubicBezTo>
                  <a:cubicBezTo>
                    <a:pt x="917" y="16423"/>
                    <a:pt x="891" y="16423"/>
                    <a:pt x="891" y="16423"/>
                  </a:cubicBezTo>
                  <a:cubicBezTo>
                    <a:pt x="864" y="16500"/>
                    <a:pt x="891" y="16653"/>
                    <a:pt x="917" y="16653"/>
                  </a:cubicBezTo>
                  <a:cubicBezTo>
                    <a:pt x="944" y="16729"/>
                    <a:pt x="997" y="16653"/>
                    <a:pt x="1024" y="16729"/>
                  </a:cubicBezTo>
                  <a:cubicBezTo>
                    <a:pt x="1051" y="16806"/>
                    <a:pt x="1051" y="16959"/>
                    <a:pt x="1051" y="17036"/>
                  </a:cubicBezTo>
                  <a:cubicBezTo>
                    <a:pt x="1051" y="17112"/>
                    <a:pt x="1131" y="17036"/>
                    <a:pt x="1157" y="17036"/>
                  </a:cubicBezTo>
                  <a:cubicBezTo>
                    <a:pt x="1184" y="17112"/>
                    <a:pt x="1237" y="17342"/>
                    <a:pt x="1264" y="17189"/>
                  </a:cubicBezTo>
                  <a:cubicBezTo>
                    <a:pt x="1291" y="17036"/>
                    <a:pt x="1317" y="17112"/>
                    <a:pt x="1344" y="17189"/>
                  </a:cubicBezTo>
                  <a:cubicBezTo>
                    <a:pt x="1397" y="17342"/>
                    <a:pt x="1397" y="17266"/>
                    <a:pt x="1451" y="17266"/>
                  </a:cubicBezTo>
                  <a:cubicBezTo>
                    <a:pt x="1477" y="17266"/>
                    <a:pt x="1504" y="17495"/>
                    <a:pt x="1531" y="17419"/>
                  </a:cubicBezTo>
                  <a:cubicBezTo>
                    <a:pt x="1584" y="17342"/>
                    <a:pt x="1637" y="17495"/>
                    <a:pt x="1664" y="17572"/>
                  </a:cubicBezTo>
                  <a:cubicBezTo>
                    <a:pt x="1717" y="17649"/>
                    <a:pt x="1637" y="17725"/>
                    <a:pt x="1637" y="17725"/>
                  </a:cubicBezTo>
                  <a:cubicBezTo>
                    <a:pt x="1584" y="17802"/>
                    <a:pt x="1664" y="17878"/>
                    <a:pt x="1664" y="17878"/>
                  </a:cubicBezTo>
                  <a:cubicBezTo>
                    <a:pt x="1664" y="17878"/>
                    <a:pt x="1584" y="17878"/>
                    <a:pt x="1611" y="18032"/>
                  </a:cubicBezTo>
                  <a:cubicBezTo>
                    <a:pt x="1664" y="18108"/>
                    <a:pt x="1637" y="18185"/>
                    <a:pt x="1611" y="18261"/>
                  </a:cubicBezTo>
                  <a:cubicBezTo>
                    <a:pt x="1611" y="18338"/>
                    <a:pt x="1531" y="18338"/>
                    <a:pt x="1504" y="18338"/>
                  </a:cubicBezTo>
                  <a:cubicBezTo>
                    <a:pt x="1451" y="18338"/>
                    <a:pt x="1424" y="18491"/>
                    <a:pt x="1397" y="18644"/>
                  </a:cubicBezTo>
                  <a:cubicBezTo>
                    <a:pt x="1424" y="18644"/>
                    <a:pt x="1531" y="18644"/>
                    <a:pt x="1531" y="18721"/>
                  </a:cubicBezTo>
                  <a:cubicBezTo>
                    <a:pt x="1531" y="18798"/>
                    <a:pt x="1397" y="18874"/>
                    <a:pt x="1397" y="18951"/>
                  </a:cubicBezTo>
                  <a:cubicBezTo>
                    <a:pt x="1397" y="19027"/>
                    <a:pt x="1451" y="19027"/>
                    <a:pt x="1451" y="19181"/>
                  </a:cubicBezTo>
                  <a:cubicBezTo>
                    <a:pt x="1451" y="19181"/>
                    <a:pt x="1371" y="19257"/>
                    <a:pt x="1371" y="19257"/>
                  </a:cubicBezTo>
                  <a:cubicBezTo>
                    <a:pt x="1344" y="19334"/>
                    <a:pt x="1344" y="19410"/>
                    <a:pt x="1317" y="19487"/>
                  </a:cubicBezTo>
                  <a:cubicBezTo>
                    <a:pt x="1317" y="19564"/>
                    <a:pt x="1264" y="19487"/>
                    <a:pt x="1264" y="19640"/>
                  </a:cubicBezTo>
                  <a:cubicBezTo>
                    <a:pt x="1237" y="19717"/>
                    <a:pt x="1291" y="19870"/>
                    <a:pt x="1344" y="19870"/>
                  </a:cubicBezTo>
                  <a:cubicBezTo>
                    <a:pt x="1397" y="19946"/>
                    <a:pt x="1451" y="20023"/>
                    <a:pt x="1531" y="20176"/>
                  </a:cubicBezTo>
                  <a:cubicBezTo>
                    <a:pt x="1557" y="20253"/>
                    <a:pt x="1584" y="20329"/>
                    <a:pt x="1611" y="20329"/>
                  </a:cubicBezTo>
                  <a:cubicBezTo>
                    <a:pt x="1637" y="20483"/>
                    <a:pt x="1637" y="20406"/>
                    <a:pt x="1691" y="20329"/>
                  </a:cubicBezTo>
                  <a:cubicBezTo>
                    <a:pt x="1771" y="20329"/>
                    <a:pt x="1851" y="20559"/>
                    <a:pt x="1931" y="20559"/>
                  </a:cubicBezTo>
                  <a:cubicBezTo>
                    <a:pt x="2011" y="20559"/>
                    <a:pt x="2091" y="20712"/>
                    <a:pt x="2171" y="20789"/>
                  </a:cubicBezTo>
                  <a:cubicBezTo>
                    <a:pt x="2251" y="20866"/>
                    <a:pt x="2304" y="20789"/>
                    <a:pt x="2384" y="20789"/>
                  </a:cubicBezTo>
                  <a:cubicBezTo>
                    <a:pt x="2411" y="20866"/>
                    <a:pt x="2437" y="20942"/>
                    <a:pt x="2437" y="21019"/>
                  </a:cubicBezTo>
                  <a:cubicBezTo>
                    <a:pt x="2437" y="21095"/>
                    <a:pt x="2464" y="21095"/>
                    <a:pt x="2491" y="21095"/>
                  </a:cubicBezTo>
                  <a:cubicBezTo>
                    <a:pt x="2571" y="21172"/>
                    <a:pt x="2624" y="21555"/>
                    <a:pt x="2731" y="21402"/>
                  </a:cubicBezTo>
                  <a:cubicBezTo>
                    <a:pt x="2757" y="21325"/>
                    <a:pt x="2811" y="21249"/>
                    <a:pt x="2784" y="21172"/>
                  </a:cubicBezTo>
                  <a:cubicBezTo>
                    <a:pt x="2757" y="21095"/>
                    <a:pt x="2731" y="21019"/>
                    <a:pt x="2704" y="20942"/>
                  </a:cubicBezTo>
                  <a:cubicBezTo>
                    <a:pt x="2651" y="20789"/>
                    <a:pt x="2624" y="20636"/>
                    <a:pt x="2651" y="20406"/>
                  </a:cubicBezTo>
                  <a:cubicBezTo>
                    <a:pt x="2651" y="20253"/>
                    <a:pt x="2624" y="20100"/>
                    <a:pt x="2571" y="20023"/>
                  </a:cubicBezTo>
                  <a:cubicBezTo>
                    <a:pt x="2517" y="19946"/>
                    <a:pt x="2597" y="19793"/>
                    <a:pt x="2624" y="19717"/>
                  </a:cubicBezTo>
                  <a:cubicBezTo>
                    <a:pt x="2651" y="19564"/>
                    <a:pt x="2651" y="19410"/>
                    <a:pt x="2731" y="19410"/>
                  </a:cubicBezTo>
                  <a:cubicBezTo>
                    <a:pt x="2757" y="19410"/>
                    <a:pt x="2784" y="19334"/>
                    <a:pt x="2811" y="19257"/>
                  </a:cubicBezTo>
                  <a:cubicBezTo>
                    <a:pt x="2837" y="19181"/>
                    <a:pt x="2864" y="19181"/>
                    <a:pt x="2891" y="19104"/>
                  </a:cubicBezTo>
                  <a:cubicBezTo>
                    <a:pt x="2864" y="19104"/>
                    <a:pt x="2811" y="19027"/>
                    <a:pt x="2811" y="18951"/>
                  </a:cubicBezTo>
                  <a:cubicBezTo>
                    <a:pt x="2811" y="18874"/>
                    <a:pt x="2864" y="18951"/>
                    <a:pt x="2864" y="18951"/>
                  </a:cubicBezTo>
                  <a:cubicBezTo>
                    <a:pt x="2864" y="18874"/>
                    <a:pt x="2811" y="18644"/>
                    <a:pt x="2784" y="18568"/>
                  </a:cubicBezTo>
                  <a:cubicBezTo>
                    <a:pt x="2757" y="18415"/>
                    <a:pt x="2731" y="18415"/>
                    <a:pt x="2677" y="18415"/>
                  </a:cubicBezTo>
                  <a:cubicBezTo>
                    <a:pt x="2597" y="18415"/>
                    <a:pt x="2651" y="18261"/>
                    <a:pt x="2597" y="18185"/>
                  </a:cubicBezTo>
                  <a:cubicBezTo>
                    <a:pt x="2571" y="18108"/>
                    <a:pt x="2491" y="18108"/>
                    <a:pt x="2544" y="17955"/>
                  </a:cubicBezTo>
                  <a:cubicBezTo>
                    <a:pt x="2571" y="17802"/>
                    <a:pt x="2624" y="17725"/>
                    <a:pt x="2571" y="17649"/>
                  </a:cubicBezTo>
                  <a:cubicBezTo>
                    <a:pt x="2544" y="17495"/>
                    <a:pt x="2597" y="17419"/>
                    <a:pt x="2624" y="17342"/>
                  </a:cubicBezTo>
                  <a:cubicBezTo>
                    <a:pt x="2624" y="17266"/>
                    <a:pt x="2677" y="17036"/>
                    <a:pt x="2677" y="17112"/>
                  </a:cubicBezTo>
                  <a:cubicBezTo>
                    <a:pt x="2704" y="17189"/>
                    <a:pt x="2731" y="17342"/>
                    <a:pt x="2757" y="17419"/>
                  </a:cubicBezTo>
                  <a:cubicBezTo>
                    <a:pt x="2811" y="17419"/>
                    <a:pt x="2837" y="17342"/>
                    <a:pt x="2837" y="17266"/>
                  </a:cubicBezTo>
                  <a:cubicBezTo>
                    <a:pt x="2811" y="17112"/>
                    <a:pt x="2811" y="17036"/>
                    <a:pt x="2864" y="16959"/>
                  </a:cubicBezTo>
                  <a:cubicBezTo>
                    <a:pt x="2917" y="16883"/>
                    <a:pt x="2917" y="16729"/>
                    <a:pt x="2971" y="16729"/>
                  </a:cubicBezTo>
                  <a:cubicBezTo>
                    <a:pt x="3024" y="16653"/>
                    <a:pt x="3077" y="16423"/>
                    <a:pt x="3131" y="16500"/>
                  </a:cubicBezTo>
                  <a:cubicBezTo>
                    <a:pt x="3184" y="16500"/>
                    <a:pt x="3184" y="16653"/>
                    <a:pt x="3237" y="16500"/>
                  </a:cubicBezTo>
                  <a:cubicBezTo>
                    <a:pt x="3291" y="16423"/>
                    <a:pt x="3291" y="16500"/>
                    <a:pt x="3344" y="16576"/>
                  </a:cubicBezTo>
                  <a:cubicBezTo>
                    <a:pt x="3397" y="16576"/>
                    <a:pt x="3451" y="16576"/>
                    <a:pt x="3504" y="16653"/>
                  </a:cubicBezTo>
                  <a:cubicBezTo>
                    <a:pt x="3557" y="16729"/>
                    <a:pt x="3557" y="16883"/>
                    <a:pt x="3611" y="17036"/>
                  </a:cubicBezTo>
                  <a:cubicBezTo>
                    <a:pt x="3611" y="17036"/>
                    <a:pt x="3611" y="16806"/>
                    <a:pt x="3664" y="16883"/>
                  </a:cubicBezTo>
                  <a:cubicBezTo>
                    <a:pt x="3691" y="16883"/>
                    <a:pt x="3717" y="17036"/>
                    <a:pt x="3771" y="17036"/>
                  </a:cubicBezTo>
                  <a:cubicBezTo>
                    <a:pt x="3797" y="17112"/>
                    <a:pt x="3824" y="16959"/>
                    <a:pt x="3851" y="16883"/>
                  </a:cubicBezTo>
                  <a:cubicBezTo>
                    <a:pt x="3904" y="16729"/>
                    <a:pt x="3931" y="16883"/>
                    <a:pt x="3984" y="16883"/>
                  </a:cubicBezTo>
                  <a:cubicBezTo>
                    <a:pt x="4037" y="16883"/>
                    <a:pt x="4064" y="16729"/>
                    <a:pt x="4117" y="16806"/>
                  </a:cubicBezTo>
                  <a:cubicBezTo>
                    <a:pt x="4171" y="16883"/>
                    <a:pt x="4197" y="16959"/>
                    <a:pt x="4251" y="17036"/>
                  </a:cubicBezTo>
                  <a:cubicBezTo>
                    <a:pt x="4304" y="17112"/>
                    <a:pt x="4277" y="17036"/>
                    <a:pt x="4331" y="16959"/>
                  </a:cubicBezTo>
                  <a:cubicBezTo>
                    <a:pt x="4357" y="16883"/>
                    <a:pt x="4464" y="16959"/>
                    <a:pt x="4491" y="16959"/>
                  </a:cubicBezTo>
                  <a:cubicBezTo>
                    <a:pt x="4517" y="16959"/>
                    <a:pt x="4571" y="16806"/>
                    <a:pt x="4571" y="16729"/>
                  </a:cubicBezTo>
                  <a:cubicBezTo>
                    <a:pt x="4571" y="16576"/>
                    <a:pt x="4491" y="16576"/>
                    <a:pt x="4464" y="16500"/>
                  </a:cubicBezTo>
                  <a:cubicBezTo>
                    <a:pt x="4277" y="16270"/>
                    <a:pt x="4544" y="16346"/>
                    <a:pt x="4491" y="16040"/>
                  </a:cubicBezTo>
                  <a:cubicBezTo>
                    <a:pt x="4464" y="15964"/>
                    <a:pt x="4411" y="15964"/>
                    <a:pt x="4491" y="15887"/>
                  </a:cubicBezTo>
                  <a:cubicBezTo>
                    <a:pt x="4517" y="15810"/>
                    <a:pt x="4571" y="15887"/>
                    <a:pt x="4597" y="15810"/>
                  </a:cubicBezTo>
                  <a:cubicBezTo>
                    <a:pt x="4704" y="15810"/>
                    <a:pt x="4411" y="15427"/>
                    <a:pt x="4544" y="15274"/>
                  </a:cubicBezTo>
                  <a:cubicBezTo>
                    <a:pt x="4571" y="15274"/>
                    <a:pt x="4624" y="15274"/>
                    <a:pt x="4651" y="15274"/>
                  </a:cubicBezTo>
                  <a:cubicBezTo>
                    <a:pt x="4731" y="15274"/>
                    <a:pt x="4784" y="15274"/>
                    <a:pt x="4864" y="15198"/>
                  </a:cubicBezTo>
                  <a:cubicBezTo>
                    <a:pt x="4917" y="15121"/>
                    <a:pt x="4971" y="15121"/>
                    <a:pt x="5024" y="15121"/>
                  </a:cubicBezTo>
                  <a:cubicBezTo>
                    <a:pt x="5077" y="15044"/>
                    <a:pt x="5131" y="14968"/>
                    <a:pt x="5211" y="14968"/>
                  </a:cubicBezTo>
                  <a:cubicBezTo>
                    <a:pt x="5317" y="14891"/>
                    <a:pt x="5424" y="14815"/>
                    <a:pt x="5531" y="14661"/>
                  </a:cubicBezTo>
                  <a:cubicBezTo>
                    <a:pt x="5611" y="14508"/>
                    <a:pt x="5771" y="14508"/>
                    <a:pt x="5824" y="14815"/>
                  </a:cubicBezTo>
                  <a:cubicBezTo>
                    <a:pt x="5851" y="14968"/>
                    <a:pt x="5824" y="14968"/>
                    <a:pt x="5851" y="15121"/>
                  </a:cubicBezTo>
                  <a:cubicBezTo>
                    <a:pt x="5851" y="15351"/>
                    <a:pt x="5957" y="15121"/>
                    <a:pt x="6011" y="15198"/>
                  </a:cubicBezTo>
                  <a:cubicBezTo>
                    <a:pt x="6037" y="15198"/>
                    <a:pt x="6011" y="15274"/>
                    <a:pt x="6037" y="15274"/>
                  </a:cubicBezTo>
                  <a:cubicBezTo>
                    <a:pt x="6064" y="15351"/>
                    <a:pt x="6064" y="15274"/>
                    <a:pt x="6064" y="15274"/>
                  </a:cubicBezTo>
                  <a:cubicBezTo>
                    <a:pt x="6091" y="15198"/>
                    <a:pt x="6117" y="15274"/>
                    <a:pt x="6144" y="15351"/>
                  </a:cubicBezTo>
                  <a:cubicBezTo>
                    <a:pt x="6171" y="15351"/>
                    <a:pt x="6171" y="15351"/>
                    <a:pt x="6144" y="15427"/>
                  </a:cubicBezTo>
                  <a:cubicBezTo>
                    <a:pt x="6117" y="15657"/>
                    <a:pt x="6304" y="15504"/>
                    <a:pt x="6357" y="15427"/>
                  </a:cubicBezTo>
                  <a:cubicBezTo>
                    <a:pt x="6357" y="15427"/>
                    <a:pt x="6597" y="15044"/>
                    <a:pt x="6597" y="15121"/>
                  </a:cubicBezTo>
                  <a:cubicBezTo>
                    <a:pt x="6597" y="15198"/>
                    <a:pt x="6544" y="15351"/>
                    <a:pt x="6597" y="15427"/>
                  </a:cubicBezTo>
                  <a:cubicBezTo>
                    <a:pt x="6651" y="15427"/>
                    <a:pt x="6677" y="15504"/>
                    <a:pt x="6704" y="15581"/>
                  </a:cubicBezTo>
                  <a:cubicBezTo>
                    <a:pt x="6784" y="15810"/>
                    <a:pt x="6811" y="16040"/>
                    <a:pt x="6864" y="16270"/>
                  </a:cubicBezTo>
                  <a:cubicBezTo>
                    <a:pt x="6917" y="16500"/>
                    <a:pt x="6944" y="16729"/>
                    <a:pt x="6997" y="16883"/>
                  </a:cubicBezTo>
                  <a:cubicBezTo>
                    <a:pt x="7077" y="17112"/>
                    <a:pt x="7077" y="16576"/>
                    <a:pt x="7157" y="16806"/>
                  </a:cubicBezTo>
                  <a:cubicBezTo>
                    <a:pt x="7264" y="17112"/>
                    <a:pt x="7317" y="16959"/>
                    <a:pt x="7451" y="16883"/>
                  </a:cubicBezTo>
                  <a:cubicBezTo>
                    <a:pt x="7504" y="16806"/>
                    <a:pt x="7531" y="17036"/>
                    <a:pt x="7557" y="17112"/>
                  </a:cubicBezTo>
                  <a:cubicBezTo>
                    <a:pt x="7584" y="17266"/>
                    <a:pt x="7637" y="17266"/>
                    <a:pt x="7664" y="17419"/>
                  </a:cubicBezTo>
                  <a:cubicBezTo>
                    <a:pt x="7691" y="17572"/>
                    <a:pt x="7744" y="17572"/>
                    <a:pt x="7797" y="17572"/>
                  </a:cubicBezTo>
                  <a:cubicBezTo>
                    <a:pt x="7877" y="17495"/>
                    <a:pt x="7851" y="17572"/>
                    <a:pt x="7877" y="17649"/>
                  </a:cubicBezTo>
                  <a:cubicBezTo>
                    <a:pt x="7931" y="17955"/>
                    <a:pt x="8091" y="17572"/>
                    <a:pt x="8171" y="17572"/>
                  </a:cubicBezTo>
                  <a:cubicBezTo>
                    <a:pt x="8251" y="17495"/>
                    <a:pt x="8331" y="17266"/>
                    <a:pt x="8411" y="17189"/>
                  </a:cubicBezTo>
                  <a:cubicBezTo>
                    <a:pt x="8517" y="16959"/>
                    <a:pt x="8571" y="16959"/>
                    <a:pt x="8704" y="17036"/>
                  </a:cubicBezTo>
                  <a:cubicBezTo>
                    <a:pt x="8757" y="17036"/>
                    <a:pt x="8757" y="17112"/>
                    <a:pt x="8811" y="17266"/>
                  </a:cubicBezTo>
                  <a:cubicBezTo>
                    <a:pt x="8837" y="17342"/>
                    <a:pt x="8891" y="17342"/>
                    <a:pt x="8944" y="17342"/>
                  </a:cubicBezTo>
                  <a:cubicBezTo>
                    <a:pt x="8997" y="17342"/>
                    <a:pt x="9024" y="17419"/>
                    <a:pt x="9077" y="17419"/>
                  </a:cubicBezTo>
                  <a:cubicBezTo>
                    <a:pt x="9131" y="17572"/>
                    <a:pt x="9157" y="17419"/>
                    <a:pt x="9211" y="17342"/>
                  </a:cubicBezTo>
                  <a:cubicBezTo>
                    <a:pt x="9291" y="17112"/>
                    <a:pt x="9157" y="16959"/>
                    <a:pt x="9211" y="16729"/>
                  </a:cubicBezTo>
                  <a:cubicBezTo>
                    <a:pt x="9237" y="16576"/>
                    <a:pt x="9344" y="16270"/>
                    <a:pt x="9397" y="16346"/>
                  </a:cubicBezTo>
                  <a:cubicBezTo>
                    <a:pt x="9504" y="16500"/>
                    <a:pt x="9637" y="16500"/>
                    <a:pt x="9744" y="16653"/>
                  </a:cubicBezTo>
                  <a:cubicBezTo>
                    <a:pt x="9797" y="16729"/>
                    <a:pt x="9771" y="16883"/>
                    <a:pt x="9797" y="16959"/>
                  </a:cubicBezTo>
                  <a:cubicBezTo>
                    <a:pt x="9824" y="17189"/>
                    <a:pt x="9877" y="17189"/>
                    <a:pt x="9957" y="17266"/>
                  </a:cubicBezTo>
                  <a:cubicBezTo>
                    <a:pt x="10064" y="17342"/>
                    <a:pt x="10171" y="17112"/>
                    <a:pt x="10277" y="17189"/>
                  </a:cubicBezTo>
                  <a:cubicBezTo>
                    <a:pt x="10304" y="17189"/>
                    <a:pt x="10357" y="17189"/>
                    <a:pt x="10384" y="17266"/>
                  </a:cubicBezTo>
                  <a:cubicBezTo>
                    <a:pt x="10437" y="17342"/>
                    <a:pt x="10491" y="17342"/>
                    <a:pt x="10544" y="17495"/>
                  </a:cubicBezTo>
                  <a:cubicBezTo>
                    <a:pt x="10677" y="17802"/>
                    <a:pt x="10891" y="17802"/>
                    <a:pt x="11051" y="17649"/>
                  </a:cubicBezTo>
                  <a:cubicBezTo>
                    <a:pt x="11157" y="17572"/>
                    <a:pt x="11237" y="17419"/>
                    <a:pt x="11344" y="17342"/>
                  </a:cubicBezTo>
                  <a:cubicBezTo>
                    <a:pt x="11397" y="17189"/>
                    <a:pt x="11477" y="17342"/>
                    <a:pt x="11531" y="17342"/>
                  </a:cubicBezTo>
                  <a:cubicBezTo>
                    <a:pt x="11584" y="17419"/>
                    <a:pt x="11611" y="17266"/>
                    <a:pt x="11664" y="17342"/>
                  </a:cubicBezTo>
                  <a:cubicBezTo>
                    <a:pt x="11691" y="17419"/>
                    <a:pt x="11797" y="17649"/>
                    <a:pt x="11851" y="17572"/>
                  </a:cubicBezTo>
                  <a:cubicBezTo>
                    <a:pt x="11877" y="17572"/>
                    <a:pt x="11931" y="17495"/>
                    <a:pt x="11957" y="17419"/>
                  </a:cubicBezTo>
                  <a:cubicBezTo>
                    <a:pt x="12037" y="17342"/>
                    <a:pt x="12064" y="17342"/>
                    <a:pt x="12064" y="17189"/>
                  </a:cubicBezTo>
                  <a:cubicBezTo>
                    <a:pt x="12064" y="16883"/>
                    <a:pt x="12144" y="16576"/>
                    <a:pt x="12197" y="16423"/>
                  </a:cubicBezTo>
                  <a:cubicBezTo>
                    <a:pt x="12224" y="16346"/>
                    <a:pt x="12251" y="16193"/>
                    <a:pt x="12224" y="16117"/>
                  </a:cubicBezTo>
                  <a:cubicBezTo>
                    <a:pt x="12197" y="16040"/>
                    <a:pt x="12117" y="16040"/>
                    <a:pt x="12171" y="15887"/>
                  </a:cubicBezTo>
                  <a:cubicBezTo>
                    <a:pt x="12251" y="15657"/>
                    <a:pt x="12384" y="15657"/>
                    <a:pt x="12517" y="15581"/>
                  </a:cubicBezTo>
                  <a:cubicBezTo>
                    <a:pt x="12571" y="15581"/>
                    <a:pt x="12624" y="15581"/>
                    <a:pt x="12677" y="15657"/>
                  </a:cubicBezTo>
                  <a:cubicBezTo>
                    <a:pt x="12731" y="15734"/>
                    <a:pt x="12811" y="15734"/>
                    <a:pt x="12864" y="15810"/>
                  </a:cubicBezTo>
                  <a:cubicBezTo>
                    <a:pt x="12944" y="15887"/>
                    <a:pt x="12971" y="16193"/>
                    <a:pt x="13024" y="16423"/>
                  </a:cubicBezTo>
                  <a:cubicBezTo>
                    <a:pt x="13051" y="16653"/>
                    <a:pt x="13104" y="16883"/>
                    <a:pt x="13131" y="17112"/>
                  </a:cubicBezTo>
                  <a:cubicBezTo>
                    <a:pt x="13131" y="17189"/>
                    <a:pt x="13131" y="17342"/>
                    <a:pt x="13157" y="17495"/>
                  </a:cubicBezTo>
                  <a:cubicBezTo>
                    <a:pt x="13157" y="17572"/>
                    <a:pt x="13237" y="17572"/>
                    <a:pt x="13264" y="17572"/>
                  </a:cubicBezTo>
                  <a:cubicBezTo>
                    <a:pt x="13371" y="17649"/>
                    <a:pt x="13504" y="17802"/>
                    <a:pt x="13531" y="18108"/>
                  </a:cubicBezTo>
                  <a:cubicBezTo>
                    <a:pt x="13557" y="18338"/>
                    <a:pt x="13584" y="18491"/>
                    <a:pt x="13691" y="18491"/>
                  </a:cubicBezTo>
                  <a:cubicBezTo>
                    <a:pt x="13717" y="18491"/>
                    <a:pt x="13771" y="18491"/>
                    <a:pt x="13797" y="18491"/>
                  </a:cubicBezTo>
                  <a:cubicBezTo>
                    <a:pt x="13851" y="18491"/>
                    <a:pt x="13851" y="18338"/>
                    <a:pt x="13904" y="18338"/>
                  </a:cubicBezTo>
                  <a:cubicBezTo>
                    <a:pt x="13984" y="18338"/>
                    <a:pt x="14064" y="18108"/>
                    <a:pt x="14117" y="18415"/>
                  </a:cubicBezTo>
                  <a:cubicBezTo>
                    <a:pt x="14117" y="18568"/>
                    <a:pt x="14117" y="18568"/>
                    <a:pt x="14091" y="18644"/>
                  </a:cubicBezTo>
                  <a:cubicBezTo>
                    <a:pt x="14037" y="18798"/>
                    <a:pt x="14037" y="18874"/>
                    <a:pt x="14011" y="19027"/>
                  </a:cubicBezTo>
                  <a:cubicBezTo>
                    <a:pt x="13984" y="19257"/>
                    <a:pt x="13931" y="19487"/>
                    <a:pt x="13877" y="19717"/>
                  </a:cubicBezTo>
                  <a:cubicBezTo>
                    <a:pt x="13851" y="19870"/>
                    <a:pt x="13824" y="19793"/>
                    <a:pt x="13797" y="19717"/>
                  </a:cubicBezTo>
                  <a:cubicBezTo>
                    <a:pt x="13744" y="19640"/>
                    <a:pt x="13744" y="19717"/>
                    <a:pt x="13691" y="19793"/>
                  </a:cubicBezTo>
                  <a:cubicBezTo>
                    <a:pt x="13664" y="19793"/>
                    <a:pt x="13611" y="19870"/>
                    <a:pt x="13611" y="19870"/>
                  </a:cubicBezTo>
                  <a:cubicBezTo>
                    <a:pt x="13584" y="19946"/>
                    <a:pt x="13664" y="20253"/>
                    <a:pt x="13664" y="20406"/>
                  </a:cubicBezTo>
                  <a:cubicBezTo>
                    <a:pt x="13637" y="20483"/>
                    <a:pt x="13637" y="20636"/>
                    <a:pt x="13637" y="20712"/>
                  </a:cubicBezTo>
                  <a:cubicBezTo>
                    <a:pt x="13611" y="20866"/>
                    <a:pt x="13557" y="20789"/>
                    <a:pt x="13557" y="20942"/>
                  </a:cubicBezTo>
                  <a:cubicBezTo>
                    <a:pt x="13611" y="20866"/>
                    <a:pt x="13637" y="20942"/>
                    <a:pt x="13691" y="20789"/>
                  </a:cubicBezTo>
                  <a:cubicBezTo>
                    <a:pt x="13717" y="20636"/>
                    <a:pt x="13771" y="20789"/>
                    <a:pt x="13824" y="20789"/>
                  </a:cubicBezTo>
                  <a:cubicBezTo>
                    <a:pt x="13931" y="20942"/>
                    <a:pt x="14037" y="20789"/>
                    <a:pt x="14144" y="20559"/>
                  </a:cubicBezTo>
                  <a:cubicBezTo>
                    <a:pt x="14224" y="20329"/>
                    <a:pt x="14304" y="20023"/>
                    <a:pt x="14384" y="19793"/>
                  </a:cubicBezTo>
                  <a:cubicBezTo>
                    <a:pt x="14464" y="19487"/>
                    <a:pt x="14544" y="19181"/>
                    <a:pt x="14624" y="18874"/>
                  </a:cubicBezTo>
                  <a:cubicBezTo>
                    <a:pt x="14757" y="18338"/>
                    <a:pt x="14891" y="17955"/>
                    <a:pt x="14864" y="17266"/>
                  </a:cubicBezTo>
                  <a:cubicBezTo>
                    <a:pt x="14864" y="16959"/>
                    <a:pt x="14891" y="16806"/>
                    <a:pt x="14944" y="16576"/>
                  </a:cubicBezTo>
                  <a:cubicBezTo>
                    <a:pt x="14971" y="16423"/>
                    <a:pt x="14971" y="16346"/>
                    <a:pt x="14997" y="16193"/>
                  </a:cubicBezTo>
                  <a:cubicBezTo>
                    <a:pt x="14997" y="16193"/>
                    <a:pt x="14997" y="16117"/>
                    <a:pt x="14997" y="16040"/>
                  </a:cubicBezTo>
                  <a:cubicBezTo>
                    <a:pt x="14997" y="15964"/>
                    <a:pt x="14944" y="15887"/>
                    <a:pt x="14944" y="15810"/>
                  </a:cubicBezTo>
                  <a:cubicBezTo>
                    <a:pt x="14944" y="15810"/>
                    <a:pt x="14997" y="15887"/>
                    <a:pt x="14997" y="15810"/>
                  </a:cubicBezTo>
                  <a:cubicBezTo>
                    <a:pt x="14971" y="15734"/>
                    <a:pt x="14971" y="15657"/>
                    <a:pt x="14944" y="15657"/>
                  </a:cubicBezTo>
                  <a:cubicBezTo>
                    <a:pt x="14917" y="15581"/>
                    <a:pt x="14864" y="15351"/>
                    <a:pt x="14837" y="15274"/>
                  </a:cubicBezTo>
                  <a:cubicBezTo>
                    <a:pt x="14811" y="15274"/>
                    <a:pt x="14677" y="15121"/>
                    <a:pt x="14651" y="15198"/>
                  </a:cubicBezTo>
                  <a:cubicBezTo>
                    <a:pt x="14651" y="15274"/>
                    <a:pt x="14677" y="15351"/>
                    <a:pt x="14651" y="15351"/>
                  </a:cubicBezTo>
                  <a:cubicBezTo>
                    <a:pt x="14597" y="15351"/>
                    <a:pt x="14597" y="15504"/>
                    <a:pt x="14571" y="15504"/>
                  </a:cubicBezTo>
                  <a:cubicBezTo>
                    <a:pt x="14517" y="15657"/>
                    <a:pt x="14491" y="15427"/>
                    <a:pt x="14491" y="15351"/>
                  </a:cubicBezTo>
                  <a:cubicBezTo>
                    <a:pt x="14491" y="15198"/>
                    <a:pt x="14544" y="15121"/>
                    <a:pt x="14464" y="15198"/>
                  </a:cubicBezTo>
                  <a:cubicBezTo>
                    <a:pt x="14384" y="15274"/>
                    <a:pt x="14491" y="15427"/>
                    <a:pt x="14384" y="15427"/>
                  </a:cubicBezTo>
                  <a:cubicBezTo>
                    <a:pt x="14357" y="15427"/>
                    <a:pt x="14411" y="15044"/>
                    <a:pt x="14384" y="14968"/>
                  </a:cubicBezTo>
                  <a:cubicBezTo>
                    <a:pt x="14384" y="15044"/>
                    <a:pt x="14091" y="15044"/>
                    <a:pt x="14224" y="14815"/>
                  </a:cubicBezTo>
                  <a:cubicBezTo>
                    <a:pt x="14331" y="14585"/>
                    <a:pt x="14437" y="14355"/>
                    <a:pt x="14544" y="14125"/>
                  </a:cubicBezTo>
                  <a:cubicBezTo>
                    <a:pt x="14571" y="14049"/>
                    <a:pt x="14597" y="13895"/>
                    <a:pt x="14624" y="13819"/>
                  </a:cubicBezTo>
                  <a:cubicBezTo>
                    <a:pt x="14704" y="13666"/>
                    <a:pt x="14784" y="13512"/>
                    <a:pt x="14837" y="13359"/>
                  </a:cubicBezTo>
                  <a:cubicBezTo>
                    <a:pt x="14864" y="13283"/>
                    <a:pt x="14891" y="13129"/>
                    <a:pt x="14944" y="13053"/>
                  </a:cubicBezTo>
                  <a:cubicBezTo>
                    <a:pt x="14997" y="12900"/>
                    <a:pt x="15051" y="12746"/>
                    <a:pt x="15104" y="12593"/>
                  </a:cubicBezTo>
                  <a:cubicBezTo>
                    <a:pt x="15211" y="12364"/>
                    <a:pt x="15371" y="12364"/>
                    <a:pt x="15504" y="12364"/>
                  </a:cubicBezTo>
                  <a:cubicBezTo>
                    <a:pt x="15531" y="12364"/>
                    <a:pt x="15557" y="12364"/>
                    <a:pt x="15584" y="12364"/>
                  </a:cubicBezTo>
                  <a:cubicBezTo>
                    <a:pt x="15611" y="12440"/>
                    <a:pt x="15611" y="12517"/>
                    <a:pt x="15637" y="12517"/>
                  </a:cubicBezTo>
                  <a:cubicBezTo>
                    <a:pt x="15664" y="12440"/>
                    <a:pt x="15717" y="12440"/>
                    <a:pt x="15744" y="12364"/>
                  </a:cubicBezTo>
                  <a:cubicBezTo>
                    <a:pt x="15771" y="12364"/>
                    <a:pt x="15797" y="12440"/>
                    <a:pt x="15824" y="12440"/>
                  </a:cubicBezTo>
                  <a:cubicBezTo>
                    <a:pt x="15851" y="12440"/>
                    <a:pt x="15877" y="12440"/>
                    <a:pt x="15904" y="12440"/>
                  </a:cubicBezTo>
                  <a:cubicBezTo>
                    <a:pt x="15904" y="12364"/>
                    <a:pt x="15931" y="12440"/>
                    <a:pt x="15957" y="12440"/>
                  </a:cubicBezTo>
                  <a:cubicBezTo>
                    <a:pt x="16011" y="12440"/>
                    <a:pt x="16011" y="12210"/>
                    <a:pt x="16091" y="12210"/>
                  </a:cubicBezTo>
                  <a:cubicBezTo>
                    <a:pt x="16117" y="12210"/>
                    <a:pt x="16171" y="12210"/>
                    <a:pt x="16197" y="12210"/>
                  </a:cubicBezTo>
                  <a:cubicBezTo>
                    <a:pt x="16224" y="12287"/>
                    <a:pt x="16251" y="12364"/>
                    <a:pt x="16277" y="12364"/>
                  </a:cubicBezTo>
                  <a:cubicBezTo>
                    <a:pt x="16304" y="12440"/>
                    <a:pt x="16411" y="12287"/>
                    <a:pt x="16411" y="12517"/>
                  </a:cubicBezTo>
                  <a:cubicBezTo>
                    <a:pt x="16411" y="12517"/>
                    <a:pt x="16331" y="12517"/>
                    <a:pt x="16331" y="12593"/>
                  </a:cubicBezTo>
                  <a:cubicBezTo>
                    <a:pt x="16304" y="12746"/>
                    <a:pt x="16411" y="12670"/>
                    <a:pt x="16411" y="12670"/>
                  </a:cubicBezTo>
                  <a:cubicBezTo>
                    <a:pt x="16464" y="12670"/>
                    <a:pt x="16517" y="12670"/>
                    <a:pt x="16544" y="12670"/>
                  </a:cubicBezTo>
                  <a:cubicBezTo>
                    <a:pt x="16571" y="12593"/>
                    <a:pt x="16571" y="12593"/>
                    <a:pt x="16597" y="12517"/>
                  </a:cubicBezTo>
                  <a:cubicBezTo>
                    <a:pt x="16624" y="12517"/>
                    <a:pt x="16651" y="12593"/>
                    <a:pt x="16704" y="12593"/>
                  </a:cubicBezTo>
                  <a:cubicBezTo>
                    <a:pt x="16731" y="12593"/>
                    <a:pt x="16917" y="12440"/>
                    <a:pt x="16811" y="12364"/>
                  </a:cubicBezTo>
                  <a:cubicBezTo>
                    <a:pt x="16757" y="12364"/>
                    <a:pt x="16731" y="12440"/>
                    <a:pt x="16731" y="12210"/>
                  </a:cubicBezTo>
                  <a:cubicBezTo>
                    <a:pt x="16731" y="12134"/>
                    <a:pt x="16784" y="11904"/>
                    <a:pt x="16811" y="11827"/>
                  </a:cubicBezTo>
                  <a:cubicBezTo>
                    <a:pt x="16864" y="11751"/>
                    <a:pt x="16891" y="11674"/>
                    <a:pt x="16944" y="11521"/>
                  </a:cubicBezTo>
                  <a:cubicBezTo>
                    <a:pt x="16971" y="11444"/>
                    <a:pt x="17024" y="11444"/>
                    <a:pt x="17051" y="11291"/>
                  </a:cubicBezTo>
                  <a:cubicBezTo>
                    <a:pt x="17077" y="11138"/>
                    <a:pt x="17104" y="11061"/>
                    <a:pt x="17157" y="11061"/>
                  </a:cubicBezTo>
                  <a:cubicBezTo>
                    <a:pt x="17211" y="11061"/>
                    <a:pt x="17291" y="10985"/>
                    <a:pt x="17344" y="10985"/>
                  </a:cubicBezTo>
                  <a:cubicBezTo>
                    <a:pt x="17397" y="10985"/>
                    <a:pt x="17424" y="11138"/>
                    <a:pt x="17451" y="11138"/>
                  </a:cubicBezTo>
                  <a:cubicBezTo>
                    <a:pt x="17477" y="11061"/>
                    <a:pt x="17504" y="10908"/>
                    <a:pt x="17531" y="10985"/>
                  </a:cubicBezTo>
                  <a:cubicBezTo>
                    <a:pt x="17557" y="11061"/>
                    <a:pt x="17477" y="11291"/>
                    <a:pt x="17477" y="11368"/>
                  </a:cubicBezTo>
                  <a:cubicBezTo>
                    <a:pt x="17477" y="11521"/>
                    <a:pt x="17504" y="11368"/>
                    <a:pt x="17557" y="11444"/>
                  </a:cubicBezTo>
                  <a:cubicBezTo>
                    <a:pt x="17557" y="11444"/>
                    <a:pt x="17504" y="11598"/>
                    <a:pt x="17504" y="11674"/>
                  </a:cubicBezTo>
                  <a:cubicBezTo>
                    <a:pt x="17504" y="11751"/>
                    <a:pt x="17691" y="11368"/>
                    <a:pt x="17691" y="11368"/>
                  </a:cubicBezTo>
                  <a:cubicBezTo>
                    <a:pt x="17717" y="11291"/>
                    <a:pt x="17744" y="11215"/>
                    <a:pt x="17797" y="11138"/>
                  </a:cubicBezTo>
                  <a:cubicBezTo>
                    <a:pt x="17824" y="11061"/>
                    <a:pt x="17904" y="11215"/>
                    <a:pt x="17904" y="11061"/>
                  </a:cubicBezTo>
                  <a:cubicBezTo>
                    <a:pt x="17877" y="10908"/>
                    <a:pt x="17904" y="10602"/>
                    <a:pt x="17984" y="10602"/>
                  </a:cubicBezTo>
                  <a:cubicBezTo>
                    <a:pt x="18011" y="10525"/>
                    <a:pt x="18064" y="10449"/>
                    <a:pt x="18091" y="10525"/>
                  </a:cubicBezTo>
                  <a:cubicBezTo>
                    <a:pt x="18117" y="10525"/>
                    <a:pt x="18171" y="10678"/>
                    <a:pt x="18197" y="10602"/>
                  </a:cubicBezTo>
                  <a:cubicBezTo>
                    <a:pt x="18144" y="10678"/>
                    <a:pt x="18064" y="10602"/>
                    <a:pt x="18037" y="10832"/>
                  </a:cubicBezTo>
                  <a:cubicBezTo>
                    <a:pt x="18037" y="10908"/>
                    <a:pt x="18037" y="10985"/>
                    <a:pt x="18037" y="11061"/>
                  </a:cubicBezTo>
                  <a:cubicBezTo>
                    <a:pt x="18037" y="11138"/>
                    <a:pt x="17984" y="11138"/>
                    <a:pt x="18011" y="11215"/>
                  </a:cubicBezTo>
                  <a:cubicBezTo>
                    <a:pt x="18011" y="11291"/>
                    <a:pt x="18037" y="11291"/>
                    <a:pt x="18011" y="11368"/>
                  </a:cubicBezTo>
                  <a:cubicBezTo>
                    <a:pt x="17984" y="11368"/>
                    <a:pt x="17957" y="11444"/>
                    <a:pt x="17984" y="11521"/>
                  </a:cubicBezTo>
                  <a:cubicBezTo>
                    <a:pt x="17984" y="11521"/>
                    <a:pt x="17824" y="11674"/>
                    <a:pt x="17824" y="11751"/>
                  </a:cubicBezTo>
                  <a:cubicBezTo>
                    <a:pt x="17771" y="11827"/>
                    <a:pt x="17744" y="11981"/>
                    <a:pt x="17691" y="12057"/>
                  </a:cubicBezTo>
                  <a:cubicBezTo>
                    <a:pt x="17637" y="12210"/>
                    <a:pt x="17584" y="12287"/>
                    <a:pt x="17531" y="12440"/>
                  </a:cubicBezTo>
                  <a:cubicBezTo>
                    <a:pt x="17424" y="12670"/>
                    <a:pt x="17344" y="13206"/>
                    <a:pt x="17211" y="13206"/>
                  </a:cubicBezTo>
                  <a:cubicBezTo>
                    <a:pt x="17184" y="13206"/>
                    <a:pt x="17077" y="13283"/>
                    <a:pt x="17077" y="13359"/>
                  </a:cubicBezTo>
                  <a:cubicBezTo>
                    <a:pt x="17077" y="13589"/>
                    <a:pt x="17077" y="13666"/>
                    <a:pt x="16997" y="13819"/>
                  </a:cubicBezTo>
                  <a:cubicBezTo>
                    <a:pt x="16891" y="14049"/>
                    <a:pt x="16891" y="14508"/>
                    <a:pt x="16917" y="14891"/>
                  </a:cubicBezTo>
                  <a:cubicBezTo>
                    <a:pt x="16944" y="15274"/>
                    <a:pt x="16917" y="15734"/>
                    <a:pt x="16997" y="16040"/>
                  </a:cubicBezTo>
                  <a:cubicBezTo>
                    <a:pt x="17024" y="16193"/>
                    <a:pt x="17024" y="16423"/>
                    <a:pt x="17024" y="16576"/>
                  </a:cubicBezTo>
                  <a:cubicBezTo>
                    <a:pt x="17024" y="16576"/>
                    <a:pt x="17024" y="16729"/>
                    <a:pt x="17051" y="16729"/>
                  </a:cubicBezTo>
                  <a:cubicBezTo>
                    <a:pt x="17077" y="16729"/>
                    <a:pt x="17024" y="16959"/>
                    <a:pt x="17051" y="16959"/>
                  </a:cubicBezTo>
                  <a:cubicBezTo>
                    <a:pt x="17051" y="16959"/>
                    <a:pt x="17184" y="16653"/>
                    <a:pt x="17184" y="16576"/>
                  </a:cubicBezTo>
                  <a:cubicBezTo>
                    <a:pt x="17237" y="16423"/>
                    <a:pt x="17264" y="16270"/>
                    <a:pt x="17291" y="16040"/>
                  </a:cubicBezTo>
                  <a:cubicBezTo>
                    <a:pt x="17317" y="15887"/>
                    <a:pt x="17424" y="15734"/>
                    <a:pt x="17451" y="15734"/>
                  </a:cubicBezTo>
                  <a:cubicBezTo>
                    <a:pt x="17531" y="15887"/>
                    <a:pt x="17451" y="15427"/>
                    <a:pt x="17477" y="15351"/>
                  </a:cubicBezTo>
                  <a:cubicBezTo>
                    <a:pt x="17531" y="15121"/>
                    <a:pt x="17557" y="15044"/>
                    <a:pt x="17637" y="15044"/>
                  </a:cubicBezTo>
                  <a:cubicBezTo>
                    <a:pt x="17717" y="15044"/>
                    <a:pt x="17824" y="15044"/>
                    <a:pt x="17771" y="14815"/>
                  </a:cubicBezTo>
                  <a:cubicBezTo>
                    <a:pt x="17691" y="14585"/>
                    <a:pt x="17744" y="14355"/>
                    <a:pt x="17824" y="14202"/>
                  </a:cubicBezTo>
                  <a:cubicBezTo>
                    <a:pt x="17851" y="14125"/>
                    <a:pt x="17851" y="14278"/>
                    <a:pt x="17877" y="14278"/>
                  </a:cubicBezTo>
                  <a:cubicBezTo>
                    <a:pt x="17931" y="14278"/>
                    <a:pt x="17931" y="14049"/>
                    <a:pt x="17931" y="13972"/>
                  </a:cubicBezTo>
                  <a:cubicBezTo>
                    <a:pt x="17877" y="13819"/>
                    <a:pt x="17824" y="13742"/>
                    <a:pt x="17877" y="13512"/>
                  </a:cubicBezTo>
                  <a:cubicBezTo>
                    <a:pt x="17877" y="13512"/>
                    <a:pt x="17957" y="13436"/>
                    <a:pt x="17931" y="13359"/>
                  </a:cubicBezTo>
                  <a:cubicBezTo>
                    <a:pt x="17904" y="13359"/>
                    <a:pt x="17877" y="13206"/>
                    <a:pt x="17851" y="13206"/>
                  </a:cubicBezTo>
                  <a:cubicBezTo>
                    <a:pt x="17824" y="13206"/>
                    <a:pt x="17851" y="13283"/>
                    <a:pt x="17824" y="13283"/>
                  </a:cubicBezTo>
                  <a:cubicBezTo>
                    <a:pt x="17771" y="13283"/>
                    <a:pt x="17744" y="13206"/>
                    <a:pt x="17771" y="13053"/>
                  </a:cubicBezTo>
                  <a:cubicBezTo>
                    <a:pt x="17797" y="12900"/>
                    <a:pt x="17851" y="12823"/>
                    <a:pt x="17904" y="12593"/>
                  </a:cubicBezTo>
                  <a:cubicBezTo>
                    <a:pt x="17931" y="12440"/>
                    <a:pt x="17931" y="12210"/>
                    <a:pt x="18011" y="12057"/>
                  </a:cubicBezTo>
                  <a:cubicBezTo>
                    <a:pt x="18037" y="11981"/>
                    <a:pt x="18037" y="12134"/>
                    <a:pt x="18037" y="12134"/>
                  </a:cubicBezTo>
                  <a:cubicBezTo>
                    <a:pt x="18091" y="12134"/>
                    <a:pt x="18091" y="11981"/>
                    <a:pt x="18117" y="12057"/>
                  </a:cubicBezTo>
                  <a:cubicBezTo>
                    <a:pt x="18144" y="12057"/>
                    <a:pt x="18144" y="12134"/>
                    <a:pt x="18171" y="12057"/>
                  </a:cubicBezTo>
                  <a:cubicBezTo>
                    <a:pt x="18224" y="11981"/>
                    <a:pt x="18251" y="11904"/>
                    <a:pt x="18304" y="11827"/>
                  </a:cubicBezTo>
                  <a:cubicBezTo>
                    <a:pt x="18384" y="11751"/>
                    <a:pt x="18277" y="12057"/>
                    <a:pt x="18331" y="12134"/>
                  </a:cubicBezTo>
                  <a:cubicBezTo>
                    <a:pt x="18331" y="12210"/>
                    <a:pt x="18437" y="11904"/>
                    <a:pt x="18464" y="11904"/>
                  </a:cubicBezTo>
                  <a:cubicBezTo>
                    <a:pt x="18517" y="11827"/>
                    <a:pt x="18571" y="11751"/>
                    <a:pt x="18651" y="11751"/>
                  </a:cubicBezTo>
                  <a:cubicBezTo>
                    <a:pt x="18704" y="11751"/>
                    <a:pt x="18757" y="11751"/>
                    <a:pt x="18784" y="11904"/>
                  </a:cubicBezTo>
                  <a:cubicBezTo>
                    <a:pt x="18811" y="11904"/>
                    <a:pt x="18837" y="11981"/>
                    <a:pt x="18864" y="12057"/>
                  </a:cubicBezTo>
                  <a:cubicBezTo>
                    <a:pt x="18891" y="12134"/>
                    <a:pt x="18891" y="11904"/>
                    <a:pt x="18917" y="11904"/>
                  </a:cubicBezTo>
                  <a:cubicBezTo>
                    <a:pt x="19131" y="11368"/>
                    <a:pt x="19371" y="11138"/>
                    <a:pt x="19611" y="10832"/>
                  </a:cubicBezTo>
                  <a:cubicBezTo>
                    <a:pt x="19664" y="10755"/>
                    <a:pt x="19744" y="10678"/>
                    <a:pt x="19771" y="10525"/>
                  </a:cubicBezTo>
                  <a:cubicBezTo>
                    <a:pt x="19797" y="10372"/>
                    <a:pt x="19797" y="10602"/>
                    <a:pt x="19851" y="10602"/>
                  </a:cubicBezTo>
                  <a:cubicBezTo>
                    <a:pt x="19877" y="10602"/>
                    <a:pt x="19931" y="10602"/>
                    <a:pt x="19957" y="10602"/>
                  </a:cubicBezTo>
                  <a:cubicBezTo>
                    <a:pt x="19984" y="10678"/>
                    <a:pt x="20011" y="10755"/>
                    <a:pt x="20037" y="10755"/>
                  </a:cubicBezTo>
                  <a:cubicBezTo>
                    <a:pt x="20117" y="10755"/>
                    <a:pt x="20117" y="10449"/>
                    <a:pt x="20091" y="10295"/>
                  </a:cubicBezTo>
                  <a:cubicBezTo>
                    <a:pt x="20091" y="10219"/>
                    <a:pt x="19984" y="10066"/>
                    <a:pt x="20011" y="9989"/>
                  </a:cubicBezTo>
                  <a:cubicBezTo>
                    <a:pt x="20011" y="9912"/>
                    <a:pt x="19957" y="9529"/>
                    <a:pt x="19931" y="9606"/>
                  </a:cubicBezTo>
                  <a:cubicBezTo>
                    <a:pt x="19931" y="9683"/>
                    <a:pt x="19877" y="9529"/>
                    <a:pt x="19851" y="9529"/>
                  </a:cubicBezTo>
                  <a:cubicBezTo>
                    <a:pt x="19824" y="9453"/>
                    <a:pt x="19851" y="9376"/>
                    <a:pt x="19824" y="9300"/>
                  </a:cubicBezTo>
                  <a:cubicBezTo>
                    <a:pt x="19824" y="9223"/>
                    <a:pt x="19744" y="9300"/>
                    <a:pt x="19744" y="9300"/>
                  </a:cubicBezTo>
                  <a:cubicBezTo>
                    <a:pt x="19717" y="9376"/>
                    <a:pt x="19637" y="9300"/>
                    <a:pt x="19664" y="9223"/>
                  </a:cubicBezTo>
                  <a:cubicBezTo>
                    <a:pt x="19664" y="9146"/>
                    <a:pt x="19744" y="9223"/>
                    <a:pt x="19771" y="9223"/>
                  </a:cubicBezTo>
                  <a:cubicBezTo>
                    <a:pt x="19771" y="9146"/>
                    <a:pt x="19691" y="9146"/>
                    <a:pt x="19691" y="9146"/>
                  </a:cubicBezTo>
                  <a:cubicBezTo>
                    <a:pt x="19691" y="8917"/>
                    <a:pt x="19904" y="9300"/>
                    <a:pt x="19931" y="9300"/>
                  </a:cubicBezTo>
                  <a:cubicBezTo>
                    <a:pt x="19984" y="9376"/>
                    <a:pt x="20144" y="9223"/>
                    <a:pt x="20197" y="9070"/>
                  </a:cubicBezTo>
                  <a:cubicBezTo>
                    <a:pt x="20224" y="8993"/>
                    <a:pt x="20171" y="8993"/>
                    <a:pt x="20171" y="8917"/>
                  </a:cubicBezTo>
                  <a:cubicBezTo>
                    <a:pt x="20171" y="8917"/>
                    <a:pt x="20277" y="8917"/>
                    <a:pt x="20277" y="8764"/>
                  </a:cubicBezTo>
                  <a:cubicBezTo>
                    <a:pt x="20251" y="8687"/>
                    <a:pt x="20197" y="8610"/>
                    <a:pt x="20224" y="8534"/>
                  </a:cubicBezTo>
                  <a:cubicBezTo>
                    <a:pt x="20224" y="8457"/>
                    <a:pt x="20277" y="8304"/>
                    <a:pt x="20277" y="8304"/>
                  </a:cubicBezTo>
                  <a:cubicBezTo>
                    <a:pt x="20304" y="8304"/>
                    <a:pt x="20411" y="8381"/>
                    <a:pt x="20411" y="8304"/>
                  </a:cubicBezTo>
                  <a:cubicBezTo>
                    <a:pt x="20384" y="8381"/>
                    <a:pt x="20304" y="8457"/>
                    <a:pt x="20331" y="8534"/>
                  </a:cubicBezTo>
                  <a:cubicBezTo>
                    <a:pt x="20357" y="8610"/>
                    <a:pt x="20384" y="8687"/>
                    <a:pt x="20384" y="8687"/>
                  </a:cubicBezTo>
                  <a:cubicBezTo>
                    <a:pt x="20384" y="8764"/>
                    <a:pt x="20357" y="8840"/>
                    <a:pt x="20384" y="8840"/>
                  </a:cubicBezTo>
                  <a:cubicBezTo>
                    <a:pt x="20437" y="8840"/>
                    <a:pt x="20491" y="8764"/>
                    <a:pt x="20544" y="8764"/>
                  </a:cubicBezTo>
                  <a:cubicBezTo>
                    <a:pt x="20597" y="8764"/>
                    <a:pt x="20651" y="8764"/>
                    <a:pt x="20704" y="8840"/>
                  </a:cubicBezTo>
                  <a:cubicBezTo>
                    <a:pt x="20731" y="8917"/>
                    <a:pt x="20731" y="8917"/>
                    <a:pt x="20731" y="9070"/>
                  </a:cubicBezTo>
                  <a:cubicBezTo>
                    <a:pt x="20731" y="9146"/>
                    <a:pt x="20837" y="9223"/>
                    <a:pt x="20864" y="9223"/>
                  </a:cubicBezTo>
                  <a:cubicBezTo>
                    <a:pt x="20891" y="9300"/>
                    <a:pt x="21051" y="9606"/>
                    <a:pt x="21077" y="9453"/>
                  </a:cubicBezTo>
                  <a:cubicBezTo>
                    <a:pt x="21051" y="9683"/>
                    <a:pt x="21211" y="9453"/>
                    <a:pt x="21211" y="9453"/>
                  </a:cubicBezTo>
                  <a:cubicBezTo>
                    <a:pt x="21211" y="9376"/>
                    <a:pt x="21104" y="9376"/>
                    <a:pt x="21131" y="9300"/>
                  </a:cubicBezTo>
                  <a:cubicBezTo>
                    <a:pt x="21131" y="9146"/>
                    <a:pt x="21211" y="9300"/>
                    <a:pt x="21211" y="9300"/>
                  </a:cubicBezTo>
                  <a:cubicBezTo>
                    <a:pt x="21211" y="9146"/>
                    <a:pt x="21184" y="9300"/>
                    <a:pt x="21211" y="9070"/>
                  </a:cubicBezTo>
                  <a:cubicBezTo>
                    <a:pt x="21211" y="8993"/>
                    <a:pt x="21211" y="8917"/>
                    <a:pt x="21211" y="8840"/>
                  </a:cubicBezTo>
                  <a:cubicBezTo>
                    <a:pt x="21184" y="8764"/>
                    <a:pt x="21157" y="8764"/>
                    <a:pt x="21157" y="8687"/>
                  </a:cubicBezTo>
                  <a:cubicBezTo>
                    <a:pt x="21157" y="8687"/>
                    <a:pt x="21344" y="8840"/>
                    <a:pt x="21371" y="8764"/>
                  </a:cubicBezTo>
                  <a:cubicBezTo>
                    <a:pt x="21371" y="8764"/>
                    <a:pt x="21344" y="8687"/>
                    <a:pt x="21317" y="8687"/>
                  </a:cubicBezTo>
                  <a:cubicBezTo>
                    <a:pt x="21344" y="8687"/>
                    <a:pt x="21424" y="8764"/>
                    <a:pt x="21451" y="8687"/>
                  </a:cubicBezTo>
                  <a:cubicBezTo>
                    <a:pt x="21451" y="8610"/>
                    <a:pt x="21451" y="8534"/>
                    <a:pt x="21477" y="8457"/>
                  </a:cubicBezTo>
                  <a:cubicBezTo>
                    <a:pt x="21477" y="8457"/>
                    <a:pt x="21557" y="8457"/>
                    <a:pt x="21557" y="8457"/>
                  </a:cubicBezTo>
                  <a:cubicBezTo>
                    <a:pt x="21557" y="8457"/>
                    <a:pt x="21531" y="8457"/>
                    <a:pt x="21531" y="8457"/>
                  </a:cubicBezTo>
                  <a:cubicBezTo>
                    <a:pt x="21504" y="8381"/>
                    <a:pt x="21584" y="8457"/>
                    <a:pt x="21531" y="8457"/>
                  </a:cubicBezTo>
                  <a:close/>
                  <a:moveTo>
                    <a:pt x="10784" y="14661"/>
                  </a:moveTo>
                  <a:cubicBezTo>
                    <a:pt x="10757" y="14891"/>
                    <a:pt x="10757" y="15121"/>
                    <a:pt x="10731" y="15351"/>
                  </a:cubicBezTo>
                  <a:cubicBezTo>
                    <a:pt x="10704" y="15504"/>
                    <a:pt x="10624" y="15427"/>
                    <a:pt x="10624" y="15581"/>
                  </a:cubicBezTo>
                  <a:cubicBezTo>
                    <a:pt x="10624" y="15581"/>
                    <a:pt x="10677" y="15581"/>
                    <a:pt x="10704" y="15581"/>
                  </a:cubicBezTo>
                  <a:cubicBezTo>
                    <a:pt x="10704" y="15581"/>
                    <a:pt x="10464" y="16040"/>
                    <a:pt x="10437" y="16040"/>
                  </a:cubicBezTo>
                  <a:cubicBezTo>
                    <a:pt x="10411" y="16117"/>
                    <a:pt x="10384" y="16193"/>
                    <a:pt x="10331" y="16193"/>
                  </a:cubicBezTo>
                  <a:cubicBezTo>
                    <a:pt x="10304" y="16270"/>
                    <a:pt x="10277" y="16423"/>
                    <a:pt x="10251" y="16500"/>
                  </a:cubicBezTo>
                  <a:cubicBezTo>
                    <a:pt x="10224" y="16576"/>
                    <a:pt x="10037" y="16729"/>
                    <a:pt x="10011" y="16576"/>
                  </a:cubicBezTo>
                  <a:cubicBezTo>
                    <a:pt x="10011" y="16500"/>
                    <a:pt x="10197" y="16346"/>
                    <a:pt x="10224" y="16270"/>
                  </a:cubicBezTo>
                  <a:cubicBezTo>
                    <a:pt x="10304" y="16117"/>
                    <a:pt x="10384" y="15887"/>
                    <a:pt x="10464" y="15734"/>
                  </a:cubicBezTo>
                  <a:cubicBezTo>
                    <a:pt x="10517" y="15657"/>
                    <a:pt x="10517" y="15427"/>
                    <a:pt x="10571" y="15351"/>
                  </a:cubicBezTo>
                  <a:cubicBezTo>
                    <a:pt x="10624" y="15121"/>
                    <a:pt x="10677" y="14891"/>
                    <a:pt x="10704" y="14661"/>
                  </a:cubicBezTo>
                  <a:cubicBezTo>
                    <a:pt x="10704" y="14508"/>
                    <a:pt x="10704" y="14508"/>
                    <a:pt x="10757" y="14432"/>
                  </a:cubicBezTo>
                  <a:cubicBezTo>
                    <a:pt x="10811" y="14355"/>
                    <a:pt x="10784" y="14585"/>
                    <a:pt x="10784" y="14661"/>
                  </a:cubicBezTo>
                  <a:cubicBezTo>
                    <a:pt x="10757" y="14738"/>
                    <a:pt x="10784" y="14508"/>
                    <a:pt x="10784" y="1466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6" name="Shape 1360"/>
            <p:cNvSpPr/>
            <p:nvPr/>
          </p:nvSpPr>
          <p:spPr>
            <a:xfrm>
              <a:off x="11021400" y="3099240"/>
              <a:ext cx="53280" cy="126720"/>
            </a:xfrm>
            <a:custGeom>
              <a:avLst/>
              <a:gdLst/>
              <a:ahLst/>
              <a:rect l="l" t="t" r="r" b="b"/>
              <a:pathLst>
                <a:path w="19515" h="21600">
                  <a:moveTo>
                    <a:pt x="16635" y="17550"/>
                  </a:moveTo>
                  <a:cubicBezTo>
                    <a:pt x="16635" y="14850"/>
                    <a:pt x="10875" y="11475"/>
                    <a:pt x="12315" y="8775"/>
                  </a:cubicBezTo>
                  <a:cubicBezTo>
                    <a:pt x="13755" y="6750"/>
                    <a:pt x="12315" y="4725"/>
                    <a:pt x="10875" y="2700"/>
                  </a:cubicBezTo>
                  <a:cubicBezTo>
                    <a:pt x="10875" y="2025"/>
                    <a:pt x="10875" y="1350"/>
                    <a:pt x="10875" y="675"/>
                  </a:cubicBezTo>
                  <a:cubicBezTo>
                    <a:pt x="10875" y="0"/>
                    <a:pt x="6555" y="0"/>
                    <a:pt x="6555" y="0"/>
                  </a:cubicBezTo>
                  <a:cubicBezTo>
                    <a:pt x="6555" y="675"/>
                    <a:pt x="7995" y="1350"/>
                    <a:pt x="7995" y="2025"/>
                  </a:cubicBezTo>
                  <a:cubicBezTo>
                    <a:pt x="9435" y="2700"/>
                    <a:pt x="7995" y="3375"/>
                    <a:pt x="6555" y="3375"/>
                  </a:cubicBezTo>
                  <a:cubicBezTo>
                    <a:pt x="5115" y="4050"/>
                    <a:pt x="3675" y="3375"/>
                    <a:pt x="3675" y="4725"/>
                  </a:cubicBezTo>
                  <a:cubicBezTo>
                    <a:pt x="3675" y="5400"/>
                    <a:pt x="3675" y="5400"/>
                    <a:pt x="3675" y="6075"/>
                  </a:cubicBezTo>
                  <a:cubicBezTo>
                    <a:pt x="2235" y="7425"/>
                    <a:pt x="2235" y="8775"/>
                    <a:pt x="795" y="9450"/>
                  </a:cubicBezTo>
                  <a:cubicBezTo>
                    <a:pt x="-2085" y="10125"/>
                    <a:pt x="3675" y="12150"/>
                    <a:pt x="5115" y="13500"/>
                  </a:cubicBezTo>
                  <a:cubicBezTo>
                    <a:pt x="6555" y="14850"/>
                    <a:pt x="3675" y="21600"/>
                    <a:pt x="6555" y="21600"/>
                  </a:cubicBezTo>
                  <a:cubicBezTo>
                    <a:pt x="10875" y="21600"/>
                    <a:pt x="15195" y="21600"/>
                    <a:pt x="19515" y="21600"/>
                  </a:cubicBezTo>
                  <a:cubicBezTo>
                    <a:pt x="19515" y="20250"/>
                    <a:pt x="18075" y="18900"/>
                    <a:pt x="16635" y="17550"/>
                  </a:cubicBezTo>
                  <a:cubicBezTo>
                    <a:pt x="16635" y="16200"/>
                    <a:pt x="16635" y="18225"/>
                    <a:pt x="16635" y="1755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7" name="Shape 1361"/>
            <p:cNvSpPr/>
            <p:nvPr/>
          </p:nvSpPr>
          <p:spPr>
            <a:xfrm>
              <a:off x="11030760" y="3225240"/>
              <a:ext cx="56160" cy="88560"/>
            </a:xfrm>
            <a:custGeom>
              <a:avLst/>
              <a:gdLst/>
              <a:ahLst/>
              <a:rect l="l" t="t" r="r" b="b"/>
              <a:pathLst>
                <a:path w="20563" h="20896">
                  <a:moveTo>
                    <a:pt x="16243" y="235"/>
                  </a:moveTo>
                  <a:cubicBezTo>
                    <a:pt x="14803" y="235"/>
                    <a:pt x="11923" y="235"/>
                    <a:pt x="9043" y="235"/>
                  </a:cubicBezTo>
                  <a:cubicBezTo>
                    <a:pt x="6163" y="235"/>
                    <a:pt x="3283" y="-704"/>
                    <a:pt x="1843" y="1174"/>
                  </a:cubicBezTo>
                  <a:cubicBezTo>
                    <a:pt x="1843" y="3053"/>
                    <a:pt x="403" y="3992"/>
                    <a:pt x="403" y="5870"/>
                  </a:cubicBezTo>
                  <a:cubicBezTo>
                    <a:pt x="403" y="6809"/>
                    <a:pt x="1843" y="7748"/>
                    <a:pt x="1843" y="9626"/>
                  </a:cubicBezTo>
                  <a:cubicBezTo>
                    <a:pt x="1843" y="10566"/>
                    <a:pt x="-1037" y="20896"/>
                    <a:pt x="403" y="20896"/>
                  </a:cubicBezTo>
                  <a:cubicBezTo>
                    <a:pt x="3283" y="19957"/>
                    <a:pt x="403" y="17139"/>
                    <a:pt x="4723" y="18079"/>
                  </a:cubicBezTo>
                  <a:cubicBezTo>
                    <a:pt x="6163" y="18079"/>
                    <a:pt x="9043" y="17139"/>
                    <a:pt x="9043" y="18079"/>
                  </a:cubicBezTo>
                  <a:cubicBezTo>
                    <a:pt x="10483" y="18079"/>
                    <a:pt x="10483" y="20896"/>
                    <a:pt x="11923" y="20896"/>
                  </a:cubicBezTo>
                  <a:cubicBezTo>
                    <a:pt x="11923" y="20896"/>
                    <a:pt x="11923" y="18079"/>
                    <a:pt x="11923" y="18079"/>
                  </a:cubicBezTo>
                  <a:cubicBezTo>
                    <a:pt x="11923" y="16200"/>
                    <a:pt x="9043" y="15261"/>
                    <a:pt x="7603" y="14322"/>
                  </a:cubicBezTo>
                  <a:cubicBezTo>
                    <a:pt x="6163" y="12444"/>
                    <a:pt x="1843" y="7748"/>
                    <a:pt x="4723" y="5870"/>
                  </a:cubicBezTo>
                  <a:cubicBezTo>
                    <a:pt x="9043" y="3992"/>
                    <a:pt x="7603" y="3053"/>
                    <a:pt x="11923" y="2113"/>
                  </a:cubicBezTo>
                  <a:cubicBezTo>
                    <a:pt x="14803" y="1174"/>
                    <a:pt x="19123" y="3053"/>
                    <a:pt x="20563" y="4931"/>
                  </a:cubicBezTo>
                  <a:cubicBezTo>
                    <a:pt x="19123" y="3053"/>
                    <a:pt x="17683" y="1174"/>
                    <a:pt x="16243" y="235"/>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748" name="Shape 1362"/>
            <p:cNvSpPr/>
            <p:nvPr/>
          </p:nvSpPr>
          <p:spPr>
            <a:xfrm>
              <a:off x="10715040" y="3491640"/>
              <a:ext cx="80640" cy="96840"/>
            </a:xfrm>
            <a:custGeom>
              <a:avLst/>
              <a:gdLst/>
              <a:ahLst/>
              <a:rect l="l" t="t" r="r" b="b"/>
              <a:pathLst>
                <a:path w="20859" h="20978">
                  <a:moveTo>
                    <a:pt x="5143" y="864"/>
                  </a:moveTo>
                  <a:cubicBezTo>
                    <a:pt x="3086" y="1728"/>
                    <a:pt x="2057" y="5184"/>
                    <a:pt x="4114" y="6048"/>
                  </a:cubicBezTo>
                  <a:cubicBezTo>
                    <a:pt x="7200" y="8640"/>
                    <a:pt x="2057" y="7776"/>
                    <a:pt x="1029" y="7776"/>
                  </a:cubicBezTo>
                  <a:cubicBezTo>
                    <a:pt x="1029" y="7776"/>
                    <a:pt x="3086" y="9504"/>
                    <a:pt x="3086" y="9504"/>
                  </a:cubicBezTo>
                  <a:cubicBezTo>
                    <a:pt x="3086" y="11232"/>
                    <a:pt x="3086" y="11232"/>
                    <a:pt x="2057" y="12096"/>
                  </a:cubicBezTo>
                  <a:cubicBezTo>
                    <a:pt x="2057" y="12096"/>
                    <a:pt x="3086" y="12960"/>
                    <a:pt x="3086" y="13824"/>
                  </a:cubicBezTo>
                  <a:cubicBezTo>
                    <a:pt x="2057" y="14688"/>
                    <a:pt x="1029" y="17280"/>
                    <a:pt x="1029" y="17280"/>
                  </a:cubicBezTo>
                  <a:cubicBezTo>
                    <a:pt x="1029" y="17280"/>
                    <a:pt x="3086" y="17280"/>
                    <a:pt x="3086" y="18144"/>
                  </a:cubicBezTo>
                  <a:cubicBezTo>
                    <a:pt x="3086" y="18144"/>
                    <a:pt x="0" y="19872"/>
                    <a:pt x="0" y="20736"/>
                  </a:cubicBezTo>
                  <a:cubicBezTo>
                    <a:pt x="0" y="20736"/>
                    <a:pt x="1029" y="19872"/>
                    <a:pt x="2057" y="19872"/>
                  </a:cubicBezTo>
                  <a:cubicBezTo>
                    <a:pt x="2057" y="19872"/>
                    <a:pt x="2057" y="21600"/>
                    <a:pt x="3086" y="20736"/>
                  </a:cubicBezTo>
                  <a:cubicBezTo>
                    <a:pt x="3086" y="19872"/>
                    <a:pt x="5143" y="19008"/>
                    <a:pt x="6171" y="19008"/>
                  </a:cubicBezTo>
                  <a:cubicBezTo>
                    <a:pt x="7200" y="18144"/>
                    <a:pt x="6171" y="21600"/>
                    <a:pt x="8229" y="19008"/>
                  </a:cubicBezTo>
                  <a:cubicBezTo>
                    <a:pt x="9257" y="17280"/>
                    <a:pt x="8229" y="18144"/>
                    <a:pt x="9257" y="19008"/>
                  </a:cubicBezTo>
                  <a:cubicBezTo>
                    <a:pt x="9257" y="19008"/>
                    <a:pt x="12343" y="18144"/>
                    <a:pt x="12343" y="18144"/>
                  </a:cubicBezTo>
                  <a:cubicBezTo>
                    <a:pt x="14400" y="18144"/>
                    <a:pt x="13371" y="17280"/>
                    <a:pt x="14400" y="17280"/>
                  </a:cubicBezTo>
                  <a:cubicBezTo>
                    <a:pt x="16457" y="17280"/>
                    <a:pt x="16457" y="16416"/>
                    <a:pt x="17486" y="15552"/>
                  </a:cubicBezTo>
                  <a:cubicBezTo>
                    <a:pt x="18514" y="13824"/>
                    <a:pt x="19543" y="16416"/>
                    <a:pt x="20571" y="17280"/>
                  </a:cubicBezTo>
                  <a:cubicBezTo>
                    <a:pt x="21600" y="17280"/>
                    <a:pt x="19543" y="13824"/>
                    <a:pt x="19543" y="13824"/>
                  </a:cubicBezTo>
                  <a:cubicBezTo>
                    <a:pt x="18514" y="12960"/>
                    <a:pt x="17486" y="12096"/>
                    <a:pt x="17486" y="10368"/>
                  </a:cubicBezTo>
                  <a:cubicBezTo>
                    <a:pt x="17486" y="6048"/>
                    <a:pt x="14400" y="3456"/>
                    <a:pt x="12343" y="0"/>
                  </a:cubicBezTo>
                  <a:cubicBezTo>
                    <a:pt x="10286" y="1728"/>
                    <a:pt x="8229" y="864"/>
                    <a:pt x="5143" y="864"/>
                  </a:cubicBezTo>
                  <a:cubicBezTo>
                    <a:pt x="5143" y="1728"/>
                    <a:pt x="6171" y="864"/>
                    <a:pt x="5143" y="86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9" name="Shape 1363"/>
            <p:cNvSpPr/>
            <p:nvPr/>
          </p:nvSpPr>
          <p:spPr>
            <a:xfrm>
              <a:off x="10680120" y="3388320"/>
              <a:ext cx="126720" cy="119520"/>
            </a:xfrm>
            <a:custGeom>
              <a:avLst/>
              <a:gdLst/>
              <a:ahLst/>
              <a:rect l="l" t="t" r="r" b="b"/>
              <a:pathLst>
                <a:path w="21600" h="21093">
                  <a:moveTo>
                    <a:pt x="21600" y="1583"/>
                  </a:moveTo>
                  <a:cubicBezTo>
                    <a:pt x="20925" y="887"/>
                    <a:pt x="20250" y="-507"/>
                    <a:pt x="19575" y="190"/>
                  </a:cubicBezTo>
                  <a:cubicBezTo>
                    <a:pt x="18900" y="190"/>
                    <a:pt x="18900" y="1583"/>
                    <a:pt x="18225" y="2280"/>
                  </a:cubicBezTo>
                  <a:cubicBezTo>
                    <a:pt x="18225" y="2280"/>
                    <a:pt x="17550" y="1583"/>
                    <a:pt x="16875" y="2977"/>
                  </a:cubicBezTo>
                  <a:cubicBezTo>
                    <a:pt x="16200" y="3674"/>
                    <a:pt x="14850" y="3674"/>
                    <a:pt x="13500" y="3674"/>
                  </a:cubicBezTo>
                  <a:cubicBezTo>
                    <a:pt x="12150" y="4370"/>
                    <a:pt x="14850" y="5764"/>
                    <a:pt x="13500" y="6461"/>
                  </a:cubicBezTo>
                  <a:cubicBezTo>
                    <a:pt x="11475" y="7158"/>
                    <a:pt x="10800" y="5764"/>
                    <a:pt x="8775" y="5764"/>
                  </a:cubicBezTo>
                  <a:cubicBezTo>
                    <a:pt x="8100" y="5067"/>
                    <a:pt x="6750" y="7158"/>
                    <a:pt x="6750" y="7854"/>
                  </a:cubicBezTo>
                  <a:cubicBezTo>
                    <a:pt x="4725" y="9945"/>
                    <a:pt x="675" y="9945"/>
                    <a:pt x="0" y="12732"/>
                  </a:cubicBezTo>
                  <a:cubicBezTo>
                    <a:pt x="0" y="12732"/>
                    <a:pt x="4050" y="14125"/>
                    <a:pt x="4050" y="14125"/>
                  </a:cubicBezTo>
                  <a:cubicBezTo>
                    <a:pt x="4050" y="14822"/>
                    <a:pt x="3375" y="16216"/>
                    <a:pt x="3375" y="16216"/>
                  </a:cubicBezTo>
                  <a:cubicBezTo>
                    <a:pt x="3375" y="17609"/>
                    <a:pt x="4050" y="16912"/>
                    <a:pt x="4050" y="17609"/>
                  </a:cubicBezTo>
                  <a:cubicBezTo>
                    <a:pt x="4050" y="16912"/>
                    <a:pt x="1350" y="19003"/>
                    <a:pt x="2025" y="19699"/>
                  </a:cubicBezTo>
                  <a:cubicBezTo>
                    <a:pt x="2025" y="19699"/>
                    <a:pt x="3375" y="20396"/>
                    <a:pt x="3375" y="20396"/>
                  </a:cubicBezTo>
                  <a:cubicBezTo>
                    <a:pt x="4050" y="20396"/>
                    <a:pt x="3375" y="20396"/>
                    <a:pt x="3375" y="21093"/>
                  </a:cubicBezTo>
                  <a:cubicBezTo>
                    <a:pt x="3375" y="20396"/>
                    <a:pt x="6075" y="20396"/>
                    <a:pt x="6075" y="21093"/>
                  </a:cubicBezTo>
                  <a:cubicBezTo>
                    <a:pt x="6750" y="21093"/>
                    <a:pt x="7425" y="21093"/>
                    <a:pt x="8100" y="21093"/>
                  </a:cubicBezTo>
                  <a:cubicBezTo>
                    <a:pt x="8100" y="21093"/>
                    <a:pt x="8775" y="19699"/>
                    <a:pt x="9450" y="19003"/>
                  </a:cubicBezTo>
                  <a:cubicBezTo>
                    <a:pt x="11475" y="19003"/>
                    <a:pt x="12825" y="19699"/>
                    <a:pt x="14175" y="18306"/>
                  </a:cubicBezTo>
                  <a:cubicBezTo>
                    <a:pt x="14175" y="16912"/>
                    <a:pt x="10800" y="15519"/>
                    <a:pt x="10800" y="14822"/>
                  </a:cubicBezTo>
                  <a:cubicBezTo>
                    <a:pt x="11475" y="14125"/>
                    <a:pt x="12150" y="13428"/>
                    <a:pt x="13500" y="12732"/>
                  </a:cubicBezTo>
                  <a:cubicBezTo>
                    <a:pt x="14850" y="11338"/>
                    <a:pt x="16200" y="9945"/>
                    <a:pt x="18225" y="9248"/>
                  </a:cubicBezTo>
                  <a:cubicBezTo>
                    <a:pt x="19575" y="7854"/>
                    <a:pt x="17550" y="5764"/>
                    <a:pt x="18225" y="5067"/>
                  </a:cubicBezTo>
                  <a:cubicBezTo>
                    <a:pt x="19575" y="3674"/>
                    <a:pt x="20250" y="2280"/>
                    <a:pt x="21600" y="158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0" name="Shape 1364"/>
            <p:cNvSpPr/>
            <p:nvPr/>
          </p:nvSpPr>
          <p:spPr>
            <a:xfrm>
              <a:off x="8058600" y="3074760"/>
              <a:ext cx="88920" cy="96120"/>
            </a:xfrm>
            <a:custGeom>
              <a:avLst/>
              <a:gdLst/>
              <a:ahLst/>
              <a:rect l="l" t="t" r="r" b="b"/>
              <a:pathLst>
                <a:path w="20419" h="21120">
                  <a:moveTo>
                    <a:pt x="18900" y="6432"/>
                  </a:moveTo>
                  <a:cubicBezTo>
                    <a:pt x="18000" y="6432"/>
                    <a:pt x="17100" y="3840"/>
                    <a:pt x="16200" y="3840"/>
                  </a:cubicBezTo>
                  <a:cubicBezTo>
                    <a:pt x="14400" y="4704"/>
                    <a:pt x="15300" y="5568"/>
                    <a:pt x="13500" y="4704"/>
                  </a:cubicBezTo>
                  <a:cubicBezTo>
                    <a:pt x="9900" y="3840"/>
                    <a:pt x="13500" y="2112"/>
                    <a:pt x="14400" y="384"/>
                  </a:cubicBezTo>
                  <a:cubicBezTo>
                    <a:pt x="12600" y="384"/>
                    <a:pt x="9900" y="-480"/>
                    <a:pt x="9000" y="384"/>
                  </a:cubicBezTo>
                  <a:cubicBezTo>
                    <a:pt x="9000" y="384"/>
                    <a:pt x="10800" y="384"/>
                    <a:pt x="9000" y="1248"/>
                  </a:cubicBezTo>
                  <a:cubicBezTo>
                    <a:pt x="9000" y="1248"/>
                    <a:pt x="7200" y="2112"/>
                    <a:pt x="8100" y="2112"/>
                  </a:cubicBezTo>
                  <a:cubicBezTo>
                    <a:pt x="8100" y="2976"/>
                    <a:pt x="9900" y="2112"/>
                    <a:pt x="9900" y="2976"/>
                  </a:cubicBezTo>
                  <a:cubicBezTo>
                    <a:pt x="10800" y="3840"/>
                    <a:pt x="8100" y="3840"/>
                    <a:pt x="8100" y="3840"/>
                  </a:cubicBezTo>
                  <a:cubicBezTo>
                    <a:pt x="6300" y="4704"/>
                    <a:pt x="2700" y="3840"/>
                    <a:pt x="1800" y="4704"/>
                  </a:cubicBezTo>
                  <a:cubicBezTo>
                    <a:pt x="1800" y="4704"/>
                    <a:pt x="2700" y="4704"/>
                    <a:pt x="2700" y="5568"/>
                  </a:cubicBezTo>
                  <a:cubicBezTo>
                    <a:pt x="2700" y="5568"/>
                    <a:pt x="900" y="5568"/>
                    <a:pt x="1800" y="6432"/>
                  </a:cubicBezTo>
                  <a:cubicBezTo>
                    <a:pt x="1800" y="6432"/>
                    <a:pt x="1800" y="6432"/>
                    <a:pt x="1800" y="6432"/>
                  </a:cubicBezTo>
                  <a:cubicBezTo>
                    <a:pt x="2700" y="6432"/>
                    <a:pt x="900" y="6432"/>
                    <a:pt x="900" y="6432"/>
                  </a:cubicBezTo>
                  <a:cubicBezTo>
                    <a:pt x="900" y="7296"/>
                    <a:pt x="4500" y="7296"/>
                    <a:pt x="2700" y="8160"/>
                  </a:cubicBezTo>
                  <a:cubicBezTo>
                    <a:pt x="0" y="9888"/>
                    <a:pt x="3600" y="10752"/>
                    <a:pt x="5400" y="10752"/>
                  </a:cubicBezTo>
                  <a:cubicBezTo>
                    <a:pt x="6300" y="10752"/>
                    <a:pt x="4500" y="13344"/>
                    <a:pt x="4500" y="14208"/>
                  </a:cubicBezTo>
                  <a:cubicBezTo>
                    <a:pt x="3600" y="14208"/>
                    <a:pt x="1800" y="17664"/>
                    <a:pt x="900" y="16800"/>
                  </a:cubicBezTo>
                  <a:cubicBezTo>
                    <a:pt x="900" y="16800"/>
                    <a:pt x="2700" y="16800"/>
                    <a:pt x="2700" y="16800"/>
                  </a:cubicBezTo>
                  <a:cubicBezTo>
                    <a:pt x="1800" y="17664"/>
                    <a:pt x="900" y="16800"/>
                    <a:pt x="0" y="18528"/>
                  </a:cubicBezTo>
                  <a:cubicBezTo>
                    <a:pt x="0" y="18528"/>
                    <a:pt x="2700" y="17664"/>
                    <a:pt x="2700" y="17664"/>
                  </a:cubicBezTo>
                  <a:cubicBezTo>
                    <a:pt x="2700" y="17664"/>
                    <a:pt x="1800" y="19392"/>
                    <a:pt x="1800" y="20256"/>
                  </a:cubicBezTo>
                  <a:cubicBezTo>
                    <a:pt x="1800" y="20256"/>
                    <a:pt x="3600" y="19392"/>
                    <a:pt x="3600" y="19392"/>
                  </a:cubicBezTo>
                  <a:cubicBezTo>
                    <a:pt x="3600" y="19392"/>
                    <a:pt x="3600" y="20256"/>
                    <a:pt x="3600" y="21120"/>
                  </a:cubicBezTo>
                  <a:cubicBezTo>
                    <a:pt x="4500" y="21120"/>
                    <a:pt x="6300" y="20256"/>
                    <a:pt x="7200" y="20256"/>
                  </a:cubicBezTo>
                  <a:cubicBezTo>
                    <a:pt x="9900" y="19392"/>
                    <a:pt x="12600" y="16800"/>
                    <a:pt x="15300" y="16800"/>
                  </a:cubicBezTo>
                  <a:cubicBezTo>
                    <a:pt x="18900" y="16800"/>
                    <a:pt x="18000" y="15936"/>
                    <a:pt x="19800" y="13344"/>
                  </a:cubicBezTo>
                  <a:cubicBezTo>
                    <a:pt x="21600" y="10752"/>
                    <a:pt x="18900" y="9024"/>
                    <a:pt x="18900" y="6432"/>
                  </a:cubicBezTo>
                  <a:cubicBezTo>
                    <a:pt x="18000" y="6432"/>
                    <a:pt x="18900" y="7296"/>
                    <a:pt x="18900" y="643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1" name="Shape 1365"/>
            <p:cNvSpPr/>
            <p:nvPr/>
          </p:nvSpPr>
          <p:spPr>
            <a:xfrm>
              <a:off x="8109000" y="3069720"/>
              <a:ext cx="47880" cy="31680"/>
            </a:xfrm>
            <a:custGeom>
              <a:avLst/>
              <a:gdLst/>
              <a:ahLst/>
              <a:rect l="l" t="t" r="r" b="b"/>
              <a:pathLst>
                <a:path w="16394" h="17549">
                  <a:moveTo>
                    <a:pt x="272" y="12219"/>
                  </a:moveTo>
                  <a:cubicBezTo>
                    <a:pt x="-1078" y="14379"/>
                    <a:pt x="2972" y="16539"/>
                    <a:pt x="4322" y="16539"/>
                  </a:cubicBezTo>
                  <a:cubicBezTo>
                    <a:pt x="4322" y="16539"/>
                    <a:pt x="5672" y="14379"/>
                    <a:pt x="5672" y="14379"/>
                  </a:cubicBezTo>
                  <a:cubicBezTo>
                    <a:pt x="7022" y="12219"/>
                    <a:pt x="8372" y="14379"/>
                    <a:pt x="9722" y="16539"/>
                  </a:cubicBezTo>
                  <a:cubicBezTo>
                    <a:pt x="12422" y="20859"/>
                    <a:pt x="20522" y="10059"/>
                    <a:pt x="13772" y="7899"/>
                  </a:cubicBezTo>
                  <a:cubicBezTo>
                    <a:pt x="15122" y="7899"/>
                    <a:pt x="13772" y="3579"/>
                    <a:pt x="13772" y="3579"/>
                  </a:cubicBezTo>
                  <a:cubicBezTo>
                    <a:pt x="12422" y="-741"/>
                    <a:pt x="11072" y="-741"/>
                    <a:pt x="8372" y="1419"/>
                  </a:cubicBezTo>
                  <a:cubicBezTo>
                    <a:pt x="7022" y="1419"/>
                    <a:pt x="4322" y="1419"/>
                    <a:pt x="4322" y="3579"/>
                  </a:cubicBezTo>
                  <a:cubicBezTo>
                    <a:pt x="2972" y="5739"/>
                    <a:pt x="272" y="7899"/>
                    <a:pt x="272" y="12219"/>
                  </a:cubicBezTo>
                  <a:cubicBezTo>
                    <a:pt x="272" y="12219"/>
                    <a:pt x="272" y="10059"/>
                    <a:pt x="272" y="12219"/>
                  </a:cubicBezTo>
                  <a:close/>
                </a:path>
              </a:pathLst>
            </a:custGeom>
            <a:solidFill>
              <a:srgbClr val="dadbdf"/>
            </a:solidFill>
            <a:ln w="4680">
              <a:solidFill>
                <a:srgbClr val="ffffff"/>
              </a:solidFill>
              <a:round/>
            </a:ln>
          </p:spPr>
          <p:style>
            <a:lnRef idx="0"/>
            <a:fillRef idx="0"/>
            <a:effectRef idx="0"/>
            <a:fontRef idx="minor"/>
          </p:style>
          <p:txBody>
            <a:bodyPr lIns="45360" rIns="45360" tIns="-15120" bIns="-15120" anchor="t">
              <a:noAutofit/>
            </a:bodyPr>
            <a:p>
              <a:endParaRPr b="0" lang="en-US" sz="1800" spc="-1" strike="noStrike">
                <a:solidFill>
                  <a:srgbClr val="000000"/>
                </a:solidFill>
                <a:latin typeface="Calibri"/>
              </a:endParaRPr>
            </a:p>
          </p:txBody>
        </p:sp>
        <p:sp>
          <p:nvSpPr>
            <p:cNvPr id="752" name="Shape 1366"/>
            <p:cNvSpPr/>
            <p:nvPr/>
          </p:nvSpPr>
          <p:spPr>
            <a:xfrm>
              <a:off x="8086320" y="3364920"/>
              <a:ext cx="244440" cy="179640"/>
            </a:xfrm>
            <a:custGeom>
              <a:avLst/>
              <a:gdLst/>
              <a:ahLst/>
              <a:rect l="l" t="t" r="r" b="b"/>
              <a:pathLst>
                <a:path w="21310" h="21325">
                  <a:moveTo>
                    <a:pt x="19596" y="3757"/>
                  </a:moveTo>
                  <a:cubicBezTo>
                    <a:pt x="18567" y="3757"/>
                    <a:pt x="18224" y="3287"/>
                    <a:pt x="17539" y="2817"/>
                  </a:cubicBezTo>
                  <a:cubicBezTo>
                    <a:pt x="17196" y="2348"/>
                    <a:pt x="16853" y="2817"/>
                    <a:pt x="16510" y="2817"/>
                  </a:cubicBezTo>
                  <a:cubicBezTo>
                    <a:pt x="16167" y="2817"/>
                    <a:pt x="15481" y="2817"/>
                    <a:pt x="15139" y="2817"/>
                  </a:cubicBezTo>
                  <a:cubicBezTo>
                    <a:pt x="14453" y="2348"/>
                    <a:pt x="13767" y="1878"/>
                    <a:pt x="13424" y="1878"/>
                  </a:cubicBezTo>
                  <a:cubicBezTo>
                    <a:pt x="13081" y="1409"/>
                    <a:pt x="13081" y="1409"/>
                    <a:pt x="12739" y="939"/>
                  </a:cubicBezTo>
                  <a:cubicBezTo>
                    <a:pt x="12396" y="1409"/>
                    <a:pt x="12053" y="939"/>
                    <a:pt x="11710" y="939"/>
                  </a:cubicBezTo>
                  <a:cubicBezTo>
                    <a:pt x="11024" y="470"/>
                    <a:pt x="10681" y="939"/>
                    <a:pt x="10339" y="939"/>
                  </a:cubicBezTo>
                  <a:cubicBezTo>
                    <a:pt x="9653" y="939"/>
                    <a:pt x="9310" y="939"/>
                    <a:pt x="8967" y="939"/>
                  </a:cubicBezTo>
                  <a:cubicBezTo>
                    <a:pt x="7939" y="939"/>
                    <a:pt x="6910" y="470"/>
                    <a:pt x="5539" y="470"/>
                  </a:cubicBezTo>
                  <a:cubicBezTo>
                    <a:pt x="4853" y="470"/>
                    <a:pt x="3481" y="0"/>
                    <a:pt x="2453" y="0"/>
                  </a:cubicBezTo>
                  <a:cubicBezTo>
                    <a:pt x="2110" y="470"/>
                    <a:pt x="1081" y="939"/>
                    <a:pt x="396" y="1409"/>
                  </a:cubicBezTo>
                  <a:cubicBezTo>
                    <a:pt x="-290" y="1878"/>
                    <a:pt x="53" y="2348"/>
                    <a:pt x="396" y="2817"/>
                  </a:cubicBezTo>
                  <a:cubicBezTo>
                    <a:pt x="396" y="3757"/>
                    <a:pt x="396" y="4226"/>
                    <a:pt x="396" y="5165"/>
                  </a:cubicBezTo>
                  <a:cubicBezTo>
                    <a:pt x="739" y="5165"/>
                    <a:pt x="1424" y="4696"/>
                    <a:pt x="1424" y="4696"/>
                  </a:cubicBezTo>
                  <a:cubicBezTo>
                    <a:pt x="1767" y="4696"/>
                    <a:pt x="1424" y="5635"/>
                    <a:pt x="2110" y="5635"/>
                  </a:cubicBezTo>
                  <a:cubicBezTo>
                    <a:pt x="2796" y="5635"/>
                    <a:pt x="3139" y="5165"/>
                    <a:pt x="3824" y="5165"/>
                  </a:cubicBezTo>
                  <a:cubicBezTo>
                    <a:pt x="4510" y="4696"/>
                    <a:pt x="5196" y="6104"/>
                    <a:pt x="4510" y="6574"/>
                  </a:cubicBezTo>
                  <a:cubicBezTo>
                    <a:pt x="3824" y="7513"/>
                    <a:pt x="4167" y="7983"/>
                    <a:pt x="4167" y="9391"/>
                  </a:cubicBezTo>
                  <a:cubicBezTo>
                    <a:pt x="3824" y="9861"/>
                    <a:pt x="4167" y="11270"/>
                    <a:pt x="3824" y="11739"/>
                  </a:cubicBezTo>
                  <a:cubicBezTo>
                    <a:pt x="2796" y="11739"/>
                    <a:pt x="3139" y="12209"/>
                    <a:pt x="3824" y="13148"/>
                  </a:cubicBezTo>
                  <a:cubicBezTo>
                    <a:pt x="4167" y="13617"/>
                    <a:pt x="3139" y="14557"/>
                    <a:pt x="3139" y="15496"/>
                  </a:cubicBezTo>
                  <a:cubicBezTo>
                    <a:pt x="3824" y="16435"/>
                    <a:pt x="3139" y="16904"/>
                    <a:pt x="3139" y="17843"/>
                  </a:cubicBezTo>
                  <a:cubicBezTo>
                    <a:pt x="4167" y="17374"/>
                    <a:pt x="4853" y="19722"/>
                    <a:pt x="5539" y="20661"/>
                  </a:cubicBezTo>
                  <a:cubicBezTo>
                    <a:pt x="5539" y="21130"/>
                    <a:pt x="6224" y="21600"/>
                    <a:pt x="6567" y="21130"/>
                  </a:cubicBezTo>
                  <a:cubicBezTo>
                    <a:pt x="6567" y="21130"/>
                    <a:pt x="6910" y="20661"/>
                    <a:pt x="6910" y="20191"/>
                  </a:cubicBezTo>
                  <a:cubicBezTo>
                    <a:pt x="7253" y="20191"/>
                    <a:pt x="7939" y="19722"/>
                    <a:pt x="7939" y="19722"/>
                  </a:cubicBezTo>
                  <a:cubicBezTo>
                    <a:pt x="9310" y="19252"/>
                    <a:pt x="10681" y="19722"/>
                    <a:pt x="12053" y="19252"/>
                  </a:cubicBezTo>
                  <a:cubicBezTo>
                    <a:pt x="12396" y="18783"/>
                    <a:pt x="12396" y="18313"/>
                    <a:pt x="13081" y="17843"/>
                  </a:cubicBezTo>
                  <a:cubicBezTo>
                    <a:pt x="13767" y="17374"/>
                    <a:pt x="14110" y="16904"/>
                    <a:pt x="14453" y="16435"/>
                  </a:cubicBezTo>
                  <a:cubicBezTo>
                    <a:pt x="14796" y="15026"/>
                    <a:pt x="15139" y="14557"/>
                    <a:pt x="15824" y="14087"/>
                  </a:cubicBezTo>
                  <a:cubicBezTo>
                    <a:pt x="16167" y="13617"/>
                    <a:pt x="15481" y="12678"/>
                    <a:pt x="15139" y="12209"/>
                  </a:cubicBezTo>
                  <a:cubicBezTo>
                    <a:pt x="15139" y="11739"/>
                    <a:pt x="15824" y="10330"/>
                    <a:pt x="16167" y="9861"/>
                  </a:cubicBezTo>
                  <a:cubicBezTo>
                    <a:pt x="16167" y="9861"/>
                    <a:pt x="16510" y="9391"/>
                    <a:pt x="16853" y="8922"/>
                  </a:cubicBezTo>
                  <a:cubicBezTo>
                    <a:pt x="16853" y="8922"/>
                    <a:pt x="16853" y="7983"/>
                    <a:pt x="17196" y="7983"/>
                  </a:cubicBezTo>
                  <a:cubicBezTo>
                    <a:pt x="18224" y="7043"/>
                    <a:pt x="19253" y="6574"/>
                    <a:pt x="20281" y="6104"/>
                  </a:cubicBezTo>
                  <a:cubicBezTo>
                    <a:pt x="20624" y="5635"/>
                    <a:pt x="21310" y="5165"/>
                    <a:pt x="21310" y="4226"/>
                  </a:cubicBezTo>
                  <a:cubicBezTo>
                    <a:pt x="20967" y="3287"/>
                    <a:pt x="20281" y="4226"/>
                    <a:pt x="19596" y="3757"/>
                  </a:cubicBezTo>
                  <a:cubicBezTo>
                    <a:pt x="18567" y="3757"/>
                    <a:pt x="20281" y="4226"/>
                    <a:pt x="19596" y="375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3" name="Shape 1367"/>
            <p:cNvSpPr/>
            <p:nvPr/>
          </p:nvSpPr>
          <p:spPr>
            <a:xfrm>
              <a:off x="8082720" y="3404160"/>
              <a:ext cx="58680" cy="119880"/>
            </a:xfrm>
            <a:custGeom>
              <a:avLst/>
              <a:gdLst/>
              <a:ahLst/>
              <a:rect l="l" t="t" r="r" b="b"/>
              <a:pathLst>
                <a:path w="20018" h="21600">
                  <a:moveTo>
                    <a:pt x="14850" y="18000"/>
                  </a:moveTo>
                  <a:cubicBezTo>
                    <a:pt x="16200" y="16560"/>
                    <a:pt x="13500" y="15840"/>
                    <a:pt x="14850" y="15120"/>
                  </a:cubicBezTo>
                  <a:cubicBezTo>
                    <a:pt x="16200" y="12960"/>
                    <a:pt x="16200" y="12960"/>
                    <a:pt x="13500" y="11520"/>
                  </a:cubicBezTo>
                  <a:cubicBezTo>
                    <a:pt x="12150" y="10080"/>
                    <a:pt x="14850" y="10800"/>
                    <a:pt x="16200" y="10080"/>
                  </a:cubicBezTo>
                  <a:cubicBezTo>
                    <a:pt x="17550" y="9360"/>
                    <a:pt x="17550" y="7200"/>
                    <a:pt x="17550" y="6480"/>
                  </a:cubicBezTo>
                  <a:cubicBezTo>
                    <a:pt x="17550" y="4320"/>
                    <a:pt x="16200" y="4320"/>
                    <a:pt x="18900" y="2880"/>
                  </a:cubicBezTo>
                  <a:cubicBezTo>
                    <a:pt x="21600" y="2160"/>
                    <a:pt x="18900" y="0"/>
                    <a:pt x="16200" y="720"/>
                  </a:cubicBezTo>
                  <a:cubicBezTo>
                    <a:pt x="13500" y="720"/>
                    <a:pt x="12150" y="1440"/>
                    <a:pt x="9450" y="1440"/>
                  </a:cubicBezTo>
                  <a:cubicBezTo>
                    <a:pt x="6750" y="1440"/>
                    <a:pt x="8100" y="0"/>
                    <a:pt x="6750" y="0"/>
                  </a:cubicBezTo>
                  <a:cubicBezTo>
                    <a:pt x="8100" y="0"/>
                    <a:pt x="4050" y="0"/>
                    <a:pt x="5400" y="0"/>
                  </a:cubicBezTo>
                  <a:cubicBezTo>
                    <a:pt x="2700" y="720"/>
                    <a:pt x="4050" y="1440"/>
                    <a:pt x="4050" y="2880"/>
                  </a:cubicBezTo>
                  <a:cubicBezTo>
                    <a:pt x="4050" y="3600"/>
                    <a:pt x="4050" y="5040"/>
                    <a:pt x="4050" y="5760"/>
                  </a:cubicBezTo>
                  <a:cubicBezTo>
                    <a:pt x="2700" y="7200"/>
                    <a:pt x="2700" y="8640"/>
                    <a:pt x="2700" y="9360"/>
                  </a:cubicBezTo>
                  <a:cubicBezTo>
                    <a:pt x="1350" y="11520"/>
                    <a:pt x="0" y="12240"/>
                    <a:pt x="0" y="14400"/>
                  </a:cubicBezTo>
                  <a:cubicBezTo>
                    <a:pt x="1350" y="15120"/>
                    <a:pt x="2700" y="14400"/>
                    <a:pt x="2700" y="15840"/>
                  </a:cubicBezTo>
                  <a:cubicBezTo>
                    <a:pt x="4050" y="16560"/>
                    <a:pt x="2700" y="18720"/>
                    <a:pt x="2700" y="20160"/>
                  </a:cubicBezTo>
                  <a:cubicBezTo>
                    <a:pt x="2700" y="21600"/>
                    <a:pt x="5400" y="21600"/>
                    <a:pt x="8100" y="21600"/>
                  </a:cubicBezTo>
                  <a:cubicBezTo>
                    <a:pt x="13500" y="21600"/>
                    <a:pt x="12150" y="19440"/>
                    <a:pt x="14850" y="18000"/>
                  </a:cubicBezTo>
                  <a:cubicBezTo>
                    <a:pt x="16200" y="16560"/>
                    <a:pt x="13500" y="18720"/>
                    <a:pt x="14850" y="180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4" name="Shape 1368"/>
            <p:cNvSpPr/>
            <p:nvPr/>
          </p:nvSpPr>
          <p:spPr>
            <a:xfrm>
              <a:off x="8845920" y="4495320"/>
              <a:ext cx="205200" cy="341280"/>
            </a:xfrm>
            <a:custGeom>
              <a:avLst/>
              <a:gdLst/>
              <a:ahLst/>
              <a:rect l="l" t="t" r="r" b="b"/>
              <a:pathLst>
                <a:path w="21238" h="21109">
                  <a:moveTo>
                    <a:pt x="21192" y="5298"/>
                  </a:moveTo>
                  <a:cubicBezTo>
                    <a:pt x="19970" y="3826"/>
                    <a:pt x="20377" y="1862"/>
                    <a:pt x="20377" y="389"/>
                  </a:cubicBezTo>
                  <a:cubicBezTo>
                    <a:pt x="20377" y="-347"/>
                    <a:pt x="19562" y="144"/>
                    <a:pt x="18747" y="389"/>
                  </a:cubicBezTo>
                  <a:cubicBezTo>
                    <a:pt x="18340" y="635"/>
                    <a:pt x="17525" y="1126"/>
                    <a:pt x="16709" y="1126"/>
                  </a:cubicBezTo>
                  <a:cubicBezTo>
                    <a:pt x="16302" y="1126"/>
                    <a:pt x="15487" y="880"/>
                    <a:pt x="15487" y="1371"/>
                  </a:cubicBezTo>
                  <a:cubicBezTo>
                    <a:pt x="14672" y="2108"/>
                    <a:pt x="13857" y="1371"/>
                    <a:pt x="13042" y="1371"/>
                  </a:cubicBezTo>
                  <a:cubicBezTo>
                    <a:pt x="12226" y="1371"/>
                    <a:pt x="12226" y="1862"/>
                    <a:pt x="11411" y="1371"/>
                  </a:cubicBezTo>
                  <a:cubicBezTo>
                    <a:pt x="11004" y="1371"/>
                    <a:pt x="9781" y="1371"/>
                    <a:pt x="9374" y="1371"/>
                  </a:cubicBezTo>
                  <a:cubicBezTo>
                    <a:pt x="8151" y="1371"/>
                    <a:pt x="8558" y="3580"/>
                    <a:pt x="9781" y="4071"/>
                  </a:cubicBezTo>
                  <a:cubicBezTo>
                    <a:pt x="9781" y="4071"/>
                    <a:pt x="9781" y="4562"/>
                    <a:pt x="10189" y="4562"/>
                  </a:cubicBezTo>
                  <a:cubicBezTo>
                    <a:pt x="10189" y="4808"/>
                    <a:pt x="10596" y="4808"/>
                    <a:pt x="11004" y="5053"/>
                  </a:cubicBezTo>
                  <a:cubicBezTo>
                    <a:pt x="11004" y="5544"/>
                    <a:pt x="11004" y="6280"/>
                    <a:pt x="11004" y="6526"/>
                  </a:cubicBezTo>
                  <a:cubicBezTo>
                    <a:pt x="11004" y="7017"/>
                    <a:pt x="11411" y="7262"/>
                    <a:pt x="10189" y="7262"/>
                  </a:cubicBezTo>
                  <a:cubicBezTo>
                    <a:pt x="9781" y="7262"/>
                    <a:pt x="9781" y="7998"/>
                    <a:pt x="9781" y="8244"/>
                  </a:cubicBezTo>
                  <a:cubicBezTo>
                    <a:pt x="9374" y="7998"/>
                    <a:pt x="8558" y="7508"/>
                    <a:pt x="8151" y="7262"/>
                  </a:cubicBezTo>
                  <a:cubicBezTo>
                    <a:pt x="7743" y="6771"/>
                    <a:pt x="8558" y="6280"/>
                    <a:pt x="8558" y="5789"/>
                  </a:cubicBezTo>
                  <a:cubicBezTo>
                    <a:pt x="8966" y="4562"/>
                    <a:pt x="7743" y="5544"/>
                    <a:pt x="6521" y="5053"/>
                  </a:cubicBezTo>
                  <a:cubicBezTo>
                    <a:pt x="6113" y="4808"/>
                    <a:pt x="6113" y="4317"/>
                    <a:pt x="5298" y="4562"/>
                  </a:cubicBezTo>
                  <a:cubicBezTo>
                    <a:pt x="3668" y="5053"/>
                    <a:pt x="2445" y="5298"/>
                    <a:pt x="815" y="5544"/>
                  </a:cubicBezTo>
                  <a:cubicBezTo>
                    <a:pt x="408" y="5789"/>
                    <a:pt x="0" y="5789"/>
                    <a:pt x="0" y="6035"/>
                  </a:cubicBezTo>
                  <a:cubicBezTo>
                    <a:pt x="0" y="6280"/>
                    <a:pt x="408" y="6771"/>
                    <a:pt x="408" y="7017"/>
                  </a:cubicBezTo>
                  <a:cubicBezTo>
                    <a:pt x="1630" y="7017"/>
                    <a:pt x="4891" y="7508"/>
                    <a:pt x="4891" y="8244"/>
                  </a:cubicBezTo>
                  <a:cubicBezTo>
                    <a:pt x="5298" y="8980"/>
                    <a:pt x="5298" y="9717"/>
                    <a:pt x="5298" y="10453"/>
                  </a:cubicBezTo>
                  <a:cubicBezTo>
                    <a:pt x="4891" y="10944"/>
                    <a:pt x="5706" y="11680"/>
                    <a:pt x="4891" y="12417"/>
                  </a:cubicBezTo>
                  <a:cubicBezTo>
                    <a:pt x="4075" y="13153"/>
                    <a:pt x="3260" y="14135"/>
                    <a:pt x="2445" y="14871"/>
                  </a:cubicBezTo>
                  <a:cubicBezTo>
                    <a:pt x="1630" y="15362"/>
                    <a:pt x="2445" y="16344"/>
                    <a:pt x="2445" y="16589"/>
                  </a:cubicBezTo>
                  <a:cubicBezTo>
                    <a:pt x="3260" y="17571"/>
                    <a:pt x="3260" y="18062"/>
                    <a:pt x="3260" y="18798"/>
                  </a:cubicBezTo>
                  <a:cubicBezTo>
                    <a:pt x="3260" y="19535"/>
                    <a:pt x="3260" y="20271"/>
                    <a:pt x="3668" y="21008"/>
                  </a:cubicBezTo>
                  <a:cubicBezTo>
                    <a:pt x="3668" y="21253"/>
                    <a:pt x="4891" y="21008"/>
                    <a:pt x="4891" y="20762"/>
                  </a:cubicBezTo>
                  <a:cubicBezTo>
                    <a:pt x="5298" y="20517"/>
                    <a:pt x="5298" y="20026"/>
                    <a:pt x="5298" y="20026"/>
                  </a:cubicBezTo>
                  <a:cubicBezTo>
                    <a:pt x="4891" y="20026"/>
                    <a:pt x="4483" y="20026"/>
                    <a:pt x="4483" y="20026"/>
                  </a:cubicBezTo>
                  <a:cubicBezTo>
                    <a:pt x="4483" y="19289"/>
                    <a:pt x="5706" y="18798"/>
                    <a:pt x="6521" y="18553"/>
                  </a:cubicBezTo>
                  <a:cubicBezTo>
                    <a:pt x="7743" y="18308"/>
                    <a:pt x="9374" y="18062"/>
                    <a:pt x="10189" y="17326"/>
                  </a:cubicBezTo>
                  <a:cubicBezTo>
                    <a:pt x="10189" y="17080"/>
                    <a:pt x="10189" y="15853"/>
                    <a:pt x="10189" y="15362"/>
                  </a:cubicBezTo>
                  <a:cubicBezTo>
                    <a:pt x="10189" y="14871"/>
                    <a:pt x="8558" y="11435"/>
                    <a:pt x="8558" y="11435"/>
                  </a:cubicBezTo>
                  <a:cubicBezTo>
                    <a:pt x="8966" y="11189"/>
                    <a:pt x="8966" y="11926"/>
                    <a:pt x="9781" y="11435"/>
                  </a:cubicBezTo>
                  <a:cubicBezTo>
                    <a:pt x="10596" y="10944"/>
                    <a:pt x="11004" y="10698"/>
                    <a:pt x="11819" y="10453"/>
                  </a:cubicBezTo>
                  <a:cubicBezTo>
                    <a:pt x="12634" y="10208"/>
                    <a:pt x="13042" y="8735"/>
                    <a:pt x="14264" y="8980"/>
                  </a:cubicBezTo>
                  <a:cubicBezTo>
                    <a:pt x="14672" y="8980"/>
                    <a:pt x="15487" y="8489"/>
                    <a:pt x="16302" y="8489"/>
                  </a:cubicBezTo>
                  <a:cubicBezTo>
                    <a:pt x="17117" y="8244"/>
                    <a:pt x="17932" y="7998"/>
                    <a:pt x="18747" y="7508"/>
                  </a:cubicBezTo>
                  <a:cubicBezTo>
                    <a:pt x="19155" y="7262"/>
                    <a:pt x="21600" y="5789"/>
                    <a:pt x="21192" y="5298"/>
                  </a:cubicBezTo>
                  <a:cubicBezTo>
                    <a:pt x="20785" y="5053"/>
                    <a:pt x="21192" y="5544"/>
                    <a:pt x="21192" y="529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5" name="Shape 1369"/>
            <p:cNvSpPr/>
            <p:nvPr/>
          </p:nvSpPr>
          <p:spPr>
            <a:xfrm>
              <a:off x="8896320" y="4478760"/>
              <a:ext cx="56880" cy="149400"/>
            </a:xfrm>
            <a:custGeom>
              <a:avLst/>
              <a:gdLst/>
              <a:ahLst/>
              <a:rect l="l" t="t" r="r" b="b"/>
              <a:pathLst>
                <a:path w="19443" h="21600">
                  <a:moveTo>
                    <a:pt x="4322" y="14211"/>
                  </a:moveTo>
                  <a:cubicBezTo>
                    <a:pt x="7022" y="14779"/>
                    <a:pt x="11072" y="13642"/>
                    <a:pt x="11072" y="14779"/>
                  </a:cubicBezTo>
                  <a:cubicBezTo>
                    <a:pt x="12422" y="15916"/>
                    <a:pt x="11072" y="16484"/>
                    <a:pt x="9722" y="17621"/>
                  </a:cubicBezTo>
                  <a:cubicBezTo>
                    <a:pt x="7022" y="18758"/>
                    <a:pt x="12422" y="20463"/>
                    <a:pt x="15122" y="21600"/>
                  </a:cubicBezTo>
                  <a:cubicBezTo>
                    <a:pt x="16472" y="21032"/>
                    <a:pt x="15122" y="19895"/>
                    <a:pt x="15122" y="19326"/>
                  </a:cubicBezTo>
                  <a:cubicBezTo>
                    <a:pt x="16472" y="18758"/>
                    <a:pt x="20522" y="19895"/>
                    <a:pt x="19172" y="18758"/>
                  </a:cubicBezTo>
                  <a:cubicBezTo>
                    <a:pt x="19172" y="17621"/>
                    <a:pt x="19172" y="16484"/>
                    <a:pt x="19172" y="15347"/>
                  </a:cubicBezTo>
                  <a:cubicBezTo>
                    <a:pt x="17822" y="14211"/>
                    <a:pt x="16472" y="13642"/>
                    <a:pt x="15122" y="12505"/>
                  </a:cubicBezTo>
                  <a:cubicBezTo>
                    <a:pt x="13772" y="14211"/>
                    <a:pt x="9722" y="11937"/>
                    <a:pt x="9722" y="11368"/>
                  </a:cubicBezTo>
                  <a:cubicBezTo>
                    <a:pt x="9722" y="10232"/>
                    <a:pt x="9722" y="9663"/>
                    <a:pt x="9722" y="9095"/>
                  </a:cubicBezTo>
                  <a:cubicBezTo>
                    <a:pt x="9722" y="7958"/>
                    <a:pt x="9722" y="8526"/>
                    <a:pt x="8372" y="7958"/>
                  </a:cubicBezTo>
                  <a:cubicBezTo>
                    <a:pt x="7022" y="7958"/>
                    <a:pt x="9722" y="4547"/>
                    <a:pt x="9722" y="4547"/>
                  </a:cubicBezTo>
                  <a:cubicBezTo>
                    <a:pt x="9722" y="3411"/>
                    <a:pt x="8372" y="2842"/>
                    <a:pt x="8372" y="1705"/>
                  </a:cubicBezTo>
                  <a:cubicBezTo>
                    <a:pt x="7022" y="1137"/>
                    <a:pt x="5672" y="0"/>
                    <a:pt x="8372" y="568"/>
                  </a:cubicBezTo>
                  <a:cubicBezTo>
                    <a:pt x="7022" y="0"/>
                    <a:pt x="2972" y="0"/>
                    <a:pt x="1622" y="0"/>
                  </a:cubicBezTo>
                  <a:cubicBezTo>
                    <a:pt x="1622" y="568"/>
                    <a:pt x="7022" y="2842"/>
                    <a:pt x="4322" y="3411"/>
                  </a:cubicBezTo>
                  <a:cubicBezTo>
                    <a:pt x="272" y="3979"/>
                    <a:pt x="1622" y="6821"/>
                    <a:pt x="4322" y="7958"/>
                  </a:cubicBezTo>
                  <a:cubicBezTo>
                    <a:pt x="4322" y="8526"/>
                    <a:pt x="1622" y="8526"/>
                    <a:pt x="1622" y="9095"/>
                  </a:cubicBezTo>
                  <a:cubicBezTo>
                    <a:pt x="272" y="9095"/>
                    <a:pt x="272" y="10800"/>
                    <a:pt x="272" y="11368"/>
                  </a:cubicBezTo>
                  <a:cubicBezTo>
                    <a:pt x="-1078" y="12505"/>
                    <a:pt x="2972" y="13642"/>
                    <a:pt x="4322" y="14211"/>
                  </a:cubicBezTo>
                  <a:cubicBezTo>
                    <a:pt x="5672" y="14779"/>
                    <a:pt x="4322" y="13642"/>
                    <a:pt x="4322" y="1421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6" name="Shape 1370"/>
            <p:cNvSpPr/>
            <p:nvPr/>
          </p:nvSpPr>
          <p:spPr>
            <a:xfrm>
              <a:off x="8682120" y="4450680"/>
              <a:ext cx="228600" cy="198000"/>
            </a:xfrm>
            <a:custGeom>
              <a:avLst/>
              <a:gdLst/>
              <a:ahLst/>
              <a:rect l="l" t="t" r="r" b="b"/>
              <a:pathLst>
                <a:path w="20820" h="21600">
                  <a:moveTo>
                    <a:pt x="19858" y="12960"/>
                  </a:moveTo>
                  <a:cubicBezTo>
                    <a:pt x="19138" y="11664"/>
                    <a:pt x="19858" y="11664"/>
                    <a:pt x="19498" y="10368"/>
                  </a:cubicBezTo>
                  <a:cubicBezTo>
                    <a:pt x="19498" y="9936"/>
                    <a:pt x="19858" y="9936"/>
                    <a:pt x="20218" y="9504"/>
                  </a:cubicBezTo>
                  <a:cubicBezTo>
                    <a:pt x="20578" y="9072"/>
                    <a:pt x="20218" y="8640"/>
                    <a:pt x="20218" y="8208"/>
                  </a:cubicBezTo>
                  <a:cubicBezTo>
                    <a:pt x="19858" y="7344"/>
                    <a:pt x="19858" y="6048"/>
                    <a:pt x="20578" y="5616"/>
                  </a:cubicBezTo>
                  <a:cubicBezTo>
                    <a:pt x="21298" y="5184"/>
                    <a:pt x="20218" y="3888"/>
                    <a:pt x="19858" y="3456"/>
                  </a:cubicBezTo>
                  <a:cubicBezTo>
                    <a:pt x="19498" y="2592"/>
                    <a:pt x="18778" y="2160"/>
                    <a:pt x="18058" y="2160"/>
                  </a:cubicBezTo>
                  <a:cubicBezTo>
                    <a:pt x="17698" y="1728"/>
                    <a:pt x="17338" y="1296"/>
                    <a:pt x="16978" y="1296"/>
                  </a:cubicBezTo>
                  <a:cubicBezTo>
                    <a:pt x="16618" y="864"/>
                    <a:pt x="16258" y="432"/>
                    <a:pt x="15898" y="0"/>
                  </a:cubicBezTo>
                  <a:cubicBezTo>
                    <a:pt x="15898" y="0"/>
                    <a:pt x="13738" y="432"/>
                    <a:pt x="13378" y="432"/>
                  </a:cubicBezTo>
                  <a:cubicBezTo>
                    <a:pt x="12658" y="432"/>
                    <a:pt x="12658" y="1296"/>
                    <a:pt x="11938" y="1728"/>
                  </a:cubicBezTo>
                  <a:cubicBezTo>
                    <a:pt x="11578" y="2592"/>
                    <a:pt x="11938" y="3888"/>
                    <a:pt x="12298" y="4320"/>
                  </a:cubicBezTo>
                  <a:cubicBezTo>
                    <a:pt x="12298" y="5616"/>
                    <a:pt x="11578" y="6048"/>
                    <a:pt x="11578" y="7344"/>
                  </a:cubicBezTo>
                  <a:cubicBezTo>
                    <a:pt x="11578" y="7776"/>
                    <a:pt x="12298" y="9072"/>
                    <a:pt x="13018" y="9072"/>
                  </a:cubicBezTo>
                  <a:cubicBezTo>
                    <a:pt x="13738" y="9072"/>
                    <a:pt x="14098" y="8640"/>
                    <a:pt x="14098" y="9936"/>
                  </a:cubicBezTo>
                  <a:cubicBezTo>
                    <a:pt x="14098" y="10800"/>
                    <a:pt x="14098" y="11232"/>
                    <a:pt x="13738" y="11232"/>
                  </a:cubicBezTo>
                  <a:cubicBezTo>
                    <a:pt x="13018" y="11664"/>
                    <a:pt x="12658" y="12096"/>
                    <a:pt x="12298" y="11232"/>
                  </a:cubicBezTo>
                  <a:cubicBezTo>
                    <a:pt x="11938" y="10368"/>
                    <a:pt x="11578" y="9504"/>
                    <a:pt x="10858" y="9504"/>
                  </a:cubicBezTo>
                  <a:cubicBezTo>
                    <a:pt x="10138" y="9072"/>
                    <a:pt x="9778" y="8208"/>
                    <a:pt x="9418" y="7344"/>
                  </a:cubicBezTo>
                  <a:cubicBezTo>
                    <a:pt x="8698" y="9072"/>
                    <a:pt x="7978" y="8208"/>
                    <a:pt x="6898" y="7776"/>
                  </a:cubicBezTo>
                  <a:cubicBezTo>
                    <a:pt x="6178" y="7776"/>
                    <a:pt x="6178" y="6912"/>
                    <a:pt x="5458" y="6912"/>
                  </a:cubicBezTo>
                  <a:cubicBezTo>
                    <a:pt x="5458" y="6912"/>
                    <a:pt x="5098" y="7344"/>
                    <a:pt x="4738" y="6912"/>
                  </a:cubicBezTo>
                  <a:cubicBezTo>
                    <a:pt x="4378" y="6912"/>
                    <a:pt x="4378" y="6048"/>
                    <a:pt x="3658" y="6048"/>
                  </a:cubicBezTo>
                  <a:cubicBezTo>
                    <a:pt x="3658" y="6912"/>
                    <a:pt x="3658" y="7776"/>
                    <a:pt x="3658" y="8640"/>
                  </a:cubicBezTo>
                  <a:cubicBezTo>
                    <a:pt x="3658" y="9504"/>
                    <a:pt x="4018" y="10368"/>
                    <a:pt x="3298" y="10368"/>
                  </a:cubicBezTo>
                  <a:cubicBezTo>
                    <a:pt x="2218" y="10368"/>
                    <a:pt x="1138" y="10368"/>
                    <a:pt x="418" y="10368"/>
                  </a:cubicBezTo>
                  <a:cubicBezTo>
                    <a:pt x="58" y="10368"/>
                    <a:pt x="58" y="12096"/>
                    <a:pt x="58" y="12528"/>
                  </a:cubicBezTo>
                  <a:cubicBezTo>
                    <a:pt x="58" y="14256"/>
                    <a:pt x="-302" y="17280"/>
                    <a:pt x="778" y="18576"/>
                  </a:cubicBezTo>
                  <a:cubicBezTo>
                    <a:pt x="1138" y="19008"/>
                    <a:pt x="2218" y="20736"/>
                    <a:pt x="2578" y="20736"/>
                  </a:cubicBezTo>
                  <a:cubicBezTo>
                    <a:pt x="3298" y="20304"/>
                    <a:pt x="6538" y="20304"/>
                    <a:pt x="5458" y="21600"/>
                  </a:cubicBezTo>
                  <a:cubicBezTo>
                    <a:pt x="6178" y="21600"/>
                    <a:pt x="5818" y="21600"/>
                    <a:pt x="6178" y="21600"/>
                  </a:cubicBezTo>
                  <a:cubicBezTo>
                    <a:pt x="6898" y="21168"/>
                    <a:pt x="7258" y="21600"/>
                    <a:pt x="7618" y="21600"/>
                  </a:cubicBezTo>
                  <a:cubicBezTo>
                    <a:pt x="8698" y="21600"/>
                    <a:pt x="9418" y="21600"/>
                    <a:pt x="9778" y="20304"/>
                  </a:cubicBezTo>
                  <a:cubicBezTo>
                    <a:pt x="10138" y="19872"/>
                    <a:pt x="10498" y="19440"/>
                    <a:pt x="10858" y="19008"/>
                  </a:cubicBezTo>
                  <a:cubicBezTo>
                    <a:pt x="11218" y="18576"/>
                    <a:pt x="11938" y="18576"/>
                    <a:pt x="12298" y="17712"/>
                  </a:cubicBezTo>
                  <a:cubicBezTo>
                    <a:pt x="12658" y="17280"/>
                    <a:pt x="12658" y="16848"/>
                    <a:pt x="13018" y="16416"/>
                  </a:cubicBezTo>
                  <a:cubicBezTo>
                    <a:pt x="13738" y="16416"/>
                    <a:pt x="14458" y="16416"/>
                    <a:pt x="15178" y="16416"/>
                  </a:cubicBezTo>
                  <a:cubicBezTo>
                    <a:pt x="14818" y="15984"/>
                    <a:pt x="14818" y="15120"/>
                    <a:pt x="14818" y="15120"/>
                  </a:cubicBezTo>
                  <a:cubicBezTo>
                    <a:pt x="15538" y="14688"/>
                    <a:pt x="15898" y="14688"/>
                    <a:pt x="16258" y="14256"/>
                  </a:cubicBezTo>
                  <a:cubicBezTo>
                    <a:pt x="17338" y="13824"/>
                    <a:pt x="18778" y="13392"/>
                    <a:pt x="19858" y="12960"/>
                  </a:cubicBezTo>
                  <a:cubicBezTo>
                    <a:pt x="19498" y="12528"/>
                    <a:pt x="19498" y="12960"/>
                    <a:pt x="19858" y="129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7" name="Shape 1371"/>
            <p:cNvSpPr/>
            <p:nvPr/>
          </p:nvSpPr>
          <p:spPr>
            <a:xfrm>
              <a:off x="8501400" y="4628520"/>
              <a:ext cx="243000" cy="248400"/>
            </a:xfrm>
            <a:custGeom>
              <a:avLst/>
              <a:gdLst/>
              <a:ahLst/>
              <a:rect l="l" t="t" r="r" b="b"/>
              <a:pathLst>
                <a:path w="20827" h="21514">
                  <a:moveTo>
                    <a:pt x="10854" y="1714"/>
                  </a:moveTo>
                  <a:cubicBezTo>
                    <a:pt x="10516" y="1714"/>
                    <a:pt x="10179" y="686"/>
                    <a:pt x="10179" y="686"/>
                  </a:cubicBezTo>
                  <a:cubicBezTo>
                    <a:pt x="9841" y="686"/>
                    <a:pt x="9504" y="686"/>
                    <a:pt x="9166" y="686"/>
                  </a:cubicBezTo>
                  <a:cubicBezTo>
                    <a:pt x="8154" y="686"/>
                    <a:pt x="6803" y="686"/>
                    <a:pt x="5791" y="686"/>
                  </a:cubicBezTo>
                  <a:cubicBezTo>
                    <a:pt x="4779" y="686"/>
                    <a:pt x="4103" y="686"/>
                    <a:pt x="3091" y="686"/>
                  </a:cubicBezTo>
                  <a:cubicBezTo>
                    <a:pt x="2753" y="686"/>
                    <a:pt x="2753" y="0"/>
                    <a:pt x="2078" y="0"/>
                  </a:cubicBezTo>
                  <a:cubicBezTo>
                    <a:pt x="1741" y="0"/>
                    <a:pt x="1403" y="686"/>
                    <a:pt x="1066" y="686"/>
                  </a:cubicBezTo>
                  <a:cubicBezTo>
                    <a:pt x="728" y="686"/>
                    <a:pt x="391" y="686"/>
                    <a:pt x="53" y="686"/>
                  </a:cubicBezTo>
                  <a:cubicBezTo>
                    <a:pt x="-284" y="2400"/>
                    <a:pt x="1066" y="3086"/>
                    <a:pt x="1741" y="4800"/>
                  </a:cubicBezTo>
                  <a:cubicBezTo>
                    <a:pt x="2078" y="5486"/>
                    <a:pt x="2416" y="6514"/>
                    <a:pt x="2753" y="7200"/>
                  </a:cubicBezTo>
                  <a:cubicBezTo>
                    <a:pt x="3091" y="8229"/>
                    <a:pt x="3766" y="8914"/>
                    <a:pt x="4103" y="9943"/>
                  </a:cubicBezTo>
                  <a:cubicBezTo>
                    <a:pt x="4103" y="10286"/>
                    <a:pt x="4103" y="11314"/>
                    <a:pt x="4103" y="11657"/>
                  </a:cubicBezTo>
                  <a:cubicBezTo>
                    <a:pt x="4103" y="12686"/>
                    <a:pt x="4441" y="13371"/>
                    <a:pt x="4441" y="14400"/>
                  </a:cubicBezTo>
                  <a:cubicBezTo>
                    <a:pt x="4779" y="15429"/>
                    <a:pt x="4779" y="16457"/>
                    <a:pt x="5116" y="17486"/>
                  </a:cubicBezTo>
                  <a:cubicBezTo>
                    <a:pt x="5453" y="18857"/>
                    <a:pt x="6466" y="19886"/>
                    <a:pt x="7141" y="20914"/>
                  </a:cubicBezTo>
                  <a:cubicBezTo>
                    <a:pt x="8154" y="19886"/>
                    <a:pt x="8154" y="20571"/>
                    <a:pt x="9166" y="21257"/>
                  </a:cubicBezTo>
                  <a:cubicBezTo>
                    <a:pt x="9504" y="21600"/>
                    <a:pt x="10516" y="21600"/>
                    <a:pt x="10854" y="21257"/>
                  </a:cubicBezTo>
                  <a:cubicBezTo>
                    <a:pt x="11866" y="21257"/>
                    <a:pt x="12541" y="20914"/>
                    <a:pt x="12541" y="19886"/>
                  </a:cubicBezTo>
                  <a:cubicBezTo>
                    <a:pt x="12541" y="17829"/>
                    <a:pt x="12541" y="15771"/>
                    <a:pt x="12541" y="13714"/>
                  </a:cubicBezTo>
                  <a:cubicBezTo>
                    <a:pt x="12541" y="12343"/>
                    <a:pt x="12541" y="10971"/>
                    <a:pt x="12541" y="9600"/>
                  </a:cubicBezTo>
                  <a:cubicBezTo>
                    <a:pt x="12541" y="9257"/>
                    <a:pt x="12541" y="8914"/>
                    <a:pt x="12879" y="8914"/>
                  </a:cubicBezTo>
                  <a:cubicBezTo>
                    <a:pt x="12879" y="8914"/>
                    <a:pt x="14229" y="8914"/>
                    <a:pt x="14229" y="8914"/>
                  </a:cubicBezTo>
                  <a:cubicBezTo>
                    <a:pt x="14229" y="6857"/>
                    <a:pt x="14229" y="4457"/>
                    <a:pt x="14229" y="2400"/>
                  </a:cubicBezTo>
                  <a:cubicBezTo>
                    <a:pt x="15241" y="2743"/>
                    <a:pt x="15916" y="2057"/>
                    <a:pt x="16929" y="2057"/>
                  </a:cubicBezTo>
                  <a:cubicBezTo>
                    <a:pt x="16929" y="1714"/>
                    <a:pt x="17266" y="1714"/>
                    <a:pt x="17604" y="1714"/>
                  </a:cubicBezTo>
                  <a:cubicBezTo>
                    <a:pt x="17604" y="1714"/>
                    <a:pt x="18279" y="2743"/>
                    <a:pt x="18616" y="2743"/>
                  </a:cubicBezTo>
                  <a:cubicBezTo>
                    <a:pt x="18954" y="2400"/>
                    <a:pt x="18616" y="2057"/>
                    <a:pt x="19291" y="2057"/>
                  </a:cubicBezTo>
                  <a:cubicBezTo>
                    <a:pt x="19629" y="2057"/>
                    <a:pt x="19966" y="1714"/>
                    <a:pt x="20641" y="1714"/>
                  </a:cubicBezTo>
                  <a:cubicBezTo>
                    <a:pt x="21316" y="1371"/>
                    <a:pt x="19966" y="686"/>
                    <a:pt x="19629" y="686"/>
                  </a:cubicBezTo>
                  <a:cubicBezTo>
                    <a:pt x="17941" y="686"/>
                    <a:pt x="16591" y="1714"/>
                    <a:pt x="14904" y="1714"/>
                  </a:cubicBezTo>
                  <a:cubicBezTo>
                    <a:pt x="13554" y="1714"/>
                    <a:pt x="12204" y="1714"/>
                    <a:pt x="10854" y="171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8" name="Shape 1372"/>
            <p:cNvSpPr/>
            <p:nvPr/>
          </p:nvSpPr>
          <p:spPr>
            <a:xfrm>
              <a:off x="8507160" y="4183200"/>
              <a:ext cx="356760" cy="373680"/>
            </a:xfrm>
            <a:custGeom>
              <a:avLst/>
              <a:gdLst/>
              <a:ahLst/>
              <a:rect l="l" t="t" r="r" b="b"/>
              <a:pathLst>
                <a:path w="21409" h="21467">
                  <a:moveTo>
                    <a:pt x="21231" y="3278"/>
                  </a:moveTo>
                  <a:cubicBezTo>
                    <a:pt x="20993" y="3050"/>
                    <a:pt x="20993" y="2595"/>
                    <a:pt x="20993" y="2141"/>
                  </a:cubicBezTo>
                  <a:cubicBezTo>
                    <a:pt x="20993" y="1913"/>
                    <a:pt x="20519" y="1686"/>
                    <a:pt x="20281" y="1459"/>
                  </a:cubicBezTo>
                  <a:cubicBezTo>
                    <a:pt x="20281" y="1231"/>
                    <a:pt x="19806" y="776"/>
                    <a:pt x="19569" y="776"/>
                  </a:cubicBezTo>
                  <a:cubicBezTo>
                    <a:pt x="19332" y="776"/>
                    <a:pt x="19332" y="1231"/>
                    <a:pt x="18857" y="1004"/>
                  </a:cubicBezTo>
                  <a:cubicBezTo>
                    <a:pt x="18382" y="776"/>
                    <a:pt x="18620" y="1004"/>
                    <a:pt x="18145" y="1231"/>
                  </a:cubicBezTo>
                  <a:cubicBezTo>
                    <a:pt x="18145" y="1231"/>
                    <a:pt x="17670" y="1004"/>
                    <a:pt x="17670" y="776"/>
                  </a:cubicBezTo>
                  <a:cubicBezTo>
                    <a:pt x="17433" y="549"/>
                    <a:pt x="17195" y="322"/>
                    <a:pt x="16958" y="94"/>
                  </a:cubicBezTo>
                  <a:cubicBezTo>
                    <a:pt x="16721" y="-133"/>
                    <a:pt x="16483" y="322"/>
                    <a:pt x="16246" y="322"/>
                  </a:cubicBezTo>
                  <a:cubicBezTo>
                    <a:pt x="16009" y="549"/>
                    <a:pt x="15534" y="322"/>
                    <a:pt x="15297" y="94"/>
                  </a:cubicBezTo>
                  <a:cubicBezTo>
                    <a:pt x="14822" y="-133"/>
                    <a:pt x="14822" y="94"/>
                    <a:pt x="14347" y="322"/>
                  </a:cubicBezTo>
                  <a:cubicBezTo>
                    <a:pt x="14110" y="549"/>
                    <a:pt x="13635" y="322"/>
                    <a:pt x="13398" y="322"/>
                  </a:cubicBezTo>
                  <a:cubicBezTo>
                    <a:pt x="13160" y="549"/>
                    <a:pt x="12448" y="549"/>
                    <a:pt x="12211" y="549"/>
                  </a:cubicBezTo>
                  <a:cubicBezTo>
                    <a:pt x="11499" y="94"/>
                    <a:pt x="11973" y="1231"/>
                    <a:pt x="11261" y="1231"/>
                  </a:cubicBezTo>
                  <a:cubicBezTo>
                    <a:pt x="10787" y="1459"/>
                    <a:pt x="9837" y="1231"/>
                    <a:pt x="9363" y="1004"/>
                  </a:cubicBezTo>
                  <a:cubicBezTo>
                    <a:pt x="8888" y="776"/>
                    <a:pt x="8650" y="322"/>
                    <a:pt x="8176" y="322"/>
                  </a:cubicBezTo>
                  <a:cubicBezTo>
                    <a:pt x="7938" y="94"/>
                    <a:pt x="7464" y="549"/>
                    <a:pt x="7226" y="776"/>
                  </a:cubicBezTo>
                  <a:cubicBezTo>
                    <a:pt x="6752" y="1231"/>
                    <a:pt x="7226" y="1913"/>
                    <a:pt x="6989" y="2595"/>
                  </a:cubicBezTo>
                  <a:cubicBezTo>
                    <a:pt x="6277" y="3732"/>
                    <a:pt x="6277" y="5096"/>
                    <a:pt x="5565" y="6006"/>
                  </a:cubicBezTo>
                  <a:cubicBezTo>
                    <a:pt x="5090" y="6688"/>
                    <a:pt x="4853" y="7143"/>
                    <a:pt x="4378" y="7825"/>
                  </a:cubicBezTo>
                  <a:cubicBezTo>
                    <a:pt x="4141" y="8280"/>
                    <a:pt x="4141" y="8734"/>
                    <a:pt x="4141" y="9189"/>
                  </a:cubicBezTo>
                  <a:cubicBezTo>
                    <a:pt x="4141" y="9871"/>
                    <a:pt x="4378" y="10326"/>
                    <a:pt x="3903" y="10781"/>
                  </a:cubicBezTo>
                  <a:cubicBezTo>
                    <a:pt x="3666" y="10781"/>
                    <a:pt x="2479" y="11463"/>
                    <a:pt x="2479" y="11463"/>
                  </a:cubicBezTo>
                  <a:cubicBezTo>
                    <a:pt x="2242" y="11463"/>
                    <a:pt x="2716" y="10781"/>
                    <a:pt x="2242" y="11008"/>
                  </a:cubicBezTo>
                  <a:cubicBezTo>
                    <a:pt x="1530" y="11463"/>
                    <a:pt x="1530" y="11918"/>
                    <a:pt x="1055" y="11235"/>
                  </a:cubicBezTo>
                  <a:cubicBezTo>
                    <a:pt x="817" y="11463"/>
                    <a:pt x="343" y="11918"/>
                    <a:pt x="343" y="12372"/>
                  </a:cubicBezTo>
                  <a:cubicBezTo>
                    <a:pt x="343" y="12372"/>
                    <a:pt x="343" y="12600"/>
                    <a:pt x="105" y="12600"/>
                  </a:cubicBezTo>
                  <a:cubicBezTo>
                    <a:pt x="-132" y="12827"/>
                    <a:pt x="105" y="13054"/>
                    <a:pt x="105" y="13282"/>
                  </a:cubicBezTo>
                  <a:cubicBezTo>
                    <a:pt x="1055" y="12600"/>
                    <a:pt x="1767" y="12827"/>
                    <a:pt x="2954" y="12827"/>
                  </a:cubicBezTo>
                  <a:cubicBezTo>
                    <a:pt x="3428" y="12827"/>
                    <a:pt x="3666" y="12827"/>
                    <a:pt x="4141" y="12827"/>
                  </a:cubicBezTo>
                  <a:cubicBezTo>
                    <a:pt x="4615" y="12827"/>
                    <a:pt x="4853" y="13509"/>
                    <a:pt x="5090" y="13964"/>
                  </a:cubicBezTo>
                  <a:cubicBezTo>
                    <a:pt x="5327" y="14419"/>
                    <a:pt x="5565" y="15101"/>
                    <a:pt x="6039" y="15328"/>
                  </a:cubicBezTo>
                  <a:cubicBezTo>
                    <a:pt x="6277" y="15555"/>
                    <a:pt x="7226" y="15328"/>
                    <a:pt x="7701" y="15101"/>
                  </a:cubicBezTo>
                  <a:cubicBezTo>
                    <a:pt x="7938" y="15101"/>
                    <a:pt x="7938" y="14419"/>
                    <a:pt x="8176" y="14191"/>
                  </a:cubicBezTo>
                  <a:cubicBezTo>
                    <a:pt x="8176" y="13736"/>
                    <a:pt x="8888" y="13964"/>
                    <a:pt x="9125" y="13964"/>
                  </a:cubicBezTo>
                  <a:cubicBezTo>
                    <a:pt x="9125" y="14419"/>
                    <a:pt x="9125" y="14419"/>
                    <a:pt x="9600" y="14419"/>
                  </a:cubicBezTo>
                  <a:cubicBezTo>
                    <a:pt x="9837" y="14419"/>
                    <a:pt x="10549" y="14191"/>
                    <a:pt x="10549" y="14646"/>
                  </a:cubicBezTo>
                  <a:cubicBezTo>
                    <a:pt x="10549" y="15101"/>
                    <a:pt x="10787" y="15328"/>
                    <a:pt x="10787" y="15783"/>
                  </a:cubicBezTo>
                  <a:cubicBezTo>
                    <a:pt x="10787" y="16010"/>
                    <a:pt x="10787" y="16238"/>
                    <a:pt x="10549" y="16692"/>
                  </a:cubicBezTo>
                  <a:cubicBezTo>
                    <a:pt x="10549" y="16920"/>
                    <a:pt x="10787" y="17374"/>
                    <a:pt x="11024" y="17602"/>
                  </a:cubicBezTo>
                  <a:cubicBezTo>
                    <a:pt x="11261" y="17829"/>
                    <a:pt x="11024" y="18284"/>
                    <a:pt x="11024" y="18511"/>
                  </a:cubicBezTo>
                  <a:cubicBezTo>
                    <a:pt x="11024" y="19193"/>
                    <a:pt x="12211" y="18511"/>
                    <a:pt x="12448" y="18511"/>
                  </a:cubicBezTo>
                  <a:cubicBezTo>
                    <a:pt x="12923" y="18511"/>
                    <a:pt x="13160" y="18511"/>
                    <a:pt x="13398" y="18739"/>
                  </a:cubicBezTo>
                  <a:cubicBezTo>
                    <a:pt x="13872" y="19193"/>
                    <a:pt x="13635" y="18966"/>
                    <a:pt x="14110" y="18966"/>
                  </a:cubicBezTo>
                  <a:cubicBezTo>
                    <a:pt x="14584" y="18966"/>
                    <a:pt x="14584" y="19193"/>
                    <a:pt x="14822" y="19421"/>
                  </a:cubicBezTo>
                  <a:cubicBezTo>
                    <a:pt x="15059" y="19421"/>
                    <a:pt x="15297" y="19648"/>
                    <a:pt x="15534" y="19648"/>
                  </a:cubicBezTo>
                  <a:cubicBezTo>
                    <a:pt x="16246" y="19875"/>
                    <a:pt x="16483" y="19875"/>
                    <a:pt x="16721" y="19193"/>
                  </a:cubicBezTo>
                  <a:cubicBezTo>
                    <a:pt x="16958" y="19875"/>
                    <a:pt x="17195" y="20103"/>
                    <a:pt x="17908" y="20330"/>
                  </a:cubicBezTo>
                  <a:cubicBezTo>
                    <a:pt x="18382" y="20558"/>
                    <a:pt x="18382" y="21240"/>
                    <a:pt x="18857" y="21467"/>
                  </a:cubicBezTo>
                  <a:cubicBezTo>
                    <a:pt x="18857" y="21467"/>
                    <a:pt x="19806" y="21240"/>
                    <a:pt x="19806" y="21240"/>
                  </a:cubicBezTo>
                  <a:cubicBezTo>
                    <a:pt x="19806" y="20785"/>
                    <a:pt x="20044" y="19875"/>
                    <a:pt x="19569" y="20103"/>
                  </a:cubicBezTo>
                  <a:cubicBezTo>
                    <a:pt x="18857" y="20330"/>
                    <a:pt x="18382" y="19875"/>
                    <a:pt x="18145" y="19193"/>
                  </a:cubicBezTo>
                  <a:cubicBezTo>
                    <a:pt x="18145" y="18739"/>
                    <a:pt x="18620" y="18056"/>
                    <a:pt x="18382" y="17374"/>
                  </a:cubicBezTo>
                  <a:cubicBezTo>
                    <a:pt x="18382" y="17147"/>
                    <a:pt x="18145" y="16692"/>
                    <a:pt x="18382" y="16465"/>
                  </a:cubicBezTo>
                  <a:cubicBezTo>
                    <a:pt x="18382" y="16465"/>
                    <a:pt x="18382" y="16238"/>
                    <a:pt x="18620" y="16238"/>
                  </a:cubicBezTo>
                  <a:cubicBezTo>
                    <a:pt x="18857" y="16238"/>
                    <a:pt x="18620" y="15783"/>
                    <a:pt x="18857" y="15783"/>
                  </a:cubicBezTo>
                  <a:cubicBezTo>
                    <a:pt x="19094" y="15328"/>
                    <a:pt x="20281" y="15328"/>
                    <a:pt x="20519" y="15328"/>
                  </a:cubicBezTo>
                  <a:cubicBezTo>
                    <a:pt x="20044" y="15101"/>
                    <a:pt x="20281" y="14419"/>
                    <a:pt x="19806" y="14191"/>
                  </a:cubicBezTo>
                  <a:cubicBezTo>
                    <a:pt x="19569" y="13964"/>
                    <a:pt x="19332" y="13736"/>
                    <a:pt x="19332" y="13509"/>
                  </a:cubicBezTo>
                  <a:cubicBezTo>
                    <a:pt x="19332" y="13054"/>
                    <a:pt x="19332" y="12600"/>
                    <a:pt x="19094" y="12372"/>
                  </a:cubicBezTo>
                  <a:cubicBezTo>
                    <a:pt x="19094" y="11918"/>
                    <a:pt x="18857" y="11690"/>
                    <a:pt x="18857" y="11235"/>
                  </a:cubicBezTo>
                  <a:cubicBezTo>
                    <a:pt x="18857" y="11008"/>
                    <a:pt x="18857" y="9871"/>
                    <a:pt x="19094" y="10099"/>
                  </a:cubicBezTo>
                  <a:cubicBezTo>
                    <a:pt x="18857" y="9189"/>
                    <a:pt x="18857" y="8734"/>
                    <a:pt x="19332" y="7825"/>
                  </a:cubicBezTo>
                  <a:cubicBezTo>
                    <a:pt x="19569" y="7143"/>
                    <a:pt x="19569" y="6915"/>
                    <a:pt x="19569" y="6233"/>
                  </a:cubicBezTo>
                  <a:cubicBezTo>
                    <a:pt x="19569" y="5551"/>
                    <a:pt x="20044" y="5096"/>
                    <a:pt x="20519" y="4642"/>
                  </a:cubicBezTo>
                  <a:cubicBezTo>
                    <a:pt x="20756" y="4414"/>
                    <a:pt x="20993" y="4187"/>
                    <a:pt x="21231" y="3960"/>
                  </a:cubicBezTo>
                  <a:cubicBezTo>
                    <a:pt x="21468" y="3732"/>
                    <a:pt x="21468" y="3732"/>
                    <a:pt x="21231" y="3278"/>
                  </a:cubicBezTo>
                  <a:cubicBezTo>
                    <a:pt x="20993" y="3278"/>
                    <a:pt x="21468" y="3505"/>
                    <a:pt x="21231" y="327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9" name="Shape 1373"/>
            <p:cNvSpPr/>
            <p:nvPr/>
          </p:nvSpPr>
          <p:spPr>
            <a:xfrm>
              <a:off x="8500680" y="4406400"/>
              <a:ext cx="222480" cy="242640"/>
            </a:xfrm>
            <a:custGeom>
              <a:avLst/>
              <a:gdLst/>
              <a:ahLst/>
              <a:rect l="l" t="t" r="r" b="b"/>
              <a:pathLst>
                <a:path w="21600" h="21038">
                  <a:moveTo>
                    <a:pt x="19671" y="9000"/>
                  </a:moveTo>
                  <a:cubicBezTo>
                    <a:pt x="18900" y="9000"/>
                    <a:pt x="18514" y="9343"/>
                    <a:pt x="18514" y="8657"/>
                  </a:cubicBezTo>
                  <a:cubicBezTo>
                    <a:pt x="18514" y="7972"/>
                    <a:pt x="18514" y="7629"/>
                    <a:pt x="18129" y="6943"/>
                  </a:cubicBezTo>
                  <a:cubicBezTo>
                    <a:pt x="17357" y="5914"/>
                    <a:pt x="18514" y="4886"/>
                    <a:pt x="17743" y="3857"/>
                  </a:cubicBezTo>
                  <a:cubicBezTo>
                    <a:pt x="17743" y="3514"/>
                    <a:pt x="17743" y="2486"/>
                    <a:pt x="17743" y="2486"/>
                  </a:cubicBezTo>
                  <a:cubicBezTo>
                    <a:pt x="17743" y="2486"/>
                    <a:pt x="16586" y="2486"/>
                    <a:pt x="16586" y="2486"/>
                  </a:cubicBezTo>
                  <a:cubicBezTo>
                    <a:pt x="15429" y="2486"/>
                    <a:pt x="15429" y="2829"/>
                    <a:pt x="15429" y="1800"/>
                  </a:cubicBezTo>
                  <a:cubicBezTo>
                    <a:pt x="14271" y="1800"/>
                    <a:pt x="13886" y="1457"/>
                    <a:pt x="13500" y="2486"/>
                  </a:cubicBezTo>
                  <a:cubicBezTo>
                    <a:pt x="13500" y="2486"/>
                    <a:pt x="13500" y="3514"/>
                    <a:pt x="13114" y="3514"/>
                  </a:cubicBezTo>
                  <a:cubicBezTo>
                    <a:pt x="12729" y="3857"/>
                    <a:pt x="11957" y="3857"/>
                    <a:pt x="11186" y="3857"/>
                  </a:cubicBezTo>
                  <a:cubicBezTo>
                    <a:pt x="8486" y="4200"/>
                    <a:pt x="9257" y="86"/>
                    <a:pt x="6943" y="86"/>
                  </a:cubicBezTo>
                  <a:cubicBezTo>
                    <a:pt x="5014" y="86"/>
                    <a:pt x="2700" y="-257"/>
                    <a:pt x="1157" y="429"/>
                  </a:cubicBezTo>
                  <a:cubicBezTo>
                    <a:pt x="386" y="1114"/>
                    <a:pt x="2314" y="3172"/>
                    <a:pt x="2314" y="3857"/>
                  </a:cubicBezTo>
                  <a:cubicBezTo>
                    <a:pt x="2700" y="4200"/>
                    <a:pt x="2700" y="4886"/>
                    <a:pt x="2314" y="5229"/>
                  </a:cubicBezTo>
                  <a:cubicBezTo>
                    <a:pt x="1543" y="5572"/>
                    <a:pt x="2314" y="6257"/>
                    <a:pt x="2314" y="6600"/>
                  </a:cubicBezTo>
                  <a:cubicBezTo>
                    <a:pt x="3471" y="7972"/>
                    <a:pt x="4243" y="9686"/>
                    <a:pt x="3086" y="11057"/>
                  </a:cubicBezTo>
                  <a:cubicBezTo>
                    <a:pt x="2314" y="12086"/>
                    <a:pt x="1543" y="12772"/>
                    <a:pt x="1157" y="13800"/>
                  </a:cubicBezTo>
                  <a:cubicBezTo>
                    <a:pt x="771" y="14829"/>
                    <a:pt x="386" y="15857"/>
                    <a:pt x="0" y="16886"/>
                  </a:cubicBezTo>
                  <a:cubicBezTo>
                    <a:pt x="0" y="17572"/>
                    <a:pt x="0" y="18257"/>
                    <a:pt x="0" y="18600"/>
                  </a:cubicBezTo>
                  <a:cubicBezTo>
                    <a:pt x="0" y="18943"/>
                    <a:pt x="0" y="19629"/>
                    <a:pt x="0" y="19972"/>
                  </a:cubicBezTo>
                  <a:cubicBezTo>
                    <a:pt x="386" y="19972"/>
                    <a:pt x="771" y="19972"/>
                    <a:pt x="1157" y="19972"/>
                  </a:cubicBezTo>
                  <a:cubicBezTo>
                    <a:pt x="1929" y="19972"/>
                    <a:pt x="1929" y="18943"/>
                    <a:pt x="3086" y="19629"/>
                  </a:cubicBezTo>
                  <a:cubicBezTo>
                    <a:pt x="3086" y="19629"/>
                    <a:pt x="3471" y="19972"/>
                    <a:pt x="3471" y="19972"/>
                  </a:cubicBezTo>
                  <a:cubicBezTo>
                    <a:pt x="4629" y="19972"/>
                    <a:pt x="5400" y="19972"/>
                    <a:pt x="6171" y="19972"/>
                  </a:cubicBezTo>
                  <a:cubicBezTo>
                    <a:pt x="7329" y="19972"/>
                    <a:pt x="8486" y="19972"/>
                    <a:pt x="9643" y="19972"/>
                  </a:cubicBezTo>
                  <a:cubicBezTo>
                    <a:pt x="10029" y="19972"/>
                    <a:pt x="11186" y="19972"/>
                    <a:pt x="11571" y="19972"/>
                  </a:cubicBezTo>
                  <a:cubicBezTo>
                    <a:pt x="12343" y="21343"/>
                    <a:pt x="13886" y="21000"/>
                    <a:pt x="15043" y="21000"/>
                  </a:cubicBezTo>
                  <a:cubicBezTo>
                    <a:pt x="16971" y="21000"/>
                    <a:pt x="18514" y="20657"/>
                    <a:pt x="20443" y="20314"/>
                  </a:cubicBezTo>
                  <a:cubicBezTo>
                    <a:pt x="19286" y="19286"/>
                    <a:pt x="17743" y="18600"/>
                    <a:pt x="17743" y="17229"/>
                  </a:cubicBezTo>
                  <a:cubicBezTo>
                    <a:pt x="17743" y="15514"/>
                    <a:pt x="17743" y="13800"/>
                    <a:pt x="17743" y="12429"/>
                  </a:cubicBezTo>
                  <a:cubicBezTo>
                    <a:pt x="17743" y="12086"/>
                    <a:pt x="21600" y="12772"/>
                    <a:pt x="21600" y="11743"/>
                  </a:cubicBezTo>
                  <a:cubicBezTo>
                    <a:pt x="21600" y="11057"/>
                    <a:pt x="21600" y="10029"/>
                    <a:pt x="21600" y="9000"/>
                  </a:cubicBezTo>
                  <a:cubicBezTo>
                    <a:pt x="21600" y="7972"/>
                    <a:pt x="20443" y="9000"/>
                    <a:pt x="19671" y="90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0" name="Shape 1374"/>
            <p:cNvSpPr/>
            <p:nvPr/>
          </p:nvSpPr>
          <p:spPr>
            <a:xfrm>
              <a:off x="8646120" y="4648680"/>
              <a:ext cx="176040" cy="182160"/>
            </a:xfrm>
            <a:custGeom>
              <a:avLst/>
              <a:gdLst/>
              <a:ahLst/>
              <a:rect l="l" t="t" r="r" b="b"/>
              <a:pathLst>
                <a:path w="20912" h="20700">
                  <a:moveTo>
                    <a:pt x="11478" y="0"/>
                  </a:moveTo>
                  <a:cubicBezTo>
                    <a:pt x="11009" y="450"/>
                    <a:pt x="10069" y="450"/>
                    <a:pt x="9600" y="450"/>
                  </a:cubicBezTo>
                  <a:cubicBezTo>
                    <a:pt x="8661" y="450"/>
                    <a:pt x="9130" y="1800"/>
                    <a:pt x="8191" y="900"/>
                  </a:cubicBezTo>
                  <a:cubicBezTo>
                    <a:pt x="6782" y="-900"/>
                    <a:pt x="4435" y="1350"/>
                    <a:pt x="2556" y="900"/>
                  </a:cubicBezTo>
                  <a:cubicBezTo>
                    <a:pt x="2556" y="3150"/>
                    <a:pt x="2556" y="5400"/>
                    <a:pt x="2556" y="7200"/>
                  </a:cubicBezTo>
                  <a:cubicBezTo>
                    <a:pt x="2556" y="7650"/>
                    <a:pt x="3026" y="9450"/>
                    <a:pt x="2556" y="9450"/>
                  </a:cubicBezTo>
                  <a:cubicBezTo>
                    <a:pt x="2087" y="9900"/>
                    <a:pt x="209" y="9000"/>
                    <a:pt x="209" y="9900"/>
                  </a:cubicBezTo>
                  <a:cubicBezTo>
                    <a:pt x="209" y="10800"/>
                    <a:pt x="209" y="12150"/>
                    <a:pt x="209" y="13050"/>
                  </a:cubicBezTo>
                  <a:cubicBezTo>
                    <a:pt x="209" y="13950"/>
                    <a:pt x="-261" y="15300"/>
                    <a:pt x="209" y="16200"/>
                  </a:cubicBezTo>
                  <a:cubicBezTo>
                    <a:pt x="2087" y="16650"/>
                    <a:pt x="2556" y="18900"/>
                    <a:pt x="1617" y="20250"/>
                  </a:cubicBezTo>
                  <a:cubicBezTo>
                    <a:pt x="1617" y="20700"/>
                    <a:pt x="3496" y="20700"/>
                    <a:pt x="3496" y="20700"/>
                  </a:cubicBezTo>
                  <a:cubicBezTo>
                    <a:pt x="4435" y="20700"/>
                    <a:pt x="4904" y="19800"/>
                    <a:pt x="5843" y="18900"/>
                  </a:cubicBezTo>
                  <a:cubicBezTo>
                    <a:pt x="6782" y="18000"/>
                    <a:pt x="6782" y="16650"/>
                    <a:pt x="8661" y="17550"/>
                  </a:cubicBezTo>
                  <a:cubicBezTo>
                    <a:pt x="10539" y="18450"/>
                    <a:pt x="12417" y="18900"/>
                    <a:pt x="13356" y="16650"/>
                  </a:cubicBezTo>
                  <a:cubicBezTo>
                    <a:pt x="13356" y="16200"/>
                    <a:pt x="13356" y="15750"/>
                    <a:pt x="14296" y="15750"/>
                  </a:cubicBezTo>
                  <a:cubicBezTo>
                    <a:pt x="15235" y="15750"/>
                    <a:pt x="15704" y="14850"/>
                    <a:pt x="15704" y="14400"/>
                  </a:cubicBezTo>
                  <a:cubicBezTo>
                    <a:pt x="16643" y="13050"/>
                    <a:pt x="18522" y="11700"/>
                    <a:pt x="19930" y="10800"/>
                  </a:cubicBezTo>
                  <a:cubicBezTo>
                    <a:pt x="20869" y="10350"/>
                    <a:pt x="21339" y="9900"/>
                    <a:pt x="20400" y="9000"/>
                  </a:cubicBezTo>
                  <a:cubicBezTo>
                    <a:pt x="19930" y="8550"/>
                    <a:pt x="18522" y="9000"/>
                    <a:pt x="18522" y="8550"/>
                  </a:cubicBezTo>
                  <a:cubicBezTo>
                    <a:pt x="18052" y="8100"/>
                    <a:pt x="17582" y="7650"/>
                    <a:pt x="17582" y="6750"/>
                  </a:cubicBezTo>
                  <a:cubicBezTo>
                    <a:pt x="17582" y="6750"/>
                    <a:pt x="18052" y="6300"/>
                    <a:pt x="18052" y="5850"/>
                  </a:cubicBezTo>
                  <a:cubicBezTo>
                    <a:pt x="17582" y="5850"/>
                    <a:pt x="17113" y="5850"/>
                    <a:pt x="16643" y="5400"/>
                  </a:cubicBezTo>
                  <a:cubicBezTo>
                    <a:pt x="16643" y="5400"/>
                    <a:pt x="17113" y="4950"/>
                    <a:pt x="16643" y="4950"/>
                  </a:cubicBezTo>
                  <a:cubicBezTo>
                    <a:pt x="16174" y="4950"/>
                    <a:pt x="16174" y="4500"/>
                    <a:pt x="15704" y="4500"/>
                  </a:cubicBezTo>
                  <a:cubicBezTo>
                    <a:pt x="14765" y="4050"/>
                    <a:pt x="14296" y="3600"/>
                    <a:pt x="13826" y="2250"/>
                  </a:cubicBezTo>
                  <a:cubicBezTo>
                    <a:pt x="13826" y="1800"/>
                    <a:pt x="12417" y="0"/>
                    <a:pt x="11478" y="0"/>
                  </a:cubicBezTo>
                  <a:cubicBezTo>
                    <a:pt x="11478" y="0"/>
                    <a:pt x="11948" y="0"/>
                    <a:pt x="11478"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1" name="Shape 1375"/>
            <p:cNvSpPr/>
            <p:nvPr/>
          </p:nvSpPr>
          <p:spPr>
            <a:xfrm>
              <a:off x="8748000" y="4601520"/>
              <a:ext cx="149040" cy="137520"/>
            </a:xfrm>
            <a:custGeom>
              <a:avLst/>
              <a:gdLst/>
              <a:ahLst/>
              <a:rect l="l" t="t" r="r" b="b"/>
              <a:pathLst>
                <a:path w="20798" h="21600">
                  <a:moveTo>
                    <a:pt x="20798" y="13577"/>
                  </a:moveTo>
                  <a:cubicBezTo>
                    <a:pt x="20798" y="12960"/>
                    <a:pt x="20244" y="11726"/>
                    <a:pt x="20244" y="11109"/>
                  </a:cubicBezTo>
                  <a:cubicBezTo>
                    <a:pt x="20244" y="9874"/>
                    <a:pt x="20798" y="9257"/>
                    <a:pt x="20798" y="8640"/>
                  </a:cubicBezTo>
                  <a:cubicBezTo>
                    <a:pt x="20798" y="6789"/>
                    <a:pt x="20798" y="5554"/>
                    <a:pt x="20244" y="4320"/>
                  </a:cubicBezTo>
                  <a:cubicBezTo>
                    <a:pt x="20244" y="2469"/>
                    <a:pt x="15260" y="1234"/>
                    <a:pt x="14152" y="1234"/>
                  </a:cubicBezTo>
                  <a:cubicBezTo>
                    <a:pt x="14152" y="0"/>
                    <a:pt x="14152" y="0"/>
                    <a:pt x="12490" y="0"/>
                  </a:cubicBezTo>
                  <a:cubicBezTo>
                    <a:pt x="10829" y="0"/>
                    <a:pt x="10829" y="617"/>
                    <a:pt x="9721" y="1851"/>
                  </a:cubicBezTo>
                  <a:cubicBezTo>
                    <a:pt x="9167" y="3086"/>
                    <a:pt x="7506" y="3703"/>
                    <a:pt x="6398" y="4320"/>
                  </a:cubicBezTo>
                  <a:cubicBezTo>
                    <a:pt x="5844" y="5554"/>
                    <a:pt x="5290" y="7406"/>
                    <a:pt x="4183" y="7406"/>
                  </a:cubicBezTo>
                  <a:cubicBezTo>
                    <a:pt x="3075" y="7406"/>
                    <a:pt x="1967" y="6789"/>
                    <a:pt x="306" y="7406"/>
                  </a:cubicBezTo>
                  <a:cubicBezTo>
                    <a:pt x="-802" y="8023"/>
                    <a:pt x="1413" y="9257"/>
                    <a:pt x="1967" y="9874"/>
                  </a:cubicBezTo>
                  <a:cubicBezTo>
                    <a:pt x="2521" y="11109"/>
                    <a:pt x="2521" y="12343"/>
                    <a:pt x="3629" y="12960"/>
                  </a:cubicBezTo>
                  <a:cubicBezTo>
                    <a:pt x="4183" y="13577"/>
                    <a:pt x="4736" y="14194"/>
                    <a:pt x="5290" y="14194"/>
                  </a:cubicBezTo>
                  <a:cubicBezTo>
                    <a:pt x="5844" y="14194"/>
                    <a:pt x="5290" y="14811"/>
                    <a:pt x="5290" y="14811"/>
                  </a:cubicBezTo>
                  <a:cubicBezTo>
                    <a:pt x="5844" y="14811"/>
                    <a:pt x="6398" y="15429"/>
                    <a:pt x="6952" y="15429"/>
                  </a:cubicBezTo>
                  <a:cubicBezTo>
                    <a:pt x="6952" y="16046"/>
                    <a:pt x="6398" y="16663"/>
                    <a:pt x="6398" y="17280"/>
                  </a:cubicBezTo>
                  <a:cubicBezTo>
                    <a:pt x="6398" y="17897"/>
                    <a:pt x="6952" y="19131"/>
                    <a:pt x="7506" y="19131"/>
                  </a:cubicBezTo>
                  <a:cubicBezTo>
                    <a:pt x="9167" y="19131"/>
                    <a:pt x="9721" y="19131"/>
                    <a:pt x="10275" y="20983"/>
                  </a:cubicBezTo>
                  <a:cubicBezTo>
                    <a:pt x="10829" y="21600"/>
                    <a:pt x="11936" y="20983"/>
                    <a:pt x="13044" y="21600"/>
                  </a:cubicBezTo>
                  <a:cubicBezTo>
                    <a:pt x="13598" y="21600"/>
                    <a:pt x="13598" y="21600"/>
                    <a:pt x="14152" y="21600"/>
                  </a:cubicBezTo>
                  <a:cubicBezTo>
                    <a:pt x="16367" y="21600"/>
                    <a:pt x="16921" y="20983"/>
                    <a:pt x="18029" y="19131"/>
                  </a:cubicBezTo>
                  <a:cubicBezTo>
                    <a:pt x="18583" y="18514"/>
                    <a:pt x="19136" y="17280"/>
                    <a:pt x="19136" y="16663"/>
                  </a:cubicBezTo>
                  <a:cubicBezTo>
                    <a:pt x="19690" y="15429"/>
                    <a:pt x="20798" y="14811"/>
                    <a:pt x="20798" y="1357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2" name="Shape 1376"/>
            <p:cNvSpPr/>
            <p:nvPr/>
          </p:nvSpPr>
          <p:spPr>
            <a:xfrm>
              <a:off x="8855280" y="4810320"/>
              <a:ext cx="24840" cy="33840"/>
            </a:xfrm>
            <a:custGeom>
              <a:avLst/>
              <a:gdLst/>
              <a:ahLst/>
              <a:rect l="l" t="t" r="r" b="b"/>
              <a:pathLst>
                <a:path w="13745" h="16446">
                  <a:moveTo>
                    <a:pt x="5657" y="170"/>
                  </a:moveTo>
                  <a:cubicBezTo>
                    <a:pt x="-5143" y="2133"/>
                    <a:pt x="1337" y="19806"/>
                    <a:pt x="9977" y="15879"/>
                  </a:cubicBezTo>
                  <a:cubicBezTo>
                    <a:pt x="16457" y="13915"/>
                    <a:pt x="14297" y="-1794"/>
                    <a:pt x="5657" y="170"/>
                  </a:cubicBezTo>
                  <a:cubicBezTo>
                    <a:pt x="1337" y="170"/>
                    <a:pt x="7817" y="170"/>
                    <a:pt x="5657" y="170"/>
                  </a:cubicBezTo>
                  <a:close/>
                </a:path>
              </a:pathLst>
            </a:custGeom>
            <a:solidFill>
              <a:srgbClr val="dadbdf"/>
            </a:solidFill>
            <a:ln w="4680">
              <a:solidFill>
                <a:srgbClr val="ffffff"/>
              </a:solidFill>
              <a:round/>
            </a:ln>
          </p:spPr>
          <p:style>
            <a:lnRef idx="0"/>
            <a:fillRef idx="0"/>
            <a:effectRef idx="0"/>
            <a:fontRef idx="minor"/>
          </p:style>
          <p:txBody>
            <a:bodyPr lIns="45360" rIns="45360" tIns="-12960" bIns="-12960" anchor="t">
              <a:noAutofit/>
            </a:bodyPr>
            <a:p>
              <a:endParaRPr b="0" lang="en-US" sz="1800" spc="-1" strike="noStrike">
                <a:solidFill>
                  <a:srgbClr val="000000"/>
                </a:solidFill>
                <a:latin typeface="Calibri"/>
              </a:endParaRPr>
            </a:p>
          </p:txBody>
        </p:sp>
        <p:sp>
          <p:nvSpPr>
            <p:cNvPr id="763" name="Shape 1377"/>
            <p:cNvSpPr/>
            <p:nvPr/>
          </p:nvSpPr>
          <p:spPr>
            <a:xfrm>
              <a:off x="8584920" y="4736520"/>
              <a:ext cx="308160" cy="268920"/>
            </a:xfrm>
            <a:custGeom>
              <a:avLst/>
              <a:gdLst/>
              <a:ahLst/>
              <a:rect l="l" t="t" r="r" b="b"/>
              <a:pathLst>
                <a:path w="21287" h="21243">
                  <a:moveTo>
                    <a:pt x="19920" y="8345"/>
                  </a:moveTo>
                  <a:cubicBezTo>
                    <a:pt x="19100" y="8345"/>
                    <a:pt x="18279" y="7406"/>
                    <a:pt x="18553" y="6780"/>
                  </a:cubicBezTo>
                  <a:cubicBezTo>
                    <a:pt x="18553" y="6154"/>
                    <a:pt x="19100" y="5841"/>
                    <a:pt x="19373" y="5841"/>
                  </a:cubicBezTo>
                  <a:cubicBezTo>
                    <a:pt x="19646" y="5841"/>
                    <a:pt x="19920" y="6154"/>
                    <a:pt x="20193" y="6154"/>
                  </a:cubicBezTo>
                  <a:cubicBezTo>
                    <a:pt x="20193" y="5215"/>
                    <a:pt x="20467" y="4276"/>
                    <a:pt x="20193" y="3336"/>
                  </a:cubicBezTo>
                  <a:cubicBezTo>
                    <a:pt x="19920" y="3023"/>
                    <a:pt x="19646" y="2397"/>
                    <a:pt x="19646" y="2084"/>
                  </a:cubicBezTo>
                  <a:cubicBezTo>
                    <a:pt x="19373" y="1458"/>
                    <a:pt x="19373" y="832"/>
                    <a:pt x="19373" y="206"/>
                  </a:cubicBezTo>
                  <a:cubicBezTo>
                    <a:pt x="18826" y="519"/>
                    <a:pt x="18006" y="206"/>
                    <a:pt x="17733" y="206"/>
                  </a:cubicBezTo>
                  <a:cubicBezTo>
                    <a:pt x="16912" y="-107"/>
                    <a:pt x="16365" y="-107"/>
                    <a:pt x="16092" y="519"/>
                  </a:cubicBezTo>
                  <a:cubicBezTo>
                    <a:pt x="15545" y="832"/>
                    <a:pt x="14998" y="832"/>
                    <a:pt x="14725" y="1458"/>
                  </a:cubicBezTo>
                  <a:cubicBezTo>
                    <a:pt x="14452" y="1771"/>
                    <a:pt x="13905" y="2084"/>
                    <a:pt x="13631" y="2397"/>
                  </a:cubicBezTo>
                  <a:cubicBezTo>
                    <a:pt x="13358" y="2710"/>
                    <a:pt x="13358" y="3336"/>
                    <a:pt x="13084" y="3650"/>
                  </a:cubicBezTo>
                  <a:cubicBezTo>
                    <a:pt x="12811" y="4276"/>
                    <a:pt x="12264" y="3650"/>
                    <a:pt x="11991" y="4276"/>
                  </a:cubicBezTo>
                  <a:cubicBezTo>
                    <a:pt x="11717" y="4589"/>
                    <a:pt x="11991" y="4902"/>
                    <a:pt x="11717" y="5215"/>
                  </a:cubicBezTo>
                  <a:cubicBezTo>
                    <a:pt x="11171" y="6467"/>
                    <a:pt x="9803" y="5528"/>
                    <a:pt x="8983" y="5215"/>
                  </a:cubicBezTo>
                  <a:cubicBezTo>
                    <a:pt x="8163" y="4589"/>
                    <a:pt x="7890" y="5841"/>
                    <a:pt x="7343" y="6467"/>
                  </a:cubicBezTo>
                  <a:cubicBezTo>
                    <a:pt x="7069" y="6780"/>
                    <a:pt x="6796" y="7406"/>
                    <a:pt x="6249" y="7406"/>
                  </a:cubicBezTo>
                  <a:cubicBezTo>
                    <a:pt x="6249" y="7406"/>
                    <a:pt x="5155" y="7406"/>
                    <a:pt x="5155" y="7093"/>
                  </a:cubicBezTo>
                  <a:cubicBezTo>
                    <a:pt x="5702" y="6154"/>
                    <a:pt x="5429" y="4589"/>
                    <a:pt x="4335" y="4276"/>
                  </a:cubicBezTo>
                  <a:cubicBezTo>
                    <a:pt x="4335" y="5841"/>
                    <a:pt x="4335" y="7406"/>
                    <a:pt x="4335" y="8971"/>
                  </a:cubicBezTo>
                  <a:cubicBezTo>
                    <a:pt x="4335" y="8971"/>
                    <a:pt x="4609" y="9910"/>
                    <a:pt x="4335" y="10223"/>
                  </a:cubicBezTo>
                  <a:cubicBezTo>
                    <a:pt x="3515" y="10850"/>
                    <a:pt x="3241" y="11163"/>
                    <a:pt x="2148" y="10850"/>
                  </a:cubicBezTo>
                  <a:cubicBezTo>
                    <a:pt x="1874" y="10850"/>
                    <a:pt x="1601" y="10850"/>
                    <a:pt x="1328" y="10536"/>
                  </a:cubicBezTo>
                  <a:cubicBezTo>
                    <a:pt x="1054" y="9910"/>
                    <a:pt x="781" y="9597"/>
                    <a:pt x="234" y="10223"/>
                  </a:cubicBezTo>
                  <a:cubicBezTo>
                    <a:pt x="-313" y="10850"/>
                    <a:pt x="234" y="11789"/>
                    <a:pt x="507" y="12415"/>
                  </a:cubicBezTo>
                  <a:cubicBezTo>
                    <a:pt x="781" y="12728"/>
                    <a:pt x="1054" y="13354"/>
                    <a:pt x="1054" y="13980"/>
                  </a:cubicBezTo>
                  <a:cubicBezTo>
                    <a:pt x="1601" y="15232"/>
                    <a:pt x="2695" y="15858"/>
                    <a:pt x="2148" y="17423"/>
                  </a:cubicBezTo>
                  <a:cubicBezTo>
                    <a:pt x="1874" y="18050"/>
                    <a:pt x="1601" y="18050"/>
                    <a:pt x="1874" y="18676"/>
                  </a:cubicBezTo>
                  <a:cubicBezTo>
                    <a:pt x="2148" y="18989"/>
                    <a:pt x="2148" y="19302"/>
                    <a:pt x="2148" y="19302"/>
                  </a:cubicBezTo>
                  <a:cubicBezTo>
                    <a:pt x="2421" y="19615"/>
                    <a:pt x="2148" y="20241"/>
                    <a:pt x="2421" y="20554"/>
                  </a:cubicBezTo>
                  <a:cubicBezTo>
                    <a:pt x="2421" y="20554"/>
                    <a:pt x="2421" y="19928"/>
                    <a:pt x="2695" y="19928"/>
                  </a:cubicBezTo>
                  <a:cubicBezTo>
                    <a:pt x="2695" y="19928"/>
                    <a:pt x="3515" y="20867"/>
                    <a:pt x="3788" y="21180"/>
                  </a:cubicBezTo>
                  <a:cubicBezTo>
                    <a:pt x="4335" y="21493"/>
                    <a:pt x="4882" y="20554"/>
                    <a:pt x="5429" y="20554"/>
                  </a:cubicBezTo>
                  <a:cubicBezTo>
                    <a:pt x="5976" y="20241"/>
                    <a:pt x="6522" y="20867"/>
                    <a:pt x="6796" y="20241"/>
                  </a:cubicBezTo>
                  <a:cubicBezTo>
                    <a:pt x="7343" y="19928"/>
                    <a:pt x="7616" y="19928"/>
                    <a:pt x="8163" y="19928"/>
                  </a:cubicBezTo>
                  <a:cubicBezTo>
                    <a:pt x="8710" y="19928"/>
                    <a:pt x="9257" y="19928"/>
                    <a:pt x="10077" y="19928"/>
                  </a:cubicBezTo>
                  <a:cubicBezTo>
                    <a:pt x="10077" y="19928"/>
                    <a:pt x="10350" y="19928"/>
                    <a:pt x="10350" y="19928"/>
                  </a:cubicBezTo>
                  <a:cubicBezTo>
                    <a:pt x="10624" y="19928"/>
                    <a:pt x="10624" y="19615"/>
                    <a:pt x="10897" y="19615"/>
                  </a:cubicBezTo>
                  <a:cubicBezTo>
                    <a:pt x="10897" y="19615"/>
                    <a:pt x="10897" y="19302"/>
                    <a:pt x="11171" y="19302"/>
                  </a:cubicBezTo>
                  <a:cubicBezTo>
                    <a:pt x="11171" y="19615"/>
                    <a:pt x="11171" y="20241"/>
                    <a:pt x="11717" y="20241"/>
                  </a:cubicBezTo>
                  <a:cubicBezTo>
                    <a:pt x="11717" y="20241"/>
                    <a:pt x="11444" y="18989"/>
                    <a:pt x="12264" y="19302"/>
                  </a:cubicBezTo>
                  <a:cubicBezTo>
                    <a:pt x="13358" y="19615"/>
                    <a:pt x="14452" y="18363"/>
                    <a:pt x="15272" y="17423"/>
                  </a:cubicBezTo>
                  <a:cubicBezTo>
                    <a:pt x="16092" y="16797"/>
                    <a:pt x="16639" y="15858"/>
                    <a:pt x="17459" y="14919"/>
                  </a:cubicBezTo>
                  <a:cubicBezTo>
                    <a:pt x="18279" y="13980"/>
                    <a:pt x="18553" y="12728"/>
                    <a:pt x="19373" y="11476"/>
                  </a:cubicBezTo>
                  <a:cubicBezTo>
                    <a:pt x="19646" y="11163"/>
                    <a:pt x="20467" y="10850"/>
                    <a:pt x="20740" y="10223"/>
                  </a:cubicBezTo>
                  <a:cubicBezTo>
                    <a:pt x="21014" y="9597"/>
                    <a:pt x="21287" y="8345"/>
                    <a:pt x="21287" y="7719"/>
                  </a:cubicBezTo>
                  <a:cubicBezTo>
                    <a:pt x="21014" y="7719"/>
                    <a:pt x="20740" y="7719"/>
                    <a:pt x="20467" y="7719"/>
                  </a:cubicBezTo>
                  <a:cubicBezTo>
                    <a:pt x="20193" y="7719"/>
                    <a:pt x="20193" y="8345"/>
                    <a:pt x="19920" y="8345"/>
                  </a:cubicBezTo>
                  <a:close/>
                  <a:moveTo>
                    <a:pt x="16639" y="12102"/>
                  </a:moveTo>
                  <a:cubicBezTo>
                    <a:pt x="16365" y="12102"/>
                    <a:pt x="16365" y="12728"/>
                    <a:pt x="16365" y="12728"/>
                  </a:cubicBezTo>
                  <a:cubicBezTo>
                    <a:pt x="16092" y="13354"/>
                    <a:pt x="15545" y="13041"/>
                    <a:pt x="15272" y="13354"/>
                  </a:cubicBezTo>
                  <a:cubicBezTo>
                    <a:pt x="14998" y="13354"/>
                    <a:pt x="14998" y="13667"/>
                    <a:pt x="14725" y="13667"/>
                  </a:cubicBezTo>
                  <a:cubicBezTo>
                    <a:pt x="14178" y="13667"/>
                    <a:pt x="13905" y="13041"/>
                    <a:pt x="13905" y="12728"/>
                  </a:cubicBezTo>
                  <a:cubicBezTo>
                    <a:pt x="13631" y="12102"/>
                    <a:pt x="14452" y="11163"/>
                    <a:pt x="14998" y="10850"/>
                  </a:cubicBezTo>
                  <a:cubicBezTo>
                    <a:pt x="15272" y="10536"/>
                    <a:pt x="15819" y="10536"/>
                    <a:pt x="16092" y="10850"/>
                  </a:cubicBezTo>
                  <a:cubicBezTo>
                    <a:pt x="16365" y="11163"/>
                    <a:pt x="17186" y="11789"/>
                    <a:pt x="16639" y="12102"/>
                  </a:cubicBezTo>
                  <a:cubicBezTo>
                    <a:pt x="16365" y="12102"/>
                    <a:pt x="16912" y="11789"/>
                    <a:pt x="16639" y="12102"/>
                  </a:cubicBezTo>
                  <a:close/>
                </a:path>
              </a:pathLst>
            </a:custGeom>
            <a:solidFill>
              <a:srgbClr val="dadbd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4" name="Shape 1378"/>
            <p:cNvSpPr/>
            <p:nvPr/>
          </p:nvSpPr>
          <p:spPr>
            <a:xfrm>
              <a:off x="8786160" y="4871880"/>
              <a:ext cx="42120" cy="37440"/>
            </a:xfrm>
            <a:custGeom>
              <a:avLst/>
              <a:gdLst/>
              <a:ahLst/>
              <a:rect l="l" t="t" r="r" b="b"/>
              <a:pathLst>
                <a:path w="17841" h="15465">
                  <a:moveTo>
                    <a:pt x="16765" y="4203"/>
                  </a:moveTo>
                  <a:cubicBezTo>
                    <a:pt x="13442" y="880"/>
                    <a:pt x="6796" y="-2443"/>
                    <a:pt x="3473" y="2542"/>
                  </a:cubicBezTo>
                  <a:cubicBezTo>
                    <a:pt x="150" y="5865"/>
                    <a:pt x="-1512" y="9188"/>
                    <a:pt x="1811" y="12511"/>
                  </a:cubicBezTo>
                  <a:cubicBezTo>
                    <a:pt x="5134" y="19157"/>
                    <a:pt x="6796" y="12511"/>
                    <a:pt x="10119" y="12511"/>
                  </a:cubicBezTo>
                  <a:cubicBezTo>
                    <a:pt x="15103" y="12511"/>
                    <a:pt x="20088" y="5865"/>
                    <a:pt x="16765" y="4203"/>
                  </a:cubicBezTo>
                  <a:cubicBezTo>
                    <a:pt x="15103" y="2542"/>
                    <a:pt x="18426" y="4203"/>
                    <a:pt x="16765" y="4203"/>
                  </a:cubicBezTo>
                  <a:close/>
                </a:path>
              </a:pathLst>
            </a:custGeom>
            <a:solidFill>
              <a:srgbClr val="dadbdf"/>
            </a:solidFill>
            <a:ln w="4680">
              <a:solidFill>
                <a:srgbClr val="ffffff"/>
              </a:solidFill>
              <a:round/>
            </a:ln>
          </p:spPr>
          <p:style>
            <a:lnRef idx="0"/>
            <a:fillRef idx="0"/>
            <a:effectRef idx="0"/>
            <a:fontRef idx="minor"/>
          </p:style>
          <p:txBody>
            <a:bodyPr lIns="45360" rIns="45360" tIns="-9360" bIns="-9360" anchor="t">
              <a:noAutofit/>
            </a:bodyPr>
            <a:p>
              <a:endParaRPr b="0" lang="en-US" sz="1800" spc="-1" strike="noStrike">
                <a:solidFill>
                  <a:srgbClr val="000000"/>
                </a:solidFill>
                <a:latin typeface="Calibri"/>
              </a:endParaRPr>
            </a:p>
          </p:txBody>
        </p:sp>
        <p:sp>
          <p:nvSpPr>
            <p:cNvPr id="765" name="Shape 1379"/>
            <p:cNvSpPr/>
            <p:nvPr/>
          </p:nvSpPr>
          <p:spPr>
            <a:xfrm>
              <a:off x="8505000" y="4377960"/>
              <a:ext cx="20160" cy="29160"/>
            </a:xfrm>
            <a:custGeom>
              <a:avLst/>
              <a:gdLst/>
              <a:ahLst/>
              <a:rect l="l" t="t" r="r" b="b"/>
              <a:pathLst>
                <a:path w="21600" h="19636">
                  <a:moveTo>
                    <a:pt x="8640" y="11536"/>
                  </a:moveTo>
                  <a:cubicBezTo>
                    <a:pt x="8640" y="8836"/>
                    <a:pt x="17280" y="3436"/>
                    <a:pt x="21600" y="736"/>
                  </a:cubicBezTo>
                  <a:cubicBezTo>
                    <a:pt x="17280" y="-1964"/>
                    <a:pt x="8640" y="3436"/>
                    <a:pt x="4320" y="6136"/>
                  </a:cubicBezTo>
                  <a:cubicBezTo>
                    <a:pt x="0" y="8836"/>
                    <a:pt x="0" y="14236"/>
                    <a:pt x="0" y="19636"/>
                  </a:cubicBezTo>
                  <a:cubicBezTo>
                    <a:pt x="8640" y="16936"/>
                    <a:pt x="8640" y="14236"/>
                    <a:pt x="8640" y="11536"/>
                  </a:cubicBezTo>
                  <a:close/>
                </a:path>
              </a:pathLst>
            </a:custGeom>
            <a:solidFill>
              <a:srgbClr val="dadbdf"/>
            </a:solidFill>
            <a:ln w="4680">
              <a:solidFill>
                <a:srgbClr val="ffffff"/>
              </a:solidFill>
              <a:round/>
            </a:ln>
          </p:spPr>
          <p:style>
            <a:lnRef idx="0"/>
            <a:fillRef idx="0"/>
            <a:effectRef idx="0"/>
            <a:fontRef idx="minor"/>
          </p:style>
          <p:txBody>
            <a:bodyPr lIns="45360" rIns="45360" tIns="-17640" bIns="-17640" anchor="t">
              <a:noAutofit/>
            </a:bodyPr>
            <a:p>
              <a:endParaRPr b="0" lang="en-US" sz="1800" spc="-1" strike="noStrike">
                <a:solidFill>
                  <a:srgbClr val="000000"/>
                </a:solidFill>
                <a:latin typeface="Calibri"/>
              </a:endParaRPr>
            </a:p>
          </p:txBody>
        </p:sp>
        <p:sp>
          <p:nvSpPr>
            <p:cNvPr id="766" name="Shape 1380"/>
            <p:cNvSpPr/>
            <p:nvPr/>
          </p:nvSpPr>
          <p:spPr>
            <a:xfrm>
              <a:off x="8485920" y="4215960"/>
              <a:ext cx="137520" cy="174960"/>
            </a:xfrm>
            <a:custGeom>
              <a:avLst/>
              <a:gdLst/>
              <a:ahLst/>
              <a:rect l="l" t="t" r="r" b="b"/>
              <a:pathLst>
                <a:path w="21600" h="21254">
                  <a:moveTo>
                    <a:pt x="6789" y="20774"/>
                  </a:moveTo>
                  <a:cubicBezTo>
                    <a:pt x="7406" y="20774"/>
                    <a:pt x="8640" y="19814"/>
                    <a:pt x="9257" y="19334"/>
                  </a:cubicBezTo>
                  <a:cubicBezTo>
                    <a:pt x="10491" y="18854"/>
                    <a:pt x="9257" y="20294"/>
                    <a:pt x="9874" y="20294"/>
                  </a:cubicBezTo>
                  <a:cubicBezTo>
                    <a:pt x="9874" y="20294"/>
                    <a:pt x="14194" y="18374"/>
                    <a:pt x="14194" y="17414"/>
                  </a:cubicBezTo>
                  <a:cubicBezTo>
                    <a:pt x="14194" y="15494"/>
                    <a:pt x="14194" y="13574"/>
                    <a:pt x="15429" y="12134"/>
                  </a:cubicBezTo>
                  <a:cubicBezTo>
                    <a:pt x="16663" y="10214"/>
                    <a:pt x="18514" y="8774"/>
                    <a:pt x="19131" y="7334"/>
                  </a:cubicBezTo>
                  <a:cubicBezTo>
                    <a:pt x="19749" y="5894"/>
                    <a:pt x="19749" y="4934"/>
                    <a:pt x="20366" y="3494"/>
                  </a:cubicBezTo>
                  <a:cubicBezTo>
                    <a:pt x="20366" y="2534"/>
                    <a:pt x="21600" y="1574"/>
                    <a:pt x="21600" y="614"/>
                  </a:cubicBezTo>
                  <a:cubicBezTo>
                    <a:pt x="20366" y="614"/>
                    <a:pt x="19131" y="-346"/>
                    <a:pt x="17897" y="134"/>
                  </a:cubicBezTo>
                  <a:cubicBezTo>
                    <a:pt x="17280" y="134"/>
                    <a:pt x="16046" y="134"/>
                    <a:pt x="16046" y="614"/>
                  </a:cubicBezTo>
                  <a:cubicBezTo>
                    <a:pt x="15429" y="1574"/>
                    <a:pt x="15429" y="2054"/>
                    <a:pt x="15429" y="2534"/>
                  </a:cubicBezTo>
                  <a:cubicBezTo>
                    <a:pt x="14811" y="3974"/>
                    <a:pt x="14194" y="4454"/>
                    <a:pt x="12343" y="4454"/>
                  </a:cubicBezTo>
                  <a:cubicBezTo>
                    <a:pt x="10491" y="3974"/>
                    <a:pt x="8023" y="3494"/>
                    <a:pt x="6171" y="3494"/>
                  </a:cubicBezTo>
                  <a:cubicBezTo>
                    <a:pt x="6171" y="4454"/>
                    <a:pt x="5554" y="6374"/>
                    <a:pt x="8023" y="5894"/>
                  </a:cubicBezTo>
                  <a:cubicBezTo>
                    <a:pt x="10491" y="4934"/>
                    <a:pt x="8640" y="7814"/>
                    <a:pt x="8640" y="8774"/>
                  </a:cubicBezTo>
                  <a:cubicBezTo>
                    <a:pt x="8640" y="9254"/>
                    <a:pt x="8640" y="9734"/>
                    <a:pt x="9257" y="10214"/>
                  </a:cubicBezTo>
                  <a:cubicBezTo>
                    <a:pt x="9874" y="10694"/>
                    <a:pt x="9874" y="11174"/>
                    <a:pt x="9874" y="11654"/>
                  </a:cubicBezTo>
                  <a:cubicBezTo>
                    <a:pt x="9874" y="12614"/>
                    <a:pt x="9874" y="14054"/>
                    <a:pt x="9257" y="15014"/>
                  </a:cubicBezTo>
                  <a:cubicBezTo>
                    <a:pt x="9257" y="15494"/>
                    <a:pt x="8023" y="14534"/>
                    <a:pt x="8023" y="14534"/>
                  </a:cubicBezTo>
                  <a:cubicBezTo>
                    <a:pt x="6789" y="14534"/>
                    <a:pt x="6789" y="15494"/>
                    <a:pt x="6171" y="15014"/>
                  </a:cubicBezTo>
                  <a:cubicBezTo>
                    <a:pt x="6171" y="14534"/>
                    <a:pt x="5554" y="14054"/>
                    <a:pt x="4937" y="13574"/>
                  </a:cubicBezTo>
                  <a:cubicBezTo>
                    <a:pt x="4320" y="13574"/>
                    <a:pt x="4320" y="14534"/>
                    <a:pt x="3703" y="15014"/>
                  </a:cubicBezTo>
                  <a:cubicBezTo>
                    <a:pt x="3703" y="15014"/>
                    <a:pt x="2469" y="15014"/>
                    <a:pt x="2469" y="15014"/>
                  </a:cubicBezTo>
                  <a:cubicBezTo>
                    <a:pt x="1234" y="15014"/>
                    <a:pt x="1851" y="15974"/>
                    <a:pt x="1851" y="16454"/>
                  </a:cubicBezTo>
                  <a:cubicBezTo>
                    <a:pt x="2469" y="17894"/>
                    <a:pt x="1851" y="17414"/>
                    <a:pt x="0" y="18374"/>
                  </a:cubicBezTo>
                  <a:cubicBezTo>
                    <a:pt x="1234" y="19334"/>
                    <a:pt x="2469" y="19814"/>
                    <a:pt x="3086" y="21254"/>
                  </a:cubicBezTo>
                  <a:cubicBezTo>
                    <a:pt x="3703" y="20774"/>
                    <a:pt x="4320" y="20294"/>
                    <a:pt x="4937" y="19814"/>
                  </a:cubicBezTo>
                  <a:cubicBezTo>
                    <a:pt x="6171" y="19334"/>
                    <a:pt x="6171" y="20294"/>
                    <a:pt x="6789" y="20774"/>
                  </a:cubicBezTo>
                  <a:cubicBezTo>
                    <a:pt x="7406" y="20774"/>
                    <a:pt x="6171" y="20294"/>
                    <a:pt x="6789" y="2077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7" name="Shape 1381"/>
            <p:cNvSpPr/>
            <p:nvPr/>
          </p:nvSpPr>
          <p:spPr>
            <a:xfrm>
              <a:off x="8551080" y="4070160"/>
              <a:ext cx="236520" cy="177840"/>
            </a:xfrm>
            <a:custGeom>
              <a:avLst/>
              <a:gdLst/>
              <a:ahLst/>
              <a:rect l="l" t="t" r="r" b="b"/>
              <a:pathLst>
                <a:path w="20270" h="21600">
                  <a:moveTo>
                    <a:pt x="3554" y="17760"/>
                  </a:moveTo>
                  <a:cubicBezTo>
                    <a:pt x="3891" y="17760"/>
                    <a:pt x="4904" y="17280"/>
                    <a:pt x="5241" y="17760"/>
                  </a:cubicBezTo>
                  <a:cubicBezTo>
                    <a:pt x="5241" y="18240"/>
                    <a:pt x="6254" y="18240"/>
                    <a:pt x="6254" y="18240"/>
                  </a:cubicBezTo>
                  <a:cubicBezTo>
                    <a:pt x="6591" y="17280"/>
                    <a:pt x="6254" y="16320"/>
                    <a:pt x="6591" y="15840"/>
                  </a:cubicBezTo>
                  <a:cubicBezTo>
                    <a:pt x="6591" y="15360"/>
                    <a:pt x="7267" y="13920"/>
                    <a:pt x="7941" y="14400"/>
                  </a:cubicBezTo>
                  <a:cubicBezTo>
                    <a:pt x="8617" y="14400"/>
                    <a:pt x="8954" y="15360"/>
                    <a:pt x="9629" y="15840"/>
                  </a:cubicBezTo>
                  <a:cubicBezTo>
                    <a:pt x="10304" y="16320"/>
                    <a:pt x="10979" y="16320"/>
                    <a:pt x="11654" y="16320"/>
                  </a:cubicBezTo>
                  <a:cubicBezTo>
                    <a:pt x="11992" y="16320"/>
                    <a:pt x="12667" y="16800"/>
                    <a:pt x="12667" y="16320"/>
                  </a:cubicBezTo>
                  <a:cubicBezTo>
                    <a:pt x="13004" y="15840"/>
                    <a:pt x="13004" y="13920"/>
                    <a:pt x="13342" y="14400"/>
                  </a:cubicBezTo>
                  <a:cubicBezTo>
                    <a:pt x="14017" y="14880"/>
                    <a:pt x="14017" y="14880"/>
                    <a:pt x="14692" y="14880"/>
                  </a:cubicBezTo>
                  <a:cubicBezTo>
                    <a:pt x="15367" y="14400"/>
                    <a:pt x="15704" y="14880"/>
                    <a:pt x="16379" y="14880"/>
                  </a:cubicBezTo>
                  <a:cubicBezTo>
                    <a:pt x="17054" y="14880"/>
                    <a:pt x="17392" y="13440"/>
                    <a:pt x="18067" y="13920"/>
                  </a:cubicBezTo>
                  <a:cubicBezTo>
                    <a:pt x="18404" y="13920"/>
                    <a:pt x="19079" y="14880"/>
                    <a:pt x="19754" y="14400"/>
                  </a:cubicBezTo>
                  <a:cubicBezTo>
                    <a:pt x="21104" y="13440"/>
                    <a:pt x="19417" y="12480"/>
                    <a:pt x="19079" y="11520"/>
                  </a:cubicBezTo>
                  <a:cubicBezTo>
                    <a:pt x="18742" y="10560"/>
                    <a:pt x="18742" y="10080"/>
                    <a:pt x="18067" y="9600"/>
                  </a:cubicBezTo>
                  <a:cubicBezTo>
                    <a:pt x="17392" y="9120"/>
                    <a:pt x="17054" y="8640"/>
                    <a:pt x="16717" y="7680"/>
                  </a:cubicBezTo>
                  <a:cubicBezTo>
                    <a:pt x="16717" y="6720"/>
                    <a:pt x="16042" y="6720"/>
                    <a:pt x="15367" y="6240"/>
                  </a:cubicBezTo>
                  <a:cubicBezTo>
                    <a:pt x="15367" y="6240"/>
                    <a:pt x="15367" y="5760"/>
                    <a:pt x="15029" y="5760"/>
                  </a:cubicBezTo>
                  <a:cubicBezTo>
                    <a:pt x="15029" y="5760"/>
                    <a:pt x="14354" y="5760"/>
                    <a:pt x="14354" y="5760"/>
                  </a:cubicBezTo>
                  <a:cubicBezTo>
                    <a:pt x="14017" y="5280"/>
                    <a:pt x="14354" y="3360"/>
                    <a:pt x="14354" y="2880"/>
                  </a:cubicBezTo>
                  <a:cubicBezTo>
                    <a:pt x="14354" y="1920"/>
                    <a:pt x="13679" y="1440"/>
                    <a:pt x="13342" y="480"/>
                  </a:cubicBezTo>
                  <a:cubicBezTo>
                    <a:pt x="13342" y="480"/>
                    <a:pt x="13342" y="0"/>
                    <a:pt x="13342" y="0"/>
                  </a:cubicBezTo>
                  <a:cubicBezTo>
                    <a:pt x="13004" y="0"/>
                    <a:pt x="12667" y="0"/>
                    <a:pt x="12329" y="0"/>
                  </a:cubicBezTo>
                  <a:cubicBezTo>
                    <a:pt x="11654" y="480"/>
                    <a:pt x="11654" y="480"/>
                    <a:pt x="11317" y="1440"/>
                  </a:cubicBezTo>
                  <a:cubicBezTo>
                    <a:pt x="11317" y="2880"/>
                    <a:pt x="8954" y="4800"/>
                    <a:pt x="8279" y="4800"/>
                  </a:cubicBezTo>
                  <a:cubicBezTo>
                    <a:pt x="7941" y="4800"/>
                    <a:pt x="6591" y="4800"/>
                    <a:pt x="6929" y="5280"/>
                  </a:cubicBezTo>
                  <a:cubicBezTo>
                    <a:pt x="7267" y="6240"/>
                    <a:pt x="6254" y="7200"/>
                    <a:pt x="5917" y="7200"/>
                  </a:cubicBezTo>
                  <a:cubicBezTo>
                    <a:pt x="5241" y="7680"/>
                    <a:pt x="4566" y="8160"/>
                    <a:pt x="3891" y="8160"/>
                  </a:cubicBezTo>
                  <a:cubicBezTo>
                    <a:pt x="3216" y="8640"/>
                    <a:pt x="3216" y="7680"/>
                    <a:pt x="2541" y="8160"/>
                  </a:cubicBezTo>
                  <a:cubicBezTo>
                    <a:pt x="1866" y="8640"/>
                    <a:pt x="1529" y="8160"/>
                    <a:pt x="1529" y="8640"/>
                  </a:cubicBezTo>
                  <a:cubicBezTo>
                    <a:pt x="1191" y="9600"/>
                    <a:pt x="854" y="10560"/>
                    <a:pt x="516" y="11040"/>
                  </a:cubicBezTo>
                  <a:cubicBezTo>
                    <a:pt x="-496" y="12960"/>
                    <a:pt x="179" y="14400"/>
                    <a:pt x="854" y="16320"/>
                  </a:cubicBezTo>
                  <a:cubicBezTo>
                    <a:pt x="1191" y="17280"/>
                    <a:pt x="1191" y="17760"/>
                    <a:pt x="1529" y="18720"/>
                  </a:cubicBezTo>
                  <a:cubicBezTo>
                    <a:pt x="2204" y="19680"/>
                    <a:pt x="2541" y="20160"/>
                    <a:pt x="2541" y="21600"/>
                  </a:cubicBezTo>
                  <a:cubicBezTo>
                    <a:pt x="2541" y="21120"/>
                    <a:pt x="2879" y="17760"/>
                    <a:pt x="3554" y="177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8" name="Shape 1382"/>
            <p:cNvSpPr/>
            <p:nvPr/>
          </p:nvSpPr>
          <p:spPr>
            <a:xfrm>
              <a:off x="8271000" y="3816720"/>
              <a:ext cx="456480" cy="324720"/>
            </a:xfrm>
            <a:custGeom>
              <a:avLst/>
              <a:gdLst/>
              <a:ahLst/>
              <a:rect l="l" t="t" r="r" b="b"/>
              <a:pathLst>
                <a:path w="21318" h="21600">
                  <a:moveTo>
                    <a:pt x="14487" y="21337"/>
                  </a:moveTo>
                  <a:cubicBezTo>
                    <a:pt x="14672" y="21073"/>
                    <a:pt x="14856" y="21600"/>
                    <a:pt x="15041" y="21600"/>
                  </a:cubicBezTo>
                  <a:cubicBezTo>
                    <a:pt x="15410" y="21337"/>
                    <a:pt x="15780" y="21073"/>
                    <a:pt x="16149" y="20810"/>
                  </a:cubicBezTo>
                  <a:cubicBezTo>
                    <a:pt x="16333" y="20810"/>
                    <a:pt x="16887" y="20546"/>
                    <a:pt x="16887" y="20020"/>
                  </a:cubicBezTo>
                  <a:cubicBezTo>
                    <a:pt x="16887" y="19493"/>
                    <a:pt x="17072" y="19756"/>
                    <a:pt x="17441" y="19493"/>
                  </a:cubicBezTo>
                  <a:cubicBezTo>
                    <a:pt x="17995" y="19493"/>
                    <a:pt x="18733" y="18702"/>
                    <a:pt x="19103" y="17912"/>
                  </a:cubicBezTo>
                  <a:cubicBezTo>
                    <a:pt x="19287" y="17649"/>
                    <a:pt x="19287" y="17385"/>
                    <a:pt x="19472" y="17122"/>
                  </a:cubicBezTo>
                  <a:cubicBezTo>
                    <a:pt x="19656" y="16859"/>
                    <a:pt x="20026" y="16859"/>
                    <a:pt x="20395" y="16859"/>
                  </a:cubicBezTo>
                  <a:cubicBezTo>
                    <a:pt x="20395" y="16332"/>
                    <a:pt x="20026" y="16068"/>
                    <a:pt x="19841" y="15541"/>
                  </a:cubicBezTo>
                  <a:cubicBezTo>
                    <a:pt x="19841" y="15278"/>
                    <a:pt x="20026" y="14488"/>
                    <a:pt x="19472" y="14488"/>
                  </a:cubicBezTo>
                  <a:cubicBezTo>
                    <a:pt x="19287" y="14488"/>
                    <a:pt x="19841" y="13961"/>
                    <a:pt x="19656" y="13698"/>
                  </a:cubicBezTo>
                  <a:cubicBezTo>
                    <a:pt x="19656" y="12907"/>
                    <a:pt x="19841" y="12644"/>
                    <a:pt x="20026" y="12117"/>
                  </a:cubicBezTo>
                  <a:cubicBezTo>
                    <a:pt x="20026" y="11590"/>
                    <a:pt x="20395" y="11590"/>
                    <a:pt x="20395" y="11063"/>
                  </a:cubicBezTo>
                  <a:cubicBezTo>
                    <a:pt x="20395" y="10800"/>
                    <a:pt x="20580" y="10537"/>
                    <a:pt x="20764" y="10537"/>
                  </a:cubicBezTo>
                  <a:cubicBezTo>
                    <a:pt x="21318" y="10537"/>
                    <a:pt x="21318" y="10537"/>
                    <a:pt x="21318" y="10010"/>
                  </a:cubicBezTo>
                  <a:cubicBezTo>
                    <a:pt x="21318" y="8429"/>
                    <a:pt x="21318" y="7112"/>
                    <a:pt x="21318" y="5532"/>
                  </a:cubicBezTo>
                  <a:cubicBezTo>
                    <a:pt x="21318" y="5005"/>
                    <a:pt x="20580" y="4741"/>
                    <a:pt x="20210" y="4478"/>
                  </a:cubicBezTo>
                  <a:cubicBezTo>
                    <a:pt x="18364" y="3161"/>
                    <a:pt x="16518" y="1580"/>
                    <a:pt x="14672" y="263"/>
                  </a:cubicBezTo>
                  <a:cubicBezTo>
                    <a:pt x="14487" y="263"/>
                    <a:pt x="14487" y="0"/>
                    <a:pt x="14303" y="0"/>
                  </a:cubicBezTo>
                  <a:cubicBezTo>
                    <a:pt x="14118" y="263"/>
                    <a:pt x="13749" y="527"/>
                    <a:pt x="13564" y="527"/>
                  </a:cubicBezTo>
                  <a:cubicBezTo>
                    <a:pt x="13380" y="790"/>
                    <a:pt x="13010" y="1317"/>
                    <a:pt x="12826" y="1317"/>
                  </a:cubicBezTo>
                  <a:cubicBezTo>
                    <a:pt x="12641" y="1317"/>
                    <a:pt x="12456" y="790"/>
                    <a:pt x="12087" y="527"/>
                  </a:cubicBezTo>
                  <a:cubicBezTo>
                    <a:pt x="11903" y="263"/>
                    <a:pt x="11718" y="263"/>
                    <a:pt x="11533" y="263"/>
                  </a:cubicBezTo>
                  <a:cubicBezTo>
                    <a:pt x="11164" y="0"/>
                    <a:pt x="10980" y="0"/>
                    <a:pt x="10610" y="263"/>
                  </a:cubicBezTo>
                  <a:cubicBezTo>
                    <a:pt x="9318" y="1317"/>
                    <a:pt x="8026" y="2634"/>
                    <a:pt x="6733" y="3688"/>
                  </a:cubicBezTo>
                  <a:cubicBezTo>
                    <a:pt x="6180" y="4215"/>
                    <a:pt x="5626" y="4741"/>
                    <a:pt x="5072" y="5532"/>
                  </a:cubicBezTo>
                  <a:cubicBezTo>
                    <a:pt x="4887" y="5795"/>
                    <a:pt x="4703" y="5795"/>
                    <a:pt x="4518" y="5795"/>
                  </a:cubicBezTo>
                  <a:cubicBezTo>
                    <a:pt x="3964" y="5795"/>
                    <a:pt x="3780" y="5795"/>
                    <a:pt x="3780" y="6585"/>
                  </a:cubicBezTo>
                  <a:cubicBezTo>
                    <a:pt x="3780" y="7376"/>
                    <a:pt x="3780" y="8166"/>
                    <a:pt x="3780" y="8956"/>
                  </a:cubicBezTo>
                  <a:cubicBezTo>
                    <a:pt x="3780" y="9746"/>
                    <a:pt x="3595" y="10537"/>
                    <a:pt x="3226" y="11063"/>
                  </a:cubicBezTo>
                  <a:cubicBezTo>
                    <a:pt x="3041" y="11327"/>
                    <a:pt x="2487" y="11327"/>
                    <a:pt x="2303" y="11327"/>
                  </a:cubicBezTo>
                  <a:cubicBezTo>
                    <a:pt x="1933" y="11327"/>
                    <a:pt x="1564" y="11327"/>
                    <a:pt x="1195" y="11327"/>
                  </a:cubicBezTo>
                  <a:cubicBezTo>
                    <a:pt x="826" y="11327"/>
                    <a:pt x="456" y="11590"/>
                    <a:pt x="87" y="11590"/>
                  </a:cubicBezTo>
                  <a:cubicBezTo>
                    <a:pt x="-282" y="11590"/>
                    <a:pt x="641" y="13434"/>
                    <a:pt x="641" y="13434"/>
                  </a:cubicBezTo>
                  <a:cubicBezTo>
                    <a:pt x="826" y="14224"/>
                    <a:pt x="1010" y="14751"/>
                    <a:pt x="1564" y="15015"/>
                  </a:cubicBezTo>
                  <a:cubicBezTo>
                    <a:pt x="1564" y="15015"/>
                    <a:pt x="1749" y="14751"/>
                    <a:pt x="1749" y="14751"/>
                  </a:cubicBezTo>
                  <a:cubicBezTo>
                    <a:pt x="1933" y="15015"/>
                    <a:pt x="1933" y="15805"/>
                    <a:pt x="2303" y="15278"/>
                  </a:cubicBezTo>
                  <a:cubicBezTo>
                    <a:pt x="2672" y="14751"/>
                    <a:pt x="3041" y="16068"/>
                    <a:pt x="3226" y="16332"/>
                  </a:cubicBezTo>
                  <a:cubicBezTo>
                    <a:pt x="3226" y="16068"/>
                    <a:pt x="3410" y="15541"/>
                    <a:pt x="3410" y="15278"/>
                  </a:cubicBezTo>
                  <a:cubicBezTo>
                    <a:pt x="3410" y="15015"/>
                    <a:pt x="3595" y="14751"/>
                    <a:pt x="3595" y="14488"/>
                  </a:cubicBezTo>
                  <a:cubicBezTo>
                    <a:pt x="3780" y="13698"/>
                    <a:pt x="3780" y="13698"/>
                    <a:pt x="4333" y="13434"/>
                  </a:cubicBezTo>
                  <a:cubicBezTo>
                    <a:pt x="4518" y="13171"/>
                    <a:pt x="4703" y="13171"/>
                    <a:pt x="4887" y="13171"/>
                  </a:cubicBezTo>
                  <a:cubicBezTo>
                    <a:pt x="5072" y="12907"/>
                    <a:pt x="5256" y="13434"/>
                    <a:pt x="5441" y="13434"/>
                  </a:cubicBezTo>
                  <a:cubicBezTo>
                    <a:pt x="5810" y="13434"/>
                    <a:pt x="5995" y="13698"/>
                    <a:pt x="6180" y="13961"/>
                  </a:cubicBezTo>
                  <a:cubicBezTo>
                    <a:pt x="6364" y="14224"/>
                    <a:pt x="6549" y="14224"/>
                    <a:pt x="6918" y="14224"/>
                  </a:cubicBezTo>
                  <a:cubicBezTo>
                    <a:pt x="7472" y="13698"/>
                    <a:pt x="7656" y="14488"/>
                    <a:pt x="8210" y="14488"/>
                  </a:cubicBezTo>
                  <a:cubicBezTo>
                    <a:pt x="8764" y="14488"/>
                    <a:pt x="9318" y="13961"/>
                    <a:pt x="9872" y="13961"/>
                  </a:cubicBezTo>
                  <a:cubicBezTo>
                    <a:pt x="10241" y="13961"/>
                    <a:pt x="10980" y="14224"/>
                    <a:pt x="11533" y="13961"/>
                  </a:cubicBezTo>
                  <a:cubicBezTo>
                    <a:pt x="11718" y="13961"/>
                    <a:pt x="11903" y="13698"/>
                    <a:pt x="12087" y="13434"/>
                  </a:cubicBezTo>
                  <a:cubicBezTo>
                    <a:pt x="12456" y="13171"/>
                    <a:pt x="12272" y="12907"/>
                    <a:pt x="12272" y="12380"/>
                  </a:cubicBezTo>
                  <a:cubicBezTo>
                    <a:pt x="12272" y="11063"/>
                    <a:pt x="13195" y="10273"/>
                    <a:pt x="13933" y="9220"/>
                  </a:cubicBezTo>
                  <a:cubicBezTo>
                    <a:pt x="14118" y="8956"/>
                    <a:pt x="13933" y="8429"/>
                    <a:pt x="13933" y="8166"/>
                  </a:cubicBezTo>
                  <a:cubicBezTo>
                    <a:pt x="13933" y="7376"/>
                    <a:pt x="13933" y="6849"/>
                    <a:pt x="13933" y="6059"/>
                  </a:cubicBezTo>
                  <a:cubicBezTo>
                    <a:pt x="14118" y="5532"/>
                    <a:pt x="14303" y="4741"/>
                    <a:pt x="14303" y="4215"/>
                  </a:cubicBezTo>
                  <a:cubicBezTo>
                    <a:pt x="14118" y="3688"/>
                    <a:pt x="13933" y="3161"/>
                    <a:pt x="13749" y="2898"/>
                  </a:cubicBezTo>
                  <a:cubicBezTo>
                    <a:pt x="13380" y="2107"/>
                    <a:pt x="13564" y="1317"/>
                    <a:pt x="13564" y="527"/>
                  </a:cubicBezTo>
                  <a:cubicBezTo>
                    <a:pt x="13564" y="1317"/>
                    <a:pt x="13564" y="1844"/>
                    <a:pt x="13564" y="2371"/>
                  </a:cubicBezTo>
                  <a:cubicBezTo>
                    <a:pt x="13564" y="2898"/>
                    <a:pt x="14118" y="3688"/>
                    <a:pt x="14118" y="4215"/>
                  </a:cubicBezTo>
                  <a:cubicBezTo>
                    <a:pt x="14303" y="5005"/>
                    <a:pt x="13933" y="6059"/>
                    <a:pt x="13933" y="6849"/>
                  </a:cubicBezTo>
                  <a:cubicBezTo>
                    <a:pt x="13933" y="7376"/>
                    <a:pt x="14118" y="8429"/>
                    <a:pt x="13933" y="9220"/>
                  </a:cubicBezTo>
                  <a:cubicBezTo>
                    <a:pt x="13749" y="9746"/>
                    <a:pt x="13010" y="10273"/>
                    <a:pt x="12826" y="10800"/>
                  </a:cubicBezTo>
                  <a:cubicBezTo>
                    <a:pt x="12456" y="11063"/>
                    <a:pt x="12272" y="11590"/>
                    <a:pt x="12272" y="12117"/>
                  </a:cubicBezTo>
                  <a:cubicBezTo>
                    <a:pt x="12087" y="12907"/>
                    <a:pt x="12456" y="13171"/>
                    <a:pt x="12641" y="13961"/>
                  </a:cubicBezTo>
                  <a:cubicBezTo>
                    <a:pt x="12641" y="14224"/>
                    <a:pt x="12826" y="14224"/>
                    <a:pt x="13010" y="14488"/>
                  </a:cubicBezTo>
                  <a:cubicBezTo>
                    <a:pt x="13380" y="14751"/>
                    <a:pt x="13564" y="15015"/>
                    <a:pt x="13564" y="15541"/>
                  </a:cubicBezTo>
                  <a:cubicBezTo>
                    <a:pt x="13564" y="16068"/>
                    <a:pt x="13564" y="16595"/>
                    <a:pt x="13564" y="17122"/>
                  </a:cubicBezTo>
                  <a:cubicBezTo>
                    <a:pt x="13564" y="17385"/>
                    <a:pt x="13749" y="17912"/>
                    <a:pt x="13933" y="18439"/>
                  </a:cubicBezTo>
                  <a:cubicBezTo>
                    <a:pt x="13380" y="18439"/>
                    <a:pt x="12087" y="18439"/>
                    <a:pt x="13010" y="19493"/>
                  </a:cubicBezTo>
                  <a:cubicBezTo>
                    <a:pt x="13380" y="19756"/>
                    <a:pt x="13564" y="20020"/>
                    <a:pt x="13749" y="20546"/>
                  </a:cubicBezTo>
                  <a:cubicBezTo>
                    <a:pt x="13749" y="20810"/>
                    <a:pt x="13933" y="21073"/>
                    <a:pt x="13933" y="21337"/>
                  </a:cubicBezTo>
                  <a:cubicBezTo>
                    <a:pt x="13933" y="21600"/>
                    <a:pt x="14487" y="21337"/>
                    <a:pt x="14487" y="21337"/>
                  </a:cubicBezTo>
                  <a:cubicBezTo>
                    <a:pt x="14856" y="21073"/>
                    <a:pt x="14487" y="21337"/>
                    <a:pt x="14487" y="2133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9" name="Shape 1383"/>
            <p:cNvSpPr/>
            <p:nvPr/>
          </p:nvSpPr>
          <p:spPr>
            <a:xfrm>
              <a:off x="8685720" y="3825000"/>
              <a:ext cx="321840" cy="396720"/>
            </a:xfrm>
            <a:custGeom>
              <a:avLst/>
              <a:gdLst/>
              <a:ahLst/>
              <a:rect l="l" t="t" r="r" b="b"/>
              <a:pathLst>
                <a:path w="21410" h="21411">
                  <a:moveTo>
                    <a:pt x="1390" y="8341"/>
                  </a:moveTo>
                  <a:cubicBezTo>
                    <a:pt x="1390" y="8341"/>
                    <a:pt x="1390" y="8554"/>
                    <a:pt x="1390" y="8768"/>
                  </a:cubicBezTo>
                  <a:cubicBezTo>
                    <a:pt x="1127" y="8982"/>
                    <a:pt x="864" y="8982"/>
                    <a:pt x="864" y="9196"/>
                  </a:cubicBezTo>
                  <a:cubicBezTo>
                    <a:pt x="864" y="9624"/>
                    <a:pt x="337" y="10051"/>
                    <a:pt x="337" y="10479"/>
                  </a:cubicBezTo>
                  <a:cubicBezTo>
                    <a:pt x="337" y="10693"/>
                    <a:pt x="600" y="10907"/>
                    <a:pt x="337" y="10907"/>
                  </a:cubicBezTo>
                  <a:cubicBezTo>
                    <a:pt x="337" y="11121"/>
                    <a:pt x="-190" y="11335"/>
                    <a:pt x="73" y="11335"/>
                  </a:cubicBezTo>
                  <a:cubicBezTo>
                    <a:pt x="864" y="11335"/>
                    <a:pt x="600" y="12190"/>
                    <a:pt x="864" y="12404"/>
                  </a:cubicBezTo>
                  <a:cubicBezTo>
                    <a:pt x="864" y="12618"/>
                    <a:pt x="1127" y="12618"/>
                    <a:pt x="1390" y="12832"/>
                  </a:cubicBezTo>
                  <a:cubicBezTo>
                    <a:pt x="1390" y="13046"/>
                    <a:pt x="1390" y="13259"/>
                    <a:pt x="1390" y="13473"/>
                  </a:cubicBezTo>
                  <a:cubicBezTo>
                    <a:pt x="1654" y="13901"/>
                    <a:pt x="2181" y="14115"/>
                    <a:pt x="2181" y="14543"/>
                  </a:cubicBezTo>
                  <a:cubicBezTo>
                    <a:pt x="2181" y="14756"/>
                    <a:pt x="1917" y="15826"/>
                    <a:pt x="2181" y="15826"/>
                  </a:cubicBezTo>
                  <a:cubicBezTo>
                    <a:pt x="2971" y="15826"/>
                    <a:pt x="3234" y="16040"/>
                    <a:pt x="3761" y="16253"/>
                  </a:cubicBezTo>
                  <a:cubicBezTo>
                    <a:pt x="4288" y="16467"/>
                    <a:pt x="4025" y="17109"/>
                    <a:pt x="4551" y="17323"/>
                  </a:cubicBezTo>
                  <a:cubicBezTo>
                    <a:pt x="4815" y="17537"/>
                    <a:pt x="5605" y="17537"/>
                    <a:pt x="5605" y="17964"/>
                  </a:cubicBezTo>
                  <a:cubicBezTo>
                    <a:pt x="5605" y="18392"/>
                    <a:pt x="6395" y="18606"/>
                    <a:pt x="6659" y="18820"/>
                  </a:cubicBezTo>
                  <a:cubicBezTo>
                    <a:pt x="6659" y="19034"/>
                    <a:pt x="6659" y="19248"/>
                    <a:pt x="6659" y="19461"/>
                  </a:cubicBezTo>
                  <a:cubicBezTo>
                    <a:pt x="6922" y="19461"/>
                    <a:pt x="7186" y="19675"/>
                    <a:pt x="7186" y="19675"/>
                  </a:cubicBezTo>
                  <a:cubicBezTo>
                    <a:pt x="7449" y="19889"/>
                    <a:pt x="7712" y="20317"/>
                    <a:pt x="8239" y="20531"/>
                  </a:cubicBezTo>
                  <a:cubicBezTo>
                    <a:pt x="8503" y="20745"/>
                    <a:pt x="8503" y="19889"/>
                    <a:pt x="9030" y="20317"/>
                  </a:cubicBezTo>
                  <a:cubicBezTo>
                    <a:pt x="9556" y="20531"/>
                    <a:pt x="9556" y="20103"/>
                    <a:pt x="10083" y="20103"/>
                  </a:cubicBezTo>
                  <a:cubicBezTo>
                    <a:pt x="10610" y="20317"/>
                    <a:pt x="10873" y="20958"/>
                    <a:pt x="11400" y="21386"/>
                  </a:cubicBezTo>
                  <a:cubicBezTo>
                    <a:pt x="11927" y="20317"/>
                    <a:pt x="12717" y="21600"/>
                    <a:pt x="13244" y="21386"/>
                  </a:cubicBezTo>
                  <a:cubicBezTo>
                    <a:pt x="13508" y="21172"/>
                    <a:pt x="13771" y="20958"/>
                    <a:pt x="14298" y="20958"/>
                  </a:cubicBezTo>
                  <a:cubicBezTo>
                    <a:pt x="14561" y="20958"/>
                    <a:pt x="15088" y="20958"/>
                    <a:pt x="15351" y="20745"/>
                  </a:cubicBezTo>
                  <a:cubicBezTo>
                    <a:pt x="15878" y="19889"/>
                    <a:pt x="16932" y="19461"/>
                    <a:pt x="17986" y="20103"/>
                  </a:cubicBezTo>
                  <a:cubicBezTo>
                    <a:pt x="17986" y="19889"/>
                    <a:pt x="17986" y="19675"/>
                    <a:pt x="17986" y="19461"/>
                  </a:cubicBezTo>
                  <a:cubicBezTo>
                    <a:pt x="17986" y="19248"/>
                    <a:pt x="17195" y="19248"/>
                    <a:pt x="17195" y="19248"/>
                  </a:cubicBezTo>
                  <a:cubicBezTo>
                    <a:pt x="16669" y="18820"/>
                    <a:pt x="16405" y="18178"/>
                    <a:pt x="15878" y="17750"/>
                  </a:cubicBezTo>
                  <a:cubicBezTo>
                    <a:pt x="15615" y="17537"/>
                    <a:pt x="15615" y="17323"/>
                    <a:pt x="15351" y="17109"/>
                  </a:cubicBezTo>
                  <a:cubicBezTo>
                    <a:pt x="15088" y="16895"/>
                    <a:pt x="14825" y="16895"/>
                    <a:pt x="14561" y="16681"/>
                  </a:cubicBezTo>
                  <a:cubicBezTo>
                    <a:pt x="13771" y="16040"/>
                    <a:pt x="15351" y="16040"/>
                    <a:pt x="15351" y="16040"/>
                  </a:cubicBezTo>
                  <a:cubicBezTo>
                    <a:pt x="15878" y="15826"/>
                    <a:pt x="15615" y="14756"/>
                    <a:pt x="15878" y="14329"/>
                  </a:cubicBezTo>
                  <a:cubicBezTo>
                    <a:pt x="15878" y="14115"/>
                    <a:pt x="15878" y="13687"/>
                    <a:pt x="16142" y="13687"/>
                  </a:cubicBezTo>
                  <a:cubicBezTo>
                    <a:pt x="16405" y="13473"/>
                    <a:pt x="16932" y="13473"/>
                    <a:pt x="16932" y="13259"/>
                  </a:cubicBezTo>
                  <a:cubicBezTo>
                    <a:pt x="16932" y="13046"/>
                    <a:pt x="16932" y="12832"/>
                    <a:pt x="16932" y="12404"/>
                  </a:cubicBezTo>
                  <a:cubicBezTo>
                    <a:pt x="16932" y="12190"/>
                    <a:pt x="17195" y="11976"/>
                    <a:pt x="17459" y="11762"/>
                  </a:cubicBezTo>
                  <a:cubicBezTo>
                    <a:pt x="17722" y="11335"/>
                    <a:pt x="18249" y="11549"/>
                    <a:pt x="18512" y="11121"/>
                  </a:cubicBezTo>
                  <a:cubicBezTo>
                    <a:pt x="18512" y="10693"/>
                    <a:pt x="18776" y="10265"/>
                    <a:pt x="18776" y="9624"/>
                  </a:cubicBezTo>
                  <a:cubicBezTo>
                    <a:pt x="18776" y="9410"/>
                    <a:pt x="18776" y="9196"/>
                    <a:pt x="18776" y="8982"/>
                  </a:cubicBezTo>
                  <a:cubicBezTo>
                    <a:pt x="18776" y="8554"/>
                    <a:pt x="19303" y="8127"/>
                    <a:pt x="19303" y="7913"/>
                  </a:cubicBezTo>
                  <a:cubicBezTo>
                    <a:pt x="19303" y="7057"/>
                    <a:pt x="19566" y="6416"/>
                    <a:pt x="20620" y="6202"/>
                  </a:cubicBezTo>
                  <a:cubicBezTo>
                    <a:pt x="20883" y="6202"/>
                    <a:pt x="21147" y="6202"/>
                    <a:pt x="21410" y="5774"/>
                  </a:cubicBezTo>
                  <a:cubicBezTo>
                    <a:pt x="21410" y="5560"/>
                    <a:pt x="20883" y="5133"/>
                    <a:pt x="20620" y="4919"/>
                  </a:cubicBezTo>
                  <a:cubicBezTo>
                    <a:pt x="20093" y="4491"/>
                    <a:pt x="19830" y="4063"/>
                    <a:pt x="19830" y="3636"/>
                  </a:cubicBezTo>
                  <a:cubicBezTo>
                    <a:pt x="19830" y="3422"/>
                    <a:pt x="19566" y="2352"/>
                    <a:pt x="19830" y="2352"/>
                  </a:cubicBezTo>
                  <a:cubicBezTo>
                    <a:pt x="20093" y="2139"/>
                    <a:pt x="19830" y="2139"/>
                    <a:pt x="19566" y="1925"/>
                  </a:cubicBezTo>
                  <a:cubicBezTo>
                    <a:pt x="19303" y="1711"/>
                    <a:pt x="19303" y="1497"/>
                    <a:pt x="19303" y="1069"/>
                  </a:cubicBezTo>
                  <a:cubicBezTo>
                    <a:pt x="18776" y="642"/>
                    <a:pt x="17986" y="428"/>
                    <a:pt x="17722" y="0"/>
                  </a:cubicBezTo>
                  <a:cubicBezTo>
                    <a:pt x="17459" y="0"/>
                    <a:pt x="16932" y="214"/>
                    <a:pt x="16669" y="428"/>
                  </a:cubicBezTo>
                  <a:cubicBezTo>
                    <a:pt x="16405" y="1069"/>
                    <a:pt x="15878" y="642"/>
                    <a:pt x="15615" y="1069"/>
                  </a:cubicBezTo>
                  <a:cubicBezTo>
                    <a:pt x="15351" y="1925"/>
                    <a:pt x="15088" y="1069"/>
                    <a:pt x="14561" y="1069"/>
                  </a:cubicBezTo>
                  <a:cubicBezTo>
                    <a:pt x="13508" y="1069"/>
                    <a:pt x="12717" y="1069"/>
                    <a:pt x="11927" y="1069"/>
                  </a:cubicBezTo>
                  <a:cubicBezTo>
                    <a:pt x="9556" y="1069"/>
                    <a:pt x="6922" y="1069"/>
                    <a:pt x="4288" y="1069"/>
                  </a:cubicBezTo>
                  <a:cubicBezTo>
                    <a:pt x="3761" y="1069"/>
                    <a:pt x="4025" y="2566"/>
                    <a:pt x="4025" y="2994"/>
                  </a:cubicBezTo>
                  <a:cubicBezTo>
                    <a:pt x="4025" y="3422"/>
                    <a:pt x="3761" y="3422"/>
                    <a:pt x="3234" y="3422"/>
                  </a:cubicBezTo>
                  <a:cubicBezTo>
                    <a:pt x="2444" y="3422"/>
                    <a:pt x="2708" y="3422"/>
                    <a:pt x="2708" y="3850"/>
                  </a:cubicBezTo>
                  <a:cubicBezTo>
                    <a:pt x="2708" y="4919"/>
                    <a:pt x="2708" y="5774"/>
                    <a:pt x="2708" y="6844"/>
                  </a:cubicBezTo>
                  <a:cubicBezTo>
                    <a:pt x="2708" y="7271"/>
                    <a:pt x="2708" y="7699"/>
                    <a:pt x="2708" y="7913"/>
                  </a:cubicBezTo>
                  <a:cubicBezTo>
                    <a:pt x="2708" y="8341"/>
                    <a:pt x="1654" y="8127"/>
                    <a:pt x="1390" y="834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0" name="Shape 1384"/>
            <p:cNvSpPr/>
            <p:nvPr/>
          </p:nvSpPr>
          <p:spPr>
            <a:xfrm>
              <a:off x="8967600" y="3927240"/>
              <a:ext cx="126720" cy="114480"/>
            </a:xfrm>
            <a:custGeom>
              <a:avLst/>
              <a:gdLst/>
              <a:ahLst/>
              <a:rect l="l" t="t" r="r" b="b"/>
              <a:pathLst>
                <a:path w="21600" h="21600">
                  <a:moveTo>
                    <a:pt x="2025" y="14152"/>
                  </a:moveTo>
                  <a:cubicBezTo>
                    <a:pt x="2700" y="14152"/>
                    <a:pt x="4050" y="15641"/>
                    <a:pt x="4725" y="14897"/>
                  </a:cubicBezTo>
                  <a:cubicBezTo>
                    <a:pt x="4725" y="14152"/>
                    <a:pt x="4050" y="12662"/>
                    <a:pt x="4725" y="12662"/>
                  </a:cubicBezTo>
                  <a:cubicBezTo>
                    <a:pt x="6075" y="12662"/>
                    <a:pt x="6075" y="14152"/>
                    <a:pt x="6750" y="14152"/>
                  </a:cubicBezTo>
                  <a:cubicBezTo>
                    <a:pt x="7425" y="14152"/>
                    <a:pt x="8100" y="13407"/>
                    <a:pt x="8100" y="13407"/>
                  </a:cubicBezTo>
                  <a:cubicBezTo>
                    <a:pt x="8775" y="12662"/>
                    <a:pt x="9450" y="13407"/>
                    <a:pt x="9450" y="13407"/>
                  </a:cubicBezTo>
                  <a:cubicBezTo>
                    <a:pt x="14850" y="13407"/>
                    <a:pt x="16875" y="17876"/>
                    <a:pt x="19575" y="21600"/>
                  </a:cubicBezTo>
                  <a:cubicBezTo>
                    <a:pt x="20250" y="21600"/>
                    <a:pt x="20925" y="20855"/>
                    <a:pt x="21600" y="20110"/>
                  </a:cubicBezTo>
                  <a:cubicBezTo>
                    <a:pt x="19575" y="18621"/>
                    <a:pt x="17550" y="16386"/>
                    <a:pt x="16200" y="14152"/>
                  </a:cubicBezTo>
                  <a:cubicBezTo>
                    <a:pt x="15525" y="12662"/>
                    <a:pt x="14175" y="12662"/>
                    <a:pt x="12825" y="11917"/>
                  </a:cubicBezTo>
                  <a:cubicBezTo>
                    <a:pt x="12150" y="11917"/>
                    <a:pt x="12150" y="10428"/>
                    <a:pt x="11475" y="10428"/>
                  </a:cubicBezTo>
                  <a:cubicBezTo>
                    <a:pt x="10800" y="10428"/>
                    <a:pt x="11475" y="11172"/>
                    <a:pt x="11475" y="11917"/>
                  </a:cubicBezTo>
                  <a:cubicBezTo>
                    <a:pt x="11475" y="11917"/>
                    <a:pt x="10800" y="10428"/>
                    <a:pt x="10800" y="10428"/>
                  </a:cubicBezTo>
                  <a:cubicBezTo>
                    <a:pt x="10125" y="8938"/>
                    <a:pt x="9450" y="8193"/>
                    <a:pt x="9450" y="6703"/>
                  </a:cubicBezTo>
                  <a:cubicBezTo>
                    <a:pt x="8775" y="4469"/>
                    <a:pt x="8775" y="2234"/>
                    <a:pt x="6750" y="0"/>
                  </a:cubicBezTo>
                  <a:cubicBezTo>
                    <a:pt x="6075" y="2979"/>
                    <a:pt x="2700" y="2979"/>
                    <a:pt x="1350" y="5214"/>
                  </a:cubicBezTo>
                  <a:cubicBezTo>
                    <a:pt x="675" y="6703"/>
                    <a:pt x="1350" y="8193"/>
                    <a:pt x="675" y="9683"/>
                  </a:cubicBezTo>
                  <a:cubicBezTo>
                    <a:pt x="0" y="11172"/>
                    <a:pt x="0" y="12662"/>
                    <a:pt x="0" y="14897"/>
                  </a:cubicBezTo>
                  <a:cubicBezTo>
                    <a:pt x="675" y="14152"/>
                    <a:pt x="1350" y="14152"/>
                    <a:pt x="2025" y="1415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1" name="Shape 1385"/>
            <p:cNvSpPr/>
            <p:nvPr/>
          </p:nvSpPr>
          <p:spPr>
            <a:xfrm>
              <a:off x="8902800" y="3995280"/>
              <a:ext cx="291240" cy="227160"/>
            </a:xfrm>
            <a:custGeom>
              <a:avLst/>
              <a:gdLst/>
              <a:ahLst/>
              <a:rect l="l" t="t" r="r" b="b"/>
              <a:pathLst>
                <a:path w="21500" h="20233">
                  <a:moveTo>
                    <a:pt x="20332" y="12344"/>
                  </a:moveTo>
                  <a:cubicBezTo>
                    <a:pt x="18873" y="11636"/>
                    <a:pt x="17705" y="11281"/>
                    <a:pt x="16538" y="10573"/>
                  </a:cubicBezTo>
                  <a:cubicBezTo>
                    <a:pt x="15662" y="10219"/>
                    <a:pt x="15370" y="9865"/>
                    <a:pt x="14786" y="9157"/>
                  </a:cubicBezTo>
                  <a:cubicBezTo>
                    <a:pt x="14495" y="8803"/>
                    <a:pt x="14203" y="8095"/>
                    <a:pt x="13911" y="7386"/>
                  </a:cubicBezTo>
                  <a:cubicBezTo>
                    <a:pt x="13911" y="7032"/>
                    <a:pt x="14786" y="6324"/>
                    <a:pt x="14786" y="5970"/>
                  </a:cubicBezTo>
                  <a:cubicBezTo>
                    <a:pt x="14203" y="6324"/>
                    <a:pt x="13619" y="6678"/>
                    <a:pt x="13035" y="7032"/>
                  </a:cubicBezTo>
                  <a:cubicBezTo>
                    <a:pt x="12451" y="7032"/>
                    <a:pt x="12451" y="5616"/>
                    <a:pt x="12743" y="5262"/>
                  </a:cubicBezTo>
                  <a:cubicBezTo>
                    <a:pt x="13619" y="4199"/>
                    <a:pt x="13327" y="4199"/>
                    <a:pt x="12743" y="3137"/>
                  </a:cubicBezTo>
                  <a:cubicBezTo>
                    <a:pt x="12159" y="2429"/>
                    <a:pt x="11576" y="1013"/>
                    <a:pt x="10700" y="658"/>
                  </a:cubicBezTo>
                  <a:cubicBezTo>
                    <a:pt x="10116" y="658"/>
                    <a:pt x="8657" y="-50"/>
                    <a:pt x="8073" y="304"/>
                  </a:cubicBezTo>
                  <a:cubicBezTo>
                    <a:pt x="7489" y="1367"/>
                    <a:pt x="6905" y="-1112"/>
                    <a:pt x="6905" y="658"/>
                  </a:cubicBezTo>
                  <a:cubicBezTo>
                    <a:pt x="6905" y="1367"/>
                    <a:pt x="6322" y="1013"/>
                    <a:pt x="6030" y="658"/>
                  </a:cubicBezTo>
                  <a:cubicBezTo>
                    <a:pt x="5738" y="658"/>
                    <a:pt x="5446" y="658"/>
                    <a:pt x="5154" y="658"/>
                  </a:cubicBezTo>
                  <a:cubicBezTo>
                    <a:pt x="4570" y="1013"/>
                    <a:pt x="4862" y="1013"/>
                    <a:pt x="4862" y="1721"/>
                  </a:cubicBezTo>
                  <a:cubicBezTo>
                    <a:pt x="4862" y="2075"/>
                    <a:pt x="4570" y="3137"/>
                    <a:pt x="4278" y="3491"/>
                  </a:cubicBezTo>
                  <a:cubicBezTo>
                    <a:pt x="4278" y="3845"/>
                    <a:pt x="3403" y="3491"/>
                    <a:pt x="3403" y="3845"/>
                  </a:cubicBezTo>
                  <a:cubicBezTo>
                    <a:pt x="3403" y="4554"/>
                    <a:pt x="2819" y="4908"/>
                    <a:pt x="2819" y="5262"/>
                  </a:cubicBezTo>
                  <a:cubicBezTo>
                    <a:pt x="2819" y="5616"/>
                    <a:pt x="3111" y="6678"/>
                    <a:pt x="2819" y="7032"/>
                  </a:cubicBezTo>
                  <a:cubicBezTo>
                    <a:pt x="1068" y="7386"/>
                    <a:pt x="1651" y="9511"/>
                    <a:pt x="1359" y="10927"/>
                  </a:cubicBezTo>
                  <a:cubicBezTo>
                    <a:pt x="1068" y="11281"/>
                    <a:pt x="776" y="11281"/>
                    <a:pt x="192" y="11281"/>
                  </a:cubicBezTo>
                  <a:cubicBezTo>
                    <a:pt x="-100" y="11636"/>
                    <a:pt x="-100" y="12344"/>
                    <a:pt x="484" y="12344"/>
                  </a:cubicBezTo>
                  <a:cubicBezTo>
                    <a:pt x="1359" y="12698"/>
                    <a:pt x="2235" y="14822"/>
                    <a:pt x="2527" y="15531"/>
                  </a:cubicBezTo>
                  <a:cubicBezTo>
                    <a:pt x="2819" y="16239"/>
                    <a:pt x="3111" y="16239"/>
                    <a:pt x="3695" y="16593"/>
                  </a:cubicBezTo>
                  <a:cubicBezTo>
                    <a:pt x="3986" y="16947"/>
                    <a:pt x="3695" y="17655"/>
                    <a:pt x="3986" y="18009"/>
                  </a:cubicBezTo>
                  <a:cubicBezTo>
                    <a:pt x="4570" y="18718"/>
                    <a:pt x="5154" y="18009"/>
                    <a:pt x="5738" y="18363"/>
                  </a:cubicBezTo>
                  <a:cubicBezTo>
                    <a:pt x="6030" y="18718"/>
                    <a:pt x="6614" y="19426"/>
                    <a:pt x="7197" y="19780"/>
                  </a:cubicBezTo>
                  <a:cubicBezTo>
                    <a:pt x="7781" y="19780"/>
                    <a:pt x="8949" y="20488"/>
                    <a:pt x="9532" y="20134"/>
                  </a:cubicBezTo>
                  <a:cubicBezTo>
                    <a:pt x="10116" y="19426"/>
                    <a:pt x="10408" y="18718"/>
                    <a:pt x="11284" y="19072"/>
                  </a:cubicBezTo>
                  <a:cubicBezTo>
                    <a:pt x="12159" y="19426"/>
                    <a:pt x="13035" y="19072"/>
                    <a:pt x="13619" y="18718"/>
                  </a:cubicBezTo>
                  <a:cubicBezTo>
                    <a:pt x="14203" y="18009"/>
                    <a:pt x="14786" y="17655"/>
                    <a:pt x="15662" y="17655"/>
                  </a:cubicBezTo>
                  <a:cubicBezTo>
                    <a:pt x="15954" y="17655"/>
                    <a:pt x="17122" y="17655"/>
                    <a:pt x="17122" y="17655"/>
                  </a:cubicBezTo>
                  <a:cubicBezTo>
                    <a:pt x="18581" y="15885"/>
                    <a:pt x="20041" y="14114"/>
                    <a:pt x="21500" y="12344"/>
                  </a:cubicBezTo>
                  <a:cubicBezTo>
                    <a:pt x="21208" y="12344"/>
                    <a:pt x="20624" y="12344"/>
                    <a:pt x="20332" y="1234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2" name="Shape 1386"/>
            <p:cNvSpPr/>
            <p:nvPr/>
          </p:nvSpPr>
          <p:spPr>
            <a:xfrm>
              <a:off x="8916120" y="4053960"/>
              <a:ext cx="340560" cy="328680"/>
            </a:xfrm>
            <a:custGeom>
              <a:avLst/>
              <a:gdLst/>
              <a:ahLst/>
              <a:rect l="l" t="t" r="r" b="b"/>
              <a:pathLst>
                <a:path w="21402" h="21600">
                  <a:moveTo>
                    <a:pt x="21352" y="260"/>
                  </a:moveTo>
                  <a:cubicBezTo>
                    <a:pt x="21600" y="0"/>
                    <a:pt x="20855" y="0"/>
                    <a:pt x="20607" y="0"/>
                  </a:cubicBezTo>
                  <a:cubicBezTo>
                    <a:pt x="20359" y="260"/>
                    <a:pt x="20110" y="520"/>
                    <a:pt x="19614" y="781"/>
                  </a:cubicBezTo>
                  <a:cubicBezTo>
                    <a:pt x="19117" y="781"/>
                    <a:pt x="18372" y="781"/>
                    <a:pt x="17628" y="781"/>
                  </a:cubicBezTo>
                  <a:cubicBezTo>
                    <a:pt x="17628" y="1041"/>
                    <a:pt x="17379" y="1041"/>
                    <a:pt x="17131" y="1041"/>
                  </a:cubicBezTo>
                  <a:cubicBezTo>
                    <a:pt x="16883" y="1041"/>
                    <a:pt x="16883" y="781"/>
                    <a:pt x="16883" y="781"/>
                  </a:cubicBezTo>
                  <a:cubicBezTo>
                    <a:pt x="16386" y="1041"/>
                    <a:pt x="16138" y="1561"/>
                    <a:pt x="15641" y="1561"/>
                  </a:cubicBezTo>
                  <a:cubicBezTo>
                    <a:pt x="15145" y="1561"/>
                    <a:pt x="15145" y="1301"/>
                    <a:pt x="14400" y="1301"/>
                  </a:cubicBezTo>
                  <a:cubicBezTo>
                    <a:pt x="14152" y="1561"/>
                    <a:pt x="13655" y="2082"/>
                    <a:pt x="13159" y="1822"/>
                  </a:cubicBezTo>
                  <a:cubicBezTo>
                    <a:pt x="12414" y="1561"/>
                    <a:pt x="12166" y="1301"/>
                    <a:pt x="11669" y="520"/>
                  </a:cubicBezTo>
                  <a:cubicBezTo>
                    <a:pt x="11669" y="781"/>
                    <a:pt x="10924" y="1301"/>
                    <a:pt x="10924" y="1561"/>
                  </a:cubicBezTo>
                  <a:cubicBezTo>
                    <a:pt x="11172" y="2082"/>
                    <a:pt x="11421" y="2602"/>
                    <a:pt x="11917" y="3123"/>
                  </a:cubicBezTo>
                  <a:cubicBezTo>
                    <a:pt x="12414" y="3643"/>
                    <a:pt x="13159" y="3904"/>
                    <a:pt x="13903" y="4164"/>
                  </a:cubicBezTo>
                  <a:cubicBezTo>
                    <a:pt x="15145" y="4684"/>
                    <a:pt x="16138" y="5205"/>
                    <a:pt x="17379" y="5205"/>
                  </a:cubicBezTo>
                  <a:cubicBezTo>
                    <a:pt x="16883" y="5725"/>
                    <a:pt x="16138" y="6506"/>
                    <a:pt x="15641" y="7027"/>
                  </a:cubicBezTo>
                  <a:cubicBezTo>
                    <a:pt x="15145" y="7547"/>
                    <a:pt x="14648" y="8067"/>
                    <a:pt x="14400" y="8588"/>
                  </a:cubicBezTo>
                  <a:cubicBezTo>
                    <a:pt x="14152" y="8588"/>
                    <a:pt x="13903" y="9108"/>
                    <a:pt x="13655" y="9108"/>
                  </a:cubicBezTo>
                  <a:cubicBezTo>
                    <a:pt x="13159" y="9369"/>
                    <a:pt x="12414" y="8848"/>
                    <a:pt x="11917" y="9108"/>
                  </a:cubicBezTo>
                  <a:cubicBezTo>
                    <a:pt x="11421" y="9108"/>
                    <a:pt x="10924" y="9629"/>
                    <a:pt x="10428" y="9889"/>
                  </a:cubicBezTo>
                  <a:cubicBezTo>
                    <a:pt x="9931" y="10149"/>
                    <a:pt x="9434" y="10410"/>
                    <a:pt x="8938" y="10149"/>
                  </a:cubicBezTo>
                  <a:cubicBezTo>
                    <a:pt x="8690" y="10149"/>
                    <a:pt x="8193" y="9889"/>
                    <a:pt x="7945" y="10149"/>
                  </a:cubicBezTo>
                  <a:cubicBezTo>
                    <a:pt x="7200" y="10670"/>
                    <a:pt x="7200" y="11190"/>
                    <a:pt x="6455" y="10930"/>
                  </a:cubicBezTo>
                  <a:cubicBezTo>
                    <a:pt x="5959" y="10670"/>
                    <a:pt x="5462" y="10670"/>
                    <a:pt x="5214" y="10670"/>
                  </a:cubicBezTo>
                  <a:cubicBezTo>
                    <a:pt x="4717" y="10410"/>
                    <a:pt x="4221" y="9889"/>
                    <a:pt x="3972" y="9629"/>
                  </a:cubicBezTo>
                  <a:cubicBezTo>
                    <a:pt x="3724" y="9629"/>
                    <a:pt x="2979" y="9889"/>
                    <a:pt x="2731" y="9629"/>
                  </a:cubicBezTo>
                  <a:cubicBezTo>
                    <a:pt x="2483" y="9369"/>
                    <a:pt x="1986" y="8848"/>
                    <a:pt x="1738" y="8848"/>
                  </a:cubicBezTo>
                  <a:cubicBezTo>
                    <a:pt x="745" y="9108"/>
                    <a:pt x="497" y="9369"/>
                    <a:pt x="0" y="10149"/>
                  </a:cubicBezTo>
                  <a:cubicBezTo>
                    <a:pt x="0" y="10410"/>
                    <a:pt x="745" y="10410"/>
                    <a:pt x="745" y="10670"/>
                  </a:cubicBezTo>
                  <a:cubicBezTo>
                    <a:pt x="745" y="11190"/>
                    <a:pt x="745" y="11451"/>
                    <a:pt x="993" y="11711"/>
                  </a:cubicBezTo>
                  <a:cubicBezTo>
                    <a:pt x="1490" y="12231"/>
                    <a:pt x="1241" y="13533"/>
                    <a:pt x="745" y="14053"/>
                  </a:cubicBezTo>
                  <a:cubicBezTo>
                    <a:pt x="497" y="14313"/>
                    <a:pt x="248" y="14573"/>
                    <a:pt x="0" y="15094"/>
                  </a:cubicBezTo>
                  <a:cubicBezTo>
                    <a:pt x="0" y="15875"/>
                    <a:pt x="497" y="15354"/>
                    <a:pt x="745" y="15614"/>
                  </a:cubicBezTo>
                  <a:cubicBezTo>
                    <a:pt x="745" y="15614"/>
                    <a:pt x="0" y="16655"/>
                    <a:pt x="248" y="16916"/>
                  </a:cubicBezTo>
                  <a:cubicBezTo>
                    <a:pt x="497" y="16916"/>
                    <a:pt x="745" y="17176"/>
                    <a:pt x="993" y="17176"/>
                  </a:cubicBezTo>
                  <a:cubicBezTo>
                    <a:pt x="1986" y="17957"/>
                    <a:pt x="2979" y="18477"/>
                    <a:pt x="3724" y="18998"/>
                  </a:cubicBezTo>
                  <a:cubicBezTo>
                    <a:pt x="4469" y="19258"/>
                    <a:pt x="4717" y="19258"/>
                    <a:pt x="4717" y="20039"/>
                  </a:cubicBezTo>
                  <a:cubicBezTo>
                    <a:pt x="4717" y="20559"/>
                    <a:pt x="6207" y="21340"/>
                    <a:pt x="6455" y="21600"/>
                  </a:cubicBezTo>
                  <a:cubicBezTo>
                    <a:pt x="6952" y="20819"/>
                    <a:pt x="7200" y="20299"/>
                    <a:pt x="7448" y="19778"/>
                  </a:cubicBezTo>
                  <a:cubicBezTo>
                    <a:pt x="7448" y="19258"/>
                    <a:pt x="7697" y="18737"/>
                    <a:pt x="8193" y="18737"/>
                  </a:cubicBezTo>
                  <a:cubicBezTo>
                    <a:pt x="8441" y="18477"/>
                    <a:pt x="8441" y="18217"/>
                    <a:pt x="8690" y="17957"/>
                  </a:cubicBezTo>
                  <a:cubicBezTo>
                    <a:pt x="9186" y="17696"/>
                    <a:pt x="9434" y="17436"/>
                    <a:pt x="9931" y="16916"/>
                  </a:cubicBezTo>
                  <a:cubicBezTo>
                    <a:pt x="11172" y="14834"/>
                    <a:pt x="12910" y="13793"/>
                    <a:pt x="14648" y="12492"/>
                  </a:cubicBezTo>
                  <a:cubicBezTo>
                    <a:pt x="16883" y="10930"/>
                    <a:pt x="18124" y="8588"/>
                    <a:pt x="19117" y="6246"/>
                  </a:cubicBezTo>
                  <a:cubicBezTo>
                    <a:pt x="19614" y="5205"/>
                    <a:pt x="20359" y="4684"/>
                    <a:pt x="20855" y="3643"/>
                  </a:cubicBezTo>
                  <a:cubicBezTo>
                    <a:pt x="21103" y="3123"/>
                    <a:pt x="21103" y="2342"/>
                    <a:pt x="21352" y="1822"/>
                  </a:cubicBezTo>
                  <a:cubicBezTo>
                    <a:pt x="21352" y="1561"/>
                    <a:pt x="21103" y="520"/>
                    <a:pt x="21352" y="260"/>
                  </a:cubicBezTo>
                  <a:cubicBezTo>
                    <a:pt x="21352" y="260"/>
                    <a:pt x="21352" y="260"/>
                    <a:pt x="21352" y="2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3" name="Shape 1387"/>
            <p:cNvSpPr/>
            <p:nvPr/>
          </p:nvSpPr>
          <p:spPr>
            <a:xfrm>
              <a:off x="9071280" y="4037760"/>
              <a:ext cx="31680" cy="37440"/>
            </a:xfrm>
            <a:custGeom>
              <a:avLst/>
              <a:gdLst/>
              <a:ahLst/>
              <a:rect l="l" t="t" r="r" b="b"/>
              <a:pathLst>
                <a:path w="19582" h="18761">
                  <a:moveTo>
                    <a:pt x="7200" y="2737"/>
                  </a:moveTo>
                  <a:cubicBezTo>
                    <a:pt x="4800" y="4701"/>
                    <a:pt x="2400" y="6665"/>
                    <a:pt x="2400" y="8628"/>
                  </a:cubicBezTo>
                  <a:cubicBezTo>
                    <a:pt x="0" y="8628"/>
                    <a:pt x="0" y="16483"/>
                    <a:pt x="0" y="18446"/>
                  </a:cubicBezTo>
                  <a:cubicBezTo>
                    <a:pt x="4800" y="20410"/>
                    <a:pt x="16800" y="12555"/>
                    <a:pt x="19200" y="12555"/>
                  </a:cubicBezTo>
                  <a:cubicBezTo>
                    <a:pt x="19200" y="10592"/>
                    <a:pt x="12000" y="8628"/>
                    <a:pt x="9600" y="10592"/>
                  </a:cubicBezTo>
                  <a:cubicBezTo>
                    <a:pt x="12000" y="8628"/>
                    <a:pt x="21600" y="6665"/>
                    <a:pt x="19200" y="4701"/>
                  </a:cubicBezTo>
                  <a:cubicBezTo>
                    <a:pt x="16800" y="-1190"/>
                    <a:pt x="12000" y="-1190"/>
                    <a:pt x="7200" y="2737"/>
                  </a:cubicBezTo>
                  <a:close/>
                </a:path>
              </a:pathLst>
            </a:custGeom>
            <a:solidFill>
              <a:srgbClr val="dadbdf"/>
            </a:solidFill>
            <a:ln w="4680">
              <a:solidFill>
                <a:srgbClr val="ffffff"/>
              </a:solidFill>
              <a:round/>
            </a:ln>
          </p:spPr>
          <p:style>
            <a:lnRef idx="0"/>
            <a:fillRef idx="0"/>
            <a:effectRef idx="0"/>
            <a:fontRef idx="minor"/>
          </p:style>
          <p:txBody>
            <a:bodyPr lIns="45360" rIns="45360" tIns="-9360" bIns="-9360" anchor="t">
              <a:noAutofit/>
            </a:bodyPr>
            <a:p>
              <a:endParaRPr b="0" lang="en-US" sz="1800" spc="-1" strike="noStrike">
                <a:solidFill>
                  <a:srgbClr val="000000"/>
                </a:solidFill>
                <a:latin typeface="Calibri"/>
              </a:endParaRPr>
            </a:p>
          </p:txBody>
        </p:sp>
        <p:sp>
          <p:nvSpPr>
            <p:cNvPr id="774" name="Shape 1388"/>
            <p:cNvSpPr/>
            <p:nvPr/>
          </p:nvSpPr>
          <p:spPr>
            <a:xfrm>
              <a:off x="8834040" y="4209120"/>
              <a:ext cx="102240" cy="108000"/>
            </a:xfrm>
            <a:custGeom>
              <a:avLst/>
              <a:gdLst/>
              <a:ahLst/>
              <a:rect l="l" t="t" r="r" b="b"/>
              <a:pathLst>
                <a:path w="21600" h="21148">
                  <a:moveTo>
                    <a:pt x="18277" y="13886"/>
                  </a:moveTo>
                  <a:cubicBezTo>
                    <a:pt x="18277" y="12343"/>
                    <a:pt x="19938" y="11571"/>
                    <a:pt x="20769" y="10800"/>
                  </a:cubicBezTo>
                  <a:cubicBezTo>
                    <a:pt x="21600" y="10029"/>
                    <a:pt x="21600" y="7714"/>
                    <a:pt x="21600" y="6171"/>
                  </a:cubicBezTo>
                  <a:cubicBezTo>
                    <a:pt x="21600" y="4629"/>
                    <a:pt x="19938" y="3857"/>
                    <a:pt x="19938" y="2314"/>
                  </a:cubicBezTo>
                  <a:cubicBezTo>
                    <a:pt x="19938" y="771"/>
                    <a:pt x="18277" y="771"/>
                    <a:pt x="17446" y="0"/>
                  </a:cubicBezTo>
                  <a:cubicBezTo>
                    <a:pt x="16615" y="771"/>
                    <a:pt x="14954" y="0"/>
                    <a:pt x="13292" y="771"/>
                  </a:cubicBezTo>
                  <a:cubicBezTo>
                    <a:pt x="12462" y="1543"/>
                    <a:pt x="10800" y="3086"/>
                    <a:pt x="9969" y="2314"/>
                  </a:cubicBezTo>
                  <a:cubicBezTo>
                    <a:pt x="8308" y="771"/>
                    <a:pt x="5815" y="0"/>
                    <a:pt x="4985" y="1543"/>
                  </a:cubicBezTo>
                  <a:cubicBezTo>
                    <a:pt x="4154" y="3086"/>
                    <a:pt x="4985" y="5400"/>
                    <a:pt x="5815" y="6171"/>
                  </a:cubicBezTo>
                  <a:cubicBezTo>
                    <a:pt x="6646" y="7714"/>
                    <a:pt x="5815" y="7714"/>
                    <a:pt x="4985" y="9257"/>
                  </a:cubicBezTo>
                  <a:cubicBezTo>
                    <a:pt x="4154" y="10800"/>
                    <a:pt x="2492" y="11571"/>
                    <a:pt x="1662" y="12343"/>
                  </a:cubicBezTo>
                  <a:cubicBezTo>
                    <a:pt x="831" y="13886"/>
                    <a:pt x="0" y="14657"/>
                    <a:pt x="0" y="16971"/>
                  </a:cubicBezTo>
                  <a:cubicBezTo>
                    <a:pt x="0" y="17743"/>
                    <a:pt x="831" y="19286"/>
                    <a:pt x="0" y="20829"/>
                  </a:cubicBezTo>
                  <a:cubicBezTo>
                    <a:pt x="1662" y="21600"/>
                    <a:pt x="1662" y="20829"/>
                    <a:pt x="3323" y="20057"/>
                  </a:cubicBezTo>
                  <a:cubicBezTo>
                    <a:pt x="4985" y="19286"/>
                    <a:pt x="7477" y="19286"/>
                    <a:pt x="9138" y="19286"/>
                  </a:cubicBezTo>
                  <a:cubicBezTo>
                    <a:pt x="8308" y="16971"/>
                    <a:pt x="9969" y="16200"/>
                    <a:pt x="11631" y="15429"/>
                  </a:cubicBezTo>
                  <a:cubicBezTo>
                    <a:pt x="13292" y="14657"/>
                    <a:pt x="16615" y="13114"/>
                    <a:pt x="17446" y="15429"/>
                  </a:cubicBezTo>
                  <a:cubicBezTo>
                    <a:pt x="17446" y="14657"/>
                    <a:pt x="17446" y="13886"/>
                    <a:pt x="18277" y="13886"/>
                  </a:cubicBezTo>
                  <a:cubicBezTo>
                    <a:pt x="18277" y="12343"/>
                    <a:pt x="17446" y="13886"/>
                    <a:pt x="18277" y="1388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5" name="Shape 1389"/>
            <p:cNvSpPr/>
            <p:nvPr/>
          </p:nvSpPr>
          <p:spPr>
            <a:xfrm>
              <a:off x="8821800" y="4335840"/>
              <a:ext cx="35640" cy="38880"/>
            </a:xfrm>
            <a:custGeom>
              <a:avLst/>
              <a:gdLst/>
              <a:ahLst/>
              <a:rect l="l" t="t" r="r" b="b"/>
              <a:pathLst>
                <a:path w="19731" h="21600">
                  <a:moveTo>
                    <a:pt x="2160" y="12960"/>
                  </a:moveTo>
                  <a:cubicBezTo>
                    <a:pt x="4320" y="15120"/>
                    <a:pt x="4320" y="19440"/>
                    <a:pt x="6480" y="21600"/>
                  </a:cubicBezTo>
                  <a:cubicBezTo>
                    <a:pt x="10800" y="19440"/>
                    <a:pt x="15120" y="15120"/>
                    <a:pt x="19440" y="10800"/>
                  </a:cubicBezTo>
                  <a:cubicBezTo>
                    <a:pt x="21600" y="6480"/>
                    <a:pt x="10800" y="8640"/>
                    <a:pt x="17280" y="0"/>
                  </a:cubicBezTo>
                  <a:cubicBezTo>
                    <a:pt x="15120" y="0"/>
                    <a:pt x="6480" y="0"/>
                    <a:pt x="8640" y="2160"/>
                  </a:cubicBezTo>
                  <a:cubicBezTo>
                    <a:pt x="10800" y="6480"/>
                    <a:pt x="2160" y="4320"/>
                    <a:pt x="0" y="2160"/>
                  </a:cubicBezTo>
                  <a:cubicBezTo>
                    <a:pt x="0" y="6480"/>
                    <a:pt x="2160" y="8640"/>
                    <a:pt x="2160" y="12960"/>
                  </a:cubicBezTo>
                  <a:close/>
                </a:path>
              </a:pathLst>
            </a:custGeom>
            <a:solidFill>
              <a:srgbClr val="dadbdf"/>
            </a:solidFill>
            <a:ln w="4680">
              <a:solidFill>
                <a:srgbClr val="ffffff"/>
              </a:solidFill>
              <a:round/>
            </a:ln>
          </p:spPr>
          <p:style>
            <a:lnRef idx="0"/>
            <a:fillRef idx="0"/>
            <a:effectRef idx="0"/>
            <a:fontRef idx="minor"/>
          </p:style>
          <p:txBody>
            <a:bodyPr lIns="45360" rIns="45360" tIns="-7920" bIns="-7920" anchor="t">
              <a:noAutofit/>
            </a:bodyPr>
            <a:p>
              <a:endParaRPr b="0" lang="en-US" sz="1800" spc="-1" strike="noStrike">
                <a:solidFill>
                  <a:srgbClr val="000000"/>
                </a:solidFill>
                <a:latin typeface="Calibri"/>
              </a:endParaRPr>
            </a:p>
          </p:txBody>
        </p:sp>
        <p:sp>
          <p:nvSpPr>
            <p:cNvPr id="776" name="Shape 1390"/>
            <p:cNvSpPr/>
            <p:nvPr/>
          </p:nvSpPr>
          <p:spPr>
            <a:xfrm>
              <a:off x="8821800" y="4311720"/>
              <a:ext cx="36360" cy="32760"/>
            </a:xfrm>
            <a:custGeom>
              <a:avLst/>
              <a:gdLst/>
              <a:ahLst/>
              <a:rect l="l" t="t" r="r" b="b"/>
              <a:pathLst>
                <a:path w="18260" h="19571">
                  <a:moveTo>
                    <a:pt x="5891" y="2400"/>
                  </a:moveTo>
                  <a:cubicBezTo>
                    <a:pt x="1964" y="4800"/>
                    <a:pt x="0" y="12000"/>
                    <a:pt x="0" y="16800"/>
                  </a:cubicBezTo>
                  <a:cubicBezTo>
                    <a:pt x="1964" y="19200"/>
                    <a:pt x="9818" y="21600"/>
                    <a:pt x="7855" y="16800"/>
                  </a:cubicBezTo>
                  <a:cubicBezTo>
                    <a:pt x="5891" y="14400"/>
                    <a:pt x="13745" y="14400"/>
                    <a:pt x="15709" y="14400"/>
                  </a:cubicBezTo>
                  <a:cubicBezTo>
                    <a:pt x="21600" y="12000"/>
                    <a:pt x="15709" y="2400"/>
                    <a:pt x="13745" y="0"/>
                  </a:cubicBezTo>
                  <a:cubicBezTo>
                    <a:pt x="9818" y="2400"/>
                    <a:pt x="9818" y="4800"/>
                    <a:pt x="5891" y="2400"/>
                  </a:cubicBezTo>
                  <a:cubicBezTo>
                    <a:pt x="3927" y="2400"/>
                    <a:pt x="7855" y="2400"/>
                    <a:pt x="5891" y="24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777" name="Shape 1391"/>
            <p:cNvSpPr/>
            <p:nvPr/>
          </p:nvSpPr>
          <p:spPr>
            <a:xfrm>
              <a:off x="8832960" y="4305960"/>
              <a:ext cx="209880" cy="217800"/>
            </a:xfrm>
            <a:custGeom>
              <a:avLst/>
              <a:gdLst/>
              <a:ahLst/>
              <a:rect l="l" t="t" r="r" b="b"/>
              <a:pathLst>
                <a:path w="21300" h="20411">
                  <a:moveTo>
                    <a:pt x="16100" y="4243"/>
                  </a:moveTo>
                  <a:cubicBezTo>
                    <a:pt x="13700" y="2754"/>
                    <a:pt x="11300" y="1636"/>
                    <a:pt x="8900" y="519"/>
                  </a:cubicBezTo>
                  <a:cubicBezTo>
                    <a:pt x="8500" y="1264"/>
                    <a:pt x="7300" y="2009"/>
                    <a:pt x="6500" y="2009"/>
                  </a:cubicBezTo>
                  <a:cubicBezTo>
                    <a:pt x="6500" y="2009"/>
                    <a:pt x="8100" y="2381"/>
                    <a:pt x="8100" y="2754"/>
                  </a:cubicBezTo>
                  <a:cubicBezTo>
                    <a:pt x="7700" y="3126"/>
                    <a:pt x="6900" y="2754"/>
                    <a:pt x="6500" y="2754"/>
                  </a:cubicBezTo>
                  <a:cubicBezTo>
                    <a:pt x="5700" y="2381"/>
                    <a:pt x="5700" y="2754"/>
                    <a:pt x="4900" y="3126"/>
                  </a:cubicBezTo>
                  <a:cubicBezTo>
                    <a:pt x="4900" y="3126"/>
                    <a:pt x="4100" y="2754"/>
                    <a:pt x="4100" y="2381"/>
                  </a:cubicBezTo>
                  <a:cubicBezTo>
                    <a:pt x="3700" y="2009"/>
                    <a:pt x="4100" y="1264"/>
                    <a:pt x="4500" y="892"/>
                  </a:cubicBezTo>
                  <a:cubicBezTo>
                    <a:pt x="4900" y="-598"/>
                    <a:pt x="2500" y="147"/>
                    <a:pt x="1700" y="519"/>
                  </a:cubicBezTo>
                  <a:cubicBezTo>
                    <a:pt x="2100" y="892"/>
                    <a:pt x="2900" y="2009"/>
                    <a:pt x="2500" y="2381"/>
                  </a:cubicBezTo>
                  <a:cubicBezTo>
                    <a:pt x="2500" y="2754"/>
                    <a:pt x="900" y="3871"/>
                    <a:pt x="1700" y="3871"/>
                  </a:cubicBezTo>
                  <a:cubicBezTo>
                    <a:pt x="2900" y="4243"/>
                    <a:pt x="2500" y="4616"/>
                    <a:pt x="2100" y="5361"/>
                  </a:cubicBezTo>
                  <a:cubicBezTo>
                    <a:pt x="1700" y="5361"/>
                    <a:pt x="900" y="5733"/>
                    <a:pt x="500" y="6105"/>
                  </a:cubicBezTo>
                  <a:cubicBezTo>
                    <a:pt x="-300" y="6478"/>
                    <a:pt x="100" y="6478"/>
                    <a:pt x="100" y="7223"/>
                  </a:cubicBezTo>
                  <a:cubicBezTo>
                    <a:pt x="500" y="9085"/>
                    <a:pt x="1300" y="10202"/>
                    <a:pt x="1700" y="11692"/>
                  </a:cubicBezTo>
                  <a:cubicBezTo>
                    <a:pt x="1700" y="13554"/>
                    <a:pt x="3300" y="14299"/>
                    <a:pt x="4500" y="15043"/>
                  </a:cubicBezTo>
                  <a:cubicBezTo>
                    <a:pt x="4900" y="15416"/>
                    <a:pt x="5300" y="15416"/>
                    <a:pt x="5700" y="15416"/>
                  </a:cubicBezTo>
                  <a:cubicBezTo>
                    <a:pt x="6100" y="15416"/>
                    <a:pt x="6100" y="15788"/>
                    <a:pt x="6500" y="16161"/>
                  </a:cubicBezTo>
                  <a:cubicBezTo>
                    <a:pt x="7300" y="16161"/>
                    <a:pt x="8500" y="16161"/>
                    <a:pt x="9300" y="16905"/>
                  </a:cubicBezTo>
                  <a:cubicBezTo>
                    <a:pt x="9700" y="17278"/>
                    <a:pt x="9700" y="18395"/>
                    <a:pt x="9700" y="19140"/>
                  </a:cubicBezTo>
                  <a:cubicBezTo>
                    <a:pt x="10100" y="19512"/>
                    <a:pt x="9700" y="19885"/>
                    <a:pt x="10500" y="19885"/>
                  </a:cubicBezTo>
                  <a:cubicBezTo>
                    <a:pt x="10900" y="19885"/>
                    <a:pt x="11300" y="19885"/>
                    <a:pt x="11700" y="19885"/>
                  </a:cubicBezTo>
                  <a:cubicBezTo>
                    <a:pt x="12100" y="19885"/>
                    <a:pt x="12500" y="19885"/>
                    <a:pt x="12900" y="20257"/>
                  </a:cubicBezTo>
                  <a:cubicBezTo>
                    <a:pt x="13300" y="20630"/>
                    <a:pt x="13700" y="20257"/>
                    <a:pt x="14100" y="19885"/>
                  </a:cubicBezTo>
                  <a:cubicBezTo>
                    <a:pt x="14900" y="19512"/>
                    <a:pt x="15700" y="21002"/>
                    <a:pt x="16500" y="19885"/>
                  </a:cubicBezTo>
                  <a:cubicBezTo>
                    <a:pt x="16500" y="19140"/>
                    <a:pt x="17700" y="19512"/>
                    <a:pt x="18100" y="19512"/>
                  </a:cubicBezTo>
                  <a:cubicBezTo>
                    <a:pt x="19300" y="19140"/>
                    <a:pt x="20100" y="18395"/>
                    <a:pt x="21300" y="17650"/>
                  </a:cubicBezTo>
                  <a:cubicBezTo>
                    <a:pt x="19300" y="16533"/>
                    <a:pt x="19300" y="15043"/>
                    <a:pt x="19300" y="12809"/>
                  </a:cubicBezTo>
                  <a:cubicBezTo>
                    <a:pt x="18900" y="12436"/>
                    <a:pt x="19700" y="11692"/>
                    <a:pt x="19300" y="11319"/>
                  </a:cubicBezTo>
                  <a:cubicBezTo>
                    <a:pt x="18900" y="10947"/>
                    <a:pt x="18100" y="10574"/>
                    <a:pt x="18100" y="9830"/>
                  </a:cubicBezTo>
                  <a:cubicBezTo>
                    <a:pt x="18100" y="9457"/>
                    <a:pt x="18900" y="6850"/>
                    <a:pt x="18900" y="6850"/>
                  </a:cubicBezTo>
                  <a:cubicBezTo>
                    <a:pt x="18500" y="6850"/>
                    <a:pt x="18100" y="6478"/>
                    <a:pt x="17700" y="6105"/>
                  </a:cubicBezTo>
                  <a:cubicBezTo>
                    <a:pt x="17300" y="5733"/>
                    <a:pt x="16900" y="5733"/>
                    <a:pt x="16100" y="5361"/>
                  </a:cubicBezTo>
                  <a:cubicBezTo>
                    <a:pt x="16100" y="4988"/>
                    <a:pt x="16100" y="4616"/>
                    <a:pt x="16100" y="424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8" name="Shape 1392"/>
            <p:cNvSpPr/>
            <p:nvPr/>
          </p:nvSpPr>
          <p:spPr>
            <a:xfrm>
              <a:off x="8442720" y="4244400"/>
              <a:ext cx="105480" cy="122400"/>
            </a:xfrm>
            <a:custGeom>
              <a:avLst/>
              <a:gdLst/>
              <a:ahLst/>
              <a:rect l="l" t="t" r="r" b="b"/>
              <a:pathLst>
                <a:path w="21400" h="21600">
                  <a:moveTo>
                    <a:pt x="12000" y="20206"/>
                  </a:moveTo>
                  <a:cubicBezTo>
                    <a:pt x="12000" y="19510"/>
                    <a:pt x="10400" y="16723"/>
                    <a:pt x="12000" y="16723"/>
                  </a:cubicBezTo>
                  <a:cubicBezTo>
                    <a:pt x="12000" y="16723"/>
                    <a:pt x="13600" y="16723"/>
                    <a:pt x="13600" y="16723"/>
                  </a:cubicBezTo>
                  <a:cubicBezTo>
                    <a:pt x="14400" y="16026"/>
                    <a:pt x="14400" y="14632"/>
                    <a:pt x="15200" y="14632"/>
                  </a:cubicBezTo>
                  <a:cubicBezTo>
                    <a:pt x="16000" y="15329"/>
                    <a:pt x="16800" y="16026"/>
                    <a:pt x="16800" y="16723"/>
                  </a:cubicBezTo>
                  <a:cubicBezTo>
                    <a:pt x="17600" y="17419"/>
                    <a:pt x="17600" y="16026"/>
                    <a:pt x="19200" y="16026"/>
                  </a:cubicBezTo>
                  <a:cubicBezTo>
                    <a:pt x="19200" y="16026"/>
                    <a:pt x="20800" y="17419"/>
                    <a:pt x="20800" y="16723"/>
                  </a:cubicBezTo>
                  <a:cubicBezTo>
                    <a:pt x="20800" y="16026"/>
                    <a:pt x="20800" y="15329"/>
                    <a:pt x="20800" y="14632"/>
                  </a:cubicBezTo>
                  <a:cubicBezTo>
                    <a:pt x="21600" y="13239"/>
                    <a:pt x="21600" y="11148"/>
                    <a:pt x="20800" y="9755"/>
                  </a:cubicBezTo>
                  <a:cubicBezTo>
                    <a:pt x="20000" y="9058"/>
                    <a:pt x="20000" y="8361"/>
                    <a:pt x="20000" y="7665"/>
                  </a:cubicBezTo>
                  <a:cubicBezTo>
                    <a:pt x="20000" y="6271"/>
                    <a:pt x="21600" y="5574"/>
                    <a:pt x="20800" y="4181"/>
                  </a:cubicBezTo>
                  <a:cubicBezTo>
                    <a:pt x="20000" y="2090"/>
                    <a:pt x="16800" y="4877"/>
                    <a:pt x="16800" y="2787"/>
                  </a:cubicBezTo>
                  <a:cubicBezTo>
                    <a:pt x="16800" y="1394"/>
                    <a:pt x="17600" y="0"/>
                    <a:pt x="15200" y="0"/>
                  </a:cubicBezTo>
                  <a:cubicBezTo>
                    <a:pt x="14400" y="0"/>
                    <a:pt x="12800" y="0"/>
                    <a:pt x="11200" y="0"/>
                  </a:cubicBezTo>
                  <a:cubicBezTo>
                    <a:pt x="8000" y="0"/>
                    <a:pt x="12000" y="4877"/>
                    <a:pt x="8800" y="4877"/>
                  </a:cubicBezTo>
                  <a:cubicBezTo>
                    <a:pt x="7200" y="4877"/>
                    <a:pt x="5600" y="4877"/>
                    <a:pt x="4000" y="4877"/>
                  </a:cubicBezTo>
                  <a:cubicBezTo>
                    <a:pt x="3200" y="4877"/>
                    <a:pt x="3200" y="4877"/>
                    <a:pt x="3200" y="4877"/>
                  </a:cubicBezTo>
                  <a:cubicBezTo>
                    <a:pt x="1600" y="6271"/>
                    <a:pt x="3200" y="6271"/>
                    <a:pt x="3200" y="6968"/>
                  </a:cubicBezTo>
                  <a:cubicBezTo>
                    <a:pt x="3200" y="8361"/>
                    <a:pt x="0" y="9755"/>
                    <a:pt x="0" y="11148"/>
                  </a:cubicBezTo>
                  <a:cubicBezTo>
                    <a:pt x="800" y="12542"/>
                    <a:pt x="2400" y="14632"/>
                    <a:pt x="3200" y="16026"/>
                  </a:cubicBezTo>
                  <a:cubicBezTo>
                    <a:pt x="4800" y="16723"/>
                    <a:pt x="5600" y="18116"/>
                    <a:pt x="7200" y="19510"/>
                  </a:cubicBezTo>
                  <a:cubicBezTo>
                    <a:pt x="8000" y="20206"/>
                    <a:pt x="8800" y="20903"/>
                    <a:pt x="8800" y="21600"/>
                  </a:cubicBezTo>
                  <a:cubicBezTo>
                    <a:pt x="9600" y="20903"/>
                    <a:pt x="11200" y="20903"/>
                    <a:pt x="12000" y="20206"/>
                  </a:cubicBezTo>
                  <a:cubicBezTo>
                    <a:pt x="12000" y="20206"/>
                    <a:pt x="11200" y="20903"/>
                    <a:pt x="12000" y="2020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9" name="Shape 1393"/>
            <p:cNvSpPr/>
            <p:nvPr/>
          </p:nvSpPr>
          <p:spPr>
            <a:xfrm>
              <a:off x="8449560" y="4244400"/>
              <a:ext cx="44280" cy="28080"/>
            </a:xfrm>
            <a:custGeom>
              <a:avLst/>
              <a:gdLst/>
              <a:ahLst/>
              <a:rect l="l" t="t" r="r" b="b"/>
              <a:pathLst>
                <a:path w="21600" h="21600">
                  <a:moveTo>
                    <a:pt x="21600" y="21600"/>
                  </a:moveTo>
                  <a:cubicBezTo>
                    <a:pt x="21600" y="15429"/>
                    <a:pt x="21600" y="6171"/>
                    <a:pt x="21600" y="0"/>
                  </a:cubicBezTo>
                  <a:cubicBezTo>
                    <a:pt x="15709" y="0"/>
                    <a:pt x="11782" y="3086"/>
                    <a:pt x="5891" y="3086"/>
                  </a:cubicBezTo>
                  <a:cubicBezTo>
                    <a:pt x="7855" y="6171"/>
                    <a:pt x="1964" y="9257"/>
                    <a:pt x="0" y="12343"/>
                  </a:cubicBezTo>
                  <a:cubicBezTo>
                    <a:pt x="0" y="15429"/>
                    <a:pt x="3927" y="18514"/>
                    <a:pt x="3927" y="21600"/>
                  </a:cubicBezTo>
                  <a:lnTo>
                    <a:pt x="21600" y="21600"/>
                  </a:ln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780" name="Shape 1394"/>
            <p:cNvSpPr/>
            <p:nvPr/>
          </p:nvSpPr>
          <p:spPr>
            <a:xfrm>
              <a:off x="8437680" y="4031280"/>
              <a:ext cx="142560" cy="220680"/>
            </a:xfrm>
            <a:custGeom>
              <a:avLst/>
              <a:gdLst/>
              <a:ahLst/>
              <a:rect l="l" t="t" r="r" b="b"/>
              <a:pathLst>
                <a:path w="21180" h="21179">
                  <a:moveTo>
                    <a:pt x="16510" y="20842"/>
                  </a:moveTo>
                  <a:cubicBezTo>
                    <a:pt x="18261" y="20842"/>
                    <a:pt x="20012" y="21600"/>
                    <a:pt x="21180" y="20842"/>
                  </a:cubicBezTo>
                  <a:cubicBezTo>
                    <a:pt x="21180" y="19326"/>
                    <a:pt x="20012" y="18947"/>
                    <a:pt x="18845" y="18189"/>
                  </a:cubicBezTo>
                  <a:cubicBezTo>
                    <a:pt x="18261" y="17811"/>
                    <a:pt x="18261" y="17432"/>
                    <a:pt x="18261" y="16674"/>
                  </a:cubicBezTo>
                  <a:cubicBezTo>
                    <a:pt x="17677" y="16295"/>
                    <a:pt x="17094" y="15916"/>
                    <a:pt x="17094" y="15158"/>
                  </a:cubicBezTo>
                  <a:cubicBezTo>
                    <a:pt x="16510" y="13642"/>
                    <a:pt x="17677" y="13263"/>
                    <a:pt x="18261" y="12126"/>
                  </a:cubicBezTo>
                  <a:cubicBezTo>
                    <a:pt x="18845" y="11368"/>
                    <a:pt x="19429" y="10989"/>
                    <a:pt x="19429" y="10232"/>
                  </a:cubicBezTo>
                  <a:cubicBezTo>
                    <a:pt x="18845" y="9474"/>
                    <a:pt x="18845" y="8716"/>
                    <a:pt x="17677" y="7958"/>
                  </a:cubicBezTo>
                  <a:cubicBezTo>
                    <a:pt x="17677" y="7958"/>
                    <a:pt x="14758" y="6821"/>
                    <a:pt x="15926" y="6063"/>
                  </a:cubicBezTo>
                  <a:cubicBezTo>
                    <a:pt x="16510" y="5684"/>
                    <a:pt x="18261" y="6063"/>
                    <a:pt x="19429" y="6063"/>
                  </a:cubicBezTo>
                  <a:cubicBezTo>
                    <a:pt x="18261" y="4547"/>
                    <a:pt x="18261" y="3789"/>
                    <a:pt x="18261" y="2274"/>
                  </a:cubicBezTo>
                  <a:cubicBezTo>
                    <a:pt x="18261" y="1895"/>
                    <a:pt x="18261" y="1137"/>
                    <a:pt x="17094" y="758"/>
                  </a:cubicBezTo>
                  <a:cubicBezTo>
                    <a:pt x="17094" y="379"/>
                    <a:pt x="15342" y="0"/>
                    <a:pt x="15342" y="0"/>
                  </a:cubicBezTo>
                  <a:cubicBezTo>
                    <a:pt x="15342" y="758"/>
                    <a:pt x="18845" y="2653"/>
                    <a:pt x="15926" y="3411"/>
                  </a:cubicBezTo>
                  <a:cubicBezTo>
                    <a:pt x="14175" y="4168"/>
                    <a:pt x="13591" y="5305"/>
                    <a:pt x="13007" y="6821"/>
                  </a:cubicBezTo>
                  <a:cubicBezTo>
                    <a:pt x="12423" y="7200"/>
                    <a:pt x="12423" y="8337"/>
                    <a:pt x="11839" y="8337"/>
                  </a:cubicBezTo>
                  <a:cubicBezTo>
                    <a:pt x="10672" y="8716"/>
                    <a:pt x="10672" y="9474"/>
                    <a:pt x="10088" y="10232"/>
                  </a:cubicBezTo>
                  <a:cubicBezTo>
                    <a:pt x="9504" y="10989"/>
                    <a:pt x="8921" y="11747"/>
                    <a:pt x="8337" y="12505"/>
                  </a:cubicBezTo>
                  <a:cubicBezTo>
                    <a:pt x="7169" y="13263"/>
                    <a:pt x="6585" y="11747"/>
                    <a:pt x="6002" y="11747"/>
                  </a:cubicBezTo>
                  <a:cubicBezTo>
                    <a:pt x="3083" y="11747"/>
                    <a:pt x="1331" y="13263"/>
                    <a:pt x="748" y="14779"/>
                  </a:cubicBezTo>
                  <a:cubicBezTo>
                    <a:pt x="748" y="15158"/>
                    <a:pt x="-420" y="15537"/>
                    <a:pt x="164" y="15916"/>
                  </a:cubicBezTo>
                  <a:cubicBezTo>
                    <a:pt x="748" y="16295"/>
                    <a:pt x="1331" y="16674"/>
                    <a:pt x="1915" y="17053"/>
                  </a:cubicBezTo>
                  <a:cubicBezTo>
                    <a:pt x="1915" y="17432"/>
                    <a:pt x="2499" y="16674"/>
                    <a:pt x="2499" y="17053"/>
                  </a:cubicBezTo>
                  <a:cubicBezTo>
                    <a:pt x="3083" y="17432"/>
                    <a:pt x="3666" y="17811"/>
                    <a:pt x="3666" y="18189"/>
                  </a:cubicBezTo>
                  <a:cubicBezTo>
                    <a:pt x="4250" y="18947"/>
                    <a:pt x="3666" y="20084"/>
                    <a:pt x="3666" y="20842"/>
                  </a:cubicBezTo>
                  <a:cubicBezTo>
                    <a:pt x="5418" y="20463"/>
                    <a:pt x="7169" y="20463"/>
                    <a:pt x="8921" y="20463"/>
                  </a:cubicBezTo>
                  <a:cubicBezTo>
                    <a:pt x="11256" y="20463"/>
                    <a:pt x="14175" y="20842"/>
                    <a:pt x="16510" y="2084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1" name="Shape 1395"/>
            <p:cNvSpPr/>
            <p:nvPr/>
          </p:nvSpPr>
          <p:spPr>
            <a:xfrm>
              <a:off x="8282520" y="4042080"/>
              <a:ext cx="56160" cy="122400"/>
            </a:xfrm>
            <a:custGeom>
              <a:avLst/>
              <a:gdLst/>
              <a:ahLst/>
              <a:rect l="l" t="t" r="r" b="b"/>
              <a:pathLst>
                <a:path w="20552" h="21600">
                  <a:moveTo>
                    <a:pt x="14792" y="0"/>
                  </a:moveTo>
                  <a:cubicBezTo>
                    <a:pt x="11912" y="1394"/>
                    <a:pt x="13352" y="1394"/>
                    <a:pt x="11912" y="2787"/>
                  </a:cubicBezTo>
                  <a:cubicBezTo>
                    <a:pt x="10472" y="4181"/>
                    <a:pt x="7592" y="3484"/>
                    <a:pt x="4712" y="3484"/>
                  </a:cubicBezTo>
                  <a:cubicBezTo>
                    <a:pt x="4712" y="3484"/>
                    <a:pt x="1832" y="4877"/>
                    <a:pt x="392" y="5574"/>
                  </a:cubicBezTo>
                  <a:cubicBezTo>
                    <a:pt x="-1048" y="6271"/>
                    <a:pt x="1832" y="7665"/>
                    <a:pt x="3272" y="9058"/>
                  </a:cubicBezTo>
                  <a:cubicBezTo>
                    <a:pt x="9032" y="12542"/>
                    <a:pt x="4712" y="17419"/>
                    <a:pt x="7592" y="21600"/>
                  </a:cubicBezTo>
                  <a:cubicBezTo>
                    <a:pt x="9032" y="21600"/>
                    <a:pt x="11912" y="21600"/>
                    <a:pt x="14792" y="20903"/>
                  </a:cubicBezTo>
                  <a:cubicBezTo>
                    <a:pt x="16232" y="20903"/>
                    <a:pt x="16232" y="20206"/>
                    <a:pt x="14792" y="18813"/>
                  </a:cubicBezTo>
                  <a:cubicBezTo>
                    <a:pt x="14792" y="16723"/>
                    <a:pt x="14792" y="14632"/>
                    <a:pt x="14792" y="12542"/>
                  </a:cubicBezTo>
                  <a:cubicBezTo>
                    <a:pt x="14792" y="9755"/>
                    <a:pt x="19112" y="8361"/>
                    <a:pt x="20552" y="6271"/>
                  </a:cubicBezTo>
                  <a:cubicBezTo>
                    <a:pt x="20552" y="4181"/>
                    <a:pt x="20552" y="3484"/>
                    <a:pt x="19112" y="2090"/>
                  </a:cubicBezTo>
                  <a:cubicBezTo>
                    <a:pt x="19112" y="2090"/>
                    <a:pt x="14792" y="0"/>
                    <a:pt x="14792" y="0"/>
                  </a:cubicBezTo>
                  <a:cubicBezTo>
                    <a:pt x="13352" y="697"/>
                    <a:pt x="14792" y="0"/>
                    <a:pt x="14792"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2" name="Shape 1396"/>
            <p:cNvSpPr/>
            <p:nvPr/>
          </p:nvSpPr>
          <p:spPr>
            <a:xfrm>
              <a:off x="8322480" y="4014000"/>
              <a:ext cx="230760" cy="191160"/>
            </a:xfrm>
            <a:custGeom>
              <a:avLst/>
              <a:gdLst/>
              <a:ahLst/>
              <a:rect l="l" t="t" r="r" b="b"/>
              <a:pathLst>
                <a:path w="21386" h="20433">
                  <a:moveTo>
                    <a:pt x="11135" y="17480"/>
                  </a:moveTo>
                  <a:cubicBezTo>
                    <a:pt x="11501" y="16633"/>
                    <a:pt x="12600" y="15363"/>
                    <a:pt x="13332" y="15363"/>
                  </a:cubicBezTo>
                  <a:cubicBezTo>
                    <a:pt x="13698" y="14939"/>
                    <a:pt x="14430" y="14939"/>
                    <a:pt x="14430" y="14939"/>
                  </a:cubicBezTo>
                  <a:cubicBezTo>
                    <a:pt x="14796" y="15363"/>
                    <a:pt x="15162" y="16210"/>
                    <a:pt x="15528" y="15786"/>
                  </a:cubicBezTo>
                  <a:cubicBezTo>
                    <a:pt x="16261" y="15363"/>
                    <a:pt x="16627" y="14092"/>
                    <a:pt x="16993" y="13245"/>
                  </a:cubicBezTo>
                  <a:cubicBezTo>
                    <a:pt x="16993" y="12821"/>
                    <a:pt x="17359" y="11974"/>
                    <a:pt x="17359" y="11551"/>
                  </a:cubicBezTo>
                  <a:cubicBezTo>
                    <a:pt x="17725" y="11127"/>
                    <a:pt x="18091" y="11551"/>
                    <a:pt x="18457" y="11127"/>
                  </a:cubicBezTo>
                  <a:cubicBezTo>
                    <a:pt x="18457" y="10280"/>
                    <a:pt x="19189" y="5621"/>
                    <a:pt x="20288" y="5621"/>
                  </a:cubicBezTo>
                  <a:cubicBezTo>
                    <a:pt x="21020" y="5621"/>
                    <a:pt x="21386" y="4774"/>
                    <a:pt x="21386" y="4351"/>
                  </a:cubicBezTo>
                  <a:cubicBezTo>
                    <a:pt x="21386" y="3504"/>
                    <a:pt x="20654" y="3504"/>
                    <a:pt x="20654" y="3080"/>
                  </a:cubicBezTo>
                  <a:cubicBezTo>
                    <a:pt x="20654" y="2657"/>
                    <a:pt x="20288" y="2657"/>
                    <a:pt x="20288" y="2233"/>
                  </a:cubicBezTo>
                  <a:cubicBezTo>
                    <a:pt x="19922" y="1386"/>
                    <a:pt x="19922" y="963"/>
                    <a:pt x="19555" y="116"/>
                  </a:cubicBezTo>
                  <a:cubicBezTo>
                    <a:pt x="19189" y="539"/>
                    <a:pt x="18091" y="1810"/>
                    <a:pt x="17359" y="1810"/>
                  </a:cubicBezTo>
                  <a:cubicBezTo>
                    <a:pt x="16261" y="1386"/>
                    <a:pt x="15528" y="1386"/>
                    <a:pt x="14430" y="1386"/>
                  </a:cubicBezTo>
                  <a:cubicBezTo>
                    <a:pt x="13332" y="1386"/>
                    <a:pt x="12600" y="2233"/>
                    <a:pt x="11501" y="2233"/>
                  </a:cubicBezTo>
                  <a:cubicBezTo>
                    <a:pt x="10769" y="2233"/>
                    <a:pt x="10037" y="963"/>
                    <a:pt x="9305" y="1386"/>
                  </a:cubicBezTo>
                  <a:cubicBezTo>
                    <a:pt x="7840" y="2233"/>
                    <a:pt x="7474" y="1810"/>
                    <a:pt x="6742" y="963"/>
                  </a:cubicBezTo>
                  <a:cubicBezTo>
                    <a:pt x="6376" y="539"/>
                    <a:pt x="5278" y="-308"/>
                    <a:pt x="4545" y="116"/>
                  </a:cubicBezTo>
                  <a:cubicBezTo>
                    <a:pt x="4179" y="116"/>
                    <a:pt x="3081" y="539"/>
                    <a:pt x="2715" y="963"/>
                  </a:cubicBezTo>
                  <a:cubicBezTo>
                    <a:pt x="2349" y="1386"/>
                    <a:pt x="2715" y="1810"/>
                    <a:pt x="2349" y="2233"/>
                  </a:cubicBezTo>
                  <a:cubicBezTo>
                    <a:pt x="2349" y="2657"/>
                    <a:pt x="1983" y="3504"/>
                    <a:pt x="1983" y="3927"/>
                  </a:cubicBezTo>
                  <a:cubicBezTo>
                    <a:pt x="1617" y="4774"/>
                    <a:pt x="1617" y="5621"/>
                    <a:pt x="1617" y="6468"/>
                  </a:cubicBezTo>
                  <a:cubicBezTo>
                    <a:pt x="1617" y="7739"/>
                    <a:pt x="518" y="8586"/>
                    <a:pt x="152" y="9857"/>
                  </a:cubicBezTo>
                  <a:cubicBezTo>
                    <a:pt x="-214" y="11127"/>
                    <a:pt x="152" y="14092"/>
                    <a:pt x="518" y="15786"/>
                  </a:cubicBezTo>
                  <a:cubicBezTo>
                    <a:pt x="518" y="16210"/>
                    <a:pt x="1250" y="15786"/>
                    <a:pt x="1617" y="15786"/>
                  </a:cubicBezTo>
                  <a:cubicBezTo>
                    <a:pt x="1983" y="15786"/>
                    <a:pt x="2715" y="16210"/>
                    <a:pt x="3081" y="16210"/>
                  </a:cubicBezTo>
                  <a:cubicBezTo>
                    <a:pt x="3447" y="16633"/>
                    <a:pt x="4911" y="17480"/>
                    <a:pt x="4911" y="17904"/>
                  </a:cubicBezTo>
                  <a:cubicBezTo>
                    <a:pt x="4911" y="18327"/>
                    <a:pt x="4911" y="18327"/>
                    <a:pt x="4911" y="18751"/>
                  </a:cubicBezTo>
                  <a:cubicBezTo>
                    <a:pt x="4911" y="19174"/>
                    <a:pt x="5278" y="19598"/>
                    <a:pt x="5644" y="20021"/>
                  </a:cubicBezTo>
                  <a:cubicBezTo>
                    <a:pt x="6376" y="21292"/>
                    <a:pt x="7474" y="19174"/>
                    <a:pt x="8206" y="19598"/>
                  </a:cubicBezTo>
                  <a:cubicBezTo>
                    <a:pt x="8206" y="19598"/>
                    <a:pt x="7840" y="20021"/>
                    <a:pt x="7840" y="20021"/>
                  </a:cubicBezTo>
                  <a:cubicBezTo>
                    <a:pt x="7840" y="19598"/>
                    <a:pt x="9671" y="19598"/>
                    <a:pt x="9671" y="19598"/>
                  </a:cubicBezTo>
                  <a:cubicBezTo>
                    <a:pt x="10403" y="19598"/>
                    <a:pt x="10403" y="18751"/>
                    <a:pt x="10769" y="19598"/>
                  </a:cubicBezTo>
                  <a:cubicBezTo>
                    <a:pt x="11135" y="18751"/>
                    <a:pt x="11135" y="18327"/>
                    <a:pt x="11135" y="17480"/>
                  </a:cubicBezTo>
                  <a:cubicBezTo>
                    <a:pt x="11501" y="17057"/>
                    <a:pt x="11135" y="17904"/>
                    <a:pt x="11135" y="1748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3" name="Shape 1397"/>
            <p:cNvSpPr/>
            <p:nvPr/>
          </p:nvSpPr>
          <p:spPr>
            <a:xfrm>
              <a:off x="8156520" y="3986640"/>
              <a:ext cx="160560" cy="118440"/>
            </a:xfrm>
            <a:custGeom>
              <a:avLst/>
              <a:gdLst/>
              <a:ahLst/>
              <a:rect l="l" t="t" r="r" b="b"/>
              <a:pathLst>
                <a:path w="20744" h="21600">
                  <a:moveTo>
                    <a:pt x="17555" y="14400"/>
                  </a:moveTo>
                  <a:cubicBezTo>
                    <a:pt x="18584" y="12240"/>
                    <a:pt x="20126" y="14400"/>
                    <a:pt x="20641" y="12240"/>
                  </a:cubicBezTo>
                  <a:cubicBezTo>
                    <a:pt x="21155" y="11520"/>
                    <a:pt x="19612" y="9360"/>
                    <a:pt x="19098" y="9360"/>
                  </a:cubicBezTo>
                  <a:cubicBezTo>
                    <a:pt x="18584" y="10800"/>
                    <a:pt x="17041" y="7920"/>
                    <a:pt x="16526" y="7200"/>
                  </a:cubicBezTo>
                  <a:cubicBezTo>
                    <a:pt x="16526" y="6480"/>
                    <a:pt x="16526" y="5760"/>
                    <a:pt x="16012" y="5040"/>
                  </a:cubicBezTo>
                  <a:cubicBezTo>
                    <a:pt x="14984" y="3600"/>
                    <a:pt x="14984" y="2880"/>
                    <a:pt x="14984" y="720"/>
                  </a:cubicBezTo>
                  <a:cubicBezTo>
                    <a:pt x="14469" y="720"/>
                    <a:pt x="13441" y="0"/>
                    <a:pt x="12926" y="0"/>
                  </a:cubicBezTo>
                  <a:cubicBezTo>
                    <a:pt x="11898" y="720"/>
                    <a:pt x="11384" y="1440"/>
                    <a:pt x="10869" y="1440"/>
                  </a:cubicBezTo>
                  <a:cubicBezTo>
                    <a:pt x="10355" y="2160"/>
                    <a:pt x="9841" y="2880"/>
                    <a:pt x="9326" y="2880"/>
                  </a:cubicBezTo>
                  <a:cubicBezTo>
                    <a:pt x="8812" y="4320"/>
                    <a:pt x="8812" y="2880"/>
                    <a:pt x="8298" y="3600"/>
                  </a:cubicBezTo>
                  <a:cubicBezTo>
                    <a:pt x="7269" y="4320"/>
                    <a:pt x="6241" y="7920"/>
                    <a:pt x="5212" y="7200"/>
                  </a:cubicBezTo>
                  <a:cubicBezTo>
                    <a:pt x="4698" y="7200"/>
                    <a:pt x="4184" y="5760"/>
                    <a:pt x="4184" y="7200"/>
                  </a:cubicBezTo>
                  <a:cubicBezTo>
                    <a:pt x="3669" y="7920"/>
                    <a:pt x="3669" y="9360"/>
                    <a:pt x="3155" y="10080"/>
                  </a:cubicBezTo>
                  <a:cubicBezTo>
                    <a:pt x="3155" y="10800"/>
                    <a:pt x="3155" y="11520"/>
                    <a:pt x="2126" y="11520"/>
                  </a:cubicBezTo>
                  <a:cubicBezTo>
                    <a:pt x="2126" y="11520"/>
                    <a:pt x="69" y="12240"/>
                    <a:pt x="584" y="12960"/>
                  </a:cubicBezTo>
                  <a:cubicBezTo>
                    <a:pt x="2126" y="14400"/>
                    <a:pt x="-445" y="16560"/>
                    <a:pt x="69" y="17280"/>
                  </a:cubicBezTo>
                  <a:cubicBezTo>
                    <a:pt x="1098" y="18000"/>
                    <a:pt x="2126" y="21600"/>
                    <a:pt x="3669" y="20160"/>
                  </a:cubicBezTo>
                  <a:cubicBezTo>
                    <a:pt x="5212" y="18720"/>
                    <a:pt x="6241" y="19440"/>
                    <a:pt x="7784" y="21600"/>
                  </a:cubicBezTo>
                  <a:cubicBezTo>
                    <a:pt x="7269" y="19440"/>
                    <a:pt x="7269" y="17280"/>
                    <a:pt x="7269" y="15840"/>
                  </a:cubicBezTo>
                  <a:cubicBezTo>
                    <a:pt x="9326" y="15840"/>
                    <a:pt x="10869" y="15840"/>
                    <a:pt x="12926" y="15840"/>
                  </a:cubicBezTo>
                  <a:cubicBezTo>
                    <a:pt x="14469" y="15840"/>
                    <a:pt x="17041" y="16560"/>
                    <a:pt x="17555" y="14400"/>
                  </a:cubicBezTo>
                  <a:cubicBezTo>
                    <a:pt x="18069" y="12960"/>
                    <a:pt x="17555" y="14400"/>
                    <a:pt x="17555" y="144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4" name="Shape 1398"/>
            <p:cNvSpPr/>
            <p:nvPr/>
          </p:nvSpPr>
          <p:spPr>
            <a:xfrm>
              <a:off x="8269200" y="4074480"/>
              <a:ext cx="31320" cy="93240"/>
            </a:xfrm>
            <a:custGeom>
              <a:avLst/>
              <a:gdLst/>
              <a:ahLst/>
              <a:rect l="l" t="t" r="r" b="b"/>
              <a:pathLst>
                <a:path w="17475" h="21375">
                  <a:moveTo>
                    <a:pt x="17040" y="9000"/>
                  </a:moveTo>
                  <a:cubicBezTo>
                    <a:pt x="17040" y="8100"/>
                    <a:pt x="17040" y="6300"/>
                    <a:pt x="14880" y="5400"/>
                  </a:cubicBezTo>
                  <a:cubicBezTo>
                    <a:pt x="12720" y="4500"/>
                    <a:pt x="6240" y="900"/>
                    <a:pt x="8400" y="0"/>
                  </a:cubicBezTo>
                  <a:cubicBezTo>
                    <a:pt x="6240" y="0"/>
                    <a:pt x="4080" y="0"/>
                    <a:pt x="1920" y="0"/>
                  </a:cubicBezTo>
                  <a:cubicBezTo>
                    <a:pt x="-2400" y="0"/>
                    <a:pt x="1920" y="1800"/>
                    <a:pt x="1920" y="2700"/>
                  </a:cubicBezTo>
                  <a:cubicBezTo>
                    <a:pt x="4080" y="4500"/>
                    <a:pt x="1920" y="6300"/>
                    <a:pt x="1920" y="8100"/>
                  </a:cubicBezTo>
                  <a:cubicBezTo>
                    <a:pt x="-240" y="10800"/>
                    <a:pt x="4080" y="10800"/>
                    <a:pt x="6240" y="13500"/>
                  </a:cubicBezTo>
                  <a:cubicBezTo>
                    <a:pt x="6240" y="15300"/>
                    <a:pt x="4080" y="17100"/>
                    <a:pt x="6240" y="18900"/>
                  </a:cubicBezTo>
                  <a:cubicBezTo>
                    <a:pt x="6240" y="19800"/>
                    <a:pt x="8400" y="20700"/>
                    <a:pt x="10560" y="20700"/>
                  </a:cubicBezTo>
                  <a:cubicBezTo>
                    <a:pt x="12720" y="21600"/>
                    <a:pt x="19200" y="21600"/>
                    <a:pt x="17040" y="20700"/>
                  </a:cubicBezTo>
                  <a:cubicBezTo>
                    <a:pt x="17040" y="17100"/>
                    <a:pt x="17040" y="13500"/>
                    <a:pt x="17040" y="9000"/>
                  </a:cubicBezTo>
                  <a:cubicBezTo>
                    <a:pt x="17040" y="6300"/>
                    <a:pt x="17040" y="11700"/>
                    <a:pt x="17040" y="9000"/>
                  </a:cubicBezTo>
                  <a:close/>
                </a:path>
              </a:pathLst>
            </a:custGeom>
            <a:solidFill>
              <a:srgbClr val="dadbdf"/>
            </a:solidFill>
            <a:ln w="4680">
              <a:solidFill>
                <a:srgbClr val="ffffff"/>
              </a:solidFill>
              <a:round/>
            </a:ln>
          </p:spPr>
          <p:style>
            <a:lnRef idx="0"/>
            <a:fillRef idx="0"/>
            <a:effectRef idx="0"/>
            <a:fontRef idx="minor"/>
          </p:style>
          <p:txBody>
            <a:bodyPr lIns="45360" rIns="45360" tIns="46440" bIns="46440" anchor="t">
              <a:noAutofit/>
            </a:bodyPr>
            <a:p>
              <a:endParaRPr b="0" lang="en-US" sz="1800" spc="-1" strike="noStrike">
                <a:solidFill>
                  <a:srgbClr val="000000"/>
                </a:solidFill>
                <a:latin typeface="Calibri"/>
              </a:endParaRPr>
            </a:p>
          </p:txBody>
        </p:sp>
        <p:sp>
          <p:nvSpPr>
            <p:cNvPr id="785" name="Shape 1399"/>
            <p:cNvSpPr/>
            <p:nvPr/>
          </p:nvSpPr>
          <p:spPr>
            <a:xfrm>
              <a:off x="8100360" y="4081320"/>
              <a:ext cx="115200" cy="119520"/>
            </a:xfrm>
            <a:custGeom>
              <a:avLst/>
              <a:gdLst/>
              <a:ahLst/>
              <a:rect l="l" t="t" r="r" b="b"/>
              <a:pathLst>
                <a:path w="19851" h="21098">
                  <a:moveTo>
                    <a:pt x="16641" y="2285"/>
                  </a:moveTo>
                  <a:cubicBezTo>
                    <a:pt x="15291" y="2285"/>
                    <a:pt x="14616" y="3679"/>
                    <a:pt x="13266" y="2982"/>
                  </a:cubicBezTo>
                  <a:cubicBezTo>
                    <a:pt x="11916" y="2982"/>
                    <a:pt x="10566" y="-502"/>
                    <a:pt x="9216" y="195"/>
                  </a:cubicBezTo>
                  <a:cubicBezTo>
                    <a:pt x="8541" y="892"/>
                    <a:pt x="7866" y="892"/>
                    <a:pt x="7866" y="195"/>
                  </a:cubicBezTo>
                  <a:cubicBezTo>
                    <a:pt x="7191" y="-502"/>
                    <a:pt x="6516" y="892"/>
                    <a:pt x="5841" y="892"/>
                  </a:cubicBezTo>
                  <a:cubicBezTo>
                    <a:pt x="4491" y="1588"/>
                    <a:pt x="3816" y="892"/>
                    <a:pt x="3141" y="892"/>
                  </a:cubicBezTo>
                  <a:cubicBezTo>
                    <a:pt x="2466" y="195"/>
                    <a:pt x="2466" y="1588"/>
                    <a:pt x="1791" y="1588"/>
                  </a:cubicBezTo>
                  <a:cubicBezTo>
                    <a:pt x="1116" y="1588"/>
                    <a:pt x="441" y="2982"/>
                    <a:pt x="1116" y="3679"/>
                  </a:cubicBezTo>
                  <a:cubicBezTo>
                    <a:pt x="1116" y="4375"/>
                    <a:pt x="2466" y="4375"/>
                    <a:pt x="2466" y="4375"/>
                  </a:cubicBezTo>
                  <a:cubicBezTo>
                    <a:pt x="2466" y="5072"/>
                    <a:pt x="1116" y="5769"/>
                    <a:pt x="1116" y="5769"/>
                  </a:cubicBezTo>
                  <a:cubicBezTo>
                    <a:pt x="1116" y="6466"/>
                    <a:pt x="2466" y="7163"/>
                    <a:pt x="2466" y="7859"/>
                  </a:cubicBezTo>
                  <a:cubicBezTo>
                    <a:pt x="2466" y="7859"/>
                    <a:pt x="1116" y="7163"/>
                    <a:pt x="1116" y="8556"/>
                  </a:cubicBezTo>
                  <a:cubicBezTo>
                    <a:pt x="1116" y="9253"/>
                    <a:pt x="1791" y="10646"/>
                    <a:pt x="441" y="10646"/>
                  </a:cubicBezTo>
                  <a:cubicBezTo>
                    <a:pt x="1116" y="11343"/>
                    <a:pt x="1116" y="12040"/>
                    <a:pt x="441" y="12737"/>
                  </a:cubicBezTo>
                  <a:cubicBezTo>
                    <a:pt x="441" y="14130"/>
                    <a:pt x="-909" y="14130"/>
                    <a:pt x="1116" y="15524"/>
                  </a:cubicBezTo>
                  <a:cubicBezTo>
                    <a:pt x="1791" y="15524"/>
                    <a:pt x="3141" y="16221"/>
                    <a:pt x="3816" y="17614"/>
                  </a:cubicBezTo>
                  <a:cubicBezTo>
                    <a:pt x="4491" y="18311"/>
                    <a:pt x="3816" y="19704"/>
                    <a:pt x="3816" y="21098"/>
                  </a:cubicBezTo>
                  <a:cubicBezTo>
                    <a:pt x="6516" y="20401"/>
                    <a:pt x="8541" y="19008"/>
                    <a:pt x="11916" y="19008"/>
                  </a:cubicBezTo>
                  <a:cubicBezTo>
                    <a:pt x="13266" y="18311"/>
                    <a:pt x="15291" y="19008"/>
                    <a:pt x="16641" y="19008"/>
                  </a:cubicBezTo>
                  <a:cubicBezTo>
                    <a:pt x="17991" y="19008"/>
                    <a:pt x="20016" y="19704"/>
                    <a:pt x="19341" y="17614"/>
                  </a:cubicBezTo>
                  <a:cubicBezTo>
                    <a:pt x="19341" y="16221"/>
                    <a:pt x="18666" y="15524"/>
                    <a:pt x="17991" y="14130"/>
                  </a:cubicBezTo>
                  <a:cubicBezTo>
                    <a:pt x="17991" y="12737"/>
                    <a:pt x="18666" y="11343"/>
                    <a:pt x="19341" y="9950"/>
                  </a:cubicBezTo>
                  <a:cubicBezTo>
                    <a:pt x="20016" y="7163"/>
                    <a:pt x="20691" y="2285"/>
                    <a:pt x="16641" y="228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6" name="Shape 1400"/>
            <p:cNvSpPr/>
            <p:nvPr/>
          </p:nvSpPr>
          <p:spPr>
            <a:xfrm>
              <a:off x="8204760" y="4074480"/>
              <a:ext cx="86760" cy="118440"/>
            </a:xfrm>
            <a:custGeom>
              <a:avLst/>
              <a:gdLst/>
              <a:ahLst/>
              <a:rect l="l" t="t" r="r" b="b"/>
              <a:pathLst>
                <a:path w="20812" h="21600">
                  <a:moveTo>
                    <a:pt x="17055" y="9360"/>
                  </a:moveTo>
                  <a:cubicBezTo>
                    <a:pt x="15177" y="7920"/>
                    <a:pt x="16116" y="5760"/>
                    <a:pt x="16116" y="4320"/>
                  </a:cubicBezTo>
                  <a:cubicBezTo>
                    <a:pt x="17055" y="2880"/>
                    <a:pt x="14238" y="1440"/>
                    <a:pt x="15177" y="0"/>
                  </a:cubicBezTo>
                  <a:cubicBezTo>
                    <a:pt x="10482" y="0"/>
                    <a:pt x="6725" y="0"/>
                    <a:pt x="2029" y="0"/>
                  </a:cubicBezTo>
                  <a:cubicBezTo>
                    <a:pt x="2029" y="2160"/>
                    <a:pt x="2969" y="5040"/>
                    <a:pt x="2969" y="7920"/>
                  </a:cubicBezTo>
                  <a:cubicBezTo>
                    <a:pt x="2969" y="10800"/>
                    <a:pt x="-788" y="12960"/>
                    <a:pt x="151" y="15840"/>
                  </a:cubicBezTo>
                  <a:cubicBezTo>
                    <a:pt x="1090" y="18000"/>
                    <a:pt x="2969" y="18720"/>
                    <a:pt x="2029" y="21600"/>
                  </a:cubicBezTo>
                  <a:cubicBezTo>
                    <a:pt x="4847" y="21600"/>
                    <a:pt x="5786" y="21600"/>
                    <a:pt x="8603" y="20880"/>
                  </a:cubicBezTo>
                  <a:cubicBezTo>
                    <a:pt x="13299" y="20160"/>
                    <a:pt x="17055" y="18720"/>
                    <a:pt x="20812" y="17280"/>
                  </a:cubicBezTo>
                  <a:cubicBezTo>
                    <a:pt x="18934" y="16560"/>
                    <a:pt x="17995" y="15120"/>
                    <a:pt x="17995" y="13680"/>
                  </a:cubicBezTo>
                  <a:cubicBezTo>
                    <a:pt x="17995" y="12240"/>
                    <a:pt x="17995" y="10800"/>
                    <a:pt x="17055" y="9360"/>
                  </a:cubicBezTo>
                  <a:cubicBezTo>
                    <a:pt x="15177" y="7920"/>
                    <a:pt x="17995" y="10800"/>
                    <a:pt x="17055" y="93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7" name="Shape 1401"/>
            <p:cNvSpPr/>
            <p:nvPr/>
          </p:nvSpPr>
          <p:spPr>
            <a:xfrm>
              <a:off x="8006400" y="4092480"/>
              <a:ext cx="54360" cy="61920"/>
            </a:xfrm>
            <a:custGeom>
              <a:avLst/>
              <a:gdLst/>
              <a:ahLst/>
              <a:rect l="l" t="t" r="r" b="b"/>
              <a:pathLst>
                <a:path w="19867" h="18719">
                  <a:moveTo>
                    <a:pt x="16126" y="14933"/>
                  </a:moveTo>
                  <a:cubicBezTo>
                    <a:pt x="20446" y="13733"/>
                    <a:pt x="20446" y="7733"/>
                    <a:pt x="19006" y="5333"/>
                  </a:cubicBezTo>
                  <a:cubicBezTo>
                    <a:pt x="16126" y="533"/>
                    <a:pt x="10366" y="-1867"/>
                    <a:pt x="6046" y="1733"/>
                  </a:cubicBezTo>
                  <a:cubicBezTo>
                    <a:pt x="3166" y="2933"/>
                    <a:pt x="-1154" y="5333"/>
                    <a:pt x="286" y="7733"/>
                  </a:cubicBezTo>
                  <a:cubicBezTo>
                    <a:pt x="1726" y="10133"/>
                    <a:pt x="1726" y="11333"/>
                    <a:pt x="4606" y="12533"/>
                  </a:cubicBezTo>
                  <a:cubicBezTo>
                    <a:pt x="6046" y="14933"/>
                    <a:pt x="6046" y="16133"/>
                    <a:pt x="8926" y="17333"/>
                  </a:cubicBezTo>
                  <a:cubicBezTo>
                    <a:pt x="10366" y="18533"/>
                    <a:pt x="11806" y="19733"/>
                    <a:pt x="13246" y="17333"/>
                  </a:cubicBezTo>
                  <a:cubicBezTo>
                    <a:pt x="13246" y="16133"/>
                    <a:pt x="14686" y="16133"/>
                    <a:pt x="16126" y="14933"/>
                  </a:cubicBezTo>
                  <a:cubicBezTo>
                    <a:pt x="19006" y="13733"/>
                    <a:pt x="14686" y="16133"/>
                    <a:pt x="16126" y="14933"/>
                  </a:cubicBezTo>
                  <a:close/>
                </a:path>
              </a:pathLst>
            </a:custGeom>
            <a:solidFill>
              <a:srgbClr val="dadbdf"/>
            </a:solidFill>
            <a:ln w="4680">
              <a:solidFill>
                <a:srgbClr val="ffffff"/>
              </a:solidFill>
              <a:round/>
            </a:ln>
          </p:spPr>
          <p:style>
            <a:lnRef idx="0"/>
            <a:fillRef idx="0"/>
            <a:effectRef idx="0"/>
            <a:fontRef idx="minor"/>
          </p:style>
          <p:txBody>
            <a:bodyPr lIns="45360" rIns="45360" tIns="15120" bIns="15120" anchor="t">
              <a:noAutofit/>
            </a:bodyPr>
            <a:p>
              <a:endParaRPr b="0" lang="en-US" sz="1800" spc="-1" strike="noStrike">
                <a:solidFill>
                  <a:srgbClr val="000000"/>
                </a:solidFill>
                <a:latin typeface="Calibri"/>
              </a:endParaRPr>
            </a:p>
          </p:txBody>
        </p:sp>
        <p:sp>
          <p:nvSpPr>
            <p:cNvPr id="788" name="Shape 1402"/>
            <p:cNvSpPr/>
            <p:nvPr/>
          </p:nvSpPr>
          <p:spPr>
            <a:xfrm>
              <a:off x="8038440" y="4121280"/>
              <a:ext cx="85320" cy="79920"/>
            </a:xfrm>
            <a:custGeom>
              <a:avLst/>
              <a:gdLst/>
              <a:ahLst/>
              <a:rect l="l" t="t" r="r" b="b"/>
              <a:pathLst>
                <a:path w="21055" h="20660">
                  <a:moveTo>
                    <a:pt x="20618" y="16546"/>
                  </a:moveTo>
                  <a:cubicBezTo>
                    <a:pt x="21600" y="14489"/>
                    <a:pt x="19636" y="13460"/>
                    <a:pt x="18655" y="12431"/>
                  </a:cubicBezTo>
                  <a:cubicBezTo>
                    <a:pt x="17673" y="12431"/>
                    <a:pt x="13745" y="11403"/>
                    <a:pt x="15709" y="10374"/>
                  </a:cubicBezTo>
                  <a:cubicBezTo>
                    <a:pt x="16691" y="9346"/>
                    <a:pt x="16691" y="6260"/>
                    <a:pt x="15709" y="5231"/>
                  </a:cubicBezTo>
                  <a:cubicBezTo>
                    <a:pt x="14727" y="3174"/>
                    <a:pt x="13745" y="7289"/>
                    <a:pt x="12764" y="7289"/>
                  </a:cubicBezTo>
                  <a:cubicBezTo>
                    <a:pt x="9818" y="7289"/>
                    <a:pt x="10800" y="-940"/>
                    <a:pt x="8836" y="89"/>
                  </a:cubicBezTo>
                  <a:cubicBezTo>
                    <a:pt x="7855" y="1117"/>
                    <a:pt x="5891" y="2146"/>
                    <a:pt x="4909" y="3174"/>
                  </a:cubicBezTo>
                  <a:cubicBezTo>
                    <a:pt x="3927" y="5231"/>
                    <a:pt x="1964" y="6260"/>
                    <a:pt x="0" y="8317"/>
                  </a:cubicBezTo>
                  <a:cubicBezTo>
                    <a:pt x="4909" y="11403"/>
                    <a:pt x="7855" y="14489"/>
                    <a:pt x="11782" y="17574"/>
                  </a:cubicBezTo>
                  <a:cubicBezTo>
                    <a:pt x="13745" y="19631"/>
                    <a:pt x="15709" y="20660"/>
                    <a:pt x="18655" y="20660"/>
                  </a:cubicBezTo>
                  <a:cubicBezTo>
                    <a:pt x="21600" y="20660"/>
                    <a:pt x="19636" y="18603"/>
                    <a:pt x="20618" y="16546"/>
                  </a:cubicBezTo>
                  <a:cubicBezTo>
                    <a:pt x="21600" y="14489"/>
                    <a:pt x="20618" y="18603"/>
                    <a:pt x="20618" y="16546"/>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789" name="Shape 1403"/>
            <p:cNvSpPr/>
            <p:nvPr/>
          </p:nvSpPr>
          <p:spPr>
            <a:xfrm>
              <a:off x="7976160" y="4038840"/>
              <a:ext cx="137520" cy="108000"/>
            </a:xfrm>
            <a:custGeom>
              <a:avLst/>
              <a:gdLst/>
              <a:ahLst/>
              <a:rect l="l" t="t" r="r" b="b"/>
              <a:pathLst>
                <a:path w="21600" h="20141">
                  <a:moveTo>
                    <a:pt x="6171" y="11731"/>
                  </a:moveTo>
                  <a:cubicBezTo>
                    <a:pt x="8640" y="10242"/>
                    <a:pt x="11109" y="8752"/>
                    <a:pt x="12343" y="12476"/>
                  </a:cubicBezTo>
                  <a:cubicBezTo>
                    <a:pt x="13577" y="13966"/>
                    <a:pt x="12960" y="14711"/>
                    <a:pt x="12960" y="16945"/>
                  </a:cubicBezTo>
                  <a:cubicBezTo>
                    <a:pt x="13577" y="17690"/>
                    <a:pt x="14811" y="15455"/>
                    <a:pt x="15429" y="15455"/>
                  </a:cubicBezTo>
                  <a:cubicBezTo>
                    <a:pt x="16663" y="14711"/>
                    <a:pt x="16663" y="21414"/>
                    <a:pt x="17897" y="19924"/>
                  </a:cubicBezTo>
                  <a:cubicBezTo>
                    <a:pt x="18514" y="19924"/>
                    <a:pt x="18514" y="19180"/>
                    <a:pt x="19131" y="19180"/>
                  </a:cubicBezTo>
                  <a:cubicBezTo>
                    <a:pt x="19131" y="18435"/>
                    <a:pt x="20366" y="19180"/>
                    <a:pt x="20366" y="18435"/>
                  </a:cubicBezTo>
                  <a:cubicBezTo>
                    <a:pt x="20983" y="17690"/>
                    <a:pt x="20366" y="16945"/>
                    <a:pt x="20366" y="16945"/>
                  </a:cubicBezTo>
                  <a:cubicBezTo>
                    <a:pt x="20366" y="15455"/>
                    <a:pt x="21600" y="16200"/>
                    <a:pt x="21600" y="16200"/>
                  </a:cubicBezTo>
                  <a:cubicBezTo>
                    <a:pt x="21600" y="15455"/>
                    <a:pt x="19749" y="14711"/>
                    <a:pt x="20983" y="13966"/>
                  </a:cubicBezTo>
                  <a:cubicBezTo>
                    <a:pt x="21600" y="13221"/>
                    <a:pt x="21600" y="12476"/>
                    <a:pt x="20366" y="11731"/>
                  </a:cubicBezTo>
                  <a:cubicBezTo>
                    <a:pt x="19749" y="10986"/>
                    <a:pt x="20983" y="9497"/>
                    <a:pt x="20366" y="8752"/>
                  </a:cubicBezTo>
                  <a:cubicBezTo>
                    <a:pt x="19749" y="8007"/>
                    <a:pt x="20366" y="7262"/>
                    <a:pt x="19749" y="5773"/>
                  </a:cubicBezTo>
                  <a:cubicBezTo>
                    <a:pt x="19131" y="5028"/>
                    <a:pt x="17897" y="-186"/>
                    <a:pt x="16046" y="1304"/>
                  </a:cubicBezTo>
                  <a:cubicBezTo>
                    <a:pt x="16046" y="1304"/>
                    <a:pt x="15429" y="2048"/>
                    <a:pt x="14811" y="2048"/>
                  </a:cubicBezTo>
                  <a:cubicBezTo>
                    <a:pt x="14194" y="2048"/>
                    <a:pt x="14194" y="2048"/>
                    <a:pt x="13577" y="2048"/>
                  </a:cubicBezTo>
                  <a:cubicBezTo>
                    <a:pt x="12960" y="2793"/>
                    <a:pt x="12343" y="2048"/>
                    <a:pt x="11726" y="2048"/>
                  </a:cubicBezTo>
                  <a:cubicBezTo>
                    <a:pt x="11109" y="2048"/>
                    <a:pt x="11109" y="2793"/>
                    <a:pt x="11109" y="2048"/>
                  </a:cubicBezTo>
                  <a:cubicBezTo>
                    <a:pt x="9874" y="1304"/>
                    <a:pt x="10491" y="1304"/>
                    <a:pt x="9257" y="1304"/>
                  </a:cubicBezTo>
                  <a:cubicBezTo>
                    <a:pt x="7406" y="2048"/>
                    <a:pt x="7406" y="559"/>
                    <a:pt x="6171" y="559"/>
                  </a:cubicBezTo>
                  <a:cubicBezTo>
                    <a:pt x="4937" y="-186"/>
                    <a:pt x="3703" y="-186"/>
                    <a:pt x="3086" y="559"/>
                  </a:cubicBezTo>
                  <a:cubicBezTo>
                    <a:pt x="3086" y="1304"/>
                    <a:pt x="1851" y="2048"/>
                    <a:pt x="3086" y="2793"/>
                  </a:cubicBezTo>
                  <a:cubicBezTo>
                    <a:pt x="3703" y="3538"/>
                    <a:pt x="3086" y="4283"/>
                    <a:pt x="1851" y="4283"/>
                  </a:cubicBezTo>
                  <a:cubicBezTo>
                    <a:pt x="617" y="4283"/>
                    <a:pt x="0" y="4283"/>
                    <a:pt x="0" y="5773"/>
                  </a:cubicBezTo>
                  <a:cubicBezTo>
                    <a:pt x="617" y="7262"/>
                    <a:pt x="1234" y="8007"/>
                    <a:pt x="1851" y="9497"/>
                  </a:cubicBezTo>
                  <a:cubicBezTo>
                    <a:pt x="3086" y="10986"/>
                    <a:pt x="3703" y="11731"/>
                    <a:pt x="4937" y="13966"/>
                  </a:cubicBezTo>
                  <a:cubicBezTo>
                    <a:pt x="5554" y="13221"/>
                    <a:pt x="5554" y="12476"/>
                    <a:pt x="6171" y="11731"/>
                  </a:cubicBezTo>
                  <a:cubicBezTo>
                    <a:pt x="6789" y="11731"/>
                    <a:pt x="6171" y="12476"/>
                    <a:pt x="6171" y="1173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0" name="Shape 1404"/>
            <p:cNvSpPr/>
            <p:nvPr/>
          </p:nvSpPr>
          <p:spPr>
            <a:xfrm>
              <a:off x="7939800" y="4042080"/>
              <a:ext cx="57240" cy="28080"/>
            </a:xfrm>
            <a:custGeom>
              <a:avLst/>
              <a:gdLst/>
              <a:ahLst/>
              <a:rect l="l" t="t" r="r" b="b"/>
              <a:pathLst>
                <a:path w="19531" h="21600">
                  <a:moveTo>
                    <a:pt x="13500" y="15429"/>
                  </a:moveTo>
                  <a:cubicBezTo>
                    <a:pt x="14850" y="15429"/>
                    <a:pt x="21600" y="15429"/>
                    <a:pt x="18900" y="9257"/>
                  </a:cubicBezTo>
                  <a:cubicBezTo>
                    <a:pt x="16200" y="6171"/>
                    <a:pt x="18900" y="3086"/>
                    <a:pt x="18900" y="0"/>
                  </a:cubicBezTo>
                  <a:cubicBezTo>
                    <a:pt x="16200" y="0"/>
                    <a:pt x="12150" y="0"/>
                    <a:pt x="9450" y="0"/>
                  </a:cubicBezTo>
                  <a:cubicBezTo>
                    <a:pt x="6750" y="0"/>
                    <a:pt x="6750" y="3086"/>
                    <a:pt x="5400" y="0"/>
                  </a:cubicBezTo>
                  <a:cubicBezTo>
                    <a:pt x="2700" y="0"/>
                    <a:pt x="2700" y="0"/>
                    <a:pt x="0" y="3086"/>
                  </a:cubicBezTo>
                  <a:cubicBezTo>
                    <a:pt x="1350" y="6171"/>
                    <a:pt x="1350" y="9257"/>
                    <a:pt x="4050" y="9257"/>
                  </a:cubicBezTo>
                  <a:cubicBezTo>
                    <a:pt x="5400" y="9257"/>
                    <a:pt x="9450" y="9257"/>
                    <a:pt x="9450" y="9257"/>
                  </a:cubicBezTo>
                  <a:cubicBezTo>
                    <a:pt x="6750" y="15429"/>
                    <a:pt x="9450" y="18514"/>
                    <a:pt x="12150" y="21600"/>
                  </a:cubicBezTo>
                  <a:cubicBezTo>
                    <a:pt x="12150" y="21600"/>
                    <a:pt x="12150" y="15429"/>
                    <a:pt x="13500" y="15429"/>
                  </a:cubicBez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791" name="Shape 1405"/>
            <p:cNvSpPr/>
            <p:nvPr/>
          </p:nvSpPr>
          <p:spPr>
            <a:xfrm>
              <a:off x="7935840" y="4018320"/>
              <a:ext cx="59040" cy="12960"/>
            </a:xfrm>
            <a:custGeom>
              <a:avLst/>
              <a:gdLst/>
              <a:ahLst/>
              <a:rect l="l" t="t" r="r" b="b"/>
              <a:pathLst>
                <a:path w="21600" h="17318">
                  <a:moveTo>
                    <a:pt x="5760" y="17318"/>
                  </a:moveTo>
                  <a:cubicBezTo>
                    <a:pt x="8640" y="11918"/>
                    <a:pt x="10080" y="6518"/>
                    <a:pt x="12960" y="11918"/>
                  </a:cubicBezTo>
                  <a:cubicBezTo>
                    <a:pt x="14400" y="11918"/>
                    <a:pt x="20160" y="17318"/>
                    <a:pt x="21600" y="6518"/>
                  </a:cubicBezTo>
                  <a:cubicBezTo>
                    <a:pt x="21600" y="11918"/>
                    <a:pt x="12960" y="-4282"/>
                    <a:pt x="11520" y="1118"/>
                  </a:cubicBezTo>
                  <a:cubicBezTo>
                    <a:pt x="7200" y="6518"/>
                    <a:pt x="1440" y="-4282"/>
                    <a:pt x="0" y="17318"/>
                  </a:cubicBezTo>
                  <a:cubicBezTo>
                    <a:pt x="2880" y="17318"/>
                    <a:pt x="4320" y="17318"/>
                    <a:pt x="5760" y="17318"/>
                  </a:cubicBezTo>
                  <a:cubicBezTo>
                    <a:pt x="7200" y="17318"/>
                    <a:pt x="5760" y="17318"/>
                    <a:pt x="5760" y="17318"/>
                  </a:cubicBezTo>
                  <a:close/>
                </a:path>
              </a:pathLst>
            </a:custGeom>
            <a:solidFill>
              <a:srgbClr val="dadbdf"/>
            </a:solidFill>
            <a:ln w="4680">
              <a:solidFill>
                <a:srgbClr val="ffffff"/>
              </a:solidFill>
              <a:round/>
            </a:ln>
          </p:spPr>
          <p:style>
            <a:lnRef idx="0"/>
            <a:fillRef idx="0"/>
            <a:effectRef idx="0"/>
            <a:fontRef idx="minor"/>
          </p:style>
          <p:txBody>
            <a:bodyPr lIns="45360" rIns="45360" tIns="-33840" bIns="-33840" anchor="t">
              <a:noAutofit/>
            </a:bodyPr>
            <a:p>
              <a:endParaRPr b="0" lang="en-US" sz="1800" spc="-1" strike="noStrike">
                <a:solidFill>
                  <a:srgbClr val="000000"/>
                </a:solidFill>
                <a:latin typeface="Calibri"/>
              </a:endParaRPr>
            </a:p>
          </p:txBody>
        </p:sp>
        <p:sp>
          <p:nvSpPr>
            <p:cNvPr id="792" name="Shape 1406"/>
            <p:cNvSpPr/>
            <p:nvPr/>
          </p:nvSpPr>
          <p:spPr>
            <a:xfrm>
              <a:off x="7930800" y="3737160"/>
              <a:ext cx="234360" cy="260640"/>
            </a:xfrm>
            <a:custGeom>
              <a:avLst/>
              <a:gdLst/>
              <a:ahLst/>
              <a:rect l="l" t="t" r="r" b="b"/>
              <a:pathLst>
                <a:path w="21338" h="20883">
                  <a:moveTo>
                    <a:pt x="1538" y="18106"/>
                  </a:moveTo>
                  <a:cubicBezTo>
                    <a:pt x="2258" y="18106"/>
                    <a:pt x="4418" y="17471"/>
                    <a:pt x="5138" y="18106"/>
                  </a:cubicBezTo>
                  <a:cubicBezTo>
                    <a:pt x="5498" y="18424"/>
                    <a:pt x="5858" y="18424"/>
                    <a:pt x="6218" y="18741"/>
                  </a:cubicBezTo>
                  <a:cubicBezTo>
                    <a:pt x="6578" y="19376"/>
                    <a:pt x="6938" y="19694"/>
                    <a:pt x="7298" y="20012"/>
                  </a:cubicBezTo>
                  <a:cubicBezTo>
                    <a:pt x="7658" y="20329"/>
                    <a:pt x="9098" y="21600"/>
                    <a:pt x="9458" y="20329"/>
                  </a:cubicBezTo>
                  <a:cubicBezTo>
                    <a:pt x="9818" y="18424"/>
                    <a:pt x="10538" y="20647"/>
                    <a:pt x="11258" y="20329"/>
                  </a:cubicBezTo>
                  <a:cubicBezTo>
                    <a:pt x="11618" y="19694"/>
                    <a:pt x="11618" y="19694"/>
                    <a:pt x="12338" y="19694"/>
                  </a:cubicBezTo>
                  <a:cubicBezTo>
                    <a:pt x="13058" y="19694"/>
                    <a:pt x="13418" y="19694"/>
                    <a:pt x="13778" y="19694"/>
                  </a:cubicBezTo>
                  <a:cubicBezTo>
                    <a:pt x="14498" y="19376"/>
                    <a:pt x="15218" y="19376"/>
                    <a:pt x="15578" y="19376"/>
                  </a:cubicBezTo>
                  <a:cubicBezTo>
                    <a:pt x="16658" y="19376"/>
                    <a:pt x="17738" y="19376"/>
                    <a:pt x="18818" y="19376"/>
                  </a:cubicBezTo>
                  <a:cubicBezTo>
                    <a:pt x="19178" y="19376"/>
                    <a:pt x="20258" y="19694"/>
                    <a:pt x="20618" y="19376"/>
                  </a:cubicBezTo>
                  <a:cubicBezTo>
                    <a:pt x="20978" y="19376"/>
                    <a:pt x="20618" y="17471"/>
                    <a:pt x="20618" y="17153"/>
                  </a:cubicBezTo>
                  <a:cubicBezTo>
                    <a:pt x="20258" y="15247"/>
                    <a:pt x="19898" y="13659"/>
                    <a:pt x="19898" y="12071"/>
                  </a:cubicBezTo>
                  <a:cubicBezTo>
                    <a:pt x="19538" y="9212"/>
                    <a:pt x="18818" y="6671"/>
                    <a:pt x="18458" y="3812"/>
                  </a:cubicBezTo>
                  <a:cubicBezTo>
                    <a:pt x="19538" y="3812"/>
                    <a:pt x="20618" y="3812"/>
                    <a:pt x="21338" y="3812"/>
                  </a:cubicBezTo>
                  <a:cubicBezTo>
                    <a:pt x="19178" y="2541"/>
                    <a:pt x="17018" y="1271"/>
                    <a:pt x="15218" y="0"/>
                  </a:cubicBezTo>
                  <a:cubicBezTo>
                    <a:pt x="15218" y="318"/>
                    <a:pt x="15218" y="2224"/>
                    <a:pt x="14858" y="2224"/>
                  </a:cubicBezTo>
                  <a:cubicBezTo>
                    <a:pt x="14498" y="2224"/>
                    <a:pt x="13778" y="2224"/>
                    <a:pt x="13058" y="2224"/>
                  </a:cubicBezTo>
                  <a:cubicBezTo>
                    <a:pt x="12338" y="2224"/>
                    <a:pt x="11258" y="2224"/>
                    <a:pt x="10178" y="2224"/>
                  </a:cubicBezTo>
                  <a:cubicBezTo>
                    <a:pt x="10178" y="2224"/>
                    <a:pt x="9098" y="2224"/>
                    <a:pt x="9098" y="2224"/>
                  </a:cubicBezTo>
                  <a:cubicBezTo>
                    <a:pt x="8738" y="2541"/>
                    <a:pt x="9098" y="3494"/>
                    <a:pt x="9098" y="3812"/>
                  </a:cubicBezTo>
                  <a:cubicBezTo>
                    <a:pt x="9098" y="4447"/>
                    <a:pt x="9098" y="5400"/>
                    <a:pt x="9098" y="6035"/>
                  </a:cubicBezTo>
                  <a:cubicBezTo>
                    <a:pt x="9098" y="6988"/>
                    <a:pt x="6938" y="6671"/>
                    <a:pt x="6938" y="7941"/>
                  </a:cubicBezTo>
                  <a:cubicBezTo>
                    <a:pt x="6938" y="8259"/>
                    <a:pt x="7298" y="9847"/>
                    <a:pt x="6938" y="10165"/>
                  </a:cubicBezTo>
                  <a:cubicBezTo>
                    <a:pt x="6938" y="10165"/>
                    <a:pt x="5858" y="10165"/>
                    <a:pt x="5498" y="10165"/>
                  </a:cubicBezTo>
                  <a:cubicBezTo>
                    <a:pt x="4058" y="10165"/>
                    <a:pt x="2258" y="10165"/>
                    <a:pt x="818" y="10165"/>
                  </a:cubicBezTo>
                  <a:cubicBezTo>
                    <a:pt x="458" y="10165"/>
                    <a:pt x="-262" y="9847"/>
                    <a:pt x="98" y="10482"/>
                  </a:cubicBezTo>
                  <a:cubicBezTo>
                    <a:pt x="458" y="10800"/>
                    <a:pt x="818" y="11118"/>
                    <a:pt x="1178" y="11435"/>
                  </a:cubicBezTo>
                  <a:cubicBezTo>
                    <a:pt x="1538" y="12071"/>
                    <a:pt x="1178" y="12706"/>
                    <a:pt x="818" y="13024"/>
                  </a:cubicBezTo>
                  <a:cubicBezTo>
                    <a:pt x="818" y="13976"/>
                    <a:pt x="1898" y="14294"/>
                    <a:pt x="1898" y="15247"/>
                  </a:cubicBezTo>
                  <a:cubicBezTo>
                    <a:pt x="2258" y="16200"/>
                    <a:pt x="1178" y="17471"/>
                    <a:pt x="818" y="18424"/>
                  </a:cubicBezTo>
                  <a:cubicBezTo>
                    <a:pt x="1178" y="18424"/>
                    <a:pt x="1178" y="18106"/>
                    <a:pt x="1538" y="1810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3" name="Shape 1407"/>
            <p:cNvSpPr/>
            <p:nvPr/>
          </p:nvSpPr>
          <p:spPr>
            <a:xfrm>
              <a:off x="7930800" y="3961800"/>
              <a:ext cx="111240" cy="85680"/>
            </a:xfrm>
            <a:custGeom>
              <a:avLst/>
              <a:gdLst/>
              <a:ahLst/>
              <a:rect l="l" t="t" r="r" b="b"/>
              <a:pathLst>
                <a:path w="21009" h="20528">
                  <a:moveTo>
                    <a:pt x="5368" y="20139"/>
                  </a:moveTo>
                  <a:cubicBezTo>
                    <a:pt x="6112" y="20139"/>
                    <a:pt x="6112" y="19200"/>
                    <a:pt x="6857" y="19200"/>
                  </a:cubicBezTo>
                  <a:cubicBezTo>
                    <a:pt x="8347" y="19200"/>
                    <a:pt x="9092" y="19200"/>
                    <a:pt x="10581" y="19200"/>
                  </a:cubicBezTo>
                  <a:cubicBezTo>
                    <a:pt x="12071" y="19200"/>
                    <a:pt x="14306" y="18261"/>
                    <a:pt x="16540" y="19200"/>
                  </a:cubicBezTo>
                  <a:cubicBezTo>
                    <a:pt x="17285" y="20139"/>
                    <a:pt x="18030" y="21078"/>
                    <a:pt x="19519" y="20139"/>
                  </a:cubicBezTo>
                  <a:cubicBezTo>
                    <a:pt x="21009" y="20139"/>
                    <a:pt x="21009" y="19200"/>
                    <a:pt x="21009" y="17321"/>
                  </a:cubicBezTo>
                  <a:cubicBezTo>
                    <a:pt x="21009" y="15443"/>
                    <a:pt x="18030" y="14504"/>
                    <a:pt x="18030" y="12626"/>
                  </a:cubicBezTo>
                  <a:cubicBezTo>
                    <a:pt x="18030" y="12626"/>
                    <a:pt x="18030" y="8869"/>
                    <a:pt x="18030" y="8869"/>
                  </a:cubicBezTo>
                  <a:cubicBezTo>
                    <a:pt x="17285" y="8869"/>
                    <a:pt x="14306" y="4174"/>
                    <a:pt x="13561" y="3235"/>
                  </a:cubicBezTo>
                  <a:cubicBezTo>
                    <a:pt x="11326" y="417"/>
                    <a:pt x="9092" y="-522"/>
                    <a:pt x="6112" y="417"/>
                  </a:cubicBezTo>
                  <a:cubicBezTo>
                    <a:pt x="5368" y="417"/>
                    <a:pt x="3133" y="-522"/>
                    <a:pt x="3133" y="417"/>
                  </a:cubicBezTo>
                  <a:cubicBezTo>
                    <a:pt x="2388" y="1356"/>
                    <a:pt x="899" y="3235"/>
                    <a:pt x="899" y="5113"/>
                  </a:cubicBezTo>
                  <a:cubicBezTo>
                    <a:pt x="1643" y="6991"/>
                    <a:pt x="1643" y="7930"/>
                    <a:pt x="154" y="8869"/>
                  </a:cubicBezTo>
                  <a:cubicBezTo>
                    <a:pt x="-591" y="8869"/>
                    <a:pt x="1643" y="10748"/>
                    <a:pt x="899" y="10748"/>
                  </a:cubicBezTo>
                  <a:cubicBezTo>
                    <a:pt x="2388" y="11687"/>
                    <a:pt x="899" y="11687"/>
                    <a:pt x="899" y="12626"/>
                  </a:cubicBezTo>
                  <a:cubicBezTo>
                    <a:pt x="899" y="12626"/>
                    <a:pt x="1643" y="13565"/>
                    <a:pt x="2388" y="13565"/>
                  </a:cubicBezTo>
                  <a:cubicBezTo>
                    <a:pt x="2388" y="14504"/>
                    <a:pt x="5368" y="13565"/>
                    <a:pt x="6112" y="13565"/>
                  </a:cubicBezTo>
                  <a:cubicBezTo>
                    <a:pt x="6857" y="13565"/>
                    <a:pt x="6857" y="12626"/>
                    <a:pt x="6857" y="12626"/>
                  </a:cubicBezTo>
                  <a:cubicBezTo>
                    <a:pt x="7602" y="12626"/>
                    <a:pt x="12071" y="15443"/>
                    <a:pt x="12071" y="14504"/>
                  </a:cubicBezTo>
                  <a:cubicBezTo>
                    <a:pt x="11326" y="16382"/>
                    <a:pt x="8347" y="15443"/>
                    <a:pt x="7602" y="15443"/>
                  </a:cubicBezTo>
                  <a:cubicBezTo>
                    <a:pt x="6112" y="14504"/>
                    <a:pt x="5368" y="16382"/>
                    <a:pt x="3878" y="16382"/>
                  </a:cubicBezTo>
                  <a:cubicBezTo>
                    <a:pt x="1643" y="16382"/>
                    <a:pt x="154" y="16382"/>
                    <a:pt x="1643" y="19200"/>
                  </a:cubicBezTo>
                  <a:cubicBezTo>
                    <a:pt x="1643" y="20139"/>
                    <a:pt x="2388" y="19200"/>
                    <a:pt x="3133" y="19200"/>
                  </a:cubicBezTo>
                  <a:cubicBezTo>
                    <a:pt x="3878" y="19200"/>
                    <a:pt x="4623" y="20139"/>
                    <a:pt x="5368" y="20139"/>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794" name="Shape 1408"/>
            <p:cNvSpPr/>
            <p:nvPr/>
          </p:nvSpPr>
          <p:spPr>
            <a:xfrm>
              <a:off x="8027640" y="3783960"/>
              <a:ext cx="325080" cy="305280"/>
            </a:xfrm>
            <a:custGeom>
              <a:avLst/>
              <a:gdLst/>
              <a:ahLst/>
              <a:rect l="l" t="t" r="r" b="b"/>
              <a:pathLst>
                <a:path w="21168" h="21377">
                  <a:moveTo>
                    <a:pt x="6943" y="123"/>
                  </a:moveTo>
                  <a:cubicBezTo>
                    <a:pt x="7457" y="4277"/>
                    <a:pt x="7971" y="8431"/>
                    <a:pt x="8486" y="12308"/>
                  </a:cubicBezTo>
                  <a:cubicBezTo>
                    <a:pt x="8486" y="12861"/>
                    <a:pt x="9000" y="13692"/>
                    <a:pt x="8229" y="13692"/>
                  </a:cubicBezTo>
                  <a:cubicBezTo>
                    <a:pt x="7200" y="13692"/>
                    <a:pt x="5914" y="13692"/>
                    <a:pt x="4886" y="13692"/>
                  </a:cubicBezTo>
                  <a:cubicBezTo>
                    <a:pt x="4371" y="13692"/>
                    <a:pt x="4114" y="13692"/>
                    <a:pt x="3857" y="13692"/>
                  </a:cubicBezTo>
                  <a:cubicBezTo>
                    <a:pt x="3600" y="13692"/>
                    <a:pt x="3343" y="13969"/>
                    <a:pt x="3086" y="13969"/>
                  </a:cubicBezTo>
                  <a:cubicBezTo>
                    <a:pt x="2829" y="14246"/>
                    <a:pt x="2571" y="13969"/>
                    <a:pt x="2057" y="13969"/>
                  </a:cubicBezTo>
                  <a:cubicBezTo>
                    <a:pt x="1800" y="13969"/>
                    <a:pt x="1800" y="14523"/>
                    <a:pt x="1543" y="14246"/>
                  </a:cubicBezTo>
                  <a:cubicBezTo>
                    <a:pt x="1286" y="14246"/>
                    <a:pt x="1029" y="13692"/>
                    <a:pt x="771" y="13692"/>
                  </a:cubicBezTo>
                  <a:cubicBezTo>
                    <a:pt x="514" y="13692"/>
                    <a:pt x="514" y="15354"/>
                    <a:pt x="0" y="15077"/>
                  </a:cubicBezTo>
                  <a:cubicBezTo>
                    <a:pt x="0" y="15354"/>
                    <a:pt x="0" y="15908"/>
                    <a:pt x="0" y="16184"/>
                  </a:cubicBezTo>
                  <a:cubicBezTo>
                    <a:pt x="0" y="16738"/>
                    <a:pt x="514" y="16738"/>
                    <a:pt x="771" y="17292"/>
                  </a:cubicBezTo>
                  <a:cubicBezTo>
                    <a:pt x="1029" y="17569"/>
                    <a:pt x="771" y="18123"/>
                    <a:pt x="1029" y="18400"/>
                  </a:cubicBezTo>
                  <a:cubicBezTo>
                    <a:pt x="1286" y="18954"/>
                    <a:pt x="1543" y="18400"/>
                    <a:pt x="1800" y="18677"/>
                  </a:cubicBezTo>
                  <a:cubicBezTo>
                    <a:pt x="1800" y="18954"/>
                    <a:pt x="2571" y="18677"/>
                    <a:pt x="2829" y="18677"/>
                  </a:cubicBezTo>
                  <a:cubicBezTo>
                    <a:pt x="3086" y="18677"/>
                    <a:pt x="3600" y="18123"/>
                    <a:pt x="3857" y="18123"/>
                  </a:cubicBezTo>
                  <a:cubicBezTo>
                    <a:pt x="4371" y="18677"/>
                    <a:pt x="4629" y="20061"/>
                    <a:pt x="5143" y="20615"/>
                  </a:cubicBezTo>
                  <a:cubicBezTo>
                    <a:pt x="5143" y="20615"/>
                    <a:pt x="4886" y="21169"/>
                    <a:pt x="5143" y="21169"/>
                  </a:cubicBezTo>
                  <a:cubicBezTo>
                    <a:pt x="5400" y="21446"/>
                    <a:pt x="5657" y="20892"/>
                    <a:pt x="5914" y="21169"/>
                  </a:cubicBezTo>
                  <a:cubicBezTo>
                    <a:pt x="6171" y="21446"/>
                    <a:pt x="6686" y="21446"/>
                    <a:pt x="6943" y="21169"/>
                  </a:cubicBezTo>
                  <a:cubicBezTo>
                    <a:pt x="7457" y="20615"/>
                    <a:pt x="7457" y="21169"/>
                    <a:pt x="7714" y="21169"/>
                  </a:cubicBezTo>
                  <a:cubicBezTo>
                    <a:pt x="8486" y="21169"/>
                    <a:pt x="9000" y="20061"/>
                    <a:pt x="9000" y="19508"/>
                  </a:cubicBezTo>
                  <a:cubicBezTo>
                    <a:pt x="9000" y="19231"/>
                    <a:pt x="8486" y="19231"/>
                    <a:pt x="9000" y="18954"/>
                  </a:cubicBezTo>
                  <a:cubicBezTo>
                    <a:pt x="9257" y="18677"/>
                    <a:pt x="9771" y="18954"/>
                    <a:pt x="10029" y="18400"/>
                  </a:cubicBezTo>
                  <a:cubicBezTo>
                    <a:pt x="10029" y="18123"/>
                    <a:pt x="10286" y="17569"/>
                    <a:pt x="10286" y="17292"/>
                  </a:cubicBezTo>
                  <a:cubicBezTo>
                    <a:pt x="10543" y="16738"/>
                    <a:pt x="10543" y="16461"/>
                    <a:pt x="10800" y="17015"/>
                  </a:cubicBezTo>
                  <a:cubicBezTo>
                    <a:pt x="11571" y="17569"/>
                    <a:pt x="12086" y="15354"/>
                    <a:pt x="12600" y="15631"/>
                  </a:cubicBezTo>
                  <a:cubicBezTo>
                    <a:pt x="12857" y="15631"/>
                    <a:pt x="12857" y="15631"/>
                    <a:pt x="13114" y="15631"/>
                  </a:cubicBezTo>
                  <a:cubicBezTo>
                    <a:pt x="13114" y="15631"/>
                    <a:pt x="13371" y="15354"/>
                    <a:pt x="13371" y="15354"/>
                  </a:cubicBezTo>
                  <a:cubicBezTo>
                    <a:pt x="13629" y="15077"/>
                    <a:pt x="13886" y="15077"/>
                    <a:pt x="14143" y="14800"/>
                  </a:cubicBezTo>
                  <a:cubicBezTo>
                    <a:pt x="14914" y="13969"/>
                    <a:pt x="15686" y="14800"/>
                    <a:pt x="16714" y="14523"/>
                  </a:cubicBezTo>
                  <a:cubicBezTo>
                    <a:pt x="17229" y="14523"/>
                    <a:pt x="17486" y="14246"/>
                    <a:pt x="18000" y="14246"/>
                  </a:cubicBezTo>
                  <a:cubicBezTo>
                    <a:pt x="18771" y="14246"/>
                    <a:pt x="19543" y="14246"/>
                    <a:pt x="20057" y="13969"/>
                  </a:cubicBezTo>
                  <a:cubicBezTo>
                    <a:pt x="21600" y="13415"/>
                    <a:pt x="21086" y="9815"/>
                    <a:pt x="21086" y="8431"/>
                  </a:cubicBezTo>
                  <a:cubicBezTo>
                    <a:pt x="20829" y="8708"/>
                    <a:pt x="20057" y="9261"/>
                    <a:pt x="19800" y="8708"/>
                  </a:cubicBezTo>
                  <a:cubicBezTo>
                    <a:pt x="19543" y="8431"/>
                    <a:pt x="20057" y="7877"/>
                    <a:pt x="19800" y="7600"/>
                  </a:cubicBezTo>
                  <a:cubicBezTo>
                    <a:pt x="19543" y="7046"/>
                    <a:pt x="18514" y="7323"/>
                    <a:pt x="18000" y="7046"/>
                  </a:cubicBezTo>
                  <a:cubicBezTo>
                    <a:pt x="17486" y="7046"/>
                    <a:pt x="17229" y="6215"/>
                    <a:pt x="16971" y="5938"/>
                  </a:cubicBezTo>
                  <a:cubicBezTo>
                    <a:pt x="16971" y="5661"/>
                    <a:pt x="16714" y="5384"/>
                    <a:pt x="16200" y="5384"/>
                  </a:cubicBezTo>
                  <a:cubicBezTo>
                    <a:pt x="15686" y="4831"/>
                    <a:pt x="14914" y="4277"/>
                    <a:pt x="14400" y="3723"/>
                  </a:cubicBezTo>
                  <a:cubicBezTo>
                    <a:pt x="12857" y="2892"/>
                    <a:pt x="11314" y="1784"/>
                    <a:pt x="10029" y="677"/>
                  </a:cubicBezTo>
                  <a:cubicBezTo>
                    <a:pt x="9771" y="677"/>
                    <a:pt x="9257" y="123"/>
                    <a:pt x="9000" y="123"/>
                  </a:cubicBezTo>
                  <a:cubicBezTo>
                    <a:pt x="8486" y="-154"/>
                    <a:pt x="7714" y="123"/>
                    <a:pt x="6943" y="12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5" name="Shape 1409"/>
            <p:cNvSpPr/>
            <p:nvPr/>
          </p:nvSpPr>
          <p:spPr>
            <a:xfrm>
              <a:off x="8741160" y="3638880"/>
              <a:ext cx="215280" cy="212760"/>
            </a:xfrm>
            <a:custGeom>
              <a:avLst/>
              <a:gdLst/>
              <a:ahLst/>
              <a:rect l="l" t="t" r="r" b="b"/>
              <a:pathLst>
                <a:path w="21289" h="21600">
                  <a:moveTo>
                    <a:pt x="17362" y="21600"/>
                  </a:moveTo>
                  <a:cubicBezTo>
                    <a:pt x="17754" y="21600"/>
                    <a:pt x="17754" y="20400"/>
                    <a:pt x="18540" y="20400"/>
                  </a:cubicBezTo>
                  <a:cubicBezTo>
                    <a:pt x="19718" y="20400"/>
                    <a:pt x="18933" y="19600"/>
                    <a:pt x="19718" y="19200"/>
                  </a:cubicBezTo>
                  <a:cubicBezTo>
                    <a:pt x="20896" y="18800"/>
                    <a:pt x="20896" y="18800"/>
                    <a:pt x="20896" y="17600"/>
                  </a:cubicBezTo>
                  <a:cubicBezTo>
                    <a:pt x="20504" y="16800"/>
                    <a:pt x="20504" y="16800"/>
                    <a:pt x="21289" y="16800"/>
                  </a:cubicBezTo>
                  <a:cubicBezTo>
                    <a:pt x="20896" y="16800"/>
                    <a:pt x="19718" y="14800"/>
                    <a:pt x="19325" y="14400"/>
                  </a:cubicBezTo>
                  <a:cubicBezTo>
                    <a:pt x="18933" y="12800"/>
                    <a:pt x="18147" y="11200"/>
                    <a:pt x="17362" y="10000"/>
                  </a:cubicBezTo>
                  <a:cubicBezTo>
                    <a:pt x="16576" y="8800"/>
                    <a:pt x="16184" y="7200"/>
                    <a:pt x="15398" y="6400"/>
                  </a:cubicBezTo>
                  <a:cubicBezTo>
                    <a:pt x="15005" y="6000"/>
                    <a:pt x="14220" y="3600"/>
                    <a:pt x="14613" y="3200"/>
                  </a:cubicBezTo>
                  <a:cubicBezTo>
                    <a:pt x="14613" y="3200"/>
                    <a:pt x="17754" y="8800"/>
                    <a:pt x="18147" y="8800"/>
                  </a:cubicBezTo>
                  <a:cubicBezTo>
                    <a:pt x="18540" y="8800"/>
                    <a:pt x="18933" y="7600"/>
                    <a:pt x="18933" y="7600"/>
                  </a:cubicBezTo>
                  <a:cubicBezTo>
                    <a:pt x="18933" y="6800"/>
                    <a:pt x="18933" y="6000"/>
                    <a:pt x="18540" y="5600"/>
                  </a:cubicBezTo>
                  <a:cubicBezTo>
                    <a:pt x="18540" y="4000"/>
                    <a:pt x="18147" y="2400"/>
                    <a:pt x="18147" y="800"/>
                  </a:cubicBezTo>
                  <a:cubicBezTo>
                    <a:pt x="17362" y="1600"/>
                    <a:pt x="15398" y="1600"/>
                    <a:pt x="14613" y="800"/>
                  </a:cubicBezTo>
                  <a:cubicBezTo>
                    <a:pt x="13042" y="0"/>
                    <a:pt x="11078" y="400"/>
                    <a:pt x="9507" y="1200"/>
                  </a:cubicBezTo>
                  <a:cubicBezTo>
                    <a:pt x="8329" y="2000"/>
                    <a:pt x="7151" y="1600"/>
                    <a:pt x="5973" y="1200"/>
                  </a:cubicBezTo>
                  <a:cubicBezTo>
                    <a:pt x="4402" y="800"/>
                    <a:pt x="2831" y="800"/>
                    <a:pt x="1260" y="400"/>
                  </a:cubicBezTo>
                  <a:cubicBezTo>
                    <a:pt x="1260" y="400"/>
                    <a:pt x="867" y="0"/>
                    <a:pt x="867" y="0"/>
                  </a:cubicBezTo>
                  <a:cubicBezTo>
                    <a:pt x="474" y="400"/>
                    <a:pt x="474" y="800"/>
                    <a:pt x="82" y="1200"/>
                  </a:cubicBezTo>
                  <a:cubicBezTo>
                    <a:pt x="-311" y="1600"/>
                    <a:pt x="867" y="2000"/>
                    <a:pt x="474" y="2800"/>
                  </a:cubicBezTo>
                  <a:cubicBezTo>
                    <a:pt x="82" y="3200"/>
                    <a:pt x="82" y="3600"/>
                    <a:pt x="82" y="4400"/>
                  </a:cubicBezTo>
                  <a:cubicBezTo>
                    <a:pt x="474" y="4400"/>
                    <a:pt x="474" y="4800"/>
                    <a:pt x="474" y="5200"/>
                  </a:cubicBezTo>
                  <a:cubicBezTo>
                    <a:pt x="474" y="6800"/>
                    <a:pt x="474" y="8400"/>
                    <a:pt x="474" y="10000"/>
                  </a:cubicBezTo>
                  <a:cubicBezTo>
                    <a:pt x="474" y="11200"/>
                    <a:pt x="474" y="20800"/>
                    <a:pt x="474" y="20800"/>
                  </a:cubicBezTo>
                  <a:cubicBezTo>
                    <a:pt x="4794" y="20800"/>
                    <a:pt x="8722" y="20800"/>
                    <a:pt x="13042" y="20800"/>
                  </a:cubicBezTo>
                  <a:cubicBezTo>
                    <a:pt x="13827" y="20800"/>
                    <a:pt x="14613" y="20800"/>
                    <a:pt x="15398" y="20800"/>
                  </a:cubicBezTo>
                  <a:cubicBezTo>
                    <a:pt x="16184" y="20800"/>
                    <a:pt x="16576" y="21600"/>
                    <a:pt x="17362" y="216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6" name="Shape 1410"/>
            <p:cNvSpPr/>
            <p:nvPr/>
          </p:nvSpPr>
          <p:spPr>
            <a:xfrm>
              <a:off x="8416080" y="3516120"/>
              <a:ext cx="78120" cy="153720"/>
            </a:xfrm>
            <a:custGeom>
              <a:avLst/>
              <a:gdLst/>
              <a:ahLst/>
              <a:rect l="l" t="t" r="r" b="b"/>
              <a:pathLst>
                <a:path w="21229" h="21600">
                  <a:moveTo>
                    <a:pt x="14749" y="18831"/>
                  </a:moveTo>
                  <a:cubicBezTo>
                    <a:pt x="12589" y="17723"/>
                    <a:pt x="16909" y="16615"/>
                    <a:pt x="17989" y="16615"/>
                  </a:cubicBezTo>
                  <a:cubicBezTo>
                    <a:pt x="20149" y="16062"/>
                    <a:pt x="21229" y="15508"/>
                    <a:pt x="21229" y="14954"/>
                  </a:cubicBezTo>
                  <a:cubicBezTo>
                    <a:pt x="21229" y="14400"/>
                    <a:pt x="21229" y="13846"/>
                    <a:pt x="21229" y="13292"/>
                  </a:cubicBezTo>
                  <a:cubicBezTo>
                    <a:pt x="21229" y="12738"/>
                    <a:pt x="20149" y="12738"/>
                    <a:pt x="20149" y="12738"/>
                  </a:cubicBezTo>
                  <a:cubicBezTo>
                    <a:pt x="19069" y="12185"/>
                    <a:pt x="19069" y="11631"/>
                    <a:pt x="17989" y="11077"/>
                  </a:cubicBezTo>
                  <a:cubicBezTo>
                    <a:pt x="16909" y="11077"/>
                    <a:pt x="15829" y="11631"/>
                    <a:pt x="14749" y="11077"/>
                  </a:cubicBezTo>
                  <a:cubicBezTo>
                    <a:pt x="11509" y="9969"/>
                    <a:pt x="14749" y="9415"/>
                    <a:pt x="16909" y="8862"/>
                  </a:cubicBezTo>
                  <a:cubicBezTo>
                    <a:pt x="19069" y="8308"/>
                    <a:pt x="20149" y="6646"/>
                    <a:pt x="17989" y="5538"/>
                  </a:cubicBezTo>
                  <a:cubicBezTo>
                    <a:pt x="17989" y="4985"/>
                    <a:pt x="14749" y="3877"/>
                    <a:pt x="15829" y="3323"/>
                  </a:cubicBezTo>
                  <a:cubicBezTo>
                    <a:pt x="16909" y="2769"/>
                    <a:pt x="17989" y="2769"/>
                    <a:pt x="19069" y="2215"/>
                  </a:cubicBezTo>
                  <a:cubicBezTo>
                    <a:pt x="19069" y="2215"/>
                    <a:pt x="19069" y="554"/>
                    <a:pt x="19069" y="554"/>
                  </a:cubicBezTo>
                  <a:cubicBezTo>
                    <a:pt x="17989" y="554"/>
                    <a:pt x="16909" y="2215"/>
                    <a:pt x="15829" y="1662"/>
                  </a:cubicBezTo>
                  <a:cubicBezTo>
                    <a:pt x="15829" y="1662"/>
                    <a:pt x="14749" y="1108"/>
                    <a:pt x="14749" y="1108"/>
                  </a:cubicBezTo>
                  <a:cubicBezTo>
                    <a:pt x="13669" y="554"/>
                    <a:pt x="12589" y="0"/>
                    <a:pt x="11509" y="0"/>
                  </a:cubicBezTo>
                  <a:cubicBezTo>
                    <a:pt x="9349" y="554"/>
                    <a:pt x="6109" y="1108"/>
                    <a:pt x="5029" y="2215"/>
                  </a:cubicBezTo>
                  <a:cubicBezTo>
                    <a:pt x="2869" y="4431"/>
                    <a:pt x="5029" y="7754"/>
                    <a:pt x="1789" y="9415"/>
                  </a:cubicBezTo>
                  <a:cubicBezTo>
                    <a:pt x="-371" y="10523"/>
                    <a:pt x="-371" y="10523"/>
                    <a:pt x="709" y="11631"/>
                  </a:cubicBezTo>
                  <a:cubicBezTo>
                    <a:pt x="709" y="12738"/>
                    <a:pt x="3949" y="13292"/>
                    <a:pt x="3949" y="14400"/>
                  </a:cubicBezTo>
                  <a:cubicBezTo>
                    <a:pt x="5029" y="15508"/>
                    <a:pt x="8269" y="16062"/>
                    <a:pt x="8269" y="16615"/>
                  </a:cubicBezTo>
                  <a:cubicBezTo>
                    <a:pt x="9349" y="18277"/>
                    <a:pt x="10429" y="20492"/>
                    <a:pt x="10429" y="21600"/>
                  </a:cubicBezTo>
                  <a:cubicBezTo>
                    <a:pt x="12589" y="21600"/>
                    <a:pt x="16909" y="20492"/>
                    <a:pt x="14749" y="18831"/>
                  </a:cubicBezTo>
                  <a:cubicBezTo>
                    <a:pt x="13669" y="18277"/>
                    <a:pt x="15829" y="19385"/>
                    <a:pt x="14749" y="1883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7" name="Shape 1411"/>
            <p:cNvSpPr/>
            <p:nvPr/>
          </p:nvSpPr>
          <p:spPr>
            <a:xfrm>
              <a:off x="8452800" y="3606480"/>
              <a:ext cx="297360" cy="289800"/>
            </a:xfrm>
            <a:custGeom>
              <a:avLst/>
              <a:gdLst/>
              <a:ahLst/>
              <a:rect l="l" t="t" r="r" b="b"/>
              <a:pathLst>
                <a:path w="21374" h="21600">
                  <a:moveTo>
                    <a:pt x="5742" y="16274"/>
                  </a:moveTo>
                  <a:cubicBezTo>
                    <a:pt x="5742" y="16570"/>
                    <a:pt x="6595" y="17162"/>
                    <a:pt x="6879" y="16866"/>
                  </a:cubicBezTo>
                  <a:cubicBezTo>
                    <a:pt x="7163" y="16570"/>
                    <a:pt x="7448" y="16570"/>
                    <a:pt x="7732" y="16274"/>
                  </a:cubicBezTo>
                  <a:cubicBezTo>
                    <a:pt x="8016" y="16274"/>
                    <a:pt x="8869" y="15682"/>
                    <a:pt x="9153" y="15682"/>
                  </a:cubicBezTo>
                  <a:cubicBezTo>
                    <a:pt x="10290" y="16274"/>
                    <a:pt x="11142" y="16866"/>
                    <a:pt x="12279" y="17458"/>
                  </a:cubicBezTo>
                  <a:cubicBezTo>
                    <a:pt x="14837" y="18937"/>
                    <a:pt x="17111" y="20416"/>
                    <a:pt x="19669" y="21600"/>
                  </a:cubicBezTo>
                  <a:cubicBezTo>
                    <a:pt x="19669" y="21008"/>
                    <a:pt x="19385" y="21008"/>
                    <a:pt x="19953" y="21008"/>
                  </a:cubicBezTo>
                  <a:cubicBezTo>
                    <a:pt x="19953" y="21008"/>
                    <a:pt x="21090" y="21008"/>
                    <a:pt x="21090" y="21008"/>
                  </a:cubicBezTo>
                  <a:cubicBezTo>
                    <a:pt x="21090" y="20416"/>
                    <a:pt x="21090" y="20121"/>
                    <a:pt x="21090" y="19529"/>
                  </a:cubicBezTo>
                  <a:cubicBezTo>
                    <a:pt x="21090" y="17458"/>
                    <a:pt x="21090" y="15386"/>
                    <a:pt x="21090" y="13019"/>
                  </a:cubicBezTo>
                  <a:cubicBezTo>
                    <a:pt x="21090" y="10948"/>
                    <a:pt x="21090" y="8877"/>
                    <a:pt x="21090" y="7101"/>
                  </a:cubicBezTo>
                  <a:cubicBezTo>
                    <a:pt x="21090" y="6510"/>
                    <a:pt x="21090" y="6214"/>
                    <a:pt x="21090" y="5918"/>
                  </a:cubicBezTo>
                  <a:cubicBezTo>
                    <a:pt x="20806" y="5622"/>
                    <a:pt x="20806" y="5326"/>
                    <a:pt x="20806" y="5030"/>
                  </a:cubicBezTo>
                  <a:cubicBezTo>
                    <a:pt x="20806" y="4734"/>
                    <a:pt x="21374" y="4438"/>
                    <a:pt x="21374" y="4142"/>
                  </a:cubicBezTo>
                  <a:cubicBezTo>
                    <a:pt x="21374" y="3847"/>
                    <a:pt x="20806" y="3551"/>
                    <a:pt x="20806" y="3255"/>
                  </a:cubicBezTo>
                  <a:cubicBezTo>
                    <a:pt x="20806" y="2959"/>
                    <a:pt x="21090" y="2663"/>
                    <a:pt x="21374" y="2367"/>
                  </a:cubicBezTo>
                  <a:cubicBezTo>
                    <a:pt x="20521" y="1775"/>
                    <a:pt x="19669" y="2071"/>
                    <a:pt x="18816" y="1479"/>
                  </a:cubicBezTo>
                  <a:cubicBezTo>
                    <a:pt x="18248" y="1184"/>
                    <a:pt x="17963" y="592"/>
                    <a:pt x="17111" y="592"/>
                  </a:cubicBezTo>
                  <a:cubicBezTo>
                    <a:pt x="15974" y="592"/>
                    <a:pt x="14837" y="888"/>
                    <a:pt x="14269" y="1775"/>
                  </a:cubicBezTo>
                  <a:cubicBezTo>
                    <a:pt x="13985" y="2071"/>
                    <a:pt x="13985" y="2367"/>
                    <a:pt x="14269" y="2663"/>
                  </a:cubicBezTo>
                  <a:cubicBezTo>
                    <a:pt x="14553" y="3255"/>
                    <a:pt x="14269" y="3551"/>
                    <a:pt x="13985" y="4142"/>
                  </a:cubicBezTo>
                  <a:cubicBezTo>
                    <a:pt x="13416" y="5030"/>
                    <a:pt x="12279" y="4438"/>
                    <a:pt x="11427" y="3847"/>
                  </a:cubicBezTo>
                  <a:cubicBezTo>
                    <a:pt x="10858" y="3847"/>
                    <a:pt x="10574" y="3551"/>
                    <a:pt x="10006" y="3551"/>
                  </a:cubicBezTo>
                  <a:cubicBezTo>
                    <a:pt x="9437" y="3255"/>
                    <a:pt x="8869" y="3551"/>
                    <a:pt x="8585" y="2959"/>
                  </a:cubicBezTo>
                  <a:cubicBezTo>
                    <a:pt x="8300" y="2663"/>
                    <a:pt x="8300" y="2071"/>
                    <a:pt x="8016" y="1775"/>
                  </a:cubicBezTo>
                  <a:cubicBezTo>
                    <a:pt x="7732" y="1184"/>
                    <a:pt x="6879" y="1184"/>
                    <a:pt x="6311" y="888"/>
                  </a:cubicBezTo>
                  <a:cubicBezTo>
                    <a:pt x="5742" y="592"/>
                    <a:pt x="5174" y="592"/>
                    <a:pt x="4606" y="592"/>
                  </a:cubicBezTo>
                  <a:cubicBezTo>
                    <a:pt x="4037" y="592"/>
                    <a:pt x="3753" y="296"/>
                    <a:pt x="2900" y="0"/>
                  </a:cubicBezTo>
                  <a:cubicBezTo>
                    <a:pt x="2900" y="296"/>
                    <a:pt x="2900" y="592"/>
                    <a:pt x="2900" y="1184"/>
                  </a:cubicBezTo>
                  <a:cubicBezTo>
                    <a:pt x="2900" y="1479"/>
                    <a:pt x="2900" y="1184"/>
                    <a:pt x="2332" y="1775"/>
                  </a:cubicBezTo>
                  <a:cubicBezTo>
                    <a:pt x="2048" y="2071"/>
                    <a:pt x="1763" y="2071"/>
                    <a:pt x="1195" y="2367"/>
                  </a:cubicBezTo>
                  <a:cubicBezTo>
                    <a:pt x="627" y="2959"/>
                    <a:pt x="1479" y="3551"/>
                    <a:pt x="1195" y="4142"/>
                  </a:cubicBezTo>
                  <a:cubicBezTo>
                    <a:pt x="911" y="4734"/>
                    <a:pt x="58" y="4734"/>
                    <a:pt x="58" y="5030"/>
                  </a:cubicBezTo>
                  <a:cubicBezTo>
                    <a:pt x="58" y="5622"/>
                    <a:pt x="342" y="5918"/>
                    <a:pt x="627" y="6214"/>
                  </a:cubicBezTo>
                  <a:cubicBezTo>
                    <a:pt x="627" y="6805"/>
                    <a:pt x="627" y="7397"/>
                    <a:pt x="627" y="7693"/>
                  </a:cubicBezTo>
                  <a:cubicBezTo>
                    <a:pt x="627" y="8285"/>
                    <a:pt x="911" y="8581"/>
                    <a:pt x="627" y="9173"/>
                  </a:cubicBezTo>
                  <a:cubicBezTo>
                    <a:pt x="627" y="9468"/>
                    <a:pt x="627" y="9764"/>
                    <a:pt x="627" y="10060"/>
                  </a:cubicBezTo>
                  <a:cubicBezTo>
                    <a:pt x="627" y="10356"/>
                    <a:pt x="911" y="10652"/>
                    <a:pt x="627" y="10948"/>
                  </a:cubicBezTo>
                  <a:cubicBezTo>
                    <a:pt x="627" y="11244"/>
                    <a:pt x="-226" y="11244"/>
                    <a:pt x="58" y="11836"/>
                  </a:cubicBezTo>
                  <a:cubicBezTo>
                    <a:pt x="627" y="12427"/>
                    <a:pt x="911" y="12723"/>
                    <a:pt x="911" y="13611"/>
                  </a:cubicBezTo>
                  <a:cubicBezTo>
                    <a:pt x="911" y="14203"/>
                    <a:pt x="1479" y="13907"/>
                    <a:pt x="1763" y="14203"/>
                  </a:cubicBezTo>
                  <a:cubicBezTo>
                    <a:pt x="2332" y="14203"/>
                    <a:pt x="2616" y="14203"/>
                    <a:pt x="2900" y="14499"/>
                  </a:cubicBezTo>
                  <a:cubicBezTo>
                    <a:pt x="3185" y="14795"/>
                    <a:pt x="3469" y="15386"/>
                    <a:pt x="3753" y="15682"/>
                  </a:cubicBezTo>
                  <a:cubicBezTo>
                    <a:pt x="4321" y="15978"/>
                    <a:pt x="5174" y="15682"/>
                    <a:pt x="5742" y="16274"/>
                  </a:cubicBezTo>
                  <a:cubicBezTo>
                    <a:pt x="6027" y="16570"/>
                    <a:pt x="5458" y="15978"/>
                    <a:pt x="5742" y="1627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8" name="Shape 1412"/>
            <p:cNvSpPr/>
            <p:nvPr/>
          </p:nvSpPr>
          <p:spPr>
            <a:xfrm>
              <a:off x="7931880" y="3729240"/>
              <a:ext cx="165600" cy="134640"/>
            </a:xfrm>
            <a:custGeom>
              <a:avLst/>
              <a:gdLst/>
              <a:ahLst/>
              <a:rect l="l" t="t" r="r" b="b"/>
              <a:pathLst>
                <a:path w="21600" h="21600">
                  <a:moveTo>
                    <a:pt x="9771" y="21600"/>
                  </a:moveTo>
                  <a:cubicBezTo>
                    <a:pt x="9771" y="19694"/>
                    <a:pt x="9257" y="16518"/>
                    <a:pt x="10286" y="15882"/>
                  </a:cubicBezTo>
                  <a:cubicBezTo>
                    <a:pt x="10800" y="15247"/>
                    <a:pt x="11829" y="14612"/>
                    <a:pt x="12343" y="13976"/>
                  </a:cubicBezTo>
                  <a:cubicBezTo>
                    <a:pt x="12857" y="13976"/>
                    <a:pt x="12857" y="12706"/>
                    <a:pt x="12857" y="12706"/>
                  </a:cubicBezTo>
                  <a:cubicBezTo>
                    <a:pt x="12857" y="10165"/>
                    <a:pt x="12857" y="8259"/>
                    <a:pt x="12857" y="5718"/>
                  </a:cubicBezTo>
                  <a:cubicBezTo>
                    <a:pt x="12857" y="5718"/>
                    <a:pt x="15943" y="5718"/>
                    <a:pt x="16457" y="5718"/>
                  </a:cubicBezTo>
                  <a:cubicBezTo>
                    <a:pt x="18000" y="5718"/>
                    <a:pt x="19543" y="5718"/>
                    <a:pt x="21086" y="5718"/>
                  </a:cubicBezTo>
                  <a:cubicBezTo>
                    <a:pt x="21600" y="5718"/>
                    <a:pt x="21600" y="1906"/>
                    <a:pt x="21600" y="1271"/>
                  </a:cubicBezTo>
                  <a:cubicBezTo>
                    <a:pt x="21600" y="0"/>
                    <a:pt x="21600" y="0"/>
                    <a:pt x="20571" y="0"/>
                  </a:cubicBezTo>
                  <a:cubicBezTo>
                    <a:pt x="16971" y="0"/>
                    <a:pt x="13886" y="0"/>
                    <a:pt x="10286" y="0"/>
                  </a:cubicBezTo>
                  <a:cubicBezTo>
                    <a:pt x="9257" y="1271"/>
                    <a:pt x="8743" y="2541"/>
                    <a:pt x="7714" y="3812"/>
                  </a:cubicBezTo>
                  <a:cubicBezTo>
                    <a:pt x="5657" y="5718"/>
                    <a:pt x="5657" y="7624"/>
                    <a:pt x="5143" y="10800"/>
                  </a:cubicBezTo>
                  <a:cubicBezTo>
                    <a:pt x="5143" y="10800"/>
                    <a:pt x="4629" y="11435"/>
                    <a:pt x="4114" y="11435"/>
                  </a:cubicBezTo>
                  <a:cubicBezTo>
                    <a:pt x="3086" y="12706"/>
                    <a:pt x="2571" y="13976"/>
                    <a:pt x="2057" y="15882"/>
                  </a:cubicBezTo>
                  <a:cubicBezTo>
                    <a:pt x="1029" y="17788"/>
                    <a:pt x="0" y="19059"/>
                    <a:pt x="0" y="21600"/>
                  </a:cubicBezTo>
                  <a:cubicBezTo>
                    <a:pt x="3086" y="21600"/>
                    <a:pt x="6686" y="21600"/>
                    <a:pt x="9771" y="216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9" name="Shape 1413"/>
            <p:cNvSpPr/>
            <p:nvPr/>
          </p:nvSpPr>
          <p:spPr>
            <a:xfrm>
              <a:off x="8011440" y="3549240"/>
              <a:ext cx="231480" cy="179640"/>
            </a:xfrm>
            <a:custGeom>
              <a:avLst/>
              <a:gdLst/>
              <a:ahLst/>
              <a:rect l="l" t="t" r="r" b="b"/>
              <a:pathLst>
                <a:path w="21082" h="20419">
                  <a:moveTo>
                    <a:pt x="7920" y="20419"/>
                  </a:moveTo>
                  <a:cubicBezTo>
                    <a:pt x="7920" y="19069"/>
                    <a:pt x="7560" y="18169"/>
                    <a:pt x="8280" y="17269"/>
                  </a:cubicBezTo>
                  <a:cubicBezTo>
                    <a:pt x="9000" y="16819"/>
                    <a:pt x="10080" y="16369"/>
                    <a:pt x="10440" y="15469"/>
                  </a:cubicBezTo>
                  <a:cubicBezTo>
                    <a:pt x="10800" y="15469"/>
                    <a:pt x="11520" y="15469"/>
                    <a:pt x="11880" y="15469"/>
                  </a:cubicBezTo>
                  <a:cubicBezTo>
                    <a:pt x="12240" y="15019"/>
                    <a:pt x="12960" y="15019"/>
                    <a:pt x="13680" y="14569"/>
                  </a:cubicBezTo>
                  <a:cubicBezTo>
                    <a:pt x="14040" y="14119"/>
                    <a:pt x="14040" y="13669"/>
                    <a:pt x="14400" y="13219"/>
                  </a:cubicBezTo>
                  <a:cubicBezTo>
                    <a:pt x="14760" y="12769"/>
                    <a:pt x="15840" y="13219"/>
                    <a:pt x="16200" y="12769"/>
                  </a:cubicBezTo>
                  <a:cubicBezTo>
                    <a:pt x="16560" y="12319"/>
                    <a:pt x="16560" y="11869"/>
                    <a:pt x="16560" y="11419"/>
                  </a:cubicBezTo>
                  <a:cubicBezTo>
                    <a:pt x="16560" y="10519"/>
                    <a:pt x="17640" y="10519"/>
                    <a:pt x="18000" y="10069"/>
                  </a:cubicBezTo>
                  <a:cubicBezTo>
                    <a:pt x="18360" y="9619"/>
                    <a:pt x="18360" y="9169"/>
                    <a:pt x="19080" y="9169"/>
                  </a:cubicBezTo>
                  <a:cubicBezTo>
                    <a:pt x="19440" y="9169"/>
                    <a:pt x="20520" y="9619"/>
                    <a:pt x="20880" y="9619"/>
                  </a:cubicBezTo>
                  <a:cubicBezTo>
                    <a:pt x="21600" y="9169"/>
                    <a:pt x="20160" y="6469"/>
                    <a:pt x="20160" y="6019"/>
                  </a:cubicBezTo>
                  <a:cubicBezTo>
                    <a:pt x="20160" y="5119"/>
                    <a:pt x="20160" y="4219"/>
                    <a:pt x="20160" y="3319"/>
                  </a:cubicBezTo>
                  <a:cubicBezTo>
                    <a:pt x="19800" y="2869"/>
                    <a:pt x="19800" y="2419"/>
                    <a:pt x="19800" y="1969"/>
                  </a:cubicBezTo>
                  <a:cubicBezTo>
                    <a:pt x="19080" y="1969"/>
                    <a:pt x="18720" y="1519"/>
                    <a:pt x="18360" y="1519"/>
                  </a:cubicBezTo>
                  <a:cubicBezTo>
                    <a:pt x="18000" y="1069"/>
                    <a:pt x="17280" y="1519"/>
                    <a:pt x="16920" y="1519"/>
                  </a:cubicBezTo>
                  <a:cubicBezTo>
                    <a:pt x="16560" y="1069"/>
                    <a:pt x="15840" y="1519"/>
                    <a:pt x="15120" y="1519"/>
                  </a:cubicBezTo>
                  <a:cubicBezTo>
                    <a:pt x="14400" y="1519"/>
                    <a:pt x="12960" y="-1181"/>
                    <a:pt x="12600" y="619"/>
                  </a:cubicBezTo>
                  <a:cubicBezTo>
                    <a:pt x="12240" y="1969"/>
                    <a:pt x="11880" y="3319"/>
                    <a:pt x="10800" y="4669"/>
                  </a:cubicBezTo>
                  <a:cubicBezTo>
                    <a:pt x="9720" y="6019"/>
                    <a:pt x="8280" y="6019"/>
                    <a:pt x="7200" y="7369"/>
                  </a:cubicBezTo>
                  <a:cubicBezTo>
                    <a:pt x="6480" y="8269"/>
                    <a:pt x="6120" y="9619"/>
                    <a:pt x="5760" y="10969"/>
                  </a:cubicBezTo>
                  <a:cubicBezTo>
                    <a:pt x="5760" y="11869"/>
                    <a:pt x="6120" y="13219"/>
                    <a:pt x="5760" y="14569"/>
                  </a:cubicBezTo>
                  <a:cubicBezTo>
                    <a:pt x="5400" y="15019"/>
                    <a:pt x="5040" y="15919"/>
                    <a:pt x="5040" y="16369"/>
                  </a:cubicBezTo>
                  <a:cubicBezTo>
                    <a:pt x="4680" y="17269"/>
                    <a:pt x="3960" y="17269"/>
                    <a:pt x="3240" y="17719"/>
                  </a:cubicBezTo>
                  <a:cubicBezTo>
                    <a:pt x="2880" y="18169"/>
                    <a:pt x="2520" y="18619"/>
                    <a:pt x="1800" y="19069"/>
                  </a:cubicBezTo>
                  <a:cubicBezTo>
                    <a:pt x="1440" y="19519"/>
                    <a:pt x="720" y="19519"/>
                    <a:pt x="0" y="20419"/>
                  </a:cubicBezTo>
                  <a:lnTo>
                    <a:pt x="7920" y="20419"/>
                  </a:ln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800" name="Shape 1414"/>
            <p:cNvSpPr/>
            <p:nvPr/>
          </p:nvSpPr>
          <p:spPr>
            <a:xfrm>
              <a:off x="8097840" y="3520080"/>
              <a:ext cx="406800" cy="390960"/>
            </a:xfrm>
            <a:custGeom>
              <a:avLst/>
              <a:gdLst/>
              <a:ahLst/>
              <a:rect l="l" t="t" r="r" b="b"/>
              <a:pathLst>
                <a:path w="21444" h="21600">
                  <a:moveTo>
                    <a:pt x="7113" y="4800"/>
                  </a:moveTo>
                  <a:cubicBezTo>
                    <a:pt x="7321" y="5018"/>
                    <a:pt x="8152" y="6327"/>
                    <a:pt x="7321" y="6327"/>
                  </a:cubicBezTo>
                  <a:cubicBezTo>
                    <a:pt x="7113" y="6109"/>
                    <a:pt x="6490" y="5891"/>
                    <a:pt x="6282" y="6109"/>
                  </a:cubicBezTo>
                  <a:cubicBezTo>
                    <a:pt x="6075" y="6327"/>
                    <a:pt x="6075" y="6327"/>
                    <a:pt x="5867" y="6545"/>
                  </a:cubicBezTo>
                  <a:cubicBezTo>
                    <a:pt x="5659" y="6764"/>
                    <a:pt x="5452" y="6764"/>
                    <a:pt x="5244" y="6764"/>
                  </a:cubicBezTo>
                  <a:cubicBezTo>
                    <a:pt x="4829" y="6982"/>
                    <a:pt x="5036" y="7418"/>
                    <a:pt x="4829" y="7636"/>
                  </a:cubicBezTo>
                  <a:cubicBezTo>
                    <a:pt x="4829" y="8073"/>
                    <a:pt x="4206" y="7855"/>
                    <a:pt x="3998" y="8073"/>
                  </a:cubicBezTo>
                  <a:cubicBezTo>
                    <a:pt x="3582" y="8073"/>
                    <a:pt x="3582" y="8509"/>
                    <a:pt x="3375" y="8727"/>
                  </a:cubicBezTo>
                  <a:cubicBezTo>
                    <a:pt x="2959" y="9164"/>
                    <a:pt x="2544" y="8945"/>
                    <a:pt x="2129" y="9164"/>
                  </a:cubicBezTo>
                  <a:cubicBezTo>
                    <a:pt x="1921" y="9164"/>
                    <a:pt x="1713" y="9164"/>
                    <a:pt x="1506" y="9382"/>
                  </a:cubicBezTo>
                  <a:cubicBezTo>
                    <a:pt x="1298" y="9382"/>
                    <a:pt x="882" y="9600"/>
                    <a:pt x="675" y="9818"/>
                  </a:cubicBezTo>
                  <a:cubicBezTo>
                    <a:pt x="-156" y="10255"/>
                    <a:pt x="52" y="10473"/>
                    <a:pt x="52" y="11345"/>
                  </a:cubicBezTo>
                  <a:cubicBezTo>
                    <a:pt x="52" y="12000"/>
                    <a:pt x="-156" y="12000"/>
                    <a:pt x="259" y="12218"/>
                  </a:cubicBezTo>
                  <a:cubicBezTo>
                    <a:pt x="467" y="12436"/>
                    <a:pt x="882" y="12655"/>
                    <a:pt x="1090" y="12873"/>
                  </a:cubicBezTo>
                  <a:cubicBezTo>
                    <a:pt x="3167" y="14400"/>
                    <a:pt x="5244" y="15709"/>
                    <a:pt x="7529" y="17236"/>
                  </a:cubicBezTo>
                  <a:cubicBezTo>
                    <a:pt x="8152" y="17673"/>
                    <a:pt x="8982" y="18327"/>
                    <a:pt x="9813" y="18764"/>
                  </a:cubicBezTo>
                  <a:cubicBezTo>
                    <a:pt x="9813" y="18982"/>
                    <a:pt x="10021" y="18982"/>
                    <a:pt x="10021" y="18982"/>
                  </a:cubicBezTo>
                  <a:cubicBezTo>
                    <a:pt x="10644" y="20073"/>
                    <a:pt x="11059" y="20073"/>
                    <a:pt x="11890" y="20291"/>
                  </a:cubicBezTo>
                  <a:cubicBezTo>
                    <a:pt x="12513" y="20509"/>
                    <a:pt x="11890" y="21382"/>
                    <a:pt x="12513" y="21600"/>
                  </a:cubicBezTo>
                  <a:cubicBezTo>
                    <a:pt x="12721" y="21600"/>
                    <a:pt x="13344" y="21382"/>
                    <a:pt x="13759" y="21164"/>
                  </a:cubicBezTo>
                  <a:cubicBezTo>
                    <a:pt x="13967" y="21164"/>
                    <a:pt x="14590" y="21164"/>
                    <a:pt x="14798" y="20945"/>
                  </a:cubicBezTo>
                  <a:cubicBezTo>
                    <a:pt x="15629" y="20291"/>
                    <a:pt x="16459" y="19636"/>
                    <a:pt x="17498" y="18982"/>
                  </a:cubicBezTo>
                  <a:cubicBezTo>
                    <a:pt x="18536" y="18327"/>
                    <a:pt x="19575" y="17455"/>
                    <a:pt x="20613" y="16800"/>
                  </a:cubicBezTo>
                  <a:cubicBezTo>
                    <a:pt x="20821" y="16800"/>
                    <a:pt x="21029" y="16582"/>
                    <a:pt x="21444" y="16364"/>
                  </a:cubicBezTo>
                  <a:cubicBezTo>
                    <a:pt x="21029" y="15491"/>
                    <a:pt x="20821" y="15273"/>
                    <a:pt x="19990" y="15055"/>
                  </a:cubicBezTo>
                  <a:cubicBezTo>
                    <a:pt x="19782" y="15055"/>
                    <a:pt x="19367" y="15055"/>
                    <a:pt x="19367" y="15055"/>
                  </a:cubicBezTo>
                  <a:cubicBezTo>
                    <a:pt x="19367" y="14400"/>
                    <a:pt x="19367" y="14182"/>
                    <a:pt x="18952" y="13745"/>
                  </a:cubicBezTo>
                  <a:cubicBezTo>
                    <a:pt x="18744" y="13309"/>
                    <a:pt x="18744" y="13309"/>
                    <a:pt x="18952" y="13091"/>
                  </a:cubicBezTo>
                  <a:cubicBezTo>
                    <a:pt x="19367" y="12655"/>
                    <a:pt x="19159" y="12436"/>
                    <a:pt x="19159" y="12000"/>
                  </a:cubicBezTo>
                  <a:cubicBezTo>
                    <a:pt x="19159" y="11564"/>
                    <a:pt x="19367" y="11345"/>
                    <a:pt x="19159" y="10909"/>
                  </a:cubicBezTo>
                  <a:cubicBezTo>
                    <a:pt x="19159" y="10691"/>
                    <a:pt x="19159" y="10473"/>
                    <a:pt x="19159" y="10036"/>
                  </a:cubicBezTo>
                  <a:cubicBezTo>
                    <a:pt x="19159" y="9818"/>
                    <a:pt x="19159" y="9382"/>
                    <a:pt x="18952" y="9164"/>
                  </a:cubicBezTo>
                  <a:cubicBezTo>
                    <a:pt x="18744" y="8945"/>
                    <a:pt x="18744" y="8509"/>
                    <a:pt x="18744" y="8073"/>
                  </a:cubicBezTo>
                  <a:cubicBezTo>
                    <a:pt x="18744" y="7418"/>
                    <a:pt x="18536" y="6545"/>
                    <a:pt x="17913" y="5891"/>
                  </a:cubicBezTo>
                  <a:cubicBezTo>
                    <a:pt x="17498" y="5455"/>
                    <a:pt x="17082" y="5018"/>
                    <a:pt x="16875" y="4364"/>
                  </a:cubicBezTo>
                  <a:cubicBezTo>
                    <a:pt x="16459" y="3491"/>
                    <a:pt x="17290" y="3709"/>
                    <a:pt x="17498" y="2836"/>
                  </a:cubicBezTo>
                  <a:cubicBezTo>
                    <a:pt x="17498" y="1964"/>
                    <a:pt x="17498" y="1309"/>
                    <a:pt x="17706" y="436"/>
                  </a:cubicBezTo>
                  <a:cubicBezTo>
                    <a:pt x="17498" y="436"/>
                    <a:pt x="17498" y="218"/>
                    <a:pt x="17290" y="218"/>
                  </a:cubicBezTo>
                  <a:cubicBezTo>
                    <a:pt x="16875" y="436"/>
                    <a:pt x="16875" y="0"/>
                    <a:pt x="16667" y="0"/>
                  </a:cubicBezTo>
                  <a:cubicBezTo>
                    <a:pt x="16459" y="0"/>
                    <a:pt x="16459" y="218"/>
                    <a:pt x="16252" y="218"/>
                  </a:cubicBezTo>
                  <a:cubicBezTo>
                    <a:pt x="15836" y="218"/>
                    <a:pt x="15836" y="0"/>
                    <a:pt x="15421" y="0"/>
                  </a:cubicBezTo>
                  <a:cubicBezTo>
                    <a:pt x="15213" y="218"/>
                    <a:pt x="15006" y="218"/>
                    <a:pt x="14798" y="436"/>
                  </a:cubicBezTo>
                  <a:cubicBezTo>
                    <a:pt x="14382" y="655"/>
                    <a:pt x="14382" y="436"/>
                    <a:pt x="13967" y="218"/>
                  </a:cubicBezTo>
                  <a:cubicBezTo>
                    <a:pt x="13552" y="218"/>
                    <a:pt x="12929" y="218"/>
                    <a:pt x="12513" y="436"/>
                  </a:cubicBezTo>
                  <a:cubicBezTo>
                    <a:pt x="11475" y="655"/>
                    <a:pt x="10436" y="655"/>
                    <a:pt x="9398" y="1091"/>
                  </a:cubicBezTo>
                  <a:cubicBezTo>
                    <a:pt x="9190" y="1309"/>
                    <a:pt x="8982" y="1527"/>
                    <a:pt x="8775" y="1527"/>
                  </a:cubicBezTo>
                  <a:cubicBezTo>
                    <a:pt x="8567" y="1745"/>
                    <a:pt x="8152" y="1745"/>
                    <a:pt x="7944" y="1745"/>
                  </a:cubicBezTo>
                  <a:cubicBezTo>
                    <a:pt x="7529" y="1964"/>
                    <a:pt x="7529" y="2618"/>
                    <a:pt x="6906" y="2618"/>
                  </a:cubicBezTo>
                  <a:cubicBezTo>
                    <a:pt x="7113" y="3273"/>
                    <a:pt x="7113" y="3927"/>
                    <a:pt x="7113" y="4800"/>
                  </a:cubicBezTo>
                  <a:cubicBezTo>
                    <a:pt x="7321" y="5018"/>
                    <a:pt x="7113" y="4364"/>
                    <a:pt x="7113" y="48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801" name="Shape 1415"/>
            <p:cNvSpPr/>
            <p:nvPr/>
          </p:nvSpPr>
          <p:spPr>
            <a:xfrm>
              <a:off x="6824880" y="2038320"/>
              <a:ext cx="1203480" cy="899280"/>
            </a:xfrm>
            <a:custGeom>
              <a:avLst/>
              <a:gdLst/>
              <a:ahLst/>
              <a:rect l="l" t="t" r="r" b="b"/>
              <a:pathLst>
                <a:path w="21541" h="21600">
                  <a:moveTo>
                    <a:pt x="2266" y="3521"/>
                  </a:moveTo>
                  <a:cubicBezTo>
                    <a:pt x="2195" y="3616"/>
                    <a:pt x="1841" y="3806"/>
                    <a:pt x="1912" y="3901"/>
                  </a:cubicBezTo>
                  <a:cubicBezTo>
                    <a:pt x="1983" y="3996"/>
                    <a:pt x="2125" y="3996"/>
                    <a:pt x="2266" y="4092"/>
                  </a:cubicBezTo>
                  <a:cubicBezTo>
                    <a:pt x="2408" y="4092"/>
                    <a:pt x="2550" y="4092"/>
                    <a:pt x="2762" y="4092"/>
                  </a:cubicBezTo>
                  <a:cubicBezTo>
                    <a:pt x="2762" y="4092"/>
                    <a:pt x="3116" y="3996"/>
                    <a:pt x="3187" y="3996"/>
                  </a:cubicBezTo>
                  <a:cubicBezTo>
                    <a:pt x="3116" y="3996"/>
                    <a:pt x="2974" y="4092"/>
                    <a:pt x="2904" y="4187"/>
                  </a:cubicBezTo>
                  <a:cubicBezTo>
                    <a:pt x="2833" y="4282"/>
                    <a:pt x="2762" y="4377"/>
                    <a:pt x="2833" y="4567"/>
                  </a:cubicBezTo>
                  <a:cubicBezTo>
                    <a:pt x="2974" y="4758"/>
                    <a:pt x="2550" y="5233"/>
                    <a:pt x="2337" y="5138"/>
                  </a:cubicBezTo>
                  <a:cubicBezTo>
                    <a:pt x="2266" y="5043"/>
                    <a:pt x="2125" y="5138"/>
                    <a:pt x="1983" y="5138"/>
                  </a:cubicBezTo>
                  <a:cubicBezTo>
                    <a:pt x="1912" y="5043"/>
                    <a:pt x="1770" y="5138"/>
                    <a:pt x="1700" y="5138"/>
                  </a:cubicBezTo>
                  <a:cubicBezTo>
                    <a:pt x="1629" y="5138"/>
                    <a:pt x="1487" y="5138"/>
                    <a:pt x="1416" y="5329"/>
                  </a:cubicBezTo>
                  <a:cubicBezTo>
                    <a:pt x="1346" y="5424"/>
                    <a:pt x="1275" y="5424"/>
                    <a:pt x="1133" y="5424"/>
                  </a:cubicBezTo>
                  <a:cubicBezTo>
                    <a:pt x="921" y="5519"/>
                    <a:pt x="708" y="5614"/>
                    <a:pt x="496" y="5614"/>
                  </a:cubicBezTo>
                  <a:cubicBezTo>
                    <a:pt x="425" y="5614"/>
                    <a:pt x="283" y="5519"/>
                    <a:pt x="283" y="5614"/>
                  </a:cubicBezTo>
                  <a:cubicBezTo>
                    <a:pt x="212" y="5709"/>
                    <a:pt x="0" y="5709"/>
                    <a:pt x="0" y="5900"/>
                  </a:cubicBezTo>
                  <a:cubicBezTo>
                    <a:pt x="0" y="5995"/>
                    <a:pt x="71" y="5900"/>
                    <a:pt x="71" y="5995"/>
                  </a:cubicBezTo>
                  <a:cubicBezTo>
                    <a:pt x="71" y="5995"/>
                    <a:pt x="0" y="6090"/>
                    <a:pt x="0" y="6090"/>
                  </a:cubicBezTo>
                  <a:cubicBezTo>
                    <a:pt x="0" y="6185"/>
                    <a:pt x="142" y="6375"/>
                    <a:pt x="212" y="6470"/>
                  </a:cubicBezTo>
                  <a:cubicBezTo>
                    <a:pt x="212" y="6470"/>
                    <a:pt x="283" y="6375"/>
                    <a:pt x="283" y="6375"/>
                  </a:cubicBezTo>
                  <a:cubicBezTo>
                    <a:pt x="354" y="6280"/>
                    <a:pt x="425" y="6375"/>
                    <a:pt x="496" y="6470"/>
                  </a:cubicBezTo>
                  <a:cubicBezTo>
                    <a:pt x="567" y="6470"/>
                    <a:pt x="921" y="6566"/>
                    <a:pt x="921" y="6375"/>
                  </a:cubicBezTo>
                  <a:cubicBezTo>
                    <a:pt x="921" y="6470"/>
                    <a:pt x="850" y="6470"/>
                    <a:pt x="921" y="6566"/>
                  </a:cubicBezTo>
                  <a:cubicBezTo>
                    <a:pt x="921" y="6661"/>
                    <a:pt x="1062" y="6756"/>
                    <a:pt x="1133" y="6756"/>
                  </a:cubicBezTo>
                  <a:cubicBezTo>
                    <a:pt x="1204" y="6851"/>
                    <a:pt x="1275" y="6851"/>
                    <a:pt x="1346" y="6851"/>
                  </a:cubicBezTo>
                  <a:cubicBezTo>
                    <a:pt x="1487" y="6851"/>
                    <a:pt x="1487" y="6661"/>
                    <a:pt x="1558" y="6756"/>
                  </a:cubicBezTo>
                  <a:cubicBezTo>
                    <a:pt x="1700" y="6756"/>
                    <a:pt x="1912" y="6756"/>
                    <a:pt x="1983" y="6756"/>
                  </a:cubicBezTo>
                  <a:cubicBezTo>
                    <a:pt x="2054" y="6756"/>
                    <a:pt x="2054" y="6661"/>
                    <a:pt x="2125" y="6566"/>
                  </a:cubicBezTo>
                  <a:cubicBezTo>
                    <a:pt x="2195" y="6566"/>
                    <a:pt x="2408" y="6756"/>
                    <a:pt x="2408" y="6851"/>
                  </a:cubicBezTo>
                  <a:cubicBezTo>
                    <a:pt x="2408" y="6946"/>
                    <a:pt x="1700" y="6851"/>
                    <a:pt x="1558" y="6946"/>
                  </a:cubicBezTo>
                  <a:cubicBezTo>
                    <a:pt x="1416" y="6946"/>
                    <a:pt x="1629" y="7041"/>
                    <a:pt x="1700" y="7041"/>
                  </a:cubicBezTo>
                  <a:cubicBezTo>
                    <a:pt x="1841" y="7137"/>
                    <a:pt x="1912" y="7041"/>
                    <a:pt x="2054" y="7137"/>
                  </a:cubicBezTo>
                  <a:cubicBezTo>
                    <a:pt x="1983" y="7041"/>
                    <a:pt x="1841" y="7137"/>
                    <a:pt x="1700" y="7137"/>
                  </a:cubicBezTo>
                  <a:cubicBezTo>
                    <a:pt x="1487" y="7137"/>
                    <a:pt x="1275" y="7041"/>
                    <a:pt x="1062" y="7041"/>
                  </a:cubicBezTo>
                  <a:cubicBezTo>
                    <a:pt x="921" y="7041"/>
                    <a:pt x="637" y="7041"/>
                    <a:pt x="637" y="7232"/>
                  </a:cubicBezTo>
                  <a:cubicBezTo>
                    <a:pt x="567" y="7327"/>
                    <a:pt x="779" y="7422"/>
                    <a:pt x="850" y="7422"/>
                  </a:cubicBezTo>
                  <a:cubicBezTo>
                    <a:pt x="921" y="7422"/>
                    <a:pt x="1062" y="7327"/>
                    <a:pt x="1062" y="7327"/>
                  </a:cubicBezTo>
                  <a:cubicBezTo>
                    <a:pt x="1133" y="7422"/>
                    <a:pt x="1062" y="7422"/>
                    <a:pt x="1062" y="7517"/>
                  </a:cubicBezTo>
                  <a:cubicBezTo>
                    <a:pt x="1133" y="7612"/>
                    <a:pt x="1275" y="7612"/>
                    <a:pt x="1346" y="7612"/>
                  </a:cubicBezTo>
                  <a:cubicBezTo>
                    <a:pt x="1487" y="7612"/>
                    <a:pt x="1629" y="7612"/>
                    <a:pt x="1770" y="7612"/>
                  </a:cubicBezTo>
                  <a:cubicBezTo>
                    <a:pt x="1770" y="7612"/>
                    <a:pt x="1487" y="7707"/>
                    <a:pt x="1416" y="7707"/>
                  </a:cubicBezTo>
                  <a:cubicBezTo>
                    <a:pt x="1133" y="7803"/>
                    <a:pt x="1346" y="7993"/>
                    <a:pt x="1487" y="8088"/>
                  </a:cubicBezTo>
                  <a:cubicBezTo>
                    <a:pt x="1629" y="8183"/>
                    <a:pt x="1770" y="8183"/>
                    <a:pt x="1912" y="8278"/>
                  </a:cubicBezTo>
                  <a:cubicBezTo>
                    <a:pt x="1912" y="8278"/>
                    <a:pt x="2195" y="8278"/>
                    <a:pt x="2195" y="8278"/>
                  </a:cubicBezTo>
                  <a:cubicBezTo>
                    <a:pt x="2195" y="8278"/>
                    <a:pt x="2054" y="8183"/>
                    <a:pt x="2054" y="8088"/>
                  </a:cubicBezTo>
                  <a:cubicBezTo>
                    <a:pt x="2054" y="7993"/>
                    <a:pt x="2195" y="8088"/>
                    <a:pt x="2195" y="8088"/>
                  </a:cubicBezTo>
                  <a:cubicBezTo>
                    <a:pt x="2266" y="8183"/>
                    <a:pt x="2337" y="8088"/>
                    <a:pt x="2408" y="7993"/>
                  </a:cubicBezTo>
                  <a:cubicBezTo>
                    <a:pt x="2408" y="7993"/>
                    <a:pt x="2479" y="7898"/>
                    <a:pt x="2550" y="7898"/>
                  </a:cubicBezTo>
                  <a:cubicBezTo>
                    <a:pt x="2620" y="7993"/>
                    <a:pt x="2550" y="8183"/>
                    <a:pt x="2550" y="8183"/>
                  </a:cubicBezTo>
                  <a:cubicBezTo>
                    <a:pt x="2620" y="8278"/>
                    <a:pt x="2833" y="8088"/>
                    <a:pt x="2904" y="8088"/>
                  </a:cubicBezTo>
                  <a:cubicBezTo>
                    <a:pt x="3045" y="7993"/>
                    <a:pt x="3045" y="7993"/>
                    <a:pt x="3116" y="8088"/>
                  </a:cubicBezTo>
                  <a:cubicBezTo>
                    <a:pt x="3187" y="8183"/>
                    <a:pt x="3258" y="7993"/>
                    <a:pt x="3329" y="7993"/>
                  </a:cubicBezTo>
                  <a:cubicBezTo>
                    <a:pt x="3399" y="7898"/>
                    <a:pt x="3541" y="7993"/>
                    <a:pt x="3612" y="7993"/>
                  </a:cubicBezTo>
                  <a:cubicBezTo>
                    <a:pt x="3824" y="7993"/>
                    <a:pt x="4108" y="8088"/>
                    <a:pt x="4320" y="8183"/>
                  </a:cubicBezTo>
                  <a:cubicBezTo>
                    <a:pt x="4462" y="8183"/>
                    <a:pt x="4603" y="8374"/>
                    <a:pt x="4745" y="8374"/>
                  </a:cubicBezTo>
                  <a:cubicBezTo>
                    <a:pt x="4887" y="8374"/>
                    <a:pt x="5028" y="8469"/>
                    <a:pt x="5099" y="8564"/>
                  </a:cubicBezTo>
                  <a:cubicBezTo>
                    <a:pt x="5241" y="8659"/>
                    <a:pt x="5170" y="8754"/>
                    <a:pt x="5170" y="8849"/>
                  </a:cubicBezTo>
                  <a:cubicBezTo>
                    <a:pt x="5170" y="8944"/>
                    <a:pt x="5311" y="9135"/>
                    <a:pt x="5382" y="9135"/>
                  </a:cubicBezTo>
                  <a:cubicBezTo>
                    <a:pt x="5453" y="9230"/>
                    <a:pt x="5595" y="9135"/>
                    <a:pt x="5666" y="9230"/>
                  </a:cubicBezTo>
                  <a:cubicBezTo>
                    <a:pt x="5666" y="9420"/>
                    <a:pt x="5807" y="9515"/>
                    <a:pt x="5878" y="9611"/>
                  </a:cubicBezTo>
                  <a:cubicBezTo>
                    <a:pt x="5949" y="9706"/>
                    <a:pt x="5878" y="9896"/>
                    <a:pt x="5949" y="9991"/>
                  </a:cubicBezTo>
                  <a:cubicBezTo>
                    <a:pt x="5949" y="10086"/>
                    <a:pt x="6090" y="10181"/>
                    <a:pt x="6090" y="10372"/>
                  </a:cubicBezTo>
                  <a:cubicBezTo>
                    <a:pt x="6090" y="10467"/>
                    <a:pt x="6020" y="10467"/>
                    <a:pt x="6090" y="10562"/>
                  </a:cubicBezTo>
                  <a:cubicBezTo>
                    <a:pt x="6090" y="10562"/>
                    <a:pt x="6161" y="10657"/>
                    <a:pt x="6161" y="10657"/>
                  </a:cubicBezTo>
                  <a:cubicBezTo>
                    <a:pt x="6161" y="10657"/>
                    <a:pt x="6161" y="10657"/>
                    <a:pt x="6161" y="10657"/>
                  </a:cubicBezTo>
                  <a:cubicBezTo>
                    <a:pt x="6232" y="10562"/>
                    <a:pt x="6374" y="10752"/>
                    <a:pt x="6303" y="10848"/>
                  </a:cubicBezTo>
                  <a:cubicBezTo>
                    <a:pt x="6232" y="10943"/>
                    <a:pt x="6232" y="10943"/>
                    <a:pt x="6232" y="11133"/>
                  </a:cubicBezTo>
                  <a:cubicBezTo>
                    <a:pt x="6232" y="11038"/>
                    <a:pt x="6374" y="10943"/>
                    <a:pt x="6445" y="11133"/>
                  </a:cubicBezTo>
                  <a:cubicBezTo>
                    <a:pt x="6445" y="11228"/>
                    <a:pt x="6445" y="11228"/>
                    <a:pt x="6445" y="11323"/>
                  </a:cubicBezTo>
                  <a:cubicBezTo>
                    <a:pt x="6445" y="11323"/>
                    <a:pt x="6445" y="11514"/>
                    <a:pt x="6445" y="11419"/>
                  </a:cubicBezTo>
                  <a:cubicBezTo>
                    <a:pt x="6445" y="11514"/>
                    <a:pt x="6586" y="11514"/>
                    <a:pt x="6586" y="11514"/>
                  </a:cubicBezTo>
                  <a:cubicBezTo>
                    <a:pt x="6515" y="11419"/>
                    <a:pt x="6303" y="11989"/>
                    <a:pt x="6374" y="11609"/>
                  </a:cubicBezTo>
                  <a:cubicBezTo>
                    <a:pt x="6374" y="11609"/>
                    <a:pt x="6232" y="11514"/>
                    <a:pt x="6232" y="11609"/>
                  </a:cubicBezTo>
                  <a:cubicBezTo>
                    <a:pt x="6232" y="11609"/>
                    <a:pt x="6303" y="11609"/>
                    <a:pt x="6303" y="11609"/>
                  </a:cubicBezTo>
                  <a:cubicBezTo>
                    <a:pt x="6303" y="11704"/>
                    <a:pt x="6090" y="11704"/>
                    <a:pt x="6161" y="11799"/>
                  </a:cubicBezTo>
                  <a:cubicBezTo>
                    <a:pt x="6161" y="11799"/>
                    <a:pt x="6374" y="11894"/>
                    <a:pt x="6303" y="11894"/>
                  </a:cubicBezTo>
                  <a:cubicBezTo>
                    <a:pt x="6161" y="12085"/>
                    <a:pt x="6445" y="12085"/>
                    <a:pt x="6515" y="11989"/>
                  </a:cubicBezTo>
                  <a:cubicBezTo>
                    <a:pt x="6445" y="12085"/>
                    <a:pt x="6374" y="12085"/>
                    <a:pt x="6232" y="12085"/>
                  </a:cubicBezTo>
                  <a:cubicBezTo>
                    <a:pt x="6232" y="12085"/>
                    <a:pt x="6090" y="12275"/>
                    <a:pt x="6090" y="12275"/>
                  </a:cubicBezTo>
                  <a:cubicBezTo>
                    <a:pt x="6090" y="12275"/>
                    <a:pt x="6161" y="12370"/>
                    <a:pt x="6161" y="12370"/>
                  </a:cubicBezTo>
                  <a:cubicBezTo>
                    <a:pt x="6303" y="12465"/>
                    <a:pt x="6232" y="12465"/>
                    <a:pt x="6303" y="12465"/>
                  </a:cubicBezTo>
                  <a:cubicBezTo>
                    <a:pt x="6374" y="12465"/>
                    <a:pt x="6657" y="12656"/>
                    <a:pt x="6728" y="12465"/>
                  </a:cubicBezTo>
                  <a:cubicBezTo>
                    <a:pt x="6728" y="12180"/>
                    <a:pt x="6870" y="12275"/>
                    <a:pt x="6940" y="12180"/>
                  </a:cubicBezTo>
                  <a:cubicBezTo>
                    <a:pt x="6940" y="12180"/>
                    <a:pt x="6799" y="11609"/>
                    <a:pt x="6799" y="11609"/>
                  </a:cubicBezTo>
                  <a:cubicBezTo>
                    <a:pt x="6799" y="11704"/>
                    <a:pt x="6940" y="11989"/>
                    <a:pt x="6940" y="11989"/>
                  </a:cubicBezTo>
                  <a:cubicBezTo>
                    <a:pt x="7011" y="12180"/>
                    <a:pt x="7082" y="11989"/>
                    <a:pt x="7153" y="11989"/>
                  </a:cubicBezTo>
                  <a:cubicBezTo>
                    <a:pt x="7153" y="11989"/>
                    <a:pt x="6940" y="12370"/>
                    <a:pt x="6940" y="12370"/>
                  </a:cubicBezTo>
                  <a:cubicBezTo>
                    <a:pt x="6940" y="12370"/>
                    <a:pt x="7224" y="12275"/>
                    <a:pt x="7224" y="12275"/>
                  </a:cubicBezTo>
                  <a:cubicBezTo>
                    <a:pt x="7294" y="12275"/>
                    <a:pt x="7365" y="12275"/>
                    <a:pt x="7365" y="12275"/>
                  </a:cubicBezTo>
                  <a:cubicBezTo>
                    <a:pt x="7436" y="12275"/>
                    <a:pt x="7507" y="12180"/>
                    <a:pt x="7578" y="12180"/>
                  </a:cubicBezTo>
                  <a:cubicBezTo>
                    <a:pt x="7578" y="12275"/>
                    <a:pt x="7507" y="12370"/>
                    <a:pt x="7436" y="12370"/>
                  </a:cubicBezTo>
                  <a:cubicBezTo>
                    <a:pt x="7365" y="12370"/>
                    <a:pt x="7224" y="12370"/>
                    <a:pt x="7153" y="12465"/>
                  </a:cubicBezTo>
                  <a:cubicBezTo>
                    <a:pt x="7082" y="12560"/>
                    <a:pt x="7294" y="12465"/>
                    <a:pt x="7294" y="12465"/>
                  </a:cubicBezTo>
                  <a:cubicBezTo>
                    <a:pt x="7436" y="12465"/>
                    <a:pt x="7578" y="12465"/>
                    <a:pt x="7719" y="12465"/>
                  </a:cubicBezTo>
                  <a:cubicBezTo>
                    <a:pt x="7649" y="12465"/>
                    <a:pt x="7365" y="12465"/>
                    <a:pt x="7365" y="12560"/>
                  </a:cubicBezTo>
                  <a:cubicBezTo>
                    <a:pt x="7365" y="12560"/>
                    <a:pt x="7507" y="12656"/>
                    <a:pt x="7507" y="12751"/>
                  </a:cubicBezTo>
                  <a:cubicBezTo>
                    <a:pt x="7507" y="12751"/>
                    <a:pt x="7507" y="12846"/>
                    <a:pt x="7507" y="12846"/>
                  </a:cubicBezTo>
                  <a:cubicBezTo>
                    <a:pt x="7507" y="12941"/>
                    <a:pt x="7436" y="12941"/>
                    <a:pt x="7507" y="13036"/>
                  </a:cubicBezTo>
                  <a:cubicBezTo>
                    <a:pt x="7507" y="13036"/>
                    <a:pt x="7649" y="12941"/>
                    <a:pt x="7719" y="12941"/>
                  </a:cubicBezTo>
                  <a:cubicBezTo>
                    <a:pt x="7790" y="12941"/>
                    <a:pt x="7719" y="12941"/>
                    <a:pt x="7790" y="13036"/>
                  </a:cubicBezTo>
                  <a:cubicBezTo>
                    <a:pt x="7861" y="13131"/>
                    <a:pt x="7861" y="13226"/>
                    <a:pt x="7932" y="13322"/>
                  </a:cubicBezTo>
                  <a:cubicBezTo>
                    <a:pt x="7932" y="13417"/>
                    <a:pt x="7719" y="13417"/>
                    <a:pt x="7719" y="13417"/>
                  </a:cubicBezTo>
                  <a:cubicBezTo>
                    <a:pt x="7436" y="13131"/>
                    <a:pt x="7011" y="12941"/>
                    <a:pt x="6728" y="13036"/>
                  </a:cubicBezTo>
                  <a:cubicBezTo>
                    <a:pt x="6445" y="13036"/>
                    <a:pt x="6799" y="13322"/>
                    <a:pt x="6940" y="13322"/>
                  </a:cubicBezTo>
                  <a:cubicBezTo>
                    <a:pt x="7153" y="13417"/>
                    <a:pt x="7294" y="13702"/>
                    <a:pt x="7507" y="13702"/>
                  </a:cubicBezTo>
                  <a:cubicBezTo>
                    <a:pt x="7578" y="13702"/>
                    <a:pt x="7649" y="13607"/>
                    <a:pt x="7790" y="13607"/>
                  </a:cubicBezTo>
                  <a:cubicBezTo>
                    <a:pt x="7790" y="13702"/>
                    <a:pt x="8003" y="13702"/>
                    <a:pt x="8003" y="13702"/>
                  </a:cubicBezTo>
                  <a:cubicBezTo>
                    <a:pt x="8073" y="13797"/>
                    <a:pt x="8003" y="13893"/>
                    <a:pt x="8003" y="13893"/>
                  </a:cubicBezTo>
                  <a:cubicBezTo>
                    <a:pt x="7790" y="13988"/>
                    <a:pt x="8073" y="14083"/>
                    <a:pt x="8003" y="14178"/>
                  </a:cubicBezTo>
                  <a:cubicBezTo>
                    <a:pt x="8003" y="14273"/>
                    <a:pt x="7861" y="14178"/>
                    <a:pt x="7861" y="14368"/>
                  </a:cubicBezTo>
                  <a:cubicBezTo>
                    <a:pt x="7861" y="14463"/>
                    <a:pt x="8003" y="14463"/>
                    <a:pt x="8003" y="14463"/>
                  </a:cubicBezTo>
                  <a:cubicBezTo>
                    <a:pt x="7932" y="14559"/>
                    <a:pt x="7790" y="14368"/>
                    <a:pt x="7790" y="14463"/>
                  </a:cubicBezTo>
                  <a:cubicBezTo>
                    <a:pt x="7719" y="14559"/>
                    <a:pt x="7719" y="14654"/>
                    <a:pt x="7719" y="14749"/>
                  </a:cubicBezTo>
                  <a:cubicBezTo>
                    <a:pt x="7719" y="14749"/>
                    <a:pt x="7861" y="14749"/>
                    <a:pt x="7861" y="14749"/>
                  </a:cubicBezTo>
                  <a:cubicBezTo>
                    <a:pt x="7861" y="14844"/>
                    <a:pt x="7719" y="14939"/>
                    <a:pt x="7649" y="14939"/>
                  </a:cubicBezTo>
                  <a:cubicBezTo>
                    <a:pt x="7578" y="14939"/>
                    <a:pt x="7507" y="14939"/>
                    <a:pt x="7436" y="14939"/>
                  </a:cubicBezTo>
                  <a:cubicBezTo>
                    <a:pt x="7365" y="14844"/>
                    <a:pt x="7294" y="14844"/>
                    <a:pt x="7224" y="14939"/>
                  </a:cubicBezTo>
                  <a:cubicBezTo>
                    <a:pt x="7153" y="15034"/>
                    <a:pt x="7153" y="14939"/>
                    <a:pt x="7082" y="15034"/>
                  </a:cubicBezTo>
                  <a:cubicBezTo>
                    <a:pt x="7082" y="15034"/>
                    <a:pt x="7294" y="15320"/>
                    <a:pt x="7365" y="15320"/>
                  </a:cubicBezTo>
                  <a:cubicBezTo>
                    <a:pt x="7365" y="15225"/>
                    <a:pt x="7365" y="15225"/>
                    <a:pt x="7294" y="15225"/>
                  </a:cubicBezTo>
                  <a:cubicBezTo>
                    <a:pt x="7294" y="15225"/>
                    <a:pt x="7507" y="15225"/>
                    <a:pt x="7507" y="15225"/>
                  </a:cubicBezTo>
                  <a:cubicBezTo>
                    <a:pt x="7507" y="15225"/>
                    <a:pt x="7861" y="15034"/>
                    <a:pt x="7861" y="15130"/>
                  </a:cubicBezTo>
                  <a:cubicBezTo>
                    <a:pt x="7790" y="15130"/>
                    <a:pt x="7719" y="15130"/>
                    <a:pt x="7649" y="15225"/>
                  </a:cubicBezTo>
                  <a:cubicBezTo>
                    <a:pt x="7719" y="15130"/>
                    <a:pt x="7861" y="15320"/>
                    <a:pt x="7790" y="15320"/>
                  </a:cubicBezTo>
                  <a:cubicBezTo>
                    <a:pt x="7861" y="15320"/>
                    <a:pt x="8073" y="15415"/>
                    <a:pt x="8144" y="15415"/>
                  </a:cubicBezTo>
                  <a:cubicBezTo>
                    <a:pt x="8073" y="15415"/>
                    <a:pt x="7932" y="15415"/>
                    <a:pt x="7932" y="15415"/>
                  </a:cubicBezTo>
                  <a:cubicBezTo>
                    <a:pt x="7932" y="15415"/>
                    <a:pt x="8215" y="15700"/>
                    <a:pt x="8215" y="15700"/>
                  </a:cubicBezTo>
                  <a:cubicBezTo>
                    <a:pt x="8003" y="15700"/>
                    <a:pt x="7861" y="15320"/>
                    <a:pt x="7649" y="15320"/>
                  </a:cubicBezTo>
                  <a:cubicBezTo>
                    <a:pt x="7507" y="15320"/>
                    <a:pt x="7153" y="15225"/>
                    <a:pt x="7082" y="15415"/>
                  </a:cubicBezTo>
                  <a:cubicBezTo>
                    <a:pt x="7082" y="15510"/>
                    <a:pt x="7011" y="15510"/>
                    <a:pt x="6940" y="15605"/>
                  </a:cubicBezTo>
                  <a:cubicBezTo>
                    <a:pt x="6870" y="15605"/>
                    <a:pt x="6870" y="15796"/>
                    <a:pt x="6940" y="15700"/>
                  </a:cubicBezTo>
                  <a:cubicBezTo>
                    <a:pt x="7082" y="15700"/>
                    <a:pt x="7224" y="15605"/>
                    <a:pt x="7294" y="15415"/>
                  </a:cubicBezTo>
                  <a:cubicBezTo>
                    <a:pt x="7294" y="15510"/>
                    <a:pt x="7436" y="15510"/>
                    <a:pt x="7436" y="15510"/>
                  </a:cubicBezTo>
                  <a:cubicBezTo>
                    <a:pt x="7507" y="15510"/>
                    <a:pt x="7649" y="15796"/>
                    <a:pt x="7649" y="15510"/>
                  </a:cubicBezTo>
                  <a:cubicBezTo>
                    <a:pt x="7649" y="15415"/>
                    <a:pt x="7790" y="15605"/>
                    <a:pt x="7790" y="15605"/>
                  </a:cubicBezTo>
                  <a:cubicBezTo>
                    <a:pt x="7790" y="15605"/>
                    <a:pt x="8073" y="15605"/>
                    <a:pt x="8003" y="15700"/>
                  </a:cubicBezTo>
                  <a:cubicBezTo>
                    <a:pt x="8003" y="15700"/>
                    <a:pt x="7932" y="15700"/>
                    <a:pt x="7932" y="15700"/>
                  </a:cubicBezTo>
                  <a:cubicBezTo>
                    <a:pt x="7932" y="15700"/>
                    <a:pt x="8073" y="15796"/>
                    <a:pt x="8073" y="15796"/>
                  </a:cubicBezTo>
                  <a:cubicBezTo>
                    <a:pt x="8003" y="15796"/>
                    <a:pt x="7861" y="15796"/>
                    <a:pt x="7790" y="15700"/>
                  </a:cubicBezTo>
                  <a:cubicBezTo>
                    <a:pt x="7719" y="15605"/>
                    <a:pt x="7719" y="15700"/>
                    <a:pt x="7719" y="15796"/>
                  </a:cubicBezTo>
                  <a:cubicBezTo>
                    <a:pt x="7719" y="15700"/>
                    <a:pt x="7294" y="15605"/>
                    <a:pt x="7224" y="15605"/>
                  </a:cubicBezTo>
                  <a:cubicBezTo>
                    <a:pt x="7153" y="15605"/>
                    <a:pt x="6728" y="15796"/>
                    <a:pt x="6799" y="15986"/>
                  </a:cubicBezTo>
                  <a:cubicBezTo>
                    <a:pt x="6870" y="16081"/>
                    <a:pt x="7294" y="15891"/>
                    <a:pt x="7365" y="15891"/>
                  </a:cubicBezTo>
                  <a:cubicBezTo>
                    <a:pt x="7436" y="15891"/>
                    <a:pt x="7578" y="15891"/>
                    <a:pt x="7649" y="15986"/>
                  </a:cubicBezTo>
                  <a:cubicBezTo>
                    <a:pt x="7649" y="15986"/>
                    <a:pt x="7932" y="16081"/>
                    <a:pt x="7932" y="16081"/>
                  </a:cubicBezTo>
                  <a:cubicBezTo>
                    <a:pt x="7932" y="16176"/>
                    <a:pt x="7578" y="15986"/>
                    <a:pt x="7578" y="15986"/>
                  </a:cubicBezTo>
                  <a:cubicBezTo>
                    <a:pt x="7436" y="15891"/>
                    <a:pt x="7224" y="15986"/>
                    <a:pt x="7082" y="15986"/>
                  </a:cubicBezTo>
                  <a:cubicBezTo>
                    <a:pt x="6586" y="16176"/>
                    <a:pt x="7153" y="16367"/>
                    <a:pt x="7294" y="16271"/>
                  </a:cubicBezTo>
                  <a:cubicBezTo>
                    <a:pt x="7224" y="16367"/>
                    <a:pt x="7153" y="16462"/>
                    <a:pt x="7011" y="16462"/>
                  </a:cubicBezTo>
                  <a:cubicBezTo>
                    <a:pt x="6799" y="16557"/>
                    <a:pt x="7153" y="16652"/>
                    <a:pt x="7153" y="16652"/>
                  </a:cubicBezTo>
                  <a:cubicBezTo>
                    <a:pt x="7153" y="16652"/>
                    <a:pt x="6870" y="16557"/>
                    <a:pt x="6870" y="16747"/>
                  </a:cubicBezTo>
                  <a:cubicBezTo>
                    <a:pt x="6870" y="17033"/>
                    <a:pt x="7011" y="16842"/>
                    <a:pt x="7153" y="16747"/>
                  </a:cubicBezTo>
                  <a:cubicBezTo>
                    <a:pt x="7294" y="16652"/>
                    <a:pt x="7436" y="16462"/>
                    <a:pt x="7578" y="16367"/>
                  </a:cubicBezTo>
                  <a:cubicBezTo>
                    <a:pt x="7649" y="16367"/>
                    <a:pt x="8073" y="16081"/>
                    <a:pt x="8073" y="16271"/>
                  </a:cubicBezTo>
                  <a:cubicBezTo>
                    <a:pt x="8073" y="16271"/>
                    <a:pt x="7861" y="16271"/>
                    <a:pt x="7861" y="16271"/>
                  </a:cubicBezTo>
                  <a:cubicBezTo>
                    <a:pt x="7861" y="16271"/>
                    <a:pt x="8003" y="16271"/>
                    <a:pt x="8073" y="16367"/>
                  </a:cubicBezTo>
                  <a:cubicBezTo>
                    <a:pt x="7861" y="16176"/>
                    <a:pt x="6940" y="16937"/>
                    <a:pt x="7011" y="17033"/>
                  </a:cubicBezTo>
                  <a:cubicBezTo>
                    <a:pt x="7011" y="17128"/>
                    <a:pt x="7436" y="16937"/>
                    <a:pt x="7507" y="16937"/>
                  </a:cubicBezTo>
                  <a:cubicBezTo>
                    <a:pt x="7507" y="16937"/>
                    <a:pt x="7224" y="17033"/>
                    <a:pt x="7153" y="17128"/>
                  </a:cubicBezTo>
                  <a:cubicBezTo>
                    <a:pt x="7153" y="17128"/>
                    <a:pt x="7294" y="17508"/>
                    <a:pt x="7365" y="17413"/>
                  </a:cubicBezTo>
                  <a:cubicBezTo>
                    <a:pt x="7436" y="17318"/>
                    <a:pt x="7507" y="17128"/>
                    <a:pt x="7578" y="17128"/>
                  </a:cubicBezTo>
                  <a:cubicBezTo>
                    <a:pt x="7649" y="17128"/>
                    <a:pt x="7932" y="17223"/>
                    <a:pt x="7932" y="17223"/>
                  </a:cubicBezTo>
                  <a:cubicBezTo>
                    <a:pt x="7932" y="17223"/>
                    <a:pt x="7649" y="17223"/>
                    <a:pt x="7649" y="17223"/>
                  </a:cubicBezTo>
                  <a:cubicBezTo>
                    <a:pt x="7507" y="17223"/>
                    <a:pt x="7436" y="17318"/>
                    <a:pt x="7365" y="17413"/>
                  </a:cubicBezTo>
                  <a:cubicBezTo>
                    <a:pt x="7365" y="17508"/>
                    <a:pt x="7365" y="17604"/>
                    <a:pt x="7365" y="17699"/>
                  </a:cubicBezTo>
                  <a:cubicBezTo>
                    <a:pt x="7436" y="17984"/>
                    <a:pt x="7436" y="17889"/>
                    <a:pt x="7578" y="17794"/>
                  </a:cubicBezTo>
                  <a:cubicBezTo>
                    <a:pt x="7507" y="17889"/>
                    <a:pt x="7436" y="18270"/>
                    <a:pt x="7507" y="18365"/>
                  </a:cubicBezTo>
                  <a:cubicBezTo>
                    <a:pt x="7507" y="18365"/>
                    <a:pt x="7719" y="17984"/>
                    <a:pt x="7790" y="17984"/>
                  </a:cubicBezTo>
                  <a:cubicBezTo>
                    <a:pt x="7790" y="18079"/>
                    <a:pt x="7719" y="18174"/>
                    <a:pt x="7790" y="18270"/>
                  </a:cubicBezTo>
                  <a:cubicBezTo>
                    <a:pt x="7790" y="18365"/>
                    <a:pt x="7861" y="18174"/>
                    <a:pt x="7932" y="18174"/>
                  </a:cubicBezTo>
                  <a:cubicBezTo>
                    <a:pt x="8073" y="17984"/>
                    <a:pt x="7790" y="17794"/>
                    <a:pt x="7790" y="17699"/>
                  </a:cubicBezTo>
                  <a:cubicBezTo>
                    <a:pt x="7790" y="17699"/>
                    <a:pt x="7932" y="17984"/>
                    <a:pt x="8003" y="17984"/>
                  </a:cubicBezTo>
                  <a:cubicBezTo>
                    <a:pt x="8073" y="18079"/>
                    <a:pt x="8073" y="17984"/>
                    <a:pt x="8144" y="17889"/>
                  </a:cubicBezTo>
                  <a:cubicBezTo>
                    <a:pt x="8073" y="17889"/>
                    <a:pt x="8286" y="18174"/>
                    <a:pt x="8215" y="18270"/>
                  </a:cubicBezTo>
                  <a:cubicBezTo>
                    <a:pt x="8286" y="18174"/>
                    <a:pt x="8073" y="17984"/>
                    <a:pt x="8073" y="18174"/>
                  </a:cubicBezTo>
                  <a:cubicBezTo>
                    <a:pt x="8073" y="18365"/>
                    <a:pt x="8215" y="18555"/>
                    <a:pt x="8073" y="18650"/>
                  </a:cubicBezTo>
                  <a:cubicBezTo>
                    <a:pt x="8073" y="18650"/>
                    <a:pt x="8073" y="18365"/>
                    <a:pt x="8073" y="18365"/>
                  </a:cubicBezTo>
                  <a:cubicBezTo>
                    <a:pt x="8073" y="18270"/>
                    <a:pt x="7932" y="18460"/>
                    <a:pt x="7861" y="18460"/>
                  </a:cubicBezTo>
                  <a:cubicBezTo>
                    <a:pt x="7790" y="18460"/>
                    <a:pt x="7719" y="18650"/>
                    <a:pt x="7719" y="18745"/>
                  </a:cubicBezTo>
                  <a:cubicBezTo>
                    <a:pt x="7649" y="18936"/>
                    <a:pt x="7861" y="18745"/>
                    <a:pt x="7861" y="18841"/>
                  </a:cubicBezTo>
                  <a:cubicBezTo>
                    <a:pt x="7932" y="18936"/>
                    <a:pt x="7790" y="19031"/>
                    <a:pt x="7790" y="19031"/>
                  </a:cubicBezTo>
                  <a:cubicBezTo>
                    <a:pt x="7790" y="19031"/>
                    <a:pt x="7932" y="18936"/>
                    <a:pt x="8003" y="19126"/>
                  </a:cubicBezTo>
                  <a:cubicBezTo>
                    <a:pt x="8003" y="19316"/>
                    <a:pt x="8144" y="19411"/>
                    <a:pt x="8144" y="19507"/>
                  </a:cubicBezTo>
                  <a:cubicBezTo>
                    <a:pt x="8073" y="19697"/>
                    <a:pt x="8144" y="19697"/>
                    <a:pt x="8286" y="19887"/>
                  </a:cubicBezTo>
                  <a:cubicBezTo>
                    <a:pt x="8357" y="19982"/>
                    <a:pt x="8428" y="20173"/>
                    <a:pt x="8498" y="19982"/>
                  </a:cubicBezTo>
                  <a:cubicBezTo>
                    <a:pt x="8498" y="19982"/>
                    <a:pt x="8569" y="20458"/>
                    <a:pt x="8640" y="20458"/>
                  </a:cubicBezTo>
                  <a:cubicBezTo>
                    <a:pt x="8711" y="20553"/>
                    <a:pt x="8640" y="20458"/>
                    <a:pt x="8711" y="20458"/>
                  </a:cubicBezTo>
                  <a:cubicBezTo>
                    <a:pt x="8782" y="20553"/>
                    <a:pt x="8852" y="20648"/>
                    <a:pt x="8923" y="20744"/>
                  </a:cubicBezTo>
                  <a:cubicBezTo>
                    <a:pt x="9065" y="20839"/>
                    <a:pt x="9207" y="20934"/>
                    <a:pt x="9348" y="20839"/>
                  </a:cubicBezTo>
                  <a:cubicBezTo>
                    <a:pt x="9419" y="20839"/>
                    <a:pt x="9631" y="20839"/>
                    <a:pt x="9631" y="20744"/>
                  </a:cubicBezTo>
                  <a:cubicBezTo>
                    <a:pt x="9631" y="20744"/>
                    <a:pt x="9631" y="21029"/>
                    <a:pt x="9631" y="21029"/>
                  </a:cubicBezTo>
                  <a:cubicBezTo>
                    <a:pt x="9631" y="21029"/>
                    <a:pt x="9773" y="20648"/>
                    <a:pt x="9773" y="20744"/>
                  </a:cubicBezTo>
                  <a:cubicBezTo>
                    <a:pt x="9844" y="20744"/>
                    <a:pt x="9773" y="20839"/>
                    <a:pt x="9773" y="20839"/>
                  </a:cubicBezTo>
                  <a:cubicBezTo>
                    <a:pt x="9773" y="20934"/>
                    <a:pt x="9844" y="20934"/>
                    <a:pt x="9844" y="20934"/>
                  </a:cubicBezTo>
                  <a:cubicBezTo>
                    <a:pt x="9844" y="20934"/>
                    <a:pt x="9631" y="21029"/>
                    <a:pt x="9702" y="21124"/>
                  </a:cubicBezTo>
                  <a:cubicBezTo>
                    <a:pt x="9773" y="21124"/>
                    <a:pt x="9773" y="21124"/>
                    <a:pt x="9844" y="21029"/>
                  </a:cubicBezTo>
                  <a:cubicBezTo>
                    <a:pt x="9915" y="21124"/>
                    <a:pt x="9844" y="21219"/>
                    <a:pt x="9844" y="21219"/>
                  </a:cubicBezTo>
                  <a:cubicBezTo>
                    <a:pt x="9844" y="21315"/>
                    <a:pt x="10056" y="21029"/>
                    <a:pt x="10056" y="21124"/>
                  </a:cubicBezTo>
                  <a:cubicBezTo>
                    <a:pt x="10056" y="21219"/>
                    <a:pt x="9915" y="21315"/>
                    <a:pt x="9915" y="21410"/>
                  </a:cubicBezTo>
                  <a:cubicBezTo>
                    <a:pt x="9915" y="21315"/>
                    <a:pt x="10127" y="21219"/>
                    <a:pt x="10056" y="21410"/>
                  </a:cubicBezTo>
                  <a:cubicBezTo>
                    <a:pt x="10056" y="21410"/>
                    <a:pt x="10056" y="21410"/>
                    <a:pt x="10056" y="21315"/>
                  </a:cubicBezTo>
                  <a:cubicBezTo>
                    <a:pt x="10056" y="21505"/>
                    <a:pt x="10269" y="21219"/>
                    <a:pt x="10269" y="21219"/>
                  </a:cubicBezTo>
                  <a:cubicBezTo>
                    <a:pt x="10340" y="21315"/>
                    <a:pt x="10269" y="21505"/>
                    <a:pt x="10269" y="21600"/>
                  </a:cubicBezTo>
                  <a:cubicBezTo>
                    <a:pt x="10198" y="21410"/>
                    <a:pt x="10835" y="21410"/>
                    <a:pt x="10410" y="21124"/>
                  </a:cubicBezTo>
                  <a:cubicBezTo>
                    <a:pt x="10481" y="21124"/>
                    <a:pt x="10835" y="21124"/>
                    <a:pt x="10623" y="21029"/>
                  </a:cubicBezTo>
                  <a:cubicBezTo>
                    <a:pt x="10410" y="20839"/>
                    <a:pt x="10694" y="20934"/>
                    <a:pt x="10765" y="20744"/>
                  </a:cubicBezTo>
                  <a:cubicBezTo>
                    <a:pt x="10765" y="20744"/>
                    <a:pt x="10552" y="20744"/>
                    <a:pt x="10552" y="20744"/>
                  </a:cubicBezTo>
                  <a:cubicBezTo>
                    <a:pt x="10623" y="20648"/>
                    <a:pt x="10694" y="20553"/>
                    <a:pt x="10765" y="20553"/>
                  </a:cubicBezTo>
                  <a:cubicBezTo>
                    <a:pt x="10906" y="20363"/>
                    <a:pt x="10694" y="20458"/>
                    <a:pt x="10694" y="20363"/>
                  </a:cubicBezTo>
                  <a:cubicBezTo>
                    <a:pt x="10694" y="20363"/>
                    <a:pt x="10906" y="20268"/>
                    <a:pt x="10906" y="20173"/>
                  </a:cubicBezTo>
                  <a:cubicBezTo>
                    <a:pt x="10906" y="20078"/>
                    <a:pt x="10906" y="19887"/>
                    <a:pt x="10835" y="19792"/>
                  </a:cubicBezTo>
                  <a:cubicBezTo>
                    <a:pt x="10765" y="19792"/>
                    <a:pt x="10906" y="19697"/>
                    <a:pt x="10835" y="19602"/>
                  </a:cubicBezTo>
                  <a:cubicBezTo>
                    <a:pt x="10835" y="19602"/>
                    <a:pt x="10694" y="19507"/>
                    <a:pt x="10694" y="19507"/>
                  </a:cubicBezTo>
                  <a:cubicBezTo>
                    <a:pt x="10694" y="19507"/>
                    <a:pt x="10977" y="19411"/>
                    <a:pt x="11048" y="19411"/>
                  </a:cubicBezTo>
                  <a:cubicBezTo>
                    <a:pt x="11260" y="19411"/>
                    <a:pt x="11048" y="19316"/>
                    <a:pt x="10977" y="19221"/>
                  </a:cubicBezTo>
                  <a:cubicBezTo>
                    <a:pt x="10977" y="19221"/>
                    <a:pt x="11331" y="19221"/>
                    <a:pt x="11331" y="19221"/>
                  </a:cubicBezTo>
                  <a:cubicBezTo>
                    <a:pt x="11260" y="19126"/>
                    <a:pt x="11119" y="19126"/>
                    <a:pt x="11048" y="19031"/>
                  </a:cubicBezTo>
                  <a:cubicBezTo>
                    <a:pt x="11048" y="19031"/>
                    <a:pt x="11331" y="19126"/>
                    <a:pt x="11331" y="19031"/>
                  </a:cubicBezTo>
                  <a:cubicBezTo>
                    <a:pt x="11402" y="19031"/>
                    <a:pt x="11331" y="19031"/>
                    <a:pt x="11331" y="18936"/>
                  </a:cubicBezTo>
                  <a:cubicBezTo>
                    <a:pt x="11402" y="18936"/>
                    <a:pt x="11402" y="18936"/>
                    <a:pt x="11402" y="18936"/>
                  </a:cubicBezTo>
                  <a:cubicBezTo>
                    <a:pt x="11473" y="18841"/>
                    <a:pt x="11190" y="18745"/>
                    <a:pt x="11190" y="18745"/>
                  </a:cubicBezTo>
                  <a:cubicBezTo>
                    <a:pt x="11190" y="18745"/>
                    <a:pt x="11544" y="18745"/>
                    <a:pt x="11473" y="18650"/>
                  </a:cubicBezTo>
                  <a:cubicBezTo>
                    <a:pt x="11473" y="18555"/>
                    <a:pt x="11544" y="18555"/>
                    <a:pt x="11402" y="18460"/>
                  </a:cubicBezTo>
                  <a:cubicBezTo>
                    <a:pt x="11402" y="18460"/>
                    <a:pt x="11190" y="18460"/>
                    <a:pt x="11190" y="18365"/>
                  </a:cubicBezTo>
                  <a:cubicBezTo>
                    <a:pt x="11190" y="18365"/>
                    <a:pt x="11544" y="18270"/>
                    <a:pt x="11544" y="18270"/>
                  </a:cubicBezTo>
                  <a:cubicBezTo>
                    <a:pt x="11685" y="18270"/>
                    <a:pt x="11614" y="17984"/>
                    <a:pt x="11473" y="17984"/>
                  </a:cubicBezTo>
                  <a:cubicBezTo>
                    <a:pt x="11402" y="17889"/>
                    <a:pt x="11190" y="17794"/>
                    <a:pt x="11402" y="17699"/>
                  </a:cubicBezTo>
                  <a:cubicBezTo>
                    <a:pt x="11544" y="17699"/>
                    <a:pt x="11756" y="17794"/>
                    <a:pt x="11827" y="17604"/>
                  </a:cubicBezTo>
                  <a:cubicBezTo>
                    <a:pt x="11827" y="17604"/>
                    <a:pt x="11685" y="17413"/>
                    <a:pt x="11685" y="17413"/>
                  </a:cubicBezTo>
                  <a:cubicBezTo>
                    <a:pt x="11685" y="17318"/>
                    <a:pt x="11827" y="17318"/>
                    <a:pt x="11827" y="17318"/>
                  </a:cubicBezTo>
                  <a:cubicBezTo>
                    <a:pt x="11898" y="17223"/>
                    <a:pt x="12039" y="17223"/>
                    <a:pt x="12181" y="17318"/>
                  </a:cubicBezTo>
                  <a:cubicBezTo>
                    <a:pt x="12181" y="17318"/>
                    <a:pt x="12323" y="17318"/>
                    <a:pt x="12323" y="17318"/>
                  </a:cubicBezTo>
                  <a:cubicBezTo>
                    <a:pt x="12393" y="17223"/>
                    <a:pt x="12252" y="17128"/>
                    <a:pt x="12252" y="17033"/>
                  </a:cubicBezTo>
                  <a:cubicBezTo>
                    <a:pt x="12323" y="16937"/>
                    <a:pt x="12535" y="16557"/>
                    <a:pt x="12677" y="16747"/>
                  </a:cubicBezTo>
                  <a:cubicBezTo>
                    <a:pt x="12606" y="16652"/>
                    <a:pt x="12393" y="17223"/>
                    <a:pt x="12464" y="17223"/>
                  </a:cubicBezTo>
                  <a:cubicBezTo>
                    <a:pt x="12535" y="17318"/>
                    <a:pt x="12677" y="17033"/>
                    <a:pt x="12818" y="17033"/>
                  </a:cubicBezTo>
                  <a:cubicBezTo>
                    <a:pt x="12818" y="17033"/>
                    <a:pt x="12960" y="17128"/>
                    <a:pt x="12960" y="17128"/>
                  </a:cubicBezTo>
                  <a:cubicBezTo>
                    <a:pt x="12960" y="17128"/>
                    <a:pt x="12960" y="16937"/>
                    <a:pt x="12960" y="16937"/>
                  </a:cubicBezTo>
                  <a:cubicBezTo>
                    <a:pt x="13172" y="17033"/>
                    <a:pt x="13172" y="16937"/>
                    <a:pt x="13243" y="16842"/>
                  </a:cubicBezTo>
                  <a:cubicBezTo>
                    <a:pt x="13314" y="16747"/>
                    <a:pt x="13385" y="16747"/>
                    <a:pt x="13456" y="16747"/>
                  </a:cubicBezTo>
                  <a:cubicBezTo>
                    <a:pt x="13597" y="16652"/>
                    <a:pt x="13597" y="16557"/>
                    <a:pt x="13668" y="16462"/>
                  </a:cubicBezTo>
                  <a:cubicBezTo>
                    <a:pt x="13739" y="16367"/>
                    <a:pt x="13881" y="16176"/>
                    <a:pt x="13951" y="15986"/>
                  </a:cubicBezTo>
                  <a:cubicBezTo>
                    <a:pt x="14093" y="15796"/>
                    <a:pt x="14093" y="15700"/>
                    <a:pt x="14235" y="15700"/>
                  </a:cubicBezTo>
                  <a:cubicBezTo>
                    <a:pt x="14306" y="15605"/>
                    <a:pt x="14518" y="15605"/>
                    <a:pt x="14518" y="15415"/>
                  </a:cubicBezTo>
                  <a:cubicBezTo>
                    <a:pt x="14447" y="15415"/>
                    <a:pt x="14376" y="14939"/>
                    <a:pt x="14376" y="14939"/>
                  </a:cubicBezTo>
                  <a:cubicBezTo>
                    <a:pt x="14447" y="14939"/>
                    <a:pt x="14660" y="15225"/>
                    <a:pt x="14730" y="15225"/>
                  </a:cubicBezTo>
                  <a:cubicBezTo>
                    <a:pt x="14801" y="15320"/>
                    <a:pt x="14872" y="15320"/>
                    <a:pt x="14943" y="15320"/>
                  </a:cubicBezTo>
                  <a:cubicBezTo>
                    <a:pt x="14943" y="15320"/>
                    <a:pt x="15085" y="15225"/>
                    <a:pt x="15085" y="15225"/>
                  </a:cubicBezTo>
                  <a:cubicBezTo>
                    <a:pt x="15155" y="15225"/>
                    <a:pt x="15226" y="15320"/>
                    <a:pt x="15297" y="15225"/>
                  </a:cubicBezTo>
                  <a:cubicBezTo>
                    <a:pt x="15297" y="15225"/>
                    <a:pt x="15155" y="15034"/>
                    <a:pt x="15368" y="15130"/>
                  </a:cubicBezTo>
                  <a:cubicBezTo>
                    <a:pt x="15510" y="15130"/>
                    <a:pt x="15651" y="15130"/>
                    <a:pt x="15793" y="15034"/>
                  </a:cubicBezTo>
                  <a:cubicBezTo>
                    <a:pt x="16147" y="14939"/>
                    <a:pt x="16430" y="14844"/>
                    <a:pt x="16784" y="14654"/>
                  </a:cubicBezTo>
                  <a:cubicBezTo>
                    <a:pt x="16855" y="14559"/>
                    <a:pt x="17988" y="13607"/>
                    <a:pt x="18059" y="13607"/>
                  </a:cubicBezTo>
                  <a:cubicBezTo>
                    <a:pt x="17988" y="13607"/>
                    <a:pt x="17492" y="13607"/>
                    <a:pt x="17422" y="13607"/>
                  </a:cubicBezTo>
                  <a:cubicBezTo>
                    <a:pt x="17280" y="13512"/>
                    <a:pt x="17138" y="13417"/>
                    <a:pt x="16997" y="13417"/>
                  </a:cubicBezTo>
                  <a:cubicBezTo>
                    <a:pt x="16855" y="13417"/>
                    <a:pt x="16713" y="13512"/>
                    <a:pt x="16643" y="13512"/>
                  </a:cubicBezTo>
                  <a:cubicBezTo>
                    <a:pt x="16501" y="13607"/>
                    <a:pt x="16501" y="13417"/>
                    <a:pt x="16430" y="13512"/>
                  </a:cubicBezTo>
                  <a:cubicBezTo>
                    <a:pt x="16359" y="13512"/>
                    <a:pt x="16289" y="13702"/>
                    <a:pt x="16218" y="13702"/>
                  </a:cubicBezTo>
                  <a:cubicBezTo>
                    <a:pt x="15934" y="13702"/>
                    <a:pt x="16430" y="13322"/>
                    <a:pt x="16501" y="13417"/>
                  </a:cubicBezTo>
                  <a:cubicBezTo>
                    <a:pt x="16430" y="13322"/>
                    <a:pt x="16218" y="13417"/>
                    <a:pt x="16147" y="13417"/>
                  </a:cubicBezTo>
                  <a:cubicBezTo>
                    <a:pt x="15934" y="13417"/>
                    <a:pt x="15793" y="13322"/>
                    <a:pt x="15651" y="13322"/>
                  </a:cubicBezTo>
                  <a:cubicBezTo>
                    <a:pt x="15722" y="13322"/>
                    <a:pt x="15934" y="13131"/>
                    <a:pt x="16005" y="13036"/>
                  </a:cubicBezTo>
                  <a:cubicBezTo>
                    <a:pt x="16005" y="12751"/>
                    <a:pt x="16147" y="12846"/>
                    <a:pt x="16218" y="12941"/>
                  </a:cubicBezTo>
                  <a:cubicBezTo>
                    <a:pt x="16359" y="12941"/>
                    <a:pt x="16926" y="12751"/>
                    <a:pt x="16997" y="12656"/>
                  </a:cubicBezTo>
                  <a:cubicBezTo>
                    <a:pt x="16997" y="12560"/>
                    <a:pt x="16643" y="12465"/>
                    <a:pt x="16572" y="12370"/>
                  </a:cubicBezTo>
                  <a:cubicBezTo>
                    <a:pt x="16643" y="12465"/>
                    <a:pt x="16926" y="12560"/>
                    <a:pt x="16997" y="12560"/>
                  </a:cubicBezTo>
                  <a:cubicBezTo>
                    <a:pt x="17068" y="12656"/>
                    <a:pt x="17351" y="12656"/>
                    <a:pt x="17351" y="12846"/>
                  </a:cubicBezTo>
                  <a:cubicBezTo>
                    <a:pt x="17280" y="13131"/>
                    <a:pt x="17422" y="13226"/>
                    <a:pt x="17563" y="13226"/>
                  </a:cubicBezTo>
                  <a:cubicBezTo>
                    <a:pt x="17563" y="13226"/>
                    <a:pt x="17988" y="13226"/>
                    <a:pt x="17917" y="13131"/>
                  </a:cubicBezTo>
                  <a:cubicBezTo>
                    <a:pt x="17917" y="13131"/>
                    <a:pt x="17917" y="13322"/>
                    <a:pt x="17988" y="13322"/>
                  </a:cubicBezTo>
                  <a:cubicBezTo>
                    <a:pt x="18130" y="13226"/>
                    <a:pt x="18201" y="12941"/>
                    <a:pt x="18201" y="12751"/>
                  </a:cubicBezTo>
                  <a:cubicBezTo>
                    <a:pt x="18201" y="12656"/>
                    <a:pt x="18201" y="12275"/>
                    <a:pt x="18059" y="12370"/>
                  </a:cubicBezTo>
                  <a:cubicBezTo>
                    <a:pt x="17917" y="12560"/>
                    <a:pt x="17988" y="12370"/>
                    <a:pt x="17917" y="12275"/>
                  </a:cubicBezTo>
                  <a:cubicBezTo>
                    <a:pt x="17776" y="12085"/>
                    <a:pt x="17563" y="11989"/>
                    <a:pt x="17351" y="11799"/>
                  </a:cubicBezTo>
                  <a:cubicBezTo>
                    <a:pt x="17280" y="11704"/>
                    <a:pt x="17209" y="11704"/>
                    <a:pt x="17138" y="11609"/>
                  </a:cubicBezTo>
                  <a:cubicBezTo>
                    <a:pt x="17138" y="11609"/>
                    <a:pt x="16855" y="11704"/>
                    <a:pt x="16855" y="11799"/>
                  </a:cubicBezTo>
                  <a:cubicBezTo>
                    <a:pt x="16855" y="11799"/>
                    <a:pt x="16926" y="11704"/>
                    <a:pt x="16855" y="11704"/>
                  </a:cubicBezTo>
                  <a:cubicBezTo>
                    <a:pt x="16855" y="11704"/>
                    <a:pt x="16784" y="11609"/>
                    <a:pt x="16784" y="11609"/>
                  </a:cubicBezTo>
                  <a:cubicBezTo>
                    <a:pt x="16784" y="11514"/>
                    <a:pt x="17068" y="11609"/>
                    <a:pt x="17068" y="11514"/>
                  </a:cubicBezTo>
                  <a:cubicBezTo>
                    <a:pt x="17068" y="11323"/>
                    <a:pt x="17068" y="11228"/>
                    <a:pt x="16855" y="11228"/>
                  </a:cubicBezTo>
                  <a:cubicBezTo>
                    <a:pt x="16713" y="11323"/>
                    <a:pt x="16643" y="11514"/>
                    <a:pt x="16501" y="11323"/>
                  </a:cubicBezTo>
                  <a:cubicBezTo>
                    <a:pt x="16501" y="11323"/>
                    <a:pt x="16218" y="11323"/>
                    <a:pt x="16218" y="11228"/>
                  </a:cubicBezTo>
                  <a:cubicBezTo>
                    <a:pt x="16218" y="11038"/>
                    <a:pt x="16572" y="11323"/>
                    <a:pt x="16572" y="11323"/>
                  </a:cubicBezTo>
                  <a:cubicBezTo>
                    <a:pt x="16643" y="11323"/>
                    <a:pt x="16997" y="11228"/>
                    <a:pt x="16997" y="11133"/>
                  </a:cubicBezTo>
                  <a:cubicBezTo>
                    <a:pt x="17068" y="11133"/>
                    <a:pt x="16713" y="10943"/>
                    <a:pt x="16643" y="10943"/>
                  </a:cubicBezTo>
                  <a:cubicBezTo>
                    <a:pt x="16501" y="10943"/>
                    <a:pt x="16289" y="10943"/>
                    <a:pt x="16147" y="11038"/>
                  </a:cubicBezTo>
                  <a:cubicBezTo>
                    <a:pt x="16218" y="11038"/>
                    <a:pt x="16501" y="10752"/>
                    <a:pt x="16501" y="10848"/>
                  </a:cubicBezTo>
                  <a:cubicBezTo>
                    <a:pt x="16501" y="10752"/>
                    <a:pt x="16218" y="10752"/>
                    <a:pt x="16218" y="10657"/>
                  </a:cubicBezTo>
                  <a:cubicBezTo>
                    <a:pt x="16430" y="10752"/>
                    <a:pt x="16643" y="10943"/>
                    <a:pt x="16855" y="10752"/>
                  </a:cubicBezTo>
                  <a:cubicBezTo>
                    <a:pt x="16855" y="10752"/>
                    <a:pt x="17068" y="10657"/>
                    <a:pt x="17068" y="10562"/>
                  </a:cubicBezTo>
                  <a:cubicBezTo>
                    <a:pt x="16997" y="10467"/>
                    <a:pt x="16855" y="10372"/>
                    <a:pt x="16855" y="10277"/>
                  </a:cubicBezTo>
                  <a:cubicBezTo>
                    <a:pt x="16855" y="10372"/>
                    <a:pt x="17068" y="10467"/>
                    <a:pt x="17138" y="10467"/>
                  </a:cubicBezTo>
                  <a:cubicBezTo>
                    <a:pt x="17280" y="10562"/>
                    <a:pt x="17209" y="10372"/>
                    <a:pt x="17351" y="10372"/>
                  </a:cubicBezTo>
                  <a:cubicBezTo>
                    <a:pt x="17422" y="10372"/>
                    <a:pt x="17988" y="10562"/>
                    <a:pt x="17988" y="10562"/>
                  </a:cubicBezTo>
                  <a:cubicBezTo>
                    <a:pt x="17917" y="10562"/>
                    <a:pt x="17422" y="10467"/>
                    <a:pt x="17422" y="10467"/>
                  </a:cubicBezTo>
                  <a:cubicBezTo>
                    <a:pt x="17563" y="10848"/>
                    <a:pt x="17988" y="10752"/>
                    <a:pt x="18201" y="10752"/>
                  </a:cubicBezTo>
                  <a:cubicBezTo>
                    <a:pt x="18271" y="10657"/>
                    <a:pt x="18484" y="10752"/>
                    <a:pt x="18555" y="10657"/>
                  </a:cubicBezTo>
                  <a:cubicBezTo>
                    <a:pt x="18767" y="10562"/>
                    <a:pt x="18696" y="10372"/>
                    <a:pt x="18555" y="10277"/>
                  </a:cubicBezTo>
                  <a:cubicBezTo>
                    <a:pt x="18484" y="10181"/>
                    <a:pt x="18271" y="10086"/>
                    <a:pt x="18201" y="10086"/>
                  </a:cubicBezTo>
                  <a:cubicBezTo>
                    <a:pt x="18130" y="10086"/>
                    <a:pt x="18201" y="10372"/>
                    <a:pt x="18201" y="10467"/>
                  </a:cubicBezTo>
                  <a:cubicBezTo>
                    <a:pt x="18130" y="10372"/>
                    <a:pt x="18130" y="10277"/>
                    <a:pt x="18059" y="10181"/>
                  </a:cubicBezTo>
                  <a:cubicBezTo>
                    <a:pt x="18059" y="10086"/>
                    <a:pt x="17988" y="10181"/>
                    <a:pt x="17917" y="10086"/>
                  </a:cubicBezTo>
                  <a:cubicBezTo>
                    <a:pt x="17988" y="10181"/>
                    <a:pt x="18130" y="9611"/>
                    <a:pt x="18130" y="9515"/>
                  </a:cubicBezTo>
                  <a:cubicBezTo>
                    <a:pt x="18130" y="9515"/>
                    <a:pt x="18201" y="9801"/>
                    <a:pt x="18201" y="9801"/>
                  </a:cubicBezTo>
                  <a:cubicBezTo>
                    <a:pt x="18201" y="9991"/>
                    <a:pt x="18201" y="10086"/>
                    <a:pt x="18271" y="10086"/>
                  </a:cubicBezTo>
                  <a:cubicBezTo>
                    <a:pt x="18484" y="10086"/>
                    <a:pt x="18626" y="9991"/>
                    <a:pt x="18767" y="9991"/>
                  </a:cubicBezTo>
                  <a:cubicBezTo>
                    <a:pt x="18838" y="9991"/>
                    <a:pt x="19263" y="9801"/>
                    <a:pt x="19121" y="9611"/>
                  </a:cubicBezTo>
                  <a:cubicBezTo>
                    <a:pt x="18980" y="9515"/>
                    <a:pt x="18909" y="9706"/>
                    <a:pt x="18838" y="9611"/>
                  </a:cubicBezTo>
                  <a:cubicBezTo>
                    <a:pt x="18838" y="9515"/>
                    <a:pt x="18838" y="9515"/>
                    <a:pt x="18838" y="9420"/>
                  </a:cubicBezTo>
                  <a:cubicBezTo>
                    <a:pt x="18909" y="9325"/>
                    <a:pt x="18838" y="9230"/>
                    <a:pt x="18767" y="9230"/>
                  </a:cubicBezTo>
                  <a:cubicBezTo>
                    <a:pt x="18767" y="9135"/>
                    <a:pt x="18555" y="9135"/>
                    <a:pt x="18484" y="9135"/>
                  </a:cubicBezTo>
                  <a:cubicBezTo>
                    <a:pt x="18342" y="9135"/>
                    <a:pt x="18271" y="9325"/>
                    <a:pt x="18130" y="9135"/>
                  </a:cubicBezTo>
                  <a:cubicBezTo>
                    <a:pt x="18413" y="9420"/>
                    <a:pt x="18555" y="8659"/>
                    <a:pt x="18838" y="9040"/>
                  </a:cubicBezTo>
                  <a:cubicBezTo>
                    <a:pt x="18909" y="9230"/>
                    <a:pt x="19050" y="8944"/>
                    <a:pt x="19050" y="8754"/>
                  </a:cubicBezTo>
                  <a:cubicBezTo>
                    <a:pt x="19050" y="8659"/>
                    <a:pt x="18838" y="8374"/>
                    <a:pt x="18838" y="8374"/>
                  </a:cubicBezTo>
                  <a:cubicBezTo>
                    <a:pt x="18838" y="8278"/>
                    <a:pt x="19050" y="8564"/>
                    <a:pt x="19050" y="8659"/>
                  </a:cubicBezTo>
                  <a:cubicBezTo>
                    <a:pt x="19050" y="8754"/>
                    <a:pt x="19192" y="8564"/>
                    <a:pt x="19121" y="8374"/>
                  </a:cubicBezTo>
                  <a:cubicBezTo>
                    <a:pt x="19050" y="8278"/>
                    <a:pt x="18909" y="8088"/>
                    <a:pt x="18838" y="7993"/>
                  </a:cubicBezTo>
                  <a:cubicBezTo>
                    <a:pt x="18696" y="7993"/>
                    <a:pt x="18484" y="8088"/>
                    <a:pt x="18342" y="7993"/>
                  </a:cubicBezTo>
                  <a:cubicBezTo>
                    <a:pt x="18271" y="7898"/>
                    <a:pt x="18271" y="7707"/>
                    <a:pt x="18130" y="7707"/>
                  </a:cubicBezTo>
                  <a:cubicBezTo>
                    <a:pt x="18130" y="7612"/>
                    <a:pt x="17847" y="7707"/>
                    <a:pt x="17917" y="7612"/>
                  </a:cubicBezTo>
                  <a:cubicBezTo>
                    <a:pt x="17988" y="7422"/>
                    <a:pt x="17988" y="7327"/>
                    <a:pt x="18130" y="7517"/>
                  </a:cubicBezTo>
                  <a:cubicBezTo>
                    <a:pt x="18271" y="7707"/>
                    <a:pt x="18413" y="7422"/>
                    <a:pt x="18555" y="7327"/>
                  </a:cubicBezTo>
                  <a:cubicBezTo>
                    <a:pt x="18767" y="7137"/>
                    <a:pt x="19192" y="7707"/>
                    <a:pt x="19405" y="7422"/>
                  </a:cubicBezTo>
                  <a:cubicBezTo>
                    <a:pt x="19475" y="7327"/>
                    <a:pt x="19475" y="6851"/>
                    <a:pt x="19263" y="6946"/>
                  </a:cubicBezTo>
                  <a:cubicBezTo>
                    <a:pt x="19192" y="6946"/>
                    <a:pt x="19121" y="7041"/>
                    <a:pt x="19050" y="6946"/>
                  </a:cubicBezTo>
                  <a:cubicBezTo>
                    <a:pt x="18909" y="6946"/>
                    <a:pt x="18767" y="6851"/>
                    <a:pt x="18626" y="6661"/>
                  </a:cubicBezTo>
                  <a:cubicBezTo>
                    <a:pt x="18413" y="6470"/>
                    <a:pt x="19192" y="6756"/>
                    <a:pt x="19192" y="6661"/>
                  </a:cubicBezTo>
                  <a:cubicBezTo>
                    <a:pt x="19121" y="6470"/>
                    <a:pt x="18767" y="6375"/>
                    <a:pt x="18626" y="6280"/>
                  </a:cubicBezTo>
                  <a:cubicBezTo>
                    <a:pt x="18413" y="6185"/>
                    <a:pt x="18413" y="6280"/>
                    <a:pt x="18342" y="6470"/>
                  </a:cubicBezTo>
                  <a:cubicBezTo>
                    <a:pt x="18342" y="6566"/>
                    <a:pt x="18201" y="6661"/>
                    <a:pt x="18130" y="6566"/>
                  </a:cubicBezTo>
                  <a:cubicBezTo>
                    <a:pt x="18059" y="6566"/>
                    <a:pt x="18271" y="6185"/>
                    <a:pt x="18271" y="6090"/>
                  </a:cubicBezTo>
                  <a:cubicBezTo>
                    <a:pt x="18271" y="5995"/>
                    <a:pt x="18342" y="5804"/>
                    <a:pt x="18413" y="5709"/>
                  </a:cubicBezTo>
                  <a:cubicBezTo>
                    <a:pt x="18413" y="5614"/>
                    <a:pt x="18413" y="5424"/>
                    <a:pt x="18484" y="5424"/>
                  </a:cubicBezTo>
                  <a:cubicBezTo>
                    <a:pt x="18555" y="5424"/>
                    <a:pt x="18696" y="5424"/>
                    <a:pt x="18767" y="5329"/>
                  </a:cubicBezTo>
                  <a:cubicBezTo>
                    <a:pt x="18767" y="5329"/>
                    <a:pt x="19121" y="4853"/>
                    <a:pt x="19121" y="4948"/>
                  </a:cubicBezTo>
                  <a:cubicBezTo>
                    <a:pt x="19121" y="4948"/>
                    <a:pt x="18980" y="4853"/>
                    <a:pt x="18980" y="4853"/>
                  </a:cubicBezTo>
                  <a:cubicBezTo>
                    <a:pt x="18980" y="4758"/>
                    <a:pt x="18980" y="4663"/>
                    <a:pt x="18980" y="4567"/>
                  </a:cubicBezTo>
                  <a:cubicBezTo>
                    <a:pt x="18980" y="4377"/>
                    <a:pt x="19050" y="4377"/>
                    <a:pt x="19192" y="4377"/>
                  </a:cubicBezTo>
                  <a:cubicBezTo>
                    <a:pt x="19334" y="4377"/>
                    <a:pt x="19900" y="4092"/>
                    <a:pt x="19546" y="4092"/>
                  </a:cubicBezTo>
                  <a:cubicBezTo>
                    <a:pt x="19334" y="4092"/>
                    <a:pt x="18980" y="3996"/>
                    <a:pt x="18838" y="4187"/>
                  </a:cubicBezTo>
                  <a:cubicBezTo>
                    <a:pt x="18767" y="4282"/>
                    <a:pt x="18767" y="4472"/>
                    <a:pt x="18626" y="4377"/>
                  </a:cubicBezTo>
                  <a:cubicBezTo>
                    <a:pt x="18484" y="4282"/>
                    <a:pt x="18626" y="4092"/>
                    <a:pt x="18696" y="3996"/>
                  </a:cubicBezTo>
                  <a:cubicBezTo>
                    <a:pt x="18838" y="3711"/>
                    <a:pt x="19121" y="3901"/>
                    <a:pt x="19334" y="3901"/>
                  </a:cubicBezTo>
                  <a:cubicBezTo>
                    <a:pt x="19617" y="3901"/>
                    <a:pt x="19900" y="3996"/>
                    <a:pt x="20042" y="3616"/>
                  </a:cubicBezTo>
                  <a:cubicBezTo>
                    <a:pt x="20113" y="3616"/>
                    <a:pt x="19830" y="3521"/>
                    <a:pt x="19830" y="3521"/>
                  </a:cubicBezTo>
                  <a:cubicBezTo>
                    <a:pt x="19688" y="3426"/>
                    <a:pt x="19546" y="3521"/>
                    <a:pt x="19405" y="3521"/>
                  </a:cubicBezTo>
                  <a:cubicBezTo>
                    <a:pt x="19263" y="3521"/>
                    <a:pt x="19192" y="3426"/>
                    <a:pt x="19050" y="3426"/>
                  </a:cubicBezTo>
                  <a:cubicBezTo>
                    <a:pt x="18980" y="3426"/>
                    <a:pt x="18838" y="3426"/>
                    <a:pt x="18767" y="3426"/>
                  </a:cubicBezTo>
                  <a:cubicBezTo>
                    <a:pt x="18838" y="3521"/>
                    <a:pt x="19050" y="3426"/>
                    <a:pt x="19192" y="3426"/>
                  </a:cubicBezTo>
                  <a:cubicBezTo>
                    <a:pt x="19405" y="3426"/>
                    <a:pt x="19546" y="3330"/>
                    <a:pt x="19759" y="3330"/>
                  </a:cubicBezTo>
                  <a:cubicBezTo>
                    <a:pt x="20042" y="3426"/>
                    <a:pt x="20184" y="3235"/>
                    <a:pt x="20396" y="3235"/>
                  </a:cubicBezTo>
                  <a:cubicBezTo>
                    <a:pt x="20467" y="3235"/>
                    <a:pt x="20609" y="3235"/>
                    <a:pt x="20609" y="3140"/>
                  </a:cubicBezTo>
                  <a:cubicBezTo>
                    <a:pt x="20609" y="3140"/>
                    <a:pt x="20467" y="2950"/>
                    <a:pt x="20538" y="2950"/>
                  </a:cubicBezTo>
                  <a:cubicBezTo>
                    <a:pt x="20892" y="2855"/>
                    <a:pt x="21246" y="2759"/>
                    <a:pt x="21529" y="2474"/>
                  </a:cubicBezTo>
                  <a:cubicBezTo>
                    <a:pt x="21600" y="2379"/>
                    <a:pt x="21317" y="2284"/>
                    <a:pt x="21317" y="2284"/>
                  </a:cubicBezTo>
                  <a:cubicBezTo>
                    <a:pt x="21104" y="2189"/>
                    <a:pt x="20892" y="2093"/>
                    <a:pt x="20750" y="2093"/>
                  </a:cubicBezTo>
                  <a:cubicBezTo>
                    <a:pt x="20325" y="1998"/>
                    <a:pt x="19971" y="1903"/>
                    <a:pt x="19617" y="2379"/>
                  </a:cubicBezTo>
                  <a:cubicBezTo>
                    <a:pt x="19475" y="2664"/>
                    <a:pt x="19334" y="2474"/>
                    <a:pt x="19050" y="2474"/>
                  </a:cubicBezTo>
                  <a:cubicBezTo>
                    <a:pt x="18980" y="2474"/>
                    <a:pt x="18696" y="2759"/>
                    <a:pt x="18767" y="2474"/>
                  </a:cubicBezTo>
                  <a:cubicBezTo>
                    <a:pt x="18767" y="2284"/>
                    <a:pt x="18413" y="2569"/>
                    <a:pt x="18342" y="2664"/>
                  </a:cubicBezTo>
                  <a:cubicBezTo>
                    <a:pt x="18201" y="2759"/>
                    <a:pt x="18059" y="2855"/>
                    <a:pt x="17917" y="2950"/>
                  </a:cubicBezTo>
                  <a:cubicBezTo>
                    <a:pt x="17847" y="2950"/>
                    <a:pt x="17280" y="3521"/>
                    <a:pt x="17280" y="3521"/>
                  </a:cubicBezTo>
                  <a:cubicBezTo>
                    <a:pt x="17138" y="3330"/>
                    <a:pt x="18696" y="2093"/>
                    <a:pt x="17776" y="1808"/>
                  </a:cubicBezTo>
                  <a:cubicBezTo>
                    <a:pt x="17422" y="1808"/>
                    <a:pt x="17492" y="2093"/>
                    <a:pt x="17209" y="2284"/>
                  </a:cubicBezTo>
                  <a:cubicBezTo>
                    <a:pt x="16997" y="2379"/>
                    <a:pt x="16855" y="2379"/>
                    <a:pt x="16643" y="2474"/>
                  </a:cubicBezTo>
                  <a:cubicBezTo>
                    <a:pt x="16572" y="2474"/>
                    <a:pt x="16218" y="2664"/>
                    <a:pt x="16147" y="2664"/>
                  </a:cubicBezTo>
                  <a:cubicBezTo>
                    <a:pt x="16005" y="2379"/>
                    <a:pt x="16501" y="2284"/>
                    <a:pt x="16643" y="2284"/>
                  </a:cubicBezTo>
                  <a:cubicBezTo>
                    <a:pt x="16643" y="2189"/>
                    <a:pt x="17068" y="2093"/>
                    <a:pt x="16855" y="1998"/>
                  </a:cubicBezTo>
                  <a:cubicBezTo>
                    <a:pt x="16643" y="1903"/>
                    <a:pt x="16430" y="1903"/>
                    <a:pt x="16218" y="1903"/>
                  </a:cubicBezTo>
                  <a:cubicBezTo>
                    <a:pt x="15651" y="1903"/>
                    <a:pt x="15085" y="1998"/>
                    <a:pt x="14518" y="2189"/>
                  </a:cubicBezTo>
                  <a:cubicBezTo>
                    <a:pt x="14518" y="2189"/>
                    <a:pt x="14306" y="2379"/>
                    <a:pt x="14235" y="2284"/>
                  </a:cubicBezTo>
                  <a:cubicBezTo>
                    <a:pt x="14235" y="2093"/>
                    <a:pt x="14164" y="2093"/>
                    <a:pt x="14306" y="2093"/>
                  </a:cubicBezTo>
                  <a:cubicBezTo>
                    <a:pt x="14589" y="1903"/>
                    <a:pt x="14872" y="1808"/>
                    <a:pt x="15155" y="1713"/>
                  </a:cubicBezTo>
                  <a:cubicBezTo>
                    <a:pt x="15651" y="1618"/>
                    <a:pt x="16218" y="1713"/>
                    <a:pt x="16784" y="1713"/>
                  </a:cubicBezTo>
                  <a:cubicBezTo>
                    <a:pt x="16926" y="1713"/>
                    <a:pt x="17068" y="1713"/>
                    <a:pt x="17209" y="1713"/>
                  </a:cubicBezTo>
                  <a:cubicBezTo>
                    <a:pt x="17492" y="1522"/>
                    <a:pt x="17847" y="1522"/>
                    <a:pt x="18130" y="1332"/>
                  </a:cubicBezTo>
                  <a:cubicBezTo>
                    <a:pt x="18271" y="1332"/>
                    <a:pt x="18342" y="1237"/>
                    <a:pt x="18130" y="1142"/>
                  </a:cubicBezTo>
                  <a:cubicBezTo>
                    <a:pt x="17988" y="1047"/>
                    <a:pt x="17705" y="952"/>
                    <a:pt x="17563" y="1047"/>
                  </a:cubicBezTo>
                  <a:cubicBezTo>
                    <a:pt x="17422" y="1047"/>
                    <a:pt x="17422" y="952"/>
                    <a:pt x="17280" y="856"/>
                  </a:cubicBezTo>
                  <a:cubicBezTo>
                    <a:pt x="17138" y="856"/>
                    <a:pt x="16997" y="1047"/>
                    <a:pt x="16855" y="1047"/>
                  </a:cubicBezTo>
                  <a:cubicBezTo>
                    <a:pt x="16855" y="1047"/>
                    <a:pt x="16997" y="761"/>
                    <a:pt x="17068" y="761"/>
                  </a:cubicBezTo>
                  <a:cubicBezTo>
                    <a:pt x="17138" y="571"/>
                    <a:pt x="16855" y="571"/>
                    <a:pt x="16784" y="571"/>
                  </a:cubicBezTo>
                  <a:cubicBezTo>
                    <a:pt x="16359" y="666"/>
                    <a:pt x="16005" y="666"/>
                    <a:pt x="15580" y="571"/>
                  </a:cubicBezTo>
                  <a:cubicBezTo>
                    <a:pt x="15226" y="571"/>
                    <a:pt x="14943" y="761"/>
                    <a:pt x="14589" y="761"/>
                  </a:cubicBezTo>
                  <a:cubicBezTo>
                    <a:pt x="14447" y="761"/>
                    <a:pt x="14235" y="761"/>
                    <a:pt x="14093" y="761"/>
                  </a:cubicBezTo>
                  <a:cubicBezTo>
                    <a:pt x="13951" y="856"/>
                    <a:pt x="13739" y="761"/>
                    <a:pt x="13668" y="856"/>
                  </a:cubicBezTo>
                  <a:cubicBezTo>
                    <a:pt x="13881" y="761"/>
                    <a:pt x="14093" y="761"/>
                    <a:pt x="14306" y="666"/>
                  </a:cubicBezTo>
                  <a:cubicBezTo>
                    <a:pt x="14660" y="666"/>
                    <a:pt x="14943" y="571"/>
                    <a:pt x="15226" y="571"/>
                  </a:cubicBezTo>
                  <a:cubicBezTo>
                    <a:pt x="15368" y="571"/>
                    <a:pt x="16784" y="571"/>
                    <a:pt x="16784" y="381"/>
                  </a:cubicBezTo>
                  <a:cubicBezTo>
                    <a:pt x="16713" y="381"/>
                    <a:pt x="16501" y="285"/>
                    <a:pt x="16430" y="190"/>
                  </a:cubicBezTo>
                  <a:cubicBezTo>
                    <a:pt x="16218" y="190"/>
                    <a:pt x="16076" y="190"/>
                    <a:pt x="15864" y="190"/>
                  </a:cubicBezTo>
                  <a:cubicBezTo>
                    <a:pt x="15580" y="190"/>
                    <a:pt x="15297" y="95"/>
                    <a:pt x="15085" y="0"/>
                  </a:cubicBezTo>
                  <a:cubicBezTo>
                    <a:pt x="14589" y="0"/>
                    <a:pt x="14164" y="0"/>
                    <a:pt x="13739" y="0"/>
                  </a:cubicBezTo>
                  <a:cubicBezTo>
                    <a:pt x="13527" y="95"/>
                    <a:pt x="13314" y="95"/>
                    <a:pt x="13102" y="95"/>
                  </a:cubicBezTo>
                  <a:cubicBezTo>
                    <a:pt x="13031" y="95"/>
                    <a:pt x="12960" y="285"/>
                    <a:pt x="12960" y="285"/>
                  </a:cubicBezTo>
                  <a:cubicBezTo>
                    <a:pt x="12818" y="285"/>
                    <a:pt x="12677" y="190"/>
                    <a:pt x="12535" y="190"/>
                  </a:cubicBezTo>
                  <a:cubicBezTo>
                    <a:pt x="12464" y="190"/>
                    <a:pt x="12393" y="285"/>
                    <a:pt x="12252" y="285"/>
                  </a:cubicBezTo>
                  <a:cubicBezTo>
                    <a:pt x="12110" y="285"/>
                    <a:pt x="12110" y="381"/>
                    <a:pt x="12252" y="381"/>
                  </a:cubicBezTo>
                  <a:cubicBezTo>
                    <a:pt x="12464" y="476"/>
                    <a:pt x="12677" y="476"/>
                    <a:pt x="12818" y="571"/>
                  </a:cubicBezTo>
                  <a:cubicBezTo>
                    <a:pt x="12748" y="476"/>
                    <a:pt x="12323" y="666"/>
                    <a:pt x="12252" y="761"/>
                  </a:cubicBezTo>
                  <a:cubicBezTo>
                    <a:pt x="12252" y="761"/>
                    <a:pt x="12039" y="761"/>
                    <a:pt x="12039" y="761"/>
                  </a:cubicBezTo>
                  <a:cubicBezTo>
                    <a:pt x="12039" y="761"/>
                    <a:pt x="12181" y="952"/>
                    <a:pt x="12181" y="952"/>
                  </a:cubicBezTo>
                  <a:cubicBezTo>
                    <a:pt x="12110" y="952"/>
                    <a:pt x="11969" y="856"/>
                    <a:pt x="11898" y="761"/>
                  </a:cubicBezTo>
                  <a:cubicBezTo>
                    <a:pt x="11827" y="666"/>
                    <a:pt x="11614" y="761"/>
                    <a:pt x="11544" y="761"/>
                  </a:cubicBezTo>
                  <a:cubicBezTo>
                    <a:pt x="11331" y="666"/>
                    <a:pt x="11119" y="571"/>
                    <a:pt x="10906" y="476"/>
                  </a:cubicBezTo>
                  <a:cubicBezTo>
                    <a:pt x="10765" y="381"/>
                    <a:pt x="10623" y="571"/>
                    <a:pt x="10410" y="571"/>
                  </a:cubicBezTo>
                  <a:cubicBezTo>
                    <a:pt x="10340" y="571"/>
                    <a:pt x="9915" y="476"/>
                    <a:pt x="9915" y="666"/>
                  </a:cubicBezTo>
                  <a:cubicBezTo>
                    <a:pt x="9844" y="666"/>
                    <a:pt x="10835" y="856"/>
                    <a:pt x="10977" y="952"/>
                  </a:cubicBezTo>
                  <a:cubicBezTo>
                    <a:pt x="11190" y="952"/>
                    <a:pt x="11402" y="952"/>
                    <a:pt x="11544" y="1047"/>
                  </a:cubicBezTo>
                  <a:cubicBezTo>
                    <a:pt x="11614" y="1047"/>
                    <a:pt x="11685" y="1047"/>
                    <a:pt x="11756" y="1142"/>
                  </a:cubicBezTo>
                  <a:cubicBezTo>
                    <a:pt x="11756" y="1142"/>
                    <a:pt x="11756" y="1427"/>
                    <a:pt x="11756" y="1427"/>
                  </a:cubicBezTo>
                  <a:cubicBezTo>
                    <a:pt x="11756" y="1522"/>
                    <a:pt x="11685" y="1332"/>
                    <a:pt x="11685" y="1237"/>
                  </a:cubicBezTo>
                  <a:cubicBezTo>
                    <a:pt x="11614" y="1142"/>
                    <a:pt x="11402" y="1142"/>
                    <a:pt x="11331" y="1047"/>
                  </a:cubicBezTo>
                  <a:cubicBezTo>
                    <a:pt x="11331" y="1047"/>
                    <a:pt x="11119" y="1047"/>
                    <a:pt x="11119" y="1047"/>
                  </a:cubicBezTo>
                  <a:cubicBezTo>
                    <a:pt x="11119" y="1142"/>
                    <a:pt x="11190" y="1332"/>
                    <a:pt x="11190" y="1332"/>
                  </a:cubicBezTo>
                  <a:cubicBezTo>
                    <a:pt x="11048" y="1332"/>
                    <a:pt x="10977" y="1047"/>
                    <a:pt x="10906" y="1047"/>
                  </a:cubicBezTo>
                  <a:cubicBezTo>
                    <a:pt x="10765" y="1047"/>
                    <a:pt x="10623" y="1047"/>
                    <a:pt x="10481" y="952"/>
                  </a:cubicBezTo>
                  <a:cubicBezTo>
                    <a:pt x="10410" y="952"/>
                    <a:pt x="9844" y="952"/>
                    <a:pt x="9844" y="952"/>
                  </a:cubicBezTo>
                  <a:cubicBezTo>
                    <a:pt x="9773" y="1142"/>
                    <a:pt x="10694" y="1618"/>
                    <a:pt x="10694" y="1618"/>
                  </a:cubicBezTo>
                  <a:cubicBezTo>
                    <a:pt x="10694" y="1713"/>
                    <a:pt x="10340" y="1618"/>
                    <a:pt x="10340" y="1618"/>
                  </a:cubicBezTo>
                  <a:cubicBezTo>
                    <a:pt x="10127" y="1618"/>
                    <a:pt x="10056" y="1522"/>
                    <a:pt x="10127" y="1808"/>
                  </a:cubicBezTo>
                  <a:cubicBezTo>
                    <a:pt x="10056" y="1808"/>
                    <a:pt x="9986" y="1713"/>
                    <a:pt x="9915" y="1618"/>
                  </a:cubicBezTo>
                  <a:cubicBezTo>
                    <a:pt x="9915" y="1522"/>
                    <a:pt x="10056" y="1618"/>
                    <a:pt x="10127" y="1522"/>
                  </a:cubicBezTo>
                  <a:cubicBezTo>
                    <a:pt x="10127" y="1522"/>
                    <a:pt x="9986" y="1332"/>
                    <a:pt x="9915" y="1332"/>
                  </a:cubicBezTo>
                  <a:cubicBezTo>
                    <a:pt x="9773" y="1237"/>
                    <a:pt x="9631" y="1142"/>
                    <a:pt x="9419" y="1142"/>
                  </a:cubicBezTo>
                  <a:cubicBezTo>
                    <a:pt x="9348" y="1142"/>
                    <a:pt x="9207" y="1047"/>
                    <a:pt x="9136" y="1142"/>
                  </a:cubicBezTo>
                  <a:cubicBezTo>
                    <a:pt x="9065" y="1142"/>
                    <a:pt x="9277" y="1427"/>
                    <a:pt x="9277" y="1427"/>
                  </a:cubicBezTo>
                  <a:cubicBezTo>
                    <a:pt x="9490" y="1618"/>
                    <a:pt x="9773" y="1618"/>
                    <a:pt x="10056" y="1903"/>
                  </a:cubicBezTo>
                  <a:cubicBezTo>
                    <a:pt x="10127" y="1903"/>
                    <a:pt x="10198" y="1998"/>
                    <a:pt x="10127" y="2093"/>
                  </a:cubicBezTo>
                  <a:cubicBezTo>
                    <a:pt x="9986" y="2284"/>
                    <a:pt x="9844" y="2093"/>
                    <a:pt x="9702" y="1998"/>
                  </a:cubicBezTo>
                  <a:cubicBezTo>
                    <a:pt x="9348" y="1713"/>
                    <a:pt x="8923" y="1522"/>
                    <a:pt x="8498" y="1427"/>
                  </a:cubicBezTo>
                  <a:cubicBezTo>
                    <a:pt x="8286" y="1332"/>
                    <a:pt x="8073" y="1237"/>
                    <a:pt x="7861" y="1332"/>
                  </a:cubicBezTo>
                  <a:cubicBezTo>
                    <a:pt x="7790" y="1332"/>
                    <a:pt x="8003" y="1618"/>
                    <a:pt x="8003" y="1713"/>
                  </a:cubicBezTo>
                  <a:cubicBezTo>
                    <a:pt x="8003" y="1713"/>
                    <a:pt x="8286" y="1998"/>
                    <a:pt x="8286" y="1998"/>
                  </a:cubicBezTo>
                  <a:cubicBezTo>
                    <a:pt x="8286" y="2093"/>
                    <a:pt x="7861" y="1998"/>
                    <a:pt x="7861" y="1998"/>
                  </a:cubicBezTo>
                  <a:cubicBezTo>
                    <a:pt x="7861" y="2189"/>
                    <a:pt x="8144" y="2093"/>
                    <a:pt x="8144" y="2284"/>
                  </a:cubicBezTo>
                  <a:cubicBezTo>
                    <a:pt x="8144" y="2284"/>
                    <a:pt x="7861" y="2189"/>
                    <a:pt x="7790" y="2093"/>
                  </a:cubicBezTo>
                  <a:cubicBezTo>
                    <a:pt x="7649" y="1998"/>
                    <a:pt x="7507" y="1998"/>
                    <a:pt x="7294" y="1903"/>
                  </a:cubicBezTo>
                  <a:cubicBezTo>
                    <a:pt x="7153" y="1808"/>
                    <a:pt x="7153" y="1903"/>
                    <a:pt x="7153" y="2093"/>
                  </a:cubicBezTo>
                  <a:cubicBezTo>
                    <a:pt x="7082" y="2189"/>
                    <a:pt x="7011" y="2189"/>
                    <a:pt x="6940" y="2189"/>
                  </a:cubicBezTo>
                  <a:cubicBezTo>
                    <a:pt x="6940" y="2284"/>
                    <a:pt x="6940" y="2474"/>
                    <a:pt x="6870" y="2474"/>
                  </a:cubicBezTo>
                  <a:cubicBezTo>
                    <a:pt x="6870" y="2569"/>
                    <a:pt x="6870" y="2284"/>
                    <a:pt x="6870" y="2189"/>
                  </a:cubicBezTo>
                  <a:cubicBezTo>
                    <a:pt x="6870" y="2093"/>
                    <a:pt x="6940" y="1998"/>
                    <a:pt x="6940" y="1903"/>
                  </a:cubicBezTo>
                  <a:cubicBezTo>
                    <a:pt x="6870" y="1522"/>
                    <a:pt x="6586" y="1522"/>
                    <a:pt x="6374" y="1522"/>
                  </a:cubicBezTo>
                  <a:cubicBezTo>
                    <a:pt x="6090" y="1618"/>
                    <a:pt x="5807" y="1713"/>
                    <a:pt x="5524" y="1713"/>
                  </a:cubicBezTo>
                  <a:cubicBezTo>
                    <a:pt x="5453" y="1808"/>
                    <a:pt x="5311" y="1808"/>
                    <a:pt x="5241" y="1808"/>
                  </a:cubicBezTo>
                  <a:cubicBezTo>
                    <a:pt x="5241" y="1808"/>
                    <a:pt x="4887" y="1903"/>
                    <a:pt x="4887" y="1903"/>
                  </a:cubicBezTo>
                  <a:cubicBezTo>
                    <a:pt x="4957" y="1998"/>
                    <a:pt x="5099" y="1998"/>
                    <a:pt x="5170" y="1998"/>
                  </a:cubicBezTo>
                  <a:cubicBezTo>
                    <a:pt x="5241" y="2093"/>
                    <a:pt x="5311" y="2189"/>
                    <a:pt x="5453" y="2284"/>
                  </a:cubicBezTo>
                  <a:cubicBezTo>
                    <a:pt x="5453" y="2284"/>
                    <a:pt x="5736" y="2569"/>
                    <a:pt x="5736" y="2569"/>
                  </a:cubicBezTo>
                  <a:cubicBezTo>
                    <a:pt x="5666" y="2569"/>
                    <a:pt x="5382" y="2379"/>
                    <a:pt x="5311" y="2379"/>
                  </a:cubicBezTo>
                  <a:cubicBezTo>
                    <a:pt x="5170" y="2284"/>
                    <a:pt x="5099" y="2093"/>
                    <a:pt x="4957" y="2093"/>
                  </a:cubicBezTo>
                  <a:cubicBezTo>
                    <a:pt x="4745" y="1998"/>
                    <a:pt x="4532" y="2093"/>
                    <a:pt x="4320" y="2093"/>
                  </a:cubicBezTo>
                  <a:cubicBezTo>
                    <a:pt x="4108" y="2189"/>
                    <a:pt x="4108" y="2093"/>
                    <a:pt x="4249" y="2379"/>
                  </a:cubicBezTo>
                  <a:cubicBezTo>
                    <a:pt x="4249" y="2474"/>
                    <a:pt x="4249" y="2759"/>
                    <a:pt x="4249" y="2855"/>
                  </a:cubicBezTo>
                  <a:cubicBezTo>
                    <a:pt x="4249" y="3045"/>
                    <a:pt x="3966" y="2855"/>
                    <a:pt x="3895" y="2855"/>
                  </a:cubicBezTo>
                  <a:cubicBezTo>
                    <a:pt x="3824" y="2855"/>
                    <a:pt x="3612" y="2664"/>
                    <a:pt x="3541" y="2855"/>
                  </a:cubicBezTo>
                  <a:cubicBezTo>
                    <a:pt x="3470" y="2950"/>
                    <a:pt x="3541" y="3235"/>
                    <a:pt x="3541" y="3235"/>
                  </a:cubicBezTo>
                  <a:cubicBezTo>
                    <a:pt x="3470" y="3330"/>
                    <a:pt x="3399" y="3140"/>
                    <a:pt x="3329" y="3045"/>
                  </a:cubicBezTo>
                  <a:cubicBezTo>
                    <a:pt x="3187" y="2950"/>
                    <a:pt x="3045" y="2950"/>
                    <a:pt x="2974" y="3045"/>
                  </a:cubicBezTo>
                  <a:cubicBezTo>
                    <a:pt x="2762" y="3235"/>
                    <a:pt x="2550" y="3426"/>
                    <a:pt x="2266" y="3521"/>
                  </a:cubicBezTo>
                  <a:cubicBezTo>
                    <a:pt x="2195" y="3616"/>
                    <a:pt x="2408" y="3521"/>
                    <a:pt x="2266" y="3521"/>
                  </a:cubicBezTo>
                  <a:close/>
                </a:path>
              </a:pathLst>
            </a:custGeom>
            <a:solidFill>
              <a:srgbClr val="060ac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802" name="Shape 1416"/>
            <p:cNvSpPr/>
            <p:nvPr/>
          </p:nvSpPr>
          <p:spPr>
            <a:xfrm>
              <a:off x="7183440" y="2598480"/>
              <a:ext cx="60480" cy="36720"/>
            </a:xfrm>
            <a:custGeom>
              <a:avLst/>
              <a:gdLst/>
              <a:ahLst/>
              <a:rect l="l" t="t" r="r" b="b"/>
              <a:pathLst>
                <a:path w="20618" h="17877">
                  <a:moveTo>
                    <a:pt x="20618" y="10691"/>
                  </a:moveTo>
                  <a:cubicBezTo>
                    <a:pt x="19268" y="8727"/>
                    <a:pt x="13868" y="4800"/>
                    <a:pt x="13868" y="4800"/>
                  </a:cubicBezTo>
                  <a:cubicBezTo>
                    <a:pt x="11168" y="2836"/>
                    <a:pt x="8468" y="873"/>
                    <a:pt x="5768" y="873"/>
                  </a:cubicBezTo>
                  <a:cubicBezTo>
                    <a:pt x="4418" y="873"/>
                    <a:pt x="1718" y="-1091"/>
                    <a:pt x="368" y="873"/>
                  </a:cubicBezTo>
                  <a:cubicBezTo>
                    <a:pt x="-982" y="2836"/>
                    <a:pt x="3068" y="4800"/>
                    <a:pt x="3068" y="4800"/>
                  </a:cubicBezTo>
                  <a:cubicBezTo>
                    <a:pt x="1718" y="4800"/>
                    <a:pt x="-982" y="10691"/>
                    <a:pt x="368" y="12654"/>
                  </a:cubicBezTo>
                  <a:cubicBezTo>
                    <a:pt x="1718" y="12654"/>
                    <a:pt x="4418" y="10691"/>
                    <a:pt x="5768" y="12654"/>
                  </a:cubicBezTo>
                  <a:cubicBezTo>
                    <a:pt x="8468" y="14618"/>
                    <a:pt x="5768" y="14618"/>
                    <a:pt x="5768" y="16582"/>
                  </a:cubicBezTo>
                  <a:cubicBezTo>
                    <a:pt x="5768" y="20509"/>
                    <a:pt x="20618" y="14618"/>
                    <a:pt x="20618" y="10691"/>
                  </a:cubicBezTo>
                  <a:cubicBezTo>
                    <a:pt x="19268" y="8727"/>
                    <a:pt x="20618" y="12654"/>
                    <a:pt x="20618" y="10691"/>
                  </a:cubicBezTo>
                  <a:close/>
                </a:path>
              </a:pathLst>
            </a:custGeom>
            <a:solidFill>
              <a:srgbClr val="dadbdf"/>
            </a:solidFill>
            <a:ln w="4680">
              <a:solidFill>
                <a:srgbClr val="ffffff"/>
              </a:solidFill>
              <a:round/>
            </a:ln>
          </p:spPr>
          <p:style>
            <a:lnRef idx="0"/>
            <a:fillRef idx="0"/>
            <a:effectRef idx="0"/>
            <a:fontRef idx="minor"/>
          </p:style>
          <p:txBody>
            <a:bodyPr lIns="45360" rIns="45360" tIns="-10080" bIns="-10080" anchor="t">
              <a:noAutofit/>
            </a:bodyPr>
            <a:p>
              <a:endParaRPr b="0" lang="en-US" sz="1800" spc="-1" strike="noStrike">
                <a:solidFill>
                  <a:srgbClr val="000000"/>
                </a:solidFill>
                <a:latin typeface="Calibri"/>
              </a:endParaRPr>
            </a:p>
          </p:txBody>
        </p:sp>
        <p:sp>
          <p:nvSpPr>
            <p:cNvPr id="803" name="Shape 1417"/>
            <p:cNvSpPr/>
            <p:nvPr/>
          </p:nvSpPr>
          <p:spPr>
            <a:xfrm>
              <a:off x="7204320" y="2565360"/>
              <a:ext cx="9000" cy="7920"/>
            </a:xfrm>
            <a:custGeom>
              <a:avLst/>
              <a:gdLst/>
              <a:ahLst/>
              <a:rect l="l" t="t" r="r" b="b"/>
              <a:pathLst>
                <a:path w="12471" h="21600">
                  <a:moveTo>
                    <a:pt x="6235" y="21600"/>
                  </a:moveTo>
                  <a:cubicBezTo>
                    <a:pt x="-4565" y="21600"/>
                    <a:pt x="835" y="0"/>
                    <a:pt x="6235" y="0"/>
                  </a:cubicBezTo>
                  <a:cubicBezTo>
                    <a:pt x="11635" y="0"/>
                    <a:pt x="17035" y="21600"/>
                    <a:pt x="6235"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804" name="Shape 1418"/>
            <p:cNvSpPr/>
            <p:nvPr/>
          </p:nvSpPr>
          <p:spPr>
            <a:xfrm>
              <a:off x="7217640" y="2100600"/>
              <a:ext cx="36360" cy="18360"/>
            </a:xfrm>
            <a:custGeom>
              <a:avLst/>
              <a:gdLst/>
              <a:ahLst/>
              <a:rect l="l" t="t" r="r" b="b"/>
              <a:pathLst>
                <a:path w="18371" h="16616">
                  <a:moveTo>
                    <a:pt x="15426" y="11525"/>
                  </a:moveTo>
                  <a:cubicBezTo>
                    <a:pt x="19353" y="15125"/>
                    <a:pt x="19353" y="18725"/>
                    <a:pt x="15426" y="15125"/>
                  </a:cubicBezTo>
                  <a:cubicBezTo>
                    <a:pt x="11498" y="15125"/>
                    <a:pt x="5608" y="11525"/>
                    <a:pt x="3644" y="11525"/>
                  </a:cubicBezTo>
                  <a:cubicBezTo>
                    <a:pt x="1680" y="7925"/>
                    <a:pt x="-2247" y="-2875"/>
                    <a:pt x="1680" y="725"/>
                  </a:cubicBezTo>
                  <a:cubicBezTo>
                    <a:pt x="5608" y="4325"/>
                    <a:pt x="11498" y="7925"/>
                    <a:pt x="15426" y="11525"/>
                  </a:cubicBezTo>
                  <a:cubicBezTo>
                    <a:pt x="19353" y="15125"/>
                    <a:pt x="11498" y="7925"/>
                    <a:pt x="15426" y="11525"/>
                  </a:cubicBezTo>
                  <a:close/>
                </a:path>
              </a:pathLst>
            </a:custGeom>
            <a:solidFill>
              <a:srgbClr val="bfbfbf"/>
            </a:solidFill>
            <a:ln w="4680">
              <a:solidFill>
                <a:srgbClr val="ffffff"/>
              </a:solidFill>
              <a:round/>
            </a:ln>
          </p:spPr>
          <p:style>
            <a:lnRef idx="0"/>
            <a:fillRef idx="0"/>
            <a:effectRef idx="0"/>
            <a:fontRef idx="minor"/>
          </p:style>
          <p:txBody>
            <a:bodyPr lIns="45360" rIns="45360" tIns="-28440" bIns="-28440" anchor="t">
              <a:noAutofit/>
            </a:bodyPr>
            <a:p>
              <a:endParaRPr b="0" lang="en-US" sz="1800" spc="-1" strike="noStrike">
                <a:solidFill>
                  <a:srgbClr val="000000"/>
                </a:solidFill>
                <a:latin typeface="Calibri"/>
              </a:endParaRPr>
            </a:p>
          </p:txBody>
        </p:sp>
        <p:sp>
          <p:nvSpPr>
            <p:cNvPr id="805" name="Shape 1419"/>
            <p:cNvSpPr/>
            <p:nvPr/>
          </p:nvSpPr>
          <p:spPr>
            <a:xfrm>
              <a:off x="7346520" y="2065680"/>
              <a:ext cx="32040" cy="11880"/>
            </a:xfrm>
            <a:custGeom>
              <a:avLst/>
              <a:gdLst/>
              <a:ahLst/>
              <a:rect l="l" t="t" r="r" b="b"/>
              <a:pathLst>
                <a:path w="21600" h="13739">
                  <a:moveTo>
                    <a:pt x="21600" y="9030"/>
                  </a:moveTo>
                  <a:cubicBezTo>
                    <a:pt x="21600" y="17670"/>
                    <a:pt x="0" y="13350"/>
                    <a:pt x="0" y="4710"/>
                  </a:cubicBezTo>
                  <a:cubicBezTo>
                    <a:pt x="0" y="-3930"/>
                    <a:pt x="21600" y="390"/>
                    <a:pt x="21600" y="9030"/>
                  </a:cubicBezTo>
                  <a:close/>
                </a:path>
              </a:pathLst>
            </a:custGeom>
            <a:solidFill>
              <a:srgbClr val="bfbfb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806" name="Shape 1420"/>
            <p:cNvSpPr/>
            <p:nvPr/>
          </p:nvSpPr>
          <p:spPr>
            <a:xfrm>
              <a:off x="7860960" y="2113560"/>
              <a:ext cx="16200" cy="12600"/>
            </a:xfrm>
            <a:custGeom>
              <a:avLst/>
              <a:gdLst/>
              <a:ahLst/>
              <a:rect l="l" t="t" r="r" b="b"/>
              <a:pathLst>
                <a:path w="15546" h="17067">
                  <a:moveTo>
                    <a:pt x="14973" y="16200"/>
                  </a:moveTo>
                  <a:cubicBezTo>
                    <a:pt x="11373" y="21600"/>
                    <a:pt x="-3027" y="0"/>
                    <a:pt x="573" y="0"/>
                  </a:cubicBezTo>
                  <a:cubicBezTo>
                    <a:pt x="4173" y="0"/>
                    <a:pt x="18573" y="10800"/>
                    <a:pt x="14973" y="16200"/>
                  </a:cubicBezTo>
                  <a:close/>
                </a:path>
              </a:pathLst>
            </a:custGeom>
            <a:solidFill>
              <a:srgbClr val="bfbfb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807" name="Shape 1421"/>
            <p:cNvSpPr/>
            <p:nvPr/>
          </p:nvSpPr>
          <p:spPr>
            <a:xfrm>
              <a:off x="7893360" y="2129760"/>
              <a:ext cx="12240" cy="3960"/>
            </a:xfrm>
            <a:custGeom>
              <a:avLst/>
              <a:gdLst/>
              <a:ahLst/>
              <a:rect l="l" t="t" r="r" b="b"/>
              <a:pathLst>
                <a:path w="13396" h="21600">
                  <a:moveTo>
                    <a:pt x="12219" y="21600"/>
                  </a:moveTo>
                  <a:cubicBezTo>
                    <a:pt x="3579" y="21600"/>
                    <a:pt x="-5061" y="0"/>
                    <a:pt x="3579" y="0"/>
                  </a:cubicBezTo>
                  <a:cubicBezTo>
                    <a:pt x="7899" y="0"/>
                    <a:pt x="16539" y="21600"/>
                    <a:pt x="12219" y="21600"/>
                  </a:cubicBezTo>
                  <a:close/>
                </a:path>
              </a:pathLst>
            </a:custGeom>
            <a:solidFill>
              <a:srgbClr val="bfbfb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808" name="Shape 1422"/>
            <p:cNvSpPr/>
            <p:nvPr/>
          </p:nvSpPr>
          <p:spPr>
            <a:xfrm>
              <a:off x="7894080" y="2355120"/>
              <a:ext cx="10800" cy="28080"/>
            </a:xfrm>
            <a:custGeom>
              <a:avLst/>
              <a:gdLst/>
              <a:ahLst/>
              <a:rect l="l" t="t" r="r" b="b"/>
              <a:pathLst>
                <a:path w="14433" h="21600">
                  <a:moveTo>
                    <a:pt x="3633" y="0"/>
                  </a:moveTo>
                  <a:cubicBezTo>
                    <a:pt x="-7167" y="0"/>
                    <a:pt x="9033" y="21600"/>
                    <a:pt x="14433" y="21600"/>
                  </a:cubicBezTo>
                  <a:cubicBezTo>
                    <a:pt x="14433" y="21600"/>
                    <a:pt x="9033" y="0"/>
                    <a:pt x="3633" y="0"/>
                  </a:cubicBez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809" name="Shape 1423"/>
            <p:cNvSpPr/>
            <p:nvPr/>
          </p:nvSpPr>
          <p:spPr>
            <a:xfrm>
              <a:off x="7897680" y="2406240"/>
              <a:ext cx="19800" cy="15840"/>
            </a:xfrm>
            <a:custGeom>
              <a:avLst/>
              <a:gdLst/>
              <a:ahLst/>
              <a:rect l="l" t="t" r="r" b="b"/>
              <a:pathLst>
                <a:path w="15917" h="21600">
                  <a:moveTo>
                    <a:pt x="2315" y="0"/>
                  </a:moveTo>
                  <a:cubicBezTo>
                    <a:pt x="-771" y="5400"/>
                    <a:pt x="-771" y="16200"/>
                    <a:pt x="2315" y="21600"/>
                  </a:cubicBezTo>
                  <a:cubicBezTo>
                    <a:pt x="5400" y="21600"/>
                    <a:pt x="8486" y="21600"/>
                    <a:pt x="14658" y="21600"/>
                  </a:cubicBezTo>
                  <a:cubicBezTo>
                    <a:pt x="20829" y="21600"/>
                    <a:pt x="2315" y="0"/>
                    <a:pt x="2315" y="0"/>
                  </a:cubicBezTo>
                  <a:cubicBezTo>
                    <a:pt x="-771" y="5400"/>
                    <a:pt x="2315" y="0"/>
                    <a:pt x="2315" y="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810" name="Shape 1424"/>
            <p:cNvSpPr/>
            <p:nvPr/>
          </p:nvSpPr>
          <p:spPr>
            <a:xfrm>
              <a:off x="7786080" y="2499840"/>
              <a:ext cx="50040" cy="33120"/>
            </a:xfrm>
            <a:custGeom>
              <a:avLst/>
              <a:gdLst/>
              <a:ahLst/>
              <a:rect l="l" t="t" r="r" b="b"/>
              <a:pathLst>
                <a:path w="16093" h="18360">
                  <a:moveTo>
                    <a:pt x="0" y="5400"/>
                  </a:moveTo>
                  <a:cubicBezTo>
                    <a:pt x="1271" y="-3240"/>
                    <a:pt x="8894" y="1080"/>
                    <a:pt x="12706" y="1080"/>
                  </a:cubicBezTo>
                  <a:cubicBezTo>
                    <a:pt x="21600" y="3240"/>
                    <a:pt x="10165" y="5400"/>
                    <a:pt x="10165" y="5400"/>
                  </a:cubicBezTo>
                  <a:cubicBezTo>
                    <a:pt x="10165" y="9720"/>
                    <a:pt x="15247" y="7560"/>
                    <a:pt x="15247" y="11880"/>
                  </a:cubicBezTo>
                  <a:cubicBezTo>
                    <a:pt x="15247" y="11880"/>
                    <a:pt x="12706" y="9720"/>
                    <a:pt x="11435" y="11880"/>
                  </a:cubicBezTo>
                  <a:cubicBezTo>
                    <a:pt x="11435" y="11880"/>
                    <a:pt x="15247" y="18360"/>
                    <a:pt x="13976" y="18360"/>
                  </a:cubicBezTo>
                  <a:cubicBezTo>
                    <a:pt x="12706" y="18360"/>
                    <a:pt x="11435" y="16200"/>
                    <a:pt x="10165" y="16200"/>
                  </a:cubicBezTo>
                  <a:cubicBezTo>
                    <a:pt x="7624" y="14040"/>
                    <a:pt x="0" y="11880"/>
                    <a:pt x="0" y="5400"/>
                  </a:cubicBezTo>
                  <a:cubicBezTo>
                    <a:pt x="0" y="3240"/>
                    <a:pt x="0" y="11880"/>
                    <a:pt x="0" y="5400"/>
                  </a:cubicBezTo>
                  <a:close/>
                </a:path>
              </a:pathLst>
            </a:custGeom>
            <a:solidFill>
              <a:srgbClr val="dadbdf"/>
            </a:solidFill>
            <a:ln w="4680">
              <a:solidFill>
                <a:srgbClr val="ffffff"/>
              </a:solidFill>
              <a:round/>
            </a:ln>
          </p:spPr>
          <p:style>
            <a:lnRef idx="0"/>
            <a:fillRef idx="0"/>
            <a:effectRef idx="0"/>
            <a:fontRef idx="minor"/>
          </p:style>
          <p:txBody>
            <a:bodyPr lIns="45360" rIns="45360" tIns="-13680" bIns="-13680" anchor="t">
              <a:noAutofit/>
            </a:bodyPr>
            <a:p>
              <a:endParaRPr b="0" lang="en-US" sz="1800" spc="-1" strike="noStrike">
                <a:solidFill>
                  <a:srgbClr val="000000"/>
                </a:solidFill>
                <a:latin typeface="Calibri"/>
              </a:endParaRPr>
            </a:p>
          </p:txBody>
        </p:sp>
        <p:sp>
          <p:nvSpPr>
            <p:cNvPr id="811" name="Shape 1425"/>
            <p:cNvSpPr/>
            <p:nvPr/>
          </p:nvSpPr>
          <p:spPr>
            <a:xfrm>
              <a:off x="7774200" y="2485800"/>
              <a:ext cx="32040" cy="6480"/>
            </a:xfrm>
            <a:custGeom>
              <a:avLst/>
              <a:gdLst/>
              <a:ahLst/>
              <a:rect l="l" t="t" r="r" b="b"/>
              <a:pathLst>
                <a:path w="19893" h="12150">
                  <a:moveTo>
                    <a:pt x="19200" y="7200"/>
                  </a:moveTo>
                  <a:cubicBezTo>
                    <a:pt x="21600" y="7200"/>
                    <a:pt x="12000" y="0"/>
                    <a:pt x="12000" y="0"/>
                  </a:cubicBezTo>
                  <a:cubicBezTo>
                    <a:pt x="7200" y="0"/>
                    <a:pt x="2400" y="0"/>
                    <a:pt x="0" y="0"/>
                  </a:cubicBezTo>
                  <a:cubicBezTo>
                    <a:pt x="4800" y="0"/>
                    <a:pt x="14400" y="21600"/>
                    <a:pt x="19200" y="7200"/>
                  </a:cubicBezTo>
                  <a:cubicBezTo>
                    <a:pt x="21600" y="7200"/>
                    <a:pt x="16800" y="14400"/>
                    <a:pt x="19200" y="7200"/>
                  </a:cubicBezTo>
                  <a:close/>
                </a:path>
              </a:pathLst>
            </a:custGeom>
            <a:solidFill>
              <a:srgbClr val="dadbdf"/>
            </a:solidFill>
            <a:ln w="4680">
              <a:solidFill>
                <a:srgbClr val="ffffff"/>
              </a:solidFill>
              <a:round/>
            </a:ln>
          </p:spPr>
          <p:style>
            <a:lnRef idx="0"/>
            <a:fillRef idx="0"/>
            <a:effectRef idx="0"/>
            <a:fontRef idx="minor"/>
          </p:style>
          <p:txBody>
            <a:bodyPr lIns="45360" rIns="45360" tIns="-40320" bIns="-40320" anchor="t">
              <a:noAutofit/>
            </a:bodyPr>
            <a:p>
              <a:endParaRPr b="0" lang="en-US" sz="1800" spc="-1" strike="noStrike">
                <a:solidFill>
                  <a:srgbClr val="000000"/>
                </a:solidFill>
                <a:latin typeface="Calibri"/>
              </a:endParaRPr>
            </a:p>
          </p:txBody>
        </p:sp>
        <p:sp>
          <p:nvSpPr>
            <p:cNvPr id="812" name="Shape 1426"/>
            <p:cNvSpPr/>
            <p:nvPr/>
          </p:nvSpPr>
          <p:spPr>
            <a:xfrm>
              <a:off x="7718760" y="2571840"/>
              <a:ext cx="50040" cy="20880"/>
            </a:xfrm>
            <a:custGeom>
              <a:avLst/>
              <a:gdLst/>
              <a:ahLst/>
              <a:rect l="l" t="t" r="r" b="b"/>
              <a:pathLst>
                <a:path w="21185" h="16985">
                  <a:moveTo>
                    <a:pt x="19938" y="10535"/>
                  </a:moveTo>
                  <a:cubicBezTo>
                    <a:pt x="21600" y="7449"/>
                    <a:pt x="21600" y="4363"/>
                    <a:pt x="19938" y="1278"/>
                  </a:cubicBezTo>
                  <a:cubicBezTo>
                    <a:pt x="18277" y="-1808"/>
                    <a:pt x="13292" y="1278"/>
                    <a:pt x="11631" y="4363"/>
                  </a:cubicBezTo>
                  <a:cubicBezTo>
                    <a:pt x="9969" y="4363"/>
                    <a:pt x="6646" y="4363"/>
                    <a:pt x="4985" y="7449"/>
                  </a:cubicBezTo>
                  <a:cubicBezTo>
                    <a:pt x="4985" y="7449"/>
                    <a:pt x="0" y="13621"/>
                    <a:pt x="0" y="13621"/>
                  </a:cubicBezTo>
                  <a:cubicBezTo>
                    <a:pt x="4985" y="19792"/>
                    <a:pt x="16615" y="16706"/>
                    <a:pt x="19938" y="10535"/>
                  </a:cubicBezTo>
                  <a:cubicBezTo>
                    <a:pt x="21600" y="7449"/>
                    <a:pt x="14954" y="16706"/>
                    <a:pt x="19938" y="10535"/>
                  </a:cubicBezTo>
                  <a:close/>
                </a:path>
              </a:pathLst>
            </a:custGeom>
            <a:solidFill>
              <a:srgbClr val="dadbdf"/>
            </a:solidFill>
            <a:ln w="4680">
              <a:solidFill>
                <a:srgbClr val="ffffff"/>
              </a:solidFill>
              <a:round/>
            </a:ln>
          </p:spPr>
          <p:style>
            <a:lnRef idx="0"/>
            <a:fillRef idx="0"/>
            <a:effectRef idx="0"/>
            <a:fontRef idx="minor"/>
          </p:style>
          <p:txBody>
            <a:bodyPr lIns="45360" rIns="45360" tIns="-25920" bIns="-25920" anchor="t">
              <a:noAutofit/>
            </a:bodyPr>
            <a:p>
              <a:endParaRPr b="0" lang="en-US" sz="1800" spc="-1" strike="noStrike">
                <a:solidFill>
                  <a:srgbClr val="000000"/>
                </a:solidFill>
                <a:latin typeface="Calibri"/>
              </a:endParaRPr>
            </a:p>
          </p:txBody>
        </p:sp>
        <p:sp>
          <p:nvSpPr>
            <p:cNvPr id="813" name="Shape 1427"/>
            <p:cNvSpPr/>
            <p:nvPr/>
          </p:nvSpPr>
          <p:spPr>
            <a:xfrm>
              <a:off x="7255440" y="2612160"/>
              <a:ext cx="10440" cy="14400"/>
            </a:xfrm>
            <a:custGeom>
              <a:avLst/>
              <a:gdLst/>
              <a:ahLst/>
              <a:rect l="l" t="t" r="r" b="b"/>
              <a:pathLst>
                <a:path w="14074" h="13032">
                  <a:moveTo>
                    <a:pt x="11674" y="3925"/>
                  </a:moveTo>
                  <a:cubicBezTo>
                    <a:pt x="6274" y="-3275"/>
                    <a:pt x="874" y="325"/>
                    <a:pt x="874" y="7525"/>
                  </a:cubicBezTo>
                  <a:cubicBezTo>
                    <a:pt x="-4526" y="18325"/>
                    <a:pt x="17074" y="11125"/>
                    <a:pt x="11674" y="3925"/>
                  </a:cubicBezTo>
                  <a:cubicBezTo>
                    <a:pt x="11674" y="3925"/>
                    <a:pt x="17074" y="7525"/>
                    <a:pt x="11674" y="3925"/>
                  </a:cubicBezTo>
                  <a:close/>
                </a:path>
              </a:pathLst>
            </a:custGeom>
            <a:solidFill>
              <a:srgbClr val="dadbdf"/>
            </a:solidFill>
            <a:ln w="4680">
              <a:solidFill>
                <a:srgbClr val="ffffff"/>
              </a:solidFill>
              <a:round/>
            </a:ln>
          </p:spPr>
          <p:style>
            <a:lnRef idx="0"/>
            <a:fillRef idx="0"/>
            <a:effectRef idx="0"/>
            <a:fontRef idx="minor"/>
          </p:style>
          <p:txBody>
            <a:bodyPr lIns="45360" rIns="45360" tIns="-32400" bIns="-32400" anchor="t">
              <a:noAutofit/>
            </a:bodyPr>
            <a:p>
              <a:endParaRPr b="0" lang="en-US" sz="1800" spc="-1" strike="noStrike">
                <a:solidFill>
                  <a:srgbClr val="000000"/>
                </a:solidFill>
                <a:latin typeface="Calibri"/>
              </a:endParaRPr>
            </a:p>
          </p:txBody>
        </p:sp>
        <p:sp>
          <p:nvSpPr>
            <p:cNvPr id="814" name="Shape 1428"/>
            <p:cNvSpPr/>
            <p:nvPr/>
          </p:nvSpPr>
          <p:spPr>
            <a:xfrm>
              <a:off x="7220160" y="2560320"/>
              <a:ext cx="11520" cy="7560"/>
            </a:xfrm>
            <a:custGeom>
              <a:avLst/>
              <a:gdLst/>
              <a:ahLst/>
              <a:rect l="l" t="t" r="r" b="b"/>
              <a:pathLst>
                <a:path w="17067" h="10439">
                  <a:moveTo>
                    <a:pt x="17067" y="6912"/>
                  </a:moveTo>
                  <a:cubicBezTo>
                    <a:pt x="11667" y="6912"/>
                    <a:pt x="867" y="-3888"/>
                    <a:pt x="867" y="1512"/>
                  </a:cubicBezTo>
                  <a:cubicBezTo>
                    <a:pt x="-4533" y="17712"/>
                    <a:pt x="17067" y="6912"/>
                    <a:pt x="17067" y="6912"/>
                  </a:cubicBezTo>
                  <a:cubicBezTo>
                    <a:pt x="11667" y="6912"/>
                    <a:pt x="17067" y="6912"/>
                    <a:pt x="17067" y="6912"/>
                  </a:cubicBezTo>
                  <a:close/>
                </a:path>
              </a:pathLst>
            </a:custGeom>
            <a:solidFill>
              <a:srgbClr val="dadbdf"/>
            </a:solidFill>
            <a:ln w="4680">
              <a:solidFill>
                <a:srgbClr val="ffffff"/>
              </a:solidFill>
              <a:round/>
            </a:ln>
          </p:spPr>
          <p:style>
            <a:lnRef idx="0"/>
            <a:fillRef idx="0"/>
            <a:effectRef idx="0"/>
            <a:fontRef idx="minor"/>
          </p:style>
          <p:txBody>
            <a:bodyPr lIns="45360" rIns="45360" tIns="-39240" bIns="-39240" anchor="t">
              <a:noAutofit/>
            </a:bodyPr>
            <a:p>
              <a:endParaRPr b="0" lang="en-US" sz="1800" spc="-1" strike="noStrike">
                <a:solidFill>
                  <a:srgbClr val="000000"/>
                </a:solidFill>
                <a:latin typeface="Calibri"/>
              </a:endParaRPr>
            </a:p>
          </p:txBody>
        </p:sp>
        <p:sp>
          <p:nvSpPr>
            <p:cNvPr id="815" name="Shape 1429"/>
            <p:cNvSpPr/>
            <p:nvPr/>
          </p:nvSpPr>
          <p:spPr>
            <a:xfrm>
              <a:off x="7912800" y="2306160"/>
              <a:ext cx="7920" cy="5400"/>
            </a:xfrm>
            <a:custGeom>
              <a:avLst/>
              <a:gdLst/>
              <a:ahLst/>
              <a:rect l="l" t="t" r="r" b="b"/>
              <a:pathLst>
                <a:path w="21600" h="15274">
                  <a:moveTo>
                    <a:pt x="21600" y="4474"/>
                  </a:moveTo>
                  <a:cubicBezTo>
                    <a:pt x="21600" y="-6326"/>
                    <a:pt x="0" y="4474"/>
                    <a:pt x="0" y="15274"/>
                  </a:cubicBezTo>
                  <a:cubicBezTo>
                    <a:pt x="10800" y="15274"/>
                    <a:pt x="21600" y="15274"/>
                    <a:pt x="21600" y="4474"/>
                  </a:cubicBezTo>
                  <a:close/>
                </a:path>
              </a:pathLst>
            </a:custGeom>
            <a:solidFill>
              <a:srgbClr val="bfbfb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816" name="Shape 1430"/>
            <p:cNvSpPr/>
            <p:nvPr/>
          </p:nvSpPr>
          <p:spPr>
            <a:xfrm>
              <a:off x="7882920" y="2260800"/>
              <a:ext cx="7200" cy="4680"/>
            </a:xfrm>
            <a:custGeom>
              <a:avLst/>
              <a:gdLst/>
              <a:ahLst/>
              <a:rect l="l" t="t" r="r" b="b"/>
              <a:pathLst>
                <a:path w="13165" h="15274">
                  <a:moveTo>
                    <a:pt x="10182" y="0"/>
                  </a:moveTo>
                  <a:cubicBezTo>
                    <a:pt x="2982" y="0"/>
                    <a:pt x="-4218" y="10800"/>
                    <a:pt x="2982" y="10800"/>
                  </a:cubicBezTo>
                  <a:cubicBezTo>
                    <a:pt x="10182" y="21600"/>
                    <a:pt x="17382" y="10800"/>
                    <a:pt x="10182" y="0"/>
                  </a:cubicBezTo>
                  <a:close/>
                </a:path>
              </a:pathLst>
            </a:custGeom>
            <a:solidFill>
              <a:srgbClr val="dadbdf"/>
            </a:solidFill>
            <a:ln w="4680">
              <a:solidFill>
                <a:srgbClr val="ffffff"/>
              </a:solidFill>
              <a:round/>
            </a:ln>
          </p:spPr>
          <p:style>
            <a:lnRef idx="0"/>
            <a:fillRef idx="0"/>
            <a:effectRef idx="0"/>
            <a:fontRef idx="minor"/>
          </p:style>
          <p:txBody>
            <a:bodyPr lIns="45360" rIns="45360" tIns="-42120" bIns="-42120" anchor="t">
              <a:noAutofit/>
            </a:bodyPr>
            <a:p>
              <a:endParaRPr b="0" lang="en-US" sz="1800" spc="-1" strike="noStrike">
                <a:solidFill>
                  <a:srgbClr val="000000"/>
                </a:solidFill>
                <a:latin typeface="Calibri"/>
              </a:endParaRPr>
            </a:p>
          </p:txBody>
        </p:sp>
        <p:sp>
          <p:nvSpPr>
            <p:cNvPr id="817" name="Shape 1431"/>
            <p:cNvSpPr/>
            <p:nvPr/>
          </p:nvSpPr>
          <p:spPr>
            <a:xfrm>
              <a:off x="7915680" y="2246760"/>
              <a:ext cx="5400" cy="6840"/>
            </a:xfrm>
            <a:custGeom>
              <a:avLst/>
              <a:gdLst/>
              <a:ahLst/>
              <a:rect l="l" t="t" r="r" b="b"/>
              <a:pathLst>
                <a:path w="11232" h="12198">
                  <a:moveTo>
                    <a:pt x="9216" y="2982"/>
                  </a:moveTo>
                  <a:cubicBezTo>
                    <a:pt x="9216" y="-4218"/>
                    <a:pt x="-5184" y="2982"/>
                    <a:pt x="2016" y="10182"/>
                  </a:cubicBezTo>
                  <a:cubicBezTo>
                    <a:pt x="2016" y="17382"/>
                    <a:pt x="16416" y="2982"/>
                    <a:pt x="9216" y="2982"/>
                  </a:cubicBezTo>
                  <a:close/>
                </a:path>
              </a:pathLst>
            </a:custGeom>
            <a:solidFill>
              <a:srgbClr val="bfbfbf"/>
            </a:solidFill>
            <a:ln w="4680">
              <a:solidFill>
                <a:srgbClr val="ffffff"/>
              </a:solidFill>
              <a:round/>
            </a:ln>
          </p:spPr>
          <p:style>
            <a:lnRef idx="0"/>
            <a:fillRef idx="0"/>
            <a:effectRef idx="0"/>
            <a:fontRef idx="minor"/>
          </p:style>
          <p:txBody>
            <a:bodyPr lIns="45360" rIns="45360" tIns="-39960" bIns="-39960" anchor="t">
              <a:noAutofit/>
            </a:bodyPr>
            <a:p>
              <a:endParaRPr b="0" lang="en-US" sz="1800" spc="-1" strike="noStrike">
                <a:solidFill>
                  <a:srgbClr val="000000"/>
                </a:solidFill>
                <a:latin typeface="Calibri"/>
              </a:endParaRPr>
            </a:p>
          </p:txBody>
        </p:sp>
        <p:sp>
          <p:nvSpPr>
            <p:cNvPr id="818" name="Shape 1432"/>
            <p:cNvSpPr/>
            <p:nvPr/>
          </p:nvSpPr>
          <p:spPr>
            <a:xfrm>
              <a:off x="6836040" y="2324160"/>
              <a:ext cx="16560" cy="2520"/>
            </a:xfrm>
            <a:custGeom>
              <a:avLst/>
              <a:gdLst/>
              <a:ahLst/>
              <a:rect l="l" t="t" r="r" b="b"/>
              <a:pathLst>
                <a:path w="17968" h="21600">
                  <a:moveTo>
                    <a:pt x="17968" y="21600"/>
                  </a:moveTo>
                  <a:cubicBezTo>
                    <a:pt x="13648" y="0"/>
                    <a:pt x="-3632" y="0"/>
                    <a:pt x="688" y="0"/>
                  </a:cubicBezTo>
                  <a:cubicBezTo>
                    <a:pt x="5008" y="21600"/>
                    <a:pt x="17968" y="21600"/>
                    <a:pt x="17968" y="21600"/>
                  </a:cubicBezTo>
                  <a:close/>
                </a:path>
              </a:pathLst>
            </a:custGeom>
            <a:solidFill>
              <a:srgbClr val="dadbdf"/>
            </a:solidFill>
            <a:ln w="4680">
              <a:solidFill>
                <a:srgbClr val="ffffff"/>
              </a:solidFill>
              <a:round/>
            </a:ln>
          </p:spPr>
          <p:style>
            <a:lnRef idx="0"/>
            <a:fillRef idx="0"/>
            <a:effectRef idx="0"/>
            <a:fontRef idx="minor"/>
          </p:style>
          <p:txBody>
            <a:bodyPr lIns="45360" rIns="45360" tIns="-44280" bIns="-44280" anchor="t">
              <a:noAutofit/>
            </a:bodyPr>
            <a:p>
              <a:endParaRPr b="0" lang="en-US" sz="1800" spc="-1" strike="noStrike">
                <a:solidFill>
                  <a:srgbClr val="000000"/>
                </a:solidFill>
                <a:latin typeface="Calibri"/>
              </a:endParaRPr>
            </a:p>
          </p:txBody>
        </p:sp>
        <p:sp>
          <p:nvSpPr>
            <p:cNvPr id="819" name="Shape 1433"/>
            <p:cNvSpPr/>
            <p:nvPr/>
          </p:nvSpPr>
          <p:spPr>
            <a:xfrm>
              <a:off x="6860520" y="2323080"/>
              <a:ext cx="17280" cy="360"/>
            </a:xfrm>
            <a:prstGeom prst="ellipse">
              <a:avLst/>
            </a:prstGeom>
            <a:solidFill>
              <a:srgbClr val="dadbdf"/>
            </a:solidFill>
            <a:ln w="4680">
              <a:solidFill>
                <a:srgbClr val="ffffff"/>
              </a:solidFill>
              <a:miter/>
            </a:ln>
          </p:spPr>
          <p:style>
            <a:lnRef idx="0"/>
            <a:fillRef idx="0"/>
            <a:effectRef idx="0"/>
            <a:fontRef idx="minor"/>
          </p:style>
          <p:txBody>
            <a:bodyPr lIns="45720" rIns="45720" tIns="-46440" bIns="-4644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820" name="Shape 1434"/>
            <p:cNvSpPr/>
            <p:nvPr/>
          </p:nvSpPr>
          <p:spPr>
            <a:xfrm>
              <a:off x="7315200" y="2073240"/>
              <a:ext cx="10080" cy="7920"/>
            </a:xfrm>
            <a:custGeom>
              <a:avLst/>
              <a:gdLst/>
              <a:ahLst/>
              <a:rect l="l" t="t" r="r" b="b"/>
              <a:pathLst>
                <a:path w="13524" h="21600">
                  <a:moveTo>
                    <a:pt x="11287" y="21600"/>
                  </a:moveTo>
                  <a:cubicBezTo>
                    <a:pt x="487" y="21600"/>
                    <a:pt x="-4913" y="0"/>
                    <a:pt x="5887" y="0"/>
                  </a:cubicBezTo>
                  <a:cubicBezTo>
                    <a:pt x="11287" y="0"/>
                    <a:pt x="16687" y="21600"/>
                    <a:pt x="11287" y="21600"/>
                  </a:cubicBezTo>
                  <a:close/>
                </a:path>
              </a:pathLst>
            </a:custGeom>
            <a:solidFill>
              <a:srgbClr val="bfbfb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821" name="Shape 1435"/>
            <p:cNvSpPr/>
            <p:nvPr/>
          </p:nvSpPr>
          <p:spPr>
            <a:xfrm>
              <a:off x="5627160" y="3043440"/>
              <a:ext cx="36360" cy="41040"/>
            </a:xfrm>
            <a:custGeom>
              <a:avLst/>
              <a:gdLst/>
              <a:ahLst/>
              <a:rect l="l" t="t" r="r" b="b"/>
              <a:pathLst>
                <a:path w="21600" h="18798">
                  <a:moveTo>
                    <a:pt x="21600" y="18278"/>
                  </a:moveTo>
                  <a:cubicBezTo>
                    <a:pt x="19200" y="12878"/>
                    <a:pt x="16800" y="5678"/>
                    <a:pt x="12000" y="2078"/>
                  </a:cubicBezTo>
                  <a:cubicBezTo>
                    <a:pt x="9600" y="278"/>
                    <a:pt x="7200" y="-1522"/>
                    <a:pt x="4800" y="2078"/>
                  </a:cubicBezTo>
                  <a:cubicBezTo>
                    <a:pt x="4800" y="2078"/>
                    <a:pt x="0" y="2078"/>
                    <a:pt x="0" y="3878"/>
                  </a:cubicBezTo>
                  <a:cubicBezTo>
                    <a:pt x="2400" y="5678"/>
                    <a:pt x="7200" y="3878"/>
                    <a:pt x="7200" y="7478"/>
                  </a:cubicBezTo>
                  <a:cubicBezTo>
                    <a:pt x="7200" y="9278"/>
                    <a:pt x="7200" y="9278"/>
                    <a:pt x="7200" y="11078"/>
                  </a:cubicBezTo>
                  <a:cubicBezTo>
                    <a:pt x="7200" y="12878"/>
                    <a:pt x="9600" y="11078"/>
                    <a:pt x="9600" y="11078"/>
                  </a:cubicBezTo>
                  <a:cubicBezTo>
                    <a:pt x="12000" y="12878"/>
                    <a:pt x="7200" y="12878"/>
                    <a:pt x="7200" y="12878"/>
                  </a:cubicBezTo>
                  <a:cubicBezTo>
                    <a:pt x="7200" y="14678"/>
                    <a:pt x="12000" y="18278"/>
                    <a:pt x="14400" y="18278"/>
                  </a:cubicBezTo>
                  <a:cubicBezTo>
                    <a:pt x="14400" y="18278"/>
                    <a:pt x="4800" y="11078"/>
                    <a:pt x="14400" y="14678"/>
                  </a:cubicBezTo>
                  <a:cubicBezTo>
                    <a:pt x="16800" y="14678"/>
                    <a:pt x="21600" y="20078"/>
                    <a:pt x="21600" y="18278"/>
                  </a:cubicBezTo>
                  <a:cubicBezTo>
                    <a:pt x="19200" y="16478"/>
                    <a:pt x="21600" y="20078"/>
                    <a:pt x="21600" y="18278"/>
                  </a:cubicBezTo>
                  <a:close/>
                </a:path>
              </a:pathLst>
            </a:custGeom>
            <a:solidFill>
              <a:srgbClr val="dadbdf"/>
            </a:solidFill>
            <a:ln w="4680">
              <a:solidFill>
                <a:srgbClr val="ffffff"/>
              </a:solidFill>
              <a:round/>
            </a:ln>
          </p:spPr>
          <p:style>
            <a:lnRef idx="0"/>
            <a:fillRef idx="0"/>
            <a:effectRef idx="0"/>
            <a:fontRef idx="minor"/>
          </p:style>
          <p:txBody>
            <a:bodyPr lIns="45360" rIns="45360" tIns="-5760" bIns="-5760" anchor="t">
              <a:noAutofit/>
            </a:bodyPr>
            <a:p>
              <a:endParaRPr b="0" lang="en-US" sz="1800" spc="-1" strike="noStrike">
                <a:solidFill>
                  <a:srgbClr val="000000"/>
                </a:solidFill>
                <a:latin typeface="Calibri"/>
              </a:endParaRPr>
            </a:p>
          </p:txBody>
        </p:sp>
      </p:grpSp>
      <p:sp>
        <p:nvSpPr>
          <p:cNvPr id="822" name="Shape 102"/>
          <p:cNvSpPr/>
          <p:nvPr/>
        </p:nvSpPr>
        <p:spPr>
          <a:xfrm>
            <a:off x="1176480" y="2599200"/>
            <a:ext cx="3760560" cy="1192680"/>
          </a:xfrm>
          <a:prstGeom prst="rect">
            <a:avLst/>
          </a:prstGeom>
          <a:noFill/>
          <a:ln w="0">
            <a:noFill/>
          </a:ln>
        </p:spPr>
        <p:style>
          <a:lnRef idx="0"/>
          <a:fillRef idx="0"/>
          <a:effectRef idx="0"/>
          <a:fontRef idx="minor"/>
        </p:style>
        <p:txBody>
          <a:bodyPr lIns="25560" rIns="25560" tIns="25560" bIns="2556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There are many variations of passages of Lorem Ipsum available, but the majority have suffered alteration in some form, by injected humour, or randomised words which don't lookeven slightly believable. If you are going to use a passage of   Ipsum, you need It uses adictionary of over 200</a:t>
            </a:r>
            <a:endParaRPr b="0" lang="en-US" sz="1000" spc="-1" strike="noStrike">
              <a:solidFill>
                <a:srgbClr val="000000"/>
              </a:solidFill>
              <a:latin typeface="Calibri"/>
            </a:endParaRPr>
          </a:p>
        </p:txBody>
      </p:sp>
      <p:sp>
        <p:nvSpPr>
          <p:cNvPr id="823" name="Text Box 7"/>
          <p:cNvSpPr/>
          <p:nvPr/>
        </p:nvSpPr>
        <p:spPr>
          <a:xfrm>
            <a:off x="1214280" y="1504800"/>
            <a:ext cx="504036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World Map</a:t>
            </a:r>
            <a:endParaRPr b="0" lang="en-US" sz="4800" spc="-1" strike="noStrike">
              <a:solidFill>
                <a:srgbClr val="000000"/>
              </a:solidFill>
              <a:latin typeface="Calibri"/>
            </a:endParaRPr>
          </a:p>
        </p:txBody>
      </p:sp>
      <p:sp>
        <p:nvSpPr>
          <p:cNvPr id="824" name="TextBox 408"/>
          <p:cNvSpPr/>
          <p:nvPr/>
        </p:nvSpPr>
        <p:spPr>
          <a:xfrm>
            <a:off x="1533600" y="4314960"/>
            <a:ext cx="1809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0acf"/>
                </a:solidFill>
                <a:latin typeface="Montserrat Medium"/>
              </a:rPr>
              <a:t>433+</a:t>
            </a:r>
            <a:endParaRPr b="0" lang="en-US" sz="2800" spc="-1" strike="noStrike">
              <a:solidFill>
                <a:srgbClr val="000000"/>
              </a:solidFill>
              <a:latin typeface="Calibri"/>
            </a:endParaRPr>
          </a:p>
        </p:txBody>
      </p:sp>
      <p:sp>
        <p:nvSpPr>
          <p:cNvPr id="825" name="TextBox 409"/>
          <p:cNvSpPr/>
          <p:nvPr/>
        </p:nvSpPr>
        <p:spPr>
          <a:xfrm>
            <a:off x="1414440" y="5218200"/>
            <a:ext cx="212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A wonderful serenity taken possession of my soul</a:t>
            </a:r>
            <a:endParaRPr b="0" lang="en-US" sz="1200" spc="-1" strike="noStrike">
              <a:solidFill>
                <a:srgbClr val="000000"/>
              </a:solidFill>
              <a:latin typeface="Calibri"/>
            </a:endParaRPr>
          </a:p>
        </p:txBody>
      </p:sp>
      <p:sp>
        <p:nvSpPr>
          <p:cNvPr id="826" name="TextBox 410"/>
          <p:cNvSpPr/>
          <p:nvPr/>
        </p:nvSpPr>
        <p:spPr>
          <a:xfrm>
            <a:off x="1514520" y="4816440"/>
            <a:ext cx="1906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0acf"/>
                </a:solidFill>
                <a:latin typeface="Montserrat Medium"/>
              </a:rPr>
              <a:t>Employe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Freeform: Shape 15"/>
          <p:cNvSpPr/>
          <p:nvPr/>
        </p:nvSpPr>
        <p:spPr>
          <a:xfrm rot="16200000">
            <a:off x="-1546560" y="1546560"/>
            <a:ext cx="6902280" cy="38084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828" name="Oval 18"/>
          <p:cNvGrpSpPr/>
          <p:nvPr/>
        </p:nvGrpSpPr>
        <p:grpSpPr>
          <a:xfrm>
            <a:off x="-244440" y="1450800"/>
            <a:ext cx="4346640" cy="4346640"/>
            <a:chOff x="-244440" y="1450800"/>
            <a:chExt cx="4346640" cy="4346640"/>
          </a:xfrm>
        </p:grpSpPr>
        <p:pic>
          <p:nvPicPr>
            <p:cNvPr id="829" name="Oval 18" descr=""/>
            <p:cNvPicPr/>
            <p:nvPr/>
          </p:nvPicPr>
          <p:blipFill>
            <a:blip r:embed="rId1"/>
            <a:stretch/>
          </p:blipFill>
          <p:spPr>
            <a:xfrm>
              <a:off x="-244440" y="1450800"/>
              <a:ext cx="4346640" cy="4346640"/>
            </a:xfrm>
            <a:prstGeom prst="rect">
              <a:avLst/>
            </a:prstGeom>
            <a:ln w="0">
              <a:noFill/>
            </a:ln>
          </p:spPr>
        </p:pic>
        <p:sp>
          <p:nvSpPr>
            <p:cNvPr id="830" name=""/>
            <p:cNvSpPr/>
            <p:nvPr/>
          </p:nvSpPr>
          <p:spPr>
            <a:xfrm>
              <a:off x="393840" y="2089080"/>
              <a:ext cx="3070080" cy="307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1" name="Freeform: Shape 14"/>
          <p:cNvSpPr/>
          <p:nvPr/>
        </p:nvSpPr>
        <p:spPr>
          <a:xfrm rot="10800000">
            <a:off x="5289480" y="3048840"/>
            <a:ext cx="6902640" cy="38084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2" name="TextBox 8"/>
          <p:cNvSpPr/>
          <p:nvPr/>
        </p:nvSpPr>
        <p:spPr>
          <a:xfrm>
            <a:off x="1461960" y="55785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Preseted by:</a:t>
            </a:r>
            <a:endParaRPr b="0" lang="en-US" sz="1200" spc="-1" strike="noStrike">
              <a:solidFill>
                <a:srgbClr val="000000"/>
              </a:solidFill>
              <a:latin typeface="Calibri"/>
            </a:endParaRPr>
          </a:p>
        </p:txBody>
      </p:sp>
      <p:sp>
        <p:nvSpPr>
          <p:cNvPr id="833" name="TextBox 9"/>
          <p:cNvSpPr/>
          <p:nvPr/>
        </p:nvSpPr>
        <p:spPr>
          <a:xfrm>
            <a:off x="1461960" y="58770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0acf"/>
                </a:solidFill>
                <a:latin typeface="Montserrat Medium"/>
              </a:rPr>
              <a:t>Creavora</a:t>
            </a:r>
            <a:endParaRPr b="0" lang="en-US" sz="1200" spc="-1" strike="noStrike">
              <a:solidFill>
                <a:srgbClr val="000000"/>
              </a:solidFill>
              <a:latin typeface="Calibri"/>
            </a:endParaRPr>
          </a:p>
        </p:txBody>
      </p:sp>
      <p:sp>
        <p:nvSpPr>
          <p:cNvPr id="834" name="Rectangle: Rounded Corners 17"/>
          <p:cNvSpPr/>
          <p:nvPr/>
        </p:nvSpPr>
        <p:spPr>
          <a:xfrm>
            <a:off x="1566720" y="2243160"/>
            <a:ext cx="9058320" cy="2371680"/>
          </a:xfrm>
          <a:prstGeom prst="roundRect">
            <a:avLst>
              <a:gd name="adj" fmla="val 9819"/>
            </a:avLst>
          </a:prstGeom>
          <a:solidFill>
            <a:srgbClr val="fffff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5"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60acf"/>
                </a:solidFill>
                <a:latin typeface="Montserrat Medium"/>
                <a:ea typeface="Open Sans"/>
              </a:rPr>
              <a:t>THANK YOU</a:t>
            </a:r>
            <a:endParaRPr b="0" lang="en-US" sz="7200" spc="-1" strike="noStrike">
              <a:solidFill>
                <a:srgbClr val="000000"/>
              </a:solidFill>
              <a:latin typeface="Calibri"/>
            </a:endParaRPr>
          </a:p>
        </p:txBody>
      </p:sp>
      <p:sp>
        <p:nvSpPr>
          <p:cNvPr id="836" name="Title 1"/>
          <p:cNvSpPr/>
          <p:nvPr/>
        </p:nvSpPr>
        <p:spPr>
          <a:xfrm>
            <a:off x="2725560" y="3990960"/>
            <a:ext cx="6740640" cy="2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0acf"/>
                </a:solidFill>
                <a:latin typeface="Montserrat Light"/>
                <a:ea typeface="Open Sans"/>
              </a:rPr>
              <a:t>HAVE A NICE DAY</a:t>
            </a:r>
            <a:endParaRPr b="0" lang="en-US" sz="1400" spc="-1" strike="noStrike">
              <a:solidFill>
                <a:srgbClr val="000000"/>
              </a:solidFill>
              <a:latin typeface="Calibri"/>
            </a:endParaRPr>
          </a:p>
        </p:txBody>
      </p:sp>
      <p:pic>
        <p:nvPicPr>
          <p:cNvPr id="837" name="" descr=""/>
          <p:cNvPicPr/>
          <p:nvPr/>
        </p:nvPicPr>
        <p:blipFill>
          <a:blip r:embed="rId2"/>
          <a:stretch/>
        </p:blipFill>
        <p:spPr>
          <a:xfrm>
            <a:off x="-360" y="1727280"/>
            <a:ext cx="12192120" cy="340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854"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865" name="Shape 5083" descr=""/>
          <p:cNvPicPr/>
          <p:nvPr/>
        </p:nvPicPr>
        <p:blipFill>
          <a:blip r:embed="rId1"/>
          <a:stretch/>
        </p:blipFill>
        <p:spPr>
          <a:xfrm>
            <a:off x="4303800" y="3822840"/>
            <a:ext cx="255600" cy="249120"/>
          </a:xfrm>
          <a:prstGeom prst="rect">
            <a:avLst/>
          </a:prstGeom>
          <a:ln w="0">
            <a:noFill/>
          </a:ln>
        </p:spPr>
      </p:pic>
      <p:sp>
        <p:nvSpPr>
          <p:cNvPr id="866"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873" name="Shape 5093" descr=""/>
          <p:cNvPicPr/>
          <p:nvPr/>
        </p:nvPicPr>
        <p:blipFill>
          <a:blip r:embed="rId2"/>
          <a:stretch/>
        </p:blipFill>
        <p:spPr>
          <a:xfrm>
            <a:off x="4889520" y="3809880"/>
            <a:ext cx="176040" cy="274680"/>
          </a:xfrm>
          <a:prstGeom prst="rect">
            <a:avLst/>
          </a:prstGeom>
          <a:ln w="0">
            <a:noFill/>
          </a:ln>
        </p:spPr>
      </p:pic>
      <p:sp>
        <p:nvSpPr>
          <p:cNvPr id="874"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31T06:05:03Z</dcterms:created>
  <dc:creator>VaiO</dc:creator>
  <dc:description/>
  <dc:language>en-US</dc:language>
  <cp:lastModifiedBy>Harist</cp:lastModifiedBy>
  <dcterms:modified xsi:type="dcterms:W3CDTF">2022-12-01T13:44:38Z</dcterms:modified>
  <cp:revision>55</cp:revision>
  <dc:subject/>
  <dc:title>PowerPoint Presentation</dc:title>
</cp:coreProperties>
</file>